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A940-8F00-48C8-A0A6-CCC34BD7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2FE-07DB-43C5-92A9-BCBAE7D7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A82-5923-4D77-8FD9-C60281E2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768-1BD0-4A05-A675-A71EDD25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3F52-D4FA-4A38-899B-5E2D6E12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DDB-7F47-4CC1-9C18-6F52A971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D4D-4003-4DF9-B33A-3D5FA8B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B407-D1CD-4F70-8742-FFC531C6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9D3-6F53-445B-997C-C802E57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8E75-BD5D-4C20-B700-94EEBCD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7B51-697A-47D4-A2CE-5B79E68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8A4-02A9-4520-B434-263B8EA1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857C-585E-4F70-8761-A8F48BD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E800-E487-44ED-BDF5-5BE20E7D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78D-410B-4A70-85B3-BADCD930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6FCE-10ED-4D5A-B38B-082FC1A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C48-37CC-4552-BE7B-C3EB6400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55F-C324-4286-94AF-752D38D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2A0-EBD4-45C4-99C2-5E07A79A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37D-70C7-4904-8611-156FA00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9C-6012-4DA1-8E5F-A4439AD5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44F-1084-42C2-8474-71F49D8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4A2-9520-411E-A399-F9B98EF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1FC-AEC2-4763-B55B-CCB4905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3EB-C6FD-472E-BE52-5023FB9D5EF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5B10-5803-4857-9318-1CB9562AB0B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95640" y="3500280"/>
            <a:ext cx="41749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hi-IN" sz="4800" spc="-1" strike="noStrike">
                <a:solidFill>
                  <a:srgbClr val="2f1311"/>
                </a:solidFill>
                <a:latin typeface="Arial"/>
              </a:rPr>
              <a:t>قواعد اللغة العربية </a:t>
            </a:r>
            <a:endParaRPr b="0" lang="en-US" sz="48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الصف السادس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134136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2f1311"/>
                </a:solidFill>
                <a:latin typeface="Arial"/>
              </a:rPr>
              <a:t>الصف السادس الابتدائي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55640" y="1413000"/>
            <a:ext cx="69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7d47d"/>
                </a:solidFill>
                <a:latin typeface="Arial"/>
              </a:rPr>
              <a:t>الفعل المبني للمعلوم والفعل المبني للمجهول ونائب الفاعل</a:t>
            </a:r>
            <a:r>
              <a:rPr b="1" lang="en-US" sz="7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206064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7d47d"/>
                </a:solidFill>
                <a:latin typeface="Arial"/>
              </a:rPr>
              <a:t>أكلتُ البنتُ العنب                             أُكِلَ العنبُ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87280" y="2421000"/>
            <a:ext cx="2158920" cy="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14172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f7d47d"/>
                </a:solidFill>
                <a:latin typeface="Arial"/>
              </a:rPr>
              <a:t>كسرَ القط ُُّالكوبين                              كُسِرَ الكوبان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292640"/>
            <a:ext cx="73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7d47d"/>
                </a:solidFill>
                <a:latin typeface="Arial"/>
              </a:rPr>
              <a:t>يكرمُ المديرُ المتفوقين                           يُكرمُ المتفوقون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916000" y="3500280"/>
            <a:ext cx="2158920" cy="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555640" y="4581360"/>
            <a:ext cx="2158920" cy="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45000"/>
            <a:ext cx="75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7d47d"/>
                </a:solidFill>
                <a:latin typeface="Arial"/>
              </a:rPr>
              <a:t>تَغسلُ الأمُّ الأطباق                            تُغْسَلُ الأطباقُ جيدًا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16000" y="5734080"/>
            <a:ext cx="2158920" cy="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69228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f7d47d"/>
                </a:solidFill>
                <a:uFillTx/>
                <a:latin typeface="Arial"/>
              </a:rPr>
              <a:t>أمثلة للملاحظة :</a:t>
            </a:r>
            <a:endParaRPr b="0" lang="en-US" sz="4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24000" y="6206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أستنتجُ أن :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8101080" cy="45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7d47d"/>
                </a:solidFill>
                <a:latin typeface="Arial"/>
              </a:rPr>
              <a:t>كل فعل يكون فاعله معلومًا ,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يسمى</a:t>
            </a: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7d47d"/>
                </a:solidFill>
                <a:latin typeface="Arial"/>
              </a:rPr>
              <a:t>فعلا مبنيًّا للمعلوم</a:t>
            </a:r>
            <a:r>
              <a:rPr b="0" lang="en-US" sz="6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24000" y="6206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أستنتجُ أن :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60640"/>
            <a:ext cx="8101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7d47d"/>
                </a:solidFill>
                <a:latin typeface="Arial"/>
              </a:rPr>
              <a:t>كل فعل يكون فاعله </a:t>
            </a:r>
            <a:r>
              <a:rPr b="1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مجهولا</a:t>
            </a: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 ,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يسمى</a:t>
            </a: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7d47d"/>
                </a:solidFill>
                <a:latin typeface="Arial"/>
              </a:rPr>
              <a:t>فعلا مبنيًّا </a:t>
            </a:r>
            <a:r>
              <a:rPr b="1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للمجهول</a:t>
            </a:r>
            <a:r>
              <a:rPr b="1" lang="en-US" sz="54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699640" y="326880"/>
            <a:ext cx="49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- أَتأمَّلُ الأفعالَ الآتيةَ :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5160" y="285264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7d47d"/>
                </a:solidFill>
                <a:latin typeface="Arial"/>
              </a:rPr>
              <a:t>الفعل الماضي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479736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2f1311"/>
                </a:solidFill>
                <a:latin typeface="Arial"/>
              </a:rPr>
              <a:t>الفعل المضارع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04360" y="2392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79af7d"/>
                </a:solidFill>
                <a:latin typeface="Arial"/>
              </a:rPr>
              <a:t>أَكَلَ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07080" y="30733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79af7d"/>
                </a:solidFill>
                <a:latin typeface="Arial"/>
              </a:rPr>
              <a:t>كَسَرَ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0360" y="246384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7d47d"/>
                </a:solidFill>
                <a:latin typeface="Arial"/>
              </a:rPr>
              <a:t>أُكِلَ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1080" y="311148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7d47d"/>
                </a:solidFill>
                <a:latin typeface="Arial"/>
              </a:rPr>
              <a:t>كُسِرَ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90160" y="432900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79af7d"/>
                </a:solidFill>
                <a:latin typeface="Arial"/>
              </a:rPr>
              <a:t>يُكرِّمُ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49400" y="522432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79af7d"/>
                </a:solidFill>
                <a:latin typeface="Arial"/>
              </a:rPr>
              <a:t>تَغسِلُ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40640" y="425772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7d47d"/>
                </a:solidFill>
                <a:latin typeface="Arial"/>
              </a:rPr>
              <a:t>يُكرَّمُ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2360" y="512748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7d47d"/>
                </a:solidFill>
                <a:latin typeface="Arial"/>
              </a:rPr>
              <a:t>تُغسَلُ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932360" y="2636640"/>
            <a:ext cx="792000" cy="36036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932360" y="4653000"/>
            <a:ext cx="720720" cy="288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58920" y="3357720"/>
            <a:ext cx="865080" cy="7128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932360" y="5373720"/>
            <a:ext cx="720720" cy="21600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55720" y="165564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5ef85"/>
                </a:solidFill>
                <a:latin typeface="Arial"/>
              </a:rPr>
              <a:t>الفعل المبني للمعلوم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79920" y="170028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e5ef85"/>
                </a:solidFill>
                <a:latin typeface="Arial"/>
              </a:rPr>
              <a:t>الفعل المبني للمجهول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24000" y="6206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أستنتجُ أن :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13372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2f1311"/>
                </a:solidFill>
                <a:latin typeface="Arial"/>
              </a:rPr>
              <a:t>تَتغيَّرُ صُورةُ </a:t>
            </a:r>
            <a:r>
              <a:rPr b="1" lang="hi-IN" sz="3600" spc="-1" strike="noStrike" u="sng">
                <a:solidFill>
                  <a:srgbClr val="2f1311"/>
                </a:solidFill>
                <a:uFillTx/>
                <a:latin typeface="Arial"/>
              </a:rPr>
              <a:t>الفعلِ الماضي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عِندَ بِنائهِ للمجهولِ، 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2f1311"/>
                </a:solidFill>
                <a:latin typeface="Arial"/>
              </a:rPr>
              <a:t>فيُضمُّ أوَّلُه ويُكسرُ ما قَبلَ آخِرِه.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221000"/>
            <a:ext cx="677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2f1311"/>
                </a:solidFill>
                <a:latin typeface="Arial"/>
              </a:rPr>
              <a:t>تَتغيَّرُ صُورةُ </a:t>
            </a:r>
            <a:r>
              <a:rPr b="1" lang="hi-IN" sz="3600" spc="-1" strike="noStrike" u="sng">
                <a:solidFill>
                  <a:srgbClr val="2f1311"/>
                </a:solidFill>
                <a:uFillTx/>
                <a:latin typeface="Arial"/>
              </a:rPr>
              <a:t>الفعلِ المضارعِ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عِندَ بِنائهِ للمجهول، فيُضم أوَّلُه ويُفتحُ مَا قَبلَ آخِرِه)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1280" y="2505240"/>
            <a:ext cx="7596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e5ef85"/>
                </a:solidFill>
                <a:uFillTx/>
                <a:latin typeface="Arial"/>
              </a:rPr>
              <a:t>نَائبُ الفاعِلِ</a:t>
            </a:r>
            <a:r>
              <a:rPr b="1" lang="en-US" sz="4800" spc="-1" strike="noStrike">
                <a:solidFill>
                  <a:srgbClr val="e5ef85"/>
                </a:solidFill>
                <a:latin typeface="Arial"/>
              </a:rPr>
              <a:t> : </a:t>
            </a:r>
            <a:endParaRPr b="0" lang="en-US" sz="48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5ef85"/>
                </a:solidFill>
                <a:latin typeface="Arial"/>
              </a:rPr>
              <a:t>اسمٌ حلَّ محل الفاعلِ بَعدَ حَذْفِه ونَابَ عنه فَصارَ مرفوعًا.</a:t>
            </a:r>
            <a:endParaRPr b="0" lang="en-US" sz="6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6206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أستنتجُ أن :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700360" y="2602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f7d47d"/>
                </a:solidFill>
                <a:uFillTx/>
                <a:latin typeface="Arial"/>
              </a:rPr>
              <a:t>القاعدة :</a:t>
            </a:r>
            <a:endParaRPr b="0" lang="en-US" sz="5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241200" y="1405080"/>
            <a:ext cx="8208720" cy="76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- </a:t>
            </a:r>
            <a:r>
              <a:rPr b="0" lang="hi-IN" sz="3200" spc="-1" strike="noStrike" u="sng">
                <a:solidFill>
                  <a:srgbClr val="e5ef85"/>
                </a:solidFill>
                <a:uFillTx/>
                <a:latin typeface="Arial"/>
              </a:rPr>
              <a:t>الفِعلُ المبنيُّ للمعلومِ :</a:t>
            </a: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 هو الفعلُ الذي يَكونُ فاعِلُه معلومًا.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- </a:t>
            </a:r>
            <a:r>
              <a:rPr b="0" lang="hi-IN" sz="3200" spc="-1" strike="noStrike" u="sng">
                <a:solidFill>
                  <a:srgbClr val="e5ef85"/>
                </a:solidFill>
                <a:uFillTx/>
                <a:latin typeface="Arial"/>
              </a:rPr>
              <a:t>الفِعلُ المبنيُّ للمجهولِ :</a:t>
            </a: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 هو الفعلُ الذي يَكونُ فاعِلُه مجهولاً.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e5ef85"/>
                </a:solidFill>
                <a:latin typeface="Arial"/>
              </a:rPr>
              <a:t>عِندَ بناءِ الفعلِ الماضي للمجهولِ يُضمُّ أوَّلُه ويُكْسرُ ما قَبلَ آخِرِه.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e5ef8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5ef85"/>
                </a:solidFill>
                <a:latin typeface="Arial"/>
              </a:rPr>
              <a:t>عِندَ بناءِ الفعلِ المضارعِ للمجهولِ يُضمُّ أوَّلُه ويُفتحُ ما قَبلَ</a:t>
            </a:r>
            <a:r>
              <a:rPr b="0" lang="en-US" sz="2800" spc="-1" strike="noStrike">
                <a:solidFill>
                  <a:srgbClr val="e5ef85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e5ef85"/>
                </a:solidFill>
                <a:latin typeface="Arial"/>
              </a:rPr>
              <a:t>آخِرِه.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e5ef8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- </a:t>
            </a:r>
            <a:r>
              <a:rPr b="0" lang="hi-IN" sz="3200" spc="-1" strike="noStrike" u="sng">
                <a:solidFill>
                  <a:srgbClr val="e5ef85"/>
                </a:solidFill>
                <a:uFillTx/>
                <a:latin typeface="Arial"/>
              </a:rPr>
              <a:t>نَائبُ الفاعلِ</a:t>
            </a:r>
            <a:r>
              <a:rPr b="0" lang="en-US" sz="3200" spc="-1" strike="noStrike" u="sng">
                <a:solidFill>
                  <a:srgbClr val="e5ef85"/>
                </a:solidFill>
                <a:uFillTx/>
                <a:latin typeface="Arial"/>
              </a:rPr>
              <a:t> :</a:t>
            </a:r>
            <a:r>
              <a:rPr b="0" lang="en-US" sz="3200" spc="-1" strike="noStrike">
                <a:solidFill>
                  <a:srgbClr val="e5ef85"/>
                </a:solidFill>
                <a:latin typeface="Arial"/>
              </a:rPr>
              <a:t> كلُّ اسمٍ حلَّ مَحلَّ الفاعلِ ونَابَ عنه بَعَد حَذفِه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5ef85"/>
                </a:solidFill>
                <a:latin typeface="Arial"/>
              </a:rPr>
              <a:t>فَصَارَ مرفوعًا.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e5ef85"/>
                </a:solidFill>
                <a:uFillTx/>
                <a:latin typeface="Arial"/>
              </a:rPr>
              <a:t>مثال :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5ef85"/>
                </a:solidFill>
                <a:latin typeface="Arial"/>
              </a:rPr>
              <a:t>كَتَبَ التِّلميذُ الدَّرسَ - كُتِبَ الدَّرسُ.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5ef85"/>
                </a:solidFill>
                <a:latin typeface="Arial"/>
              </a:rPr>
              <a:t>يَكتبُ التِّلميذُ الدَّرسَ - يُكتَبُ الدَّرسُ.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0-01-01T00:17:48Z</dcterms:modified>
  <cp:revision>5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