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985-4F1D-4229-9134-D1EB22649E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8E1C-2202-4618-9A78-E05700F803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DF09-889C-420D-A371-470C0D4C62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F215-DD7F-4233-9C40-2742044FE0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D1C-1E24-4004-A807-D879411051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6AAE-8BEE-45D4-B788-D2EE0B2641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8F97-DA3B-409A-B7DC-7A37E6FD93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4C57-90CA-4CA1-B00E-6955C9BFC1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CE0-B838-4433-9AA7-81A4721029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A63-15EE-4043-A8E0-01FB3884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CC4-2441-4E12-B5EF-D7AF2D2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3BF-A3F9-47FF-9DA4-B2E53C90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546-559E-412B-9EE5-5F279C7D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CED-DD7F-494E-B073-B873B17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B1D-E9AF-4594-991D-6D69237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D80-A156-45D9-AA6E-D745EBEB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EB2-AC65-4AA1-BF3A-24004FB6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D89-F388-4AA6-8EC2-44663C2E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BCF-DFFC-4BC6-8508-5692FF4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123-51BA-4EB7-B765-347E16B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390-2414-4EDE-A6A9-5F76FA0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F38E-89CD-4FE3-A4F5-104D0CC0A9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8_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85840" y="214200"/>
            <a:ext cx="8566200" cy="62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Arial"/>
                <a:cs typeface="Akhbar MT"/>
              </a:rPr>
              <a:t>شُهُور السَّنةِ الْهِجْرِيَّ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فِي شَهْرِ الْمُحَرَّمِ تَبْدَأُ السَّنةُ الْهِجْرِيَّةُ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ea typeface="Akhbar MT"/>
              </a:rPr>
              <a:t> 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َفِي شَهْرِ رَبِيعِ الْأَوَّلِ وُلِدَ النَّبِيُّ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ea typeface="Akhbar MT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صَلَّى الله عَلَيْهِ وَ سَلَّم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ea typeface="Akhbar MT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َفِي شَهْرِ رَمَضَان نَزَلَ الْقُرْانُ الْكَرِيمُ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khbar MT"/>
              </a:rPr>
              <a:t>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َفِيهِ يَصُومُ الْمُسْلِمُون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khbar MT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َفِي أَوَّلِ أَيَّام شَهْرِشَوَّالٍ يَأتِي عِيدُالْفِطْرِ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khbar MT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َفِي شَهْرِ ذِي الْحِجةِ يَحُجُّ الْمُسْلِمُونَ إِلَى بَيْتِ اللَّهِ الْحَرَام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فِي مَكَّةَ الْمُكَرَّمَة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28_C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2771640" y="333360"/>
            <a:ext cx="36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</a:rPr>
              <a:t>شُهُور السَّنةِ الْهِجْرِيَّة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7524720" y="1484280"/>
            <a:ext cx="717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khbar MT"/>
              </a:rPr>
              <a:t>قَالَتْ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khbar MT"/>
              <a:ea typeface="Akhbar MT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6742080" y="1341360"/>
            <a:ext cx="6382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khbar MT"/>
              </a:rPr>
              <a:t>سَارَةُ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khbar MT"/>
              <a:ea typeface="Akhbar MT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5580000" y="1413000"/>
            <a:ext cx="1008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khbar MT"/>
              </a:rPr>
              <a:t>لِمُعَلِّمَتِهَا: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khbar MT"/>
              <a:ea typeface="Akhbar MT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7451640" y="2379600"/>
            <a:ext cx="1008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khbar MT"/>
              </a:rPr>
              <a:t>أَحْضَرَ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khbar MT"/>
              <a:ea typeface="Akhbar MT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6321600" y="2421000"/>
            <a:ext cx="9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وَالِدِي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Akhbar MT"/>
              <a:ea typeface="Akhbar MT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5148360" y="2349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khbar MT"/>
              </a:rPr>
              <a:t>تَقْوِيمًا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khbar MT"/>
              <a:ea typeface="Akhbar MT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4211640" y="213372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khbar MT"/>
              </a:rPr>
              <a:t>كُتِبَتْ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khbar MT"/>
              <a:ea typeface="Akhbar MT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3564000" y="2276640"/>
            <a:ext cx="48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khbar MT"/>
              </a:rPr>
              <a:t>فِيهِ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khbar MT"/>
              <a:ea typeface="Akhbar MT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1476360" y="1989000"/>
            <a:ext cx="19335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khbar MT"/>
              </a:rPr>
              <a:t>الأَشْهُرُ الْهِجْرِيَّةُ.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khbar MT"/>
              <a:ea typeface="Akhbar MT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7808760" y="3084480"/>
            <a:ext cx="86688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8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khbar MT"/>
              </a:rPr>
              <a:t>وَ نَحْنُ 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khbar MT"/>
              <a:ea typeface="Akhbar MT"/>
            </a:endParaRPr>
          </a:p>
        </p:txBody>
      </p:sp>
      <p:sp>
        <p:nvSpPr>
          <p:cNvPr id="62" name="WordArt 20"/>
          <p:cNvSpPr txBox="1"/>
          <p:nvPr/>
        </p:nvSpPr>
        <p:spPr>
          <a:xfrm>
            <a:off x="6804000" y="3141720"/>
            <a:ext cx="873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khbar MT"/>
              </a:rPr>
              <a:t>نَكْتُب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khbar MT"/>
              <a:ea typeface="Akhbar MT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5918040" y="3141720"/>
            <a:ext cx="741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khbar MT"/>
              </a:rPr>
              <a:t>تَارِيخ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khbar MT"/>
              <a:ea typeface="Akhbar MT"/>
            </a:endParaRPr>
          </a:p>
        </p:txBody>
      </p:sp>
      <p:sp>
        <p:nvSpPr>
          <p:cNvPr id="64" name="WordArt 22"/>
          <p:cNvSpPr txBox="1"/>
          <p:nvPr/>
        </p:nvSpPr>
        <p:spPr>
          <a:xfrm>
            <a:off x="5372280" y="2924280"/>
            <a:ext cx="3520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كُلِّ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Akhbar MT"/>
              <a:ea typeface="Akhbar MT"/>
            </a:endParaRPr>
          </a:p>
        </p:txBody>
      </p:sp>
      <p:sp>
        <p:nvSpPr>
          <p:cNvPr id="65" name="WordArt 23"/>
          <p:cNvSpPr txBox="1"/>
          <p:nvPr/>
        </p:nvSpPr>
        <p:spPr>
          <a:xfrm>
            <a:off x="4743360" y="3100320"/>
            <a:ext cx="4762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khbar MT"/>
              </a:rPr>
              <a:t>يَوْمٍ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khbar MT"/>
              <a:ea typeface="Akhbar MT"/>
            </a:endParaRPr>
          </a:p>
        </p:txBody>
      </p:sp>
      <p:sp>
        <p:nvSpPr>
          <p:cNvPr id="66" name="WordArt 24"/>
          <p:cNvSpPr txBox="1"/>
          <p:nvPr/>
        </p:nvSpPr>
        <p:spPr>
          <a:xfrm>
            <a:off x="3203640" y="3068640"/>
            <a:ext cx="143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khbar MT"/>
              </a:rPr>
              <a:t>فِي السَّبُّورَةِ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khbar MT"/>
              <a:ea typeface="Akhbar MT"/>
            </a:endParaRPr>
          </a:p>
        </p:txBody>
      </p:sp>
      <p:sp>
        <p:nvSpPr>
          <p:cNvPr id="67" name="WordArt 25"/>
          <p:cNvSpPr txBox="1"/>
          <p:nvPr/>
        </p:nvSpPr>
        <p:spPr>
          <a:xfrm>
            <a:off x="1908000" y="3068640"/>
            <a:ext cx="12384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 </a:t>
            </a: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,</a:t>
            </a: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فَمَا مَعْنَا</a:t>
            </a: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Akhbar MT"/>
              </a:rPr>
              <a:t>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Akhbar MT"/>
              <a:ea typeface="Akhbar MT"/>
            </a:endParaRPr>
          </a:p>
        </p:txBody>
      </p:sp>
      <p:sp>
        <p:nvSpPr>
          <p:cNvPr id="68" name="WordArt 26"/>
          <p:cNvSpPr txBox="1"/>
          <p:nvPr/>
        </p:nvSpPr>
        <p:spPr>
          <a:xfrm>
            <a:off x="468360" y="3141720"/>
            <a:ext cx="14191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Akhbar MT"/>
              </a:rPr>
              <a:t>هَذَا التَّارِيخِ؟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Akhbar MT"/>
              <a:ea typeface="Akhbar MT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7164360" y="3860640"/>
            <a:ext cx="1525680" cy="8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khbar MT"/>
              </a:rPr>
              <a:t>قَالَتِ الْمُعَلِّمَةُ :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khbar MT"/>
              <a:ea typeface="Akhbar MT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6902280" y="3933720"/>
            <a:ext cx="333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khbar MT"/>
              </a:rPr>
              <a:t>إنَّهُ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khbar MT"/>
              <a:ea typeface="Akhbar MT"/>
            </a:endParaRPr>
          </a:p>
        </p:txBody>
      </p:sp>
      <p:sp>
        <p:nvSpPr>
          <p:cNvPr id="71" name="WordArt 29"/>
          <p:cNvSpPr txBox="1"/>
          <p:nvPr/>
        </p:nvSpPr>
        <p:spPr>
          <a:xfrm>
            <a:off x="4788000" y="4035600"/>
            <a:ext cx="201600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khbar MT"/>
              </a:rPr>
              <a:t>التَّارِيخُ الْهِجْرِيُّ ،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khbar MT"/>
              <a:ea typeface="Akhbar MT"/>
            </a:endParaRPr>
          </a:p>
        </p:txBody>
      </p:sp>
      <p:sp>
        <p:nvSpPr>
          <p:cNvPr id="72" name="WordArt 30"/>
          <p:cNvSpPr txBox="1"/>
          <p:nvPr/>
        </p:nvSpPr>
        <p:spPr>
          <a:xfrm>
            <a:off x="3995640" y="3860640"/>
            <a:ext cx="800280" cy="8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khbar MT"/>
              </a:rPr>
              <a:t>و يَبْدَأُ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khbar MT"/>
              <a:ea typeface="Akhbar MT"/>
            </a:endParaRPr>
          </a:p>
        </p:txBody>
      </p:sp>
      <p:sp>
        <p:nvSpPr>
          <p:cNvPr id="73" name="WordArt 31"/>
          <p:cNvSpPr txBox="1"/>
          <p:nvPr/>
        </p:nvSpPr>
        <p:spPr>
          <a:xfrm>
            <a:off x="3132000" y="4035600"/>
            <a:ext cx="7430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khbar MT"/>
              </a:rPr>
              <a:t>بِهِجْرَة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khbar MT"/>
              <a:ea typeface="Akhbar MT"/>
            </a:endParaRPr>
          </a:p>
        </p:txBody>
      </p:sp>
      <p:sp>
        <p:nvSpPr>
          <p:cNvPr id="74" name="WordArt 32"/>
          <p:cNvSpPr txBox="1"/>
          <p:nvPr/>
        </p:nvSpPr>
        <p:spPr>
          <a:xfrm>
            <a:off x="2195640" y="4035600"/>
            <a:ext cx="7999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khbar MT"/>
              </a:rPr>
              <a:t>الرَّسُولِ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khbar MT"/>
              <a:ea typeface="Akhbar MT"/>
            </a:endParaRPr>
          </a:p>
        </p:txBody>
      </p:sp>
      <p:sp>
        <p:nvSpPr>
          <p:cNvPr id="75" name="WordArt 33"/>
          <p:cNvSpPr txBox="1"/>
          <p:nvPr/>
        </p:nvSpPr>
        <p:spPr>
          <a:xfrm>
            <a:off x="324000" y="3963960"/>
            <a:ext cx="180000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khbar M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khbar MT"/>
              </a:rPr>
              <a:t>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khbar MT"/>
              </a:rPr>
              <a:t>صَلَّى الله عَلَيْهِ وَ سَلَّ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khbar MT"/>
              </a:rPr>
              <a:t>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khbar MT"/>
              <a:ea typeface="Akhbar MT"/>
            </a:endParaRPr>
          </a:p>
        </p:txBody>
      </p:sp>
      <p:sp>
        <p:nvSpPr>
          <p:cNvPr id="76" name="WordArt 35"/>
          <p:cNvSpPr txBox="1"/>
          <p:nvPr/>
        </p:nvSpPr>
        <p:spPr>
          <a:xfrm>
            <a:off x="6681960" y="4827600"/>
            <a:ext cx="20667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00cc00"/>
                </a:solidFill>
                <a:latin typeface="Akhbar MT"/>
              </a:rPr>
              <a:t> </a:t>
            </a:r>
            <a:r>
              <a:rPr b="0" lang="hi-IN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00cc00"/>
                </a:solidFill>
                <a:latin typeface="Akhbar MT"/>
              </a:rPr>
              <a:t>مِنْ مَكَّةَ الْمُكَرَّمَةِ</a:t>
            </a:r>
            <a:r>
              <a:rPr b="0" lang="en-US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00cc00"/>
                </a:solidFill>
                <a:latin typeface="Akhbar MT"/>
              </a:rPr>
              <a:t> 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solidFill>
                <a:srgbClr val="00cc00"/>
              </a:solidFill>
              <a:latin typeface="Akhbar MT"/>
              <a:ea typeface="Akhbar MT"/>
            </a:endParaRPr>
          </a:p>
        </p:txBody>
      </p:sp>
      <p:sp>
        <p:nvSpPr>
          <p:cNvPr id="77" name="WordArt 36"/>
          <p:cNvSpPr txBox="1"/>
          <p:nvPr/>
        </p:nvSpPr>
        <p:spPr>
          <a:xfrm>
            <a:off x="4211640" y="4827600"/>
            <a:ext cx="23050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ff0066"/>
                </a:solidFill>
                <a:latin typeface="Akhbar MT"/>
              </a:rPr>
              <a:t>إلى الْمَدينَةِ الْمُنَوَّرَةِ. 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ff0066"/>
              </a:solidFill>
              <a:latin typeface="Akhbar MT"/>
              <a:ea typeface="Akhbar MT"/>
            </a:endParaRPr>
          </a:p>
        </p:txBody>
      </p:sp>
      <p:sp>
        <p:nvSpPr>
          <p:cNvPr id="78" name="Oval 37"/>
          <p:cNvSpPr/>
          <p:nvPr/>
        </p:nvSpPr>
        <p:spPr>
          <a:xfrm>
            <a:off x="4314960" y="6237360"/>
            <a:ext cx="51264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u17794721"/>
          <p:cNvPicPr/>
          <p:nvPr/>
        </p:nvPicPr>
        <p:blipFill>
          <a:blip r:embed="rId1"/>
          <a:stretch/>
        </p:blipFill>
        <p:spPr>
          <a:xfrm>
            <a:off x="1692360" y="4508640"/>
            <a:ext cx="5975280" cy="23493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900000" y="189000"/>
            <a:ext cx="7201080" cy="3744720"/>
          </a:xfrm>
          <a:prstGeom prst="wedgeEllipseCallout">
            <a:avLst>
              <a:gd name="adj1" fmla="val 8111"/>
              <a:gd name="adj2" fmla="val 70898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333399"/>
                </a:solidFill>
                <a:latin typeface="Arabic Typesetting"/>
                <a:cs typeface="Arabic Typesetting"/>
              </a:rPr>
              <a:t>مَا أَنْوَاع السِّبُّورَات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u25636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>
            <a:off x="4788000" y="549360"/>
            <a:ext cx="3887640" cy="2879640"/>
          </a:xfrm>
          <a:prstGeom prst="wedgeRoundRectCallout">
            <a:avLst>
              <a:gd name="adj1" fmla="val -83032"/>
              <a:gd name="adj2" fmla="val 83574"/>
              <a:gd name="adj3" fmla="val 1666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9999"/>
                </a:solidFill>
                <a:latin typeface="Arial"/>
                <a:cs typeface="Traditional Arabic"/>
              </a:rPr>
              <a:t>أَيُهُم تَتَبِعُ الأَشْهُر الْهِجْرِيةَ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3300"/>
                </a:solidFill>
                <a:latin typeface="Arial"/>
                <a:ea typeface="Traditional Arabic"/>
              </a:rPr>
              <a:t> </a:t>
            </a:r>
            <a:r>
              <a:rPr b="0" lang="ar-SA" sz="6000" spc="-1" strike="noStrike">
                <a:solidFill>
                  <a:srgbClr val="cc3300"/>
                </a:solidFill>
                <a:latin typeface="Arial"/>
                <a:cs typeface="Traditional Arabic"/>
              </a:rPr>
              <a:t>أو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  <a:ea typeface="Traditional Arabic"/>
              </a:rPr>
              <a:t> 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7236000" y="2349360"/>
            <a:ext cx="12747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006600"/>
                </a:solidFill>
                <a:latin typeface="Akhbar MT"/>
              </a:rPr>
              <a:t>الْقَمَر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solidFill>
                <a:srgbClr val="006600"/>
              </a:solidFill>
              <a:latin typeface="Akhbar MT"/>
              <a:ea typeface="Akhbar MT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5003640" y="2451240"/>
            <a:ext cx="12956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e67300"/>
                  </a:solidFill>
                  <a:miter/>
                </a:ln>
                <a:solidFill>
                  <a:srgbClr val="663300"/>
                </a:solidFill>
                <a:latin typeface="Akhbar MT"/>
              </a:rPr>
              <a:t>الشَّمْس </a:t>
            </a:r>
            <a:endParaRPr b="0" lang="en-US" sz="1800" spc="1" strike="noStrike">
              <a:ln w="9360">
                <a:solidFill>
                  <a:srgbClr val="e67300"/>
                </a:solidFill>
                <a:miter/>
              </a:ln>
              <a:solidFill>
                <a:srgbClr val="6633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u21120923"/>
          <p:cNvPicPr/>
          <p:nvPr/>
        </p:nvPicPr>
        <p:blipFill>
          <a:blip r:embed="rId1"/>
          <a:stretch/>
        </p:blipFill>
        <p:spPr>
          <a:xfrm>
            <a:off x="1763640" y="2421000"/>
            <a:ext cx="687708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95280" y="260280"/>
            <a:ext cx="8569440" cy="1873440"/>
          </a:xfrm>
          <a:prstGeom prst="cloudCallout">
            <a:avLst>
              <a:gd name="adj1" fmla="val -20009"/>
              <a:gd name="adj2" fmla="val 16228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660066"/>
                </a:solidFill>
                <a:latin typeface="Arial"/>
                <a:cs typeface="Traditional Arabic"/>
              </a:rPr>
              <a:t>مَا هِيَّ أَشْكَال الْقَمَرَ 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C000352"/>
          <p:cNvPicPr/>
          <p:nvPr/>
        </p:nvPicPr>
        <p:blipFill>
          <a:blip r:embed="rId1"/>
          <a:stretch/>
        </p:blipFill>
        <p:spPr>
          <a:xfrm>
            <a:off x="0" y="0"/>
            <a:ext cx="9144000" cy="3833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8532720" y="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amel17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46080"/>
            <a:ext cx="9144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66"/>
                </a:solidFill>
                <a:latin typeface="Arial"/>
                <a:cs typeface="Traditional Arabic"/>
              </a:rPr>
              <a:t>لِمَاذَا هَاجَرَ الرَّسُول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66"/>
                </a:solidFill>
                <a:latin typeface="Arial"/>
                <a:cs typeface="Traditional Arabic"/>
              </a:rPr>
              <a:t>صَلَّى الله عَلَيْهِ وَسَلَّم</a:t>
            </a:r>
            <a:r>
              <a:rPr b="0" lang="ar-SA" sz="9600" spc="-1" strike="noStrike">
                <a:solidFill>
                  <a:srgbClr val="000066"/>
                </a:solidFill>
                <a:latin typeface="Arial"/>
                <a:ea typeface="Traditional Arabic"/>
              </a:rPr>
              <a:t> 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8532720" y="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u15625452"/>
          <p:cNvPicPr/>
          <p:nvPr/>
        </p:nvPicPr>
        <p:blipFill>
          <a:blip r:embed="rId2"/>
          <a:stretch/>
        </p:blipFill>
        <p:spPr>
          <a:xfrm>
            <a:off x="324000" y="3068640"/>
            <a:ext cx="1873080" cy="356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187280" y="404640"/>
            <a:ext cx="7632720" cy="22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663300"/>
                </a:solidFill>
                <a:latin typeface="Arial"/>
                <a:cs typeface="Traditional Arabic"/>
              </a:rPr>
              <a:t>تَخَيَلِي حَيَاتُكِ بِلا تَقْوِيم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8317080" y="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0:42:46Z</dcterms:created>
  <dc:creator>darshzezo</dc:creator>
  <dc:description/>
  <dc:language>en-US</dc:language>
  <cp:lastModifiedBy>wtc</cp:lastModifiedBy>
  <dcterms:modified xsi:type="dcterms:W3CDTF">2008-04-05T20:07:36Z</dcterms:modified>
  <cp:revision>8</cp:revision>
  <dc:subject/>
  <dc:title>الشريحة 1</dc:title>
</cp:coreProperties>
</file>