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%D8%AC%D8%B1%D8%B3Bell_1.wav" ContentType="audio/x-wav"/>
  <Override PartName="/ppt/media/%D8%B3%D9%82%D9%88%D8%B7DROPPIN.wav" ContentType="audio/x-wav"/>
  <Override PartName="/ppt/media/%D9%82%D8%B2%D8%A7%D8%B2%20%D9%85%D9%83%D8%B3%D9%88%D8%B1dishes_crashin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13-A0E9-40DE-AE9E-1660B63B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207-490D-4214-BF2B-21CFD97F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D19-07A8-4D42-AB8E-F76201CF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2D7-A14E-4045-9355-CC67A759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25A-08F5-472B-A0D8-3C10CD7F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0AA-99E8-455B-84B5-97C57BA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22D-A3BE-433F-A7E0-B9624BB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A0B-93E0-46C1-A53B-52C935BD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11B-86FF-4217-854B-9761C45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547-6D51-44D3-B106-FFD8355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BA1-2FD4-4773-9750-23DE50C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461-6B7D-4276-AE45-AE334049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A2A-F855-48B2-A59F-5DC0E34023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&#1580;&#1585;&#1587;Bell_1.wav"/><Relationship Id="rId4" Type="http://schemas.openxmlformats.org/officeDocument/2006/relationships/audio" Target="../media/&#1580;&#1585;&#1587;Bell_1.wav"/><Relationship Id="rId5" Type="http://schemas.openxmlformats.org/officeDocument/2006/relationships/audio" Target="../media/&#1587;&#1602;&#1608;&#1591;DROPPIN.wav"/><Relationship Id="rId6" Type="http://schemas.openxmlformats.org/officeDocument/2006/relationships/audio" Target="../media/&#1602;&#1586;&#1575;&#1586;%20&#1605;&#1603;&#1587;&#1608;&#1585;dishes_crashing.wav"/><Relationship Id="rId7" Type="http://schemas.openxmlformats.org/officeDocument/2006/relationships/audio" Target="../media/&#1587;&#1602;&#1608;&#1591;DROPPIN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8640" y="2627280"/>
            <a:ext cx="180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14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udir MT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11280"/>
            <a:ext cx="165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ُحَرَ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4640" y="161928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2280" y="755640"/>
            <a:ext cx="180036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Mudir MT"/>
              </a:rPr>
              <a:t>الْخَمِ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udir MT"/>
              </a:rPr>
              <a:t>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611280"/>
            <a:ext cx="165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يَنَاي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81000" y="1477800"/>
            <a:ext cx="86544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0840" y="2540160"/>
            <a:ext cx="180000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200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udir MT"/>
              </a:rPr>
              <a:t>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" y="755640"/>
            <a:ext cx="0" cy="9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8640" y="2627280"/>
            <a:ext cx="180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14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udir MT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611280"/>
            <a:ext cx="165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ُحَرَ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84640" y="161928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2280" y="755640"/>
            <a:ext cx="180036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Mudir MT"/>
              </a:rPr>
              <a:t>الْخَمِ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udir MT"/>
              </a:rPr>
              <a:t>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280" y="611280"/>
            <a:ext cx="165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يَنَاي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81000" y="1477800"/>
            <a:ext cx="86544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840" y="2540160"/>
            <a:ext cx="180000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Mudir MT"/>
              </a:rPr>
              <a:t>200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udir MT"/>
              </a:rPr>
              <a:t>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360" y="755640"/>
            <a:ext cx="0" cy="9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3348000"/>
            <a:ext cx="5977080" cy="54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fe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cc0066"/>
                </a:solidFill>
                <a:latin typeface="Arabic Typesetting"/>
                <a:cs typeface="Arabic Typesetting"/>
              </a:rPr>
              <a:t>مَاذَا أرَى فِي الصُّورَةِ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360" y="3348000"/>
            <a:ext cx="6048360" cy="5472000"/>
          </a:xfrm>
          <a:prstGeom prst="rect">
            <a:avLst/>
          </a:prstGeom>
          <a:gradFill rotWithShape="0">
            <a:gsLst>
              <a:gs pos="0">
                <a:srgbClr val="f2f7af"/>
              </a:gs>
              <a:gs pos="50000">
                <a:srgbClr val="ffffff"/>
              </a:gs>
              <a:gs pos="100000">
                <a:srgbClr val="f2f7a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660066"/>
                </a:solidFill>
                <a:latin typeface="Arabic Typesetting"/>
                <a:cs typeface="Arabic Typesetting"/>
              </a:rPr>
              <a:t>مَاذَا كُتِبَ فِيه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6080" y="3348000"/>
            <a:ext cx="6119640" cy="547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66"/>
                </a:solidFill>
                <a:latin typeface="Arabic Typesetting"/>
                <a:cs typeface="Arabic Typesetting"/>
              </a:rPr>
              <a:t>مَا تَارِيـخ الْيَوْمَ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abic Typesetting"/>
                <a:ea typeface="Arabic Typesetting"/>
              </a:rPr>
              <a:t> (</a:t>
            </a:r>
            <a:r>
              <a:rPr b="0" lang="hi-IN" sz="7200" spc="-1" strike="noStrike">
                <a:solidFill>
                  <a:srgbClr val="cc0066"/>
                </a:solidFill>
                <a:latin typeface="Arabic Typesetting"/>
                <a:cs typeface="Arabic Typesetting"/>
              </a:rPr>
              <a:t>حَدِّدِي</a:t>
            </a:r>
            <a:r>
              <a:rPr b="0" lang="en-US" sz="7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hi-IN" sz="7200" spc="-1" strike="noStrike">
                <a:solidFill>
                  <a:srgbClr val="006600"/>
                </a:solidFill>
                <a:latin typeface="Arabic Typesetting"/>
                <a:cs typeface="Arabic Typesetting"/>
              </a:rPr>
              <a:t>الْيَوْم </a:t>
            </a:r>
            <a:r>
              <a:rPr b="0" lang="en-US" sz="7200" spc="-1" strike="noStrike">
                <a:solidFill>
                  <a:srgbClr val="ff3300"/>
                </a:solidFill>
                <a:latin typeface="Arabic Typesetting"/>
                <a:ea typeface="Arabic Typesetting"/>
              </a:rPr>
              <a:t>-</a:t>
            </a:r>
            <a:r>
              <a:rPr b="0" lang="en-US" sz="7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hi-IN" sz="7200" spc="-1" strike="noStrike">
                <a:solidFill>
                  <a:srgbClr val="663300"/>
                </a:solidFill>
                <a:latin typeface="Arabic Typesetting"/>
                <a:cs typeface="Arabic Typesetting"/>
              </a:rPr>
              <a:t>الشَّهْر</a:t>
            </a:r>
            <a:r>
              <a:rPr b="0" lang="en-US" sz="7200" spc="-1" strike="noStrike">
                <a:solidFill>
                  <a:srgbClr val="ff3300"/>
                </a:solidFill>
                <a:latin typeface="Arabic Typesetting"/>
                <a:ea typeface="Arabic Typesetting"/>
              </a:rPr>
              <a:t>- </a:t>
            </a:r>
            <a:r>
              <a:rPr b="0" lang="hi-IN" sz="7200" spc="-1" strike="noStrike">
                <a:solidFill>
                  <a:srgbClr val="660066"/>
                </a:solidFill>
                <a:latin typeface="Arabic Typesetting"/>
                <a:cs typeface="Arabic Typesetting"/>
              </a:rPr>
              <a:t>السَّنَةَ</a:t>
            </a:r>
            <a:r>
              <a:rPr b="0" lang="en-US" sz="7200" spc="-1" strike="noStrike">
                <a:solidFill>
                  <a:srgbClr val="ff3300"/>
                </a:solidFill>
                <a:latin typeface="Arabic Typesetting"/>
                <a:ea typeface="Arabic Typesetting"/>
              </a:rPr>
              <a:t>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360" y="3276720"/>
            <a:ext cx="6120000" cy="554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660033"/>
                </a:solidFill>
                <a:latin typeface="Arabic Typesetting"/>
                <a:cs typeface="Arabic Typesetting"/>
              </a:rPr>
              <a:t>أيْنَ وُلِدَ الرَّسُو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660033"/>
                </a:solidFill>
                <a:latin typeface="Arabic Typesetting"/>
                <a:cs typeface="Arabic Typesetting"/>
              </a:rPr>
              <a:t>و فِي أي شَهْر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3360" y="3205080"/>
            <a:ext cx="6191280" cy="561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663300"/>
                </a:solidFill>
                <a:latin typeface="Arial"/>
                <a:cs typeface="Traditional Arabic"/>
              </a:rPr>
              <a:t>مَتَى تُوفِيَّ الرَّسُول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663300"/>
                </a:solidFill>
                <a:latin typeface="Arial"/>
                <a:cs typeface="Traditional Arabic"/>
              </a:rPr>
              <a:t>وَ أَيْنَ دُفِنَ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AC%D8%B1%D8%B3Bell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AC%D8%B1%D8%B3Bell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3%D9%82%D9%88%D8%B7DROPP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8%B2%D8%A7%D8%B2%20%D9%85%D9%83%D8%B3%D9%88%D8%B1dishes_crash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B3%D9%82%D9%88%D8%B7DROPP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9:59:43Z</dcterms:created>
  <dc:creator>darshzezo</dc:creator>
  <dc:description/>
  <dc:language>en-US</dc:language>
  <cp:lastModifiedBy>darshzezo</cp:lastModifiedBy>
  <dcterms:modified xsi:type="dcterms:W3CDTF">2008-04-04T00:58:27Z</dcterms:modified>
  <cp:revision>10</cp:revision>
  <dc:subject/>
  <dc:title>الشريحة 1</dc:title>
</cp:coreProperties>
</file>