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12.jpeg" ContentType="image/jpeg"/>
  <Override PartName="/ppt/media/image24.jpeg" ContentType="image/jpeg"/>
  <Override PartName="/ppt/media/image33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9.wmf" ContentType="image/x-wmf"/>
  <Override PartName="/ppt/media/image41.png" ContentType="image/png"/>
  <Override PartName="/ppt/media/image30.jpeg" ContentType="image/jpeg"/>
  <Override PartName="/ppt/media/image3.jpeg" ContentType="image/jpeg"/>
  <Override PartName="/ppt/media/image42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5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7.gif" ContentType="image/gif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46E-3E26-42A8-8B54-7E7E29F5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B32-9741-46CE-B875-60CFDAB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548-C084-4938-B139-FCBE0096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5DE-C2B4-4127-BEFD-CF2D7EC0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744-243A-4FFF-AD34-ECCD7B4D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EB7-B280-4284-9809-48D2727A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035-3CE8-4A44-A18D-9F8701C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2D8-FB79-4752-9A55-76941554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8A1-AB27-46AD-9DA8-E604366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5D2-158E-4E89-BBB7-E5EAB20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F14-DF8D-422F-8518-9E2992C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284-8C2A-4DA4-8328-F9ED9DA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C46-0D63-4DF8-8DA9-3CB2A5B1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571500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95256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gif"/><Relationship Id="rId3" Type="http://schemas.openxmlformats.org/officeDocument/2006/relationships/package" Target="../embeddings/oleObject1.ppt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Simple Bold Jut Out"/>
              </a:rPr>
              <a:t>العناية بالأسنا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288108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5715000"/>
            <a:ext cx="843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المشروبات الغازي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undefined"/>
          <p:cNvPicPr/>
          <p:nvPr/>
        </p:nvPicPr>
        <p:blipFill>
          <a:blip r:embed="rId1"/>
          <a:stretch/>
        </p:blipFill>
        <p:spPr>
          <a:xfrm>
            <a:off x="3203640" y="1916280"/>
            <a:ext cx="2813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الشاي و القهو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186360" cy="2768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ثالثا: أنظف اسن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56000" y="1557360"/>
            <a:ext cx="26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بعد الاك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قبل النو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773360"/>
          <a:ext cx="4038840" cy="4103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40388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ستخدم الفرشاة و المعجون والخيط لتنظيف أسن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822320" cy="148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26052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276720" y="3068640"/>
          <a:ext cx="3816360" cy="2862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68640"/>
                    <a:ext cx="38163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و اختار الفرشاة و المعجون المناسب لأسن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5080" cy="388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2085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رابعا: أذهب دوما إلى طبيب الأسن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3717720" cy="2813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35006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Bodoni MT Black"/>
                <a:cs typeface="Simple Bold Jut Out"/>
              </a:rPr>
              <a:t>لنحافظ على أسناننا لنحصل على ابتسامة جمي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761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8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  <a:cs typeface="Simple Bold Jut Out"/>
              </a:rPr>
              <a:t>شكرا لكم يا أطفا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19640" y="3933720"/>
            <a:ext cx="241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Simple Bold Jut Out"/>
              </a:rPr>
              <a:t>الاسنان نعمة من الله تعال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rial"/>
                <a:cs typeface="Andalus"/>
              </a:rPr>
              <a:t>لذلك يجب المحافظة عليه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110520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61892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1123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rial"/>
              </a:rPr>
              <a:t>كي لا تصبح أسناننا هكذا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55736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2819520"/>
            <a:ext cx="5689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كيف أحافظ على أسناني 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ا الذي يجعل أسناني قوية 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ا الذي يجعل أسناني بيضاء 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khbar MT"/>
              </a:rPr>
              <a:t>أولا: انا آكل و أشرب الأشياء التي تقوي أسن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671640" cy="475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51480" y="22050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2276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 الحليب و ألأجب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255744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195640" y="549360"/>
            <a:ext cx="475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الأجبا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الخضراوات و الفواك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422100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940360" y="198900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24360" y="386064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484360" y="400536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308720" y="378936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826920" y="184464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948360" y="241200"/>
            <a:ext cx="1619280" cy="11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7180200" y="1844640"/>
            <a:ext cx="1279440" cy="172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826920" y="4005360"/>
            <a:ext cx="1258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ثانيا : أبتعد عن المأكولات و المشروبات التي تضر بأسنان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181160" cy="1619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7164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الحلويات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40720" y="2565360"/>
            <a:ext cx="1152360" cy="16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undefined"/>
          <p:cNvPicPr/>
          <p:nvPr/>
        </p:nvPicPr>
        <p:blipFill>
          <a:blip r:embed="rId3"/>
          <a:stretch/>
        </p:blipFill>
        <p:spPr>
          <a:xfrm>
            <a:off x="5003640" y="3716280"/>
            <a:ext cx="2233800" cy="2089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692360" y="3645000"/>
            <a:ext cx="20876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: السكاك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1619280" cy="1584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16192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161928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undefined"/>
          <p:cNvPicPr/>
          <p:nvPr/>
        </p:nvPicPr>
        <p:blipFill>
          <a:blip r:embed="rId4"/>
          <a:stretch/>
        </p:blipFill>
        <p:spPr>
          <a:xfrm>
            <a:off x="1835280" y="4365720"/>
            <a:ext cx="161928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708360" y="2349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08:47Z</dcterms:created>
  <dc:creator>KBC 13-09-07</dc:creator>
  <dc:description/>
  <dc:language>en-US</dc:language>
  <cp:lastModifiedBy>KBC 13-09-07</cp:lastModifiedBy>
  <dcterms:modified xsi:type="dcterms:W3CDTF">2008-03-02T05:19:53Z</dcterms:modified>
  <cp:revision>13</cp:revision>
  <dc:subject/>
  <dc:title>العناية بالأسنان </dc:title>
</cp:coreProperties>
</file>