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chimes.wav" ContentType="audio/x-wav"/>
  <Override PartName="/ppt/media/image2.wmf" ContentType="image/x-wmf"/>
  <Override PartName="/ppt/media/image3.png" ContentType="image/png"/>
  <Override PartName="/ppt/media/image5.wmf" ContentType="image/x-wmf"/>
  <Override PartName="/ppt/media/wind.wav" ContentType="audio/x-wav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8B1-C5BC-4097-906F-FC38A086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DA4-A8F2-48AC-9D0C-8A7DBEE0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944-A343-4A28-B2EE-33F86671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8FA-E205-473C-A989-8572C5DB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F6B9-FC00-4458-B44E-CFA4C0F5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27A-2E1F-4916-A709-82A58D8A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CAC-103B-4177-B3F7-A59E63AD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2CA-5A34-485B-9B52-4801B419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3B2-C90B-4881-AE2C-FE628F89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838-9EA1-4547-9CBF-F9671C99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F39-D1EE-4643-BF72-0C991FC0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A49-1AFE-48FC-93FA-A44BDA4D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51BD-A385-4721-87B1-6FF71BBCD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700360" y="981000"/>
            <a:ext cx="3959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ccff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umber 3</a:t>
            </a:r>
            <a:endParaRPr b="0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ccff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3068640"/>
            <a:ext cx="828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ONOUNS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3760" y="404280"/>
            <a:ext cx="45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  schoolbo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3080" y="155664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  teach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6760" y="2996640"/>
            <a:ext cx="37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  nurs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4280" y="4220640"/>
            <a:ext cx="27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  ca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8200" y="5515920"/>
            <a:ext cx="44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  docto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3280" y="126828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211640" y="2708280"/>
            <a:ext cx="1297080" cy="144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708360" y="4292640"/>
            <a:ext cx="129528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524720" y="5013360"/>
            <a:ext cx="1150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404280"/>
            <a:ext cx="56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 -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a  schoolbo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8200" y="1412280"/>
            <a:ext cx="57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m – i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a  teach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84000" y="2491920"/>
            <a:ext cx="66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h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 – is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a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ir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58600" y="3715920"/>
            <a:ext cx="510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I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 – is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a  des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3920" y="4941360"/>
            <a:ext cx="75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m - is – 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a  schoolbo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105264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213372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314172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436572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66100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21:49:55Z</dcterms:created>
  <dc:creator>MY PC</dc:creator>
  <dc:description/>
  <dc:language>en-US</dc:language>
  <cp:lastModifiedBy>MY PC</cp:lastModifiedBy>
  <dcterms:modified xsi:type="dcterms:W3CDTF">2004-12-21T22:51:58Z</dcterms:modified>
  <cp:revision>9</cp:revision>
  <dc:subject/>
  <dc:title>الشريحة 1</dc:title>
</cp:coreProperties>
</file>