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himes.wav" ContentType="audio/x-wav"/>
  <Override PartName="/ppt/media/image2.wmf" ContentType="image/x-wmf"/>
  <Override PartName="/ppt/media/image3.png" ContentType="image/png"/>
  <Override PartName="/ppt/media/image5.wmf" ContentType="image/x-wmf"/>
  <Override PartName="/ppt/media/wind.wav" ContentType="audio/x-wav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F99-1DA8-479F-B4D3-743F7ACB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21E-C26B-416F-968E-3E32DA47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E97-795B-4954-A59D-3D934164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F53-030C-4896-ABE4-7C9182A8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6A5-21DD-42E7-909D-4B30C4BB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D76-90A2-4AC7-B7E1-B60B473F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0A8-CA9A-441D-A952-DBC7FE40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525-1C07-47B0-AE3C-969DF2D7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98B-1ADF-41B4-B450-C262971C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ED5-F39B-480E-9795-9A27D11D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45B-8E3B-4134-8C9D-2798340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6D5-1E03-4CA2-82FE-6633C11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6694-3FE9-45E7-850F-81C09DBB3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981000"/>
            <a:ext cx="395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cc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umber 3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cc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3068640"/>
            <a:ext cx="828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ONOUNS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3760" y="404280"/>
            <a:ext cx="45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schoolbo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3080" y="155664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teach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6760" y="2996640"/>
            <a:ext cx="37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nurs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4280" y="4220640"/>
            <a:ext cx="27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ca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8200" y="5515920"/>
            <a:ext cx="44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docto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11640" y="2708280"/>
            <a:ext cx="1297080" cy="144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708360" y="4292640"/>
            <a:ext cx="129528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524720" y="5013360"/>
            <a:ext cx="1150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404280"/>
            <a:ext cx="56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 -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schoolbo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8200" y="1412280"/>
            <a:ext cx="57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m – i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teach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4000" y="2491920"/>
            <a:ext cx="66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 – is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8600" y="3715920"/>
            <a:ext cx="51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 – is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des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3920" y="4941360"/>
            <a:ext cx="75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 - is – 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schoolbo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105264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213372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314172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436572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66100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21:49:55Z</dcterms:created>
  <dc:creator>MY PC</dc:creator>
  <dc:description/>
  <dc:language>en-US</dc:language>
  <cp:lastModifiedBy>MY PC</cp:lastModifiedBy>
  <dcterms:modified xsi:type="dcterms:W3CDTF">2004-12-21T22:51:58Z</dcterms:modified>
  <cp:revision>9</cp:revision>
  <dc:subject/>
  <dc:title>الشريحة 1</dc:title>
</cp:coreProperties>
</file>