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8ABB-D53F-48BA-89BD-5D4BC474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1C3-44EE-4C5A-B641-378B7801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B348-202F-4A23-8355-CB751338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912-9AE6-4F93-8A7B-D22C2EB0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A4F-09E6-4D6C-85DA-38C97B7C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7A5-246B-4A0A-BF26-4D4DFDF5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834-39AD-42DE-83CC-1B2A904E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379A-0936-4222-BF73-77ECB610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52D-6277-4854-A9A7-6AEE7C27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D880-1CA2-4BF2-BA0C-1F23432E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3B5-18CA-4E11-B989-5534536D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A96-74D8-49FD-B20F-B6C42752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1AB6-A982-4C54-9FB2-B153D7BC8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1368360"/>
            <a:ext cx="5265720" cy="7020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3360" y="252360"/>
            <a:ext cx="1440000" cy="87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33360" y="2046240"/>
          <a:ext cx="6251760" cy="5037120"/>
        </p:xfrm>
        <a:graphic>
          <a:graphicData uri="http://schemas.openxmlformats.org/drawingml/2006/table">
            <a:tbl>
              <a:tblPr/>
              <a:tblGrid>
                <a:gridCol w="1436760"/>
                <a:gridCol w="1249200"/>
                <a:gridCol w="1270080"/>
                <a:gridCol w="576360"/>
                <a:gridCol w="504720"/>
                <a:gridCol w="576360"/>
                <a:gridCol w="63828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الخامات المستخدم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الهدف الف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الموضو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الخط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الماد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التاري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الاسبو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4935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66"/>
                          </a:solidFill>
                          <a:latin typeface="Arial"/>
                          <a:cs typeface="Arabic Transparent"/>
                        </a:rPr>
                        <a:t>الوان مائية +ورق رس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66"/>
                          </a:solidFill>
                          <a:latin typeface="Arial"/>
                          <a:cs typeface="Arabic Transparent"/>
                        </a:rPr>
                        <a:t>التكوين مع ابراز العلاقات اللون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Arial"/>
                          <a:cs typeface="Arabic Transparent"/>
                        </a:rPr>
                        <a:t>فرحة الع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لون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رس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11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49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لون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رس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18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49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Arial"/>
                          <a:cs typeface="Arabic Transparent"/>
                        </a:rPr>
                        <a:t>الطبيع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لون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رس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25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49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لون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رس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3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Arial"/>
                          <a:cs typeface="Arabic Transparent"/>
                        </a:rPr>
                        <a:t>قماش + الوان طباع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66"/>
                          </a:solidFill>
                          <a:latin typeface="Arial"/>
                          <a:cs typeface="Arabic Transparent"/>
                        </a:rPr>
                        <a:t>التكوين مع ابراز العلاقات اللون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Arial"/>
                          <a:cs typeface="Arabic Transparent"/>
                        </a:rPr>
                        <a:t>اساسيات في الطباع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طباع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أشغا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10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49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Arial"/>
                          <a:cs typeface="Arabic Transparent"/>
                        </a:rPr>
                        <a:t>الطباعة بالعق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طباع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أشغا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17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49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Arial"/>
                          <a:cs typeface="Arabic Transparent"/>
                        </a:rPr>
                        <a:t>الطباعة بالتفري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طباع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أشغا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24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49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Arial"/>
                          <a:cs typeface="Arabic Transparent"/>
                        </a:rPr>
                        <a:t>الطباعة الح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طباع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أشغا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1/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66"/>
                          </a:solidFill>
                          <a:latin typeface="Arial"/>
                          <a:cs typeface="Arabic Transparent"/>
                        </a:rPr>
                        <a:t>اقلام ملونة + ورق رس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66"/>
                          </a:solidFill>
                          <a:latin typeface="Arial"/>
                          <a:cs typeface="Arabic Transparent"/>
                        </a:rPr>
                        <a:t>التكوين مع ابراز العلاقات الخط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Arial"/>
                          <a:cs typeface="Arabic Transparent"/>
                        </a:rPr>
                        <a:t>الزخارف الاسلا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خط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رس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16/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49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خط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رس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22/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49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خط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رس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29/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49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خط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رس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6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66"/>
                          </a:solidFill>
                          <a:latin typeface="Arial"/>
                          <a:cs typeface="Arabic Transparent"/>
                        </a:rPr>
                        <a:t>خامات من البيئ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66"/>
                          </a:solidFill>
                          <a:latin typeface="Arial"/>
                          <a:cs typeface="Arabic Transparent"/>
                        </a:rPr>
                        <a:t>التكوين مع ابراز العلاقات الشكل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Arial"/>
                          <a:cs typeface="Arabic Transparent"/>
                        </a:rPr>
                        <a:t>التشكيل بالكرتو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شكل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أشغا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13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49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شكل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أشغا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20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49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Arial"/>
                          <a:cs typeface="Arabic Transparent"/>
                        </a:rPr>
                        <a:t>الاستفادة من خامات البيئ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شكل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أشغا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27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49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شكل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66"/>
                          </a:solidFill>
                          <a:latin typeface="Times New Roman"/>
                          <a:cs typeface="Arabic Transparent"/>
                        </a:rPr>
                        <a:t>أشغا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5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abic Transparent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1844640" y="3175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66"/>
                </a:solidFill>
                <a:latin typeface="Arial"/>
                <a:cs typeface="PT Bold Broken"/>
              </a:rPr>
              <a:t>الخطة العامة لدروس مادة التربية الفنية للعام الدراسي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PT Bold Broken"/>
              </a:rPr>
              <a:t>1429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PT Bold Broken"/>
              </a:rPr>
              <a:t>/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PT Bold Broken"/>
              </a:rPr>
              <a:t>1430</a:t>
            </a:r>
            <a:r>
              <a:rPr b="0" lang="hi-IN" sz="2400" spc="-1" strike="noStrike">
                <a:solidFill>
                  <a:srgbClr val="000066"/>
                </a:solidFill>
                <a:latin typeface="Arial"/>
                <a:cs typeface="PT Bold Broken"/>
              </a:rPr>
              <a:t>هـ الفصل الا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33360" y="6765840"/>
          <a:ext cx="6264360" cy="279360"/>
        </p:xfrm>
        <a:graphic>
          <a:graphicData uri="http://schemas.openxmlformats.org/drawingml/2006/table">
            <a:tbl>
              <a:tblPr/>
              <a:tblGrid>
                <a:gridCol w="3132000"/>
                <a:gridCol w="3132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66"/>
                          </a:solidFill>
                          <a:latin typeface="Arial"/>
                          <a:cs typeface="Arabic Transparent"/>
                        </a:rPr>
                        <a:t>المشرف التربوي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66"/>
                          </a:solidFill>
                          <a:latin typeface="Arial"/>
                          <a:cs typeface="Arabic Transparent"/>
                        </a:rPr>
                        <a:t>مدير المدرسة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20:26:28Z</dcterms:created>
  <dc:creator>aob hamad</dc:creator>
  <dc:description/>
  <dc:language>en-US</dc:language>
  <cp:lastModifiedBy>aob hamad</cp:lastModifiedBy>
  <dcterms:modified xsi:type="dcterms:W3CDTF">2008-10-08T20:30:16Z</dcterms:modified>
  <cp:revision>1</cp:revision>
  <dc:subject/>
  <dc:title>الشريحة 1</dc:title>
</cp:coreProperties>
</file>