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3604-F3FB-4038-8C5A-323933978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7FB1-82E7-4F82-9D8A-BBB1E1C6C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6335-3A64-43D6-8294-E291B886C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16F7-314D-4421-9163-EC4FFBF0B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FB10-504E-46DC-939E-6FFAD142C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49CA-CF4A-45C8-8510-16CE42138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58DE-079E-42FA-ADEE-FADE18246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4355-CE6B-4385-AF7E-9D6113CF5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FCB1-9C28-4E66-BEAD-50B8ACEE5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819C-ECBE-4F8D-9E87-145DF066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4D3B-FAD8-4B99-8D99-2F3A39047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9295-1667-44C8-B50A-262BFB89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8AC15-6D7B-4A8F-B31F-39B6E1FA40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مجموعة الضوئ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تتركب المجموعة الضوئية من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مرآ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مكث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عدسة عين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عدسات شيئ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Arial"/>
              </a:rPr>
              <a:t>قوة تكبير المجهر المركب =قوة تكبير العدسة العينية ضرب قوة تكبير العدسة الشيئ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مرين : ماقوة تكبير المجهر إذا كانت قوة تكبير العدسة العينية 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الشيئية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5T16:57:36Z</dcterms:created>
  <dc:creator>jet9</dc:creator>
  <dc:description/>
  <dc:language>en-US</dc:language>
  <cp:lastModifiedBy>jet9</cp:lastModifiedBy>
  <dcterms:modified xsi:type="dcterms:W3CDTF">2008-11-01T05:19:07Z</dcterms:modified>
  <cp:revision>4</cp:revision>
  <dc:subject/>
  <dc:title>أنواع المجاهر</dc:title>
</cp:coreProperties>
</file>