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370-7642-4628-BD7E-26A160D1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0FA-6FAC-4A14-A63D-81E88342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5EE-A2AF-4AAC-A870-3C3C42DC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D7B-6B91-4C0C-BE2B-EFFFFB4B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8BA5-EBF6-4D3A-A5E8-05D56108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7FC-E85F-4B92-87DB-4A418BB5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A0E-8158-456C-B6BE-2FB71AEA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3E7-E912-4D70-A148-F27C04E1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364F-5520-4E9C-AFE3-B70FCDAD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297-3A78-4506-A508-D0B6B8C2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457-6E1D-48E7-BAEF-581F7A60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E5E-1389-45DE-B9CA-7389690C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66A0-A4DE-43C6-89D2-A368762BC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64000" y="1197000"/>
            <a:ext cx="271476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onotype Koufi"/>
              </a:rPr>
              <a:t>المادة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Monotype Koufi"/>
              <a:ea typeface="Monotype Kouf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59280" y="1268280"/>
            <a:ext cx="20095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istral"/>
              </a:rPr>
              <a:t>احياء 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867280" y="3213000"/>
            <a:ext cx="2376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69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الموضوع :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32000" y="3068640"/>
            <a:ext cx="42195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التكاثر غير الجنسي في المخلوقات الحية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79640" y="260280"/>
            <a:ext cx="38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ff"/>
                </a:solidFill>
                <a:latin typeface="Arial"/>
              </a:rPr>
              <a:t>أنواع التكاثر الخضر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00520" y="692280"/>
            <a:ext cx="0" cy="115236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1844640"/>
            <a:ext cx="554544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53440" y="1844640"/>
            <a:ext cx="0" cy="4334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1844640"/>
            <a:ext cx="0" cy="43344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21440" y="1844640"/>
            <a:ext cx="0" cy="43344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1844640"/>
            <a:ext cx="0" cy="43344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844640"/>
            <a:ext cx="0" cy="43344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84720" y="1844640"/>
            <a:ext cx="0" cy="43344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6698520" y="29041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تعقي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5756040" y="2711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6600"/>
                </a:solidFill>
                <a:latin typeface="Arial"/>
              </a:rPr>
              <a:t>التطعيم و التركيب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393800" y="29685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ترقي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585600" y="28468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6600"/>
                </a:solidFill>
                <a:latin typeface="Arial"/>
              </a:rPr>
              <a:t>الفسائ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191240" y="3864600"/>
            <a:ext cx="424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تكاثر عن طريق بعض الأجزا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النباتية تحت سطح الترب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023840" y="308916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6600"/>
                </a:solidFill>
                <a:latin typeface="Arial"/>
              </a:rPr>
              <a:t>تقسيم أو تجزئة النبات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348000" y="620640"/>
            <a:ext cx="2405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1- </a:t>
            </a:r>
            <a:r>
              <a:rPr b="0" lang="hi-IN" sz="18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التعقيل</a:t>
            </a:r>
            <a:r>
              <a:rPr b="1" i="1" lang="en-US" sz="18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 </a:t>
            </a:r>
            <a:endParaRPr b="1" i="1" lang="en-US" sz="18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1700280"/>
            <a:ext cx="7056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Arial"/>
              </a:rPr>
              <a:t>تعريف العقلة :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421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هي عبارة عن جزء من نبات تسمى تبعاً للجزء الذي تؤخذ منه للحصول على نبات ك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52600" y="3182040"/>
            <a:ext cx="2840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أمثلة  على التعقيل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56000" y="3645000"/>
            <a:ext cx="5545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الرمان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الأثل 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العنب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الورد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التين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219640" y="692280"/>
            <a:ext cx="360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التطعيم والتركيب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التطعيم :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1916280"/>
            <a:ext cx="7417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نقل جزء من ساق نبات مرغوب تكاثره يحتوي على برع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واحد ( الطعم ) ويلصق بساق نبات آخر ( الأصل )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880000" cy="2093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2879640" cy="2112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659640" y="3141720"/>
            <a:ext cx="2484360" cy="257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419640" y="3357720"/>
            <a:ext cx="2879640" cy="20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084720" y="4762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التركي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119700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وضع وتركيب جزء صغير من فرع لا يتجاوز عمره عام يسمى بالقلم ويحتوي على أكثر من برعم وذلك بوضعه على ساق الأصل أو على عقلة من جذو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2133720"/>
            <a:ext cx="5905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12880" y="2159640"/>
            <a:ext cx="53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حالات التي يستخدم فيها التركيب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68360" y="2852640"/>
            <a:ext cx="4751640" cy="647640"/>
          </a:xfrm>
          <a:prstGeom prst="rect">
            <a:avLst/>
          </a:prstGeom>
          <a:gradFill rotWithShape="0">
            <a:gsLst>
              <a:gs pos="0">
                <a:srgbClr val="ffff00">
                  <a:alpha val="89019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في حالة تطعيم أشجار الفاكهة التي لا يسهل فصل البراعم فيه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3645000"/>
            <a:ext cx="4751640" cy="647640"/>
          </a:xfrm>
          <a:prstGeom prst="rect">
            <a:avLst/>
          </a:prstGeom>
          <a:gradFill rotWithShape="0">
            <a:gsLst>
              <a:gs pos="0">
                <a:srgbClr val="ffff00">
                  <a:alpha val="89019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في حالة التطعيم على فرع أو ساق سمي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41440" y="4437000"/>
            <a:ext cx="4751640" cy="647640"/>
          </a:xfrm>
          <a:prstGeom prst="rect">
            <a:avLst/>
          </a:prstGeom>
          <a:gradFill rotWithShape="0">
            <a:gsLst>
              <a:gs pos="0">
                <a:srgbClr val="ffff00">
                  <a:alpha val="89019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في حالة عدم التوافق بين الأصل والطع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867280" y="692280"/>
            <a:ext cx="295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ترقي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2916360" y="1989000"/>
            <a:ext cx="568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ويتم فيه ثني أحد فروع النب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حتى يلامس الأرض ، فيكون هذ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onotype Koufi"/>
              </a:rPr>
              <a:t> الفرع جذورا عرضية 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onotype Koufi"/>
              </a:rPr>
              <a:t> وتكوّن براعمه أفرعا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Monotype Koufi"/>
              </a:rPr>
              <a:t>هوائية ثم يفصل النب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907920"/>
            <a:ext cx="4464000" cy="3673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012000" y="4869000"/>
            <a:ext cx="280800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4869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3300"/>
                </a:solidFill>
                <a:latin typeface="Arial"/>
              </a:rPr>
              <a:t>أمثلة على التكاثر بالترقي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4869000"/>
            <a:ext cx="3024360" cy="431640"/>
          </a:xfrm>
          <a:prstGeom prst="rect">
            <a:avLst/>
          </a:prstGeom>
          <a:solidFill>
            <a:srgbClr val="ccffff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49068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عنب </a:t>
            </a: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الياسمين الأبي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219640" y="692280"/>
            <a:ext cx="3600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فسائل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1476360" y="1628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3300"/>
                </a:solidFill>
                <a:latin typeface="Arial"/>
              </a:rPr>
              <a:t>الفسائل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2060640"/>
            <a:ext cx="7416720" cy="15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مو جانبي قصير يخرج من النبات الأصل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قريبا من سطح التربة وبه  جذور مستقل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ثل النخيل و المو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692280"/>
            <a:ext cx="2592360" cy="2449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2663640" cy="2648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564000" y="3573360"/>
            <a:ext cx="273672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47640" y="1052640"/>
            <a:ext cx="59058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5600" y="1154880"/>
            <a:ext cx="70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الأمور التي يجب مراعاتها عند فصل الفسائل عن أمهاتها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1773360"/>
            <a:ext cx="5472360" cy="647640"/>
          </a:xfrm>
          <a:prstGeom prst="rect">
            <a:avLst/>
          </a:prstGeom>
          <a:gradFill rotWithShape="0">
            <a:gsLst>
              <a:gs pos="0">
                <a:srgbClr val="ffff00">
                  <a:alpha val="89019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تجنب كثرة الجروح أثناء الفصل لأنها تزيد من احتمال إصابتها بالأمرا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2494080"/>
            <a:ext cx="5472360" cy="647640"/>
          </a:xfrm>
          <a:prstGeom prst="rect">
            <a:avLst/>
          </a:prstGeom>
          <a:gradFill rotWithShape="0">
            <a:gsLst>
              <a:gs pos="0">
                <a:srgbClr val="ffff00">
                  <a:alpha val="89019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أن يكون لها مجموع جذر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3213000"/>
            <a:ext cx="5472360" cy="647640"/>
          </a:xfrm>
          <a:prstGeom prst="rect">
            <a:avLst/>
          </a:prstGeom>
          <a:gradFill rotWithShape="0">
            <a:gsLst>
              <a:gs pos="0">
                <a:srgbClr val="ffff00">
                  <a:alpha val="89019"/>
                </a:srgbClr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أن تكون خالية من الأمرا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867280" y="1459080"/>
            <a:ext cx="2808360" cy="576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56360" y="155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الابصال الحقيق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1459080"/>
            <a:ext cx="2808000" cy="576000"/>
          </a:xfrm>
          <a:prstGeom prst="rect">
            <a:avLst/>
          </a:prstGeom>
          <a:blipFill rotWithShape="0">
            <a:blip r:embed="rId1">
              <a:alphaModFix amt="93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87640" y="1557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99cc00"/>
                </a:solidFill>
                <a:latin typeface="Arial"/>
              </a:rPr>
              <a:t>الدرنات والجذور المتدرن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4160" y="1450800"/>
            <a:ext cx="2808000" cy="576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557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ريزوم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6299640" y="2564640"/>
            <a:ext cx="2521080" cy="165564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92" y="0"/>
                </a:lnTo>
                <a:lnTo>
                  <a:pt x="21600" y="10800"/>
                </a:lnTo>
                <a:lnTo>
                  <a:pt x="1919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2139840"/>
            <a:ext cx="1728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Arial"/>
                <a:cs typeface="Akhbar MT"/>
              </a:rPr>
              <a:t>البصلة هي عبارة عن ساق قرصية أرضية تحمل برعما طرفيا و تحيط به قواعد الأوراق اللحمية العصارية المملوء بغذاء مخزن مثل البصل و النرج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5400000">
            <a:off x="3418200" y="2564640"/>
            <a:ext cx="2521080" cy="165564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92" y="0"/>
                </a:lnTo>
                <a:lnTo>
                  <a:pt x="21600" y="10800"/>
                </a:lnTo>
                <a:lnTo>
                  <a:pt x="1919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2349360"/>
            <a:ext cx="165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khbar MT"/>
              </a:rPr>
              <a:t>الدرنات عبارة عن ساق أرضية متحولة لأجل اختزان الغذاء , مثل البطاط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5400000">
            <a:off x="395640" y="2566080"/>
            <a:ext cx="2520720" cy="165564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92" y="0"/>
                </a:lnTo>
                <a:lnTo>
                  <a:pt x="21600" y="10800"/>
                </a:lnTo>
                <a:lnTo>
                  <a:pt x="1919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2421000"/>
            <a:ext cx="1657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khbar MT"/>
              </a:rPr>
              <a:t>عن ساق مدادة أو زاحفة تنمو تحت سطح التربة و مقسمة إلى عقل و سلاميات , مثل النعناع و الهي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3780000" cy="2781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880920" y="404640"/>
            <a:ext cx="7382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800000">
                    <a:alpha val="9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كاثر عن طريق الاجزاء النامية تحت سطح التربة</a:t>
            </a:r>
            <a:endParaRPr b="1" i="1" lang="en-US" sz="1800" spc="1" strike="noStrike">
              <a:ln w="0">
                <a:noFill/>
              </a:ln>
              <a:solidFill>
                <a:srgbClr val="800000">
                  <a:alpha val="9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16000" y="35481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نتاج أفراد جديدة من الكائنات الحية تهدف إلى حفظ النوع من الانقرا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867280" y="1557360"/>
            <a:ext cx="2762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800000">
                    <a:alpha val="95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كاثر</a:t>
            </a:r>
            <a:endParaRPr b="1" i="1" lang="en-US" sz="1800" spc="1" strike="noStrike">
              <a:ln w="0">
                <a:noFill/>
              </a:ln>
              <a:solidFill>
                <a:srgbClr val="800000">
                  <a:alpha val="95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32000" y="404640"/>
            <a:ext cx="3219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أنواع التكاثر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5003640" y="981000"/>
            <a:ext cx="0" cy="647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79160" y="1628640"/>
            <a:ext cx="5185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40480" y="1606680"/>
            <a:ext cx="0" cy="360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90680" y="1606680"/>
            <a:ext cx="0" cy="360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56080" y="206064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كاثر جنس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208296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كاثر غير جنس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2781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6600"/>
                </a:solidFill>
                <a:latin typeface="Arial"/>
              </a:rPr>
              <a:t>إنتاج أفراد جديدة يكون لها نفس خواص الأصل يقوم بها أحد الأبوين ومن دون تكوين خلايا جنسية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2492280"/>
            <a:ext cx="0" cy="36036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79800" y="3355920"/>
            <a:ext cx="0" cy="360360"/>
          </a:xfrm>
          <a:prstGeom prst="line">
            <a:avLst/>
          </a:prstGeom>
          <a:ln cap="rnd" w="4140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716280"/>
            <a:ext cx="554508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40360" y="3716280"/>
            <a:ext cx="0" cy="4334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3716280"/>
            <a:ext cx="0" cy="43344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3716280"/>
            <a:ext cx="0" cy="43344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716280"/>
            <a:ext cx="0" cy="43344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716280"/>
            <a:ext cx="0" cy="43344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3716280"/>
            <a:ext cx="0" cy="433440"/>
          </a:xfrm>
          <a:prstGeom prst="line">
            <a:avLst/>
          </a:prstGeom>
          <a:ln w="414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278680" y="461772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khbar MT"/>
              </a:rPr>
              <a:t>التكاثر بالانشطار الثنائ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059360" y="477000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khbar MT"/>
              </a:rPr>
              <a:t>التكاثر بالتبرع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2921040" y="475884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khbar MT"/>
              </a:rPr>
              <a:t>التكاثر بتكوين الأبوا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1968480" y="477000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khbar MT"/>
              </a:rPr>
              <a:t>التكاثر بالتجد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816120" y="477000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khbar MT"/>
              </a:rPr>
              <a:t>التكاثر العذر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380520" y="47635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khbar MT"/>
              </a:rPr>
              <a:t>التكاثر الخضر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2349360"/>
            <a:ext cx="500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Arial"/>
                <a:cs typeface="Akhbar MT"/>
              </a:rPr>
              <a:t>إنتاج أفراد جديدة بوجود كل من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Arial"/>
                <a:cs typeface="Akhbar MT"/>
              </a:rPr>
              <a:t>الأبوين بتكوين أمشاج ( خلايا جنسية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6600"/>
                </a:solidFill>
                <a:latin typeface="Arial"/>
                <a:cs typeface="Akhbar MT"/>
              </a:rPr>
              <a:t>مختلفة جينياً ويتم اتحادها لانتاج أفراد جدي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340000" y="476280"/>
            <a:ext cx="43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 - </a:t>
            </a:r>
            <a:r>
              <a:rPr b="0" lang="hi-I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تكاثر بالانشطار الثنائي</a:t>
            </a: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1557360"/>
            <a:ext cx="597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</a:rPr>
              <a:t>تنقسم الخلية انقساما خلويا مباشرا لتكون خليتين ويك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2276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 - عرضي : كما في البكتيريا والبراميسي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299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ب – طولي مثل اليوجلين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3789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ج – متعدد مثل بلازموديوم الملاي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637000" cy="1333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20876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788000" y="3860640"/>
            <a:ext cx="40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340000" y="476280"/>
            <a:ext cx="43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2 - </a:t>
            </a:r>
            <a:r>
              <a:rPr b="0" lang="hi-I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تكاثر بالتبرعم</a:t>
            </a: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64000" y="1628640"/>
            <a:ext cx="525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khbar MT"/>
              </a:rPr>
              <a:t>ظهور برعم ( نتوء ) جانبي على الجدار الخلوي ينمو تدريجياً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khbar MT"/>
              </a:rPr>
              <a:t>يحدث في بعض الفطريات ( الخميرة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khbar MT"/>
              </a:rPr>
              <a:t>وبعض الجوفمعويات ( الهيدرا 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042920" y="2852640"/>
            <a:ext cx="3673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حيث تتكون خلايا تسمى الابواغ توجد داخل حوافظ بوغية 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من أمث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ذلك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] فطر عفن الخبز : حيث تتكون الأبواغ داخل حافظات وتح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حوافظ على الحوامل ، وعند نضج الأبواغ تضغط ع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حوافظ وتخرج ثم تسقط على الأرض ، وعند توفر الظرو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نبت مكونة فطراً جديد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33840" y="476280"/>
            <a:ext cx="3676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80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- </a:t>
            </a:r>
            <a:r>
              <a:rPr b="0" lang="hi-IN" sz="1800" spc="1" strike="noStrike">
                <a:ln w="0">
                  <a:noFill/>
                </a:ln>
                <a:solidFill>
                  <a:srgbClr val="800000">
                    <a:alpha val="8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كاثر بتكوين الابواغ</a:t>
            </a:r>
            <a:endParaRPr b="1" i="1" lang="en-US" sz="1800" spc="1" strike="noStrike">
              <a:ln w="0">
                <a:noFill/>
              </a:ln>
              <a:solidFill>
                <a:srgbClr val="800000">
                  <a:alpha val="8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ي قدرة الكائن الحي على تعويض الاجزاء المفقو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ث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شوكيات الجل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اسفنجي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151080" y="692280"/>
            <a:ext cx="32925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800000">
                    <a:alpha val="9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- </a:t>
            </a:r>
            <a:r>
              <a:rPr b="0" lang="hi-IN" sz="1800" spc="1" strike="noStrike">
                <a:ln w="0">
                  <a:noFill/>
                </a:ln>
                <a:solidFill>
                  <a:srgbClr val="800000">
                    <a:alpha val="92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كاثر بالتجديد</a:t>
            </a:r>
            <a:endParaRPr b="1" i="1" lang="en-US" sz="1800" spc="1" strike="noStrike">
              <a:ln w="0">
                <a:noFill/>
              </a:ln>
              <a:solidFill>
                <a:srgbClr val="800000">
                  <a:alpha val="92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357800" y="476280"/>
            <a:ext cx="43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5  - </a:t>
            </a:r>
            <a:r>
              <a:rPr b="0" lang="hi-I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تكاثر العذري</a:t>
            </a: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1557360"/>
            <a:ext cx="70581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>
                <a:solidFill>
                  <a:srgbClr val="333399"/>
                </a:solidFill>
                <a:latin typeface="Arial"/>
              </a:rPr>
              <a:t>تعريفه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63640" y="3429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99"/>
                </a:solidFill>
                <a:latin typeface="Arial"/>
              </a:rPr>
              <a:t>أمثلة على التكاثر العذر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0920" y="480384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Arial"/>
              </a:rPr>
              <a:t>نحل العس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بيض غير مخصب ــــــــــ ذكور النح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بيض مخصب ــــــــــ الملكات والشغالا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03280" y="2060640"/>
            <a:ext cx="640872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هو قدرة بعض الحيوانات على إنتاج بويضات غير مخصبة لها القدرة علي النمو لتكوين فرد جديد بدون إخصاب من المشيج المذك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788000" y="3860640"/>
            <a:ext cx="40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340000" y="476280"/>
            <a:ext cx="4390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6  - </a:t>
            </a:r>
            <a:r>
              <a:rPr b="0" lang="hi-IN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تكاثر الخضري</a:t>
            </a: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   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484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3300"/>
                </a:solidFill>
                <a:latin typeface="Arial"/>
              </a:rPr>
              <a:t>تعريفه :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هو التكاثر الذي يتم بواسطة الأعضاء النباتية كالأوراق والسيقان والجذور دون الحاجة إلى البذور في بعض النباتات المعقدة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92720" y="2192400"/>
            <a:ext cx="294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ff"/>
                </a:solidFill>
                <a:latin typeface="Arial"/>
              </a:rPr>
              <a:t>أهميه التكاثر الخضري  :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299736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 المحافظة على الصفات الوراثية للنباتات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357336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إكثار النباتات التي يصعب تكاثرها بالبذور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8000" y="4149720"/>
            <a:ext cx="51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إنتاج أشجار كبيرة ومثمرة في وقت قصير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472428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التغلب على بعض الأمراض والآفات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30064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التغلب على العوامل البيئية غير الملائمة لزراعة أنواع معينة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3:08:18Z</dcterms:created>
  <dc:creator>Default</dc:creator>
  <dc:description/>
  <dc:language>en-US</dc:language>
  <cp:lastModifiedBy>بوعبدالعزيز</cp:lastModifiedBy>
  <dcterms:modified xsi:type="dcterms:W3CDTF">2008-11-08T17:47:59Z</dcterms:modified>
  <cp:revision>27</cp:revision>
  <dc:subject/>
  <dc:title>الشريحة 1</dc:title>
</cp:coreProperties>
</file>