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A32-C9BE-4D6F-A5B8-9C71163FB516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7860-1782-4AF0-A777-8D959B5328C5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4455-E3F8-4506-A4F9-75D62EE20AD2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D729-B15E-4880-B726-15C1D6D1021F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8453-7350-4B33-A005-D456B051CF4F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0247-CEA9-47EC-9204-2A80C4BDEE9D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5DCA-C8A3-4BC8-8609-A1506E554941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564C-B2F2-4DED-A132-663F2B79BFAB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4D5-F022-4163-AB27-4565B9E7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AE3-0396-4FAC-A695-C0CDB6A1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6A0-09EE-4D80-8C4D-E89B97D1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EAA-09F1-4D21-9E99-5493771A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242D-2D0D-4BA5-A85D-B86CE1F6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9A4C-8FA2-483C-988E-B64C598A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A764-96A9-4D2E-8DE1-815B306D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645B-690F-412A-8584-CD4EDF3C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AD66-E72A-4A85-8AF9-0EBAE4DB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7F3B-F911-4780-8B32-1AED553B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4786-B53A-406B-9DF7-D2EBD293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1BE-F770-4655-91C0-615850E4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84AB-3C4B-42A5-BD96-31FD926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C031-C940-433F-B817-23D1CC21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252-5B2E-42D3-AF6D-2241415F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2390-84DA-4A71-B855-B16E7958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183C-20D2-4A99-9B1A-D0AB634D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835-9A60-4014-8338-2B17A369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B03-0B59-4E62-8F24-61BF3B4C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1B2-C674-44C1-BD69-DDBBE93E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7FE-F06F-425F-BF23-BD019428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903-66D5-4B2B-A437-6AB912E1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1B5-49F1-417A-8449-EF93A358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B35-7C23-4932-A43C-C0BDDF65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A820-524A-4768-BC55-81529928B600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5410-BA6C-402D-BAAC-1B33BC623A8D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  <a:cs typeface="Mudir MT"/>
              </a:rPr>
              <a:t>الباب الثالث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news_logo"/>
          <p:cNvPicPr/>
          <p:nvPr/>
        </p:nvPicPr>
        <p:blipFill>
          <a:blip r:embed="rId1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11"/>
          <p:cNvPicPr/>
          <p:nvPr/>
        </p:nvPicPr>
        <p:blipFill>
          <a:blip r:embed="rId2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971640" y="5950080"/>
            <a:ext cx="7921440" cy="57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tatweer.edu.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مستطيل 6" descr=""/>
          <p:cNvPicPr/>
          <p:nvPr/>
        </p:nvPicPr>
        <p:blipFill>
          <a:blip r:embed="rId3"/>
          <a:stretch/>
        </p:blipFill>
        <p:spPr>
          <a:xfrm>
            <a:off x="1809720" y="1542960"/>
            <a:ext cx="575460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71640" y="5950080"/>
            <a:ext cx="7921440" cy="57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tatweer.edu.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  <a:cs typeface="Mudir MT"/>
              </a:rPr>
              <a:t>أهداف الدر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مربع نص 5"/>
          <p:cNvSpPr/>
          <p:nvPr/>
        </p:nvSpPr>
        <p:spPr>
          <a:xfrm>
            <a:off x="1785960" y="1643040"/>
            <a:ext cx="650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- أن يصنف الطالب المواد حسب قدرتها على توصي التيار الكهربائ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- أن يتعرف الطالب على أنواع المحاليل الموصلة للتيار الكهربائ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- أن يفرق الطالب بين مفهومي التفكك والتأ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71640" y="6210000"/>
            <a:ext cx="79214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tatweer.edu.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حالي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66cc"/>
                </a:solidFill>
                <a:latin typeface="Arial"/>
              </a:rPr>
              <a:t>الموصل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9900"/>
                </a:solidFill>
                <a:latin typeface="Arial"/>
              </a:rPr>
              <a:t>للكهرب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مربع نص 22"/>
          <p:cNvSpPr/>
          <p:nvPr/>
        </p:nvSpPr>
        <p:spPr>
          <a:xfrm>
            <a:off x="1785960" y="128592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تنقسم المواد حسب توصيلها للتيار الكهربائي إلى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رابط مستقيم 24"/>
          <p:cNvSpPr/>
          <p:nvPr/>
        </p:nvSpPr>
        <p:spPr>
          <a:xfrm flipH="1">
            <a:off x="4785840" y="1643040"/>
            <a:ext cx="1800" cy="428760"/>
          </a:xfrm>
          <a:prstGeom prst="line">
            <a:avLst/>
          </a:prstGeom>
          <a:ln w="9360">
            <a:solidFill>
              <a:srgbClr val="60c9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رابط مستقيم 26"/>
          <p:cNvSpPr/>
          <p:nvPr/>
        </p:nvSpPr>
        <p:spPr>
          <a:xfrm>
            <a:off x="2214720" y="2071800"/>
            <a:ext cx="5357520" cy="1440"/>
          </a:xfrm>
          <a:prstGeom prst="line">
            <a:avLst/>
          </a:prstGeom>
          <a:ln w="9360">
            <a:solidFill>
              <a:srgbClr val="60c9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شكل بيضاوي 29"/>
          <p:cNvSpPr/>
          <p:nvPr/>
        </p:nvSpPr>
        <p:spPr>
          <a:xfrm>
            <a:off x="6072120" y="2286000"/>
            <a:ext cx="2714760" cy="714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مربع نص 30"/>
          <p:cNvSpPr/>
          <p:nvPr/>
        </p:nvSpPr>
        <p:spPr>
          <a:xfrm>
            <a:off x="6357960" y="24289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ahoma"/>
              </a:rPr>
              <a:t>مواد موصلة للتيار الكهربائي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شكل بيضاوي 31"/>
          <p:cNvSpPr/>
          <p:nvPr/>
        </p:nvSpPr>
        <p:spPr>
          <a:xfrm>
            <a:off x="1000080" y="2286000"/>
            <a:ext cx="271476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مربع نص 32"/>
          <p:cNvSpPr/>
          <p:nvPr/>
        </p:nvSpPr>
        <p:spPr>
          <a:xfrm>
            <a:off x="1071720" y="2448000"/>
            <a:ext cx="242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ahoma"/>
              </a:rPr>
              <a:t>مواد غير موصلة للتيار الكهربائي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سهم للأسفل 34"/>
          <p:cNvSpPr/>
          <p:nvPr/>
        </p:nvSpPr>
        <p:spPr>
          <a:xfrm>
            <a:off x="7215120" y="3143160"/>
            <a:ext cx="4287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مستطيل 35"/>
          <p:cNvSpPr/>
          <p:nvPr/>
        </p:nvSpPr>
        <p:spPr>
          <a:xfrm>
            <a:off x="6143760" y="3857760"/>
            <a:ext cx="2500200" cy="1714320"/>
          </a:xfrm>
          <a:prstGeom prst="rect">
            <a:avLst/>
          </a:prstGeom>
          <a:solidFill>
            <a:srgbClr val="ffc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مربع نص 36"/>
          <p:cNvSpPr/>
          <p:nvPr/>
        </p:nvSpPr>
        <p:spPr>
          <a:xfrm>
            <a:off x="6143760" y="3643200"/>
            <a:ext cx="235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a0aff"/>
                </a:solidFill>
                <a:latin typeface="Tahoma"/>
              </a:rPr>
              <a:t>هي مواد تعطي بعد ذوبانها في الماء محلولا يوصل التيار الكهربائي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a0aff"/>
                </a:solidFill>
                <a:latin typeface="Tahoma"/>
              </a:rPr>
              <a:t>( تتفكك أو تنأين في الماء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مستطيل 38"/>
          <p:cNvSpPr/>
          <p:nvPr/>
        </p:nvSpPr>
        <p:spPr>
          <a:xfrm>
            <a:off x="928800" y="3857760"/>
            <a:ext cx="2500200" cy="1714320"/>
          </a:xfrm>
          <a:prstGeom prst="rect">
            <a:avLst/>
          </a:prstGeom>
          <a:solidFill>
            <a:srgbClr val="ffc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سهم للأسفل 39"/>
          <p:cNvSpPr/>
          <p:nvPr/>
        </p:nvSpPr>
        <p:spPr>
          <a:xfrm>
            <a:off x="2000160" y="3214800"/>
            <a:ext cx="428760" cy="57132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مربع نص 40"/>
          <p:cNvSpPr/>
          <p:nvPr/>
        </p:nvSpPr>
        <p:spPr>
          <a:xfrm>
            <a:off x="1071720" y="4071960"/>
            <a:ext cx="221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a0aff"/>
                </a:solidFill>
                <a:latin typeface="Tahoma"/>
              </a:rPr>
              <a:t>هي المواد التي  تعطي عند ذوبانها في الماء محلولا لا  يوصل التيار الكهربائ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a0aff"/>
                </a:solidFill>
                <a:latin typeface="Tahoma"/>
              </a:rPr>
              <a:t>(لا تتفكك أو تنأين في الماء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شكل بيضاوي 41"/>
          <p:cNvSpPr/>
          <p:nvPr/>
        </p:nvSpPr>
        <p:spPr>
          <a:xfrm>
            <a:off x="6500880" y="5643720"/>
            <a:ext cx="1643040" cy="50004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مربع نص 42"/>
          <p:cNvSpPr/>
          <p:nvPr/>
        </p:nvSpPr>
        <p:spPr>
          <a:xfrm>
            <a:off x="6715080" y="5643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ahoma"/>
              </a:rPr>
              <a:t>ملح الطعا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شكل بيضاوي 43"/>
          <p:cNvSpPr/>
          <p:nvPr/>
        </p:nvSpPr>
        <p:spPr>
          <a:xfrm>
            <a:off x="1357200" y="5643720"/>
            <a:ext cx="1643040" cy="50004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مربع نص 44"/>
          <p:cNvSpPr/>
          <p:nvPr/>
        </p:nvSpPr>
        <p:spPr>
          <a:xfrm>
            <a:off x="1643040" y="571500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ahoma"/>
              </a:rPr>
              <a:t>الســـــك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71640" y="5950080"/>
            <a:ext cx="7921440" cy="57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tatweer.edu.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  <a:cs typeface="Mudir MT"/>
              </a:rPr>
              <a:t>تنقسم المواد الموصلة للتيار إل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تمرير أفقي 5"/>
          <p:cNvSpPr/>
          <p:nvPr/>
        </p:nvSpPr>
        <p:spPr>
          <a:xfrm>
            <a:off x="6143760" y="1428840"/>
            <a:ext cx="2071440" cy="1214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مربع نص 6"/>
          <p:cNvSpPr/>
          <p:nvPr/>
        </p:nvSpPr>
        <p:spPr>
          <a:xfrm>
            <a:off x="6357960" y="185724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73"/>
                </a:solidFill>
                <a:latin typeface="Tahoma"/>
              </a:rPr>
              <a:t>مواد قوية التوصي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تمرير أفقي 7"/>
          <p:cNvSpPr/>
          <p:nvPr/>
        </p:nvSpPr>
        <p:spPr>
          <a:xfrm>
            <a:off x="1643040" y="1500120"/>
            <a:ext cx="2071800" cy="1214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مربع نص 8"/>
          <p:cNvSpPr/>
          <p:nvPr/>
        </p:nvSpPr>
        <p:spPr>
          <a:xfrm>
            <a:off x="1714680" y="19288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73"/>
                </a:solidFill>
                <a:latin typeface="Tahoma"/>
              </a:rPr>
              <a:t>مواد ضعيفة التوصيل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وسيلة شرح بيضاوية 9"/>
          <p:cNvSpPr/>
          <p:nvPr/>
        </p:nvSpPr>
        <p:spPr>
          <a:xfrm>
            <a:off x="6357960" y="2857680"/>
            <a:ext cx="1857240" cy="1428480"/>
          </a:xfrm>
          <a:prstGeom prst="wedgeEllipseCallout">
            <a:avLst>
              <a:gd name="adj1" fmla="val 36601"/>
              <a:gd name="adj2" fmla="val -68097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مربع نص 10"/>
          <p:cNvSpPr/>
          <p:nvPr/>
        </p:nvSpPr>
        <p:spPr>
          <a:xfrm>
            <a:off x="6643800" y="3143160"/>
            <a:ext cx="13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ahoma"/>
              </a:rPr>
              <a:t>وهي التي تتفكك ( تتأين )كليا في الماء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وسيلة شرح بيضاوية 11"/>
          <p:cNvSpPr/>
          <p:nvPr/>
        </p:nvSpPr>
        <p:spPr>
          <a:xfrm>
            <a:off x="1643040" y="3009960"/>
            <a:ext cx="1857240" cy="1428840"/>
          </a:xfrm>
          <a:prstGeom prst="wedgeEllipseCallout">
            <a:avLst>
              <a:gd name="adj1" fmla="val 36601"/>
              <a:gd name="adj2" fmla="val -68097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مربع نص 12"/>
          <p:cNvSpPr/>
          <p:nvPr/>
        </p:nvSpPr>
        <p:spPr>
          <a:xfrm>
            <a:off x="1857240" y="3214800"/>
            <a:ext cx="128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ahoma"/>
              </a:rPr>
              <a:t>وهي التي تتفكك ( تتأين ) جزئيا في الما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مربع نص 13"/>
          <p:cNvSpPr/>
          <p:nvPr/>
        </p:nvSpPr>
        <p:spPr>
          <a:xfrm>
            <a:off x="5572080" y="48448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Cl       H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       Na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+ 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0" name="رابط كسهم مستقيم 15"/>
          <p:cNvCxnSpPr/>
          <p:nvPr/>
        </p:nvCxnSpPr>
        <p:spPr>
          <a:xfrm>
            <a:off x="6571800" y="5213520"/>
            <a:ext cx="786600" cy="2160"/>
          </a:xfrm>
          <a:prstGeom prst="straightConnector1">
            <a:avLst/>
          </a:prstGeom>
          <a:ln w="936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61" name="مربع نص 16"/>
          <p:cNvSpPr/>
          <p:nvPr/>
        </p:nvSpPr>
        <p:spPr>
          <a:xfrm>
            <a:off x="7715160" y="4286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</a:rPr>
              <a:t>مثال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مربع نص 17"/>
          <p:cNvSpPr/>
          <p:nvPr/>
        </p:nvSpPr>
        <p:spPr>
          <a:xfrm>
            <a:off x="3071880" y="44290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</a:rPr>
              <a:t>مثال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مربع نص 18"/>
          <p:cNvSpPr/>
          <p:nvPr/>
        </p:nvSpPr>
        <p:spPr>
          <a:xfrm>
            <a:off x="500040" y="48578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3COOH      H2O    CH3COO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4" name="رابط كسهم مستقيم 19"/>
          <p:cNvCxnSpPr/>
          <p:nvPr/>
        </p:nvCxnSpPr>
        <p:spPr>
          <a:xfrm>
            <a:off x="2143080" y="5213520"/>
            <a:ext cx="572400" cy="2160"/>
          </a:xfrm>
          <a:prstGeom prst="straightConnector1">
            <a:avLst/>
          </a:prstGeom>
          <a:ln w="9360">
            <a:solidFill>
              <a:srgbClr val="60c9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71640" y="5950080"/>
            <a:ext cx="7921440" cy="57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tatweer.edu.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Verdana"/>
                <a:cs typeface="AL-Sayf Bold"/>
              </a:rPr>
              <a:t>التخطيط الهندسي للمحاليل بأنواعها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9" name="Organization Chart 68"/>
          <p:cNvGrpSpPr/>
          <p:nvPr/>
        </p:nvGrpSpPr>
        <p:grpSpPr>
          <a:xfrm>
            <a:off x="1357200" y="1214280"/>
            <a:ext cx="7072200" cy="4428720"/>
            <a:chOff x="1357200" y="1214280"/>
            <a:chExt cx="7072200" cy="4428720"/>
          </a:xfrm>
        </p:grpSpPr>
        <p:cxnSp>
          <p:nvCxnSpPr>
            <p:cNvPr id="170" name="_s1028"/>
            <p:cNvCxnSpPr>
              <a:stCxn id="171" idx="1"/>
              <a:endCxn id="172" idx="2"/>
            </p:cNvCxnSpPr>
            <p:nvPr/>
          </p:nvCxnSpPr>
          <p:spPr>
            <a:xfrm rot="10800000">
              <a:off x="4187520" y="4459320"/>
              <a:ext cx="255960" cy="7812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3" name="_s1029"/>
            <p:cNvCxnSpPr>
              <a:stCxn id="174" idx="1"/>
              <a:endCxn id="175" idx="2"/>
            </p:cNvCxnSpPr>
            <p:nvPr/>
          </p:nvCxnSpPr>
          <p:spPr>
            <a:xfrm rot="10800000">
              <a:off x="6451200" y="4465080"/>
              <a:ext cx="254160" cy="7779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6" name="_s1030"/>
            <p:cNvCxnSpPr>
              <a:stCxn id="175" idx="0"/>
              <a:endCxn id="177" idx="2"/>
            </p:cNvCxnSpPr>
            <p:nvPr/>
          </p:nvCxnSpPr>
          <p:spPr>
            <a:xfrm flipV="1" rot="16200000">
              <a:off x="5714640" y="2861280"/>
              <a:ext cx="341640" cy="1132560"/>
            </a:xfrm>
            <a:prstGeom prst="bentConnector3">
              <a:avLst>
                <a:gd name="adj1" fmla="val 49472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8" name="_s1031"/>
            <p:cNvCxnSpPr>
              <a:stCxn id="172" idx="0"/>
              <a:endCxn id="177" idx="2"/>
            </p:cNvCxnSpPr>
            <p:nvPr/>
          </p:nvCxnSpPr>
          <p:spPr>
            <a:xfrm flipH="1" flipV="1" rot="5400000">
              <a:off x="4582800" y="2861640"/>
              <a:ext cx="341640" cy="1132560"/>
            </a:xfrm>
            <a:prstGeom prst="bentConnector3">
              <a:avLst>
                <a:gd name="adj1" fmla="val 49472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9" name="_s1032"/>
            <p:cNvCxnSpPr>
              <a:stCxn id="180" idx="0"/>
              <a:endCxn id="181" idx="2"/>
            </p:cNvCxnSpPr>
            <p:nvPr/>
          </p:nvCxnSpPr>
          <p:spPr>
            <a:xfrm flipV="1">
              <a:off x="2206080" y="3256920"/>
              <a:ext cx="2880" cy="3416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2" name="_s1033"/>
            <p:cNvCxnSpPr>
              <a:stCxn id="177" idx="0"/>
              <a:endCxn id="183" idx="2"/>
            </p:cNvCxnSpPr>
            <p:nvPr/>
          </p:nvCxnSpPr>
          <p:spPr>
            <a:xfrm flipV="1" rot="16200000">
              <a:off x="4367880" y="1439280"/>
              <a:ext cx="344160" cy="1559160"/>
            </a:xfrm>
            <a:prstGeom prst="bentConnector3">
              <a:avLst>
                <a:gd name="adj1" fmla="val 49947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4" name="_s1034"/>
            <p:cNvCxnSpPr>
              <a:stCxn id="181" idx="0"/>
              <a:endCxn id="183" idx="2"/>
            </p:cNvCxnSpPr>
            <p:nvPr/>
          </p:nvCxnSpPr>
          <p:spPr>
            <a:xfrm flipH="1" flipV="1" rot="5400000">
              <a:off x="2811240" y="1441440"/>
              <a:ext cx="344160" cy="1555200"/>
            </a:xfrm>
            <a:prstGeom prst="bentConnector3">
              <a:avLst>
                <a:gd name="adj1" fmla="val 49947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83" name="_s1035"/>
            <p:cNvSpPr/>
            <p:nvPr/>
          </p:nvSpPr>
          <p:spPr>
            <a:xfrm>
              <a:off x="2911680" y="1214280"/>
              <a:ext cx="1698120" cy="8049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100" spc="-1" strike="noStrike">
                  <a:solidFill>
                    <a:srgbClr val="000000"/>
                  </a:solidFill>
                  <a:latin typeface="Arial"/>
                </a:rPr>
                <a:t>أنواع</a:t>
              </a:r>
              <a:r>
                <a:rPr b="1" lang="ar-SA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1100" spc="-1" strike="noStrike">
                  <a:solidFill>
                    <a:srgbClr val="000000"/>
                  </a:solidFill>
                  <a:latin typeface="Arial"/>
                </a:rPr>
                <a:t>المحاليل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_s1036"/>
            <p:cNvSpPr/>
            <p:nvPr/>
          </p:nvSpPr>
          <p:spPr>
            <a:xfrm>
              <a:off x="1357200" y="2422080"/>
              <a:ext cx="1698120" cy="8049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محاليل غير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موصلة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_s1037"/>
            <p:cNvSpPr/>
            <p:nvPr/>
          </p:nvSpPr>
          <p:spPr>
            <a:xfrm>
              <a:off x="4468680" y="2422080"/>
              <a:ext cx="1698120" cy="8049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محاليل</a:t>
              </a:r>
              <a:r>
                <a:rPr b="1" lang="ar-SA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موصل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للتيار الكهربي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_s1038"/>
            <p:cNvSpPr/>
            <p:nvPr/>
          </p:nvSpPr>
          <p:spPr>
            <a:xfrm>
              <a:off x="1357200" y="3629880"/>
              <a:ext cx="1698120" cy="8020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ffffff"/>
                  </a:solidFill>
                  <a:latin typeface="Arial"/>
                </a:rPr>
                <a:t>محلول السكر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_s1039"/>
            <p:cNvSpPr/>
            <p:nvPr/>
          </p:nvSpPr>
          <p:spPr>
            <a:xfrm>
              <a:off x="3338280" y="3629880"/>
              <a:ext cx="1698120" cy="8020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ffffff"/>
                  </a:solidFill>
                  <a:latin typeface="Arial"/>
                </a:rPr>
                <a:t>ضعيفة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1040"/>
            <p:cNvSpPr/>
            <p:nvPr/>
          </p:nvSpPr>
          <p:spPr>
            <a:xfrm>
              <a:off x="5600880" y="3629880"/>
              <a:ext cx="1698120" cy="8049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ffffff"/>
                  </a:solidFill>
                  <a:latin typeface="Arial"/>
                </a:rPr>
                <a:t>قوية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_s1041"/>
            <p:cNvSpPr/>
            <p:nvPr/>
          </p:nvSpPr>
          <p:spPr>
            <a:xfrm>
              <a:off x="6733080" y="4838040"/>
              <a:ext cx="1696320" cy="80496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Arial"/>
                </a:rPr>
                <a:t>حمض</a:t>
              </a:r>
              <a:r>
                <a:rPr b="0" lang="ar-SA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1400" spc="-1" strike="noStrike">
                  <a:solidFill>
                    <a:srgbClr val="000000"/>
                  </a:solidFill>
                  <a:latin typeface="Arial"/>
                </a:rPr>
                <a:t>الكلور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1042"/>
            <p:cNvSpPr/>
            <p:nvPr/>
          </p:nvSpPr>
          <p:spPr>
            <a:xfrm>
              <a:off x="4470480" y="4838040"/>
              <a:ext cx="1696320" cy="8020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Arial"/>
                </a:rPr>
                <a:t>حمض</a:t>
              </a:r>
              <a:r>
                <a:rPr b="0" lang="ar-SA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1400" spc="-1" strike="noStrike">
                  <a:solidFill>
                    <a:srgbClr val="000000"/>
                  </a:solidFill>
                  <a:latin typeface="Arial"/>
                </a:rPr>
                <a:t>الخل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71640" y="6138360"/>
            <a:ext cx="79214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tatweer.edu.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L-Sayf Bold"/>
              </a:rPr>
              <a:t>التفكك والتأي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71720" y="1133640"/>
          <a:ext cx="7767360" cy="4938480"/>
        </p:xfrm>
        <a:graphic>
          <a:graphicData uri="http://schemas.openxmlformats.org/drawingml/2006/table">
            <a:tbl>
              <a:tblPr/>
              <a:tblGrid>
                <a:gridCol w="4206600"/>
                <a:gridCol w="356076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800" spc="-1" strike="noStrike">
                          <a:solidFill>
                            <a:srgbClr val="ffffff"/>
                          </a:solidFill>
                          <a:latin typeface="Verdana"/>
                          <a:ea typeface="Al-Hadith2"/>
                        </a:rPr>
                        <a:t>    (التأين)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800" spc="-1" strike="noStrike">
                          <a:solidFill>
                            <a:srgbClr val="ffffff"/>
                          </a:solidFill>
                          <a:latin typeface="Verdana"/>
                          <a:ea typeface="Al-Hadith2"/>
                        </a:rPr>
                        <a:t>     (التفكك)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مربع نص 6"/>
          <p:cNvSpPr/>
          <p:nvPr/>
        </p:nvSpPr>
        <p:spPr>
          <a:xfrm>
            <a:off x="5357880" y="27018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ذوبان المركب ألايوني في الما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مربع نص 7"/>
          <p:cNvSpPr/>
          <p:nvPr/>
        </p:nvSpPr>
        <p:spPr>
          <a:xfrm>
            <a:off x="5643720" y="35002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أين يحدث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مربع نص 8"/>
          <p:cNvSpPr/>
          <p:nvPr/>
        </p:nvSpPr>
        <p:spPr>
          <a:xfrm>
            <a:off x="5643720" y="40719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بين ( فلز + لا فل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مربع نص 9"/>
          <p:cNvSpPr/>
          <p:nvPr/>
        </p:nvSpPr>
        <p:spPr>
          <a:xfrm>
            <a:off x="7358040" y="4857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مثال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مربع نص 10"/>
          <p:cNvSpPr/>
          <p:nvPr/>
        </p:nvSpPr>
        <p:spPr>
          <a:xfrm>
            <a:off x="5357880" y="53578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aCl   H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    Na + 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مربع نص 11"/>
          <p:cNvSpPr/>
          <p:nvPr/>
        </p:nvSpPr>
        <p:spPr>
          <a:xfrm>
            <a:off x="7572240" y="2214720"/>
            <a:ext cx="10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تعريفه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مربع نص 12"/>
          <p:cNvSpPr/>
          <p:nvPr/>
        </p:nvSpPr>
        <p:spPr>
          <a:xfrm>
            <a:off x="4143240" y="2286000"/>
            <a:ext cx="10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تعريفه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مربع نص 13"/>
          <p:cNvSpPr/>
          <p:nvPr/>
        </p:nvSpPr>
        <p:spPr>
          <a:xfrm>
            <a:off x="1571760" y="278604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ذوبان المركب التساهمي في الما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مربع نص 15"/>
          <p:cNvSpPr/>
          <p:nvPr/>
        </p:nvSpPr>
        <p:spPr>
          <a:xfrm>
            <a:off x="4143240" y="350028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أين يحدث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مربع نص 16"/>
          <p:cNvSpPr/>
          <p:nvPr/>
        </p:nvSpPr>
        <p:spPr>
          <a:xfrm>
            <a:off x="1857240" y="3786120"/>
            <a:ext cx="32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بين ( لا فلز + لا فلز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مربع نص 17"/>
          <p:cNvSpPr/>
          <p:nvPr/>
        </p:nvSpPr>
        <p:spPr>
          <a:xfrm>
            <a:off x="1857240" y="42861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بين ( لا فلز + شبه فلز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مربع نص 18"/>
          <p:cNvSpPr/>
          <p:nvPr/>
        </p:nvSpPr>
        <p:spPr>
          <a:xfrm>
            <a:off x="4429080" y="492912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مثال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مربع نص 19"/>
          <p:cNvSpPr/>
          <p:nvPr/>
        </p:nvSpPr>
        <p:spPr>
          <a:xfrm>
            <a:off x="1357200" y="542916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Cl       H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         H+ 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03" name="رابط كسهم مستقيم 21"/>
          <p:cNvCxnSpPr/>
          <p:nvPr/>
        </p:nvCxnSpPr>
        <p:spPr>
          <a:xfrm>
            <a:off x="6571800" y="5715000"/>
            <a:ext cx="500760" cy="2160"/>
          </a:xfrm>
          <a:prstGeom prst="straightConnector1">
            <a:avLst/>
          </a:prstGeom>
          <a:ln w="9360">
            <a:solidFill>
              <a:srgbClr val="60c9fd"/>
            </a:solidFill>
            <a:miter/>
            <a:tailEnd len="med" type="arrow" w="med"/>
          </a:ln>
        </p:spPr>
      </p:cxnSp>
      <p:cxnSp>
        <p:nvCxnSpPr>
          <p:cNvPr id="204" name="رابط كسهم مستقيم 22"/>
          <p:cNvCxnSpPr/>
          <p:nvPr/>
        </p:nvCxnSpPr>
        <p:spPr>
          <a:xfrm>
            <a:off x="2857320" y="5784840"/>
            <a:ext cx="500760" cy="2160"/>
          </a:xfrm>
          <a:prstGeom prst="straightConnector1">
            <a:avLst/>
          </a:prstGeom>
          <a:ln w="936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205" name="Rectangle 2"/>
          <p:cNvSpPr/>
          <p:nvPr/>
        </p:nvSpPr>
        <p:spPr>
          <a:xfrm>
            <a:off x="971640" y="6138720"/>
            <a:ext cx="79214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tatweer.edu.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  <a:cs typeface="Mudir MT"/>
              </a:rPr>
              <a:t>المــــــــــــــــراج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4" descr="news_logo"/>
          <p:cNvPicPr/>
          <p:nvPr/>
        </p:nvPicPr>
        <p:blipFill>
          <a:blip r:embed="rId1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11"/>
          <p:cNvPicPr/>
          <p:nvPr/>
        </p:nvPicPr>
        <p:blipFill>
          <a:blip r:embed="rId2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971640" y="5950080"/>
            <a:ext cx="7921440" cy="57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tatweer.edu.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مربع نص 5"/>
          <p:cNvSpPr/>
          <p:nvPr/>
        </p:nvSpPr>
        <p:spPr>
          <a:xfrm>
            <a:off x="1714680" y="1357200"/>
            <a:ext cx="642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كتاب الصف الثالث الثانو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بوابة الالكترونية لتطوير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مستطيل 6"/>
          <p:cNvSpPr/>
          <p:nvPr/>
        </p:nvSpPr>
        <p:spPr>
          <a:xfrm>
            <a:off x="3147840" y="2592360"/>
            <a:ext cx="3931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ww.tatweer.edu.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0:04:48Z</dcterms:created>
  <dc:creator>Personal</dc:creator>
  <dc:description/>
  <dc:language>en-US</dc:language>
  <cp:lastModifiedBy>Sazoo &amp; Moodi</cp:lastModifiedBy>
  <dcterms:modified xsi:type="dcterms:W3CDTF">2008-11-21T17:55:23Z</dcterms:modified>
  <cp:revision>27</cp:revision>
  <dc:subject/>
  <dc:title>الشريحة 1</dc:title>
</cp:coreProperties>
</file>