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2.gif" ContentType="image/gif"/>
  <Override PartName="/ppt/media/image10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5.wmf" ContentType="image/x-wmf"/>
  <Override PartName="/ppt/media/image7.jpeg" ContentType="image/jpeg"/>
  <Override PartName="/ppt/media/image4.wmf" ContentType="image/x-wmf"/>
  <Override PartName="/ppt/media/image14.png" ContentType="image/png"/>
  <Override PartName="/ppt/media/image11.gif" ContentType="image/gif"/>
  <Override PartName="/ppt/media/image9.png" ContentType="image/png"/>
  <Override PartName="/ppt/media/image6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E1A-9349-4C89-9180-54BD93BB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531-D820-401E-A092-1C6E940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976-8832-45C7-8CD2-3ECEC73E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C3F-2402-4D86-82AE-44709AA7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C61-CC0B-445E-9E9E-AB6CDF0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AE7-181D-4E65-BC11-BA7378A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DBC-9FA5-422D-8EC0-A4640BA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8D1-9CB4-4CE4-9E67-710587EB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4B8-B2AD-429E-98F0-69DF311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03E-2042-41EF-AFA8-6DAF652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110-A861-4BA6-AE5A-84F428B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AFC-0081-4CA5-93FC-64D66B6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F78-4913-4CF1-BF0D-ADB4045A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0.gif"/><Relationship Id="rId2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1849320" cy="197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836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حساب المعد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في المرحلة الثانو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0" b="100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56000" y="125280"/>
            <a:ext cx="2521080" cy="2205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348000" y="4292640"/>
            <a:ext cx="2521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17546" r="0" b="0"/>
          <a:stretch/>
        </p:blipFill>
        <p:spPr>
          <a:xfrm>
            <a:off x="465120" y="3500280"/>
            <a:ext cx="867888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364" t="26348" r="10369" b="10439"/>
          <a:stretch/>
        </p:blipFill>
        <p:spPr>
          <a:xfrm>
            <a:off x="755640" y="260280"/>
            <a:ext cx="7488360" cy="86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28576" t="0" r="23750" b="0"/>
          <a:stretch/>
        </p:blipFill>
        <p:spPr>
          <a:xfrm>
            <a:off x="4067280" y="1125360"/>
            <a:ext cx="1081080" cy="213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284720" y="3213000"/>
            <a:ext cx="6285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06064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تضُرب الدرجة التي حصلت عليها الطالبة لكل مادة في عدد الحصص المخصصة للمادة ( فيكون الناتج الدرجة الموزونة للماد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213000"/>
            <a:ext cx="842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تُجمع نواتج الضرب لجميع المواد الدراسي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يُجمع عدد الحصص الأسبوعي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 يُقسم المجموع الكلي للدرجات الموزونة لجميع المواد على مجموع عدد الحصص الأسبوعية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549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ساب المعدل في الصف الثاني 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102520" y="981000"/>
            <a:ext cx="5716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8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2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5640" y="549360"/>
            <a:ext cx="79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ساب المعدل في الصف الثالث 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133720"/>
            <a:ext cx="88930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ضُرب الدرجة التي حصلت عليها الطالبة لكل مادة في عدد الحصص المخصصة للمادة ( فيكون الناتج الدرجة الموزونة للماد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تُجمع نواتج الضرب لجميع المواد الدراس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يُجمع عدد الحصص الأسبو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يُقسم المجموع الكلي للدرجات الموزونة لجميع المواد على مجموع عدد الحصص الأسبوع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0920" y="1339920"/>
            <a:ext cx="11523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8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32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32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2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5640" y="549360"/>
            <a:ext cx="792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ساب المعدل للصفين الثاني والثالث 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557360"/>
            <a:ext cx="66978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ُحسب ن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رموز الرياضيات العربية"/>
              </a:rPr>
              <a:t>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من معدل الصف الثاني ثانو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ُحسب ن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٪ من معدل الصف الثالث ثانو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ُجمع النسبتان وتُرب الكسور إلى أقرب منزلتي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144000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4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8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4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693280" y="527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93280" y="527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77080" y="1197000"/>
            <a:ext cx="20509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ثا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ع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س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عد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484280"/>
            <a:ext cx="2050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للص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ثا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عل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700360" y="549360"/>
          <a:ext cx="4232160" cy="5548320"/>
        </p:xfrm>
        <a:graphic>
          <a:graphicData uri="http://schemas.openxmlformats.org/drawingml/2006/table">
            <a:tbl>
              <a:tblPr/>
              <a:tblGrid>
                <a:gridCol w="900000"/>
                <a:gridCol w="1009800"/>
                <a:gridCol w="1211040"/>
                <a:gridCol w="11113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الموزو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عدد الحصص الأسبو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المستح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ا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ران الكر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ق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ي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د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ح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إنش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ز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ح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كيم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رياض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اسب الآ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واد العم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Simplified Arabic"/>
                        </a:rPr>
                        <a:t>المواظب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سلو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19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8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عد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693280" y="527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93280" y="527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7639200" y="0"/>
            <a:ext cx="6458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77080" y="1197000"/>
            <a:ext cx="20509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مثا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على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س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عدل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341360"/>
            <a:ext cx="2050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للص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ثال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عل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00360" y="1052640"/>
          <a:ext cx="4232160" cy="4910040"/>
        </p:xfrm>
        <a:graphic>
          <a:graphicData uri="http://schemas.openxmlformats.org/drawingml/2006/table">
            <a:tbl>
              <a:tblPr/>
              <a:tblGrid>
                <a:gridCol w="900000"/>
                <a:gridCol w="1009800"/>
                <a:gridCol w="1211040"/>
                <a:gridCol w="11113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الموزو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عدد الحصص الأسبو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المستح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ا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ران الكر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فق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دي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د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ح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قيز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أح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كيمي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رياض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حاسب الآ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سلو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واظب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32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97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عد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869328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93280" y="5002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9"/>
          <a:stretch/>
        </p:blipFill>
        <p:spPr>
          <a:xfrm>
            <a:off x="1116000" y="404640"/>
            <a:ext cx="596880" cy="59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0"/>
          <a:stretch/>
        </p:blipFill>
        <p:spPr>
          <a:xfrm>
            <a:off x="7885080" y="333360"/>
            <a:ext cx="5968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16000" y="404640"/>
            <a:ext cx="72230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ويحسب المعدل العام التراكمي للصفي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ثاني والثالث الثانو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2060640"/>
            <a:ext cx="8425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معدل الطالبة في شهادة الثانوية العامة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عدل الطالبة في الصف الثاني ثانوي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8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عدل الطالبة في الصف الثالث ثانوي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7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ُحسب نسب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رموز الرياضيات العربية"/>
              </a:rPr>
              <a:t>٪ من معدل الصف الثاني الثانوي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8.6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ُحسب نسب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٪ من معدل الصف الثالث الثانوي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7.8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عدل الطالبة في شهادة الثانوية العامة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.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.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3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137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6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36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32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56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3296" t="6995" r="6894" b="12092"/>
          <a:stretch/>
        </p:blipFill>
        <p:spPr>
          <a:xfrm>
            <a:off x="324000" y="1052640"/>
            <a:ext cx="8137440" cy="3767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3716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5:09:16Z</dcterms:created>
  <dc:creator>Unknown User</dc:creator>
  <dc:description/>
  <dc:language>en-US</dc:language>
  <cp:lastModifiedBy>Unknown User</cp:lastModifiedBy>
  <dcterms:modified xsi:type="dcterms:W3CDTF">2008-12-22T14:40:04Z</dcterms:modified>
  <cp:revision>9</cp:revision>
  <dc:subject/>
  <dc:title>الشريحة 1</dc:title>
</cp:coreProperties>
</file>