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chimes.wav" ContentType="audio/x-wav"/>
  <Override PartName="/ppt/media/image16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gif" ContentType="image/gif"/>
  <Override PartName="/ppt/media/image5.jpeg" ContentType="image/jpeg"/>
  <Override PartName="/ppt/media/image26.jpeg" ContentType="image/jpeg"/>
  <Override PartName="/ppt/media/image9.jpeg" ContentType="image/jpeg"/>
  <Override PartName="/ppt/media/image11.png" ContentType="image/png"/>
  <Override PartName="/ppt/media/camera.wav" ContentType="audio/x-wav"/>
  <Override PartName="/ppt/media/image2.jpeg" ContentType="image/jpeg"/>
  <Override PartName="/ppt/media/image23.jpeg" ContentType="image/jpeg"/>
  <Override PartName="/ppt/media/image12.png" ContentType="image/png"/>
  <Override PartName="/ppt/media/image1.gif" ContentType="image/gif"/>
  <Override PartName="/ppt/media/image32.jpeg" ContentType="image/jpeg"/>
  <Override PartName="/ppt/media/image24.gif" ContentType="image/gif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FA0-6BEA-4AB4-BCC5-B84426BB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105-EA37-4F39-BA1D-35C6CC2A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8B7-B08E-4050-A9F6-3F9B04CA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96E-DDFE-4A70-AC94-52260287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022-57E1-48A9-9A73-AD9892E8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BCB-23DA-4231-A874-9DF28284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9A5-ACFC-495B-A200-031087E2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31E-599B-4268-8639-0B7D8814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F18-782F-4A5D-ABCC-795B64C0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317-62FB-409A-9D25-ED340B2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43D-677A-476E-AEFB-E8F4C4FB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0B7-DE68-4240-B035-BC97DD42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FAE4-7E6F-4C33-A2C5-1C623A560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2709720"/>
            <a:ext cx="1508040" cy="1871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1280" y="476280"/>
            <a:ext cx="2060640" cy="2084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64000" y="638640"/>
            <a:ext cx="518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103487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طرق استخدام الدواء والمضادات الحيوية :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عن طريق الفم :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 تكون صلبة على شكل أقراص أو سائلة للشر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1" lang="ar-SA" sz="3200" spc="-1" strike="noStrike">
                <a:solidFill>
                  <a:srgbClr val="eb5b99"/>
                </a:solidFill>
                <a:latin typeface="Arial"/>
              </a:rPr>
              <a:t>عن طريق الحق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ن طريق الاستعمال الخارجي للجلد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( مرهم 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عن طريق استعمالات موضعية خاص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ل قطرات أو دهون للعين و الأذن والأنف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157480" y="1197000"/>
            <a:ext cx="1046160" cy="150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50920" y="4869000"/>
            <a:ext cx="1728720" cy="1585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6" name="camera.wav"/>
      </p:stSnd>
    </p:sndAc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8" name="computr2"/>
          <p:cNvSpPr/>
          <p:nvPr/>
        </p:nvSpPr>
        <p:spPr>
          <a:xfrm>
            <a:off x="-109440" y="3573360"/>
            <a:ext cx="3889440" cy="316872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c0c0c0"/>
              </a:gs>
              <a:gs pos="100000">
                <a:srgbClr val="3366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71640" y="3822840"/>
            <a:ext cx="1728720" cy="125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419640" y="189000"/>
            <a:ext cx="5400360" cy="4032000"/>
          </a:xfrm>
          <a:prstGeom prst="wedgeRoundRectCallout">
            <a:avLst>
              <a:gd name="adj1" fmla="val -63754"/>
              <a:gd name="adj2" fmla="val 51337"/>
              <a:gd name="adj3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-426600"/>
            <a:ext cx="496728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Arial"/>
                <a:cs typeface="Akhbar MT"/>
              </a:rPr>
              <a:t>بعض الأخطاء عند استخدام الأدوية والمضادات الحيوية :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- اخذ الدواء دون استشارة الطبي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- تحديد كمية الجرعة دون استشارة الطب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- إيقاف العلاج قبل انتهاء المدة المخصص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- عدم حفظ الأدوية في الأماكن المخصص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3" name="camera.wav"/>
      </p:stSnd>
    </p:sndAc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1403280" y="260280"/>
            <a:ext cx="3456000" cy="6048360"/>
          </a:xfrm>
          <a:prstGeom prst="cube">
            <a:avLst>
              <a:gd name="adj" fmla="val 15115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324036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36720" y="-383040"/>
            <a:ext cx="287964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Arial"/>
                <a:cs typeface="Akhbar MT"/>
              </a:rPr>
              <a:t>شروط يجب اتباعها عند استخدام الدواء :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ستشارة الطبي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تقيد بالعلاج حتى انتهائ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حفظ الجيد للدواء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487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ملاحظة صلاحية الدواء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236000" y="1557360"/>
            <a:ext cx="1485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ضغط هن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diamond/>
    <p:sndAc>
      <p:stSnd>
        <p:snd r:embed="rId3" name="camera.wav"/>
      </p:stSnd>
    </p:sndAc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476280"/>
            <a:ext cx="7920000" cy="27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108080"/>
            <a:ext cx="7129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a50021"/>
                </a:solidFill>
                <a:uFillTx/>
                <a:latin typeface="Arial"/>
              </a:rPr>
              <a:t>صوتي للعبارات التالية  اذا كانت صحيحة بالبطاقة الخضراء وإذا كانت خاطئة بالبطاقة الحمرا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ـ تعد السوائل المفرزة من الجسم من مسببات الامرا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ـ يعد فلمنج من المضادات الحيوية الفعا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116000" y="3186000"/>
            <a:ext cx="65516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53"/>
                    </a:gs>
                    <a:gs pos="100000">
                      <a:srgbClr val="fefcae"/>
                    </a:gs>
                  </a:gsLst>
                  <a:lin ang="5400000"/>
                </a:gradFill>
                <a:latin typeface="DecoType Naskh Variants"/>
              </a:rPr>
              <a:t>اعداد المعلمة : مقبله الثعلب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53"/>
                  </a:gs>
                  <a:gs pos="100000">
                    <a:srgbClr val="fefcae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311720" cy="583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48040" y="260280"/>
            <a:ext cx="4216680" cy="5905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547640" y="549360"/>
            <a:ext cx="5904000" cy="19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DecoType Naskh Special"/>
              </a:rPr>
              <a:t>الصحة والمرض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DecoType Naskh Special"/>
              <a:ea typeface="DecoType Naskh Special"/>
            </a:endParaRPr>
          </a:p>
        </p:txBody>
      </p:sp>
    </p:spTree>
  </p:cSld>
  <p:transition spd="slow">
    <p:diamond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10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08360" y="1125360"/>
            <a:ext cx="50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a50021"/>
                </a:solidFill>
                <a:latin typeface="Arial"/>
                <a:cs typeface="DecoType Naskh"/>
              </a:rPr>
              <a:t>الصحة العام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DecoType Naskh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DecoType Naskh"/>
              </a:rPr>
              <a:t>هي علم وفن الوقاية من المرض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0000"/>
                </a:solidFill>
                <a:latin typeface="Arial"/>
                <a:cs typeface="DecoType Naskh"/>
              </a:rPr>
              <a:t>المرض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DecoType Naskh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DecoType Naskh"/>
              </a:rPr>
              <a:t>أي خلل وظيفي في المخلوق الحي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62556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amera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8000" y="260280"/>
            <a:ext cx="7236000" cy="75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00"/>
                </a:solidFill>
                <a:latin typeface="Arial"/>
                <a:cs typeface="DecoType Naskh"/>
              </a:rPr>
              <a:t>مسببات المرض 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ecoType Naskh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DecoType Naskh"/>
              </a:rPr>
              <a:t>دخول المخلوقات الحية الدقيقة البكتيريا ـ الفيروس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DecoType Naskh"/>
              </a:rPr>
              <a:t>سوء التغذي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DecoType Naskh"/>
              </a:rPr>
              <a:t>اختلال في إفراز الغدد الصماء ( النخامية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DecoType Naskh"/>
              </a:rPr>
              <a:t>اختلال في وظائف الأعضاء ( القلب )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36360" y="-243000"/>
            <a:ext cx="2159280" cy="7640640"/>
            <a:chOff x="-36360" y="-243000"/>
            <a:chExt cx="2159280" cy="7640640"/>
          </a:xfrm>
        </p:grpSpPr>
        <p:grpSp>
          <p:nvGrpSpPr>
            <p:cNvPr id="49" name=""/>
            <p:cNvGrpSpPr/>
            <p:nvPr/>
          </p:nvGrpSpPr>
          <p:grpSpPr>
            <a:xfrm>
              <a:off x="-36360" y="-243000"/>
              <a:ext cx="2159280" cy="7640640"/>
              <a:chOff x="-36360" y="-243000"/>
              <a:chExt cx="2159280" cy="76406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-36360" y="-243000"/>
                <a:ext cx="2159280" cy="7640640"/>
                <a:chOff x="-36360" y="-243000"/>
                <a:chExt cx="2159280" cy="7640640"/>
              </a:xfrm>
            </p:grpSpPr>
            <p:sp>
              <p:nvSpPr>
                <p:cNvPr id="51" name="Film"/>
                <p:cNvSpPr/>
                <p:nvPr/>
              </p:nvSpPr>
              <p:spPr>
                <a:xfrm>
                  <a:off x="-36360" y="-243000"/>
                  <a:ext cx="2159280" cy="3824280"/>
                </a:xfrm>
                <a:prstGeom prst="pie">
                  <a:avLst/>
                </a:prstGeom>
                <a:solidFill>
                  <a:srgbClr val="00000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ilm"/>
                <p:cNvSpPr/>
                <p:nvPr/>
              </p:nvSpPr>
              <p:spPr>
                <a:xfrm>
                  <a:off x="-36360" y="3573360"/>
                  <a:ext cx="2159280" cy="3824280"/>
                </a:xfrm>
                <a:prstGeom prst="pie">
                  <a:avLst/>
                </a:prstGeom>
                <a:solidFill>
                  <a:srgbClr val="00000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0280" y="3645000"/>
                <a:ext cx="137520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280" y="4941720"/>
                <a:ext cx="137124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280" y="1125360"/>
                <a:ext cx="137520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350280" y="-243000"/>
                <a:ext cx="1375200" cy="1224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" descr=""/>
              <p:cNvPicPr/>
              <p:nvPr/>
            </p:nvPicPr>
            <p:blipFill>
              <a:blip r:embed="rId5"/>
              <a:srcRect l="18500" t="64903" r="13228" b="0"/>
              <a:stretch/>
            </p:blipFill>
            <p:spPr>
              <a:xfrm>
                <a:off x="350280" y="2421000"/>
                <a:ext cx="1375200" cy="10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62800" y="3573360"/>
                <a:ext cx="14623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50280" y="6165720"/>
              <a:ext cx="1375560" cy="107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280" y="-98280"/>
              <a:ext cx="137556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  <p:sndAc>
      <p:stSnd>
        <p:snd r:embed="rId6" name="camera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993"/>
            </a:gs>
            <a:gs pos="50000">
              <a:srgbClr val="ffffff"/>
            </a:gs>
            <a:gs pos="100000">
              <a:srgbClr val="ffc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8000" y="476280"/>
            <a:ext cx="7128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0000"/>
                </a:solidFill>
                <a:latin typeface="Arial"/>
              </a:rPr>
              <a:t>آليات ( وسائل ) الدفاع عن الجسم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ff"/>
                </a:solidFill>
                <a:latin typeface="Arial"/>
              </a:rPr>
              <a:t>الجلد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خط الدفاع الأو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حيث تمنع الأغشية الطلائية المتماسكة من دخول مسببات المرض إلى الجس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ff"/>
                </a:solidFill>
                <a:latin typeface="Arial"/>
              </a:rPr>
              <a:t>السوائل المفرز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يمنع السائل المخاطي المفرز من الأغشية المخاطية للجهازين الهضمي والتنفسي من توغل مسببات المرض داخل الجس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ff"/>
                </a:solidFill>
                <a:latin typeface="Arial"/>
              </a:rPr>
              <a:t>خلايا الدم البيضاء اللمف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تهاجم مسببات المرض وتتخلص من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ff"/>
                </a:solidFill>
                <a:latin typeface="Arial"/>
              </a:rPr>
              <a:t>الأجسام المضا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مواد بروتينية تنتج عند دخول أي مخلوق غريب إلى الجس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5420" r="79212" b="33908"/>
          <a:stretch/>
        </p:blipFill>
        <p:spPr>
          <a:xfrm>
            <a:off x="324000" y="549360"/>
            <a:ext cx="1726920" cy="151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1655640" cy="142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0" t="4554" r="0" b="14959"/>
          <a:stretch/>
        </p:blipFill>
        <p:spPr>
          <a:xfrm>
            <a:off x="324000" y="3645000"/>
            <a:ext cx="180000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0" t="14477" r="0" b="0"/>
          <a:stretch/>
        </p:blipFill>
        <p:spPr>
          <a:xfrm>
            <a:off x="250920" y="5145120"/>
            <a:ext cx="1944720" cy="1596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19280" y="260280"/>
            <a:ext cx="6985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Akhbar MT"/>
              </a:rPr>
              <a:t>طرق دخول الفيروسات والبكتيريا الممرضة إلى أجسامنا ، تتدخل عن طريق : ـ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أنف أو الفم بواسطة الهواء فتصيب الجهاز التنفسي ( مرض الأنفلونزا 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فم بواسطة الطعام فتصيب الجهاز الهضم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جلد بواسطة الجروح أو لدغات كالبعوض أو العض الك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أجهزة التناسلية مثل الإيدز و الزهر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14173" r="56506" b="0"/>
          <a:stretch/>
        </p:blipFill>
        <p:spPr>
          <a:xfrm>
            <a:off x="108000" y="907920"/>
            <a:ext cx="1657440" cy="2616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948360" y="5205240"/>
            <a:ext cx="1798920" cy="1652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rcRect l="7344" t="25070" r="15780" b="0"/>
          <a:stretch/>
        </p:blipFill>
        <p:spPr>
          <a:xfrm>
            <a:off x="73080" y="3860640"/>
            <a:ext cx="1834920" cy="1659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camera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79640" y="333360"/>
            <a:ext cx="662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Arial"/>
              </a:rPr>
              <a:t>طرق إلحاق البكتيريا والفيروسات ضرراً بخلايا الجسم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كوين السمو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إتلاف خلايا الجسم ( تحطيمها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Arial"/>
              </a:rPr>
              <a:t>فترة الحضان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هي الفترة التي تنقضي منذ دخول البكتيريا أو الفيروس  المسببة للمرض حتى تظهر أعراض المرض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2305080" cy="2592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29896" t="19975" r="32996" b="17274"/>
          <a:stretch/>
        </p:blipFill>
        <p:spPr>
          <a:xfrm>
            <a:off x="6012000" y="501336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71640" y="4941720"/>
            <a:ext cx="1904760" cy="152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59280" y="5445000"/>
            <a:ext cx="2520720" cy="648000"/>
          </a:xfrm>
          <a:prstGeom prst="leftArrow">
            <a:avLst>
              <a:gd name="adj1" fmla="val 50000"/>
              <a:gd name="adj2" fmla="val 9725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00360" y="0"/>
            <a:ext cx="6443640" cy="414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089080" cy="5157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404640"/>
            <a:ext cx="7775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Arial"/>
              </a:rPr>
              <a:t>العدوى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هي انتقال مسبب المرض من شخص مصاب إلى شخص سليم بطريقة مباشرة أو غير مباش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300720" y="4230720"/>
            <a:ext cx="2843280" cy="2519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 rot="18041400">
            <a:off x="6022800" y="3849120"/>
            <a:ext cx="127476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  <p:sndAc>
      <p:stSnd>
        <p:snd r:embed="rId5" name="chimes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2222E-006 L -0.5276 -0.17847 E">
                                      <p:cBhvr>
                                        <p:cTn id="33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4005360"/>
            <a:ext cx="8157960" cy="2808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108000" y="2160"/>
            <a:ext cx="9191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487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لأدوية و المضادات الحيوي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487400"/>
              </a:tabLst>
            </a:pPr>
            <a:r>
              <a:rPr b="1" lang="ar-SA" sz="2800" spc="-1" strike="noStrike">
                <a:solidFill>
                  <a:srgbClr val="eb5b99"/>
                </a:solidFill>
                <a:latin typeface="Times New Roman"/>
                <a:cs typeface="Times New Roman"/>
              </a:rPr>
              <a:t>الدواء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487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بارة عن مادة أو اكثر لها تأثير على الأعضاء لعلاج المرض أو تخفيف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487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المضاد الحيو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487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بارة عن مواد كيميائية تستخرج من المخلوق الحي لها القدرة على إعاقة نمو بعض المخلوقات الدقيقة الممرض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487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ـ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ل مكتشف في عام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 العال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فليمن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487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مثلة على المضادات الحيو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487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نسلين ـ الستربتوميسين و التيراميسيم و أكرومايس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2" name="camera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8:57:15Z</dcterms:created>
  <dc:creator>user</dc:creator>
  <dc:description/>
  <dc:language>en-US</dc:language>
  <cp:lastModifiedBy>User</cp:lastModifiedBy>
  <dcterms:modified xsi:type="dcterms:W3CDTF">2008-12-27T10:13:33Z</dcterms:modified>
  <cp:revision>29</cp:revision>
  <dc:subject/>
  <dc:title>الشريحة 1</dc:title>
</cp:coreProperties>
</file>