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D251-E77E-4F18-9585-86B033C0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3DEA-6013-4BFB-B10D-76DBEFB5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4D9C-66AF-4BB4-B280-D72BF333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8FEE-1190-42F3-870E-76CD5C91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A29-FA0E-42A5-91BC-395CBABE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10B-67B8-4556-9F5F-08E49239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4881-8CFA-4568-AF76-1C5671CA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FE52-BD9E-4A42-A199-9A945B89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4D0-8EE5-48FD-BFEE-BA1E46A5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84DA-4E5B-46C2-848A-3217EA80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8436-4B6F-4DFD-80B4-068CEC69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1EEA-65AA-4910-B3DA-6037B477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2CA4-4096-4C7B-BC75-077E8C17F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esenthisword.com/wrong.gif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esenthisword.com/wrong.gif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376360" cy="1190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067280" y="404640"/>
            <a:ext cx="949320" cy="1152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51640" y="333360"/>
            <a:ext cx="316836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مملكةُ العربيَّةُ السُّعودية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وزارةُ التَّربيةِ والتَّعليم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333360"/>
            <a:ext cx="316836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إدارةُ التَّربيةِ والتعليمِ بمحافظةِ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توسطةُ 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2852640"/>
            <a:ext cx="3671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لتَّوابع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- الصِّفةُ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- التَّوكيد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- البدل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- العطف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3502080"/>
            <a:ext cx="460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660066"/>
                </a:solidFill>
                <a:latin typeface="Arial"/>
                <a:ea typeface="SKR HEAD1"/>
              </a:rPr>
              <a:t>2</a:t>
            </a:r>
            <a:r>
              <a:rPr b="0" lang="en-US" sz="9000" spc="-1" strike="noStrike">
                <a:solidFill>
                  <a:srgbClr val="660066"/>
                </a:solidFill>
                <a:latin typeface="Arial"/>
                <a:ea typeface="SKR HEAD1"/>
              </a:rPr>
              <a:t>- التَّوكيدُ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5587920"/>
            <a:ext cx="208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6600"/>
                </a:solidFill>
                <a:latin typeface="Arial"/>
                <a:cs typeface="SKR HEAD1"/>
              </a:rPr>
              <a:t>ص </a:t>
            </a:r>
            <a:r>
              <a:rPr b="0" lang="en-US" sz="5400" spc="-1" strike="noStrike">
                <a:solidFill>
                  <a:srgbClr val="006600"/>
                </a:solidFill>
                <a:latin typeface="Arial"/>
                <a:ea typeface="SKR HEAD1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33"/>
                </a:solidFill>
                <a:latin typeface="Arial"/>
                <a:cs typeface="SKR HEAD1"/>
              </a:rPr>
              <a:t>التَّوْكيدُ: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ar-SA" sz="4000" spc="-1" strike="noStrike">
                <a:solidFill>
                  <a:srgbClr val="008000"/>
                </a:solidFill>
                <a:latin typeface="Arial"/>
                <a:cs typeface="SKR HEAD1"/>
              </a:rPr>
              <a:t>لفظٌ تابعٌ يُقصَدُ بِهِ تثبيتُ مَعْنًى في نفسِ السَّامعِ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9120" y="178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Arial"/>
                <a:cs typeface="SKR HEAD1"/>
              </a:rPr>
              <a:t>التَّوْكيدُ  نوع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651640" y="2275920"/>
            <a:ext cx="1368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2708280"/>
            <a:ext cx="4105080" cy="2881440"/>
          </a:xfrm>
          <a:prstGeom prst="rect">
            <a:avLst/>
          </a:prstGeom>
          <a:solidFill>
            <a:srgbClr val="f2f4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708280"/>
            <a:ext cx="4176720" cy="2881440"/>
          </a:xfrm>
          <a:prstGeom prst="rect">
            <a:avLst/>
          </a:prstGeom>
          <a:solidFill>
            <a:srgbClr val="f2f4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2779560"/>
            <a:ext cx="1944720" cy="576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توكيدٌ لفظيّ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242100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2851200"/>
            <a:ext cx="432000" cy="43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193840" y="2275920"/>
            <a:ext cx="1368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2779560"/>
            <a:ext cx="1944720" cy="576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توكيدٌ معنويّ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3440" y="2851200"/>
            <a:ext cx="431640" cy="43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242100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2360" y="1268280"/>
            <a:ext cx="71928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تاب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1268280"/>
            <a:ext cx="381816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يتبع ماقبله في الإعراب كما عرفنا في موضوع الصف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3421400">
            <a:off x="5651280" y="1088640"/>
            <a:ext cx="222120" cy="468360"/>
          </a:xfrm>
          <a:prstGeom prst="upArrow">
            <a:avLst>
              <a:gd name="adj1" fmla="val 50000"/>
              <a:gd name="adj2" fmla="val 52715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3429000"/>
            <a:ext cx="3960720" cy="863640"/>
          </a:xfrm>
          <a:prstGeom prst="rect">
            <a:avLst/>
          </a:prstGeom>
          <a:solidFill>
            <a:srgbClr val="d3ebed"/>
          </a:solidFill>
          <a:ln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طريقتُهُ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تكرارُ المؤكَّد بلفظه، سواءٌ أكانَ جملة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أم اسمًا أم فعلا أم حرفً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3429000"/>
            <a:ext cx="4032000" cy="861840"/>
          </a:xfrm>
          <a:prstGeom prst="rect">
            <a:avLst/>
          </a:prstGeom>
          <a:solidFill>
            <a:srgbClr val="d3ebed"/>
          </a:solidFill>
          <a:ln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طريقته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يكونُ بأحدِ ألفاظِ التوكيدِ التاليةِ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( </a:t>
            </a:r>
            <a:r>
              <a:rPr b="0" lang="hi-IN" sz="2400" spc="-1" strike="noStrike">
                <a:solidFill>
                  <a:srgbClr val="660033"/>
                </a:solidFill>
                <a:latin typeface="Arial"/>
                <a:cs typeface="SKR HEAD1"/>
              </a:rPr>
              <a:t>نَفْس ، عَيْ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، </a:t>
            </a:r>
            <a:r>
              <a:rPr b="0" lang="hi-IN" sz="2400" spc="-1" strike="noStrike">
                <a:solidFill>
                  <a:srgbClr val="cc0099"/>
                </a:solidFill>
                <a:latin typeface="Arial"/>
                <a:cs typeface="SKR HEAD1"/>
              </a:rPr>
              <a:t>كُلّ ، جمي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، كلا، كلتا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4653000"/>
            <a:ext cx="388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8000"/>
                </a:solidFill>
                <a:latin typeface="Arial"/>
                <a:cs typeface="SKR HEAD1"/>
              </a:rPr>
              <a:t>الصلاةُ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ar-SA" sz="2400" spc="-1" strike="noStrike">
                <a:solidFill>
                  <a:srgbClr val="333399"/>
                </a:solidFill>
                <a:latin typeface="Arial"/>
                <a:cs typeface="SKR HEAD1"/>
              </a:rPr>
              <a:t>الصلاةُ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ياشباب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6720" y="4653000"/>
            <a:ext cx="388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قدمَ </a:t>
            </a:r>
            <a:r>
              <a:rPr b="0" lang="hi-IN" sz="2400" spc="-1" strike="noStrike">
                <a:solidFill>
                  <a:srgbClr val="008000"/>
                </a:solidFill>
                <a:latin typeface="Arial"/>
                <a:cs typeface="SKR HEAD1"/>
              </a:rPr>
              <a:t>المدير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نفسُ</a:t>
            </a: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88000" y="1916280"/>
            <a:ext cx="4033800" cy="4679640"/>
          </a:xfrm>
          <a:prstGeom prst="rect">
            <a:avLst/>
          </a:prstGeom>
          <a:solidFill>
            <a:srgbClr val="f2f4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64000" y="404640"/>
            <a:ext cx="1944720" cy="576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توكيدٌ لفظيّ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5440" y="476280"/>
            <a:ext cx="431640" cy="43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32360" y="2781360"/>
            <a:ext cx="3745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8000"/>
                </a:solidFill>
                <a:latin typeface="Arial"/>
                <a:cs typeface="SKR HEAD1"/>
              </a:rPr>
              <a:t>الصلاةُ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ar-SA" sz="2400" spc="-1" strike="noStrike">
                <a:solidFill>
                  <a:srgbClr val="333399"/>
                </a:solidFill>
                <a:latin typeface="Arial"/>
                <a:cs typeface="SKR HEAD1"/>
              </a:rPr>
              <a:t>الصلاةُ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ياشباب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32360" y="4726080"/>
            <a:ext cx="3745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8000"/>
                </a:solidFill>
                <a:latin typeface="Arial"/>
                <a:cs typeface="SKR HEAD1"/>
              </a:rPr>
              <a:t>أنتَ ناجح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، </a:t>
            </a: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أنتَ ناجح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32360" y="3429000"/>
            <a:ext cx="3745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8000"/>
                </a:solidFill>
                <a:latin typeface="Arial"/>
                <a:cs typeface="SKR HEAD1"/>
              </a:rPr>
              <a:t>اجلسْ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، </a:t>
            </a:r>
            <a:r>
              <a:rPr b="0" lang="ar-SA" sz="2400" spc="-1" strike="noStrike">
                <a:solidFill>
                  <a:srgbClr val="333399"/>
                </a:solidFill>
                <a:latin typeface="Arial"/>
                <a:cs typeface="SKR HEAD1"/>
              </a:rPr>
              <a:t>اجلسْ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مكان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32360" y="4078440"/>
            <a:ext cx="3745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8000"/>
                </a:solidFill>
                <a:latin typeface="Arial"/>
                <a:cs typeface="SKR HEAD1"/>
              </a:rPr>
              <a:t>لا </a:t>
            </a:r>
            <a:r>
              <a:rPr b="0" lang="ar-SA" sz="2400" spc="-1" strike="noStrike">
                <a:solidFill>
                  <a:srgbClr val="333399"/>
                </a:solidFill>
                <a:latin typeface="Arial"/>
                <a:cs typeface="SKR HEAD1"/>
              </a:rPr>
              <a:t>ل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للمخدر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052640"/>
            <a:ext cx="8137800" cy="720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طريقتُهُ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تكرارُ المؤكَّد بلفظه، سواءٌ أكانَ اسمًا أم فعلا أم حرفًا أم جملة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00720" y="206064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أمثلة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40720" y="4797360"/>
            <a:ext cx="863640" cy="432000"/>
          </a:xfrm>
          <a:prstGeom prst="rect">
            <a:avLst/>
          </a:prstGeom>
          <a:noFill/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4000" y="4797360"/>
            <a:ext cx="863640" cy="432000"/>
          </a:xfrm>
          <a:prstGeom prst="rect">
            <a:avLst/>
          </a:prstGeom>
          <a:noFill/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56720" y="2852640"/>
            <a:ext cx="576000" cy="432000"/>
          </a:xfrm>
          <a:prstGeom prst="rect">
            <a:avLst/>
          </a:prstGeom>
          <a:noFill/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08720" y="2852640"/>
            <a:ext cx="648000" cy="432000"/>
          </a:xfrm>
          <a:prstGeom prst="rect">
            <a:avLst/>
          </a:prstGeom>
          <a:noFill/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28000" y="3500280"/>
            <a:ext cx="576360" cy="432000"/>
          </a:xfrm>
          <a:prstGeom prst="rect">
            <a:avLst/>
          </a:prstGeom>
          <a:noFill/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80360" y="3500280"/>
            <a:ext cx="576360" cy="432000"/>
          </a:xfrm>
          <a:prstGeom prst="rect">
            <a:avLst/>
          </a:prstGeom>
          <a:noFill/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8360" y="4149720"/>
            <a:ext cx="216000" cy="431640"/>
          </a:xfrm>
          <a:prstGeom prst="rect">
            <a:avLst/>
          </a:prstGeom>
          <a:noFill/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172360" y="4149720"/>
            <a:ext cx="216000" cy="431640"/>
          </a:xfrm>
          <a:prstGeom prst="rect">
            <a:avLst/>
          </a:prstGeom>
          <a:noFill/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6720" y="4940280"/>
            <a:ext cx="100800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أكدنا جملة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75280" y="2924280"/>
            <a:ext cx="100800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أكدنا اسمً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76720" y="3571920"/>
            <a:ext cx="100800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أكدنا فعل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4221000"/>
            <a:ext cx="100800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أكدنا حرفًً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84720" y="501336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83280" y="299556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364500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84720" y="429408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3645000"/>
            <a:ext cx="388764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8000"/>
                </a:solidFill>
                <a:latin typeface="Arial"/>
                <a:cs typeface="SKR HEAD1"/>
              </a:rPr>
              <a:t>الصلاةُ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</a:t>
            </a:r>
            <a:r>
              <a:rPr b="0" lang="ar-SA" sz="2400" spc="-1" strike="noStrike">
                <a:solidFill>
                  <a:srgbClr val="333399"/>
                </a:solidFill>
                <a:latin typeface="Arial"/>
                <a:cs typeface="SKR HEAD1"/>
              </a:rPr>
              <a:t>الصلاةُ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ياشباب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2997360"/>
            <a:ext cx="122400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التَّوكيدُ اللفظيّ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87640" y="2997360"/>
            <a:ext cx="93672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المؤكَّد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2565360"/>
            <a:ext cx="1224000" cy="43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المؤكِّدُ اللفظيّ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3645000"/>
            <a:ext cx="388764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8000"/>
                </a:solidFill>
                <a:latin typeface="Arial"/>
                <a:ea typeface="SKR HEAD1"/>
              </a:rPr>
              <a:t>                  اجلسْ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،         </a:t>
            </a:r>
            <a:r>
              <a:rPr b="0" lang="ar-SA" sz="2400" spc="-1" strike="noStrike">
                <a:solidFill>
                  <a:srgbClr val="333399"/>
                </a:solidFill>
                <a:latin typeface="Arial"/>
                <a:cs typeface="SKR HEAD1"/>
              </a:rPr>
              <a:t>اجلسْ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مكان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7080" y="342900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342900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916280"/>
            <a:ext cx="4033800" cy="4679640"/>
          </a:xfrm>
          <a:prstGeom prst="rect">
            <a:avLst/>
          </a:prstGeom>
          <a:solidFill>
            <a:srgbClr val="f2f4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916280"/>
            <a:ext cx="4392360" cy="64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  <a:cs typeface="SKR HEAD1"/>
              </a:rPr>
              <a:t>بما أنَّ التَّوكيدَ مِنَ التَّوابعِ فهوَ يتبعُ ماقبلَه في الإعراب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3429000"/>
            <a:ext cx="3744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8000"/>
                </a:solidFill>
                <a:latin typeface="Arial"/>
                <a:cs typeface="SKR HEAD1"/>
              </a:rPr>
              <a:t>الصلاةُ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ar-SA" sz="2400" spc="-1" strike="noStrike">
                <a:solidFill>
                  <a:srgbClr val="333399"/>
                </a:solidFill>
                <a:latin typeface="Arial"/>
                <a:cs typeface="SKR HEAD1"/>
              </a:rPr>
              <a:t>الصلاةُ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ياشباب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365720"/>
            <a:ext cx="388800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339966"/>
                </a:solidFill>
                <a:latin typeface="Arial"/>
                <a:cs typeface="SKR HEAD1"/>
              </a:rPr>
              <a:t>الصلاةُ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KR HEAD1"/>
              </a:rPr>
              <a:t> مبتدأٌ </a:t>
            </a:r>
            <a:r>
              <a:rPr b="0" lang="hi-IN" sz="2000" spc="-1" strike="noStrike">
                <a:solidFill>
                  <a:srgbClr val="ff0066"/>
                </a:solidFill>
                <a:latin typeface="Arial"/>
                <a:cs typeface="SKR HEAD1"/>
              </a:rPr>
              <a:t>مرفوعٌ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وعلامةُ رفعِهِ الضَّمةُ الظاهرة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على آخرِهِ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5302080"/>
            <a:ext cx="3888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333399"/>
                </a:solidFill>
                <a:latin typeface="Arial"/>
                <a:cs typeface="SKR HEAD1"/>
              </a:rPr>
              <a:t>الصلاةُ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hi-IN" sz="2000" spc="-1" strike="noStrike">
                <a:solidFill>
                  <a:srgbClr val="ff0066"/>
                </a:solidFill>
                <a:latin typeface="Arial"/>
                <a:cs typeface="SKR HEAD1"/>
              </a:rPr>
              <a:t>توكيدٌ لفظيّ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KR HEAD1"/>
              </a:rPr>
              <a:t> لما قبله </a:t>
            </a:r>
            <a:r>
              <a:rPr b="0" lang="hi-IN" sz="2000" spc="-1" strike="noStrike">
                <a:solidFill>
                  <a:srgbClr val="ff0066"/>
                </a:solidFill>
                <a:latin typeface="Arial"/>
                <a:cs typeface="SKR HEAD1"/>
              </a:rPr>
              <a:t>مرفوعٌ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وعلامةُ رفعِه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الضَّمةُ الظاهرةُ  على آخرِهِ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2708280"/>
            <a:ext cx="21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66"/>
                </a:solidFill>
                <a:latin typeface="Arial"/>
                <a:cs typeface="SKR HEAD1"/>
              </a:rPr>
              <a:t>الإعراب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59280" y="5734080"/>
            <a:ext cx="38880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فإذا اردنا أنْ نؤكدَ توكيدًا لفظيًا ماعلينا إلا أنْ نكرر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مانريدُ توكيده بلفظ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1916280"/>
            <a:ext cx="4033800" cy="4679640"/>
          </a:xfrm>
          <a:prstGeom prst="rect">
            <a:avLst/>
          </a:prstGeom>
          <a:solidFill>
            <a:srgbClr val="f2f4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404640"/>
            <a:ext cx="1944720" cy="576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توكيدٌ معنويّ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5440" y="476280"/>
            <a:ext cx="431640" cy="43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00720" y="206064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أمثلة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916280"/>
            <a:ext cx="4033800" cy="4679640"/>
          </a:xfrm>
          <a:prstGeom prst="rect">
            <a:avLst/>
          </a:prstGeom>
          <a:solidFill>
            <a:srgbClr val="f2f4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054080"/>
            <a:ext cx="8351640" cy="862200"/>
          </a:xfrm>
          <a:prstGeom prst="rect">
            <a:avLst/>
          </a:prstGeom>
          <a:solidFill>
            <a:srgbClr val="d3ebed"/>
          </a:solidFill>
          <a:ln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Arial"/>
                <a:cs typeface="SKR HEAD1"/>
              </a:rPr>
              <a:t>طريقته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ar-SA" sz="2400" spc="-1" strike="noStrike">
                <a:solidFill>
                  <a:srgbClr val="333399"/>
                </a:solidFill>
                <a:latin typeface="Arial"/>
                <a:cs typeface="SKR HEAD1"/>
              </a:rPr>
              <a:t>يكونُ بأحدِ ألفاظِ التوكيدِ التاليةِ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( </a:t>
            </a:r>
            <a:r>
              <a:rPr b="0" lang="ar-SA" sz="2400" spc="-1" strike="noStrike">
                <a:solidFill>
                  <a:srgbClr val="660033"/>
                </a:solidFill>
                <a:latin typeface="Arial"/>
                <a:cs typeface="SKR HEAD1"/>
              </a:rPr>
              <a:t>نَفْس ، عَيْ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، </a:t>
            </a:r>
            <a:r>
              <a:rPr b="0" lang="ar-SA" sz="2400" spc="-1" strike="noStrike">
                <a:solidFill>
                  <a:srgbClr val="cc0099"/>
                </a:solidFill>
                <a:latin typeface="Arial"/>
                <a:cs typeface="SKR HEAD1"/>
              </a:rPr>
              <a:t>كُلّ ، جميع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، كلا، كلتا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ويُسترَطُ أنْ يتَّصلَ بها ضميرٌ </a:t>
            </a:r>
            <a:r>
              <a:rPr b="0" lang="ar-SA" sz="2400" spc="-1" strike="noStrike">
                <a:solidFill>
                  <a:srgbClr val="ff0066"/>
                </a:solidFill>
                <a:latin typeface="Arial"/>
                <a:cs typeface="SKR HEAD1"/>
              </a:rPr>
              <a:t>يعودُ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على المؤكَّدِ </a:t>
            </a:r>
            <a:r>
              <a:rPr b="0" lang="ar-SA" sz="2400" spc="-1" strike="noStrike">
                <a:solidFill>
                  <a:srgbClr val="ff0066"/>
                </a:solidFill>
                <a:latin typeface="Arial"/>
                <a:cs typeface="SKR HEAD1"/>
              </a:rPr>
              <a:t>ويناسبُهُ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61080" y="2708280"/>
            <a:ext cx="3887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قدمَ </a:t>
            </a:r>
            <a:r>
              <a:rPr b="0" lang="hi-IN" sz="2400" spc="-1" strike="noStrike">
                <a:solidFill>
                  <a:srgbClr val="008000"/>
                </a:solidFill>
                <a:latin typeface="Arial"/>
                <a:cs typeface="SKR HEAD1"/>
              </a:rPr>
              <a:t>المدير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نفسُ</a:t>
            </a: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59280" y="3429000"/>
            <a:ext cx="388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سلمت على </a:t>
            </a:r>
            <a:r>
              <a:rPr b="0" lang="hi-IN" sz="2400" spc="-1" strike="noStrike">
                <a:solidFill>
                  <a:srgbClr val="006600"/>
                </a:solidFill>
                <a:latin typeface="Arial"/>
                <a:cs typeface="SKR HEAD1"/>
              </a:rPr>
              <a:t>الطلابِ  </a:t>
            </a: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كلِّ</a:t>
            </a:r>
            <a:r>
              <a:rPr b="0" lang="hi-IN" sz="2400" spc="-1" strike="noStrike">
                <a:solidFill>
                  <a:srgbClr val="ff0066"/>
                </a:solidFill>
                <a:latin typeface="Arial"/>
                <a:cs typeface="SKR HEAD1"/>
              </a:rPr>
              <a:t>ه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4148280"/>
            <a:ext cx="3887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نجحَ </a:t>
            </a:r>
            <a:r>
              <a:rPr b="0" lang="hi-IN" sz="2400" spc="-1" strike="noStrike">
                <a:solidFill>
                  <a:srgbClr val="006600"/>
                </a:solidFill>
                <a:latin typeface="Arial"/>
                <a:cs typeface="SKR HEAD1"/>
              </a:rPr>
              <a:t>الطالب</a:t>
            </a:r>
            <a:r>
              <a:rPr b="0" lang="hi-IN" sz="2400" spc="-1" strike="noStrike">
                <a:solidFill>
                  <a:srgbClr val="ff0066"/>
                </a:solidFill>
                <a:latin typeface="Arial"/>
                <a:cs typeface="SKR HEAD1"/>
              </a:rPr>
              <a:t>ا</a:t>
            </a:r>
            <a:r>
              <a:rPr b="0" lang="hi-IN" sz="2400" spc="-1" strike="noStrike">
                <a:solidFill>
                  <a:srgbClr val="006600"/>
                </a:solidFill>
                <a:latin typeface="Arial"/>
                <a:cs typeface="SKR HEAD1"/>
              </a:rPr>
              <a:t>ن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كلا</a:t>
            </a:r>
            <a:r>
              <a:rPr b="0" lang="hi-IN" sz="2400" spc="-1" strike="noStrike">
                <a:solidFill>
                  <a:srgbClr val="ff0066"/>
                </a:solidFill>
                <a:latin typeface="Arial"/>
                <a:cs typeface="SKR HEAD1"/>
              </a:rPr>
              <a:t>هم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59280" y="4869000"/>
            <a:ext cx="388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شتريتُ </a:t>
            </a:r>
            <a:r>
              <a:rPr b="0" lang="hi-IN" sz="2400" spc="-1" strike="noStrike">
                <a:solidFill>
                  <a:srgbClr val="006600"/>
                </a:solidFill>
                <a:latin typeface="Arial"/>
                <a:cs typeface="SKR HEAD1"/>
              </a:rPr>
              <a:t>الحقيبت</a:t>
            </a:r>
            <a:r>
              <a:rPr b="0" lang="hi-IN" sz="2400" spc="-1" strike="noStrike">
                <a:solidFill>
                  <a:srgbClr val="ff0066"/>
                </a:solidFill>
                <a:latin typeface="Arial"/>
                <a:cs typeface="SKR HEAD1"/>
              </a:rPr>
              <a:t>يـ</a:t>
            </a:r>
            <a:r>
              <a:rPr b="0" lang="hi-IN" sz="2400" spc="-1" strike="noStrike">
                <a:solidFill>
                  <a:srgbClr val="006600"/>
                </a:solidFill>
                <a:latin typeface="Arial"/>
                <a:cs typeface="SKR HEAD1"/>
              </a:rPr>
              <a:t>ن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كلتي</a:t>
            </a:r>
            <a:r>
              <a:rPr b="0" lang="hi-IN" sz="2400" spc="-1" strike="noStrike">
                <a:solidFill>
                  <a:srgbClr val="ff0066"/>
                </a:solidFill>
                <a:latin typeface="Arial"/>
                <a:cs typeface="SKR HEAD1"/>
              </a:rPr>
              <a:t>هم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38920" y="2781360"/>
            <a:ext cx="720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عَينُ</a:t>
            </a:r>
            <a:r>
              <a:rPr b="0" lang="hi-IN" sz="2400" spc="-1" strike="noStrike">
                <a:solidFill>
                  <a:srgbClr val="ff0066"/>
                </a:solidFill>
                <a:latin typeface="Arial"/>
                <a:cs typeface="SKR HEAD1"/>
              </a:rPr>
              <a:t>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3573360"/>
            <a:ext cx="649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جميعِ</a:t>
            </a:r>
            <a:r>
              <a:rPr b="0" lang="hi-IN" sz="2400" spc="-1" strike="noStrike">
                <a:solidFill>
                  <a:srgbClr val="ff0066"/>
                </a:solidFill>
                <a:latin typeface="Arial"/>
                <a:cs typeface="SKR HEAD1"/>
              </a:rPr>
              <a:t>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0" y="3500280"/>
            <a:ext cx="288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2565360"/>
            <a:ext cx="360360" cy="301680"/>
          </a:xfrm>
          <a:custGeom>
            <a:avLst/>
            <a:gdLst/>
            <a:ahLst/>
            <a:rect l="l" t="t" r="r" b="b"/>
            <a:pathLst>
              <a:path w="227" h="190">
                <a:moveTo>
                  <a:pt x="0" y="190"/>
                </a:moveTo>
                <a:cubicBezTo>
                  <a:pt x="4" y="103"/>
                  <a:pt x="8" y="16"/>
                  <a:pt x="46" y="8"/>
                </a:cubicBezTo>
                <a:cubicBezTo>
                  <a:pt x="84" y="0"/>
                  <a:pt x="197" y="121"/>
                  <a:pt x="227" y="144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5280" y="2709720"/>
            <a:ext cx="144360" cy="14292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6000" y="3271680"/>
            <a:ext cx="360360" cy="301680"/>
          </a:xfrm>
          <a:custGeom>
            <a:avLst/>
            <a:gdLst/>
            <a:ahLst/>
            <a:rect l="l" t="t" r="r" b="b"/>
            <a:pathLst>
              <a:path w="227" h="190">
                <a:moveTo>
                  <a:pt x="0" y="190"/>
                </a:moveTo>
                <a:cubicBezTo>
                  <a:pt x="4" y="103"/>
                  <a:pt x="8" y="16"/>
                  <a:pt x="46" y="8"/>
                </a:cubicBezTo>
                <a:cubicBezTo>
                  <a:pt x="84" y="0"/>
                  <a:pt x="197" y="121"/>
                  <a:pt x="227" y="144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6360" y="3500280"/>
            <a:ext cx="71280" cy="5904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4005360"/>
            <a:ext cx="360360" cy="301680"/>
          </a:xfrm>
          <a:custGeom>
            <a:avLst/>
            <a:gdLst/>
            <a:ahLst/>
            <a:rect l="l" t="t" r="r" b="b"/>
            <a:pathLst>
              <a:path w="227" h="190">
                <a:moveTo>
                  <a:pt x="0" y="190"/>
                </a:moveTo>
                <a:cubicBezTo>
                  <a:pt x="4" y="103"/>
                  <a:pt x="8" y="16"/>
                  <a:pt x="46" y="8"/>
                </a:cubicBezTo>
                <a:cubicBezTo>
                  <a:pt x="84" y="0"/>
                  <a:pt x="197" y="121"/>
                  <a:pt x="227" y="144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43640" y="4149720"/>
            <a:ext cx="144360" cy="14292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23000" y="4838760"/>
            <a:ext cx="433440" cy="216000"/>
          </a:xfrm>
          <a:custGeom>
            <a:avLst/>
            <a:gdLst/>
            <a:ahLst/>
            <a:rect l="l" t="t" r="r" b="b"/>
            <a:pathLst>
              <a:path w="227" h="190">
                <a:moveTo>
                  <a:pt x="0" y="190"/>
                </a:moveTo>
                <a:cubicBezTo>
                  <a:pt x="4" y="103"/>
                  <a:pt x="8" y="16"/>
                  <a:pt x="46" y="8"/>
                </a:cubicBezTo>
                <a:cubicBezTo>
                  <a:pt x="84" y="0"/>
                  <a:pt x="197" y="121"/>
                  <a:pt x="227" y="144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56360" y="4941720"/>
            <a:ext cx="216000" cy="14292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2708280"/>
            <a:ext cx="3600360" cy="649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مؤكَّدُ جاء مفردًا فجاءَ الضَّميرُ مفردً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8720" y="285264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3427560"/>
            <a:ext cx="36003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مؤكَّدُ جاء جمعًا فجاءَ الضَّميرُ جمعً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68720" y="3571920"/>
            <a:ext cx="1008000" cy="288720"/>
          </a:xfrm>
          <a:prstGeom prst="rightArrow">
            <a:avLst>
              <a:gd name="adj1" fmla="val 50000"/>
              <a:gd name="adj2" fmla="val 872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4148280"/>
            <a:ext cx="36003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مؤكَّدُ جاء مثنى فجاءَ الضَّميرُ مثن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68720" y="4292640"/>
            <a:ext cx="1008000" cy="288720"/>
          </a:xfrm>
          <a:prstGeom prst="rightArrow">
            <a:avLst>
              <a:gd name="adj1" fmla="val 50000"/>
              <a:gd name="adj2" fmla="val 872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2205000"/>
            <a:ext cx="3671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لاحظْ التوكيدَ في المثالينِ التَّاليينِ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3429000"/>
            <a:ext cx="388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قدمَ الطلابُ </a:t>
            </a:r>
            <a:r>
              <a:rPr b="0" lang="hi-IN" sz="2400" spc="-1" strike="noStrike">
                <a:solidFill>
                  <a:srgbClr val="ff0066"/>
                </a:solidFill>
                <a:latin typeface="Arial"/>
                <a:cs typeface="SKR HEAD1"/>
              </a:rPr>
              <a:t>كلُّه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4221000"/>
            <a:ext cx="3888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قدمَ محمدٌ </a:t>
            </a:r>
            <a:r>
              <a:rPr b="0" lang="hi-IN" sz="2400" spc="-1" strike="noStrike">
                <a:solidFill>
                  <a:srgbClr val="ff0066"/>
                </a:solidFill>
                <a:latin typeface="Arial"/>
                <a:cs typeface="SKR HEAD1"/>
              </a:rPr>
              <a:t>كلُّ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46200" y="3500280"/>
            <a:ext cx="64944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66"/>
                </a:solidFill>
                <a:latin typeface="Arial"/>
                <a:cs typeface="SKR HEAD1"/>
              </a:rPr>
              <a:t>جميعُ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500280"/>
            <a:ext cx="57636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4292640"/>
            <a:ext cx="57636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3573360"/>
            <a:ext cx="360360" cy="289080"/>
          </a:xfrm>
          <a:custGeom>
            <a:avLst/>
            <a:gdLst/>
            <a:ahLst/>
            <a:rect l="l" t="t" r="r" b="b"/>
            <a:pathLst>
              <a:path w="317" h="242">
                <a:moveTo>
                  <a:pt x="45" y="91"/>
                </a:moveTo>
                <a:cubicBezTo>
                  <a:pt x="22" y="166"/>
                  <a:pt x="0" y="242"/>
                  <a:pt x="45" y="227"/>
                </a:cubicBezTo>
                <a:cubicBezTo>
                  <a:pt x="90" y="212"/>
                  <a:pt x="272" y="38"/>
                  <a:pt x="317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مشاهدة الصورة الأصلية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4329000"/>
            <a:ext cx="276120" cy="324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5157720"/>
            <a:ext cx="36716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إذا أردنا أنْ نؤكِّدَ بـ ( كل و جميع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فيشترطُ أنْ يكونَ المؤكَّدُ قابلا للتجزئةِ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1987560"/>
            <a:ext cx="21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66"/>
                </a:solidFill>
                <a:latin typeface="Arial"/>
                <a:cs typeface="SKR HEAD1"/>
              </a:rPr>
              <a:t>الإعراب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637000"/>
            <a:ext cx="388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قدمَ </a:t>
            </a:r>
            <a:r>
              <a:rPr b="0" lang="hi-IN" sz="2400" spc="-1" strike="noStrike">
                <a:solidFill>
                  <a:srgbClr val="008000"/>
                </a:solidFill>
                <a:latin typeface="Arial"/>
                <a:cs typeface="SKR HEAD1"/>
              </a:rPr>
              <a:t>المدير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نفسُ</a:t>
            </a: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3284640"/>
            <a:ext cx="388800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357720"/>
            <a:ext cx="3816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00"/>
                </a:solidFill>
                <a:latin typeface="Arial"/>
                <a:cs typeface="SKR HEAD1"/>
              </a:rPr>
              <a:t>المدير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: فاعلٌ </a:t>
            </a:r>
            <a:r>
              <a:rPr b="0" lang="hi-IN" sz="2400" spc="-1" strike="noStrike">
                <a:solidFill>
                  <a:srgbClr val="ff0066"/>
                </a:solidFill>
                <a:latin typeface="Arial"/>
                <a:cs typeface="SKR HEAD1"/>
              </a:rPr>
              <a:t>مرفوع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وعلامةُ رفعِهِ الضَّمة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ظَّاهرةُ على آخرِهِ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4221000"/>
            <a:ext cx="38163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99"/>
                </a:solidFill>
                <a:latin typeface="Arial"/>
                <a:cs typeface="SKR HEAD1"/>
              </a:rPr>
              <a:t>نفسُ</a:t>
            </a:r>
            <a:r>
              <a:rPr b="0" lang="ar-SA" sz="2400" spc="-1" strike="noStrike">
                <a:solidFill>
                  <a:srgbClr val="ff0066"/>
                </a:solidFill>
                <a:latin typeface="Arial"/>
                <a:cs typeface="SKR HEAD1"/>
              </a:rPr>
              <a:t>هُ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: </a:t>
            </a:r>
            <a:r>
              <a:rPr b="0" lang="ar-SA" sz="2400" spc="-1" strike="noStrike">
                <a:solidFill>
                  <a:srgbClr val="333399"/>
                </a:solidFill>
                <a:latin typeface="Arial"/>
                <a:cs typeface="SKR HEAD1"/>
              </a:rPr>
              <a:t>نفسُ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توكيدٌ معنويٌّ</a:t>
            </a:r>
            <a:r>
              <a:rPr b="0" lang="ar-SA" sz="2400" spc="-1" strike="noStrike">
                <a:solidFill>
                  <a:srgbClr val="333399"/>
                </a:solidFill>
                <a:latin typeface="Arial"/>
                <a:ea typeface="SKR HEAD1"/>
              </a:rPr>
              <a:t> ( للمرفوعِ) للمدير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99"/>
                </a:solidFill>
                <a:latin typeface="Arial"/>
                <a:cs typeface="SKR HEAD1"/>
              </a:rPr>
              <a:t>مرفوعٌ وعلامةُ رفعِهِ الضَّمةُالظَّاهرةُ على آخرِه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99"/>
                </a:solidFill>
                <a:latin typeface="Arial"/>
                <a:cs typeface="SKR HEAD1"/>
              </a:rPr>
              <a:t>، وهو مضاف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، </a:t>
            </a:r>
            <a:r>
              <a:rPr b="0" lang="ar-SA" sz="2400" spc="-1" strike="noStrike">
                <a:solidFill>
                  <a:srgbClr val="ff0066"/>
                </a:solidFill>
                <a:latin typeface="Arial"/>
                <a:cs typeface="SKR HEAD1"/>
              </a:rPr>
              <a:t>والهاءُ: ضميرٌ مبنيٌّ على الضمِّ ف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66"/>
                </a:solidFill>
                <a:latin typeface="Arial"/>
                <a:cs typeface="SKR HEAD1"/>
              </a:rPr>
              <a:t>محلِ جرٍّ مضافٌ إلي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80000" y="333360"/>
            <a:ext cx="1512720" cy="720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دريب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5080" y="1268280"/>
            <a:ext cx="4103640" cy="3961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720" y="1268280"/>
            <a:ext cx="4104000" cy="3961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1413000"/>
            <a:ext cx="3816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 استخرجْ المؤكِّدَ(التَّوكيدَ) فيما ي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31920"/>
            <a:ext cx="3816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حذر الحذر السقوط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88000" y="2852640"/>
            <a:ext cx="3816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قابلتُ المعلمينَ جميعَ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88000" y="3573360"/>
            <a:ext cx="3816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لالايوجدُ غياب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88000" y="4292640"/>
            <a:ext cx="3816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حسنْ إلى والديكَ كليْه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1413000"/>
            <a:ext cx="3816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 بيِّنْ نوعَ التَّوكيدِ في الجملِ السَّابقةِ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2133720"/>
            <a:ext cx="331128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وكيدٌ لفظيّ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852640"/>
            <a:ext cx="33112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وكيدٌ معنويّ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3573360"/>
            <a:ext cx="33112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وكيدٌ لفظيّ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4292640"/>
            <a:ext cx="33112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وكيدٌ معنويّ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2205000"/>
            <a:ext cx="1079640" cy="360360"/>
          </a:xfrm>
          <a:prstGeom prst="rightArrow">
            <a:avLst>
              <a:gd name="adj1" fmla="val 50000"/>
              <a:gd name="adj2" fmla="val 749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2924280"/>
            <a:ext cx="1079640" cy="360360"/>
          </a:xfrm>
          <a:prstGeom prst="rightArrow">
            <a:avLst>
              <a:gd name="adj1" fmla="val 50000"/>
              <a:gd name="adj2" fmla="val 749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52720" y="3645000"/>
            <a:ext cx="1079640" cy="360360"/>
          </a:xfrm>
          <a:prstGeom prst="rightArrow">
            <a:avLst>
              <a:gd name="adj1" fmla="val 50000"/>
              <a:gd name="adj2" fmla="val 749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52720" y="4363920"/>
            <a:ext cx="1079640" cy="360360"/>
          </a:xfrm>
          <a:prstGeom prst="rightArrow">
            <a:avLst>
              <a:gd name="adj1" fmla="val 50000"/>
              <a:gd name="adj2" fmla="val 749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24360" y="2708280"/>
            <a:ext cx="57636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445080" y="4941720"/>
            <a:ext cx="7192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172360" y="4149720"/>
            <a:ext cx="2872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804000" y="4725720"/>
            <a:ext cx="0" cy="21564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317080" y="3933720"/>
            <a:ext cx="0" cy="2160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88000" y="3500280"/>
            <a:ext cx="7192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946920" y="3284280"/>
            <a:ext cx="0" cy="21564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812000" y="2492280"/>
            <a:ext cx="0" cy="2160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5300640"/>
            <a:ext cx="8353440" cy="1152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5373720"/>
            <a:ext cx="331128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قرأتُ القصَّةَ كُلَّ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5877000"/>
            <a:ext cx="331128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قابلتُ فاطمةَ كُلَّ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5373720"/>
            <a:ext cx="4608360" cy="863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 وضِّح السَّببَ في كونِ التوكيدِ صحيحًا في الجملةِ الأول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وخاطئًا في الجملةِ الثَّانيةِ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74680" y="5445000"/>
            <a:ext cx="360360" cy="289080"/>
          </a:xfrm>
          <a:custGeom>
            <a:avLst/>
            <a:gdLst/>
            <a:ahLst/>
            <a:rect l="l" t="t" r="r" b="b"/>
            <a:pathLst>
              <a:path w="317" h="242">
                <a:moveTo>
                  <a:pt x="45" y="91"/>
                </a:moveTo>
                <a:cubicBezTo>
                  <a:pt x="22" y="166"/>
                  <a:pt x="0" y="242"/>
                  <a:pt x="45" y="227"/>
                </a:cubicBezTo>
                <a:cubicBezTo>
                  <a:pt x="90" y="212"/>
                  <a:pt x="272" y="38"/>
                  <a:pt x="317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مشاهدة الصورة الأصلية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5950080"/>
            <a:ext cx="27648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76720" y="-531720"/>
            <a:ext cx="4319640" cy="2158920"/>
          </a:xfrm>
          <a:prstGeom prst="flowChartMultidocumen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Mateen"/>
              </a:rPr>
              <a:t>عزيزي الطال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03640" y="1341360"/>
            <a:ext cx="2600280" cy="1733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095640" y="3471840"/>
            <a:ext cx="2771640" cy="2333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771640" y="3141720"/>
            <a:ext cx="403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Mateen"/>
              </a:rPr>
              <a:t>على مشاركتك في هذا الدر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5661000"/>
            <a:ext cx="8064720" cy="792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L-Mateen"/>
              </a:rPr>
              <a:t>تقبل احترامي وتقديري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atee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22:51:07Z</dcterms:created>
  <dc:creator>user</dc:creator>
  <dc:description/>
  <dc:language>en-US</dc:language>
  <cp:lastModifiedBy>user</cp:lastModifiedBy>
  <dcterms:modified xsi:type="dcterms:W3CDTF">2009-03-06T01:40:50Z</dcterms:modified>
  <cp:revision>7</cp:revision>
  <dc:subject/>
  <dc:title>الشريحة 1</dc:title>
</cp:coreProperties>
</file>