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E335-3853-4FA0-AF50-ED46D4C1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4CC7-5FA6-433C-8BBE-0F3C56C1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7F0E-3E1C-46DA-9615-55D81EE2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8E5E-1E4E-44DB-938B-F5F9791B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0CDC-48D6-4E03-A22F-29C8F6AB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C065-D266-4F79-AA34-387D4AC5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257E-D6DF-4FE1-BC85-F53AD1F8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2E51-DE5E-43AB-B36B-8F80C4A0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A365-79D0-4F10-8B89-FC2C227E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6B8D-D6C9-493B-A2D5-AE512368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2A8-30B6-4E66-BCA2-D1C20591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9AD7-B309-4154-9AA4-70572661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50A6-CB4F-4952-BF1E-8E73A0711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376360" cy="1190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067280" y="404640"/>
            <a:ext cx="949320" cy="1152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51640" y="333360"/>
            <a:ext cx="316836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مملكةُ العربيَّةُ السُّعودية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وزارةُ التَّربيةِ والتَّعليم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333360"/>
            <a:ext cx="316836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إدارةُ التَّربيةِ والتعليمِ بمحافظةِ عنيز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متوسطةُ 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56000" y="2852640"/>
            <a:ext cx="3671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لتَّوابع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- الصِّفةُ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- التَّوكيد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- البدل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- العطف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3502080"/>
            <a:ext cx="460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660066"/>
                </a:solidFill>
                <a:latin typeface="Arial"/>
                <a:ea typeface="SKR HEAD1"/>
              </a:rPr>
              <a:t>3</a:t>
            </a:r>
            <a:r>
              <a:rPr b="0" lang="en-US" sz="9000" spc="-1" strike="noStrike">
                <a:solidFill>
                  <a:srgbClr val="660066"/>
                </a:solidFill>
                <a:latin typeface="Arial"/>
                <a:ea typeface="SKR HEAD1"/>
              </a:rPr>
              <a:t>- البدَلُ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5587920"/>
            <a:ext cx="208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6600"/>
                </a:solidFill>
                <a:latin typeface="Arial"/>
                <a:cs typeface="SKR HEAD1"/>
              </a:rPr>
              <a:t>ص </a:t>
            </a:r>
            <a:r>
              <a:rPr b="0" lang="en-US" sz="5400" spc="-1" strike="noStrike">
                <a:solidFill>
                  <a:srgbClr val="006600"/>
                </a:solidFill>
                <a:latin typeface="Arial"/>
                <a:ea typeface="SKR HEAD1"/>
              </a:rPr>
              <a:t>3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500" spc="-1" strike="noStrike">
                <a:solidFill>
                  <a:srgbClr val="660033"/>
                </a:solidFill>
                <a:latin typeface="Arial"/>
                <a:cs typeface="SKR HEAD1"/>
              </a:rPr>
              <a:t>البدلُ 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hi-IN" sz="3500" spc="-1" strike="noStrike">
                <a:solidFill>
                  <a:srgbClr val="008000"/>
                </a:solidFill>
                <a:latin typeface="Arial"/>
                <a:cs typeface="SKR HEAD1"/>
              </a:rPr>
              <a:t>اسمُ تابعٌ مقصودٌ بالحُكمِ مِنْ غيرِ واسطةٍ بَيْنَهُ وبينَ المُبْدَلِ مِنْه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912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Arial"/>
                <a:cs typeface="SKR HEAD1"/>
              </a:rPr>
              <a:t>مِن أنواعِ البدل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651640" y="1260000"/>
            <a:ext cx="136836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1628640"/>
            <a:ext cx="4105080" cy="4896000"/>
          </a:xfrm>
          <a:prstGeom prst="rect">
            <a:avLst/>
          </a:prstGeom>
          <a:solidFill>
            <a:srgbClr val="f2f4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628640"/>
            <a:ext cx="4176720" cy="4896000"/>
          </a:xfrm>
          <a:prstGeom prst="rect">
            <a:avLst/>
          </a:prstGeom>
          <a:solidFill>
            <a:srgbClr val="f2f4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1763640"/>
            <a:ext cx="1944720" cy="576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     بدَلٌ مُطابق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04000" y="1405080"/>
            <a:ext cx="287280" cy="43164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08720" y="1835280"/>
            <a:ext cx="432000" cy="43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193840" y="1260000"/>
            <a:ext cx="136836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1763640"/>
            <a:ext cx="2160720" cy="576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     بدلُ بعضٍ مِنْ كُلّ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3440" y="1835280"/>
            <a:ext cx="431640" cy="43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59280" y="2421000"/>
            <a:ext cx="3960720" cy="503280"/>
          </a:xfrm>
          <a:prstGeom prst="rect">
            <a:avLst/>
          </a:prstGeom>
          <a:solidFill>
            <a:srgbClr val="d3ebed"/>
          </a:solidFill>
          <a:ln w="9360">
            <a:solidFill>
              <a:srgbClr val="ffcc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66"/>
                </a:solidFill>
                <a:latin typeface="Arial"/>
                <a:cs typeface="SKR HEAD1"/>
              </a:rPr>
              <a:t>وفيهِ يكونُ البدلُ مُساويًا للمبدَلِ من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59280" y="2997360"/>
            <a:ext cx="388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يشرحُ المعلمُ خالدٌ الدَّرس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00720" y="4149720"/>
            <a:ext cx="57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بد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48360" y="4148280"/>
            <a:ext cx="9367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مبدل من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4795920"/>
            <a:ext cx="396072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لاحظْ أنَّ خالدًا هو نفسه المعلم والمعلم هو نفسه خال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5516640"/>
            <a:ext cx="3960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فخالدٌ مطابقٌ للمعلمِ فيسمى بدلا مطابقً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61080" y="2997360"/>
            <a:ext cx="3887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يشرحُ </a:t>
            </a:r>
            <a:r>
              <a:rPr b="0" lang="hi-IN" sz="2400" spc="-1" strike="noStrike">
                <a:solidFill>
                  <a:srgbClr val="333399"/>
                </a:solidFill>
                <a:latin typeface="Arial"/>
                <a:cs typeface="SKR HEAD1"/>
              </a:rPr>
              <a:t>المعلمُ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SKR HEAD1"/>
              </a:rPr>
              <a:t> </a:t>
            </a:r>
            <a:r>
              <a:rPr b="0" lang="hi-IN" sz="2400" spc="-1" strike="noStrike">
                <a:solidFill>
                  <a:srgbClr val="cc3300"/>
                </a:solidFill>
                <a:latin typeface="Arial"/>
                <a:cs typeface="SKR HEAD1"/>
              </a:rPr>
              <a:t>خالدٌ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دَّرسَ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SKR HEAD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3500280"/>
            <a:ext cx="216000" cy="720720"/>
          </a:xfrm>
          <a:prstGeom prst="upArrow">
            <a:avLst>
              <a:gd name="adj1" fmla="val 50000"/>
              <a:gd name="adj2" fmla="val 834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20000" y="3498840"/>
            <a:ext cx="216000" cy="720720"/>
          </a:xfrm>
          <a:prstGeom prst="upArrow">
            <a:avLst>
              <a:gd name="adj1" fmla="val 50000"/>
              <a:gd name="adj2" fmla="val 834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3716280"/>
            <a:ext cx="3960720" cy="2665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SKR HEAD1"/>
              </a:rPr>
              <a:t>وبما أنَّ البدلَ مِنَ التَّوابعِ فهو يتبعُ ماقبلَه في الإعراب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3300"/>
                </a:solidFill>
                <a:latin typeface="Arial"/>
                <a:cs typeface="SKR HEAD1"/>
              </a:rPr>
              <a:t>ا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  <a:cs typeface="SKR HEAD1"/>
              </a:rPr>
              <a:t>لمعلمُ</a:t>
            </a:r>
            <a:r>
              <a:rPr b="0" lang="ar-SA" sz="2000" spc="-1" strike="noStrike">
                <a:solidFill>
                  <a:srgbClr val="993300"/>
                </a:solidFill>
                <a:latin typeface="Arial"/>
                <a:ea typeface="SKR HEAD1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SKR HEAD1"/>
              </a:rPr>
              <a:t>: فاعلٌ 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  <a:cs typeface="SKR HEAD1"/>
              </a:rPr>
              <a:t>مرفوعٌ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SKR HEAD1"/>
              </a:rPr>
              <a:t>وعلامةُ رفعه الضَّمةُ الظَّاهرة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على آخر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c3300"/>
                </a:solidFill>
                <a:latin typeface="Arial"/>
                <a:cs typeface="SKR HEAD1"/>
              </a:rPr>
              <a:t>خالدٌ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SKR HEAD1"/>
              </a:rPr>
              <a:t>: </a:t>
            </a:r>
            <a:r>
              <a:rPr b="0" lang="ar-SA" sz="2000" spc="-1" strike="noStrike">
                <a:solidFill>
                  <a:srgbClr val="333399"/>
                </a:solidFill>
                <a:latin typeface="Arial"/>
                <a:cs typeface="SKR HEAD1"/>
              </a:rPr>
              <a:t>بدلٌ مطابقٌ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SKR HEAD1"/>
              </a:rPr>
              <a:t> (للمرفوعِ) للمعلمِ ، 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  <a:cs typeface="SKR HEAD1"/>
              </a:rPr>
              <a:t>مرفوعٌ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SKR HEAD1"/>
              </a:rPr>
              <a:t>مثل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SKR HEAD1"/>
              </a:rPr>
              <a:t>وعلامةُ رفعه الضَّمةُ الظَّاهرةُ على آخر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64360" y="1700280"/>
            <a:ext cx="1511280" cy="1224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المُبدَلُ منه مرف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1484280"/>
            <a:ext cx="1511280" cy="1224000"/>
          </a:xfrm>
          <a:prstGeom prst="wedgeEllipseCallout">
            <a:avLst>
              <a:gd name="adj1" fmla="val 19430"/>
              <a:gd name="adj2" fmla="val 819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فجاءَ البدلُ مثله مرفوعً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59280" y="3789360"/>
            <a:ext cx="3960720" cy="1008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هذا يعني أنَّ البدلَ يطابقُ المبدلَ منه في الإعرا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  <a:cs typeface="SKR HEAD1"/>
              </a:rPr>
              <a:t>رفعًا ونصبًا وجرًّا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؛ ولهذا سُمِّي تابعً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3716280"/>
            <a:ext cx="388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زرتُ </a:t>
            </a:r>
            <a:r>
              <a:rPr b="0" lang="hi-IN" sz="2400" spc="-1" strike="noStrike">
                <a:solidFill>
                  <a:srgbClr val="333399"/>
                </a:solidFill>
                <a:latin typeface="Arial"/>
                <a:cs typeface="SKR HEAD1"/>
              </a:rPr>
              <a:t>عاصمة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المملكةِ </a:t>
            </a:r>
            <a:r>
              <a:rPr b="0" lang="hi-IN" sz="2400" spc="-1" strike="noStrike">
                <a:solidFill>
                  <a:srgbClr val="cc3300"/>
                </a:solidFill>
                <a:latin typeface="Arial"/>
                <a:cs typeface="SKR HEAD1"/>
              </a:rPr>
              <a:t>الرِّياض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64360" y="4508640"/>
            <a:ext cx="1728720" cy="1224000"/>
          </a:xfrm>
          <a:prstGeom prst="wedgeEllipseCallout">
            <a:avLst>
              <a:gd name="adj1" fmla="val -41458"/>
              <a:gd name="adj2" fmla="val -78402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عاصمةُ المملكة هي نفسها الريا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76720" y="4581360"/>
            <a:ext cx="1943280" cy="1224000"/>
          </a:xfrm>
          <a:prstGeom prst="wedgeEllipseCallout">
            <a:avLst>
              <a:gd name="adj1" fmla="val -2777"/>
              <a:gd name="adj2" fmla="val -8151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والرِّياضُ هي نفسها عاصمة المملك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00360" y="5734080"/>
            <a:ext cx="6119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الرِّياضُ بدلٌ مطابقٌ لعاصمةِ المملكةِ ، ونُصبَ البدلُ هنا لأن المبدلَ منه منصوبً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32360" y="4483080"/>
            <a:ext cx="3743280" cy="1970280"/>
          </a:xfrm>
          <a:prstGeom prst="rect">
            <a:avLst/>
          </a:prstGeom>
          <a:solidFill>
            <a:srgbClr val="f2f4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99"/>
                </a:solidFill>
                <a:latin typeface="Arial"/>
                <a:cs typeface="SKR HEAD1"/>
              </a:rPr>
              <a:t>عاصمةَ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SKR HEAD1"/>
              </a:rPr>
              <a:t>: مفعولٌ به 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  <a:cs typeface="SKR HEAD1"/>
              </a:rPr>
              <a:t>منصوبٌ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SKR HEAD1"/>
              </a:rPr>
              <a:t> وعلامةُ نصبه الفتحة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SKR HEAD1"/>
              </a:rPr>
              <a:t>الظاهرةُ على آخرِهِ ،وهي مضاف، والمملكةِ مضاف إلي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SKR HEAD1"/>
              </a:rPr>
              <a:t>مجرورُ وعلامة جرهِ الكسرةُ الظاهرةُ على آخرِهِ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c3300"/>
                </a:solidFill>
                <a:latin typeface="Arial"/>
                <a:cs typeface="SKR HEAD1"/>
              </a:rPr>
              <a:t>الرِّياضَ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SKR HEAD1"/>
              </a:rPr>
              <a:t>: بدلٌ مطابقٌ لـ(عاصمة) للمنصوبِ 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  <a:cs typeface="SKR HEAD1"/>
              </a:rPr>
              <a:t>منصوبٌ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SKR HEAD1"/>
              </a:rPr>
              <a:t>مثله وعلامةُ نصبهِ الفتحةُ الظَّاهرةُ على آخرِهِ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9280" y="4437000"/>
            <a:ext cx="388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سلَّمتُ على </a:t>
            </a:r>
            <a:r>
              <a:rPr b="0" lang="hi-IN" sz="2400" spc="-1" strike="noStrike">
                <a:solidFill>
                  <a:srgbClr val="333399"/>
                </a:solidFill>
                <a:latin typeface="Arial"/>
                <a:cs typeface="SKR HEAD1"/>
              </a:rPr>
              <a:t>الطبيب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hi-IN" sz="2400" spc="-1" strike="noStrike">
                <a:solidFill>
                  <a:srgbClr val="cc3300"/>
                </a:solidFill>
                <a:latin typeface="Arial"/>
                <a:cs typeface="SKR HEAD1"/>
              </a:rPr>
              <a:t>محمد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67280" y="4940280"/>
            <a:ext cx="216000" cy="720720"/>
          </a:xfrm>
          <a:prstGeom prst="upArrow">
            <a:avLst>
              <a:gd name="adj1" fmla="val 50000"/>
              <a:gd name="adj2" fmla="val 834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88000" y="4938840"/>
            <a:ext cx="216000" cy="720720"/>
          </a:xfrm>
          <a:prstGeom prst="upArrow">
            <a:avLst>
              <a:gd name="adj1" fmla="val 50000"/>
              <a:gd name="adj2" fmla="val 834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53080" y="5516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البد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72360" y="5516640"/>
            <a:ext cx="720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المبدل من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2349360"/>
            <a:ext cx="3960720" cy="215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99"/>
                </a:solidFill>
                <a:latin typeface="Arial"/>
                <a:cs typeface="SKR HEAD1"/>
              </a:rPr>
              <a:t>الطبيبِ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SKR HEAD1"/>
              </a:rPr>
              <a:t>:اسمٌ 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  <a:cs typeface="SKR HEAD1"/>
              </a:rPr>
              <a:t>مجرورٌ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SKR HEAD1"/>
              </a:rPr>
              <a:t> بـ ( على ) وعلامةُ جرِّهِ الكسرة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الظاهرةُ على آخر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c3300"/>
                </a:solidFill>
                <a:latin typeface="Arial"/>
                <a:cs typeface="SKR HEAD1"/>
              </a:rPr>
              <a:t>محمدٍ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SKR HEAD1"/>
              </a:rPr>
              <a:t>: </a:t>
            </a:r>
            <a:r>
              <a:rPr b="0" lang="ar-SA" sz="2000" spc="-1" strike="noStrike">
                <a:solidFill>
                  <a:srgbClr val="008000"/>
                </a:solidFill>
                <a:latin typeface="Arial"/>
                <a:cs typeface="SKR HEAD1"/>
              </a:rPr>
              <a:t>بدل مطابق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SKR HEAD1"/>
              </a:rPr>
              <a:t> للطبيبِ 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  <a:cs typeface="SKR HEAD1"/>
              </a:rPr>
              <a:t>مجرورٌ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SKR HEAD1"/>
              </a:rPr>
              <a:t>وعلامة جره الكسر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SKR HEAD1"/>
              </a:rPr>
              <a:t>الظاهرة على آخر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628640"/>
            <a:ext cx="4176720" cy="489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1763640"/>
            <a:ext cx="2160720" cy="576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     بدلُ بعضٍ مِنْ كُلّ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73440" y="1835280"/>
            <a:ext cx="431640" cy="43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2421000"/>
            <a:ext cx="4032000" cy="861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66"/>
                </a:solidFill>
                <a:latin typeface="Arial"/>
                <a:cs typeface="SKR HEAD1"/>
              </a:rPr>
              <a:t>وفيهِ يكونُ البدلُ جُزءًا مِن المبدلِ منه، ويشتمل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66"/>
                </a:solidFill>
                <a:latin typeface="Arial"/>
                <a:cs typeface="SKR HEAD1"/>
              </a:rPr>
              <a:t>على </a:t>
            </a:r>
            <a:r>
              <a:rPr b="0" lang="hi-IN" sz="2400" spc="-1" strike="noStrike">
                <a:solidFill>
                  <a:srgbClr val="008000"/>
                </a:solidFill>
                <a:latin typeface="Arial"/>
                <a:cs typeface="SKR HEAD1"/>
              </a:rPr>
              <a:t>ضميرٍ يعود على المبدلِ من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6720" y="4437000"/>
            <a:ext cx="388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أكلَ القردُ </a:t>
            </a:r>
            <a:r>
              <a:rPr b="0" lang="hi-IN" sz="2400" spc="-1" strike="noStrike">
                <a:solidFill>
                  <a:srgbClr val="333399"/>
                </a:solidFill>
                <a:latin typeface="Arial"/>
                <a:cs typeface="SKR HEAD1"/>
              </a:rPr>
              <a:t>التُّفاحة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hi-IN" sz="2400" spc="-1" strike="noStrike">
                <a:solidFill>
                  <a:srgbClr val="cc3300"/>
                </a:solidFill>
                <a:latin typeface="Arial"/>
                <a:cs typeface="SKR HEAD1"/>
              </a:rPr>
              <a:t>نصفَ</a:t>
            </a:r>
            <a:r>
              <a:rPr b="0" lang="hi-IN" sz="2400" spc="-1" strike="noStrike">
                <a:solidFill>
                  <a:srgbClr val="008000"/>
                </a:solidFill>
                <a:latin typeface="Arial"/>
                <a:cs typeface="SKR HEAD1"/>
              </a:rPr>
              <a:t>ه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3429000"/>
            <a:ext cx="3887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ضاعتِ </a:t>
            </a:r>
            <a:r>
              <a:rPr b="0" lang="hi-IN" sz="2400" spc="-1" strike="noStrike">
                <a:solidFill>
                  <a:srgbClr val="333399"/>
                </a:solidFill>
                <a:latin typeface="Arial"/>
                <a:cs typeface="SKR HEAD1"/>
              </a:rPr>
              <a:t>النقود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hi-IN" sz="2400" spc="-1" strike="noStrike">
                <a:solidFill>
                  <a:srgbClr val="cc3300"/>
                </a:solidFill>
                <a:latin typeface="Arial"/>
                <a:cs typeface="SKR HEAD1"/>
              </a:rPr>
              <a:t>نصفُ</a:t>
            </a:r>
            <a:r>
              <a:rPr b="0" lang="hi-IN" sz="2400" spc="-1" strike="noStrike">
                <a:solidFill>
                  <a:srgbClr val="008000"/>
                </a:solidFill>
                <a:latin typeface="Arial"/>
                <a:cs typeface="SKR HEAD1"/>
              </a:rPr>
              <a:t>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5302080"/>
            <a:ext cx="388764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نزلتُ في </a:t>
            </a:r>
            <a:r>
              <a:rPr b="0" lang="hi-IN" sz="2400" spc="-1" strike="noStrike">
                <a:solidFill>
                  <a:srgbClr val="333399"/>
                </a:solidFill>
                <a:latin typeface="Arial"/>
                <a:cs typeface="SKR HEAD1"/>
              </a:rPr>
              <a:t>المدينة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hi-IN" sz="2400" spc="-1" strike="noStrike">
                <a:solidFill>
                  <a:srgbClr val="cc3300"/>
                </a:solidFill>
                <a:latin typeface="Arial"/>
                <a:cs typeface="SKR HEAD1"/>
              </a:rPr>
              <a:t>شمالِ</a:t>
            </a:r>
            <a:r>
              <a:rPr b="0" lang="hi-IN" sz="2400" spc="-1" strike="noStrike">
                <a:solidFill>
                  <a:srgbClr val="008000"/>
                </a:solidFill>
                <a:latin typeface="Arial"/>
                <a:cs typeface="SKR HEAD1"/>
              </a:rPr>
              <a:t>ه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429264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ffd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429264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ffd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32000" y="4005360"/>
            <a:ext cx="647640" cy="36036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البد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0920" y="4005360"/>
            <a:ext cx="720720" cy="36036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المبدل من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47640" y="523080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ffd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523080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ffd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4943520"/>
            <a:ext cx="647640" cy="36036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البد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0920" y="4943520"/>
            <a:ext cx="720720" cy="36036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المبدل من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24000" y="1405080"/>
            <a:ext cx="287280" cy="43164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1628640"/>
            <a:ext cx="4105080" cy="489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61080" y="1700280"/>
            <a:ext cx="4032000" cy="64764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لاحظ البدلَ في هذا النَّوع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1773360"/>
            <a:ext cx="1511280" cy="504720"/>
          </a:xfrm>
          <a:prstGeom prst="leftArrow">
            <a:avLst>
              <a:gd name="adj1" fmla="val 50000"/>
              <a:gd name="adj2" fmla="val 74857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72360" y="2421000"/>
            <a:ext cx="647640" cy="431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بدل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59280" y="2421000"/>
            <a:ext cx="331308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ليسَ مطابقًا للمبدلِ منه، ولا مساويًا ل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2924280"/>
            <a:ext cx="39607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بدلُ هنا جزءٌ من المبدلِ منه وبعضُ من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32360" y="3573360"/>
            <a:ext cx="3887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ضاعتِ </a:t>
            </a:r>
            <a:r>
              <a:rPr b="0" lang="hi-IN" sz="2400" spc="-1" strike="noStrike">
                <a:solidFill>
                  <a:srgbClr val="333399"/>
                </a:solidFill>
                <a:latin typeface="Arial"/>
                <a:cs typeface="SKR HEAD1"/>
              </a:rPr>
              <a:t>النقود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hi-IN" sz="2400" spc="-1" strike="noStrike">
                <a:solidFill>
                  <a:srgbClr val="cc3300"/>
                </a:solidFill>
                <a:latin typeface="Arial"/>
                <a:cs typeface="SKR HEAD1"/>
              </a:rPr>
              <a:t>نصفُ</a:t>
            </a:r>
            <a:r>
              <a:rPr b="0" lang="hi-IN" sz="2400" spc="-1" strike="noStrike">
                <a:solidFill>
                  <a:srgbClr val="008000"/>
                </a:solidFill>
                <a:latin typeface="Arial"/>
                <a:cs typeface="SKR HEAD1"/>
              </a:rPr>
              <a:t>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59280" y="4365720"/>
            <a:ext cx="396072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نّصفُ ليس مساويًا للنقودِ بل هو بعض النقودِ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ولهذا سُمِّيَ هذا النَّوعُ : بدل بعض من ك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27640" y="4076640"/>
            <a:ext cx="216000" cy="504720"/>
          </a:xfrm>
          <a:prstGeom prst="upArrow">
            <a:avLst>
              <a:gd name="adj1" fmla="val 50000"/>
              <a:gd name="adj2" fmla="val 584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47640" y="328464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ffd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360" y="328464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ffd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2997360"/>
            <a:ext cx="647640" cy="36036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البد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0920" y="2997360"/>
            <a:ext cx="720720" cy="36036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المبدل من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3487680"/>
            <a:ext cx="360360" cy="301680"/>
          </a:xfrm>
          <a:custGeom>
            <a:avLst/>
            <a:gdLst/>
            <a:ahLst/>
            <a:rect l="l" t="t" r="r" b="b"/>
            <a:pathLst>
              <a:path w="227" h="190">
                <a:moveTo>
                  <a:pt x="0" y="190"/>
                </a:moveTo>
                <a:cubicBezTo>
                  <a:pt x="4" y="103"/>
                  <a:pt x="8" y="16"/>
                  <a:pt x="46" y="8"/>
                </a:cubicBezTo>
                <a:cubicBezTo>
                  <a:pt x="84" y="0"/>
                  <a:pt x="197" y="121"/>
                  <a:pt x="227" y="144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43640" y="3632040"/>
            <a:ext cx="144360" cy="142920"/>
          </a:xfrm>
          <a:prstGeom prst="line">
            <a:avLst/>
          </a:prstGeom>
          <a:ln w="284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5516640"/>
            <a:ext cx="396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ويشترطُ وجود ضميرٍ في البدلِ يعود على المبدلِ من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1628640"/>
            <a:ext cx="4105080" cy="489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84720" y="1700280"/>
            <a:ext cx="158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  <a:cs typeface="SKR HEAD1"/>
              </a:rPr>
              <a:t>الإعراب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32360" y="2133720"/>
            <a:ext cx="3887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أكلَ القردُ </a:t>
            </a:r>
            <a:r>
              <a:rPr b="0" lang="hi-IN" sz="2400" spc="-1" strike="noStrike">
                <a:solidFill>
                  <a:srgbClr val="333399"/>
                </a:solidFill>
                <a:latin typeface="Arial"/>
                <a:cs typeface="SKR HEAD1"/>
              </a:rPr>
              <a:t>التُّفاحة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hi-IN" sz="2400" spc="-1" strike="noStrike">
                <a:solidFill>
                  <a:srgbClr val="cc3300"/>
                </a:solidFill>
                <a:latin typeface="Arial"/>
                <a:cs typeface="SKR HEAD1"/>
              </a:rPr>
              <a:t>نصفَ</a:t>
            </a:r>
            <a:r>
              <a:rPr b="0" lang="hi-IN" sz="2400" spc="-1" strike="noStrike">
                <a:solidFill>
                  <a:srgbClr val="008000"/>
                </a:solidFill>
                <a:latin typeface="Arial"/>
                <a:cs typeface="SKR HEAD1"/>
              </a:rPr>
              <a:t>ه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32360" y="2852640"/>
            <a:ext cx="3887640" cy="64764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SKR HEAD1"/>
              </a:rPr>
              <a:t>لاتنسَ أنَّ البدلَ من التَّوابعِ فهو يتبعُ ماقبله في الإعراب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32360" y="2852640"/>
            <a:ext cx="3887640" cy="27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99"/>
                </a:solidFill>
                <a:latin typeface="Arial"/>
                <a:cs typeface="SKR HEAD1"/>
              </a:rPr>
              <a:t>التفاحةَ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SKR HEAD1"/>
              </a:rPr>
              <a:t>: مفعولٌ به 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  <a:cs typeface="SKR HEAD1"/>
              </a:rPr>
              <a:t>منصوبٌ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SKR HEAD1"/>
              </a:rPr>
              <a:t>وعلامةُ نصبِهِ الفتحة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SKR HEAD1"/>
              </a:rPr>
              <a:t>         الظَّاهرةُ على آخرِهِ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c3300"/>
                </a:solidFill>
                <a:latin typeface="Arial"/>
                <a:cs typeface="SKR HEAD1"/>
              </a:rPr>
              <a:t>نصفَ</a:t>
            </a:r>
            <a:r>
              <a:rPr b="0" lang="ar-SA" sz="2000" spc="-1" strike="noStrike">
                <a:solidFill>
                  <a:srgbClr val="008000"/>
                </a:solidFill>
                <a:latin typeface="Arial"/>
                <a:cs typeface="SKR HEAD1"/>
              </a:rPr>
              <a:t>ها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SKR HEAD1"/>
              </a:rPr>
              <a:t>: (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  <a:cs typeface="SKR HEAD1"/>
              </a:rPr>
              <a:t>نصفَ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SKR HEAD1"/>
              </a:rPr>
              <a:t>) </a:t>
            </a:r>
            <a:r>
              <a:rPr b="0" lang="ar-SA" sz="2000" spc="-1" strike="noStrike">
                <a:solidFill>
                  <a:srgbClr val="660066"/>
                </a:solidFill>
                <a:latin typeface="Arial"/>
                <a:cs typeface="SKR HEAD1"/>
              </a:rPr>
              <a:t>بدلُ بعضٍ من كُلٍّ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  <a:cs typeface="SKR HEAD1"/>
              </a:rPr>
              <a:t>منصوب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SKR HEAD1"/>
              </a:rPr>
              <a:t> وعلام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SKR HEAD1"/>
              </a:rPr>
              <a:t>نصبه الفتحة الظاهرة على آخره، وهو مضاف،و</a:t>
            </a:r>
            <a:r>
              <a:rPr b="0" lang="ar-SA" sz="2000" spc="-1" strike="noStrike">
                <a:solidFill>
                  <a:srgbClr val="008000"/>
                </a:solidFill>
                <a:latin typeface="Arial"/>
                <a:cs typeface="SKR HEAD1"/>
              </a:rPr>
              <a:t>الها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SKR HEAD1"/>
              </a:rPr>
              <a:t>ضمير مبني على السكون في محل جر بالإضاف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32360" y="2133720"/>
            <a:ext cx="388764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نزلتُ في </a:t>
            </a:r>
            <a:r>
              <a:rPr b="0" lang="hi-IN" sz="2400" spc="-1" strike="noStrike">
                <a:solidFill>
                  <a:srgbClr val="333399"/>
                </a:solidFill>
                <a:latin typeface="Arial"/>
                <a:cs typeface="SKR HEAD1"/>
              </a:rPr>
              <a:t>المدينة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hi-IN" sz="2400" spc="-1" strike="noStrike">
                <a:solidFill>
                  <a:srgbClr val="cc3300"/>
                </a:solidFill>
                <a:latin typeface="Arial"/>
                <a:cs typeface="SKR HEAD1"/>
              </a:rPr>
              <a:t>شمالِ</a:t>
            </a:r>
            <a:r>
              <a:rPr b="0" lang="hi-IN" sz="2400" spc="-1" strike="noStrike">
                <a:solidFill>
                  <a:srgbClr val="008000"/>
                </a:solidFill>
                <a:latin typeface="Arial"/>
                <a:cs typeface="SKR HEAD1"/>
              </a:rPr>
              <a:t>ه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2852640"/>
            <a:ext cx="3887640" cy="273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99"/>
                </a:solidFill>
                <a:latin typeface="Arial"/>
                <a:cs typeface="SKR HEAD1"/>
              </a:rPr>
              <a:t>المدينة: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SKR HEAD1"/>
              </a:rPr>
              <a:t> اسم 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  <a:cs typeface="SKR HEAD1"/>
              </a:rPr>
              <a:t>مجرور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SKR HEAD1"/>
              </a:rPr>
              <a:t> بـ ( في ) وعلامة جره الكس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SKR HEAD1"/>
              </a:rPr>
              <a:t>الظاهرة على آخر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c3300"/>
                </a:solidFill>
                <a:latin typeface="Arial"/>
                <a:cs typeface="SKR HEAD1"/>
              </a:rPr>
              <a:t>شمالِ</a:t>
            </a:r>
            <a:r>
              <a:rPr b="0" lang="ar-SA" sz="2000" spc="-1" strike="noStrike">
                <a:solidFill>
                  <a:srgbClr val="008000"/>
                </a:solidFill>
                <a:latin typeface="Arial"/>
                <a:cs typeface="SKR HEAD1"/>
              </a:rPr>
              <a:t>ها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SKR HEAD1"/>
              </a:rPr>
              <a:t>: (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  <a:cs typeface="SKR HEAD1"/>
              </a:rPr>
              <a:t>شمالِ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SKR HEAD1"/>
              </a:rPr>
              <a:t>)بدل بعض من كل 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  <a:cs typeface="SKR HEAD1"/>
              </a:rPr>
              <a:t>مجرور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SKR HEAD1"/>
              </a:rPr>
              <a:t> وعلامة جر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SKR HEAD1"/>
              </a:rPr>
              <a:t>الكسرة الظاهرة على آخره، وهو مضاف، والهاء ضمي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SKR HEAD1"/>
              </a:rPr>
              <a:t>مبني على السكون في محل جر بالإضاف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88000" y="1628640"/>
            <a:ext cx="4105080" cy="489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59280" y="1844640"/>
            <a:ext cx="388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تغيَّبَ اللاعبون  ربعُهم عن التَّدريبِ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59280" y="1844640"/>
            <a:ext cx="388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تغيَّبَ </a:t>
            </a:r>
            <a:r>
              <a:rPr b="0" lang="hi-IN" sz="2400" spc="-1" strike="noStrike">
                <a:solidFill>
                  <a:srgbClr val="333399"/>
                </a:solidFill>
                <a:latin typeface="Arial"/>
                <a:cs typeface="SKR HEAD1"/>
              </a:rPr>
              <a:t>اللاعب</a:t>
            </a:r>
            <a:r>
              <a:rPr b="0" lang="hi-IN" sz="2400" spc="-1" strike="noStrike">
                <a:solidFill>
                  <a:srgbClr val="cc3300"/>
                </a:solidFill>
                <a:latin typeface="Arial"/>
                <a:cs typeface="SKR HEAD1"/>
              </a:rPr>
              <a:t>و</a:t>
            </a:r>
            <a:r>
              <a:rPr b="0" lang="hi-IN" sz="2400" spc="-1" strike="noStrike">
                <a:solidFill>
                  <a:srgbClr val="333399"/>
                </a:solidFill>
                <a:latin typeface="Arial"/>
                <a:cs typeface="SKR HEAD1"/>
              </a:rPr>
              <a:t>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</a:t>
            </a:r>
            <a:r>
              <a:rPr b="0" lang="hi-IN" sz="2400" spc="-1" strike="noStrike">
                <a:solidFill>
                  <a:srgbClr val="cc3300"/>
                </a:solidFill>
                <a:latin typeface="Arial"/>
                <a:cs typeface="SKR HEAD1"/>
              </a:rPr>
              <a:t>ربعُ</a:t>
            </a:r>
            <a:r>
              <a:rPr b="0" lang="hi-IN" sz="2400" spc="-1" strike="noStrike">
                <a:solidFill>
                  <a:srgbClr val="008000"/>
                </a:solidFill>
                <a:latin typeface="Arial"/>
                <a:cs typeface="SKR HEAD1"/>
              </a:rPr>
              <a:t>ه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عن التَّدريبِ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59280" y="2637000"/>
            <a:ext cx="38894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99"/>
                </a:solidFill>
                <a:latin typeface="Arial"/>
                <a:cs typeface="SKR HEAD1"/>
              </a:rPr>
              <a:t>اللاعب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  <a:cs typeface="SKR HEAD1"/>
              </a:rPr>
              <a:t>و</a:t>
            </a:r>
            <a:r>
              <a:rPr b="0" lang="ar-SA" sz="2000" spc="-1" strike="noStrike">
                <a:solidFill>
                  <a:srgbClr val="333399"/>
                </a:solidFill>
                <a:latin typeface="Arial"/>
                <a:cs typeface="SKR HEAD1"/>
              </a:rPr>
              <a:t>ن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SKR HEAD1"/>
              </a:rPr>
              <a:t>: فاعلٌ 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  <a:cs typeface="SKR HEAD1"/>
              </a:rPr>
              <a:t>مرفوعٌ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SKR HEAD1"/>
              </a:rPr>
              <a:t> وعلامةُ رفعه الواو لأنه جمع مذك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SKR HEAD1"/>
              </a:rPr>
              <a:t>        سالم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c3300"/>
                </a:solidFill>
                <a:latin typeface="Arial"/>
                <a:cs typeface="SKR HEAD1"/>
              </a:rPr>
              <a:t>ربع</a:t>
            </a:r>
            <a:r>
              <a:rPr b="0" lang="ar-SA" sz="2000" spc="-1" strike="noStrike">
                <a:solidFill>
                  <a:srgbClr val="008000"/>
                </a:solidFill>
                <a:latin typeface="Arial"/>
                <a:cs typeface="SKR HEAD1"/>
              </a:rPr>
              <a:t>هم: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SKR HEAD1"/>
              </a:rPr>
              <a:t> ( ربعُ) </a:t>
            </a:r>
            <a:r>
              <a:rPr b="0" lang="ar-SA" sz="2000" spc="-1" strike="noStrike">
                <a:solidFill>
                  <a:srgbClr val="660066"/>
                </a:solidFill>
                <a:latin typeface="Arial"/>
                <a:cs typeface="SKR HEAD1"/>
              </a:rPr>
              <a:t>بدلُ بعضٍ من كل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  <a:cs typeface="SKR HEAD1"/>
              </a:rPr>
              <a:t>مرفوعٌ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SKR HEAD1"/>
              </a:rPr>
              <a:t> وعلامة رفع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SKR HEAD1"/>
              </a:rPr>
              <a:t>الضَّمةُالظَّاهرةُ على آخرِهِ ، وهو مضاف،و(</a:t>
            </a:r>
            <a:r>
              <a:rPr b="0" lang="ar-SA" sz="2000" spc="-1" strike="noStrike">
                <a:solidFill>
                  <a:srgbClr val="008000"/>
                </a:solidFill>
                <a:latin typeface="Arial"/>
                <a:cs typeface="SKR HEAD1"/>
              </a:rPr>
              <a:t>هم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SKR HEAD1"/>
              </a:rPr>
              <a:t>) ضمير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SKR HEAD1"/>
              </a:rPr>
              <a:t>مبني  على السكون   في محل جرٍ مضاف إلي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2565360"/>
            <a:ext cx="3960720" cy="3888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00720" y="2637000"/>
            <a:ext cx="1152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تنبيه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76720" y="3141720"/>
            <a:ext cx="3456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تذكَّرْ : أنَّه إذا كانَ نوعُ البدلِ بعضًا من كُلٍ فإنه يشترط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وجودُ ضميرٍ في البدلِ يعود على المبدلِ من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6720" y="3862440"/>
            <a:ext cx="3456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SKR HEAD1"/>
              </a:rPr>
              <a:t>ويتوقفُ إعرابُ البدلِ على إعراب المبدلِ منه فهو يتبع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SKR HEAD1"/>
              </a:rPr>
              <a:t>رفعًا ، ونصبًا وجرًّا.ويكون دائمًا مضافًا ، والضميرُ المتصل 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SKR HEAD1"/>
              </a:rPr>
              <a:t>به في محل جرٍ بالإضاف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2852640"/>
            <a:ext cx="64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مضا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35280" y="335772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0073000">
            <a:off x="1324080" y="3252600"/>
            <a:ext cx="144360" cy="431640"/>
          </a:xfrm>
          <a:prstGeom prst="downArrow">
            <a:avLst>
              <a:gd name="adj1" fmla="val 49454"/>
              <a:gd name="adj2" fmla="val 706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2852640"/>
            <a:ext cx="863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مضاف إلي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88000" y="1228680"/>
            <a:ext cx="648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مضا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32720" y="1733400"/>
            <a:ext cx="144360" cy="287640"/>
          </a:xfrm>
          <a:prstGeom prst="down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20073000">
            <a:off x="6292800" y="1628280"/>
            <a:ext cx="144360" cy="432000"/>
          </a:xfrm>
          <a:prstGeom prst="downArrow">
            <a:avLst>
              <a:gd name="adj1" fmla="val 49454"/>
              <a:gd name="adj2" fmla="val 706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24360" y="1228680"/>
            <a:ext cx="863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مضاف إلي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333360"/>
            <a:ext cx="2089080" cy="863640"/>
          </a:xfrm>
          <a:prstGeom prst="rect">
            <a:avLst/>
          </a:prstGeom>
          <a:gradFill rotWithShape="0">
            <a:gsLst>
              <a:gs pos="0">
                <a:srgbClr val="663012"/>
              </a:gs>
              <a:gs pos="5000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35280" y="406440"/>
            <a:ext cx="1944720" cy="7189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52720" y="476280"/>
            <a:ext cx="165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لاستنتا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99280" y="1557360"/>
            <a:ext cx="505080" cy="431640"/>
          </a:xfrm>
          <a:prstGeom prst="rect">
            <a:avLst/>
          </a:prstGeom>
          <a:gradFill rotWithShape="0">
            <a:gsLst>
              <a:gs pos="0">
                <a:srgbClr val="663012"/>
              </a:gs>
              <a:gs pos="5000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72360" y="162864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099280" y="5732640"/>
            <a:ext cx="576360" cy="504720"/>
          </a:xfrm>
          <a:prstGeom prst="rect">
            <a:avLst/>
          </a:prstGeom>
          <a:gradFill rotWithShape="0">
            <a:gsLst>
              <a:gs pos="0">
                <a:srgbClr val="663012"/>
              </a:gs>
              <a:gs pos="5000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2360" y="5805360"/>
            <a:ext cx="432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101080" y="2421000"/>
            <a:ext cx="504720" cy="431640"/>
          </a:xfrm>
          <a:prstGeom prst="rect">
            <a:avLst/>
          </a:prstGeom>
          <a:gradFill rotWithShape="0">
            <a:gsLst>
              <a:gs pos="0">
                <a:srgbClr val="663012"/>
              </a:gs>
              <a:gs pos="5000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174160" y="24922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4286160" cy="419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556000" y="5315040"/>
            <a:ext cx="4286160" cy="4190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68360" y="1341360"/>
            <a:ext cx="8353440" cy="793800"/>
          </a:xfrm>
          <a:prstGeom prst="rect">
            <a:avLst/>
          </a:prstGeom>
          <a:gradFill rotWithShape="0">
            <a:gsLst>
              <a:gs pos="0">
                <a:srgbClr val="663012">
                  <a:alpha val="22352"/>
                </a:srgbClr>
              </a:gs>
              <a:gs pos="50000">
                <a:srgbClr val="d6b19c">
                  <a:alpha val="22352"/>
                </a:srgbClr>
              </a:gs>
              <a:gs pos="100000">
                <a:srgbClr val="663012">
                  <a:alpha val="2235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2205000"/>
            <a:ext cx="8353440" cy="3240000"/>
          </a:xfrm>
          <a:prstGeom prst="rect">
            <a:avLst/>
          </a:prstGeom>
          <a:gradFill rotWithShape="0">
            <a:gsLst>
              <a:gs pos="0">
                <a:srgbClr val="663012">
                  <a:alpha val="22352"/>
                </a:srgbClr>
              </a:gs>
              <a:gs pos="50000">
                <a:srgbClr val="d6b19c">
                  <a:alpha val="22352"/>
                </a:srgbClr>
              </a:gs>
              <a:gs pos="100000">
                <a:srgbClr val="663012">
                  <a:alpha val="2235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1486080"/>
            <a:ext cx="468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cc3300"/>
                </a:solidFill>
                <a:latin typeface="Arial"/>
                <a:cs typeface="SKR HEAD1"/>
              </a:rPr>
              <a:t>البدلُ: </a:t>
            </a:r>
            <a:r>
              <a:rPr b="0" lang="hi-IN" sz="2000" spc="-1" strike="noStrike">
                <a:solidFill>
                  <a:srgbClr val="333399"/>
                </a:solidFill>
                <a:latin typeface="Arial"/>
                <a:cs typeface="SKR HEAD1"/>
              </a:rPr>
              <a:t>اسمٌ </a:t>
            </a:r>
            <a:r>
              <a:rPr b="0" lang="hi-IN" sz="2000" spc="-1" strike="noStrike">
                <a:solidFill>
                  <a:srgbClr val="008000"/>
                </a:solidFill>
                <a:latin typeface="Arial"/>
                <a:cs typeface="SKR HEAD1"/>
              </a:rPr>
              <a:t>تابعٌ </a:t>
            </a:r>
            <a:r>
              <a:rPr b="0" lang="hi-IN" sz="2000" spc="-1" strike="noStrike">
                <a:solidFill>
                  <a:srgbClr val="333399"/>
                </a:solidFill>
                <a:latin typeface="Arial"/>
                <a:cs typeface="SKR HEAD1"/>
              </a:rPr>
              <a:t>مقصودُ بالحكمِ من غيرِ واسطةٍ بينَهُ وبينَ المبدَلِ من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5516640"/>
            <a:ext cx="8353440" cy="936720"/>
          </a:xfrm>
          <a:prstGeom prst="rect">
            <a:avLst/>
          </a:prstGeom>
          <a:gradFill rotWithShape="0">
            <a:gsLst>
              <a:gs pos="0">
                <a:srgbClr val="663012">
                  <a:alpha val="22352"/>
                </a:srgbClr>
              </a:gs>
              <a:gs pos="50000">
                <a:srgbClr val="d6b19c">
                  <a:alpha val="22352"/>
                </a:srgbClr>
              </a:gs>
              <a:gs pos="100000">
                <a:srgbClr val="663012">
                  <a:alpha val="2235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30920" y="2349360"/>
            <a:ext cx="1370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البدلُ </a:t>
            </a:r>
            <a:r>
              <a:rPr b="0" lang="hi-IN" sz="2000" spc="-1" strike="noStrike">
                <a:solidFill>
                  <a:srgbClr val="660066"/>
                </a:solidFill>
                <a:latin typeface="Arial"/>
                <a:cs typeface="SKR HEAD1"/>
              </a:rPr>
              <a:t>أنواعُ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منها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21440" y="3500280"/>
            <a:ext cx="2087280" cy="433440"/>
          </a:xfrm>
          <a:prstGeom prst="rect">
            <a:avLst/>
          </a:prstGeom>
          <a:gradFill rotWithShape="0">
            <a:gsLst>
              <a:gs pos="0">
                <a:srgbClr val="ffcc99">
                  <a:alpha val="83137"/>
                </a:srgbClr>
              </a:gs>
              <a:gs pos="50000">
                <a:srgbClr val="ffff99">
                  <a:alpha val="83137"/>
                </a:srgbClr>
              </a:gs>
              <a:gs pos="100000">
                <a:srgbClr val="ffcc99">
                  <a:alpha val="8313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اشتهرَ </a:t>
            </a:r>
            <a:r>
              <a:rPr b="0" lang="hi-IN" sz="2000" spc="-1" strike="noStrike">
                <a:solidFill>
                  <a:srgbClr val="333399"/>
                </a:solidFill>
                <a:latin typeface="Arial"/>
                <a:cs typeface="SKR HEAD1"/>
              </a:rPr>
              <a:t>الخليفة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hi-IN" sz="2000" spc="-1" strike="noStrike">
                <a:solidFill>
                  <a:srgbClr val="ff3300"/>
                </a:solidFill>
                <a:latin typeface="Arial"/>
                <a:cs typeface="SKR HEAD1"/>
              </a:rPr>
              <a:t>عمرُ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بالعد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3500280"/>
            <a:ext cx="2087640" cy="433440"/>
          </a:xfrm>
          <a:prstGeom prst="rect">
            <a:avLst/>
          </a:prstGeom>
          <a:gradFill rotWithShape="0">
            <a:gsLst>
              <a:gs pos="0">
                <a:srgbClr val="ffcc99">
                  <a:alpha val="83137"/>
                </a:srgbClr>
              </a:gs>
              <a:gs pos="50000">
                <a:srgbClr val="ffff99">
                  <a:alpha val="83137"/>
                </a:srgbClr>
              </a:gs>
              <a:gs pos="100000">
                <a:srgbClr val="ffcc99">
                  <a:alpha val="8313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قابل خالدٌ </a:t>
            </a:r>
            <a:r>
              <a:rPr b="0" lang="hi-IN" sz="2000" spc="-1" strike="noStrike">
                <a:solidFill>
                  <a:srgbClr val="333399"/>
                </a:solidFill>
                <a:latin typeface="Arial"/>
                <a:cs typeface="SKR HEAD1"/>
              </a:rPr>
              <a:t>صديقَه </a:t>
            </a:r>
            <a:r>
              <a:rPr b="0" lang="hi-IN" sz="2000" spc="-1" strike="noStrike">
                <a:solidFill>
                  <a:srgbClr val="ff3300"/>
                </a:solidFill>
                <a:latin typeface="Arial"/>
                <a:cs typeface="SKR HEAD1"/>
              </a:rPr>
              <a:t>محمدً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KR HEAD1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21440" y="4795920"/>
            <a:ext cx="2087280" cy="433440"/>
          </a:xfrm>
          <a:prstGeom prst="rect">
            <a:avLst/>
          </a:prstGeom>
          <a:gradFill rotWithShape="0">
            <a:gsLst>
              <a:gs pos="0">
                <a:srgbClr val="ffcc99">
                  <a:alpha val="83137"/>
                </a:srgbClr>
              </a:gs>
              <a:gs pos="50000">
                <a:srgbClr val="ffff99">
                  <a:alpha val="83137"/>
                </a:srgbClr>
              </a:gs>
              <a:gs pos="100000">
                <a:srgbClr val="ffcc99">
                  <a:alpha val="8313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SKR HEAD1"/>
              </a:rPr>
              <a:t>مُطِرتْ </a:t>
            </a:r>
            <a:r>
              <a:rPr b="0" lang="ar-SA" sz="2000" spc="-1" strike="noStrike">
                <a:solidFill>
                  <a:srgbClr val="333399"/>
                </a:solidFill>
                <a:latin typeface="Arial"/>
                <a:cs typeface="SKR HEAD1"/>
              </a:rPr>
              <a:t>عنيزةُ </a:t>
            </a:r>
            <a:r>
              <a:rPr b="0" lang="ar-SA" sz="2000" spc="-1" strike="noStrike">
                <a:solidFill>
                  <a:srgbClr val="ff3300"/>
                </a:solidFill>
                <a:latin typeface="Arial"/>
                <a:cs typeface="SKR HEAD1"/>
              </a:rPr>
              <a:t>غربيُّ</a:t>
            </a:r>
            <a:r>
              <a:rPr b="0" lang="ar-SA" sz="2000" spc="-1" strike="noStrike">
                <a:solidFill>
                  <a:srgbClr val="339933"/>
                </a:solidFill>
                <a:latin typeface="Arial"/>
                <a:cs typeface="SKR HEAD1"/>
              </a:rPr>
              <a:t>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0360" y="4795920"/>
            <a:ext cx="2087640" cy="433440"/>
          </a:xfrm>
          <a:prstGeom prst="rect">
            <a:avLst/>
          </a:prstGeom>
          <a:gradFill rotWithShape="0">
            <a:gsLst>
              <a:gs pos="0">
                <a:srgbClr val="ffcc99">
                  <a:alpha val="83137"/>
                </a:srgbClr>
              </a:gs>
              <a:gs pos="50000">
                <a:srgbClr val="ffff99">
                  <a:alpha val="83137"/>
                </a:srgbClr>
              </a:gs>
              <a:gs pos="100000">
                <a:srgbClr val="ffcc99">
                  <a:alpha val="8313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أمسكتُ ا</a:t>
            </a:r>
            <a:r>
              <a:rPr b="0" lang="hi-IN" sz="2000" spc="-1" strike="noStrike">
                <a:solidFill>
                  <a:srgbClr val="333399"/>
                </a:solidFill>
                <a:latin typeface="Arial"/>
                <a:cs typeface="SKR HEAD1"/>
              </a:rPr>
              <a:t>لطائرَ </a:t>
            </a:r>
            <a:r>
              <a:rPr b="0" lang="hi-IN" sz="2000" spc="-1" strike="noStrike">
                <a:solidFill>
                  <a:srgbClr val="ff3300"/>
                </a:solidFill>
                <a:latin typeface="Arial"/>
                <a:cs typeface="SKR HEAD1"/>
              </a:rPr>
              <a:t>جناحَ</a:t>
            </a:r>
            <a:r>
              <a:rPr b="0" lang="hi-IN" sz="2000" spc="-1" strike="noStrike">
                <a:solidFill>
                  <a:srgbClr val="339933"/>
                </a:solidFill>
                <a:latin typeface="Arial"/>
                <a:cs typeface="SKR HEAD1"/>
              </a:rPr>
              <a:t>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KR HEAD1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2852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660066"/>
                </a:solidFill>
                <a:latin typeface="Arial"/>
                <a:cs typeface="SKR HEAD1"/>
              </a:rPr>
              <a:t>البدلُ المطابقُ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، وفيه يكونُ البدلُ مساويًا للمُبدَلِ من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80360" y="2997360"/>
            <a:ext cx="360360" cy="360360"/>
          </a:xfrm>
          <a:prstGeom prst="octagon">
            <a:avLst>
              <a:gd name="adj" fmla="val 27315"/>
            </a:avLst>
          </a:prstGeom>
          <a:gradFill rotWithShape="0">
            <a:gsLst>
              <a:gs pos="0">
                <a:srgbClr val="ffcc99">
                  <a:alpha val="83137"/>
                </a:srgbClr>
              </a:gs>
              <a:gs pos="50000">
                <a:srgbClr val="ffff99">
                  <a:alpha val="83137"/>
                </a:srgbClr>
              </a:gs>
              <a:gs pos="100000">
                <a:srgbClr val="ffcc99">
                  <a:alpha val="8313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80360" y="4292640"/>
            <a:ext cx="360360" cy="360360"/>
          </a:xfrm>
          <a:prstGeom prst="octagon">
            <a:avLst>
              <a:gd name="adj" fmla="val 27315"/>
            </a:avLst>
          </a:prstGeom>
          <a:gradFill rotWithShape="0">
            <a:gsLst>
              <a:gs pos="0">
                <a:srgbClr val="ffcc99">
                  <a:alpha val="83137"/>
                </a:srgbClr>
              </a:gs>
              <a:gs pos="50000">
                <a:srgbClr val="ffff99">
                  <a:alpha val="83137"/>
                </a:srgbClr>
              </a:gs>
              <a:gs pos="100000">
                <a:srgbClr val="ffcc99">
                  <a:alpha val="8313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13080" y="5805360"/>
            <a:ext cx="568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يطابقُ البدَلُ المبدلَ منه في الإعرابِ : رفعًا ونصبًا وجرًّا ؛ ولذا يُسمَّى (تابعًا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422100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660066"/>
                </a:solidFill>
                <a:latin typeface="Arial"/>
                <a:cs typeface="SKR HEAD1"/>
              </a:rPr>
              <a:t>بدلُ بعضٍ مِنْ كُلٍّ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SKR HEAD1"/>
              </a:rPr>
              <a:t>، وفيه يكونُ البدَلُ جزءًا مِنَ المُبدَلِ منه، ويشتملُ على ضميرٍ يعودُ على المبدلِ من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8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0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2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7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9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1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4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6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8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3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5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7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80000" y="333360"/>
            <a:ext cx="1512720" cy="720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تطبيق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45080" y="1268280"/>
            <a:ext cx="4103640" cy="518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6720" y="1268280"/>
            <a:ext cx="4104000" cy="518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88000" y="1413000"/>
            <a:ext cx="381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 عيِّن البدلَ والمُبْدَلَ مِنْهُ فيما يل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88000" y="2492280"/>
            <a:ext cx="3816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حضرَ المديرُ خالدٌ حفل التَّكريمِ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88000" y="3500280"/>
            <a:ext cx="3816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عطبَت الطائرةُ جناحُ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88000" y="4581360"/>
            <a:ext cx="3816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خُذْ قلمين ، قلمًا لك ، وقلمًا لزميل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88000" y="5661000"/>
            <a:ext cx="3816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أُحبُّ اللغةَ العربيةَ قواعدَ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1413000"/>
            <a:ext cx="3816360" cy="576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 بيِّنْ نوعَ البدلِ في الجملِ السَّابقةِ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4360" y="2494080"/>
            <a:ext cx="331128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بدلٌ مطابق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4360" y="3500280"/>
            <a:ext cx="331128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بدلُ بعضٍ مِنْ كُلّ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4581360"/>
            <a:ext cx="331128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بدلٌ مطابق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5661000"/>
            <a:ext cx="331128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بدلُ بعضٍ مِنْ كُلّ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2720" y="2565360"/>
            <a:ext cx="1079640" cy="360360"/>
          </a:xfrm>
          <a:prstGeom prst="rightArrow">
            <a:avLst>
              <a:gd name="adj1" fmla="val 50000"/>
              <a:gd name="adj2" fmla="val 749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2720" y="3571920"/>
            <a:ext cx="1079640" cy="360360"/>
          </a:xfrm>
          <a:prstGeom prst="rightArrow">
            <a:avLst>
              <a:gd name="adj1" fmla="val 50000"/>
              <a:gd name="adj2" fmla="val 749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52720" y="4653000"/>
            <a:ext cx="1079640" cy="360360"/>
          </a:xfrm>
          <a:prstGeom prst="rightArrow">
            <a:avLst>
              <a:gd name="adj1" fmla="val 50000"/>
              <a:gd name="adj2" fmla="val 749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5732640"/>
            <a:ext cx="1079640" cy="360360"/>
          </a:xfrm>
          <a:prstGeom prst="rightArrow">
            <a:avLst>
              <a:gd name="adj1" fmla="val 50000"/>
              <a:gd name="adj2" fmla="val 749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61080" y="1916280"/>
            <a:ext cx="647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البدل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40720" y="191628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المبدلُ من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67640" y="2276640"/>
            <a:ext cx="216000" cy="288720"/>
          </a:xfrm>
          <a:prstGeom prst="downArrow">
            <a:avLst>
              <a:gd name="adj1" fmla="val 50000"/>
              <a:gd name="adj2" fmla="val 334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164360" y="2276640"/>
            <a:ext cx="216000" cy="288720"/>
          </a:xfrm>
          <a:prstGeom prst="downArrow">
            <a:avLst>
              <a:gd name="adj1" fmla="val 50000"/>
              <a:gd name="adj2" fmla="val 334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29440" y="2995560"/>
            <a:ext cx="647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البدل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08720" y="2995560"/>
            <a:ext cx="792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المبدلُ من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36000" y="335592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32720" y="335592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40360" y="4075200"/>
            <a:ext cx="144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البدل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812000" y="4075200"/>
            <a:ext cx="792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المبدلُ من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38920" y="4435560"/>
            <a:ext cx="216000" cy="288720"/>
          </a:xfrm>
          <a:prstGeom prst="downArrow">
            <a:avLst>
              <a:gd name="adj1" fmla="val 50000"/>
              <a:gd name="adj2" fmla="val 334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236000" y="4435560"/>
            <a:ext cx="215640" cy="288720"/>
          </a:xfrm>
          <a:prstGeom prst="downArrow">
            <a:avLst>
              <a:gd name="adj1" fmla="val 50000"/>
              <a:gd name="adj2" fmla="val 33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84720" y="5156280"/>
            <a:ext cx="648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البدل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12000" y="5156280"/>
            <a:ext cx="792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المبدلُ من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38920" y="5516640"/>
            <a:ext cx="216000" cy="288720"/>
          </a:xfrm>
          <a:prstGeom prst="downArrow">
            <a:avLst>
              <a:gd name="adj1" fmla="val 50000"/>
              <a:gd name="adj2" fmla="val 334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588000" y="5516640"/>
            <a:ext cx="216000" cy="288720"/>
          </a:xfrm>
          <a:prstGeom prst="downArrow">
            <a:avLst>
              <a:gd name="adj1" fmla="val 50000"/>
              <a:gd name="adj2" fmla="val 334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164360" y="5013360"/>
            <a:ext cx="432000" cy="71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27640" y="5013360"/>
            <a:ext cx="432000" cy="71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79280" y="115920"/>
            <a:ext cx="8785440" cy="648000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95640" y="404640"/>
            <a:ext cx="4319640" cy="1152720"/>
          </a:xfrm>
          <a:prstGeom prst="flowChartMultidocumen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800080"/>
                </a:solidFill>
                <a:latin typeface="Arial"/>
                <a:cs typeface="Traditional Arabic"/>
              </a:rPr>
              <a:t>أعزائي الطلا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564000" y="1860480"/>
            <a:ext cx="4248000" cy="36561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85760" y="2076480"/>
            <a:ext cx="3809880" cy="3152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rot="19450200">
            <a:off x="4140360" y="3068280"/>
            <a:ext cx="7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raditional Arabic"/>
              </a:rPr>
              <a:t>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71640" y="5516640"/>
            <a:ext cx="7272360" cy="10522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SKR HEAD1"/>
              </a:rPr>
              <a:t>تقبلوا احترامي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KR HEAD1"/>
              </a:rPr>
              <a:t> ،،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22:51:07Z</dcterms:created>
  <dc:creator>user</dc:creator>
  <dc:description/>
  <dc:language>en-US</dc:language>
  <cp:lastModifiedBy>user</cp:lastModifiedBy>
  <dcterms:modified xsi:type="dcterms:W3CDTF">2009-03-09T17:58:07Z</dcterms:modified>
  <cp:revision>20</cp:revision>
  <dc:subject/>
  <dc:title>الشريحة 1</dc:title>
</cp:coreProperties>
</file>