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887-7436-418E-99B7-E5A72CED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D75-C2E2-4208-8457-1440C7E9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4A8-C9DE-42E9-A4AA-DB16D447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702-7813-4FD8-B52A-2A2082AD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05A-81C9-4A1E-B6BA-945F2B00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A67-5145-4B54-A1EC-1AABB643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E6F-B223-40C7-9CC8-5965FCF9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A20-E58E-40B4-91CC-127AF3F5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352-80FA-43F6-BB1A-8DE5E722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B02-EBF4-44D8-A459-75B76516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99D-3151-46FD-99CB-71F5617B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900-7510-43DA-BA0F-BACBFEC9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743B-3CF8-4B9E-B071-FC4F67ACD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32000" y="115920"/>
            <a:ext cx="3241800" cy="1198800"/>
            <a:chOff x="3132000" y="115920"/>
            <a:chExt cx="3241800" cy="1198800"/>
          </a:xfrm>
        </p:grpSpPr>
        <p:sp>
          <p:nvSpPr>
            <p:cNvPr id="42" name=""/>
            <p:cNvSpPr/>
            <p:nvPr/>
          </p:nvSpPr>
          <p:spPr>
            <a:xfrm>
              <a:off x="3350160" y="245880"/>
              <a:ext cx="280404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سائل حساب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132000" y="115920"/>
              <a:ext cx="3241800" cy="815760"/>
            </a:xfrm>
            <a:custGeom>
              <a:avLst/>
              <a:gdLst>
                <a:gd name="textAreaLeft" fmla="*/ 203760 w 3241800"/>
                <a:gd name="textAreaRight" fmla="*/ 3038040 w 3241800"/>
                <a:gd name="textAreaTop" fmla="*/ 203760 h 815760"/>
                <a:gd name="textAreaBottom" fmla="*/ 612000 h 815760"/>
              </a:gdLst>
              <a:ahLst/>
              <a:rect l="textAreaLeft" t="textAreaTop" r="textAreaRight" b="textAreaBottom"/>
              <a:pathLst>
                <a:path w="85809" h="21600">
                  <a:moveTo>
                    <a:pt x="0" y="0"/>
                  </a:moveTo>
                  <a:lnTo>
                    <a:pt x="0" y="21600"/>
                  </a:lnTo>
                  <a:lnTo>
                    <a:pt x="85809" y="21600"/>
                  </a:lnTo>
                  <a:lnTo>
                    <a:pt x="85809" y="0"/>
                  </a:lnTo>
                  <a:close/>
                  <a:moveTo>
                    <a:pt x="5400" y="5400"/>
                  </a:moveTo>
                  <a:lnTo>
                    <a:pt x="5400" y="16200"/>
                  </a:lnTo>
                  <a:lnTo>
                    <a:pt x="80409" y="16200"/>
                  </a:lnTo>
                  <a:lnTo>
                    <a:pt x="80409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0360" y="2816280"/>
            <a:ext cx="4925880" cy="684000"/>
            <a:chOff x="4140360" y="2816280"/>
            <a:chExt cx="4925880" cy="684000"/>
          </a:xfrm>
        </p:grpSpPr>
        <p:sp>
          <p:nvSpPr>
            <p:cNvPr id="45" name=""/>
            <p:cNvSpPr/>
            <p:nvPr/>
          </p:nvSpPr>
          <p:spPr>
            <a:xfrm>
              <a:off x="4140360" y="2816280"/>
              <a:ext cx="492588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40360" y="2889360"/>
              <a:ext cx="48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عدد صحيح مضافا إليه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7435800" y="188640"/>
            <a:ext cx="1528920" cy="1112040"/>
            <a:chOff x="7435800" y="188640"/>
            <a:chExt cx="1528920" cy="1112040"/>
          </a:xfrm>
        </p:grpSpPr>
        <p:sp>
          <p:nvSpPr>
            <p:cNvPr id="48" name=""/>
            <p:cNvSpPr/>
            <p:nvPr/>
          </p:nvSpPr>
          <p:spPr>
            <a:xfrm rot="16200000">
              <a:off x="7920720" y="-207360"/>
              <a:ext cx="647640" cy="1440000"/>
            </a:xfrm>
            <a:prstGeom prst="flowChartDelay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435800" y="231840"/>
              <a:ext cx="1528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تمهيد </a:t>
              </a: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16360" y="1125360"/>
            <a:ext cx="6119640" cy="1036080"/>
            <a:chOff x="2916360" y="1125360"/>
            <a:chExt cx="6119640" cy="1036080"/>
          </a:xfrm>
        </p:grpSpPr>
        <p:sp>
          <p:nvSpPr>
            <p:cNvPr id="51" name=""/>
            <p:cNvSpPr/>
            <p:nvPr/>
          </p:nvSpPr>
          <p:spPr>
            <a:xfrm>
              <a:off x="2916360" y="1125360"/>
              <a:ext cx="6119640" cy="71928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2720" y="1214280"/>
              <a:ext cx="5870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</a:rPr>
                <a:t>حول الجمل اللفظية التالية إلى عبارات رياضية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14800" y="2060640"/>
            <a:ext cx="4932360" cy="684000"/>
            <a:chOff x="4114800" y="2060640"/>
            <a:chExt cx="4932360" cy="684000"/>
          </a:xfrm>
        </p:grpSpPr>
        <p:sp>
          <p:nvSpPr>
            <p:cNvPr id="54" name=""/>
            <p:cNvSpPr/>
            <p:nvPr/>
          </p:nvSpPr>
          <p:spPr>
            <a:xfrm>
              <a:off x="4114800" y="2060640"/>
              <a:ext cx="493236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2133720"/>
              <a:ext cx="47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جملة اللفظ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924360" y="2060640"/>
            <a:ext cx="0" cy="45370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4000" y="2060640"/>
            <a:ext cx="3362040" cy="684000"/>
            <a:chOff x="324000" y="2060640"/>
            <a:chExt cx="3362040" cy="684000"/>
          </a:xfrm>
        </p:grpSpPr>
        <p:sp>
          <p:nvSpPr>
            <p:cNvPr id="58" name=""/>
            <p:cNvSpPr/>
            <p:nvPr/>
          </p:nvSpPr>
          <p:spPr>
            <a:xfrm>
              <a:off x="324000" y="2060640"/>
              <a:ext cx="336204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5280" y="213372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عبارة الرياض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140360" y="3537000"/>
            <a:ext cx="4925880" cy="684000"/>
            <a:chOff x="4140360" y="3537000"/>
            <a:chExt cx="4925880" cy="684000"/>
          </a:xfrm>
        </p:grpSpPr>
        <p:sp>
          <p:nvSpPr>
            <p:cNvPr id="61" name=""/>
            <p:cNvSpPr/>
            <p:nvPr/>
          </p:nvSpPr>
          <p:spPr>
            <a:xfrm>
              <a:off x="4140360" y="3537000"/>
              <a:ext cx="492588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40360" y="3610080"/>
              <a:ext cx="48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ثلاثة أمثال عد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40360" y="4257720"/>
            <a:ext cx="4925880" cy="684000"/>
            <a:chOff x="4140360" y="4257720"/>
            <a:chExt cx="4925880" cy="684000"/>
          </a:xfrm>
        </p:grpSpPr>
        <p:sp>
          <p:nvSpPr>
            <p:cNvPr id="64" name=""/>
            <p:cNvSpPr/>
            <p:nvPr/>
          </p:nvSpPr>
          <p:spPr>
            <a:xfrm>
              <a:off x="4140360" y="4257720"/>
              <a:ext cx="492588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40360" y="4330800"/>
              <a:ext cx="48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ثلاثة أمثال عدد مطروحا منه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140360" y="4976640"/>
            <a:ext cx="4925880" cy="684000"/>
            <a:chOff x="4140360" y="4976640"/>
            <a:chExt cx="4925880" cy="684000"/>
          </a:xfrm>
        </p:grpSpPr>
        <p:sp>
          <p:nvSpPr>
            <p:cNvPr id="67" name=""/>
            <p:cNvSpPr/>
            <p:nvPr/>
          </p:nvSpPr>
          <p:spPr>
            <a:xfrm>
              <a:off x="4140360" y="4976640"/>
              <a:ext cx="492588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40360" y="5049720"/>
              <a:ext cx="48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حاصل جمع عددين متتاليي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140360" y="5697360"/>
            <a:ext cx="4925880" cy="898560"/>
            <a:chOff x="4140360" y="5697360"/>
            <a:chExt cx="4925880" cy="898560"/>
          </a:xfrm>
        </p:grpSpPr>
        <p:sp>
          <p:nvSpPr>
            <p:cNvPr id="70" name=""/>
            <p:cNvSpPr/>
            <p:nvPr/>
          </p:nvSpPr>
          <p:spPr>
            <a:xfrm>
              <a:off x="4140360" y="5697360"/>
              <a:ext cx="492588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40360" y="5770440"/>
              <a:ext cx="48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ربعة أمثال عمر فهد بعد خمس سنو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24000" y="2816280"/>
            <a:ext cx="3341520" cy="684000"/>
            <a:chOff x="324000" y="2816280"/>
            <a:chExt cx="3341520" cy="684000"/>
          </a:xfrm>
        </p:grpSpPr>
        <p:sp>
          <p:nvSpPr>
            <p:cNvPr id="73" name=""/>
            <p:cNvSpPr/>
            <p:nvPr/>
          </p:nvSpPr>
          <p:spPr>
            <a:xfrm>
              <a:off x="324000" y="2816280"/>
              <a:ext cx="334152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4000" y="2889360"/>
              <a:ext cx="327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س +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06360" y="3537000"/>
            <a:ext cx="3341880" cy="684000"/>
            <a:chOff x="306360" y="3537000"/>
            <a:chExt cx="3341880" cy="684000"/>
          </a:xfrm>
        </p:grpSpPr>
        <p:sp>
          <p:nvSpPr>
            <p:cNvPr id="76" name=""/>
            <p:cNvSpPr/>
            <p:nvPr/>
          </p:nvSpPr>
          <p:spPr>
            <a:xfrm>
              <a:off x="306360" y="3537000"/>
              <a:ext cx="334188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6360" y="3610080"/>
              <a:ext cx="32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24000" y="4257720"/>
            <a:ext cx="3341520" cy="684000"/>
            <a:chOff x="324000" y="4257720"/>
            <a:chExt cx="3341520" cy="684000"/>
          </a:xfrm>
        </p:grpSpPr>
        <p:sp>
          <p:nvSpPr>
            <p:cNvPr id="79" name=""/>
            <p:cNvSpPr/>
            <p:nvPr/>
          </p:nvSpPr>
          <p:spPr>
            <a:xfrm>
              <a:off x="324000" y="4257720"/>
              <a:ext cx="334152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4330800"/>
              <a:ext cx="327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س -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24000" y="4976640"/>
            <a:ext cx="3341520" cy="684000"/>
            <a:chOff x="324000" y="4976640"/>
            <a:chExt cx="3341520" cy="684000"/>
          </a:xfrm>
        </p:grpSpPr>
        <p:sp>
          <p:nvSpPr>
            <p:cNvPr id="82" name=""/>
            <p:cNvSpPr/>
            <p:nvPr/>
          </p:nvSpPr>
          <p:spPr>
            <a:xfrm>
              <a:off x="324000" y="4976640"/>
              <a:ext cx="334152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5049720"/>
              <a:ext cx="327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2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س +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24000" y="5697360"/>
            <a:ext cx="3341520" cy="684000"/>
            <a:chOff x="324000" y="5697360"/>
            <a:chExt cx="3341520" cy="684000"/>
          </a:xfrm>
        </p:grpSpPr>
        <p:sp>
          <p:nvSpPr>
            <p:cNvPr id="85" name=""/>
            <p:cNvSpPr/>
            <p:nvPr/>
          </p:nvSpPr>
          <p:spPr>
            <a:xfrm>
              <a:off x="324000" y="5697360"/>
              <a:ext cx="334152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4000" y="5770440"/>
              <a:ext cx="327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4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س +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79280" y="189000"/>
            <a:ext cx="266400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0464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عدد = 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83664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عدد مضافا إليه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س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89000"/>
            <a:ext cx="266400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40464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عدد = 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83664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ثلاثة أمثال العدد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س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89000"/>
            <a:ext cx="273708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6208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عدد = 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69372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ثلاثة أمثال العدد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س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197000"/>
            <a:ext cx="266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ثلاثة أمثال العدد مطروحا منه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س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89000"/>
            <a:ext cx="273708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6208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عدد الأول = 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69372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ذي يليه = س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197000"/>
            <a:ext cx="266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حاصل جمعهما= س + س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89000"/>
            <a:ext cx="273708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62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عمر فهد = 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93720"/>
            <a:ext cx="25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بعد خمس سنوات = س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19700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أربعة أمثاله بعد خمس سنوات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س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7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8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2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7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2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7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7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7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7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132000" y="115920"/>
            <a:ext cx="3241800" cy="1198800"/>
            <a:chOff x="3132000" y="115920"/>
            <a:chExt cx="3241800" cy="1198800"/>
          </a:xfrm>
        </p:grpSpPr>
        <p:sp>
          <p:nvSpPr>
            <p:cNvPr id="106" name=""/>
            <p:cNvSpPr/>
            <p:nvPr/>
          </p:nvSpPr>
          <p:spPr>
            <a:xfrm>
              <a:off x="3350160" y="245880"/>
              <a:ext cx="280404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سائل حساب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32000" y="115920"/>
              <a:ext cx="3241800" cy="815760"/>
            </a:xfrm>
            <a:custGeom>
              <a:avLst/>
              <a:gdLst>
                <a:gd name="textAreaLeft" fmla="*/ 203760 w 3241800"/>
                <a:gd name="textAreaRight" fmla="*/ 3038040 w 3241800"/>
                <a:gd name="textAreaTop" fmla="*/ 203760 h 815760"/>
                <a:gd name="textAreaBottom" fmla="*/ 612000 h 815760"/>
              </a:gdLst>
              <a:ahLst/>
              <a:rect l="textAreaLeft" t="textAreaTop" r="textAreaRight" b="textAreaBottom"/>
              <a:pathLst>
                <a:path w="85809" h="21600">
                  <a:moveTo>
                    <a:pt x="0" y="0"/>
                  </a:moveTo>
                  <a:lnTo>
                    <a:pt x="0" y="21600"/>
                  </a:lnTo>
                  <a:lnTo>
                    <a:pt x="85809" y="21600"/>
                  </a:lnTo>
                  <a:lnTo>
                    <a:pt x="85809" y="0"/>
                  </a:lnTo>
                  <a:close/>
                  <a:moveTo>
                    <a:pt x="5400" y="5400"/>
                  </a:moveTo>
                  <a:lnTo>
                    <a:pt x="5400" y="16200"/>
                  </a:lnTo>
                  <a:lnTo>
                    <a:pt x="80409" y="16200"/>
                  </a:lnTo>
                  <a:lnTo>
                    <a:pt x="80409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492360" y="2816280"/>
            <a:ext cx="5573520" cy="684000"/>
            <a:chOff x="3492360" y="2816280"/>
            <a:chExt cx="5573520" cy="684000"/>
          </a:xfrm>
        </p:grpSpPr>
        <p:sp>
          <p:nvSpPr>
            <p:cNvPr id="109" name=""/>
            <p:cNvSpPr/>
            <p:nvPr/>
          </p:nvSpPr>
          <p:spPr>
            <a:xfrm>
              <a:off x="3492360" y="2816280"/>
              <a:ext cx="557352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2360" y="2889360"/>
              <a:ext cx="54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عدد أضيف إليه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وكان الناتج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435800" y="188640"/>
            <a:ext cx="1528920" cy="1112040"/>
            <a:chOff x="7435800" y="188640"/>
            <a:chExt cx="1528920" cy="1112040"/>
          </a:xfrm>
        </p:grpSpPr>
        <p:sp>
          <p:nvSpPr>
            <p:cNvPr id="112" name=""/>
            <p:cNvSpPr/>
            <p:nvPr/>
          </p:nvSpPr>
          <p:spPr>
            <a:xfrm rot="16200000">
              <a:off x="7920720" y="-207360"/>
              <a:ext cx="647640" cy="1440000"/>
            </a:xfrm>
            <a:prstGeom prst="flowChartDelay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35800" y="231840"/>
              <a:ext cx="1528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تمهيد </a:t>
              </a: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843280" y="1125360"/>
            <a:ext cx="6265800" cy="1036080"/>
            <a:chOff x="2843280" y="1125360"/>
            <a:chExt cx="6265800" cy="1036080"/>
          </a:xfrm>
        </p:grpSpPr>
        <p:sp>
          <p:nvSpPr>
            <p:cNvPr id="115" name=""/>
            <p:cNvSpPr/>
            <p:nvPr/>
          </p:nvSpPr>
          <p:spPr>
            <a:xfrm>
              <a:off x="2843280" y="1125360"/>
              <a:ext cx="6265800" cy="71928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2520" y="1214280"/>
              <a:ext cx="601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</a:rPr>
                <a:t>أكتب معادلة تمثل المسألة اللفظية في كل مما يلي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114800" y="2060640"/>
            <a:ext cx="4932360" cy="684000"/>
            <a:chOff x="4114800" y="2060640"/>
            <a:chExt cx="4932360" cy="684000"/>
          </a:xfrm>
        </p:grpSpPr>
        <p:sp>
          <p:nvSpPr>
            <p:cNvPr id="118" name=""/>
            <p:cNvSpPr/>
            <p:nvPr/>
          </p:nvSpPr>
          <p:spPr>
            <a:xfrm>
              <a:off x="4114800" y="2060640"/>
              <a:ext cx="493236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2133720"/>
              <a:ext cx="47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مسألة اللفظ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348000" y="2060640"/>
            <a:ext cx="0" cy="45370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24000" y="2060640"/>
            <a:ext cx="2896920" cy="684000"/>
            <a:chOff x="324000" y="2060640"/>
            <a:chExt cx="2896920" cy="684000"/>
          </a:xfrm>
        </p:grpSpPr>
        <p:sp>
          <p:nvSpPr>
            <p:cNvPr id="122" name=""/>
            <p:cNvSpPr/>
            <p:nvPr/>
          </p:nvSpPr>
          <p:spPr>
            <a:xfrm>
              <a:off x="324000" y="2060640"/>
              <a:ext cx="289692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200" y="2133720"/>
              <a:ext cx="279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معاد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92360" y="3537000"/>
            <a:ext cx="5573520" cy="684000"/>
            <a:chOff x="3492360" y="3537000"/>
            <a:chExt cx="5573520" cy="684000"/>
          </a:xfrm>
        </p:grpSpPr>
        <p:sp>
          <p:nvSpPr>
            <p:cNvPr id="125" name=""/>
            <p:cNvSpPr/>
            <p:nvPr/>
          </p:nvSpPr>
          <p:spPr>
            <a:xfrm>
              <a:off x="3492360" y="3537000"/>
              <a:ext cx="557352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2360" y="3610080"/>
              <a:ext cx="54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ثلاثة أمثال عدد يساوي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492360" y="4257720"/>
            <a:ext cx="5573520" cy="898560"/>
            <a:chOff x="3492360" y="4257720"/>
            <a:chExt cx="5573520" cy="898560"/>
          </a:xfrm>
        </p:grpSpPr>
        <p:sp>
          <p:nvSpPr>
            <p:cNvPr id="128" name=""/>
            <p:cNvSpPr/>
            <p:nvPr/>
          </p:nvSpPr>
          <p:spPr>
            <a:xfrm>
              <a:off x="3492360" y="4257720"/>
              <a:ext cx="557352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92360" y="4330800"/>
              <a:ext cx="545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ثلاثة أمثال عدد مطروحا منه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6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يساوي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92360" y="4976640"/>
            <a:ext cx="5573520" cy="684000"/>
            <a:chOff x="3492360" y="4976640"/>
            <a:chExt cx="5573520" cy="684000"/>
          </a:xfrm>
        </p:grpSpPr>
        <p:sp>
          <p:nvSpPr>
            <p:cNvPr id="131" name=""/>
            <p:cNvSpPr/>
            <p:nvPr/>
          </p:nvSpPr>
          <p:spPr>
            <a:xfrm>
              <a:off x="3492360" y="4976640"/>
              <a:ext cx="557352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92360" y="5049720"/>
              <a:ext cx="54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عددين متتاليين حاصل جمعهما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492360" y="5697360"/>
            <a:ext cx="5573520" cy="898560"/>
            <a:chOff x="3492360" y="5697360"/>
            <a:chExt cx="5573520" cy="898560"/>
          </a:xfrm>
        </p:grpSpPr>
        <p:sp>
          <p:nvSpPr>
            <p:cNvPr id="134" name=""/>
            <p:cNvSpPr/>
            <p:nvPr/>
          </p:nvSpPr>
          <p:spPr>
            <a:xfrm>
              <a:off x="3492360" y="5697360"/>
              <a:ext cx="557352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92360" y="5770440"/>
              <a:ext cx="545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ربعة أمثال عمر فهد بعد خمس سنوات يساوي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24000" y="2816280"/>
            <a:ext cx="2879640" cy="684000"/>
            <a:chOff x="324000" y="2816280"/>
            <a:chExt cx="2879640" cy="684000"/>
          </a:xfrm>
        </p:grpSpPr>
        <p:sp>
          <p:nvSpPr>
            <p:cNvPr id="137" name=""/>
            <p:cNvSpPr/>
            <p:nvPr/>
          </p:nvSpPr>
          <p:spPr>
            <a:xfrm>
              <a:off x="324000" y="2816280"/>
              <a:ext cx="287964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4000" y="2889360"/>
              <a:ext cx="28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س +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6360" y="3537000"/>
            <a:ext cx="2879640" cy="684000"/>
            <a:chOff x="306360" y="3537000"/>
            <a:chExt cx="2879640" cy="684000"/>
          </a:xfrm>
        </p:grpSpPr>
        <p:sp>
          <p:nvSpPr>
            <p:cNvPr id="140" name=""/>
            <p:cNvSpPr/>
            <p:nvPr/>
          </p:nvSpPr>
          <p:spPr>
            <a:xfrm>
              <a:off x="306360" y="3537000"/>
              <a:ext cx="287964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6360" y="3610080"/>
              <a:ext cx="28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س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4000" y="4257720"/>
            <a:ext cx="2879640" cy="684000"/>
            <a:chOff x="324000" y="4257720"/>
            <a:chExt cx="2879640" cy="684000"/>
          </a:xfrm>
        </p:grpSpPr>
        <p:sp>
          <p:nvSpPr>
            <p:cNvPr id="143" name=""/>
            <p:cNvSpPr/>
            <p:nvPr/>
          </p:nvSpPr>
          <p:spPr>
            <a:xfrm>
              <a:off x="324000" y="4257720"/>
              <a:ext cx="287964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000" y="4330800"/>
              <a:ext cx="28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س –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6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4000" y="4976640"/>
            <a:ext cx="2879640" cy="684000"/>
            <a:chOff x="324000" y="4976640"/>
            <a:chExt cx="2879640" cy="684000"/>
          </a:xfrm>
        </p:grpSpPr>
        <p:sp>
          <p:nvSpPr>
            <p:cNvPr id="146" name=""/>
            <p:cNvSpPr/>
            <p:nvPr/>
          </p:nvSpPr>
          <p:spPr>
            <a:xfrm>
              <a:off x="324000" y="4976640"/>
              <a:ext cx="287964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000" y="5049720"/>
              <a:ext cx="28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2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س +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1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24000" y="5697360"/>
            <a:ext cx="2879640" cy="684000"/>
            <a:chOff x="324000" y="5697360"/>
            <a:chExt cx="2879640" cy="684000"/>
          </a:xfrm>
        </p:grpSpPr>
        <p:sp>
          <p:nvSpPr>
            <p:cNvPr id="149" name=""/>
            <p:cNvSpPr/>
            <p:nvPr/>
          </p:nvSpPr>
          <p:spPr>
            <a:xfrm>
              <a:off x="324000" y="5697360"/>
              <a:ext cx="287964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4000" y="5770440"/>
              <a:ext cx="28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4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س +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20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79280" y="189000"/>
            <a:ext cx="266400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40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عدد = 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836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عدد مضافا إلي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س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89000"/>
            <a:ext cx="266400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0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عدد = 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83664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ثلاثة أمثال العدد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189000"/>
            <a:ext cx="273708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89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عدد = 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6224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ثلاثة أمثال العدد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9097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ثلاثة أمثال العدد مطروحا من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س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89000"/>
            <a:ext cx="273708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62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عدد الأول = 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49360"/>
            <a:ext cx="24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ذي يليه = س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9810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حاصل جمعهما=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89000"/>
            <a:ext cx="259236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2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عمر فهد = 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620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بعد خمس سنوات = س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05264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أربعة أمثاله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س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41912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معادلة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س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14842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معادل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6040" y="1492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معادل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س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73320"/>
            <a:ext cx="24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معادلة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س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3334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معادلة س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36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36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37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41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4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42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47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47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48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48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5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54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5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5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60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6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60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60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3132000" y="115920"/>
            <a:ext cx="3241800" cy="1198800"/>
            <a:chOff x="3132000" y="115920"/>
            <a:chExt cx="3241800" cy="1198800"/>
          </a:xfrm>
        </p:grpSpPr>
        <p:sp>
          <p:nvSpPr>
            <p:cNvPr id="175" name=""/>
            <p:cNvSpPr/>
            <p:nvPr/>
          </p:nvSpPr>
          <p:spPr>
            <a:xfrm>
              <a:off x="3350160" y="245880"/>
              <a:ext cx="280404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سائل حساب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32000" y="115920"/>
              <a:ext cx="3241800" cy="815760"/>
            </a:xfrm>
            <a:custGeom>
              <a:avLst/>
              <a:gdLst>
                <a:gd name="textAreaLeft" fmla="*/ 203760 w 3241800"/>
                <a:gd name="textAreaRight" fmla="*/ 3038040 w 3241800"/>
                <a:gd name="textAreaTop" fmla="*/ 203760 h 815760"/>
                <a:gd name="textAreaBottom" fmla="*/ 612000 h 815760"/>
              </a:gdLst>
              <a:ahLst/>
              <a:rect l="textAreaLeft" t="textAreaTop" r="textAreaRight" b="textAreaBottom"/>
              <a:pathLst>
                <a:path w="85809" h="21600">
                  <a:moveTo>
                    <a:pt x="0" y="0"/>
                  </a:moveTo>
                  <a:lnTo>
                    <a:pt x="0" y="21600"/>
                  </a:lnTo>
                  <a:lnTo>
                    <a:pt x="85809" y="21600"/>
                  </a:lnTo>
                  <a:lnTo>
                    <a:pt x="85809" y="0"/>
                  </a:lnTo>
                  <a:close/>
                  <a:moveTo>
                    <a:pt x="5400" y="5400"/>
                  </a:moveTo>
                  <a:lnTo>
                    <a:pt x="5400" y="16200"/>
                  </a:lnTo>
                  <a:lnTo>
                    <a:pt x="80409" y="16200"/>
                  </a:lnTo>
                  <a:lnTo>
                    <a:pt x="80409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843280" y="1125360"/>
            <a:ext cx="6265800" cy="719280"/>
            <a:chOff x="2843280" y="1125360"/>
            <a:chExt cx="6265800" cy="719280"/>
          </a:xfrm>
        </p:grpSpPr>
        <p:sp>
          <p:nvSpPr>
            <p:cNvPr id="178" name=""/>
            <p:cNvSpPr/>
            <p:nvPr/>
          </p:nvSpPr>
          <p:spPr>
            <a:xfrm>
              <a:off x="2843280" y="1125360"/>
              <a:ext cx="6265800" cy="71928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72520" y="1214280"/>
              <a:ext cx="60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</a:rPr>
                <a:t>خطوات حل المسألة الحسابية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08000" y="2060640"/>
            <a:ext cx="7138800" cy="684000"/>
            <a:chOff x="1908000" y="2060640"/>
            <a:chExt cx="7138800" cy="684000"/>
          </a:xfrm>
        </p:grpSpPr>
        <p:sp>
          <p:nvSpPr>
            <p:cNvPr id="181" name=""/>
            <p:cNvSpPr/>
            <p:nvPr/>
          </p:nvSpPr>
          <p:spPr>
            <a:xfrm>
              <a:off x="1908000" y="2060640"/>
              <a:ext cx="713880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08000" y="2133720"/>
              <a:ext cx="6879240" cy="52056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fff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1- </a:t>
              </a: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ختيار المجهو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08000" y="2901960"/>
            <a:ext cx="7138800" cy="1020240"/>
            <a:chOff x="1908000" y="2901960"/>
            <a:chExt cx="7138800" cy="1020240"/>
          </a:xfrm>
        </p:grpSpPr>
        <p:sp>
          <p:nvSpPr>
            <p:cNvPr id="184" name=""/>
            <p:cNvSpPr/>
            <p:nvPr/>
          </p:nvSpPr>
          <p:spPr>
            <a:xfrm>
              <a:off x="1908000" y="2901960"/>
              <a:ext cx="713880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8000" y="2975040"/>
              <a:ext cx="6879240" cy="94716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fff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2- </a:t>
              </a: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نظيم المعادلة ( تحويل المسألة اللفظية إلى معادلة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897200" y="3753000"/>
            <a:ext cx="7138440" cy="684000"/>
            <a:chOff x="1897200" y="3753000"/>
            <a:chExt cx="7138440" cy="684000"/>
          </a:xfrm>
        </p:grpSpPr>
        <p:sp>
          <p:nvSpPr>
            <p:cNvPr id="187" name=""/>
            <p:cNvSpPr/>
            <p:nvPr/>
          </p:nvSpPr>
          <p:spPr>
            <a:xfrm>
              <a:off x="1897200" y="3753000"/>
              <a:ext cx="713844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97200" y="3826080"/>
              <a:ext cx="6878880" cy="52056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fff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- </a:t>
              </a: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حل المعاد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897200" y="4616280"/>
            <a:ext cx="7138440" cy="684000"/>
            <a:chOff x="1897200" y="4616280"/>
            <a:chExt cx="7138440" cy="684000"/>
          </a:xfrm>
        </p:grpSpPr>
        <p:sp>
          <p:nvSpPr>
            <p:cNvPr id="190" name=""/>
            <p:cNvSpPr/>
            <p:nvPr/>
          </p:nvSpPr>
          <p:spPr>
            <a:xfrm>
              <a:off x="1897200" y="4616280"/>
              <a:ext cx="713844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97200" y="4689360"/>
              <a:ext cx="6878880" cy="52056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fff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4- </a:t>
              </a: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قق من صحة الح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268360" y="115920"/>
            <a:ext cx="4607280" cy="815760"/>
            <a:chOff x="2268360" y="115920"/>
            <a:chExt cx="4607280" cy="815760"/>
          </a:xfrm>
        </p:grpSpPr>
        <p:sp>
          <p:nvSpPr>
            <p:cNvPr id="193" name=""/>
            <p:cNvSpPr/>
            <p:nvPr/>
          </p:nvSpPr>
          <p:spPr>
            <a:xfrm>
              <a:off x="2578680" y="245880"/>
              <a:ext cx="398520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سائل حساب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68360" y="115920"/>
              <a:ext cx="4607280" cy="815760"/>
            </a:xfrm>
            <a:custGeom>
              <a:avLst/>
              <a:gdLst>
                <a:gd name="textAreaLeft" fmla="*/ 203760 w 4607280"/>
                <a:gd name="textAreaRight" fmla="*/ 4403520 w 4607280"/>
                <a:gd name="textAreaTop" fmla="*/ 203760 h 815760"/>
                <a:gd name="textAreaBottom" fmla="*/ 612000 h 815760"/>
              </a:gdLst>
              <a:ahLst/>
              <a:rect l="textAreaLeft" t="textAreaTop" r="textAreaRight" b="textAreaBottom"/>
              <a:pathLst>
                <a:path w="121949" h="21600">
                  <a:moveTo>
                    <a:pt x="0" y="0"/>
                  </a:moveTo>
                  <a:lnTo>
                    <a:pt x="0" y="21600"/>
                  </a:lnTo>
                  <a:lnTo>
                    <a:pt x="121949" y="21600"/>
                  </a:lnTo>
                  <a:lnTo>
                    <a:pt x="121949" y="0"/>
                  </a:lnTo>
                  <a:close/>
                  <a:moveTo>
                    <a:pt x="5400" y="5400"/>
                  </a:moveTo>
                  <a:lnTo>
                    <a:pt x="5400" y="16200"/>
                  </a:lnTo>
                  <a:lnTo>
                    <a:pt x="116549" y="16200"/>
                  </a:lnTo>
                  <a:lnTo>
                    <a:pt x="116549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403280" y="1585800"/>
            <a:ext cx="6337440" cy="37450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124000" y="1989000"/>
            <a:ext cx="4896000" cy="2952720"/>
            <a:chOff x="2124000" y="1989000"/>
            <a:chExt cx="4896000" cy="2952720"/>
          </a:xfrm>
        </p:grpSpPr>
        <p:sp>
          <p:nvSpPr>
            <p:cNvPr id="197" name=""/>
            <p:cNvSpPr/>
            <p:nvPr/>
          </p:nvSpPr>
          <p:spPr>
            <a:xfrm>
              <a:off x="2124000" y="1989000"/>
              <a:ext cx="4896000" cy="2952720"/>
            </a:xfrm>
            <a:prstGeom prst="bevel">
              <a:avLst>
                <a:gd name="adj" fmla="val 12500"/>
              </a:avLst>
            </a:prstGeom>
            <a:solidFill>
              <a:srgbClr val="bbe0e3"/>
            </a:solidFill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71640" y="2635200"/>
              <a:ext cx="3600720" cy="1557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600" spc="-1" strike="noStrike">
                  <a:solidFill>
                    <a:srgbClr val="000000"/>
                  </a:solidFill>
                  <a:latin typeface="Arial"/>
                  <a:cs typeface="PT Bold Dusky"/>
                </a:rPr>
                <a:t>تمارين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1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6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2917800" y="115920"/>
            <a:ext cx="3814920" cy="815760"/>
            <a:chOff x="2917800" y="115920"/>
            <a:chExt cx="3814920" cy="815760"/>
          </a:xfrm>
        </p:grpSpPr>
        <p:sp>
          <p:nvSpPr>
            <p:cNvPr id="200" name=""/>
            <p:cNvSpPr/>
            <p:nvPr/>
          </p:nvSpPr>
          <p:spPr>
            <a:xfrm>
              <a:off x="3174480" y="245880"/>
              <a:ext cx="329976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سائل حساب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17800" y="115920"/>
              <a:ext cx="3814920" cy="815760"/>
            </a:xfrm>
            <a:custGeom>
              <a:avLst/>
              <a:gdLst>
                <a:gd name="textAreaLeft" fmla="*/ 203760 w 3814920"/>
                <a:gd name="textAreaRight" fmla="*/ 3611160 w 3814920"/>
                <a:gd name="textAreaTop" fmla="*/ 203760 h 815760"/>
                <a:gd name="textAreaBottom" fmla="*/ 612000 h 815760"/>
              </a:gdLst>
              <a:ahLst/>
              <a:rect l="textAreaLeft" t="textAreaTop" r="textAreaRight" b="textAreaBottom"/>
              <a:pathLst>
                <a:path w="100978" h="21600">
                  <a:moveTo>
                    <a:pt x="0" y="0"/>
                  </a:moveTo>
                  <a:lnTo>
                    <a:pt x="0" y="21600"/>
                  </a:lnTo>
                  <a:lnTo>
                    <a:pt x="100978" y="21600"/>
                  </a:lnTo>
                  <a:lnTo>
                    <a:pt x="100978" y="0"/>
                  </a:lnTo>
                  <a:close/>
                  <a:moveTo>
                    <a:pt x="5400" y="5400"/>
                  </a:moveTo>
                  <a:lnTo>
                    <a:pt x="5400" y="16200"/>
                  </a:lnTo>
                  <a:lnTo>
                    <a:pt x="95578" y="16200"/>
                  </a:lnTo>
                  <a:lnTo>
                    <a:pt x="95578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084720" y="2565360"/>
            <a:ext cx="2951280" cy="576360"/>
            <a:chOff x="6084720" y="2565360"/>
            <a:chExt cx="2951280" cy="576360"/>
          </a:xfrm>
        </p:grpSpPr>
        <p:sp>
          <p:nvSpPr>
            <p:cNvPr id="203" name=""/>
            <p:cNvSpPr/>
            <p:nvPr/>
          </p:nvSpPr>
          <p:spPr>
            <a:xfrm>
              <a:off x="6084720" y="2565360"/>
              <a:ext cx="295128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40160" y="2630520"/>
              <a:ext cx="2799360" cy="4291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66cc"/>
                  </a:solidFill>
                  <a:latin typeface="Arial"/>
                </a:rPr>
                <a:t>العدد الأول = س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24000" y="971640"/>
            <a:ext cx="8785080" cy="7189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08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ذا كان مجموع عددين متتاليي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57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. فما هما العددان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435800" y="188640"/>
            <a:ext cx="1528920" cy="647640"/>
            <a:chOff x="7435800" y="188640"/>
            <a:chExt cx="1528920" cy="647640"/>
          </a:xfrm>
        </p:grpSpPr>
        <p:sp>
          <p:nvSpPr>
            <p:cNvPr id="208" name=""/>
            <p:cNvSpPr/>
            <p:nvPr/>
          </p:nvSpPr>
          <p:spPr>
            <a:xfrm rot="16200000">
              <a:off x="7920720" y="-207360"/>
              <a:ext cx="647640" cy="1440000"/>
            </a:xfrm>
            <a:prstGeom prst="flowChartDelay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35800" y="231840"/>
              <a:ext cx="152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س</a:t>
              </a: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084720" y="1773360"/>
            <a:ext cx="2962440" cy="581760"/>
            <a:chOff x="6084720" y="1773360"/>
            <a:chExt cx="2962440" cy="581760"/>
          </a:xfrm>
        </p:grpSpPr>
        <p:sp>
          <p:nvSpPr>
            <p:cNvPr id="211" name=""/>
            <p:cNvSpPr/>
            <p:nvPr/>
          </p:nvSpPr>
          <p:spPr>
            <a:xfrm>
              <a:off x="6084720" y="1773360"/>
              <a:ext cx="2962440" cy="57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84720" y="1834560"/>
              <a:ext cx="285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ختيار المجهو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084720" y="3213000"/>
            <a:ext cx="2951280" cy="829440"/>
            <a:chOff x="6084720" y="3213000"/>
            <a:chExt cx="2951280" cy="829440"/>
          </a:xfrm>
        </p:grpSpPr>
        <p:sp>
          <p:nvSpPr>
            <p:cNvPr id="214" name=""/>
            <p:cNvSpPr/>
            <p:nvPr/>
          </p:nvSpPr>
          <p:spPr>
            <a:xfrm>
              <a:off x="6084720" y="3213000"/>
              <a:ext cx="295128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40160" y="3278160"/>
              <a:ext cx="2799360" cy="7642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ff0000"/>
                  </a:solidFill>
                  <a:latin typeface="Arial"/>
                </a:rPr>
                <a:t>العدد الثاني = س + </a:t>
              </a:r>
              <a:r>
                <a:rPr b="1" lang="ar-SA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084720" y="3968640"/>
            <a:ext cx="2962440" cy="578160"/>
            <a:chOff x="6084720" y="3968640"/>
            <a:chExt cx="2962440" cy="578160"/>
          </a:xfrm>
        </p:grpSpPr>
        <p:sp>
          <p:nvSpPr>
            <p:cNvPr id="217" name=""/>
            <p:cNvSpPr/>
            <p:nvPr/>
          </p:nvSpPr>
          <p:spPr>
            <a:xfrm>
              <a:off x="6084720" y="3968640"/>
              <a:ext cx="2962440" cy="54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84720" y="4026240"/>
              <a:ext cx="285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نظيم المعاد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84720" y="4724280"/>
            <a:ext cx="2951280" cy="829440"/>
            <a:chOff x="6084720" y="4724280"/>
            <a:chExt cx="2951280" cy="829440"/>
          </a:xfrm>
        </p:grpSpPr>
        <p:sp>
          <p:nvSpPr>
            <p:cNvPr id="220" name=""/>
            <p:cNvSpPr/>
            <p:nvPr/>
          </p:nvSpPr>
          <p:spPr>
            <a:xfrm>
              <a:off x="6084720" y="4724280"/>
              <a:ext cx="295128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40160" y="4789440"/>
              <a:ext cx="2799360" cy="7642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العدد الأول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ar-SA" sz="2200" spc="-1" strike="noStrike">
                  <a:solidFill>
                    <a:srgbClr val="ff0000"/>
                  </a:solidFill>
                  <a:latin typeface="Arial"/>
                </a:rPr>
                <a:t>الثاني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157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84720" y="5373720"/>
            <a:ext cx="2951280" cy="576360"/>
            <a:chOff x="6084720" y="5373720"/>
            <a:chExt cx="2951280" cy="576360"/>
          </a:xfrm>
        </p:grpSpPr>
        <p:sp>
          <p:nvSpPr>
            <p:cNvPr id="223" name=""/>
            <p:cNvSpPr/>
            <p:nvPr/>
          </p:nvSpPr>
          <p:spPr>
            <a:xfrm>
              <a:off x="6084720" y="5373720"/>
              <a:ext cx="295128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40160" y="5438880"/>
              <a:ext cx="2799360" cy="4291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س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ar-SA" sz="2200" spc="-1" strike="noStrike">
                  <a:solidFill>
                    <a:srgbClr val="ff0000"/>
                  </a:solidFill>
                  <a:latin typeface="Arial"/>
                </a:rPr>
                <a:t>س + </a:t>
              </a:r>
              <a:r>
                <a:rPr b="1" lang="ar-SA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157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084720" y="6021360"/>
            <a:ext cx="2951280" cy="576360"/>
            <a:chOff x="6084720" y="6021360"/>
            <a:chExt cx="2951280" cy="576360"/>
          </a:xfrm>
        </p:grpSpPr>
        <p:sp>
          <p:nvSpPr>
            <p:cNvPr id="226" name=""/>
            <p:cNvSpPr/>
            <p:nvPr/>
          </p:nvSpPr>
          <p:spPr>
            <a:xfrm>
              <a:off x="6084720" y="6021360"/>
              <a:ext cx="295128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40160" y="6086520"/>
              <a:ext cx="2799360" cy="4291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س + 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157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867280" y="184464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771640" y="1773360"/>
            <a:ext cx="2962440" cy="576000"/>
            <a:chOff x="2771640" y="1773360"/>
            <a:chExt cx="2962440" cy="576000"/>
          </a:xfrm>
        </p:grpSpPr>
        <p:sp>
          <p:nvSpPr>
            <p:cNvPr id="230" name=""/>
            <p:cNvSpPr/>
            <p:nvPr/>
          </p:nvSpPr>
          <p:spPr>
            <a:xfrm>
              <a:off x="2771640" y="1773360"/>
              <a:ext cx="296244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71640" y="1806480"/>
              <a:ext cx="285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حل المعاد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266920" y="2421000"/>
            <a:ext cx="3313080" cy="28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4920" y="2421000"/>
            <a:ext cx="20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0" y="2781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س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92360" y="314172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س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35067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س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780000" y="3429000"/>
            <a:ext cx="876240" cy="655920"/>
            <a:chOff x="3780000" y="3429000"/>
            <a:chExt cx="876240" cy="655920"/>
          </a:xfrm>
        </p:grpSpPr>
        <p:sp>
          <p:nvSpPr>
            <p:cNvPr id="238" name=""/>
            <p:cNvSpPr/>
            <p:nvPr/>
          </p:nvSpPr>
          <p:spPr>
            <a:xfrm>
              <a:off x="3792600" y="342900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80000" y="36860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029120" y="374652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274920" y="3933720"/>
            <a:ext cx="201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س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4920" y="4365720"/>
            <a:ext cx="20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عدد الأول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66920" y="472608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عدد الثاني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771640" y="5300640"/>
            <a:ext cx="2962440" cy="980280"/>
            <a:chOff x="2771640" y="5300640"/>
            <a:chExt cx="2962440" cy="980280"/>
          </a:xfrm>
        </p:grpSpPr>
        <p:sp>
          <p:nvSpPr>
            <p:cNvPr id="245" name=""/>
            <p:cNvSpPr/>
            <p:nvPr/>
          </p:nvSpPr>
          <p:spPr>
            <a:xfrm>
              <a:off x="2771640" y="5300640"/>
              <a:ext cx="296244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71640" y="5333760"/>
              <a:ext cx="285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قق من صحة الح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266920" y="5948280"/>
            <a:ext cx="3313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54200" y="609768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2917800" y="115920"/>
            <a:ext cx="3814920" cy="815760"/>
            <a:chOff x="2917800" y="115920"/>
            <a:chExt cx="3814920" cy="815760"/>
          </a:xfrm>
        </p:grpSpPr>
        <p:sp>
          <p:nvSpPr>
            <p:cNvPr id="250" name=""/>
            <p:cNvSpPr/>
            <p:nvPr/>
          </p:nvSpPr>
          <p:spPr>
            <a:xfrm>
              <a:off x="3174480" y="245880"/>
              <a:ext cx="329976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سائل حساب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17800" y="115920"/>
              <a:ext cx="3814920" cy="815760"/>
            </a:xfrm>
            <a:custGeom>
              <a:avLst/>
              <a:gdLst>
                <a:gd name="textAreaLeft" fmla="*/ 203760 w 3814920"/>
                <a:gd name="textAreaRight" fmla="*/ 3611160 w 3814920"/>
                <a:gd name="textAreaTop" fmla="*/ 203760 h 815760"/>
                <a:gd name="textAreaBottom" fmla="*/ 612000 h 815760"/>
              </a:gdLst>
              <a:ahLst/>
              <a:rect l="textAreaLeft" t="textAreaTop" r="textAreaRight" b="textAreaBottom"/>
              <a:pathLst>
                <a:path w="100978" h="21600">
                  <a:moveTo>
                    <a:pt x="0" y="0"/>
                  </a:moveTo>
                  <a:lnTo>
                    <a:pt x="0" y="21600"/>
                  </a:lnTo>
                  <a:lnTo>
                    <a:pt x="100978" y="21600"/>
                  </a:lnTo>
                  <a:lnTo>
                    <a:pt x="100978" y="0"/>
                  </a:lnTo>
                  <a:close/>
                  <a:moveTo>
                    <a:pt x="5400" y="5400"/>
                  </a:moveTo>
                  <a:lnTo>
                    <a:pt x="5400" y="16200"/>
                  </a:lnTo>
                  <a:lnTo>
                    <a:pt x="95578" y="16200"/>
                  </a:lnTo>
                  <a:lnTo>
                    <a:pt x="95578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292720" y="2565360"/>
            <a:ext cx="3743280" cy="576360"/>
            <a:chOff x="5292720" y="2565360"/>
            <a:chExt cx="3743280" cy="576360"/>
          </a:xfrm>
        </p:grpSpPr>
        <p:sp>
          <p:nvSpPr>
            <p:cNvPr id="253" name=""/>
            <p:cNvSpPr/>
            <p:nvPr/>
          </p:nvSpPr>
          <p:spPr>
            <a:xfrm>
              <a:off x="5292720" y="2565360"/>
              <a:ext cx="374328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62920" y="2630520"/>
              <a:ext cx="3550320" cy="4291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66cc"/>
                  </a:solidFill>
                  <a:latin typeface="Arial"/>
                </a:rPr>
                <a:t>العدد = س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0" y="971640"/>
            <a:ext cx="9109080" cy="7189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08900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ا العدد الذي إذا طرحنا منه ( -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ثم أضفنا إلى الحاصل (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 كان الناتج (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435800" y="188640"/>
            <a:ext cx="1528920" cy="647640"/>
            <a:chOff x="7435800" y="188640"/>
            <a:chExt cx="1528920" cy="647640"/>
          </a:xfrm>
        </p:grpSpPr>
        <p:sp>
          <p:nvSpPr>
            <p:cNvPr id="258" name=""/>
            <p:cNvSpPr/>
            <p:nvPr/>
          </p:nvSpPr>
          <p:spPr>
            <a:xfrm rot="16200000">
              <a:off x="7920720" y="-207360"/>
              <a:ext cx="647640" cy="1440000"/>
            </a:xfrm>
            <a:prstGeom prst="flowChartDelay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35800" y="231840"/>
              <a:ext cx="152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س</a:t>
              </a: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289480" y="1773360"/>
            <a:ext cx="3757680" cy="581760"/>
            <a:chOff x="5289480" y="1773360"/>
            <a:chExt cx="3757680" cy="581760"/>
          </a:xfrm>
        </p:grpSpPr>
        <p:sp>
          <p:nvSpPr>
            <p:cNvPr id="261" name=""/>
            <p:cNvSpPr/>
            <p:nvPr/>
          </p:nvSpPr>
          <p:spPr>
            <a:xfrm>
              <a:off x="5289480" y="1773360"/>
              <a:ext cx="3757680" cy="57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89480" y="1834560"/>
              <a:ext cx="362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ختيار المجهو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289480" y="3968640"/>
            <a:ext cx="3757680" cy="578160"/>
            <a:chOff x="5289480" y="3968640"/>
            <a:chExt cx="3757680" cy="578160"/>
          </a:xfrm>
        </p:grpSpPr>
        <p:sp>
          <p:nvSpPr>
            <p:cNvPr id="264" name=""/>
            <p:cNvSpPr/>
            <p:nvPr/>
          </p:nvSpPr>
          <p:spPr>
            <a:xfrm>
              <a:off x="5289480" y="3968640"/>
              <a:ext cx="3757680" cy="54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89480" y="4026240"/>
              <a:ext cx="362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نظيم المعاد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92720" y="4724280"/>
            <a:ext cx="3743280" cy="829440"/>
            <a:chOff x="5292720" y="4724280"/>
            <a:chExt cx="3743280" cy="829440"/>
          </a:xfrm>
        </p:grpSpPr>
        <p:sp>
          <p:nvSpPr>
            <p:cNvPr id="267" name=""/>
            <p:cNvSpPr/>
            <p:nvPr/>
          </p:nvSpPr>
          <p:spPr>
            <a:xfrm>
              <a:off x="5292720" y="4724280"/>
              <a:ext cx="374328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62920" y="4789440"/>
              <a:ext cx="3550320" cy="7642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س – ( - 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 ) + ( + 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 ) = ( + 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 )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59280" y="184464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763640" y="1773360"/>
            <a:ext cx="2962440" cy="576000"/>
            <a:chOff x="1763640" y="1773360"/>
            <a:chExt cx="2962440" cy="576000"/>
          </a:xfrm>
        </p:grpSpPr>
        <p:sp>
          <p:nvSpPr>
            <p:cNvPr id="271" name=""/>
            <p:cNvSpPr/>
            <p:nvPr/>
          </p:nvSpPr>
          <p:spPr>
            <a:xfrm>
              <a:off x="1763640" y="1773360"/>
              <a:ext cx="296244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63640" y="1806480"/>
              <a:ext cx="285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حل المعاد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258920" y="2421000"/>
            <a:ext cx="3313080" cy="28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66920" y="2421000"/>
            <a:ext cx="201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س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40000" y="300204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س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4360" y="350676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س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66920" y="4081320"/>
            <a:ext cx="201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س =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66920" y="4586400"/>
            <a:ext cx="201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عدد =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763640" y="5300640"/>
            <a:ext cx="2962440" cy="980280"/>
            <a:chOff x="1763640" y="5300640"/>
            <a:chExt cx="2962440" cy="980280"/>
          </a:xfrm>
        </p:grpSpPr>
        <p:sp>
          <p:nvSpPr>
            <p:cNvPr id="280" name=""/>
            <p:cNvSpPr/>
            <p:nvPr/>
          </p:nvSpPr>
          <p:spPr>
            <a:xfrm>
              <a:off x="1763640" y="5300640"/>
              <a:ext cx="296244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63640" y="5333760"/>
              <a:ext cx="285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قق من صحة الح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258920" y="5948280"/>
            <a:ext cx="3313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03280" y="609768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(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+ (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917800" y="115920"/>
            <a:ext cx="3814920" cy="815760"/>
            <a:chOff x="2917800" y="115920"/>
            <a:chExt cx="3814920" cy="815760"/>
          </a:xfrm>
        </p:grpSpPr>
        <p:sp>
          <p:nvSpPr>
            <p:cNvPr id="285" name=""/>
            <p:cNvSpPr/>
            <p:nvPr/>
          </p:nvSpPr>
          <p:spPr>
            <a:xfrm>
              <a:off x="3174480" y="245880"/>
              <a:ext cx="329976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سائل حساب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17800" y="115920"/>
              <a:ext cx="3814920" cy="815760"/>
            </a:xfrm>
            <a:custGeom>
              <a:avLst/>
              <a:gdLst>
                <a:gd name="textAreaLeft" fmla="*/ 203760 w 3814920"/>
                <a:gd name="textAreaRight" fmla="*/ 3611160 w 3814920"/>
                <a:gd name="textAreaTop" fmla="*/ 203760 h 815760"/>
                <a:gd name="textAreaBottom" fmla="*/ 612000 h 815760"/>
              </a:gdLst>
              <a:ahLst/>
              <a:rect l="textAreaLeft" t="textAreaTop" r="textAreaRight" b="textAreaBottom"/>
              <a:pathLst>
                <a:path w="100978" h="21600">
                  <a:moveTo>
                    <a:pt x="0" y="0"/>
                  </a:moveTo>
                  <a:lnTo>
                    <a:pt x="0" y="21600"/>
                  </a:lnTo>
                  <a:lnTo>
                    <a:pt x="100978" y="21600"/>
                  </a:lnTo>
                  <a:lnTo>
                    <a:pt x="100978" y="0"/>
                  </a:lnTo>
                  <a:close/>
                  <a:moveTo>
                    <a:pt x="5400" y="5400"/>
                  </a:moveTo>
                  <a:lnTo>
                    <a:pt x="5400" y="16200"/>
                  </a:lnTo>
                  <a:lnTo>
                    <a:pt x="95578" y="16200"/>
                  </a:lnTo>
                  <a:lnTo>
                    <a:pt x="95578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356000" y="2565360"/>
            <a:ext cx="4679640" cy="576360"/>
            <a:chOff x="4356000" y="2565360"/>
            <a:chExt cx="4679640" cy="576360"/>
          </a:xfrm>
        </p:grpSpPr>
        <p:sp>
          <p:nvSpPr>
            <p:cNvPr id="288" name=""/>
            <p:cNvSpPr/>
            <p:nvPr/>
          </p:nvSpPr>
          <p:spPr>
            <a:xfrm>
              <a:off x="4356000" y="2565360"/>
              <a:ext cx="467964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43840" y="2630520"/>
              <a:ext cx="4438800" cy="4291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66cc"/>
                  </a:solidFill>
                  <a:latin typeface="Arial"/>
                </a:rPr>
                <a:t>عمر أسامة = س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24000" y="971640"/>
            <a:ext cx="8785080" cy="7189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1089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ذا كان ثلاثة أمثال عمر أسامة قبل خمس سنوات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نة . فما عمره الآن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435800" y="188640"/>
            <a:ext cx="1528920" cy="647640"/>
            <a:chOff x="7435800" y="188640"/>
            <a:chExt cx="1528920" cy="647640"/>
          </a:xfrm>
        </p:grpSpPr>
        <p:sp>
          <p:nvSpPr>
            <p:cNvPr id="293" name=""/>
            <p:cNvSpPr/>
            <p:nvPr/>
          </p:nvSpPr>
          <p:spPr>
            <a:xfrm rot="16200000">
              <a:off x="7920720" y="-207360"/>
              <a:ext cx="647640" cy="1440000"/>
            </a:xfrm>
            <a:prstGeom prst="flowChartDelay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35800" y="231840"/>
              <a:ext cx="152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س</a:t>
              </a: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003640" y="1773360"/>
            <a:ext cx="4043520" cy="581760"/>
            <a:chOff x="5003640" y="1773360"/>
            <a:chExt cx="4043520" cy="581760"/>
          </a:xfrm>
        </p:grpSpPr>
        <p:sp>
          <p:nvSpPr>
            <p:cNvPr id="296" name=""/>
            <p:cNvSpPr/>
            <p:nvPr/>
          </p:nvSpPr>
          <p:spPr>
            <a:xfrm>
              <a:off x="5003640" y="1773360"/>
              <a:ext cx="4043520" cy="57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03640" y="1834560"/>
              <a:ext cx="389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ختيار المجهو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56000" y="3213000"/>
            <a:ext cx="4679640" cy="576360"/>
            <a:chOff x="4356000" y="3213000"/>
            <a:chExt cx="4679640" cy="576360"/>
          </a:xfrm>
        </p:grpSpPr>
        <p:sp>
          <p:nvSpPr>
            <p:cNvPr id="299" name=""/>
            <p:cNvSpPr/>
            <p:nvPr/>
          </p:nvSpPr>
          <p:spPr>
            <a:xfrm>
              <a:off x="4356000" y="3213000"/>
              <a:ext cx="467964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43840" y="3278160"/>
              <a:ext cx="4438800" cy="4291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ff0000"/>
                  </a:solidFill>
                  <a:latin typeface="Arial"/>
                </a:rPr>
                <a:t>عمره قبل خمس سنوات = س -</a:t>
              </a:r>
              <a:r>
                <a:rPr b="1" lang="ar-SA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003640" y="4869000"/>
            <a:ext cx="4043520" cy="578160"/>
            <a:chOff x="5003640" y="4869000"/>
            <a:chExt cx="4043520" cy="578160"/>
          </a:xfrm>
        </p:grpSpPr>
        <p:sp>
          <p:nvSpPr>
            <p:cNvPr id="302" name=""/>
            <p:cNvSpPr/>
            <p:nvPr/>
          </p:nvSpPr>
          <p:spPr>
            <a:xfrm>
              <a:off x="5003640" y="4869000"/>
              <a:ext cx="4043520" cy="5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03640" y="4926600"/>
              <a:ext cx="389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نظيم المعاد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356000" y="3860640"/>
            <a:ext cx="4679640" cy="829440"/>
            <a:chOff x="4356000" y="3860640"/>
            <a:chExt cx="4679640" cy="829440"/>
          </a:xfrm>
        </p:grpSpPr>
        <p:sp>
          <p:nvSpPr>
            <p:cNvPr id="305" name=""/>
            <p:cNvSpPr/>
            <p:nvPr/>
          </p:nvSpPr>
          <p:spPr>
            <a:xfrm>
              <a:off x="4356000" y="3860640"/>
              <a:ext cx="467964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43840" y="3925800"/>
              <a:ext cx="4438800" cy="7642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ثلاثة أمثال عمر أسامة قبل خمس سنوات =      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 ( س – 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5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 )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356000" y="5661000"/>
            <a:ext cx="4679640" cy="576360"/>
            <a:chOff x="4356000" y="5661000"/>
            <a:chExt cx="4679640" cy="576360"/>
          </a:xfrm>
        </p:grpSpPr>
        <p:sp>
          <p:nvSpPr>
            <p:cNvPr id="308" name=""/>
            <p:cNvSpPr/>
            <p:nvPr/>
          </p:nvSpPr>
          <p:spPr>
            <a:xfrm>
              <a:off x="4356000" y="5661000"/>
              <a:ext cx="467964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43840" y="5726160"/>
              <a:ext cx="4438800" cy="4291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fff00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3 ( 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س – 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5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 ) = </a:t>
              </a:r>
              <a:r>
                <a:rPr b="1" lang="ar-SA" sz="2200" spc="-1" strike="noStrike">
                  <a:solidFill>
                    <a:srgbClr val="333399"/>
                  </a:solidFill>
                  <a:latin typeface="Arial"/>
                </a:rPr>
                <a:t>3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4211640" y="184464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116000" y="1773360"/>
            <a:ext cx="2962440" cy="576000"/>
            <a:chOff x="1116000" y="1773360"/>
            <a:chExt cx="2962440" cy="576000"/>
          </a:xfrm>
        </p:grpSpPr>
        <p:sp>
          <p:nvSpPr>
            <p:cNvPr id="312" name=""/>
            <p:cNvSpPr/>
            <p:nvPr/>
          </p:nvSpPr>
          <p:spPr>
            <a:xfrm>
              <a:off x="1116000" y="1773360"/>
              <a:ext cx="296244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16000" y="1806480"/>
              <a:ext cx="285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حل المعاد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11280" y="2421000"/>
            <a:ext cx="3313080" cy="28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32000" y="242100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 س –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92360" y="2781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س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3141720"/>
            <a:ext cx="20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س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255760" y="3854520"/>
            <a:ext cx="876240" cy="655920"/>
            <a:chOff x="2255760" y="3854520"/>
            <a:chExt cx="876240" cy="655920"/>
          </a:xfrm>
        </p:grpSpPr>
        <p:sp>
          <p:nvSpPr>
            <p:cNvPr id="319" name=""/>
            <p:cNvSpPr/>
            <p:nvPr/>
          </p:nvSpPr>
          <p:spPr>
            <a:xfrm>
              <a:off x="2268360" y="385452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55760" y="411156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504880" y="417204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619280" y="4365720"/>
            <a:ext cx="201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س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1280" y="472608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عمر أسامة الآن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س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116000" y="5300640"/>
            <a:ext cx="2962440" cy="980280"/>
            <a:chOff x="1116000" y="5300640"/>
            <a:chExt cx="2962440" cy="980280"/>
          </a:xfrm>
        </p:grpSpPr>
        <p:sp>
          <p:nvSpPr>
            <p:cNvPr id="325" name=""/>
            <p:cNvSpPr/>
            <p:nvPr/>
          </p:nvSpPr>
          <p:spPr>
            <a:xfrm>
              <a:off x="1116000" y="5300640"/>
              <a:ext cx="296244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16000" y="5333760"/>
              <a:ext cx="285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قق من صحة الح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93840" y="5948280"/>
            <a:ext cx="36734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6560" y="595008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عمره قبل خمس سنوات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3578400"/>
            <a:ext cx="20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س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3933720"/>
            <a:ext cx="20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س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2920" y="6237360"/>
            <a:ext cx="39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ثلاثة أمثال عمره قبل خمس سنوات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2:10:00Z</dcterms:created>
  <dc:creator>تركي</dc:creator>
  <dc:description/>
  <dc:language>en-US</dc:language>
  <cp:lastModifiedBy>تركي</cp:lastModifiedBy>
  <dcterms:modified xsi:type="dcterms:W3CDTF">2009-05-08T16:51:30Z</dcterms:modified>
  <cp:revision>10</cp:revision>
  <dc:subject/>
  <dc:title>الشريحة 1</dc:title>
</cp:coreProperties>
</file>