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828B-E48A-475F-90C3-A3D7A09157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by : Mohammed Ibrah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No. / 05560987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/ 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تصميم / محمد ابراه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جوال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05560987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ريد الكتروني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C4E-94C8-4FDB-B72F-04CEA62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EC8-E064-4F3F-9AF7-F7DF2D6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18F-180C-4F6E-8E9A-E38ABD58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45F-EAAF-449A-B837-292966FB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45B-1131-416D-B33C-8CE3B1B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4F3-3348-4D63-8A3D-8F0A12F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B68-90D3-4689-B4F5-3D4622E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7D1-2D69-4B24-BDCF-D975D65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B7B-1F02-4F51-AE9B-89F9AF3C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D92-5CC4-47FB-8DB5-356DC9B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574-EB04-40BE-8736-2356EA9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611-396C-4D5B-9251-DF6FEFA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3BB-DEBD-4152-BC44-6875A11F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416720" cy="2232000"/>
          </a:xfrm>
          <a:prstGeom prst="roundRect">
            <a:avLst>
              <a:gd name="adj" fmla="val 42366"/>
            </a:avLst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مادة العلو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ea typeface="FS_Cairo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للصف الرابع الابتد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838680"/>
            <a:ext cx="6985080" cy="1822320"/>
          </a:xfrm>
          <a:prstGeom prst="flowChartTerminator">
            <a:avLst/>
          </a:prstGeom>
          <a:gradFill rotWithShape="0">
            <a:gsLst>
              <a:gs pos="0">
                <a:srgbClr val="66ff33">
                  <a:alpha val="85098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الحرائق وإطفاؤه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849240"/>
            <a:ext cx="518472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3789360"/>
            <a:ext cx="518508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صل الدراسي الث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4600" y="620640"/>
            <a:ext cx="43412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معلومات اثرائية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096560"/>
            <a:ext cx="7110360" cy="24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 مكونات الحريق هي هرم الحريق وتتكون من (لحرارة- المادة القابلة للاشتعال- الهواء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والحريق ينتهي بكسر احد أضلاع الهر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3024000" cy="2597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1593720"/>
            <a:ext cx="69660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ecff"/>
                </a:solidFill>
                <a:latin typeface="Arial"/>
                <a:cs typeface="PT Bold Heading"/>
              </a:rPr>
              <a:t>طرق الإطف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774440"/>
            <a:ext cx="7470720" cy="460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  <a:cs typeface="PT Bold Heading"/>
              </a:rPr>
              <a:t>طريقة التبريد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الماء يساعد على التبريد وهذا يعني التخلص من الحر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  <a:cs typeface="PT Bold Heading"/>
              </a:rPr>
              <a:t>طريقة الخنق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التراب و الرغوة والبطانية لعزل المادة المحترقة عن الهواء(منع وصول الأوكسجي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  <a:cs typeface="PT Bold Heading"/>
              </a:rPr>
              <a:t>طريقة التجوي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إبعاد المادة المحتر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4600" y="620640"/>
            <a:ext cx="434124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معلومات اثرائية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64332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8920" y="1341720"/>
            <a:ext cx="6966000" cy="52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أ- تمدنا النار بالحرارة والضوء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ب- الهواء ليس ضروريا للاشتع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ـ- وجود طفاية الحريق في المنزل والمدرسة والسيارة أمر ضروري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د- رقم هاتف الدفاع المدني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998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هـ- إغلاق النوافذ والأبواب عند وجود فحم          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يشتعل داخل الغرفة تصرف سلي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4365720"/>
            <a:ext cx="68436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64500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5516640"/>
            <a:ext cx="7956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184464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49228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797760"/>
            <a:ext cx="5977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ضع الكلمات التالية في الفراغ المناسب ل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1589760"/>
            <a:ext cx="696600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جهاز الإنذار ضد الحريق – المادة القابلة للاحتراق- عزل – الحرارة – الهواء – أسلاك كهربائية مكشوف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424240"/>
            <a:ext cx="7254720" cy="38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أ- الاحتراق إذا توفرت ثلاثة من عوامل هي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الحرارة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و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الهواء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و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المادة القابلة للاحتراق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ب- طفايات الحريق تحوي مادة تعمل على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عزل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المادة المشتعلة عن الهواء فتنطفئ المادة المشتع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ج-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جهاز الإنذار ضد الحريق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يصدر صوتا في حالة وقوع حريق في المبن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د- من أسباب حدوث الحريق وجود  </a:t>
            </a:r>
            <a:r>
              <a:rPr b="1" lang="hi-IN" sz="2400" spc="-1" strike="noStrike">
                <a:solidFill>
                  <a:srgbClr val="bbe0e3"/>
                </a:solidFill>
                <a:latin typeface="Arial"/>
                <a:cs typeface="PT Bold Heading"/>
              </a:rPr>
              <a:t>أسلاك كهربائية مكشوفة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675000"/>
            <a:ext cx="5977080" cy="146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– ضع علامة (  </a:t>
            </a:r>
            <a:r>
              <a:rPr b="1" lang="en-US" sz="2400" spc="-1" strike="noStrike">
                <a:solidFill>
                  <a:srgbClr val="42044c"/>
                </a:solidFill>
                <a:latin typeface="Wingdings"/>
                <a:ea typeface="Wingdings"/>
              </a:rPr>
              <a:t>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) أسفل الصورة التي تمثل التصرف السليم وعلامة (  </a:t>
            </a:r>
            <a:r>
              <a:rPr b="1" lang="en-US" sz="2400" spc="-1" strike="noStrike">
                <a:solidFill>
                  <a:srgbClr val="42044c"/>
                </a:solidFill>
                <a:latin typeface="Webdings"/>
                <a:ea typeface="Webdings"/>
              </a:rPr>
              <a:t>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  ) أسفل الصورة التي تمثل التصرف الخاطئ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298440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Bar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95240"/>
            <a:ext cx="79200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ما فوائد النار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2193840"/>
            <a:ext cx="741708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: التدفئة – الإضاءة – إنضاج الماء- صهر المعادن – غلي الم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41200" y="609480"/>
            <a:ext cx="44463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حصول على النا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8920" y="3350880"/>
            <a:ext cx="71834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ما أخطار النار ؟ 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932280"/>
            <a:ext cx="73818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: حدوث احترا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647960"/>
            <a:ext cx="718344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ماذا يلزم لحدوث الاشتعال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338800"/>
            <a:ext cx="73818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: المادة المحترقة- الحرارة – الهواء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71604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953280"/>
            <a:ext cx="7128000" cy="975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 س- ما المادة المحترقة في كل حالة م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7561440" cy="311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826920" y="4581360"/>
            <a:ext cx="73454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716040" cy="9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256760"/>
            <a:ext cx="712800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 ضع علامة (</a:t>
            </a:r>
            <a:r>
              <a:rPr b="1" lang="en-US" sz="2400" spc="-1" strike="noStrike">
                <a:solidFill>
                  <a:srgbClr val="42044c"/>
                </a:solidFill>
                <a:latin typeface="Wingdings"/>
                <a:ea typeface="Wingdings"/>
              </a:rPr>
              <a:t>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تحت صور الأشياء التي تساعد على حدوث الاحترا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87280" y="2297160"/>
            <a:ext cx="5905800" cy="37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281240" cy="151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2" name=""/>
          <p:cNvSpPr/>
          <p:nvPr/>
        </p:nvSpPr>
        <p:spPr>
          <a:xfrm>
            <a:off x="-163440" y="1152000"/>
            <a:ext cx="71834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لماذا نحرك الهواء حول النار عند إشعال الحطب ؟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159280"/>
            <a:ext cx="741708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Arial"/>
                <a:cs typeface="PT Bold Heading"/>
              </a:rPr>
              <a:t>ج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Arial"/>
                <a:ea typeface="PT Bold Heading"/>
              </a:rPr>
              <a:t> لأن الهواء يساعد على حدوث الاحتراق.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229760"/>
            <a:ext cx="6985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تأمل الصور التالية واستنتج أسباب حدوث الحرائ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53720" y="620640"/>
            <a:ext cx="56685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أسباب حدوث الحرائق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  <a:ea typeface="Hesham Gornat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7288200" cy="3981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50720" y="692280"/>
            <a:ext cx="410940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مكافحة الحرائ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95240"/>
            <a:ext cx="792000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 – هل الحرائق تؤدي إلى أضرار؟ أذكر أمثل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763000"/>
            <a:ext cx="7417080" cy="26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  <a:cs typeface="PT Bold Heading"/>
              </a:rPr>
              <a:t>ج:نع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           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- خسائر مادي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    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-وفاة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3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- تشوهات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281240" cy="151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6" name=""/>
          <p:cNvSpPr/>
          <p:nvPr/>
        </p:nvSpPr>
        <p:spPr>
          <a:xfrm>
            <a:off x="826920" y="2041200"/>
            <a:ext cx="7183440" cy="12801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2044c"/>
                </a:solidFill>
                <a:latin typeface="Arial"/>
                <a:ea typeface="PT Bold Heading"/>
              </a:rPr>
              <a:t> س – في محطات وقود السيارات يوجد عدد كبير من </a:t>
            </a:r>
            <a:r>
              <a:rPr b="1" lang="ar-SA" sz="28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42044c"/>
                </a:solidFill>
                <a:latin typeface="Arial"/>
                <a:cs typeface="PT Bold Heading"/>
              </a:rPr>
              <a:t>الأوعية المملوءة بالرمل ما سبب وجوده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3208320"/>
            <a:ext cx="7921800" cy="21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ff33"/>
                </a:solidFill>
                <a:latin typeface="Arial"/>
                <a:cs typeface="PT Bold Heading"/>
              </a:rPr>
              <a:t>ج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PT Bold Heading"/>
              </a:rPr>
              <a:t> لكي تطفئ الحريق في حالة نشوبه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740720" y="655560"/>
            <a:ext cx="716040" cy="90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2720" y="614520"/>
            <a:ext cx="7128000" cy="146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 ما العامل الذي يحاول الشخص التخلص منه لإطفاء النا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           بين ذلك بعلامة (</a:t>
            </a:r>
            <a:r>
              <a:rPr b="1" lang="en-US" sz="2400" spc="-1" strike="noStrike">
                <a:solidFill>
                  <a:srgbClr val="42044c"/>
                </a:solidFill>
                <a:latin typeface="Wingdings"/>
                <a:ea typeface="Wingdings"/>
              </a:rPr>
              <a:t>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في الخانة المناسب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92360" y="1989000"/>
            <a:ext cx="5400720" cy="404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780000" y="2508120"/>
            <a:ext cx="792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506680"/>
            <a:ext cx="792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2506680"/>
            <a:ext cx="86364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732120"/>
            <a:ext cx="792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3730680"/>
            <a:ext cx="792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3730680"/>
            <a:ext cx="86364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5029200"/>
            <a:ext cx="79200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5027760"/>
            <a:ext cx="79200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027760"/>
            <a:ext cx="86364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07:06:29Z</dcterms:created>
  <dc:creator>Unknown User</dc:creator>
  <dc:description/>
  <dc:language>en-US</dc:language>
  <cp:lastModifiedBy>VistaInsPirat</cp:lastModifiedBy>
  <dcterms:modified xsi:type="dcterms:W3CDTF">2009-05-14T04:06:48Z</dcterms:modified>
  <cp:revision>196</cp:revision>
  <dc:subject/>
  <dc:title>الشريحة 1</dc:title>
</cp:coreProperties>
</file>