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0025-4F96-4D49-808E-B18867AC6A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by : Mohammed Ibrah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No. / 05560987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/ 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تصميم / محمد ابراه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جوال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05560987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بريد الكتروني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45E-9881-43D1-9C2D-A75050A1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D4B-07EE-440B-9B83-E405BE33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D37-CA9E-43A6-B70F-957BE7D6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941-5C9D-4162-A9C4-D7DF3082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BF7-F611-406B-8376-48555782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9B1-5B41-4C2F-9D39-AB45ABBA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E6A-A7CB-4F8F-A0E7-4A8F8AB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5BA-0530-41C0-BD31-9547FFD5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AB5-D1F1-4ABB-9410-A0E237FF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2F0-06D9-483C-9E91-CFAE817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A85-CEC9-4F55-B109-6D69B24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647-2D4D-4AE5-9DB4-FCD3A4A2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027A-57A7-47B8-A25D-D1C0BAA92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484280"/>
            <a:ext cx="7416720" cy="2232000"/>
          </a:xfrm>
          <a:prstGeom prst="roundRect">
            <a:avLst>
              <a:gd name="adj" fmla="val 42366"/>
            </a:avLst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مادة العلو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ea typeface="FS_Cairo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للصف الرابع الابتد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838680"/>
            <a:ext cx="6985080" cy="1822320"/>
          </a:xfrm>
          <a:prstGeom prst="flowChartTerminator">
            <a:avLst/>
          </a:prstGeom>
          <a:gradFill rotWithShape="0">
            <a:gsLst>
              <a:gs pos="0">
                <a:srgbClr val="66ff33">
                  <a:alpha val="85098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PT Bold Heading"/>
              </a:rPr>
              <a:t>الكو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3645000"/>
            <a:ext cx="5185080" cy="28872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صل الدراسي الثا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980640"/>
            <a:ext cx="597708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4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: الكواكب لا تشع ضوءا فكيف ترى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1909800"/>
            <a:ext cx="6966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تعكس ضوء الشمس الساقط علي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3273120"/>
            <a:ext cx="5977080" cy="366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– لماذا لا يبتعد القمر عن الأرض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4202280"/>
            <a:ext cx="6966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بسبب قوة الجذب بين الأرض والقم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809080"/>
            <a:ext cx="691200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: صل بخط بين الصورة والعبارة المناسبة فيما  يلي :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29560" y="692280"/>
            <a:ext cx="396936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كون من حولن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20544000">
            <a:off x="1476360" y="853560"/>
            <a:ext cx="125748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740720" y="1735200"/>
            <a:ext cx="716040" cy="90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26920" y="3645000"/>
            <a:ext cx="6985080" cy="22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384920"/>
            <a:ext cx="5869080" cy="1462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2044c"/>
                </a:solidFill>
                <a:latin typeface="Arial"/>
                <a:cs typeface="PT Bold Heading"/>
              </a:rPr>
              <a:t>س- هل تتعرض الكواكب التسعة لنفس كمية الضوء والحرارة ؟ ولماذا ؟</a:t>
            </a:r>
            <a:r>
              <a:rPr b="1" lang="en-US" sz="3200" spc="-1" strike="noStrike">
                <a:solidFill>
                  <a:srgbClr val="42044c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40800" y="609480"/>
            <a:ext cx="508176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مجموعة الشمس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1280880" cy="151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684360" y="2769840"/>
            <a:ext cx="7416720" cy="27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ج : كلا 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لأن الكواكب تقع على مسافات مختلفة من الشمس وبالتالي كلما ابتعد الكوكب عن الشمس قلت كمية الضوء والحرارة التي تصل إلي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الشمس – الأرض – القمر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40800" y="609480"/>
            <a:ext cx="508176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مجموعة الشمس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1280880" cy="151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611280" y="3407040"/>
            <a:ext cx="7416720" cy="19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66ff33"/>
                </a:solidFill>
                <a:latin typeface="Arial"/>
                <a:cs typeface="PT Bold Heading"/>
              </a:rPr>
              <a:t>الشمس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PT Bold Heading"/>
              </a:rPr>
              <a:t> &gt; </a:t>
            </a:r>
            <a:r>
              <a:rPr b="1" lang="hi-IN" sz="6800" spc="-1" strike="noStrike">
                <a:solidFill>
                  <a:srgbClr val="66ff33"/>
                </a:solidFill>
                <a:latin typeface="Arial"/>
                <a:cs typeface="PT Bold Heading"/>
              </a:rPr>
              <a:t>الأرض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PT Bold Heading"/>
              </a:rPr>
              <a:t> &gt; القمر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1456200"/>
            <a:ext cx="5868720" cy="1462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2044c"/>
                </a:solidFill>
                <a:latin typeface="Arial"/>
                <a:cs typeface="PT Bold Heading"/>
              </a:rPr>
              <a:t>س- أيهما أكبر الأرض أم الشمس أم القمر ؟ رتبها من الأكبر إلى الأصغ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643320"/>
            <a:ext cx="5977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ضع علامة (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صحيحة وعلامة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X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خاطئة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2278080"/>
            <a:ext cx="6821640" cy="34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أ- ينتج عن دوران الأرض حول نفسها حدوث الليل والنها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PT Bold Heading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ب- تكون اشعة الشمس قوية وحارة وقت شروقها في الصباح الباكر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ج- النجوم تختفي في النهار بسبب ضوء الشمس القوي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111640"/>
            <a:ext cx="68400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237492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887640"/>
            <a:ext cx="79560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43320"/>
            <a:ext cx="5977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ضع علامة (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صحيحة وعلامة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X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خاطئة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2278800"/>
            <a:ext cx="6821640" cy="34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د- تطلع الشمس علينا من جهة الشرق وتختفي في جهة الغرب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هـ - لا تستفيد جميع المخلوقات من ضوء الشمس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و- يضئ ضوء الشمس جميع أجزاء الأرض في الوقت نفس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37492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887640"/>
            <a:ext cx="79560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86900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643320"/>
            <a:ext cx="5977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ضع علامة (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صحيحة وعلامة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X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خاطئة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2280600"/>
            <a:ext cx="6913800" cy="34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ز- تدور الأرض حول نفسها مرة بالنهار ومرة باللي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ح- أقرب الكواكب إلى الشمس كوكب الزهر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Arial"/>
                <a:cs typeface="PT Bold Heading"/>
              </a:rPr>
              <a:t>ط- المجموعة الشمسية تحوي ثمانية كواكب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85264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60036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58136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643320"/>
            <a:ext cx="5977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ضع علامة (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صحيحة وعلامة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X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خاطئة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03280" y="2162160"/>
            <a:ext cx="6913800" cy="365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ي- تدور الكواكب السيارة حول الشمس 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ك- القمر تابع للشمس يدور حولها كل شهر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ل – كل كوكب يدور حول الشمس له مدار خاص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720" y="362736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283536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446400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797760"/>
            <a:ext cx="59770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– ضع كلمة مناسبة في الفراغ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08360" y="1806840"/>
            <a:ext cx="460872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- تتكون المجموعة الشمسية من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6360" y="1936080"/>
            <a:ext cx="37274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Arial"/>
                <a:cs typeface="PT Bold Heading"/>
              </a:rPr>
              <a:t>الكواكب السيارة والشم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68640"/>
            <a:ext cx="838836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- نستخدم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   لأخذ صور مقربة للأجسام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000" spc="-1" strike="noStrike">
                <a:solidFill>
                  <a:srgbClr val="66ff33"/>
                </a:solidFill>
                <a:latin typeface="Arial"/>
                <a:cs typeface="PT Bold Heading"/>
              </a:rPr>
              <a:t>السماوي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57640" y="2901240"/>
            <a:ext cx="22860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Arial"/>
                <a:cs typeface="PT Bold Heading"/>
              </a:rPr>
              <a:t>المنظار الفلك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9080" y="3921480"/>
            <a:ext cx="7398000" cy="9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-نحصل على صور دقيقة لأسطح الكواكب باستخدام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611960"/>
            <a:ext cx="30067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Arial"/>
                <a:cs typeface="PT Bold Heading"/>
              </a:rPr>
              <a:t>الأقمار الصناع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499000"/>
            <a:ext cx="6966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  <a:ea typeface="PT Bold Heading"/>
              </a:rPr>
              <a:t>- النجوم أجسام فلكية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349240"/>
            <a:ext cx="3006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Arial"/>
                <a:cs typeface="PT Bold Heading"/>
              </a:rPr>
              <a:t>تشع الضوء بنفسه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07:06:29Z</dcterms:created>
  <dc:creator>Unknown User</dc:creator>
  <dc:description/>
  <dc:language>en-US</dc:language>
  <cp:lastModifiedBy>VistaInsPirat</cp:lastModifiedBy>
  <dcterms:modified xsi:type="dcterms:W3CDTF">2009-05-14T04:13:33Z</dcterms:modified>
  <cp:revision>206</cp:revision>
  <dc:subject/>
  <dc:title>الشريحة 1</dc:title>
</cp:coreProperties>
</file>