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87A4-C3A7-4C9F-918B-00DB7A0E69C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d by : Mohammed Ibrah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No. / 05560987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/ 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تصميم / محمد ابراه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جوال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05560987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بريد الكتروني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DBB-C178-4526-AA42-122EFEFA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E82-19BC-4D47-8FB0-7A310984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FE5-86AB-48AE-8F42-01EC8413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536-5DA9-42D4-9E1C-A5CA7672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9B3-3996-4E46-A29F-23F43CF5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584-094A-4A63-948B-FBD19401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1B7-DE3C-48F8-B7D0-D2EAB94F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DF1-E396-4FFE-AA09-DB2B03E2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28B-C4CD-48C3-A6A5-59745FCB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368-86D4-4639-8DB9-E014AC45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B16-76B0-4B1B-AC1B-33700FB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DC9-C511-493A-A8F9-1881D24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A332-D433-41B8-8B74-0DAC9E1A0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484280"/>
            <a:ext cx="7416720" cy="2232000"/>
          </a:xfrm>
          <a:prstGeom prst="roundRect">
            <a:avLst>
              <a:gd name="adj" fmla="val 42366"/>
            </a:avLst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ادة العلو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للصف الخامس الابتدائ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849240"/>
            <a:ext cx="5184720" cy="28908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3983040"/>
            <a:ext cx="6985080" cy="1822320"/>
          </a:xfrm>
          <a:prstGeom prst="flowChartTerminator">
            <a:avLst/>
          </a:prstGeom>
          <a:gradFill rotWithShape="0">
            <a:gsLst>
              <a:gs pos="0">
                <a:srgbClr val="66ff33">
                  <a:alpha val="85098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PT Bold Heading"/>
              </a:rPr>
              <a:t>الطاق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3789360"/>
            <a:ext cx="5184720" cy="28908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الفصل الدراسي الثان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5864400"/>
            <a:ext cx="5184720" cy="28872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979560"/>
            <a:ext cx="6913800" cy="1463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3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(أ)أكتب في سطرين عن أهم مصادر الطاقة المتوفرة في بلادن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55640" y="2333160"/>
            <a:ext cx="7524720" cy="118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من أهم مصادر الطاقة المتوفرة في بلادنا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 الطاقة الشمسية – الطاقة الكيميائية – الطاقة الكهربائ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4148640"/>
            <a:ext cx="7510680" cy="19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ج: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1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- عدم التبذير والإسراف في استهلاك الكهرباء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   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2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- إغلاق الأنوار والمكيفات وأي أجهزة كهربائية أخرى عند الخروج من المنزل أو الفص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3876480"/>
            <a:ext cx="712944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(ب)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 واجبنا لتقليل استهلاك الطاق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695240"/>
            <a:ext cx="734724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هل تسير السيارة بدون وقود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00" y="2492280"/>
            <a:ext cx="7705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لا يمكن للسيارة أن تسير بدون وقود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000" y="681120"/>
            <a:ext cx="165888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طاق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466800"/>
            <a:ext cx="773892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هل تستطيع العمل أو اللعب وأنت جائع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360" y="4010040"/>
            <a:ext cx="7705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لا أستطيع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735080"/>
            <a:ext cx="824400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هل تتحرك السفن الشراعية بدون وجود الرياح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0200" y="5373720"/>
            <a:ext cx="6481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ar-SA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لايمكنها التحرك بدون الرياح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695240"/>
            <a:ext cx="756288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  ماذا تستفيد السيارة من الوقود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8200" y="2205000"/>
            <a:ext cx="7489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     الوقود يمد السيارة بالطاقة الحرك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000" y="620640"/>
            <a:ext cx="165888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طاق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3212640"/>
            <a:ext cx="593892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ذا يستفيد الإنسان من الغذاء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618360"/>
            <a:ext cx="777708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    الغذاء يمد الإنسان بالطاقة اللازمة لحركته وحياته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615920"/>
            <a:ext cx="593892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ذا تستفيد السفن الشراعية من الرياح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5191560"/>
            <a:ext cx="669600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تعطي الرياح السفن الطاقة الحرك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695240"/>
            <a:ext cx="756288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لماذا تضع البطارية في بعض ألعاب الأطفا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8200" y="2205000"/>
            <a:ext cx="7489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لكي تمدها بالطاقة اللازمة لتحريكه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0200" y="620640"/>
            <a:ext cx="416124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طاقة الكهربائ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3212640"/>
            <a:ext cx="593892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 فائدة البطارية للساع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846600"/>
            <a:ext cx="77770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تمدها بالطاقة حتى تعمل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4615560"/>
            <a:ext cx="759456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 الشيء الذي يلزم وجوده ليعمل كلٌّ من المكيف، والثلاجة، 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والحاسب، وغسالة الملاب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5191560"/>
            <a:ext cx="669600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يلزم هذه الأجهزة للعمل طاقة كهربائ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1512000"/>
            <a:ext cx="763416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عدِّد بعض الطرق الممكنة لتقليل استهلاك الكهرباء في المنزل والمدرس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50200" y="620640"/>
            <a:ext cx="416124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طاقة الكهربائ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2132280"/>
            <a:ext cx="7704360" cy="42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1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-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إغلاق الأنوار والمكيفات وأي أجهزة كهربائية 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أخرى عند الخروج من المنزل أو الفص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2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-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عدم الإسراف والتبذير في استهلاك الكهرباء 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بل نأخذ منها قدرها حين الحاجة فقط لأنها 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نعمة 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من عند الله عز وجل ويجب المحافظة 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ع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848520"/>
            <a:ext cx="616104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 اكتب تحت الصور التالية اسم الطاقة التي تمثل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7740720" y="692280"/>
            <a:ext cx="635040" cy="79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6408720" cy="445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00720" y="2997360"/>
            <a:ext cx="2950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997360"/>
            <a:ext cx="273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5300640"/>
            <a:ext cx="3097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5300640"/>
            <a:ext cx="3097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848520"/>
            <a:ext cx="616104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 اكتب تحت الصور التالية اسم الطاقة التي تمثل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7740720" y="692280"/>
            <a:ext cx="63504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7345440" cy="230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3280" y="3933720"/>
            <a:ext cx="338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933720"/>
            <a:ext cx="3598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201320"/>
            <a:ext cx="608508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1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أكتب مثالاً لكلِّ م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51280" y="1648440"/>
            <a:ext cx="4429080" cy="356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1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-جسم يمتلك طاقة كيميائية 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-جسم يمتلك طاقة كهربائية 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3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-جسم يمتلك طاقة حركية 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4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PT Bold Heading"/>
              </a:rPr>
              <a:t>-جسم يصدر طاقة ضوئية ؟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280" y="1667520"/>
            <a:ext cx="4140360" cy="356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احتراق النفط – البطاريات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المكيف – الثلاج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الآلات المتحركة – المياه الجار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المصابيح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018440"/>
            <a:ext cx="608508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2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ضع كلمة مناسبة في الفراغات التال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63640" y="1650600"/>
            <a:ext cx="7524720" cy="39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1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-تزيد الطاقة الحركية لجسم متحرك بزياد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2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-الطاقة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لحركة السيارة والإنسان والحيوان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3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-يحصل الإنسان على الطاقة من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أما السفينة الشراعية فإنها تحصل على الطاقة من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66ff33"/>
                </a:solidFill>
                <a:latin typeface="Arial"/>
                <a:cs typeface="PT Bold Heading"/>
              </a:rPr>
              <a:t>أما السيارة فإنها تحصل على طاقتها م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680" y="1773360"/>
            <a:ext cx="3021120" cy="487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44c"/>
                </a:solidFill>
                <a:latin typeface="Arial"/>
                <a:ea typeface="PT Bold Heading"/>
              </a:rPr>
              <a:t>( الكتلة و السرع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09160" y="2565360"/>
            <a:ext cx="1794600" cy="487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44c"/>
                </a:solidFill>
                <a:latin typeface="Arial"/>
                <a:ea typeface="PT Bold Heading"/>
              </a:rPr>
              <a:t>( ضرور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2880" y="3446640"/>
            <a:ext cx="1451520" cy="487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44c"/>
                </a:solidFill>
                <a:latin typeface="Arial"/>
                <a:ea typeface="PT Bold Heading"/>
              </a:rPr>
              <a:t>( الغذاء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31760" y="4221000"/>
            <a:ext cx="1459080" cy="487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44c"/>
                </a:solidFill>
                <a:latin typeface="Arial"/>
                <a:ea typeface="PT Bold Heading"/>
              </a:rPr>
              <a:t>( الرياح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09600" y="4941720"/>
            <a:ext cx="1533960" cy="487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44c"/>
                </a:solidFill>
                <a:latin typeface="Arial"/>
                <a:ea typeface="PT Bold Heading"/>
              </a:rPr>
              <a:t>( الوقود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07:06:29Z</dcterms:created>
  <dc:creator>Unknown User</dc:creator>
  <dc:description/>
  <dc:language>en-US</dc:language>
  <cp:lastModifiedBy>VistaInsPirat</cp:lastModifiedBy>
  <dcterms:modified xsi:type="dcterms:W3CDTF">2009-05-14T03:43:05Z</dcterms:modified>
  <cp:revision>131</cp:revision>
  <dc:subject/>
  <dc:title>الشريحة 1</dc:title>
</cp:coreProperties>
</file>