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A247-AE92-4B9F-9B3B-FDF7E77F2D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d by : Mohammed Ibrah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No. / 05560987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/ 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تصميم / محمد ابراه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جوال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05560987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بريد الكتروني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DB9-04E7-4B18-92B2-E46BB6E7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871-4370-4E61-B3EF-E96D97D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370-AA22-48CC-AD41-005C46DC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56A-301E-40E8-A01B-6E5A16FB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FD9-DB90-4F5D-9E6B-EC32F7C5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9C8-0819-4024-9EBE-91324093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589-13D0-4735-8C09-CFBD22A6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1B1-11B5-4B71-BF46-2F18D4C3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7F1-6375-4034-876D-7385ADB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99B-24A6-4D9B-9968-10F7781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6D4-551D-4243-82FC-879BE3F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231-F850-45B7-97E5-D017E3CD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2B1C-3D82-45C5-A6E6-CC80B20A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484280"/>
            <a:ext cx="7416720" cy="2232000"/>
          </a:xfrm>
          <a:prstGeom prst="roundRect">
            <a:avLst>
              <a:gd name="adj" fmla="val 42366"/>
            </a:avLst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مادة العلو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ea typeface="FS_Cairo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للصف الخامس الابتد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849240"/>
            <a:ext cx="5184720" cy="28908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3645000"/>
            <a:ext cx="5184720" cy="28872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صل الدراسي الثا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838680"/>
            <a:ext cx="6985080" cy="1822320"/>
          </a:xfrm>
          <a:prstGeom prst="flowChartTerminator">
            <a:avLst/>
          </a:prstGeom>
          <a:gradFill rotWithShape="0">
            <a:gsLst>
              <a:gs pos="0">
                <a:srgbClr val="66ff33">
                  <a:alpha val="85098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PT Bold Heading"/>
              </a:rPr>
              <a:t>الحرك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224000"/>
            <a:ext cx="6953040" cy="1463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ضعي رقم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1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و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و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3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سفل الصورة التالية بحيث يكون رقم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1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سفل الصورة التي يبذل التلميذ فيها قوة اقل لرفع الجسم إلى حوض السيا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41640" y="620640"/>
            <a:ext cx="765432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عجلات تسهل تحريك الأجسا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54200" y="2637000"/>
            <a:ext cx="748980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486900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4941720"/>
            <a:ext cx="12952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486900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8200" y="1440720"/>
            <a:ext cx="785016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ضعي علامة ( 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</a:rPr>
              <a:t>√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) أسفل الصورة التي يبذل فيها التلميذ قوة اقل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41640" y="681120"/>
            <a:ext cx="765432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عجلات تسهل تحريك الأجسا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7561440" cy="25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900000" y="4076640"/>
            <a:ext cx="338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460040"/>
            <a:ext cx="13348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42044c"/>
                </a:solidFill>
                <a:latin typeface="Arial"/>
                <a:cs typeface="PT Bold Heading"/>
              </a:rPr>
              <a:t>لماذا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" y="5301360"/>
            <a:ext cx="72741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ج: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 لأنه استخدام السطوح الملساء التي تساعد على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تحريك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الأجسا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1018440"/>
            <a:ext cx="608508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صلْ بين كل عبارة في العمود ( أ ) وما يناسبها من العمود (ب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96000" y="1450440"/>
            <a:ext cx="2484360" cy="3960360"/>
          </a:xfrm>
          <a:prstGeom prst="rect">
            <a:avLst/>
          </a:prstGeom>
          <a:noFill/>
          <a:ln w="38160">
            <a:solidFill>
              <a:srgbClr val="666633"/>
            </a:solidFill>
            <a:miter/>
          </a:ln>
          <a:effectLst>
            <a:outerShdw dist="17819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(أ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- العتل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- سطح مائل طوي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- الجنزي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Arial"/>
                <a:cs typeface="PT Bold Heading"/>
              </a:rPr>
              <a:t>عربة ذات عجل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271520"/>
            <a:ext cx="4319280" cy="4356360"/>
          </a:xfrm>
          <a:prstGeom prst="rect">
            <a:avLst/>
          </a:prstGeom>
          <a:noFill/>
          <a:ln w="28440">
            <a:solidFill>
              <a:srgbClr val="6666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(ب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 نقل جسم ثقيل من مكان لآخ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 نقل جسم ثقيل من الدور الأرضي إلى الدور العلوي عبر درج المنز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 رفع وتحريك جسم ثقيا من مكان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932360" y="2492280"/>
            <a:ext cx="1224000" cy="1944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59280" y="3284640"/>
            <a:ext cx="1008000" cy="144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932360" y="2420640"/>
            <a:ext cx="1008000" cy="2305080"/>
          </a:xfrm>
          <a:prstGeom prst="line">
            <a:avLst/>
          </a:prstGeom>
          <a:ln w="381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835560"/>
            <a:ext cx="60850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يستخدم بعض العمال العتلة، أذكر بعض الأعمال التي يحتاج فيها العامل إلى العتل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1845000"/>
            <a:ext cx="622944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رفع الأشياء الثقيل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553480"/>
            <a:ext cx="752472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3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الصورة التالية هي لعتلة، صل بين العبارات وما يقابلها على العتل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042920" y="3505320"/>
            <a:ext cx="4681440" cy="1868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940360" y="3249000"/>
            <a:ext cx="2124000" cy="23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1</a:t>
            </a: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 نقطة الارتكا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2</a:t>
            </a: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 ذراع القو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3</a:t>
            </a:r>
            <a:r>
              <a:rPr b="1" lang="ar-SA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 ذراع المقاومة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223640"/>
            <a:ext cx="691380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4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 ما فائدة كلٍّ م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300720" y="1726560"/>
            <a:ext cx="2052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أ)القرص المسنن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718640"/>
            <a:ext cx="5976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be0e3"/>
                </a:solidFill>
                <a:latin typeface="Arial"/>
                <a:cs typeface="Monotype Koufi"/>
              </a:rPr>
              <a:t>نقــل الحركـــــة بين العجلات المسننة المتلامسة.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  <a:ea typeface="Monotype Kouf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2388240"/>
            <a:ext cx="17654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ب) العجلات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2579760"/>
            <a:ext cx="568944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be0e3"/>
                </a:solidFill>
                <a:latin typeface="Arial"/>
                <a:cs typeface="Monotype Koufi"/>
              </a:rPr>
              <a:t>تساعد على تحريك الأجسام .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  <a:ea typeface="Monotype Kouf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250440"/>
            <a:ext cx="17654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ج) الجنزير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3243960"/>
            <a:ext cx="56894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be0e3"/>
                </a:solidFill>
                <a:latin typeface="Arial"/>
                <a:cs typeface="Monotype Koufi"/>
              </a:rPr>
              <a:t>يستخدم لنقل الحركة بين العجلات المسننة المتباعدة.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  <a:ea typeface="Monotype Kouf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4384800"/>
            <a:ext cx="176544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د ) السـير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4180680"/>
            <a:ext cx="56898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be0e3"/>
                </a:solidFill>
                <a:latin typeface="Arial"/>
                <a:cs typeface="Monotype Koufi"/>
              </a:rPr>
              <a:t>يستخدم لنقل الحركـة بين العجلات المتباعدة وغير المسننة .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  <a:ea typeface="Monotype Kouf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079600"/>
            <a:ext cx="565308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5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 هناك نوعان من الحركة ما هما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5734080"/>
            <a:ext cx="52941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حركة خطية  -  حركة دائر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695240"/>
            <a:ext cx="73472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ذا نسمي حركة المروحة ؟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36360" y="2035080"/>
            <a:ext cx="51130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حركتها دائر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78600" y="681120"/>
            <a:ext cx="170136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حرك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2918880"/>
            <a:ext cx="773892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ذا نسمي حركة الطائر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89080" y="3284640"/>
            <a:ext cx="5437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حركة مستقيمة أو خط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889080"/>
            <a:ext cx="824400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 هو الفرق بين حركة المروحة وحركة الطائر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720" y="4074120"/>
            <a:ext cx="7920360" cy="18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الحركة الدائرية يدور فيها الجسم حول نقطة في المركز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أما الحركة الخطية فينتقل الجسم من مكان إلى آخر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53400"/>
            <a:ext cx="655488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تأمل الدراجة وهي تتحرك وأجب عن الأسئلة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623600"/>
            <a:ext cx="748980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1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أي جزء من الدراجة يتحرك حركة دائري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133720"/>
            <a:ext cx="593892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ج:العجلات والعجلة المسننة تتحرك حركة دائر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212640"/>
            <a:ext cx="77774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 أي جزء من الدراجة يتحرك حركة خطي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3542040"/>
            <a:ext cx="593892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ج:هيكل الدراجة يتحرك حركة خط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4325400"/>
            <a:ext cx="756000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3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 أي جزء من الدراجة يتحرك حركة دائرية وخطية في نفس الوقت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5962" t="22624" r="66773" b="61730"/>
          <a:stretch/>
        </p:blipFill>
        <p:spPr>
          <a:xfrm>
            <a:off x="900000" y="1628640"/>
            <a:ext cx="1600200" cy="1270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044720" y="5084640"/>
            <a:ext cx="669600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ج:العجلات تتحرك حركة دائرة وخطية حيث تنقلها من مكان لآخ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740720" y="692280"/>
            <a:ext cx="635040" cy="799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91920" y="620640"/>
            <a:ext cx="279864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نقل الحرك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5640" y="1916280"/>
            <a:ext cx="7488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Ba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1555560"/>
            <a:ext cx="504036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إذا نظرت إلى القرص المسن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91920" y="620640"/>
            <a:ext cx="279864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نقل الحرك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2520720"/>
            <a:ext cx="770436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من أين تبدأ الحرك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122640"/>
            <a:ext cx="770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   تم وضع إشارة على الشكل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889080"/>
            <a:ext cx="770436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هل تحرك جسم أخر بسبب حركة الجسم الأول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3789360"/>
            <a:ext cx="1871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   نع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4503240"/>
            <a:ext cx="770436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كيف انتقلت إلية الحرك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084640"/>
            <a:ext cx="7704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   من خلال الملامسة انتقلت الحركة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55640" y="1373040"/>
            <a:ext cx="2089080" cy="1895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031400"/>
            <a:ext cx="61610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تأمل الدراجة التي أمامك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740720" y="692280"/>
            <a:ext cx="635040" cy="79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1545480"/>
            <a:ext cx="616104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ما الذي تبدأ بة الحركة حين تريد أن تسي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2030760"/>
            <a:ext cx="716904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   تم وضع إشارة  عند موضع  بداية الحرك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360" y="4757760"/>
            <a:ext cx="2303280" cy="140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3024000"/>
            <a:ext cx="61610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س-  ما الذي يتحرك بسبب الحركة الأول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3554280"/>
            <a:ext cx="61610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ج:  القرص المسن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176360"/>
            <a:ext cx="61610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س-  ما الذي يساعد على انتقال الحرك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4707000"/>
            <a:ext cx="61610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ج:   الجنزير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895760"/>
            <a:ext cx="7489800" cy="1463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كنت في سفر مع والدك وتعرَّض أحد إطارات السيارة للتلف، وعندما أردتم رفعها لاستبدال الإطار لم تجدوا العدة اللازمة لرفع السيا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ذا تقترح على والدك لرفع السيار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61000" y="620640"/>
            <a:ext cx="429084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آلات في خدمتن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484800"/>
            <a:ext cx="7704360" cy="18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ج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أن يحضر عصا ويدخلها تحت الإطار ويضع تحت العصا حجر وقريبا من الأطار ثم يبدأ بالضغط على طرف العص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1499040"/>
            <a:ext cx="489744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تى تتحرك الأرجوحة باتجاه الطفل رقم (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، ومتى يبقيان باتجاه متوازي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08640" y="620640"/>
            <a:ext cx="360360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  <a:ea typeface="Hesham Gornata"/>
              </a:rPr>
              <a:t> تخاصم القو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076200"/>
            <a:ext cx="7272360" cy="27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تتحرك الأرجوحة باتجاه الطفل رقم (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1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) عندما يكون أثقل من (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2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) في الجهة المقابلة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ويبقيان باتجاه متوازي عندما يتساوى الثقل بالاتجاهين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5161" t="56430" r="70591" b="26382"/>
          <a:stretch/>
        </p:blipFill>
        <p:spPr>
          <a:xfrm>
            <a:off x="1116000" y="1123920"/>
            <a:ext cx="2149560" cy="2305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>
    <p:randomBa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590120"/>
            <a:ext cx="695304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ضع علامة ( 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</a:rPr>
              <a:t>√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) أسفل الصورة التي يبذل فيها التلميذ قوة اقل لتحريك الجس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41640" y="620640"/>
            <a:ext cx="765432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عجلات تسهل تحريك الأجسا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26920" y="2786040"/>
            <a:ext cx="7272360" cy="30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211640" y="5013360"/>
            <a:ext cx="338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07:06:29Z</dcterms:created>
  <dc:creator>Unknown User</dc:creator>
  <dc:description/>
  <dc:language>en-US</dc:language>
  <cp:lastModifiedBy>VistaInsPirat</cp:lastModifiedBy>
  <dcterms:modified xsi:type="dcterms:W3CDTF">2009-05-14T03:58:45Z</dcterms:modified>
  <cp:revision>144</cp:revision>
  <dc:subject/>
  <dc:title>الشريحة 1</dc:title>
</cp:coreProperties>
</file>