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C329-9940-474B-A2D4-883CB4B9D2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d by : Mohammed Ibrah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No. / 05560987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/ 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تصميم / محمد ابراه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جوال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05560987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بريد الكتروني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iem951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848-6CE2-4BDD-AB63-E8C7E2AB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BFF-3218-4C8F-95CB-C67A97E3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3D0-40DF-4791-9750-4ABF9B88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451-BC0B-42A9-87DF-D4258D96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A02-B9E7-4E8C-8F9F-2FAAEEDD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CE8-776C-458A-83F0-9A2742CF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ED3-3AFC-4750-A4B3-4B085F4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E90-6A7D-46E7-B8FD-63D9203C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B19-D4F6-41B4-BCF4-C623034F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693F-B690-425B-82C9-3268652A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D4E-7F08-42D8-A89E-090CEB6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244-E7BE-4A16-A5F1-1702A88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B996-032C-4E8E-8170-7F72DEDEA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484280"/>
            <a:ext cx="7416720" cy="2232000"/>
          </a:xfrm>
          <a:prstGeom prst="roundRect">
            <a:avLst>
              <a:gd name="adj" fmla="val 42366"/>
            </a:avLst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FS_Cairo"/>
              </a:rPr>
              <a:t>مادة العلو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ea typeface="FS_Cairo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FS_Cairo"/>
              </a:rPr>
              <a:t>للصف السادس الابتدائ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849240"/>
            <a:ext cx="5184720" cy="28908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3983040"/>
            <a:ext cx="6985080" cy="1822320"/>
          </a:xfrm>
          <a:prstGeom prst="flowChartTerminator">
            <a:avLst/>
          </a:prstGeom>
          <a:gradFill rotWithShape="0">
            <a:gsLst>
              <a:gs pos="0">
                <a:srgbClr val="66ff33">
                  <a:alpha val="85098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cc"/>
                </a:solidFill>
                <a:latin typeface="Arial"/>
                <a:cs typeface="PT Bold Heading"/>
              </a:rPr>
              <a:t>العلوم تساعدنا ف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cc"/>
                </a:solidFill>
                <a:latin typeface="Arial"/>
                <a:cs typeface="PT Bold Heading"/>
              </a:rPr>
              <a:t>تطوير وسائل الاتصالا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571920"/>
            <a:ext cx="6840360" cy="433440"/>
          </a:xfrm>
          <a:prstGeom prst="flowChartAlternateProcess">
            <a:avLst/>
          </a:prstGeom>
          <a:gradFill rotWithShape="0">
            <a:gsLst>
              <a:gs pos="0">
                <a:srgbClr val="66ff33">
                  <a:alpha val="95294"/>
                </a:srgbClr>
              </a:gs>
              <a:gs pos="100000">
                <a:srgbClr val="000000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الفصل الدراسي الثان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547280"/>
            <a:ext cx="792000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كيف ينتقل الصوت أو الصورة من مكان آخر عند الهواء ؟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43800" y="620640"/>
            <a:ext cx="855720" cy="90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31800" y="2335320"/>
            <a:ext cx="74167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600" spc="-1" strike="noStrike">
                <a:solidFill>
                  <a:srgbClr val="66ff33"/>
                </a:solidFill>
                <a:latin typeface="Arial"/>
                <a:cs typeface="PT Bold Heading"/>
              </a:rPr>
              <a:t>خلال الموج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8720" y="681120"/>
            <a:ext cx="1515600" cy="731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Hesham Gornata"/>
              </a:rPr>
              <a:t>التهيئ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88920" y="3599640"/>
            <a:ext cx="718344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-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ذا يحدث لسطح الماء عندما ترمي حجراً في وسط بركة 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ماء ساكن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4711680"/>
            <a:ext cx="738180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ff33"/>
                </a:solidFill>
                <a:latin typeface="Arial"/>
                <a:cs typeface="PT Bold Heading"/>
              </a:rPr>
              <a:t>ج: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PT Bold Heading"/>
              </a:rPr>
              <a:t>	</a:t>
            </a:r>
            <a:r>
              <a:rPr b="1" lang="hi-IN" sz="3600" spc="-1" strike="noStrike">
                <a:solidFill>
                  <a:srgbClr val="66ff33"/>
                </a:solidFill>
                <a:latin typeface="Arial"/>
                <a:cs typeface="PT Bold Heading"/>
              </a:rPr>
              <a:t>تتكون أمواج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857880"/>
            <a:ext cx="5977080" cy="10976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ضع علامة (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صحيحة وعلامة (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X</a:t>
            </a:r>
            <a:r>
              <a:rPr b="1" lang="ar-SA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) أمام العبارة الخاطئة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19280" y="1970640"/>
            <a:ext cx="6678720" cy="36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PT Bold Heading"/>
              </a:rPr>
              <a:t>1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PT Bold Heading"/>
              </a:rPr>
              <a:t>- يشبه انتقال الصوت عبر الهواء انتقال الطاقة الحركية عبر الحبل المشد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PT Bold Heading"/>
              </a:rPr>
              <a:t>2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PT Bold Heading"/>
              </a:rPr>
              <a:t>- تسمى الموجات التي ينتقل خلالها الصوت بين الناس موجات صوت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PT Bold Heading"/>
              </a:rPr>
              <a:t>3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PT Bold Heading"/>
              </a:rPr>
              <a:t>- الموجات الصوتية يمكن مشاهدتها أما الموجات الكهرومغناطيسية فلا  يمكن ذل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PT Bold Heading"/>
              </a:rPr>
              <a:t>4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PT Bold Heading"/>
              </a:rPr>
              <a:t>- تسمى الموجات التي ينتقل خلالها الصوت من مدينة لأخرى بالموجات الكهرومغناطي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4941720"/>
            <a:ext cx="68436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2720" y="3166920"/>
            <a:ext cx="8636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076640"/>
            <a:ext cx="7952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X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2158920"/>
            <a:ext cx="86364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bbe0e3"/>
                </a:solidFill>
                <a:latin typeface="Wingdings 2"/>
                <a:ea typeface="Wingdings 2"/>
              </a:rPr>
              <a:t></a:t>
            </a: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40"/>
            <a:ext cx="9144000" cy="3603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cc00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1040760"/>
            <a:ext cx="5977080" cy="731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س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2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-</a:t>
            </a:r>
            <a:r>
              <a:rPr b="1" lang="en-US" sz="2400" spc="-1" strike="noStrike">
                <a:solidFill>
                  <a:srgbClr val="42044c"/>
                </a:solidFill>
                <a:latin typeface="Arial"/>
                <a:ea typeface="PT Bold Heading"/>
              </a:rPr>
              <a:t>	</a:t>
            </a:r>
            <a:r>
              <a:rPr b="1" lang="hi-IN" sz="2400" spc="-1" strike="noStrike">
                <a:solidFill>
                  <a:srgbClr val="42044c"/>
                </a:solidFill>
                <a:latin typeface="Arial"/>
                <a:cs typeface="PT Bold Heading"/>
              </a:rPr>
              <a:t>ارسم شكل الموجات المتولدة التي شاهدتها 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03960" y="682560"/>
            <a:ext cx="1255680" cy="946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352908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900000" y="2852640"/>
            <a:ext cx="36007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5580000" y="1872360"/>
            <a:ext cx="259236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PT Bold Heading"/>
              </a:rPr>
              <a:t> النشاط  المنز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1938960"/>
            <a:ext cx="309564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33"/>
                </a:solidFill>
                <a:latin typeface="Arial"/>
                <a:ea typeface="PT Bold Heading"/>
              </a:rPr>
              <a:t> النشاط  العملي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07:06:29Z</dcterms:created>
  <dc:creator>Unknown User</dc:creator>
  <dc:description/>
  <dc:language>en-US</dc:language>
  <cp:lastModifiedBy>VistaInsPirat</cp:lastModifiedBy>
  <dcterms:modified xsi:type="dcterms:W3CDTF">2009-05-14T02:51:20Z</dcterms:modified>
  <cp:revision>178</cp:revision>
  <dc:subject/>
  <dc:title>الشريحة 1</dc:title>
</cp:coreProperties>
</file>