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1E1-B7A7-4AE8-8C3A-EE11C726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146-ADF2-4793-8841-345F67D6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66C-ECA8-494C-95A5-0D8379AE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5EC-E2BB-4297-8F5C-6ADB3D72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479-58FA-4B59-80E4-7697AB68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1BC-05A3-4C27-9CB3-C394C3C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A73-27EC-438C-8848-8F106F13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B66-3C9F-4F6B-B85B-56FBD49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CFC-59D8-4036-BF06-95D09DF2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BFB-15C6-4761-81B1-F2E1F0D4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0A2-8760-4AA6-93C1-BC40309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B2B-D5E9-4188-9604-DB6B0C6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949B-BD1A-4C69-BFD6-E15C7F2D7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42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258920" y="1628640"/>
            <a:ext cx="0" cy="324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9920" y="1608120"/>
            <a:ext cx="57636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93560" y="213372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19240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273852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24080" y="328464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24080" y="384804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439884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62864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9240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74644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29724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3827520"/>
            <a:ext cx="576000" cy="459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71640" y="836640"/>
            <a:ext cx="6193080" cy="576360"/>
            <a:chOff x="2771640" y="836640"/>
            <a:chExt cx="6193080" cy="576360"/>
          </a:xfrm>
        </p:grpSpPr>
        <p:sp>
          <p:nvSpPr>
            <p:cNvPr id="58" name=""/>
            <p:cNvSpPr/>
            <p:nvPr/>
          </p:nvSpPr>
          <p:spPr>
            <a:xfrm>
              <a:off x="2771640" y="836640"/>
              <a:ext cx="619308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0800" y="895680"/>
              <a:ext cx="5977080" cy="459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حلل العدد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إلى عوامله الأولي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71640" y="1628640"/>
            <a:ext cx="6193080" cy="576360"/>
            <a:chOff x="2771640" y="1628640"/>
            <a:chExt cx="6193080" cy="576360"/>
          </a:xfrm>
        </p:grpSpPr>
        <p:sp>
          <p:nvSpPr>
            <p:cNvPr id="61" name=""/>
            <p:cNvSpPr/>
            <p:nvPr/>
          </p:nvSpPr>
          <p:spPr>
            <a:xfrm>
              <a:off x="2771640" y="1628640"/>
              <a:ext cx="619308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0800" y="1687680"/>
              <a:ext cx="5977080" cy="459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92720" y="2421000"/>
            <a:ext cx="3672000" cy="884160"/>
            <a:chOff x="5292720" y="2421000"/>
            <a:chExt cx="3672000" cy="884160"/>
          </a:xfrm>
        </p:grpSpPr>
        <p:sp>
          <p:nvSpPr>
            <p:cNvPr id="64" name=""/>
            <p:cNvSpPr/>
            <p:nvPr/>
          </p:nvSpPr>
          <p:spPr>
            <a:xfrm>
              <a:off x="5292720" y="2421000"/>
              <a:ext cx="367200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23040" y="2479680"/>
              <a:ext cx="3404880" cy="8254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لاختصار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173480" y="2421000"/>
            <a:ext cx="1008000" cy="884160"/>
            <a:chOff x="4173480" y="2421000"/>
            <a:chExt cx="1008000" cy="884160"/>
          </a:xfrm>
        </p:grpSpPr>
        <p:sp>
          <p:nvSpPr>
            <p:cNvPr id="67" name=""/>
            <p:cNvSpPr/>
            <p:nvPr/>
          </p:nvSpPr>
          <p:spPr>
            <a:xfrm>
              <a:off x="4173480" y="2421000"/>
              <a:ext cx="100800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03440" y="2479680"/>
              <a:ext cx="763920" cy="8254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نكت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059280" y="2421000"/>
            <a:ext cx="1008000" cy="640080"/>
            <a:chOff x="3059280" y="2421000"/>
            <a:chExt cx="1008000" cy="640080"/>
          </a:xfrm>
        </p:grpSpPr>
        <p:sp>
          <p:nvSpPr>
            <p:cNvPr id="70" name=""/>
            <p:cNvSpPr/>
            <p:nvPr/>
          </p:nvSpPr>
          <p:spPr>
            <a:xfrm>
              <a:off x="3059280" y="2421000"/>
              <a:ext cx="100800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76640" y="2479680"/>
              <a:ext cx="763920" cy="5814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51640" y="3754440"/>
            <a:ext cx="1513080" cy="884520"/>
            <a:chOff x="7451640" y="3754440"/>
            <a:chExt cx="1513080" cy="884520"/>
          </a:xfrm>
        </p:grpSpPr>
        <p:sp>
          <p:nvSpPr>
            <p:cNvPr id="73" name=""/>
            <p:cNvSpPr/>
            <p:nvPr/>
          </p:nvSpPr>
          <p:spPr>
            <a:xfrm>
              <a:off x="7451640" y="3754440"/>
              <a:ext cx="151308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3400" y="3813480"/>
              <a:ext cx="1268640" cy="8254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حيث أن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156360" y="3754440"/>
            <a:ext cx="1008000" cy="640080"/>
            <a:chOff x="6156360" y="3754440"/>
            <a:chExt cx="1008000" cy="640080"/>
          </a:xfrm>
        </p:grpSpPr>
        <p:sp>
          <p:nvSpPr>
            <p:cNvPr id="76" name=""/>
            <p:cNvSpPr/>
            <p:nvPr/>
          </p:nvSpPr>
          <p:spPr>
            <a:xfrm>
              <a:off x="6156360" y="3754440"/>
              <a:ext cx="100800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3720" y="3813120"/>
              <a:ext cx="763920" cy="5814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556000" y="3429000"/>
            <a:ext cx="2447640" cy="884160"/>
            <a:chOff x="2556000" y="3429000"/>
            <a:chExt cx="2447640" cy="884160"/>
          </a:xfrm>
        </p:grpSpPr>
        <p:sp>
          <p:nvSpPr>
            <p:cNvPr id="79" name=""/>
            <p:cNvSpPr/>
            <p:nvPr/>
          </p:nvSpPr>
          <p:spPr>
            <a:xfrm>
              <a:off x="2556000" y="3429000"/>
              <a:ext cx="244764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42760" y="3487680"/>
              <a:ext cx="2269440" cy="8254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يسمى الأس أو القو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56000" y="4076640"/>
            <a:ext cx="2447640" cy="884160"/>
            <a:chOff x="2556000" y="4076640"/>
            <a:chExt cx="2447640" cy="884160"/>
          </a:xfrm>
        </p:grpSpPr>
        <p:sp>
          <p:nvSpPr>
            <p:cNvPr id="82" name=""/>
            <p:cNvSpPr/>
            <p:nvPr/>
          </p:nvSpPr>
          <p:spPr>
            <a:xfrm>
              <a:off x="2556000" y="4076640"/>
              <a:ext cx="244764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2760" y="4135320"/>
              <a:ext cx="2269440" cy="8254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يسمى الأسا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 flipV="1">
            <a:off x="4859280" y="3763800"/>
            <a:ext cx="144144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795920" y="4089240"/>
            <a:ext cx="172872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46920" y="4869000"/>
            <a:ext cx="1512720" cy="576000"/>
            <a:chOff x="6946920" y="4869000"/>
            <a:chExt cx="1512720" cy="576000"/>
          </a:xfrm>
        </p:grpSpPr>
        <p:sp>
          <p:nvSpPr>
            <p:cNvPr id="87" name=""/>
            <p:cNvSpPr/>
            <p:nvPr/>
          </p:nvSpPr>
          <p:spPr>
            <a:xfrm>
              <a:off x="6946920" y="4869000"/>
              <a:ext cx="1512720" cy="57600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78320" y="4927680"/>
              <a:ext cx="1268280" cy="459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أي أن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343400" y="4869000"/>
            <a:ext cx="1728360" cy="640080"/>
            <a:chOff x="4343400" y="4869000"/>
            <a:chExt cx="1728360" cy="640080"/>
          </a:xfrm>
        </p:grpSpPr>
        <p:sp>
          <p:nvSpPr>
            <p:cNvPr id="90" name=""/>
            <p:cNvSpPr/>
            <p:nvPr/>
          </p:nvSpPr>
          <p:spPr>
            <a:xfrm>
              <a:off x="4343400" y="4869000"/>
              <a:ext cx="1728360" cy="57600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3880" y="4927680"/>
              <a:ext cx="1449360" cy="5814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2 =  </a:t>
              </a:r>
              <a:r>
                <a:rPr b="1" lang="ar-SA" sz="3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651640" y="6021360"/>
            <a:ext cx="3168360" cy="884160"/>
            <a:chOff x="5651640" y="6021360"/>
            <a:chExt cx="3168360" cy="884160"/>
          </a:xfrm>
        </p:grpSpPr>
        <p:sp>
          <p:nvSpPr>
            <p:cNvPr id="93" name=""/>
            <p:cNvSpPr/>
            <p:nvPr/>
          </p:nvSpPr>
          <p:spPr>
            <a:xfrm>
              <a:off x="5651640" y="6021360"/>
              <a:ext cx="316836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040" y="6080040"/>
              <a:ext cx="2937960" cy="8254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تسمى الصيغة القياس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47640" y="6021360"/>
            <a:ext cx="3168720" cy="884160"/>
            <a:chOff x="1547640" y="6021360"/>
            <a:chExt cx="3168720" cy="884160"/>
          </a:xfrm>
        </p:grpSpPr>
        <p:sp>
          <p:nvSpPr>
            <p:cNvPr id="96" name=""/>
            <p:cNvSpPr/>
            <p:nvPr/>
          </p:nvSpPr>
          <p:spPr>
            <a:xfrm>
              <a:off x="1547640" y="6021360"/>
              <a:ext cx="3168720" cy="57636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61040" y="6080040"/>
              <a:ext cx="2938320" cy="8254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تسمى الصيغة الأس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600880" y="5241960"/>
            <a:ext cx="158400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416400" y="5183280"/>
            <a:ext cx="1366560" cy="93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84360" y="515772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270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273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50920" y="765000"/>
            <a:ext cx="8497800" cy="21592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905040"/>
            <a:ext cx="755964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رتب القوى التالية من الأصغر إلى الأكبر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◙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◙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◙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321300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7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40720" y="321300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5734080"/>
            <a:ext cx="828036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يكون الترتيب كالتالي  :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،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،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،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377352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740720" y="377352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2000" y="432432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485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40720" y="432432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488808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40720" y="488808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287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290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50920" y="765000"/>
            <a:ext cx="8497800" cy="21592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905040"/>
            <a:ext cx="755964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رتب القوى التالية من الأصغر إلى الأكبر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◙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◙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◙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321300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40720" y="321300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5734080"/>
            <a:ext cx="828036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يكون الترتيب كالتالي  :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،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،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،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12000" y="377352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377352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432432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40720" y="432432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2000" y="488808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740720" y="488808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304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307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50920" y="765000"/>
            <a:ext cx="8497800" cy="21592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905040"/>
            <a:ext cx="755964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رتب القوى التالية من الأصغر إلى الأكبر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◙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◙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◙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12000" y="321300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40720" y="321300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5734080"/>
            <a:ext cx="828036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يكون الترتيب كالتالي  :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،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،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،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2000" y="377352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0720" y="377352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12000" y="432432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40720" y="432432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2000" y="4888080"/>
            <a:ext cx="16221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40720" y="4888080"/>
            <a:ext cx="10094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321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324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50920" y="765000"/>
            <a:ext cx="8497800" cy="7192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9050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ختر عددا يقع ب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،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يمكن التعبير عنه كقو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734160" y="2133720"/>
            <a:ext cx="86220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4560" y="2133720"/>
            <a:ext cx="12985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3284640"/>
            <a:ext cx="8569080" cy="6490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339876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اكتب قوتين مختلفتين لها القيمة نفسها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67280" y="2133720"/>
            <a:ext cx="64944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44840" y="2133720"/>
            <a:ext cx="86220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05240" y="2133720"/>
            <a:ext cx="12985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9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33680" y="2133720"/>
            <a:ext cx="64908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1080" y="2133720"/>
            <a:ext cx="86184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42920" y="2133720"/>
            <a:ext cx="12985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3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94520" y="4133880"/>
            <a:ext cx="86220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56720" y="4133880"/>
            <a:ext cx="934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3080" y="4710240"/>
            <a:ext cx="861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54920" y="4710240"/>
            <a:ext cx="934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72360" y="5430960"/>
            <a:ext cx="574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12000" y="5430960"/>
            <a:ext cx="360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6000" y="5445000"/>
            <a:ext cx="57456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83280" y="4797360"/>
            <a:ext cx="64944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27600" y="4148280"/>
            <a:ext cx="861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89440" y="4148280"/>
            <a:ext cx="934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25800" y="4724280"/>
            <a:ext cx="86220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88000" y="4724280"/>
            <a:ext cx="934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05440" y="5445000"/>
            <a:ext cx="57456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45080" y="5445000"/>
            <a:ext cx="360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68720" y="5459400"/>
            <a:ext cx="57456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44720" y="4811760"/>
            <a:ext cx="64944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2720" y="4148280"/>
            <a:ext cx="86220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4920" y="4148280"/>
            <a:ext cx="934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1280" y="4724280"/>
            <a:ext cx="861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3120" y="4724280"/>
            <a:ext cx="93528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90560" y="5445000"/>
            <a:ext cx="574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30200" y="5445000"/>
            <a:ext cx="360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4200" y="5459400"/>
            <a:ext cx="57456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362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365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50920" y="765000"/>
            <a:ext cx="8497800" cy="12956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9050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حدد العدد الذي يختلف عن الأعداد الثلاثة الأخرى ووضح ذلك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34160" y="2276640"/>
            <a:ext cx="86220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94560" y="2276640"/>
            <a:ext cx="12985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732720" y="2908440"/>
            <a:ext cx="86184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93120" y="2908440"/>
            <a:ext cx="12985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37400" y="3544920"/>
            <a:ext cx="86184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97800" y="3544920"/>
            <a:ext cx="12985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35600" y="4205160"/>
            <a:ext cx="86220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96360" y="4205160"/>
            <a:ext cx="12985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08720" y="1413000"/>
            <a:ext cx="9385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1413000"/>
            <a:ext cx="93816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9080" y="1413000"/>
            <a:ext cx="93816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16360" y="1413000"/>
            <a:ext cx="100944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5157720"/>
            <a:ext cx="8064720" cy="863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8000" y="5302080"/>
            <a:ext cx="655344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دد الذي يختلف عن الأعداد الثلاثة الأخرى هو العد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360" y="5300640"/>
            <a:ext cx="100800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385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388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250920" y="836640"/>
            <a:ext cx="8497800" cy="6476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95076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حلل النمط العددي المجاور  .  ما قيمة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؟  لماذا ؟ استنتج قيم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67280" y="1830240"/>
            <a:ext cx="861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05440" y="1830240"/>
            <a:ext cx="934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65480" y="2478240"/>
            <a:ext cx="86220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03640" y="2478240"/>
            <a:ext cx="93528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70520" y="3125880"/>
            <a:ext cx="86184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08680" y="3125880"/>
            <a:ext cx="934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68720" y="3773520"/>
            <a:ext cx="86220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06880" y="3773520"/>
            <a:ext cx="93528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68720" y="4422600"/>
            <a:ext cx="86220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06880" y="4422600"/>
            <a:ext cx="93528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06880" y="5202360"/>
            <a:ext cx="93528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67280" y="5073480"/>
            <a:ext cx="861840" cy="877680"/>
            <a:chOff x="4067280" y="5073480"/>
            <a:chExt cx="861840" cy="877680"/>
          </a:xfrm>
        </p:grpSpPr>
        <p:sp>
          <p:nvSpPr>
            <p:cNvPr id="404" name=""/>
            <p:cNvSpPr/>
            <p:nvPr/>
          </p:nvSpPr>
          <p:spPr>
            <a:xfrm>
              <a:off x="4067280" y="5073480"/>
              <a:ext cx="861840" cy="52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66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67280" y="5430600"/>
              <a:ext cx="861840" cy="52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66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389120" y="549756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843280" y="1269000"/>
            <a:ext cx="8040600" cy="3238200"/>
            <a:chOff x="2843280" y="1269000"/>
            <a:chExt cx="8040600" cy="3238200"/>
          </a:xfrm>
        </p:grpSpPr>
        <p:sp>
          <p:nvSpPr>
            <p:cNvPr id="408" name=""/>
            <p:cNvSpPr/>
            <p:nvPr/>
          </p:nvSpPr>
          <p:spPr>
            <a:xfrm flipH="1" rot="585000">
              <a:off x="3689280" y="1852560"/>
              <a:ext cx="7070040" cy="207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92" y="7527"/>
                  </a:moveTo>
                  <a:arcTo wR="10800" hR="10800" stAng="-1058351" swAng="2275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92" y="7527"/>
                  </a:moveTo>
                  <a:arcTo wR="10800" hR="10800" stAng="-1058351" swAng="227554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3280" y="2073240"/>
              <a:ext cx="71892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÷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843280" y="1965960"/>
            <a:ext cx="8040600" cy="3238200"/>
            <a:chOff x="2843280" y="1965960"/>
            <a:chExt cx="8040600" cy="3238200"/>
          </a:xfrm>
        </p:grpSpPr>
        <p:sp>
          <p:nvSpPr>
            <p:cNvPr id="411" name=""/>
            <p:cNvSpPr/>
            <p:nvPr/>
          </p:nvSpPr>
          <p:spPr>
            <a:xfrm flipH="1" rot="585000">
              <a:off x="3689280" y="2549520"/>
              <a:ext cx="7070040" cy="207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92" y="7527"/>
                  </a:moveTo>
                  <a:arcTo wR="10800" hR="10800" stAng="-1058351" swAng="2275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92" y="7527"/>
                  </a:moveTo>
                  <a:arcTo wR="10800" hR="10800" stAng="-1058351" swAng="227554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43280" y="2770200"/>
              <a:ext cx="71892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÷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843280" y="2661120"/>
            <a:ext cx="8040600" cy="3238200"/>
            <a:chOff x="2843280" y="2661120"/>
            <a:chExt cx="8040600" cy="3238200"/>
          </a:xfrm>
        </p:grpSpPr>
        <p:sp>
          <p:nvSpPr>
            <p:cNvPr id="414" name=""/>
            <p:cNvSpPr/>
            <p:nvPr/>
          </p:nvSpPr>
          <p:spPr>
            <a:xfrm flipH="1" rot="585000">
              <a:off x="3689280" y="3244680"/>
              <a:ext cx="7070040" cy="207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92" y="7527"/>
                  </a:moveTo>
                  <a:arcTo wR="10800" hR="10800" stAng="-1058351" swAng="2275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92" y="7527"/>
                  </a:moveTo>
                  <a:arcTo wR="10800" hR="10800" stAng="-1058351" swAng="227554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43280" y="3465360"/>
              <a:ext cx="71892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÷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843280" y="3354840"/>
            <a:ext cx="8040600" cy="3238200"/>
            <a:chOff x="2843280" y="3354840"/>
            <a:chExt cx="8040600" cy="3238200"/>
          </a:xfrm>
        </p:grpSpPr>
        <p:sp>
          <p:nvSpPr>
            <p:cNvPr id="417" name=""/>
            <p:cNvSpPr/>
            <p:nvPr/>
          </p:nvSpPr>
          <p:spPr>
            <a:xfrm flipH="1" rot="585000">
              <a:off x="3689280" y="3938400"/>
              <a:ext cx="7070040" cy="207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92" y="7527"/>
                  </a:moveTo>
                  <a:arcTo wR="10800" hR="10800" stAng="-1058351" swAng="2275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92" y="7527"/>
                  </a:moveTo>
                  <a:arcTo wR="10800" hR="10800" stAng="-1058351" swAng="227554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43280" y="4159080"/>
              <a:ext cx="71892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÷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843280" y="4029840"/>
            <a:ext cx="8040600" cy="3238200"/>
            <a:chOff x="2843280" y="4029840"/>
            <a:chExt cx="8040600" cy="3238200"/>
          </a:xfrm>
        </p:grpSpPr>
        <p:sp>
          <p:nvSpPr>
            <p:cNvPr id="420" name=""/>
            <p:cNvSpPr/>
            <p:nvPr/>
          </p:nvSpPr>
          <p:spPr>
            <a:xfrm flipH="1" rot="585000">
              <a:off x="3689280" y="4613400"/>
              <a:ext cx="7070040" cy="207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92" y="7527"/>
                  </a:moveTo>
                  <a:arcTo wR="10800" hR="10800" stAng="-1058351" swAng="2275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92" y="7527"/>
                  </a:moveTo>
                  <a:arcTo wR="10800" hR="10800" stAng="-1058351" swAng="227554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43280" y="4834080"/>
              <a:ext cx="718920" cy="5205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÷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102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105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مثــــا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39640" y="907920"/>
            <a:ext cx="8209080" cy="792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073160"/>
            <a:ext cx="80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اقرأ القوى التالية بعدة قراءا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1800" y="2116080"/>
          <a:ext cx="8496360" cy="4064040"/>
        </p:xfrm>
        <a:graphic>
          <a:graphicData uri="http://schemas.openxmlformats.org/drawingml/2006/table">
            <a:tbl>
              <a:tblPr/>
              <a:tblGrid>
                <a:gridCol w="2122560"/>
                <a:gridCol w="2808360"/>
                <a:gridCol w="2735280"/>
                <a:gridCol w="830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اءة الثالث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اءة الثا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اءة الأول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fffff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364000" y="278136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قوة الثانية للعد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68600" y="2781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سبعة أ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335772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قوة الثالثة للعد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8600" y="3357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خمسة أ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51400" y="39434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قوة الخامسة للعد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39434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ثمانية أ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51400" y="45194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قوة الرابعة للعد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45194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ستة أ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51400" y="50864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قوة السادسة للعد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50864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سعة أ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51400" y="56624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قوة السابعة للعد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56624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عشرة أ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800" y="278136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سبعة تربي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0200" y="336060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خمسة تكعي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800" y="3930480"/>
            <a:ext cx="1990800" cy="3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200" y="4510080"/>
            <a:ext cx="1990800" cy="396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800" y="5103720"/>
            <a:ext cx="1990800" cy="3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0200" y="5683320"/>
            <a:ext cx="1990800" cy="396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129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93080" y="106200"/>
            <a:ext cx="1800000" cy="576360"/>
            <a:chOff x="7093080" y="106200"/>
            <a:chExt cx="1800000" cy="576360"/>
          </a:xfrm>
        </p:grpSpPr>
        <p:sp>
          <p:nvSpPr>
            <p:cNvPr id="132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80360" y="1252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مثا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9280" y="83664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988920"/>
            <a:ext cx="80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كتب كل قوة فيما يلي كحاصل ضرب للعامل نفسه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،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12000" y="177336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1773360"/>
            <a:ext cx="30211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12000" y="240660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2406600"/>
            <a:ext cx="30211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0" y="305424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16360" y="3054240"/>
            <a:ext cx="30211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378792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940200"/>
            <a:ext cx="80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حسب قيمة كل مما يلي : 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0" y="472428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4724280"/>
            <a:ext cx="100476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535788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5357880"/>
            <a:ext cx="100476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12000" y="600552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6005520"/>
            <a:ext cx="100476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151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154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مثــــا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9280" y="110952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1262160"/>
            <a:ext cx="80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كتب حاصل الضرب بالصيغة الأسية :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5440" y="2046240"/>
            <a:ext cx="1077840" cy="64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046240"/>
            <a:ext cx="424980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13992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3254400"/>
            <a:ext cx="80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كتب كل قوة فيما يلي كحاصل ضرب العامل في نفسه  : 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12000" y="407664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076640"/>
            <a:ext cx="338148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71024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4710240"/>
            <a:ext cx="338148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12000" y="535788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57880"/>
            <a:ext cx="338148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169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172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08000" y="105264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2720" y="1166760"/>
            <a:ext cx="80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حسب قيمة كل مما يلي : 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0720" y="198900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61080" y="1989000"/>
            <a:ext cx="10051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42160" y="262260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1080" y="2622600"/>
            <a:ext cx="10051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42160" y="327024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62880" y="3270240"/>
            <a:ext cx="100476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400356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2720" y="4118040"/>
            <a:ext cx="80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يبلغ عدد سكان الوطن العربي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شخصا تقريبا . فما هذا العد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38920" y="5070600"/>
            <a:ext cx="107820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5070600"/>
            <a:ext cx="266076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4140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187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190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24000" y="765000"/>
            <a:ext cx="8424720" cy="10814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30240"/>
            <a:ext cx="835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كتب حاصل الضرب بالصيغة الأسي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2565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10160" y="1973160"/>
            <a:ext cx="107784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1973160"/>
            <a:ext cx="388800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33800" y="2622600"/>
            <a:ext cx="107820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2622600"/>
            <a:ext cx="266544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4880" y="3270240"/>
            <a:ext cx="107784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3270240"/>
            <a:ext cx="338616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4005360"/>
            <a:ext cx="828036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720" y="4119480"/>
            <a:ext cx="80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كتب كل قوة فيما يلي كحاصل ضرب العامل في نفسه  : 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24720" y="494172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68720" y="4941720"/>
            <a:ext cx="338148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4720" y="557532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8720" y="5575320"/>
            <a:ext cx="338148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4720" y="622296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6222960"/>
            <a:ext cx="33829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210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213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9280" y="836640"/>
            <a:ext cx="8856720" cy="7207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988920"/>
            <a:ext cx="80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حسب قيمة كل مما يلي : 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،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12000" y="170172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70172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2000" y="227808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32720" y="227808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12000" y="285444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285444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12000" y="343044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32720" y="3430440"/>
            <a:ext cx="1004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4148280"/>
            <a:ext cx="8856720" cy="93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4300560"/>
            <a:ext cx="80629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يعد قطار ماجليف في الصين أسرع قطار لنقل المسافرين في العالم ، إذ يبلغ متوسط سرعته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ميلا في الساعة . اكتب هذه السرعة بالصيغة القياس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2000" y="5430960"/>
            <a:ext cx="107784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5430960"/>
            <a:ext cx="2733840" cy="947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يلا في السا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230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233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0920" y="765000"/>
            <a:ext cx="8497800" cy="10814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905040"/>
            <a:ext cx="835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اكتب حاصل الضرب بالصيغة الأسي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4880" y="1916280"/>
            <a:ext cx="107820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4360" y="1916280"/>
            <a:ext cx="158292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6160" y="2492280"/>
            <a:ext cx="107784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08360" y="2492280"/>
            <a:ext cx="504180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4880" y="3068640"/>
            <a:ext cx="107784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64000" y="3068640"/>
            <a:ext cx="338616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3716280"/>
            <a:ext cx="8497800" cy="10810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3855960"/>
            <a:ext cx="835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احسب قيمة كل مما يأتي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◙ القوة الرابعة للعدد ستة                       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تكعيب                         ◙ تسعة تربي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86160" y="4925880"/>
            <a:ext cx="107784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4925880"/>
            <a:ext cx="331164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وة الرابعة للعدد ستة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4880" y="5502240"/>
            <a:ext cx="107820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4360" y="5502240"/>
            <a:ext cx="158580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تكعيب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54520" y="6078600"/>
            <a:ext cx="107820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6078600"/>
            <a:ext cx="1946160" cy="9471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سعة تربيع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4929120"/>
            <a:ext cx="143856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02160" y="5504040"/>
            <a:ext cx="143820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6093000"/>
            <a:ext cx="143820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2700360" y="115920"/>
            <a:ext cx="3671640" cy="503280"/>
            <a:chOff x="2700360" y="115920"/>
            <a:chExt cx="3671640" cy="503280"/>
          </a:xfrm>
        </p:grpSpPr>
        <p:sp>
          <p:nvSpPr>
            <p:cNvPr id="255" name=""/>
            <p:cNvSpPr/>
            <p:nvPr/>
          </p:nvSpPr>
          <p:spPr>
            <a:xfrm>
              <a:off x="2700360" y="115920"/>
              <a:ext cx="3671640" cy="503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49400" y="1558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القوى والأس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093080" y="106200"/>
            <a:ext cx="1800000" cy="966240"/>
            <a:chOff x="7093080" y="106200"/>
            <a:chExt cx="1800000" cy="966240"/>
          </a:xfrm>
        </p:grpSpPr>
        <p:sp>
          <p:nvSpPr>
            <p:cNvPr id="258" name=""/>
            <p:cNvSpPr/>
            <p:nvPr/>
          </p:nvSpPr>
          <p:spPr>
            <a:xfrm>
              <a:off x="7093080" y="106200"/>
              <a:ext cx="1800000" cy="576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80360" y="125280"/>
              <a:ext cx="115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دري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0920" y="765000"/>
            <a:ext cx="8497800" cy="7192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9050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اكتب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بالصيغة الأس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2133720"/>
            <a:ext cx="151128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84720" y="2133720"/>
            <a:ext cx="4465440" cy="5205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3284640"/>
            <a:ext cx="8569080" cy="10810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3424320"/>
            <a:ext cx="8352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يستعمل الجيجابايت كوحدة لقياس سعة مخزن البيانات في الحاسوب . والجيجابايت الواحد يساوي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بايت من البيانات . استعمل الآلة الحاسبة لإيجاد ما يساوي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جيجابايت بالصيغة الأس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4925880"/>
            <a:ext cx="31687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6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7374182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4925880"/>
            <a:ext cx="1798920" cy="642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8200" y="4929120"/>
            <a:ext cx="309708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4748364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اي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13:19Z</dcterms:created>
  <dc:creator>AFAQ-tec</dc:creator>
  <dc:description/>
  <dc:language>en-US</dc:language>
  <cp:lastModifiedBy>AFAQ-tec</cp:lastModifiedBy>
  <dcterms:modified xsi:type="dcterms:W3CDTF">2009-09-16T21:28:00Z</dcterms:modified>
  <cp:revision>48</cp:revision>
  <dc:subject/>
  <dc:title>الشريحة 1</dc:title>
</cp:coreProperties>
</file>