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AD5-616A-44FE-A164-E5835845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4A5-BCEC-4CC3-9927-D02B0CC6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1BC-2521-4FA2-B7CF-B6492A25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928-EE62-41E1-A70C-E7CE437C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132-2C42-4B7C-99D8-4420FB45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C2EC-4F5E-4B8C-A522-750BBA50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429-6B80-4A07-9528-A9DAC501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27B-438A-4F19-910F-9BE026FB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1D1-01EA-4741-99D1-EEC35D62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5F9-5814-45B5-A27B-7228A686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492-120C-4A78-8151-EBF69A51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C22-D26F-427F-84B3-FF4021B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364C-5852-4473-B6EF-518D70320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42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960800" y="836640"/>
            <a:ext cx="4003920" cy="800640"/>
            <a:chOff x="4960800" y="836640"/>
            <a:chExt cx="4003920" cy="800640"/>
          </a:xfrm>
        </p:grpSpPr>
        <p:sp>
          <p:nvSpPr>
            <p:cNvPr id="45" name=""/>
            <p:cNvSpPr/>
            <p:nvPr/>
          </p:nvSpPr>
          <p:spPr>
            <a:xfrm>
              <a:off x="4960800" y="836640"/>
              <a:ext cx="400392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37120" y="933480"/>
              <a:ext cx="3865680" cy="7038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ما عدد المربعات الصغيرة في المربع التالي 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50920" y="3284640"/>
            <a:ext cx="1518840" cy="1445760"/>
            <a:chOff x="250920" y="3284640"/>
            <a:chExt cx="1518840" cy="1445760"/>
          </a:xfrm>
        </p:grpSpPr>
        <p:sp>
          <p:nvSpPr>
            <p:cNvPr id="48" name=""/>
            <p:cNvSpPr/>
            <p:nvPr/>
          </p:nvSpPr>
          <p:spPr>
            <a:xfrm>
              <a:off x="1555920" y="4517280"/>
              <a:ext cx="21384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55920" y="4312080"/>
              <a:ext cx="21384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55920" y="4106520"/>
              <a:ext cx="21384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55920" y="3900960"/>
              <a:ext cx="21384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5920" y="3695760"/>
              <a:ext cx="21384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55920" y="3490200"/>
              <a:ext cx="21384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55920" y="3284640"/>
              <a:ext cx="21384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37760" y="4517280"/>
              <a:ext cx="21384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37760" y="4312080"/>
              <a:ext cx="21384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37760" y="4106520"/>
              <a:ext cx="21384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37760" y="3900960"/>
              <a:ext cx="21384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7760" y="3695760"/>
              <a:ext cx="21384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37760" y="3490200"/>
              <a:ext cx="21384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37760" y="3284640"/>
              <a:ext cx="21384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24280" y="451728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24280" y="4312080"/>
              <a:ext cx="21348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24280" y="410652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24280" y="390096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24280" y="3695760"/>
              <a:ext cx="21348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24280" y="349020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24280" y="328464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05760" y="451728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05760" y="4312080"/>
              <a:ext cx="21348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05760" y="410652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05760" y="390096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05760" y="3695760"/>
              <a:ext cx="21348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05760" y="349020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05760" y="328464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7600" y="451728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7600" y="4312080"/>
              <a:ext cx="21348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7600" y="410652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7600" y="390096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7600" y="3695760"/>
              <a:ext cx="21348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7600" y="349020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7600" y="328464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9080" y="451728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9080" y="4312080"/>
              <a:ext cx="21348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9080" y="410652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9080" y="390096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9080" y="3695760"/>
              <a:ext cx="21348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9080" y="349020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9080" y="328464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0920" y="451728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4312080"/>
              <a:ext cx="21348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10652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90096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0920" y="3695760"/>
              <a:ext cx="213480" cy="212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349020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0920" y="3284640"/>
              <a:ext cx="213480" cy="213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960800" y="2009880"/>
            <a:ext cx="4003920" cy="787680"/>
            <a:chOff x="4960800" y="2009880"/>
            <a:chExt cx="4003920" cy="787680"/>
          </a:xfrm>
        </p:grpSpPr>
        <p:sp>
          <p:nvSpPr>
            <p:cNvPr id="98" name=""/>
            <p:cNvSpPr/>
            <p:nvPr/>
          </p:nvSpPr>
          <p:spPr>
            <a:xfrm>
              <a:off x="4960800" y="2009880"/>
              <a:ext cx="4003920" cy="57600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37120" y="2093760"/>
              <a:ext cx="3865680" cy="7038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ما عدد المربعات الصغيرة على كل ضلع 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2680" y="1425600"/>
            <a:ext cx="3817800" cy="789480"/>
            <a:chOff x="5062680" y="1425600"/>
            <a:chExt cx="3817800" cy="789480"/>
          </a:xfrm>
        </p:grpSpPr>
        <p:sp>
          <p:nvSpPr>
            <p:cNvPr id="101" name=""/>
            <p:cNvSpPr/>
            <p:nvPr/>
          </p:nvSpPr>
          <p:spPr>
            <a:xfrm>
              <a:off x="5062680" y="1425600"/>
              <a:ext cx="3817800" cy="57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38640" y="1511280"/>
              <a:ext cx="373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عدد المربعات الصغيرة في المربع =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062680" y="2589120"/>
            <a:ext cx="3817800" cy="776880"/>
            <a:chOff x="5062680" y="2589120"/>
            <a:chExt cx="3817800" cy="776880"/>
          </a:xfrm>
        </p:grpSpPr>
        <p:sp>
          <p:nvSpPr>
            <p:cNvPr id="104" name=""/>
            <p:cNvSpPr/>
            <p:nvPr/>
          </p:nvSpPr>
          <p:spPr>
            <a:xfrm>
              <a:off x="5062680" y="2589120"/>
              <a:ext cx="38178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38640" y="2662200"/>
              <a:ext cx="373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عدد المربعات الصغيرة على كل ضلع =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054320" y="1387440"/>
            <a:ext cx="1008360" cy="649440"/>
          </a:xfrm>
          <a:prstGeom prst="leftArrow">
            <a:avLst>
              <a:gd name="adj1" fmla="val 50000"/>
              <a:gd name="adj2" fmla="val 38817"/>
            </a:avLst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37960" y="1425600"/>
            <a:ext cx="3816360" cy="776880"/>
            <a:chOff x="237960" y="1425600"/>
            <a:chExt cx="3816360" cy="776880"/>
          </a:xfrm>
        </p:grpSpPr>
        <p:sp>
          <p:nvSpPr>
            <p:cNvPr id="108" name=""/>
            <p:cNvSpPr/>
            <p:nvPr/>
          </p:nvSpPr>
          <p:spPr>
            <a:xfrm>
              <a:off x="237960" y="1425600"/>
              <a:ext cx="3816360" cy="576360"/>
            </a:xfrm>
            <a:prstGeom prst="hexagon">
              <a:avLst>
                <a:gd name="adj" fmla="val 36173"/>
                <a:gd name="vf" fmla="val 115470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cc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040" y="1498680"/>
              <a:ext cx="373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مساحة المربع =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وحدة مربع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054320" y="2573280"/>
            <a:ext cx="1008360" cy="649440"/>
          </a:xfrm>
          <a:prstGeom prst="leftArrow">
            <a:avLst>
              <a:gd name="adj1" fmla="val 50000"/>
              <a:gd name="adj2" fmla="val 38817"/>
            </a:avLst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37960" y="2611440"/>
            <a:ext cx="3816360" cy="776880"/>
            <a:chOff x="237960" y="2611440"/>
            <a:chExt cx="3816360" cy="776880"/>
          </a:xfrm>
        </p:grpSpPr>
        <p:sp>
          <p:nvSpPr>
            <p:cNvPr id="112" name=""/>
            <p:cNvSpPr/>
            <p:nvPr/>
          </p:nvSpPr>
          <p:spPr>
            <a:xfrm>
              <a:off x="237960" y="2611440"/>
              <a:ext cx="3816360" cy="576360"/>
            </a:xfrm>
            <a:prstGeom prst="hexagon">
              <a:avLst>
                <a:gd name="adj" fmla="val 36173"/>
                <a:gd name="vf" fmla="val 115470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cc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4040" y="2684520"/>
              <a:ext cx="373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طول ضلع المربع =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وحدة مربع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932360" y="3162240"/>
            <a:ext cx="4003560" cy="800640"/>
            <a:chOff x="4932360" y="3162240"/>
            <a:chExt cx="4003560" cy="800640"/>
          </a:xfrm>
        </p:grpSpPr>
        <p:sp>
          <p:nvSpPr>
            <p:cNvPr id="115" name=""/>
            <p:cNvSpPr/>
            <p:nvPr/>
          </p:nvSpPr>
          <p:spPr>
            <a:xfrm>
              <a:off x="4932360" y="3162240"/>
              <a:ext cx="400356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8680" y="3259080"/>
              <a:ext cx="3865320" cy="7038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ما العلاقة بين طول ضلع المربع ومساحته 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075280" y="3741840"/>
            <a:ext cx="3817800" cy="776520"/>
            <a:chOff x="5075280" y="3741840"/>
            <a:chExt cx="3817800" cy="776520"/>
          </a:xfrm>
        </p:grpSpPr>
        <p:sp>
          <p:nvSpPr>
            <p:cNvPr id="118" name=""/>
            <p:cNvSpPr/>
            <p:nvPr/>
          </p:nvSpPr>
          <p:spPr>
            <a:xfrm>
              <a:off x="5075280" y="3741840"/>
              <a:ext cx="3817800" cy="57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51240" y="3814560"/>
              <a:ext cx="373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علاقة هي : الضلع × الضلع = المساح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067280" y="3726000"/>
            <a:ext cx="1008000" cy="649080"/>
          </a:xfrm>
          <a:prstGeom prst="leftArrow">
            <a:avLst>
              <a:gd name="adj1" fmla="val 50000"/>
              <a:gd name="adj2" fmla="val 38824"/>
            </a:avLst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68360" y="3763800"/>
            <a:ext cx="1798920" cy="576360"/>
            <a:chOff x="2268360" y="3763800"/>
            <a:chExt cx="1798920" cy="576360"/>
          </a:xfrm>
        </p:grpSpPr>
        <p:sp>
          <p:nvSpPr>
            <p:cNvPr id="122" name=""/>
            <p:cNvSpPr/>
            <p:nvPr/>
          </p:nvSpPr>
          <p:spPr>
            <a:xfrm>
              <a:off x="2268360" y="3763800"/>
              <a:ext cx="1798920" cy="576360"/>
            </a:xfrm>
            <a:prstGeom prst="hexagon">
              <a:avLst>
                <a:gd name="adj" fmla="val 17051"/>
                <a:gd name="vf" fmla="val 115470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cc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9960" y="3836880"/>
              <a:ext cx="175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932360" y="4313160"/>
            <a:ext cx="4003560" cy="800640"/>
            <a:chOff x="4932360" y="4313160"/>
            <a:chExt cx="4003560" cy="800640"/>
          </a:xfrm>
        </p:grpSpPr>
        <p:sp>
          <p:nvSpPr>
            <p:cNvPr id="125" name=""/>
            <p:cNvSpPr/>
            <p:nvPr/>
          </p:nvSpPr>
          <p:spPr>
            <a:xfrm>
              <a:off x="4932360" y="4313160"/>
              <a:ext cx="400356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08680" y="4410000"/>
              <a:ext cx="3865320" cy="7038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ماذا نسمي حاصل ضرب العدد في نفسه 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75280" y="4892760"/>
            <a:ext cx="3817800" cy="574560"/>
            <a:chOff x="5075280" y="4892760"/>
            <a:chExt cx="3817800" cy="574560"/>
          </a:xfrm>
        </p:grpSpPr>
        <p:sp>
          <p:nvSpPr>
            <p:cNvPr id="128" name=""/>
            <p:cNvSpPr/>
            <p:nvPr/>
          </p:nvSpPr>
          <p:spPr>
            <a:xfrm>
              <a:off x="5075280" y="4892760"/>
              <a:ext cx="3817800" cy="57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51600" y="4965840"/>
              <a:ext cx="373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يسمى مربع ذلك العد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067280" y="4876920"/>
            <a:ext cx="1008000" cy="649080"/>
          </a:xfrm>
          <a:prstGeom prst="leftArrow">
            <a:avLst>
              <a:gd name="adj1" fmla="val 50000"/>
              <a:gd name="adj2" fmla="val 38824"/>
            </a:avLst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4915080"/>
            <a:ext cx="3816360" cy="576000"/>
            <a:chOff x="250920" y="4915080"/>
            <a:chExt cx="3816360" cy="576000"/>
          </a:xfrm>
        </p:grpSpPr>
        <p:sp>
          <p:nvSpPr>
            <p:cNvPr id="132" name=""/>
            <p:cNvSpPr/>
            <p:nvPr/>
          </p:nvSpPr>
          <p:spPr>
            <a:xfrm>
              <a:off x="250920" y="4915080"/>
              <a:ext cx="3816360" cy="576000"/>
            </a:xfrm>
            <a:prstGeom prst="hexagon">
              <a:avLst>
                <a:gd name="adj" fmla="val 36196"/>
                <a:gd name="vf" fmla="val 115470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cc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7000" y="4987800"/>
              <a:ext cx="373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مربع العدد 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 هو العدد 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49200" y="5805360"/>
            <a:ext cx="8425080" cy="792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009999"/>
              </a:gs>
              <a:gs pos="50000">
                <a:srgbClr val="ff990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10520" y="602136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نستنتج أ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8160" y="602928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حاصل ضرب عدد في نفسه هو 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مربع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ذلك العد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602136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عليه فإن 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مربع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عدد 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هو 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528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531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468360" y="1052640"/>
            <a:ext cx="828036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6720" y="1166760"/>
            <a:ext cx="80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إذا كانت مساحة حلبة الملاكمة مربعة الشكل حوال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مترا مربعا ، فما أبعادها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12000" y="1989000"/>
            <a:ext cx="259056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طول ضلع الحلبة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4859280" y="1989000"/>
            <a:ext cx="1077840" cy="538200"/>
            <a:chOff x="4859280" y="1989000"/>
            <a:chExt cx="1077840" cy="538200"/>
          </a:xfrm>
        </p:grpSpPr>
        <p:sp>
          <p:nvSpPr>
            <p:cNvPr id="537" name=""/>
            <p:cNvSpPr/>
            <p:nvPr/>
          </p:nvSpPr>
          <p:spPr>
            <a:xfrm>
              <a:off x="4859280" y="1989000"/>
              <a:ext cx="1077840" cy="519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66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5003640" y="2006640"/>
              <a:ext cx="878040" cy="520560"/>
              <a:chOff x="5003640" y="2006640"/>
              <a:chExt cx="878040" cy="52056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5108760" y="2057040"/>
                <a:ext cx="772920" cy="360720"/>
                <a:chOff x="5108760" y="2057040"/>
                <a:chExt cx="772920" cy="360720"/>
              </a:xfrm>
            </p:grpSpPr>
            <p:sp>
              <p:nvSpPr>
                <p:cNvPr id="540" name=""/>
                <p:cNvSpPr/>
                <p:nvPr/>
              </p:nvSpPr>
              <p:spPr>
                <a:xfrm flipH="1">
                  <a:off x="5803920" y="2211480"/>
                  <a:ext cx="7776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flipV="1">
                  <a:off x="5736960" y="2057040"/>
                  <a:ext cx="6660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108760" y="205740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5003640" y="200664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4" name=""/>
          <p:cNvSpPr/>
          <p:nvPr/>
        </p:nvSpPr>
        <p:spPr>
          <a:xfrm>
            <a:off x="4444920" y="1989000"/>
            <a:ext cx="35712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09840" y="1989000"/>
            <a:ext cx="1077840" cy="947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أمت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95640" y="2708280"/>
            <a:ext cx="4606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ي أن بعدا الحلبة هما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  ،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" y="3500280"/>
            <a:ext cx="8424720" cy="648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5280" y="3602160"/>
            <a:ext cx="83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أوجد مربعات الأعداد التالية :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،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،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،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796000" y="4330800"/>
            <a:ext cx="1077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948360" y="4314960"/>
            <a:ext cx="1798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مرب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6000" y="4890960"/>
            <a:ext cx="1077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948360" y="4875120"/>
            <a:ext cx="1798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رب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96000" y="5454720"/>
            <a:ext cx="1077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48360" y="5438880"/>
            <a:ext cx="1798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رب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96000" y="6012000"/>
            <a:ext cx="1077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5996160"/>
            <a:ext cx="1798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رب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5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5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0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5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5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558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561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179280" y="981000"/>
            <a:ext cx="885672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6360" y="113364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أوجد الجذور التربيعية التالية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89640" y="1852560"/>
            <a:ext cx="1004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7451640" y="1844640"/>
            <a:ext cx="1438200" cy="537840"/>
            <a:chOff x="7451640" y="1844640"/>
            <a:chExt cx="1438200" cy="537840"/>
          </a:xfrm>
        </p:grpSpPr>
        <p:sp>
          <p:nvSpPr>
            <p:cNvPr id="567" name=""/>
            <p:cNvSpPr/>
            <p:nvPr/>
          </p:nvSpPr>
          <p:spPr>
            <a:xfrm>
              <a:off x="7451640" y="1846080"/>
              <a:ext cx="143820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7659720" y="1844640"/>
              <a:ext cx="1077840" cy="537840"/>
              <a:chOff x="7659720" y="1844640"/>
              <a:chExt cx="1077840" cy="537840"/>
            </a:xfrm>
          </p:grpSpPr>
          <p:sp>
            <p:nvSpPr>
              <p:cNvPr id="569" name=""/>
              <p:cNvSpPr/>
              <p:nvPr/>
            </p:nvSpPr>
            <p:spPr>
              <a:xfrm>
                <a:off x="7659720" y="1844640"/>
                <a:ext cx="107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0" name=""/>
              <p:cNvGrpSpPr/>
              <p:nvPr/>
            </p:nvGrpSpPr>
            <p:grpSpPr>
              <a:xfrm>
                <a:off x="7804080" y="1861920"/>
                <a:ext cx="878040" cy="520560"/>
                <a:chOff x="7804080" y="1861920"/>
                <a:chExt cx="878040" cy="52056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7909200" y="1912320"/>
                  <a:ext cx="772920" cy="360000"/>
                  <a:chOff x="7909200" y="1912320"/>
                  <a:chExt cx="772920" cy="3600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H="1">
                    <a:off x="8604360" y="2066040"/>
                    <a:ext cx="77760" cy="20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flipV="1">
                    <a:off x="8537400" y="1912320"/>
                    <a:ext cx="66600" cy="36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7909200" y="1912320"/>
                    <a:ext cx="628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>
                  <a:off x="7804080" y="186192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6" name=""/>
          <p:cNvSpPr/>
          <p:nvPr/>
        </p:nvSpPr>
        <p:spPr>
          <a:xfrm>
            <a:off x="6389640" y="2500200"/>
            <a:ext cx="1004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451640" y="2498760"/>
            <a:ext cx="1438200" cy="537840"/>
            <a:chOff x="7451640" y="2498760"/>
            <a:chExt cx="1438200" cy="537840"/>
          </a:xfrm>
        </p:grpSpPr>
        <p:sp>
          <p:nvSpPr>
            <p:cNvPr id="578" name=""/>
            <p:cNvSpPr/>
            <p:nvPr/>
          </p:nvSpPr>
          <p:spPr>
            <a:xfrm>
              <a:off x="7451640" y="2500200"/>
              <a:ext cx="143820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7659720" y="2498760"/>
              <a:ext cx="1077840" cy="537840"/>
              <a:chOff x="7659720" y="2498760"/>
              <a:chExt cx="1077840" cy="537840"/>
            </a:xfrm>
          </p:grpSpPr>
          <p:sp>
            <p:nvSpPr>
              <p:cNvPr id="580" name=""/>
              <p:cNvSpPr/>
              <p:nvPr/>
            </p:nvSpPr>
            <p:spPr>
              <a:xfrm>
                <a:off x="7659720" y="2498760"/>
                <a:ext cx="107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7804080" y="2516040"/>
                <a:ext cx="878040" cy="520560"/>
                <a:chOff x="7804080" y="2516040"/>
                <a:chExt cx="878040" cy="520560"/>
              </a:xfrm>
            </p:grpSpPr>
            <p:grpSp>
              <p:nvGrpSpPr>
                <p:cNvPr id="582" name=""/>
                <p:cNvGrpSpPr/>
                <p:nvPr/>
              </p:nvGrpSpPr>
              <p:grpSpPr>
                <a:xfrm>
                  <a:off x="7909200" y="2566440"/>
                  <a:ext cx="772920" cy="360000"/>
                  <a:chOff x="7909200" y="2566440"/>
                  <a:chExt cx="772920" cy="36000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 flipH="1">
                    <a:off x="8604360" y="2720160"/>
                    <a:ext cx="77760" cy="20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 flipV="1">
                    <a:off x="8537400" y="2566440"/>
                    <a:ext cx="66600" cy="36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>
                    <a:off x="7909200" y="2566440"/>
                    <a:ext cx="628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6" name=""/>
                <p:cNvSpPr/>
                <p:nvPr/>
              </p:nvSpPr>
              <p:spPr>
                <a:xfrm>
                  <a:off x="7804080" y="251604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7" name=""/>
          <p:cNvGrpSpPr/>
          <p:nvPr/>
        </p:nvGrpSpPr>
        <p:grpSpPr>
          <a:xfrm>
            <a:off x="5222880" y="1052640"/>
            <a:ext cx="1077840" cy="537840"/>
            <a:chOff x="5222880" y="1052640"/>
            <a:chExt cx="1077840" cy="537840"/>
          </a:xfrm>
        </p:grpSpPr>
        <p:sp>
          <p:nvSpPr>
            <p:cNvPr id="588" name=""/>
            <p:cNvSpPr/>
            <p:nvPr/>
          </p:nvSpPr>
          <p:spPr>
            <a:xfrm>
              <a:off x="5222880" y="1052640"/>
              <a:ext cx="1077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5367240" y="1069920"/>
              <a:ext cx="878040" cy="520560"/>
              <a:chOff x="5367240" y="1069920"/>
              <a:chExt cx="878040" cy="5205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5472360" y="1120320"/>
                <a:ext cx="772920" cy="360000"/>
                <a:chOff x="5472360" y="1120320"/>
                <a:chExt cx="772920" cy="360000"/>
              </a:xfrm>
            </p:grpSpPr>
            <p:sp>
              <p:nvSpPr>
                <p:cNvPr id="591" name=""/>
                <p:cNvSpPr/>
                <p:nvPr/>
              </p:nvSpPr>
              <p:spPr>
                <a:xfrm flipH="1">
                  <a:off x="6167520" y="1274040"/>
                  <a:ext cx="77760" cy="20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>
                  <a:off x="6100560" y="1120320"/>
                  <a:ext cx="66600" cy="3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>
                  <a:off x="5472360" y="112032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5367240" y="106992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638520" y="1052640"/>
            <a:ext cx="1077840" cy="537840"/>
            <a:chOff x="3638520" y="1052640"/>
            <a:chExt cx="1077840" cy="537840"/>
          </a:xfrm>
        </p:grpSpPr>
        <p:sp>
          <p:nvSpPr>
            <p:cNvPr id="596" name=""/>
            <p:cNvSpPr/>
            <p:nvPr/>
          </p:nvSpPr>
          <p:spPr>
            <a:xfrm>
              <a:off x="3638520" y="1052640"/>
              <a:ext cx="1077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3782880" y="1069920"/>
              <a:ext cx="878040" cy="520560"/>
              <a:chOff x="3782880" y="1069920"/>
              <a:chExt cx="878040" cy="52056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3888000" y="1120320"/>
                <a:ext cx="772920" cy="360000"/>
                <a:chOff x="3888000" y="1120320"/>
                <a:chExt cx="772920" cy="360000"/>
              </a:xfrm>
            </p:grpSpPr>
            <p:sp>
              <p:nvSpPr>
                <p:cNvPr id="599" name=""/>
                <p:cNvSpPr/>
                <p:nvPr/>
              </p:nvSpPr>
              <p:spPr>
                <a:xfrm flipH="1">
                  <a:off x="4583160" y="1274040"/>
                  <a:ext cx="77760" cy="20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4516200" y="1120320"/>
                  <a:ext cx="66600" cy="3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>
                  <a:off x="3888000" y="112032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"/>
              <p:cNvSpPr/>
              <p:nvPr/>
            </p:nvSpPr>
            <p:spPr>
              <a:xfrm>
                <a:off x="3782880" y="106992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1981080" y="1052640"/>
            <a:ext cx="1077840" cy="537840"/>
            <a:chOff x="1981080" y="1052640"/>
            <a:chExt cx="1077840" cy="537840"/>
          </a:xfrm>
        </p:grpSpPr>
        <p:sp>
          <p:nvSpPr>
            <p:cNvPr id="604" name=""/>
            <p:cNvSpPr/>
            <p:nvPr/>
          </p:nvSpPr>
          <p:spPr>
            <a:xfrm>
              <a:off x="1981080" y="1052640"/>
              <a:ext cx="1077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125440" y="1069920"/>
              <a:ext cx="878040" cy="520560"/>
              <a:chOff x="2125440" y="1069920"/>
              <a:chExt cx="878040" cy="52056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2230560" y="1120320"/>
                <a:ext cx="772920" cy="360000"/>
                <a:chOff x="2230560" y="1120320"/>
                <a:chExt cx="772920" cy="360000"/>
              </a:xfrm>
            </p:grpSpPr>
            <p:sp>
              <p:nvSpPr>
                <p:cNvPr id="607" name=""/>
                <p:cNvSpPr/>
                <p:nvPr/>
              </p:nvSpPr>
              <p:spPr>
                <a:xfrm flipH="1">
                  <a:off x="2925720" y="1274040"/>
                  <a:ext cx="77760" cy="20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flipV="1">
                  <a:off x="2858760" y="1120320"/>
                  <a:ext cx="66600" cy="3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2230560" y="112032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2125440" y="106992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2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"/>
          <p:cNvGrpSpPr/>
          <p:nvPr/>
        </p:nvGrpSpPr>
        <p:grpSpPr>
          <a:xfrm>
            <a:off x="254160" y="1052640"/>
            <a:ext cx="1077840" cy="537840"/>
            <a:chOff x="254160" y="1052640"/>
            <a:chExt cx="1077840" cy="537840"/>
          </a:xfrm>
        </p:grpSpPr>
        <p:sp>
          <p:nvSpPr>
            <p:cNvPr id="612" name=""/>
            <p:cNvSpPr/>
            <p:nvPr/>
          </p:nvSpPr>
          <p:spPr>
            <a:xfrm>
              <a:off x="254160" y="1052640"/>
              <a:ext cx="1077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398520" y="1069920"/>
              <a:ext cx="878040" cy="520560"/>
              <a:chOff x="398520" y="1069920"/>
              <a:chExt cx="878040" cy="5205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503640" y="1120320"/>
                <a:ext cx="772920" cy="360000"/>
                <a:chOff x="503640" y="1120320"/>
                <a:chExt cx="772920" cy="360000"/>
              </a:xfrm>
            </p:grpSpPr>
            <p:sp>
              <p:nvSpPr>
                <p:cNvPr id="615" name=""/>
                <p:cNvSpPr/>
                <p:nvPr/>
              </p:nvSpPr>
              <p:spPr>
                <a:xfrm flipH="1">
                  <a:off x="1198800" y="1274040"/>
                  <a:ext cx="77760" cy="20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 flipV="1">
                  <a:off x="1131840" y="1120320"/>
                  <a:ext cx="66600" cy="3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>
                  <a:off x="503640" y="112032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398520" y="106992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6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"/>
          <p:cNvSpPr/>
          <p:nvPr/>
        </p:nvSpPr>
        <p:spPr>
          <a:xfrm>
            <a:off x="6389640" y="3173400"/>
            <a:ext cx="1004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451640" y="3165480"/>
            <a:ext cx="1438200" cy="537840"/>
            <a:chOff x="7451640" y="3165480"/>
            <a:chExt cx="1438200" cy="537840"/>
          </a:xfrm>
        </p:grpSpPr>
        <p:sp>
          <p:nvSpPr>
            <p:cNvPr id="621" name=""/>
            <p:cNvSpPr/>
            <p:nvPr/>
          </p:nvSpPr>
          <p:spPr>
            <a:xfrm>
              <a:off x="7451640" y="3166920"/>
              <a:ext cx="143820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7659720" y="3165480"/>
              <a:ext cx="1077840" cy="537840"/>
              <a:chOff x="7659720" y="3165480"/>
              <a:chExt cx="1077840" cy="537840"/>
            </a:xfrm>
          </p:grpSpPr>
          <p:sp>
            <p:nvSpPr>
              <p:cNvPr id="623" name=""/>
              <p:cNvSpPr/>
              <p:nvPr/>
            </p:nvSpPr>
            <p:spPr>
              <a:xfrm>
                <a:off x="7659720" y="3165480"/>
                <a:ext cx="107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" name=""/>
              <p:cNvGrpSpPr/>
              <p:nvPr/>
            </p:nvGrpSpPr>
            <p:grpSpPr>
              <a:xfrm>
                <a:off x="7804080" y="3182760"/>
                <a:ext cx="878040" cy="520560"/>
                <a:chOff x="7804080" y="3182760"/>
                <a:chExt cx="878040" cy="520560"/>
              </a:xfrm>
            </p:grpSpPr>
            <p:grpSp>
              <p:nvGrpSpPr>
                <p:cNvPr id="625" name=""/>
                <p:cNvGrpSpPr/>
                <p:nvPr/>
              </p:nvGrpSpPr>
              <p:grpSpPr>
                <a:xfrm>
                  <a:off x="7909200" y="3233160"/>
                  <a:ext cx="772920" cy="360000"/>
                  <a:chOff x="7909200" y="3233160"/>
                  <a:chExt cx="772920" cy="36000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>
                    <a:off x="8604360" y="3386880"/>
                    <a:ext cx="77760" cy="20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flipV="1">
                    <a:off x="8537400" y="3233160"/>
                    <a:ext cx="66600" cy="36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7909200" y="3233160"/>
                    <a:ext cx="628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9" name=""/>
                <p:cNvSpPr/>
                <p:nvPr/>
              </p:nvSpPr>
              <p:spPr>
                <a:xfrm>
                  <a:off x="7804080" y="318276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2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0" name=""/>
          <p:cNvSpPr/>
          <p:nvPr/>
        </p:nvSpPr>
        <p:spPr>
          <a:xfrm>
            <a:off x="6389640" y="3821040"/>
            <a:ext cx="1004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7451640" y="3819600"/>
            <a:ext cx="1438200" cy="537840"/>
            <a:chOff x="7451640" y="3819600"/>
            <a:chExt cx="1438200" cy="537840"/>
          </a:xfrm>
        </p:grpSpPr>
        <p:sp>
          <p:nvSpPr>
            <p:cNvPr id="632" name=""/>
            <p:cNvSpPr/>
            <p:nvPr/>
          </p:nvSpPr>
          <p:spPr>
            <a:xfrm>
              <a:off x="7451640" y="3821040"/>
              <a:ext cx="143820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7659720" y="3819600"/>
              <a:ext cx="1077840" cy="537840"/>
              <a:chOff x="7659720" y="3819600"/>
              <a:chExt cx="1077840" cy="537840"/>
            </a:xfrm>
          </p:grpSpPr>
          <p:sp>
            <p:nvSpPr>
              <p:cNvPr id="634" name=""/>
              <p:cNvSpPr/>
              <p:nvPr/>
            </p:nvSpPr>
            <p:spPr>
              <a:xfrm>
                <a:off x="7659720" y="3819600"/>
                <a:ext cx="107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7804080" y="3836880"/>
                <a:ext cx="878040" cy="520560"/>
                <a:chOff x="7804080" y="3836880"/>
                <a:chExt cx="878040" cy="52056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7909200" y="3887280"/>
                  <a:ext cx="772920" cy="360000"/>
                  <a:chOff x="7909200" y="3887280"/>
                  <a:chExt cx="772920" cy="3600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>
                    <a:off x="8604360" y="4041000"/>
                    <a:ext cx="77760" cy="20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flipV="1">
                    <a:off x="8537400" y="3887280"/>
                    <a:ext cx="66600" cy="36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7909200" y="3887280"/>
                    <a:ext cx="628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0" name=""/>
                <p:cNvSpPr/>
                <p:nvPr/>
              </p:nvSpPr>
              <p:spPr>
                <a:xfrm>
                  <a:off x="7804080" y="383688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69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1" name=""/>
          <p:cNvSpPr/>
          <p:nvPr/>
        </p:nvSpPr>
        <p:spPr>
          <a:xfrm>
            <a:off x="179280" y="4556160"/>
            <a:ext cx="885672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470844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صالة مربعة الشكل مساحته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مترا مربعا  ،  ما أبعادها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372360" y="5405400"/>
            <a:ext cx="251928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طول ضلع الصالة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564000" y="5419800"/>
            <a:ext cx="1211040" cy="9471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تر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859280" y="5407200"/>
            <a:ext cx="1438200" cy="537840"/>
            <a:chOff x="4859280" y="5407200"/>
            <a:chExt cx="1438200" cy="537840"/>
          </a:xfrm>
        </p:grpSpPr>
        <p:sp>
          <p:nvSpPr>
            <p:cNvPr id="646" name=""/>
            <p:cNvSpPr/>
            <p:nvPr/>
          </p:nvSpPr>
          <p:spPr>
            <a:xfrm>
              <a:off x="4859280" y="5408640"/>
              <a:ext cx="143820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5067360" y="5407200"/>
              <a:ext cx="1077840" cy="537840"/>
              <a:chOff x="5067360" y="5407200"/>
              <a:chExt cx="1077840" cy="537840"/>
            </a:xfrm>
          </p:grpSpPr>
          <p:sp>
            <p:nvSpPr>
              <p:cNvPr id="648" name=""/>
              <p:cNvSpPr/>
              <p:nvPr/>
            </p:nvSpPr>
            <p:spPr>
              <a:xfrm>
                <a:off x="5067360" y="5407200"/>
                <a:ext cx="107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5211720" y="5424480"/>
                <a:ext cx="878040" cy="520560"/>
                <a:chOff x="5211720" y="5424480"/>
                <a:chExt cx="878040" cy="52056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316840" y="5474880"/>
                  <a:ext cx="772920" cy="360000"/>
                  <a:chOff x="5316840" y="5474880"/>
                  <a:chExt cx="772920" cy="36000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flipH="1">
                    <a:off x="6012000" y="5628600"/>
                    <a:ext cx="77760" cy="20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 flipV="1">
                    <a:off x="5945040" y="5474880"/>
                    <a:ext cx="66600" cy="36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>
                    <a:off x="5316840" y="5474880"/>
                    <a:ext cx="628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" name=""/>
                <p:cNvSpPr/>
                <p:nvPr/>
              </p:nvSpPr>
              <p:spPr>
                <a:xfrm>
                  <a:off x="5211720" y="542448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289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5" name=""/>
          <p:cNvSpPr/>
          <p:nvPr/>
        </p:nvSpPr>
        <p:spPr>
          <a:xfrm>
            <a:off x="4500720" y="5981760"/>
            <a:ext cx="4390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ي أن بعدا الصالة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  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8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8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8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8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3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8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3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3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8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657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660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324000" y="765000"/>
            <a:ext cx="8424720" cy="648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866880"/>
            <a:ext cx="83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أوجد مربعات الأعداد التالية :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،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،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،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796000" y="1595520"/>
            <a:ext cx="1077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948360" y="1579680"/>
            <a:ext cx="1798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رب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796000" y="2155680"/>
            <a:ext cx="1077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948360" y="2139840"/>
            <a:ext cx="1798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رب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96000" y="2719440"/>
            <a:ext cx="1077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48360" y="2703600"/>
            <a:ext cx="1798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رب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96000" y="3276720"/>
            <a:ext cx="1077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48360" y="3260880"/>
            <a:ext cx="1798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رب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79280" y="3941640"/>
            <a:ext cx="885672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6360" y="409428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أوجد الجذور التربيعية التالية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389640" y="4813200"/>
            <a:ext cx="1004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7451640" y="4805280"/>
            <a:ext cx="1438200" cy="537840"/>
            <a:chOff x="7451640" y="4805280"/>
            <a:chExt cx="1438200" cy="537840"/>
          </a:xfrm>
        </p:grpSpPr>
        <p:sp>
          <p:nvSpPr>
            <p:cNvPr id="676" name=""/>
            <p:cNvSpPr/>
            <p:nvPr/>
          </p:nvSpPr>
          <p:spPr>
            <a:xfrm>
              <a:off x="7451640" y="4806720"/>
              <a:ext cx="143820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7659720" y="4805280"/>
              <a:ext cx="1077840" cy="537840"/>
              <a:chOff x="7659720" y="4805280"/>
              <a:chExt cx="1077840" cy="537840"/>
            </a:xfrm>
          </p:grpSpPr>
          <p:sp>
            <p:nvSpPr>
              <p:cNvPr id="678" name=""/>
              <p:cNvSpPr/>
              <p:nvPr/>
            </p:nvSpPr>
            <p:spPr>
              <a:xfrm>
                <a:off x="7659720" y="4805280"/>
                <a:ext cx="107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7804080" y="4822560"/>
                <a:ext cx="878040" cy="520560"/>
                <a:chOff x="7804080" y="4822560"/>
                <a:chExt cx="878040" cy="52056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7909200" y="4872960"/>
                  <a:ext cx="772920" cy="360000"/>
                  <a:chOff x="7909200" y="4872960"/>
                  <a:chExt cx="772920" cy="36000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flipH="1">
                    <a:off x="8604360" y="5026680"/>
                    <a:ext cx="77760" cy="20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 flipV="1">
                    <a:off x="8537400" y="4872960"/>
                    <a:ext cx="66600" cy="36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>
                    <a:off x="7909200" y="4872960"/>
                    <a:ext cx="628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" name=""/>
                <p:cNvSpPr/>
                <p:nvPr/>
              </p:nvSpPr>
              <p:spPr>
                <a:xfrm>
                  <a:off x="7804080" y="482256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4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5" name=""/>
          <p:cNvSpPr/>
          <p:nvPr/>
        </p:nvSpPr>
        <p:spPr>
          <a:xfrm>
            <a:off x="6389640" y="5460840"/>
            <a:ext cx="1004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7451640" y="5459400"/>
            <a:ext cx="1438200" cy="537840"/>
            <a:chOff x="7451640" y="5459400"/>
            <a:chExt cx="1438200" cy="537840"/>
          </a:xfrm>
        </p:grpSpPr>
        <p:sp>
          <p:nvSpPr>
            <p:cNvPr id="687" name=""/>
            <p:cNvSpPr/>
            <p:nvPr/>
          </p:nvSpPr>
          <p:spPr>
            <a:xfrm>
              <a:off x="7451640" y="5460840"/>
              <a:ext cx="143820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7659720" y="5459400"/>
              <a:ext cx="1077840" cy="537840"/>
              <a:chOff x="7659720" y="5459400"/>
              <a:chExt cx="1077840" cy="537840"/>
            </a:xfrm>
          </p:grpSpPr>
          <p:sp>
            <p:nvSpPr>
              <p:cNvPr id="689" name=""/>
              <p:cNvSpPr/>
              <p:nvPr/>
            </p:nvSpPr>
            <p:spPr>
              <a:xfrm>
                <a:off x="7659720" y="5459400"/>
                <a:ext cx="107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0" name=""/>
              <p:cNvGrpSpPr/>
              <p:nvPr/>
            </p:nvGrpSpPr>
            <p:grpSpPr>
              <a:xfrm>
                <a:off x="7804080" y="5476680"/>
                <a:ext cx="878040" cy="520560"/>
                <a:chOff x="7804080" y="5476680"/>
                <a:chExt cx="878040" cy="52056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7909200" y="5527080"/>
                  <a:ext cx="772920" cy="360000"/>
                  <a:chOff x="7909200" y="5527080"/>
                  <a:chExt cx="772920" cy="36000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>
                    <a:off x="8604360" y="5680800"/>
                    <a:ext cx="77760" cy="20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flipV="1">
                    <a:off x="8537400" y="5527080"/>
                    <a:ext cx="66600" cy="36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7909200" y="5527080"/>
                    <a:ext cx="628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" name=""/>
                <p:cNvSpPr/>
                <p:nvPr/>
              </p:nvSpPr>
              <p:spPr>
                <a:xfrm>
                  <a:off x="7804080" y="547668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25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6" name=""/>
          <p:cNvGrpSpPr/>
          <p:nvPr/>
        </p:nvGrpSpPr>
        <p:grpSpPr>
          <a:xfrm>
            <a:off x="5222880" y="4013280"/>
            <a:ext cx="1077840" cy="537840"/>
            <a:chOff x="5222880" y="4013280"/>
            <a:chExt cx="1077840" cy="537840"/>
          </a:xfrm>
        </p:grpSpPr>
        <p:sp>
          <p:nvSpPr>
            <p:cNvPr id="697" name=""/>
            <p:cNvSpPr/>
            <p:nvPr/>
          </p:nvSpPr>
          <p:spPr>
            <a:xfrm>
              <a:off x="5222880" y="4013280"/>
              <a:ext cx="1077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5367240" y="4030560"/>
              <a:ext cx="878040" cy="520560"/>
              <a:chOff x="5367240" y="4030560"/>
              <a:chExt cx="878040" cy="52056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5472360" y="4080960"/>
                <a:ext cx="772920" cy="360000"/>
                <a:chOff x="5472360" y="4080960"/>
                <a:chExt cx="772920" cy="360000"/>
              </a:xfrm>
            </p:grpSpPr>
            <p:sp>
              <p:nvSpPr>
                <p:cNvPr id="700" name=""/>
                <p:cNvSpPr/>
                <p:nvPr/>
              </p:nvSpPr>
              <p:spPr>
                <a:xfrm flipH="1">
                  <a:off x="6167520" y="4234680"/>
                  <a:ext cx="77760" cy="20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 flipV="1">
                  <a:off x="6100560" y="4080960"/>
                  <a:ext cx="66600" cy="3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>
                  <a:off x="5472360" y="408096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"/>
              <p:cNvSpPr/>
              <p:nvPr/>
            </p:nvSpPr>
            <p:spPr>
              <a:xfrm>
                <a:off x="5367240" y="403056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4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4" name=""/>
          <p:cNvGrpSpPr/>
          <p:nvPr/>
        </p:nvGrpSpPr>
        <p:grpSpPr>
          <a:xfrm>
            <a:off x="3638520" y="4013280"/>
            <a:ext cx="1077840" cy="537840"/>
            <a:chOff x="3638520" y="4013280"/>
            <a:chExt cx="1077840" cy="537840"/>
          </a:xfrm>
        </p:grpSpPr>
        <p:sp>
          <p:nvSpPr>
            <p:cNvPr id="705" name=""/>
            <p:cNvSpPr/>
            <p:nvPr/>
          </p:nvSpPr>
          <p:spPr>
            <a:xfrm>
              <a:off x="3638520" y="4013280"/>
              <a:ext cx="1077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3782880" y="4030560"/>
              <a:ext cx="878040" cy="520560"/>
              <a:chOff x="3782880" y="4030560"/>
              <a:chExt cx="878040" cy="52056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3888000" y="4080960"/>
                <a:ext cx="772920" cy="360000"/>
                <a:chOff x="3888000" y="4080960"/>
                <a:chExt cx="772920" cy="360000"/>
              </a:xfrm>
            </p:grpSpPr>
            <p:sp>
              <p:nvSpPr>
                <p:cNvPr id="708" name=""/>
                <p:cNvSpPr/>
                <p:nvPr/>
              </p:nvSpPr>
              <p:spPr>
                <a:xfrm flipH="1">
                  <a:off x="4583160" y="4234680"/>
                  <a:ext cx="77760" cy="20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>
                  <a:off x="4516200" y="4080960"/>
                  <a:ext cx="66600" cy="3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>
                  <a:off x="3888000" y="408096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1" name=""/>
              <p:cNvSpPr/>
              <p:nvPr/>
            </p:nvSpPr>
            <p:spPr>
              <a:xfrm>
                <a:off x="3782880" y="403056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5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1981080" y="4013280"/>
            <a:ext cx="1077840" cy="537840"/>
            <a:chOff x="1981080" y="4013280"/>
            <a:chExt cx="1077840" cy="537840"/>
          </a:xfrm>
        </p:grpSpPr>
        <p:sp>
          <p:nvSpPr>
            <p:cNvPr id="713" name=""/>
            <p:cNvSpPr/>
            <p:nvPr/>
          </p:nvSpPr>
          <p:spPr>
            <a:xfrm>
              <a:off x="1981080" y="4013280"/>
              <a:ext cx="1077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2125440" y="4030560"/>
              <a:ext cx="878040" cy="520560"/>
              <a:chOff x="2125440" y="4030560"/>
              <a:chExt cx="878040" cy="52056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2230560" y="4080960"/>
                <a:ext cx="772920" cy="360000"/>
                <a:chOff x="2230560" y="4080960"/>
                <a:chExt cx="772920" cy="360000"/>
              </a:xfrm>
            </p:grpSpPr>
            <p:sp>
              <p:nvSpPr>
                <p:cNvPr id="716" name=""/>
                <p:cNvSpPr/>
                <p:nvPr/>
              </p:nvSpPr>
              <p:spPr>
                <a:xfrm flipH="1">
                  <a:off x="2925720" y="4234680"/>
                  <a:ext cx="77760" cy="20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 flipV="1">
                  <a:off x="2858760" y="4080960"/>
                  <a:ext cx="66600" cy="3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>
                  <a:off x="2230560" y="408096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2125440" y="403056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254160" y="4013280"/>
            <a:ext cx="1077840" cy="537840"/>
            <a:chOff x="254160" y="4013280"/>
            <a:chExt cx="1077840" cy="537840"/>
          </a:xfrm>
        </p:grpSpPr>
        <p:sp>
          <p:nvSpPr>
            <p:cNvPr id="721" name=""/>
            <p:cNvSpPr/>
            <p:nvPr/>
          </p:nvSpPr>
          <p:spPr>
            <a:xfrm>
              <a:off x="254160" y="4013280"/>
              <a:ext cx="1077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398520" y="4030560"/>
              <a:ext cx="878040" cy="520560"/>
              <a:chOff x="398520" y="4030560"/>
              <a:chExt cx="878040" cy="52056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503640" y="4080960"/>
                <a:ext cx="772920" cy="360000"/>
                <a:chOff x="503640" y="4080960"/>
                <a:chExt cx="772920" cy="360000"/>
              </a:xfrm>
            </p:grpSpPr>
            <p:sp>
              <p:nvSpPr>
                <p:cNvPr id="724" name=""/>
                <p:cNvSpPr/>
                <p:nvPr/>
              </p:nvSpPr>
              <p:spPr>
                <a:xfrm flipH="1">
                  <a:off x="1198800" y="4234680"/>
                  <a:ext cx="77760" cy="20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H="1" flipV="1">
                  <a:off x="1131840" y="4080960"/>
                  <a:ext cx="66600" cy="3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>
                  <a:off x="503640" y="408096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7" name=""/>
              <p:cNvSpPr/>
              <p:nvPr/>
            </p:nvSpPr>
            <p:spPr>
              <a:xfrm>
                <a:off x="398520" y="403056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>
            <a:off x="776160" y="4805280"/>
            <a:ext cx="100512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838160" y="4797360"/>
            <a:ext cx="1438200" cy="537840"/>
            <a:chOff x="1838160" y="4797360"/>
            <a:chExt cx="1438200" cy="537840"/>
          </a:xfrm>
        </p:grpSpPr>
        <p:sp>
          <p:nvSpPr>
            <p:cNvPr id="730" name=""/>
            <p:cNvSpPr/>
            <p:nvPr/>
          </p:nvSpPr>
          <p:spPr>
            <a:xfrm>
              <a:off x="1838160" y="4798800"/>
              <a:ext cx="143820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2046240" y="4797360"/>
              <a:ext cx="1077840" cy="537840"/>
              <a:chOff x="2046240" y="4797360"/>
              <a:chExt cx="1077840" cy="537840"/>
            </a:xfrm>
          </p:grpSpPr>
          <p:sp>
            <p:nvSpPr>
              <p:cNvPr id="732" name=""/>
              <p:cNvSpPr/>
              <p:nvPr/>
            </p:nvSpPr>
            <p:spPr>
              <a:xfrm>
                <a:off x="2046240" y="4797360"/>
                <a:ext cx="107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3" name=""/>
              <p:cNvGrpSpPr/>
              <p:nvPr/>
            </p:nvGrpSpPr>
            <p:grpSpPr>
              <a:xfrm>
                <a:off x="2190600" y="4814640"/>
                <a:ext cx="878040" cy="520560"/>
                <a:chOff x="2190600" y="4814640"/>
                <a:chExt cx="878040" cy="520560"/>
              </a:xfrm>
            </p:grpSpPr>
            <p:grpSp>
              <p:nvGrpSpPr>
                <p:cNvPr id="734" name=""/>
                <p:cNvGrpSpPr/>
                <p:nvPr/>
              </p:nvGrpSpPr>
              <p:grpSpPr>
                <a:xfrm>
                  <a:off x="2295720" y="4865040"/>
                  <a:ext cx="772920" cy="360000"/>
                  <a:chOff x="2295720" y="4865040"/>
                  <a:chExt cx="772920" cy="36000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 flipH="1">
                    <a:off x="2990880" y="5018760"/>
                    <a:ext cx="77760" cy="20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flipH="1" flipV="1">
                    <a:off x="2923920" y="4865040"/>
                    <a:ext cx="66600" cy="36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2295720" y="4865040"/>
                    <a:ext cx="628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8" name=""/>
                <p:cNvSpPr/>
                <p:nvPr/>
              </p:nvSpPr>
              <p:spPr>
                <a:xfrm>
                  <a:off x="2190600" y="481464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39" name=""/>
          <p:cNvSpPr/>
          <p:nvPr/>
        </p:nvSpPr>
        <p:spPr>
          <a:xfrm>
            <a:off x="776160" y="5452920"/>
            <a:ext cx="100512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838160" y="5451480"/>
            <a:ext cx="1438200" cy="537840"/>
            <a:chOff x="1838160" y="5451480"/>
            <a:chExt cx="1438200" cy="537840"/>
          </a:xfrm>
        </p:grpSpPr>
        <p:sp>
          <p:nvSpPr>
            <p:cNvPr id="741" name=""/>
            <p:cNvSpPr/>
            <p:nvPr/>
          </p:nvSpPr>
          <p:spPr>
            <a:xfrm>
              <a:off x="1838160" y="5452920"/>
              <a:ext cx="143820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2046240" y="5451480"/>
              <a:ext cx="1077840" cy="537840"/>
              <a:chOff x="2046240" y="5451480"/>
              <a:chExt cx="1077840" cy="537840"/>
            </a:xfrm>
          </p:grpSpPr>
          <p:sp>
            <p:nvSpPr>
              <p:cNvPr id="743" name=""/>
              <p:cNvSpPr/>
              <p:nvPr/>
            </p:nvSpPr>
            <p:spPr>
              <a:xfrm>
                <a:off x="2046240" y="5451480"/>
                <a:ext cx="107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4" name=""/>
              <p:cNvGrpSpPr/>
              <p:nvPr/>
            </p:nvGrpSpPr>
            <p:grpSpPr>
              <a:xfrm>
                <a:off x="2190600" y="5468760"/>
                <a:ext cx="878040" cy="520560"/>
                <a:chOff x="2190600" y="5468760"/>
                <a:chExt cx="878040" cy="520560"/>
              </a:xfrm>
            </p:grpSpPr>
            <p:grpSp>
              <p:nvGrpSpPr>
                <p:cNvPr id="745" name=""/>
                <p:cNvGrpSpPr/>
                <p:nvPr/>
              </p:nvGrpSpPr>
              <p:grpSpPr>
                <a:xfrm>
                  <a:off x="2295720" y="5519160"/>
                  <a:ext cx="772920" cy="360000"/>
                  <a:chOff x="2295720" y="5519160"/>
                  <a:chExt cx="772920" cy="36000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 flipH="1">
                    <a:off x="2990880" y="5672880"/>
                    <a:ext cx="77760" cy="20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 flipV="1">
                    <a:off x="2923920" y="5519160"/>
                    <a:ext cx="66600" cy="36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flipH="1">
                    <a:off x="2295720" y="5519160"/>
                    <a:ext cx="628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9" name=""/>
                <p:cNvSpPr/>
                <p:nvPr/>
              </p:nvSpPr>
              <p:spPr>
                <a:xfrm>
                  <a:off x="2190600" y="546876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62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5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0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0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5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0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5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0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5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0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0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5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9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3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7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1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6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6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1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6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1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751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754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468360" y="1052640"/>
            <a:ext cx="828036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96720" y="1166760"/>
            <a:ext cx="80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إذا علمت أن مساحة غرفة محمود المربعة الشكل مساحته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مترا مربعا ، فما أبعادها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012000" y="1989000"/>
            <a:ext cx="259056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طول ضلع الغرفة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4859280" y="1989000"/>
            <a:ext cx="1077840" cy="538200"/>
            <a:chOff x="4859280" y="1989000"/>
            <a:chExt cx="1077840" cy="538200"/>
          </a:xfrm>
        </p:grpSpPr>
        <p:sp>
          <p:nvSpPr>
            <p:cNvPr id="760" name=""/>
            <p:cNvSpPr/>
            <p:nvPr/>
          </p:nvSpPr>
          <p:spPr>
            <a:xfrm>
              <a:off x="4859280" y="1989000"/>
              <a:ext cx="1077840" cy="519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66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003640" y="2006640"/>
              <a:ext cx="878040" cy="520560"/>
              <a:chOff x="5003640" y="2006640"/>
              <a:chExt cx="878040" cy="5205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108760" y="2057040"/>
                <a:ext cx="772920" cy="360720"/>
                <a:chOff x="5108760" y="2057040"/>
                <a:chExt cx="772920" cy="360720"/>
              </a:xfrm>
            </p:grpSpPr>
            <p:sp>
              <p:nvSpPr>
                <p:cNvPr id="763" name=""/>
                <p:cNvSpPr/>
                <p:nvPr/>
              </p:nvSpPr>
              <p:spPr>
                <a:xfrm flipH="1">
                  <a:off x="5803920" y="2211480"/>
                  <a:ext cx="7776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 flipV="1">
                  <a:off x="5736960" y="2057040"/>
                  <a:ext cx="6660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5108760" y="205740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6" name=""/>
              <p:cNvSpPr/>
              <p:nvPr/>
            </p:nvSpPr>
            <p:spPr>
              <a:xfrm>
                <a:off x="5003640" y="200664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7" name=""/>
          <p:cNvSpPr/>
          <p:nvPr/>
        </p:nvSpPr>
        <p:spPr>
          <a:xfrm>
            <a:off x="4444920" y="1989000"/>
            <a:ext cx="35712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309840" y="1989000"/>
            <a:ext cx="1077840" cy="947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أمت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995640" y="2708280"/>
            <a:ext cx="4606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ي أن بعدا الغرفة هما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  ،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66560" y="3701880"/>
            <a:ext cx="8280720" cy="10224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816360"/>
            <a:ext cx="80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أقيم ملعب كرة قدم في صالة مغلقة للتدريب ، فإذا علمت أن مساحة الملعب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4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مترا مربعا ، وهو مربع الشكل ، فما أبعاده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010200" y="5013360"/>
            <a:ext cx="2590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طول ضلع الملعب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857840" y="5013360"/>
            <a:ext cx="1077840" cy="537840"/>
            <a:chOff x="4857840" y="5013360"/>
            <a:chExt cx="1077840" cy="537840"/>
          </a:xfrm>
        </p:grpSpPr>
        <p:sp>
          <p:nvSpPr>
            <p:cNvPr id="774" name=""/>
            <p:cNvSpPr/>
            <p:nvPr/>
          </p:nvSpPr>
          <p:spPr>
            <a:xfrm>
              <a:off x="4857840" y="5013360"/>
              <a:ext cx="1077840" cy="518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66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5002200" y="5030640"/>
              <a:ext cx="878040" cy="520560"/>
              <a:chOff x="5002200" y="5030640"/>
              <a:chExt cx="878040" cy="520560"/>
            </a:xfrm>
          </p:grpSpPr>
          <p:grpSp>
            <p:nvGrpSpPr>
              <p:cNvPr id="776" name=""/>
              <p:cNvGrpSpPr/>
              <p:nvPr/>
            </p:nvGrpSpPr>
            <p:grpSpPr>
              <a:xfrm>
                <a:off x="5107320" y="5081040"/>
                <a:ext cx="772920" cy="360000"/>
                <a:chOff x="5107320" y="5081040"/>
                <a:chExt cx="772920" cy="360000"/>
              </a:xfrm>
            </p:grpSpPr>
            <p:sp>
              <p:nvSpPr>
                <p:cNvPr id="777" name=""/>
                <p:cNvSpPr/>
                <p:nvPr/>
              </p:nvSpPr>
              <p:spPr>
                <a:xfrm flipH="1">
                  <a:off x="5802480" y="5234760"/>
                  <a:ext cx="77760" cy="20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flipV="1">
                  <a:off x="5735520" y="5081040"/>
                  <a:ext cx="66600" cy="3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>
                  <a:off x="5107320" y="508104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5002200" y="503064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4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1" name=""/>
          <p:cNvSpPr/>
          <p:nvPr/>
        </p:nvSpPr>
        <p:spPr>
          <a:xfrm>
            <a:off x="4443480" y="5013360"/>
            <a:ext cx="35712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132000" y="5013360"/>
            <a:ext cx="1254240" cy="947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تر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94200" y="5732640"/>
            <a:ext cx="4606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ي أن بعدا الغرفة هما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  ،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8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3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8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3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8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3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8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3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8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3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8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3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8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785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788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250920" y="836640"/>
            <a:ext cx="8642160" cy="64764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95076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حديقة منزلية مربعة الشكل مساحته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مترا مربعا ، أردنا أن نضع سياجا حولها ،فما طول السياج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12000" y="1628640"/>
            <a:ext cx="259056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طول ضلع الحديقة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4859280" y="1628640"/>
            <a:ext cx="1077840" cy="538200"/>
            <a:chOff x="4859280" y="1628640"/>
            <a:chExt cx="1077840" cy="538200"/>
          </a:xfrm>
        </p:grpSpPr>
        <p:sp>
          <p:nvSpPr>
            <p:cNvPr id="794" name=""/>
            <p:cNvSpPr/>
            <p:nvPr/>
          </p:nvSpPr>
          <p:spPr>
            <a:xfrm>
              <a:off x="4859280" y="1628640"/>
              <a:ext cx="1077840" cy="519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66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5003640" y="1646280"/>
              <a:ext cx="878040" cy="520560"/>
              <a:chOff x="5003640" y="1646280"/>
              <a:chExt cx="878040" cy="520560"/>
            </a:xfrm>
          </p:grpSpPr>
          <p:grpSp>
            <p:nvGrpSpPr>
              <p:cNvPr id="796" name=""/>
              <p:cNvGrpSpPr/>
              <p:nvPr/>
            </p:nvGrpSpPr>
            <p:grpSpPr>
              <a:xfrm>
                <a:off x="5108760" y="1696680"/>
                <a:ext cx="772920" cy="360720"/>
                <a:chOff x="5108760" y="1696680"/>
                <a:chExt cx="772920" cy="360720"/>
              </a:xfrm>
            </p:grpSpPr>
            <p:sp>
              <p:nvSpPr>
                <p:cNvPr id="797" name=""/>
                <p:cNvSpPr/>
                <p:nvPr/>
              </p:nvSpPr>
              <p:spPr>
                <a:xfrm flipH="1">
                  <a:off x="5803920" y="1851120"/>
                  <a:ext cx="7776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 flipV="1">
                  <a:off x="5736960" y="1696680"/>
                  <a:ext cx="6660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>
                  <a:off x="5108760" y="169704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5003640" y="164628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1" name=""/>
          <p:cNvSpPr/>
          <p:nvPr/>
        </p:nvSpPr>
        <p:spPr>
          <a:xfrm>
            <a:off x="4444920" y="1628640"/>
            <a:ext cx="35712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132000" y="1628640"/>
            <a:ext cx="1255680" cy="947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تر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95640" y="2290680"/>
            <a:ext cx="4606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حيط الحديقة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تر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6560" y="3594240"/>
            <a:ext cx="8280720" cy="109368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95280" y="3645000"/>
            <a:ext cx="806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شترى أحمد وعلي قطعتي أرض في مشروع سكني ، فإذا علمت أن قطعة علي مستطيلة الشكل ، وقطعة أحمد مربعة الشكل ، وأن القطعتين لهما نفس المساحة ، وأن أبعاد قطعة عل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م      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م . فما أبعاد قطعة أحم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80000" y="5484960"/>
            <a:ext cx="30211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طول ضلع قطعة أحمد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303800" y="5484960"/>
            <a:ext cx="1204560" cy="537840"/>
            <a:chOff x="4303800" y="5484960"/>
            <a:chExt cx="1204560" cy="537840"/>
          </a:xfrm>
        </p:grpSpPr>
        <p:sp>
          <p:nvSpPr>
            <p:cNvPr id="808" name=""/>
            <p:cNvSpPr/>
            <p:nvPr/>
          </p:nvSpPr>
          <p:spPr>
            <a:xfrm>
              <a:off x="4303800" y="5484960"/>
              <a:ext cx="1204560" cy="518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66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4465080" y="5502240"/>
              <a:ext cx="980280" cy="520560"/>
              <a:chOff x="4465080" y="5502240"/>
              <a:chExt cx="980280" cy="520560"/>
            </a:xfrm>
          </p:grpSpPr>
          <p:grpSp>
            <p:nvGrpSpPr>
              <p:cNvPr id="810" name=""/>
              <p:cNvGrpSpPr/>
              <p:nvPr/>
            </p:nvGrpSpPr>
            <p:grpSpPr>
              <a:xfrm>
                <a:off x="4582440" y="5552640"/>
                <a:ext cx="862920" cy="360000"/>
                <a:chOff x="4582440" y="5552640"/>
                <a:chExt cx="862920" cy="360000"/>
              </a:xfrm>
            </p:grpSpPr>
            <p:sp>
              <p:nvSpPr>
                <p:cNvPr id="811" name=""/>
                <p:cNvSpPr/>
                <p:nvPr/>
              </p:nvSpPr>
              <p:spPr>
                <a:xfrm flipH="1">
                  <a:off x="5358600" y="5706360"/>
                  <a:ext cx="86760" cy="20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 flipV="1">
                  <a:off x="5284440" y="5552640"/>
                  <a:ext cx="74160" cy="3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>
                  <a:off x="4582440" y="5552640"/>
                  <a:ext cx="702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4" name=""/>
              <p:cNvSpPr/>
              <p:nvPr/>
            </p:nvSpPr>
            <p:spPr>
              <a:xfrm>
                <a:off x="4465080" y="550224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9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5" name=""/>
          <p:cNvSpPr/>
          <p:nvPr/>
        </p:nvSpPr>
        <p:spPr>
          <a:xfrm>
            <a:off x="3836880" y="5484960"/>
            <a:ext cx="40032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355840" y="5484960"/>
            <a:ext cx="140328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تر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484360" y="6078600"/>
            <a:ext cx="611676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ي أن بعدا قطعة أحمد هما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  ،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995640" y="2949480"/>
            <a:ext cx="4606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ي أن طول السياج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تر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484360" y="4869000"/>
            <a:ext cx="611676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ساحة قطعة علي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ترا مربع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0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5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0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5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0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5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0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5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0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5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0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5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0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0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5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821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824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250920" y="765000"/>
            <a:ext cx="8497800" cy="71928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195640" y="90504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اشرح لماذا تسمى القوة الثانية للعدد (( مربع العدد )) ، موضحا ذلك بمثال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050920" y="1700280"/>
            <a:ext cx="3711600" cy="947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حاصل ضرب العدد في نفس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867280" y="1700280"/>
            <a:ext cx="288288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قوة الثانية لعدد ه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976640" y="4941720"/>
            <a:ext cx="90360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40360" y="4925880"/>
            <a:ext cx="280980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وة الثانية للعدد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050920" y="2333520"/>
            <a:ext cx="3711600" cy="947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حاصل ضرب العدد في نفس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867280" y="2333520"/>
            <a:ext cx="288288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ربع العدد هو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132000" y="2981160"/>
            <a:ext cx="561816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ي أن القوة الثانية لعدد هي مربع ذلك العد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608280" y="4943520"/>
            <a:ext cx="1336680" cy="520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59200" y="4943520"/>
            <a:ext cx="61740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971960" y="5716440"/>
            <a:ext cx="90324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927760" y="5700600"/>
            <a:ext cx="204768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ربع العدد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603600" y="5718240"/>
            <a:ext cx="1336680" cy="520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54160" y="5718240"/>
            <a:ext cx="6177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7093080" y="3919680"/>
            <a:ext cx="1800000" cy="576000"/>
            <a:chOff x="7093080" y="3919680"/>
            <a:chExt cx="1800000" cy="576000"/>
          </a:xfrm>
        </p:grpSpPr>
        <p:sp>
          <p:nvSpPr>
            <p:cNvPr id="842" name=""/>
            <p:cNvSpPr/>
            <p:nvPr/>
          </p:nvSpPr>
          <p:spPr>
            <a:xfrm>
              <a:off x="7093080" y="3919680"/>
              <a:ext cx="1800000" cy="57600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80360" y="393840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مثا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2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2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2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7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2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5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0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5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0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5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0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0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139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348000" y="836640"/>
            <a:ext cx="568800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988920"/>
            <a:ext cx="43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كيف نستعمل الآلة الحاسبة في ايجاد مربع العد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666880" cy="48974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7093080" y="1628640"/>
            <a:ext cx="1800000" cy="966240"/>
            <a:chOff x="7093080" y="1628640"/>
            <a:chExt cx="1800000" cy="966240"/>
          </a:xfrm>
        </p:grpSpPr>
        <p:sp>
          <p:nvSpPr>
            <p:cNvPr id="145" name=""/>
            <p:cNvSpPr/>
            <p:nvPr/>
          </p:nvSpPr>
          <p:spPr>
            <a:xfrm>
              <a:off x="7093080" y="162864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80360" y="164772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مثــــا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348000" y="2347920"/>
            <a:ext cx="568800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500200"/>
            <a:ext cx="51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أوجد مربعات الأعداد التالية :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،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،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78880" y="4062240"/>
            <a:ext cx="79200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4062240"/>
            <a:ext cx="6490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16720" y="4062240"/>
            <a:ext cx="4316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4062240"/>
            <a:ext cx="9349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596360" y="3213000"/>
            <a:ext cx="1079280" cy="720720"/>
            <a:chOff x="7596360" y="3213000"/>
            <a:chExt cx="1079280" cy="720720"/>
          </a:xfrm>
        </p:grpSpPr>
        <p:sp>
          <p:nvSpPr>
            <p:cNvPr id="154" name=""/>
            <p:cNvSpPr/>
            <p:nvPr/>
          </p:nvSpPr>
          <p:spPr>
            <a:xfrm>
              <a:off x="7596360" y="3213000"/>
              <a:ext cx="1079280" cy="720720"/>
            </a:xfrm>
            <a:prstGeom prst="downArrowCallout">
              <a:avLst>
                <a:gd name="adj1" fmla="val 37441"/>
                <a:gd name="adj2" fmla="val 37438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96360" y="32130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عد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292720" y="3213000"/>
            <a:ext cx="1294920" cy="825480"/>
            <a:chOff x="5292720" y="3213000"/>
            <a:chExt cx="1294920" cy="825480"/>
          </a:xfrm>
        </p:grpSpPr>
        <p:sp>
          <p:nvSpPr>
            <p:cNvPr id="157" name=""/>
            <p:cNvSpPr/>
            <p:nvPr/>
          </p:nvSpPr>
          <p:spPr>
            <a:xfrm>
              <a:off x="5292720" y="3213000"/>
              <a:ext cx="1294920" cy="720720"/>
            </a:xfrm>
            <a:prstGeom prst="downArrowCallout">
              <a:avLst>
                <a:gd name="adj1" fmla="val 44922"/>
                <a:gd name="adj2" fmla="val 44918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92720" y="321300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مربع العد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778880" y="4781520"/>
            <a:ext cx="79200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0000" y="4781520"/>
            <a:ext cx="6490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4781520"/>
            <a:ext cx="4316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4781520"/>
            <a:ext cx="9349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78880" y="5502240"/>
            <a:ext cx="79200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20000" y="5502240"/>
            <a:ext cx="6490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5502240"/>
            <a:ext cx="4316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08720" y="5502240"/>
            <a:ext cx="9349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1441440" y="4149720"/>
            <a:ext cx="5689440" cy="216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627280" y="4437000"/>
            <a:ext cx="4105440" cy="17287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476360" y="4149360"/>
            <a:ext cx="5688000" cy="9349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27280" y="5084640"/>
            <a:ext cx="3960720" cy="10810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402920" y="4149360"/>
            <a:ext cx="5761080" cy="1655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627280" y="5759280"/>
            <a:ext cx="3960720" cy="432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174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659640" y="692280"/>
            <a:ext cx="2376360" cy="5191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04000" y="74124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أكمل الجدول التال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076640"/>
            <a:ext cx="6405480" cy="11912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baseline="30000">
                <a:solidFill>
                  <a:srgbClr val="000000"/>
                </a:solidFill>
                <a:latin typeface="Arial"/>
              </a:rPr>
              <a:t>في الجدول أعلاه : انتقلنا من مساحة المربع إلى طول ضلع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47880" y="1397160"/>
          <a:ext cx="7224480" cy="2199960"/>
        </p:xfrm>
        <a:graphic>
          <a:graphicData uri="http://schemas.openxmlformats.org/drawingml/2006/table">
            <a:tbl>
              <a:tblPr/>
              <a:tblGrid>
                <a:gridCol w="2408040"/>
                <a:gridCol w="2408040"/>
                <a:gridCol w="2408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ماذا 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طول ضلع المرب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احة المرب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4172040" y="2057400"/>
            <a:ext cx="8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5280" y="2575080"/>
            <a:ext cx="8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75280" y="3092400"/>
            <a:ext cx="8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47880" y="2060640"/>
            <a:ext cx="23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أن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47880" y="2562120"/>
            <a:ext cx="232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أن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7880" y="3075120"/>
            <a:ext cx="232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أن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98920" y="4803840"/>
            <a:ext cx="3673440" cy="11912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baseline="30000">
                <a:solidFill>
                  <a:srgbClr val="000000"/>
                </a:solidFill>
                <a:latin typeface="Arial"/>
              </a:rPr>
              <a:t>نسمي هذه العملية بالجذر التربيع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4797360"/>
            <a:ext cx="259236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baseline="30000">
                <a:solidFill>
                  <a:srgbClr val="000000"/>
                </a:solidFill>
                <a:latin typeface="Arial"/>
              </a:rPr>
              <a:t>ونرمز له بالرم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79640" y="4906440"/>
            <a:ext cx="576000" cy="360360"/>
            <a:chOff x="1979640" y="4906440"/>
            <a:chExt cx="576000" cy="360360"/>
          </a:xfrm>
        </p:grpSpPr>
        <p:sp>
          <p:nvSpPr>
            <p:cNvPr id="189" name=""/>
            <p:cNvSpPr/>
            <p:nvPr/>
          </p:nvSpPr>
          <p:spPr>
            <a:xfrm flipH="1">
              <a:off x="2503800" y="5061240"/>
              <a:ext cx="51840" cy="20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398320" y="4906440"/>
              <a:ext cx="1047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979640" y="490680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49200" y="5805360"/>
            <a:ext cx="8425080" cy="792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009999"/>
              </a:gs>
              <a:gs pos="50000">
                <a:srgbClr val="ff990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10520" y="599292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نستنتج أ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600084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جذر التربيعي لعدد ما هو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5992920"/>
            <a:ext cx="45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انتقال من </a:t>
            </a:r>
            <a:r>
              <a:rPr b="1" lang="ar-SA" sz="2000" spc="-1" strike="noStrike">
                <a:solidFill>
                  <a:srgbClr val="3333ff"/>
                </a:solidFill>
                <a:latin typeface="Arial"/>
              </a:rPr>
              <a:t>مساحة المربع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إلى </a:t>
            </a:r>
            <a:r>
              <a:rPr b="1" lang="ar-SA" sz="2000" spc="-1" strike="noStrike">
                <a:solidFill>
                  <a:srgbClr val="3333ff"/>
                </a:solidFill>
                <a:latin typeface="Arial"/>
              </a:rPr>
              <a:t>طول ضلع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197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200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وسائ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667640" y="1166760"/>
            <a:ext cx="1368360" cy="825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كونات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68360" y="981000"/>
          <a:ext cx="2736720" cy="242892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2880"/>
                <a:gridCol w="27468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500720" y="213372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8172360" y="213372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7935840" y="2352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2421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15880" y="34336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67640" y="3332160"/>
            <a:ext cx="1368360" cy="459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عم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3322800"/>
            <a:ext cx="3889440" cy="459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تشكيل مرب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67640" y="4484520"/>
            <a:ext cx="1368360" cy="459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هدف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4475160"/>
            <a:ext cx="3889440" cy="459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إيجاد طول ضلع المرب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5553000"/>
            <a:ext cx="1368360" cy="459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نتيج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5564160"/>
            <a:ext cx="3889440" cy="825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إيجاد الجذر التربيعي لعدد مرب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216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093080" y="106200"/>
            <a:ext cx="1800000" cy="576360"/>
            <a:chOff x="7093080" y="106200"/>
            <a:chExt cx="1800000" cy="576360"/>
          </a:xfrm>
        </p:grpSpPr>
        <p:sp>
          <p:nvSpPr>
            <p:cNvPr id="219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80360" y="1252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مثا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948360" y="865080"/>
            <a:ext cx="1943280" cy="459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أوج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836640"/>
          <a:ext cx="2736720" cy="242892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2880"/>
                <a:gridCol w="27468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708360" y="177156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7305840" y="191628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995640" y="4017960"/>
          <a:ext cx="273240" cy="2428920"/>
        </p:xfrm>
        <a:graphic>
          <a:graphicData uri="http://schemas.openxmlformats.org/drawingml/2006/table">
            <a:tbl>
              <a:tblPr/>
              <a:tblGrid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7236000" y="857160"/>
            <a:ext cx="876600" cy="520560"/>
            <a:chOff x="7236000" y="857160"/>
            <a:chExt cx="876600" cy="520560"/>
          </a:xfrm>
        </p:grpSpPr>
        <p:grpSp>
          <p:nvGrpSpPr>
            <p:cNvPr id="227" name=""/>
            <p:cNvGrpSpPr/>
            <p:nvPr/>
          </p:nvGrpSpPr>
          <p:grpSpPr>
            <a:xfrm>
              <a:off x="7340400" y="907560"/>
              <a:ext cx="772200" cy="360720"/>
              <a:chOff x="7340400" y="907560"/>
              <a:chExt cx="772200" cy="36072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8035200" y="1062000"/>
                <a:ext cx="7740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7968960" y="907560"/>
                <a:ext cx="6624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7340400" y="907920"/>
                <a:ext cx="62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7236000" y="8571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187280" y="328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708360" y="210348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4716360" y="2346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440" y="2178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101080" y="1809720"/>
            <a:ext cx="876600" cy="520560"/>
            <a:chOff x="8101080" y="1809720"/>
            <a:chExt cx="876600" cy="520560"/>
          </a:xfrm>
        </p:grpSpPr>
        <p:grpSp>
          <p:nvGrpSpPr>
            <p:cNvPr id="237" name=""/>
            <p:cNvGrpSpPr/>
            <p:nvPr/>
          </p:nvGrpSpPr>
          <p:grpSpPr>
            <a:xfrm>
              <a:off x="8205480" y="1860120"/>
              <a:ext cx="772200" cy="360720"/>
              <a:chOff x="8205480" y="1860120"/>
              <a:chExt cx="772200" cy="360720"/>
            </a:xfrm>
          </p:grpSpPr>
          <p:sp>
            <p:nvSpPr>
              <p:cNvPr id="238" name=""/>
              <p:cNvSpPr/>
              <p:nvPr/>
            </p:nvSpPr>
            <p:spPr>
              <a:xfrm flipH="1">
                <a:off x="8900280" y="2014560"/>
                <a:ext cx="7740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8834040" y="1860120"/>
                <a:ext cx="6624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8205480" y="1860480"/>
                <a:ext cx="62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8101080" y="1809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812000" y="184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32720" y="1819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1819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58920" y="4024440"/>
          <a:ext cx="2736720" cy="242892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2880"/>
                <a:gridCol w="27468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258920" y="377496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995640" y="377496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6948360" y="2852640"/>
            <a:ext cx="1943280" cy="825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شكل المرب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16720" y="3645000"/>
            <a:ext cx="2374920" cy="825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ا طول ضلع المربع 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59640" y="4411800"/>
            <a:ext cx="2232000" cy="8254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طول ضلع المربع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69080" y="4437000"/>
            <a:ext cx="71892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51640" y="5302080"/>
            <a:ext cx="1440000" cy="825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1080" y="5327640"/>
            <a:ext cx="71928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885080" y="5286240"/>
            <a:ext cx="878040" cy="520560"/>
            <a:chOff x="7885080" y="5286240"/>
            <a:chExt cx="878040" cy="520560"/>
          </a:xfrm>
        </p:grpSpPr>
        <p:grpSp>
          <p:nvGrpSpPr>
            <p:cNvPr id="255" name=""/>
            <p:cNvGrpSpPr/>
            <p:nvPr/>
          </p:nvGrpSpPr>
          <p:grpSpPr>
            <a:xfrm>
              <a:off x="7990200" y="5336640"/>
              <a:ext cx="772920" cy="360720"/>
              <a:chOff x="7990200" y="5336640"/>
              <a:chExt cx="772920" cy="36072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8685360" y="5491080"/>
                <a:ext cx="7776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8618400" y="5336640"/>
                <a:ext cx="66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990200" y="533700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7885080" y="528624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261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093080" y="106200"/>
            <a:ext cx="1800000" cy="576360"/>
            <a:chOff x="7093080" y="106200"/>
            <a:chExt cx="1800000" cy="576360"/>
          </a:xfrm>
        </p:grpSpPr>
        <p:sp>
          <p:nvSpPr>
            <p:cNvPr id="264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80360" y="1252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مثا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948360" y="865080"/>
            <a:ext cx="1943280" cy="459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أوج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836640"/>
          <a:ext cx="2736720" cy="242892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2880"/>
                <a:gridCol w="27468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708360" y="210996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7467480" y="208296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3995640" y="4017960"/>
          <a:ext cx="273240" cy="2428920"/>
        </p:xfrm>
        <a:graphic>
          <a:graphicData uri="http://schemas.openxmlformats.org/drawingml/2006/table">
            <a:tbl>
              <a:tblPr/>
              <a:tblGrid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pSp>
        <p:nvGrpSpPr>
          <p:cNvPr id="271" name=""/>
          <p:cNvGrpSpPr/>
          <p:nvPr/>
        </p:nvGrpSpPr>
        <p:grpSpPr>
          <a:xfrm>
            <a:off x="7236000" y="857160"/>
            <a:ext cx="876600" cy="520560"/>
            <a:chOff x="7236000" y="857160"/>
            <a:chExt cx="876600" cy="520560"/>
          </a:xfrm>
        </p:grpSpPr>
        <p:grpSp>
          <p:nvGrpSpPr>
            <p:cNvPr id="272" name=""/>
            <p:cNvGrpSpPr/>
            <p:nvPr/>
          </p:nvGrpSpPr>
          <p:grpSpPr>
            <a:xfrm>
              <a:off x="7340400" y="907560"/>
              <a:ext cx="772200" cy="360720"/>
              <a:chOff x="7340400" y="907560"/>
              <a:chExt cx="772200" cy="36072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8035200" y="1062000"/>
                <a:ext cx="7740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7968960" y="907560"/>
                <a:ext cx="6624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340400" y="907920"/>
                <a:ext cx="62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236000" y="8571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4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187280" y="328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708360" y="242892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4716360" y="2684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21440" y="23367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101080" y="1809720"/>
            <a:ext cx="876600" cy="520560"/>
            <a:chOff x="8101080" y="1809720"/>
            <a:chExt cx="876600" cy="520560"/>
          </a:xfrm>
        </p:grpSpPr>
        <p:grpSp>
          <p:nvGrpSpPr>
            <p:cNvPr id="282" name=""/>
            <p:cNvGrpSpPr/>
            <p:nvPr/>
          </p:nvGrpSpPr>
          <p:grpSpPr>
            <a:xfrm>
              <a:off x="8205480" y="1860120"/>
              <a:ext cx="772200" cy="360720"/>
              <a:chOff x="8205480" y="1860120"/>
              <a:chExt cx="772200" cy="360720"/>
            </a:xfrm>
          </p:grpSpPr>
          <p:sp>
            <p:nvSpPr>
              <p:cNvPr id="283" name=""/>
              <p:cNvSpPr/>
              <p:nvPr/>
            </p:nvSpPr>
            <p:spPr>
              <a:xfrm flipH="1">
                <a:off x="8900280" y="2014560"/>
                <a:ext cx="7740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>
                <a:off x="8834040" y="1860120"/>
                <a:ext cx="6624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8205480" y="1860480"/>
                <a:ext cx="62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8101080" y="1809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4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812000" y="184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32720" y="1819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1819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258920" y="4024440"/>
          <a:ext cx="2736720" cy="242892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2880"/>
                <a:gridCol w="27468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258920" y="377496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3995640" y="377496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6948360" y="2852640"/>
            <a:ext cx="1943280" cy="825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شكل المرب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16720" y="3645000"/>
            <a:ext cx="2374920" cy="825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ا طول ضلع المربع 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59640" y="4411800"/>
            <a:ext cx="2232000" cy="8254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طول ضلع المربع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9080" y="4424400"/>
            <a:ext cx="71892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51640" y="5302080"/>
            <a:ext cx="1440000" cy="825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61080" y="5315040"/>
            <a:ext cx="71928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885080" y="5286240"/>
            <a:ext cx="878040" cy="520560"/>
            <a:chOff x="7885080" y="5286240"/>
            <a:chExt cx="878040" cy="520560"/>
          </a:xfrm>
        </p:grpSpPr>
        <p:grpSp>
          <p:nvGrpSpPr>
            <p:cNvPr id="300" name=""/>
            <p:cNvGrpSpPr/>
            <p:nvPr/>
          </p:nvGrpSpPr>
          <p:grpSpPr>
            <a:xfrm>
              <a:off x="7990200" y="5336640"/>
              <a:ext cx="772920" cy="360720"/>
              <a:chOff x="7990200" y="5336640"/>
              <a:chExt cx="772920" cy="36072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8685360" y="5491080"/>
                <a:ext cx="7776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8618400" y="5336640"/>
                <a:ext cx="66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7990200" y="533700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7885080" y="528624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4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5" name=""/>
          <p:cNvGraphicFramePr/>
          <p:nvPr/>
        </p:nvGraphicFramePr>
        <p:xfrm>
          <a:off x="7093080" y="208296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7464600" y="174960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7089840" y="174960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708360" y="147636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708360" y="179532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258920" y="645336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971640" y="4017960"/>
          <a:ext cx="272880" cy="242892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971640" y="377676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971640" y="645336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3995640" y="645336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2700360" y="27000"/>
            <a:ext cx="3671640" cy="865440"/>
            <a:chOff x="2700360" y="27000"/>
            <a:chExt cx="3671640" cy="865440"/>
          </a:xfrm>
        </p:grpSpPr>
        <p:sp>
          <p:nvSpPr>
            <p:cNvPr id="316" name=""/>
            <p:cNvSpPr/>
            <p:nvPr/>
          </p:nvSpPr>
          <p:spPr>
            <a:xfrm>
              <a:off x="2700360" y="2700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49400" y="6696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093080" y="106200"/>
            <a:ext cx="1800000" cy="576360"/>
            <a:chOff x="7093080" y="106200"/>
            <a:chExt cx="1800000" cy="576360"/>
          </a:xfrm>
        </p:grpSpPr>
        <p:sp>
          <p:nvSpPr>
            <p:cNvPr id="319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80360" y="1252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مثا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948360" y="865080"/>
            <a:ext cx="1943280" cy="459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أوج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24000" y="692280"/>
          <a:ext cx="2736720" cy="242892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2880"/>
                <a:gridCol w="27468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3708360" y="264312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467480" y="177948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815000" y="3763800"/>
          <a:ext cx="272880" cy="242892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pSp>
        <p:nvGrpSpPr>
          <p:cNvPr id="326" name=""/>
          <p:cNvGrpSpPr/>
          <p:nvPr/>
        </p:nvGrpSpPr>
        <p:grpSpPr>
          <a:xfrm>
            <a:off x="7236000" y="857160"/>
            <a:ext cx="876600" cy="520560"/>
            <a:chOff x="7236000" y="857160"/>
            <a:chExt cx="876600" cy="520560"/>
          </a:xfrm>
        </p:grpSpPr>
        <p:grpSp>
          <p:nvGrpSpPr>
            <p:cNvPr id="327" name=""/>
            <p:cNvGrpSpPr/>
            <p:nvPr/>
          </p:nvGrpSpPr>
          <p:grpSpPr>
            <a:xfrm>
              <a:off x="7340400" y="907560"/>
              <a:ext cx="772200" cy="360720"/>
              <a:chOff x="7340400" y="907560"/>
              <a:chExt cx="772200" cy="3607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8035200" y="1062000"/>
                <a:ext cx="7740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7968960" y="907560"/>
                <a:ext cx="6624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7340400" y="907920"/>
                <a:ext cx="62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7236000" y="8571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2" name=""/>
          <p:cNvGraphicFramePr/>
          <p:nvPr/>
        </p:nvGraphicFramePr>
        <p:xfrm>
          <a:off x="3708360" y="294480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pSp>
        <p:nvGrpSpPr>
          <p:cNvPr id="333" name=""/>
          <p:cNvGrpSpPr/>
          <p:nvPr/>
        </p:nvGrpSpPr>
        <p:grpSpPr>
          <a:xfrm>
            <a:off x="8101080" y="1665360"/>
            <a:ext cx="876600" cy="520560"/>
            <a:chOff x="8101080" y="1665360"/>
            <a:chExt cx="876600" cy="520560"/>
          </a:xfrm>
        </p:grpSpPr>
        <p:grpSp>
          <p:nvGrpSpPr>
            <p:cNvPr id="334" name=""/>
            <p:cNvGrpSpPr/>
            <p:nvPr/>
          </p:nvGrpSpPr>
          <p:grpSpPr>
            <a:xfrm>
              <a:off x="8205480" y="1715760"/>
              <a:ext cx="772200" cy="360720"/>
              <a:chOff x="8205480" y="1715760"/>
              <a:chExt cx="772200" cy="360720"/>
            </a:xfrm>
          </p:grpSpPr>
          <p:sp>
            <p:nvSpPr>
              <p:cNvPr id="335" name=""/>
              <p:cNvSpPr/>
              <p:nvPr/>
            </p:nvSpPr>
            <p:spPr>
              <a:xfrm flipH="1">
                <a:off x="8900280" y="1870200"/>
                <a:ext cx="7740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8834040" y="1715760"/>
                <a:ext cx="6624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8205480" y="1716120"/>
                <a:ext cx="62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101080" y="16653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81200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1674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1674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077920" y="3770280"/>
          <a:ext cx="2737080" cy="242892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3240"/>
                <a:gridCol w="274320"/>
                <a:gridCol w="273600"/>
                <a:gridCol w="272880"/>
                <a:gridCol w="274320"/>
                <a:gridCol w="273240"/>
                <a:gridCol w="27468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2077920" y="352116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4815000" y="352116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7029360" y="3763800"/>
            <a:ext cx="1943280" cy="825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شكل المرب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97720" y="4411800"/>
            <a:ext cx="2374920" cy="825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ا طول ضلع المربع 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740640" y="5046840"/>
            <a:ext cx="2232000" cy="8254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طول ضلع المربع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50080" y="5059440"/>
            <a:ext cx="71892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32640" y="5662440"/>
            <a:ext cx="1440000" cy="825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42080" y="5675400"/>
            <a:ext cx="71928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966080" y="5646600"/>
            <a:ext cx="878040" cy="520560"/>
            <a:chOff x="7966080" y="5646600"/>
            <a:chExt cx="878040" cy="520560"/>
          </a:xfrm>
        </p:grpSpPr>
        <p:grpSp>
          <p:nvGrpSpPr>
            <p:cNvPr id="352" name=""/>
            <p:cNvGrpSpPr/>
            <p:nvPr/>
          </p:nvGrpSpPr>
          <p:grpSpPr>
            <a:xfrm>
              <a:off x="8071200" y="5697000"/>
              <a:ext cx="772920" cy="360720"/>
              <a:chOff x="8071200" y="5697000"/>
              <a:chExt cx="772920" cy="36072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8766360" y="5851440"/>
                <a:ext cx="7776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8699400" y="5697000"/>
                <a:ext cx="66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8071200" y="569736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7966080" y="564660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7" name=""/>
          <p:cNvGraphicFramePr/>
          <p:nvPr/>
        </p:nvGraphicFramePr>
        <p:xfrm>
          <a:off x="7093080" y="177948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7464600" y="144612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7089840" y="144612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3708360" y="205416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708360" y="234648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2077920" y="619920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790640" y="3763800"/>
          <a:ext cx="273240" cy="2428920"/>
        </p:xfrm>
        <a:graphic>
          <a:graphicData uri="http://schemas.openxmlformats.org/drawingml/2006/table">
            <a:tbl>
              <a:tblPr/>
              <a:tblGrid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1790640" y="35226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1790640" y="61992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815000" y="61992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5091120" y="3763800"/>
          <a:ext cx="272880" cy="242892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2077920" y="328464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1515960" y="3763800"/>
          <a:ext cx="273240" cy="2428920"/>
        </p:xfrm>
        <a:graphic>
          <a:graphicData uri="http://schemas.openxmlformats.org/drawingml/2006/table">
            <a:tbl>
              <a:tblPr/>
              <a:tblGrid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2076480" y="644040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708360" y="147636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708360" y="176544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3708360" y="88740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3708360" y="117936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3708360" y="595440"/>
          <a:ext cx="2736720" cy="24264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2880"/>
                <a:gridCol w="274680"/>
                <a:gridCol w="273240"/>
                <a:gridCol w="272880"/>
                <a:gridCol w="274680"/>
                <a:gridCol w="273240"/>
                <a:gridCol w="274320"/>
                <a:gridCol w="273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467480" y="210348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7093080" y="210348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477120" y="29574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6143760" y="29574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815080" y="29574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481720" y="29574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5135400" y="29574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4802040" y="29574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4473720" y="29574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4140360" y="29574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3811680" y="29574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3478320" y="29574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388" name=""/>
          <p:cNvSpPr/>
          <p:nvPr/>
        </p:nvSpPr>
        <p:spPr>
          <a:xfrm>
            <a:off x="6524640" y="3141720"/>
            <a:ext cx="2448000" cy="825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صرف إحدى العشرات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5091120" y="352584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4813200" y="328464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5089680" y="328932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1515960" y="352584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1790640" y="328464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1515960" y="3287880"/>
          <a:ext cx="272880" cy="24264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1515960" y="620388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1784520" y="644832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1509840" y="64404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5089680" y="619128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4813200" y="644040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5087880" y="6432480"/>
          <a:ext cx="272880" cy="243000"/>
        </p:xfrm>
        <a:graphic>
          <a:graphicData uri="http://schemas.openxmlformats.org/drawingml/2006/table">
            <a:tbl>
              <a:tblPr/>
              <a:tblGrid>
                <a:gridCol w="272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3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0"/>
                            </p:stCondLst>
                            <p:childTnLst>
                              <p:par>
                                <p:cTn id="8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000"/>
                            </p:stCondLst>
                            <p:childTnLst>
                              <p:par>
                                <p:cTn id="8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9000"/>
                            </p:stCondLst>
                            <p:childTnLst>
                              <p:par>
                                <p:cTn id="8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7010280" y="5516640"/>
            <a:ext cx="86364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10280" y="4795920"/>
            <a:ext cx="86364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81840" y="4076640"/>
            <a:ext cx="89208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700360" y="115920"/>
            <a:ext cx="3671640" cy="865440"/>
            <a:chOff x="2700360" y="115920"/>
            <a:chExt cx="3671640" cy="865440"/>
          </a:xfrm>
        </p:grpSpPr>
        <p:sp>
          <p:nvSpPr>
            <p:cNvPr id="405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49400" y="15588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تربيع والجذر التربيع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348000" y="836640"/>
            <a:ext cx="568800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067280" y="98892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كيف نستعمل الآلة الحاسبة في ايجاد الجذر التربيعي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666880" cy="489744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7093080" y="1628640"/>
            <a:ext cx="1800000" cy="966240"/>
            <a:chOff x="7093080" y="1628640"/>
            <a:chExt cx="1800000" cy="966240"/>
          </a:xfrm>
        </p:grpSpPr>
        <p:sp>
          <p:nvSpPr>
            <p:cNvPr id="411" name=""/>
            <p:cNvSpPr/>
            <p:nvPr/>
          </p:nvSpPr>
          <p:spPr>
            <a:xfrm>
              <a:off x="7093080" y="162864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80360" y="164772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مثــــا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348000" y="2347920"/>
            <a:ext cx="568800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956720" y="2500200"/>
            <a:ext cx="7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أوجد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927920" y="4062240"/>
            <a:ext cx="892080" cy="5191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6720" y="4062240"/>
            <a:ext cx="4316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4062240"/>
            <a:ext cx="9349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596360" y="3213000"/>
            <a:ext cx="1079280" cy="720720"/>
            <a:chOff x="7596360" y="3213000"/>
            <a:chExt cx="1079280" cy="720720"/>
          </a:xfrm>
        </p:grpSpPr>
        <p:sp>
          <p:nvSpPr>
            <p:cNvPr id="419" name=""/>
            <p:cNvSpPr/>
            <p:nvPr/>
          </p:nvSpPr>
          <p:spPr>
            <a:xfrm>
              <a:off x="7596360" y="3213000"/>
              <a:ext cx="1079280" cy="720720"/>
            </a:xfrm>
            <a:prstGeom prst="downArrowCallout">
              <a:avLst>
                <a:gd name="adj1" fmla="val 37441"/>
                <a:gd name="adj2" fmla="val 37438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96360" y="32130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جذ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292720" y="3213000"/>
            <a:ext cx="1294920" cy="720720"/>
            <a:chOff x="5292720" y="3213000"/>
            <a:chExt cx="1294920" cy="720720"/>
          </a:xfrm>
        </p:grpSpPr>
        <p:sp>
          <p:nvSpPr>
            <p:cNvPr id="422" name=""/>
            <p:cNvSpPr/>
            <p:nvPr/>
          </p:nvSpPr>
          <p:spPr>
            <a:xfrm>
              <a:off x="5292720" y="3213000"/>
              <a:ext cx="1294920" cy="720720"/>
            </a:xfrm>
            <a:prstGeom prst="downArrowCallout">
              <a:avLst>
                <a:gd name="adj1" fmla="val 44922"/>
                <a:gd name="adj2" fmla="val 44918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92720" y="321300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نات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956720" y="4781520"/>
            <a:ext cx="863280" cy="5191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16720" y="4781520"/>
            <a:ext cx="4316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508720" y="4781520"/>
            <a:ext cx="9349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956720" y="5502240"/>
            <a:ext cx="863280" cy="5191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16720" y="5502240"/>
            <a:ext cx="4316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08720" y="5502240"/>
            <a:ext cx="9349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034640" y="4161960"/>
            <a:ext cx="7272360" cy="1429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627280" y="4437000"/>
            <a:ext cx="4105440" cy="17287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627280" y="5084640"/>
            <a:ext cx="3960720" cy="10810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1115640" y="4149360"/>
            <a:ext cx="7201080" cy="1655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627280" y="5759280"/>
            <a:ext cx="3960720" cy="432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093080" y="2492280"/>
            <a:ext cx="876600" cy="520560"/>
            <a:chOff x="7093080" y="2492280"/>
            <a:chExt cx="876600" cy="520560"/>
          </a:xfrm>
        </p:grpSpPr>
        <p:grpSp>
          <p:nvGrpSpPr>
            <p:cNvPr id="436" name=""/>
            <p:cNvGrpSpPr/>
            <p:nvPr/>
          </p:nvGrpSpPr>
          <p:grpSpPr>
            <a:xfrm>
              <a:off x="7197480" y="2542680"/>
              <a:ext cx="772200" cy="360720"/>
              <a:chOff x="7197480" y="2542680"/>
              <a:chExt cx="772200" cy="360720"/>
            </a:xfrm>
          </p:grpSpPr>
          <p:sp>
            <p:nvSpPr>
              <p:cNvPr id="437" name=""/>
              <p:cNvSpPr/>
              <p:nvPr/>
            </p:nvSpPr>
            <p:spPr>
              <a:xfrm flipH="1">
                <a:off x="7892280" y="2697120"/>
                <a:ext cx="7740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flipV="1">
                <a:off x="7826040" y="2542680"/>
                <a:ext cx="6624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197480" y="2543040"/>
                <a:ext cx="62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7093080" y="24922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885080" y="4076640"/>
            <a:ext cx="848520" cy="519120"/>
            <a:chOff x="7885080" y="4076640"/>
            <a:chExt cx="848520" cy="519120"/>
          </a:xfrm>
        </p:grpSpPr>
        <p:grpSp>
          <p:nvGrpSpPr>
            <p:cNvPr id="442" name=""/>
            <p:cNvGrpSpPr/>
            <p:nvPr/>
          </p:nvGrpSpPr>
          <p:grpSpPr>
            <a:xfrm>
              <a:off x="7986600" y="4127040"/>
              <a:ext cx="747000" cy="360720"/>
              <a:chOff x="7986600" y="4127040"/>
              <a:chExt cx="747000" cy="3607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8658720" y="4281480"/>
                <a:ext cx="7488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8594280" y="4127040"/>
                <a:ext cx="6408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7986600" y="4127400"/>
                <a:ext cx="60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885080" y="4076640"/>
              <a:ext cx="766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885080" y="4816440"/>
            <a:ext cx="848520" cy="519120"/>
            <a:chOff x="7885080" y="4816440"/>
            <a:chExt cx="848520" cy="519120"/>
          </a:xfrm>
        </p:grpSpPr>
        <p:grpSp>
          <p:nvGrpSpPr>
            <p:cNvPr id="448" name=""/>
            <p:cNvGrpSpPr/>
            <p:nvPr/>
          </p:nvGrpSpPr>
          <p:grpSpPr>
            <a:xfrm>
              <a:off x="7986600" y="4866840"/>
              <a:ext cx="747000" cy="360720"/>
              <a:chOff x="7986600" y="4866840"/>
              <a:chExt cx="747000" cy="360720"/>
            </a:xfrm>
          </p:grpSpPr>
          <p:sp>
            <p:nvSpPr>
              <p:cNvPr id="449" name=""/>
              <p:cNvSpPr/>
              <p:nvPr/>
            </p:nvSpPr>
            <p:spPr>
              <a:xfrm flipH="1">
                <a:off x="8658720" y="5021280"/>
                <a:ext cx="7488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8594280" y="4866840"/>
                <a:ext cx="6408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7986600" y="4867200"/>
                <a:ext cx="60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7885080" y="4816440"/>
              <a:ext cx="766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885080" y="5540400"/>
            <a:ext cx="848520" cy="519120"/>
            <a:chOff x="7885080" y="5540400"/>
            <a:chExt cx="848520" cy="519120"/>
          </a:xfrm>
        </p:grpSpPr>
        <p:grpSp>
          <p:nvGrpSpPr>
            <p:cNvPr id="454" name=""/>
            <p:cNvGrpSpPr/>
            <p:nvPr/>
          </p:nvGrpSpPr>
          <p:grpSpPr>
            <a:xfrm>
              <a:off x="7986600" y="5590800"/>
              <a:ext cx="747000" cy="360720"/>
              <a:chOff x="7986600" y="5590800"/>
              <a:chExt cx="747000" cy="36072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8658720" y="5745240"/>
                <a:ext cx="7488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8594280" y="5590800"/>
                <a:ext cx="6408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7986600" y="5591160"/>
                <a:ext cx="60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7885080" y="5540400"/>
              <a:ext cx="766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H="1" flipV="1">
            <a:off x="1080720" y="4149360"/>
            <a:ext cx="7273800" cy="9349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292720" y="2492280"/>
            <a:ext cx="878040" cy="520560"/>
            <a:chOff x="5292720" y="2492280"/>
            <a:chExt cx="878040" cy="520560"/>
          </a:xfrm>
        </p:grpSpPr>
        <p:grpSp>
          <p:nvGrpSpPr>
            <p:cNvPr id="461" name=""/>
            <p:cNvGrpSpPr/>
            <p:nvPr/>
          </p:nvGrpSpPr>
          <p:grpSpPr>
            <a:xfrm>
              <a:off x="5397840" y="2542680"/>
              <a:ext cx="772920" cy="360720"/>
              <a:chOff x="5397840" y="2542680"/>
              <a:chExt cx="772920" cy="36072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6093000" y="2697120"/>
                <a:ext cx="7776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>
                <a:off x="6026040" y="2542680"/>
                <a:ext cx="66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5397840" y="254304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292720" y="249228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708360" y="2492280"/>
            <a:ext cx="878040" cy="520560"/>
            <a:chOff x="3708360" y="2492280"/>
            <a:chExt cx="878040" cy="520560"/>
          </a:xfrm>
        </p:grpSpPr>
        <p:grpSp>
          <p:nvGrpSpPr>
            <p:cNvPr id="467" name=""/>
            <p:cNvGrpSpPr/>
            <p:nvPr/>
          </p:nvGrpSpPr>
          <p:grpSpPr>
            <a:xfrm>
              <a:off x="3813480" y="2542680"/>
              <a:ext cx="772920" cy="360720"/>
              <a:chOff x="3813480" y="2542680"/>
              <a:chExt cx="772920" cy="360720"/>
            </a:xfrm>
          </p:grpSpPr>
          <p:sp>
            <p:nvSpPr>
              <p:cNvPr id="468" name=""/>
              <p:cNvSpPr/>
              <p:nvPr/>
            </p:nvSpPr>
            <p:spPr>
              <a:xfrm flipH="1">
                <a:off x="4508640" y="2697120"/>
                <a:ext cx="7776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>
                <a:off x="4441680" y="2542680"/>
                <a:ext cx="66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3813480" y="254304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708360" y="249228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3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3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8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473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476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24000" y="765000"/>
            <a:ext cx="8424720" cy="648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86688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أوجد مربعات الأعداد التالية :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،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،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71640" y="2565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96000" y="1989000"/>
            <a:ext cx="1077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948360" y="1973160"/>
            <a:ext cx="17989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رب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96000" y="2549520"/>
            <a:ext cx="1077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48360" y="2533680"/>
            <a:ext cx="1798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رب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96000" y="3112920"/>
            <a:ext cx="1077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48360" y="3097080"/>
            <a:ext cx="179892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رب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7280" y="4076640"/>
            <a:ext cx="885672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4229280"/>
            <a:ext cx="80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أوجد الجذر التربيعي لكل من العددين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89640" y="5054760"/>
            <a:ext cx="1004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284720" y="4170240"/>
            <a:ext cx="1077840" cy="538200"/>
            <a:chOff x="4284720" y="4170240"/>
            <a:chExt cx="1077840" cy="538200"/>
          </a:xfrm>
        </p:grpSpPr>
        <p:sp>
          <p:nvSpPr>
            <p:cNvPr id="491" name=""/>
            <p:cNvSpPr/>
            <p:nvPr/>
          </p:nvSpPr>
          <p:spPr>
            <a:xfrm>
              <a:off x="4284720" y="4170240"/>
              <a:ext cx="1077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4429080" y="4187880"/>
              <a:ext cx="878040" cy="520560"/>
              <a:chOff x="4429080" y="4187880"/>
              <a:chExt cx="878040" cy="52056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4534200" y="4238280"/>
                <a:ext cx="772920" cy="360720"/>
                <a:chOff x="4534200" y="4238280"/>
                <a:chExt cx="772920" cy="360720"/>
              </a:xfrm>
            </p:grpSpPr>
            <p:sp>
              <p:nvSpPr>
                <p:cNvPr id="494" name=""/>
                <p:cNvSpPr/>
                <p:nvPr/>
              </p:nvSpPr>
              <p:spPr>
                <a:xfrm flipH="1">
                  <a:off x="5229360" y="4392720"/>
                  <a:ext cx="7776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 flipV="1">
                  <a:off x="5162400" y="4238280"/>
                  <a:ext cx="6660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4534200" y="423864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4429080" y="418788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2195640" y="4170240"/>
            <a:ext cx="1077840" cy="538200"/>
            <a:chOff x="2195640" y="4170240"/>
            <a:chExt cx="1077840" cy="538200"/>
          </a:xfrm>
        </p:grpSpPr>
        <p:sp>
          <p:nvSpPr>
            <p:cNvPr id="499" name=""/>
            <p:cNvSpPr/>
            <p:nvPr/>
          </p:nvSpPr>
          <p:spPr>
            <a:xfrm>
              <a:off x="2195640" y="4170240"/>
              <a:ext cx="1077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2340000" y="4187880"/>
              <a:ext cx="878040" cy="520560"/>
              <a:chOff x="2340000" y="4187880"/>
              <a:chExt cx="878040" cy="52056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445120" y="4238280"/>
                <a:ext cx="772920" cy="360720"/>
                <a:chOff x="2445120" y="4238280"/>
                <a:chExt cx="772920" cy="360720"/>
              </a:xfrm>
            </p:grpSpPr>
            <p:sp>
              <p:nvSpPr>
                <p:cNvPr id="502" name=""/>
                <p:cNvSpPr/>
                <p:nvPr/>
              </p:nvSpPr>
              <p:spPr>
                <a:xfrm flipH="1">
                  <a:off x="3140280" y="4392720"/>
                  <a:ext cx="7776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3073320" y="4238280"/>
                  <a:ext cx="6660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2445120" y="4238640"/>
                  <a:ext cx="628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340000" y="418788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8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7451640" y="5046840"/>
            <a:ext cx="1438200" cy="537840"/>
            <a:chOff x="7451640" y="5046840"/>
            <a:chExt cx="1438200" cy="537840"/>
          </a:xfrm>
        </p:grpSpPr>
        <p:sp>
          <p:nvSpPr>
            <p:cNvPr id="507" name=""/>
            <p:cNvSpPr/>
            <p:nvPr/>
          </p:nvSpPr>
          <p:spPr>
            <a:xfrm>
              <a:off x="7451640" y="5048280"/>
              <a:ext cx="143820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7659720" y="5046840"/>
              <a:ext cx="1077840" cy="537840"/>
              <a:chOff x="7659720" y="5046840"/>
              <a:chExt cx="1077840" cy="537840"/>
            </a:xfrm>
          </p:grpSpPr>
          <p:sp>
            <p:nvSpPr>
              <p:cNvPr id="509" name=""/>
              <p:cNvSpPr/>
              <p:nvPr/>
            </p:nvSpPr>
            <p:spPr>
              <a:xfrm>
                <a:off x="7659720" y="5046840"/>
                <a:ext cx="107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7804080" y="5064120"/>
                <a:ext cx="878040" cy="520560"/>
                <a:chOff x="7804080" y="5064120"/>
                <a:chExt cx="878040" cy="520560"/>
              </a:xfrm>
            </p:grpSpPr>
            <p:grpSp>
              <p:nvGrpSpPr>
                <p:cNvPr id="511" name=""/>
                <p:cNvGrpSpPr/>
                <p:nvPr/>
              </p:nvGrpSpPr>
              <p:grpSpPr>
                <a:xfrm>
                  <a:off x="7909200" y="5114520"/>
                  <a:ext cx="772920" cy="360000"/>
                  <a:chOff x="7909200" y="5114520"/>
                  <a:chExt cx="772920" cy="36000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>
                    <a:off x="8604360" y="5268240"/>
                    <a:ext cx="77760" cy="20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flipV="1">
                    <a:off x="8537400" y="5114520"/>
                    <a:ext cx="66600" cy="36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>
                    <a:off x="7909200" y="5114520"/>
                    <a:ext cx="628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5" name=""/>
                <p:cNvSpPr/>
                <p:nvPr/>
              </p:nvSpPr>
              <p:spPr>
                <a:xfrm>
                  <a:off x="7804080" y="506412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6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16" name=""/>
          <p:cNvSpPr/>
          <p:nvPr/>
        </p:nvSpPr>
        <p:spPr>
          <a:xfrm>
            <a:off x="6389640" y="5702400"/>
            <a:ext cx="1004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451640" y="5700600"/>
            <a:ext cx="1438200" cy="537840"/>
            <a:chOff x="7451640" y="5700600"/>
            <a:chExt cx="1438200" cy="537840"/>
          </a:xfrm>
        </p:grpSpPr>
        <p:sp>
          <p:nvSpPr>
            <p:cNvPr id="518" name=""/>
            <p:cNvSpPr/>
            <p:nvPr/>
          </p:nvSpPr>
          <p:spPr>
            <a:xfrm>
              <a:off x="7451640" y="5702040"/>
              <a:ext cx="143820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7659720" y="5700600"/>
              <a:ext cx="1077840" cy="537840"/>
              <a:chOff x="7659720" y="5700600"/>
              <a:chExt cx="1077840" cy="537840"/>
            </a:xfrm>
          </p:grpSpPr>
          <p:sp>
            <p:nvSpPr>
              <p:cNvPr id="520" name=""/>
              <p:cNvSpPr/>
              <p:nvPr/>
            </p:nvSpPr>
            <p:spPr>
              <a:xfrm>
                <a:off x="7659720" y="5700600"/>
                <a:ext cx="107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7804080" y="5717880"/>
                <a:ext cx="878040" cy="520560"/>
                <a:chOff x="7804080" y="5717880"/>
                <a:chExt cx="878040" cy="520560"/>
              </a:xfrm>
            </p:grpSpPr>
            <p:grpSp>
              <p:nvGrpSpPr>
                <p:cNvPr id="522" name=""/>
                <p:cNvGrpSpPr/>
                <p:nvPr/>
              </p:nvGrpSpPr>
              <p:grpSpPr>
                <a:xfrm>
                  <a:off x="7909200" y="5768280"/>
                  <a:ext cx="772920" cy="360000"/>
                  <a:chOff x="7909200" y="5768280"/>
                  <a:chExt cx="772920" cy="36000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>
                    <a:off x="8604360" y="5922000"/>
                    <a:ext cx="77760" cy="20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flipV="1">
                    <a:off x="8537400" y="5768280"/>
                    <a:ext cx="66600" cy="360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7909200" y="5768280"/>
                    <a:ext cx="628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>
                  <a:off x="7804080" y="571788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289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5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0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1:13:19Z</dcterms:created>
  <dc:creator>AFAQ-tec</dc:creator>
  <dc:description/>
  <dc:language>en-US</dc:language>
  <cp:lastModifiedBy>AFAQ-tec</cp:lastModifiedBy>
  <dcterms:modified xsi:type="dcterms:W3CDTF">2009-10-22T04:03:35Z</dcterms:modified>
  <cp:revision>68</cp:revision>
  <dc:subject/>
  <dc:title>الشريحة 1</dc:title>
</cp:coreProperties>
</file>