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push.wav" ContentType="audio/x-wav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BA9-C464-47F4-988C-096C478B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A94-A066-43C7-BC37-44C3C9DD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BCE1-9853-446F-A5B2-B74E583E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224-24BD-4CB5-B956-B4A146B4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771-6211-4865-99FA-885D6509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BA3-329F-4D58-8346-53D08DAD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358-056D-4986-9361-C44A74B1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391-FFCC-438A-A307-745549B6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74B-FEFF-47A2-9D1A-76ED2C98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933-68C7-46CC-B451-CBDEC141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AF5-3131-4BF7-94B4-632C7FAE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062-43CE-4626-9C6E-AC0FFCC7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A568-E87F-4280-B2B0-0BA2744385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audio" Target="../media/push.wav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ial"/>
                <a:cs typeface="Al-Mujahed Classic"/>
              </a:rPr>
              <a:t>أولاً : الجهاز العصبي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84760" y="1468440"/>
            <a:ext cx="3890880" cy="642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أقسام الجهاز العصبي من حيث الوظيف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3836880"/>
            <a:ext cx="2090520" cy="642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تركيب الجهاز العصب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680" y="2781360"/>
            <a:ext cx="8211960" cy="916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الجهاز العصبي الطرفي ويشمل الأعصاب التي تتفرع من الجهاز العصبي المركزي وتقوم بنقل الإشارات العصبية من أعضاء الإحساس وأعضاء الجسم الداخلية إلى الجهاز العصبي المركزي وبالعك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3680" y="1986120"/>
            <a:ext cx="8211960" cy="6426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الجهاز العصبي المركزي ويشمل الدماغ والحبل الشوكي , ويقوم بجميع وظائف التنسيق والتنظيم والتكامل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03680" y="4203720"/>
            <a:ext cx="4538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03680" y="420372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48360" y="420372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>
            <a:lum contrast="48000"/>
          </a:blip>
          <a:stretch/>
        </p:blipFill>
        <p:spPr>
          <a:xfrm>
            <a:off x="1619280" y="5157720"/>
            <a:ext cx="1440000" cy="1700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6835680" y="546264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532720" y="546264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62160" y="4708440"/>
            <a:ext cx="1255680" cy="6426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الأعصاب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13080" y="4708440"/>
            <a:ext cx="1838520" cy="6426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الحبل الشوك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20372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02560" y="4708440"/>
            <a:ext cx="1008000" cy="6426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الدما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64360" y="5967360"/>
            <a:ext cx="900360" cy="6426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المخ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5967360"/>
            <a:ext cx="1836720" cy="6426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النخاع المستطي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37440" y="5967360"/>
            <a:ext cx="1008000" cy="6426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المخي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2">
            <a:lum contrast="48000"/>
          </a:blip>
          <a:stretch/>
        </p:blipFill>
        <p:spPr>
          <a:xfrm>
            <a:off x="108000" y="3860640"/>
            <a:ext cx="1439640" cy="3006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859280" y="5462640"/>
            <a:ext cx="3673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546264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42200" y="5084640"/>
            <a:ext cx="3240" cy="37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16000" y="136440"/>
            <a:ext cx="6870600" cy="1131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ial"/>
                <a:cs typeface="Al-Mujahed Classic"/>
              </a:rPr>
              <a:t>أولاً : الجهاز العصبي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51640" y="1341360"/>
            <a:ext cx="1368360" cy="642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أولاً: الدما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360" y="1341360"/>
            <a:ext cx="7307280" cy="642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يوجد الدماغ داخل الجمجمة ويتكون من عدد هائل من الخلايا المعقدة  خلايا عصبي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9640" y="2979720"/>
            <a:ext cx="1260360" cy="6426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وظائف المخ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101080" y="2336760"/>
            <a:ext cx="718920" cy="6426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 المخ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6292800"/>
            <a:ext cx="6799320" cy="368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نلاحظ تماثل في كل من نصفي الكرة في المخ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20000" y="4924440"/>
            <a:ext cx="1834920" cy="6426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مميزات عمل المخ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61080" y="1773360"/>
            <a:ext cx="2158920" cy="6426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أقسام الدماغ الرئيسي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4360" y="2205000"/>
            <a:ext cx="7736040" cy="916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يتميز مخ الإنسان بأنه يؤلف القسم الأكبر من دماغه وهوعضوكروي الشكل يتكون من قسمين متماثلين على شكل نصف كرة يفصل بينهما ثلم وتكثر به التلافيف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53080" y="3411360"/>
            <a:ext cx="3166920" cy="6426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إدراك جمع الأحاسيس ومعرفتها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360" y="3843360"/>
            <a:ext cx="8675640" cy="6426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يقوم المخ بتنسيق جمع الحركات العضلية الإرادية التي يقوم بها الجسم مثل المشي والركض والكتاب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00360" y="4276800"/>
            <a:ext cx="7019640" cy="6426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يقوم المخ بجميع الوظائف العقلية المميزة للإنسان مثل الإدراك والتفكير والفه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5805360"/>
            <a:ext cx="6802560" cy="64260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في المخ مراكز محددة ومخصصة لإدراك كل ناحية من نواحي الإحسا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5357880"/>
            <a:ext cx="6802560" cy="64260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يقم نصف المخ الأيمن بتنظيم الحركات الإرادية لهة الجسم الأيسر وبالعك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4">
            <a:lum contrast="54000"/>
          </a:blip>
          <a:stretch/>
        </p:blipFill>
        <p:spPr>
          <a:xfrm>
            <a:off x="25560" y="4437000"/>
            <a:ext cx="1809720" cy="2365560"/>
          </a:xfrm>
          <a:prstGeom prst="rect">
            <a:avLst/>
          </a:prstGeom>
          <a:ln w="38160">
            <a:solidFill>
              <a:srgbClr val="c0c0c0"/>
            </a:solidFill>
            <a:miter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249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0000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l-Mujahed Classic"/>
              </a:rPr>
              <a:t>أولاً : الجهاز العصبي 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67640" y="1973160"/>
            <a:ext cx="1192320" cy="36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   المخيخ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3638520"/>
            <a:ext cx="8347320" cy="642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تنظيم الحركات الإرادية التي تأخذ طابعاً تلقائياً مثل الضرب على الآلات الكاتبة وقيادة الدراج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0000" y="4348080"/>
            <a:ext cx="1839960" cy="6426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  النخاع المستطي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973160"/>
            <a:ext cx="6769080" cy="6426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يقع المخيخ تحت المخ , وتنتشر على سطحه تلافيف دقيقة وعديد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2911320"/>
            <a:ext cx="8347320" cy="6426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المحافظة على توازن الجسم أثناء تأدية الحركات بالتعاون مع الأذن الوسطى  مثل المشي والركض والجلو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7280" y="2479680"/>
            <a:ext cx="1552680" cy="6426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وظائف المخيخ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4348080"/>
            <a:ext cx="6120000" cy="3682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يصل هذا العضو الدماغ { المخ والمخيخ } بالحبل الشوك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59640" y="4862520"/>
            <a:ext cx="2200320" cy="6426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وظائف النخاع المستطي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5308560"/>
            <a:ext cx="8347320" cy="6426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نقل النبضات  { السيالات } العصبية ( الأوامر أو المعلومات الإحساسية  ) من المخ أو المخيخ إلى أعضاء الجسم مروراً بالحبل الشوكي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6027840"/>
            <a:ext cx="8382240" cy="6426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يتحكم النخاع المستطيل بعدد كبير من النشاطات غير الإرادية , كزيادة سرعة التنفس أو خفضها . وخفض نبضات القلب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6040" y="115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0000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ial"/>
                <a:cs typeface="Al-Mujahed Classic"/>
              </a:rPr>
              <a:t>أولاً : الجهاز العصبي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2840" y="1684440"/>
            <a:ext cx="2027160" cy="642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merigo BT"/>
                <a:cs typeface="PT Bold Heading"/>
              </a:rPr>
              <a:t>ثانياً : الحبل الشوك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3425760"/>
            <a:ext cx="6804000" cy="642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merigo BT"/>
                <a:ea typeface="PT Bold Heading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merigo BT"/>
                <a:ea typeface="PT Bold Heading"/>
              </a:rPr>
              <a:t>- ينظم عدداً من الحركات الغير الإرادية بطريقة معاكسة لتلك التي يقوم بها النخاع المستطيل فيزيد سرعة نبضات القلب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4720" y="2349360"/>
            <a:ext cx="2195280" cy="6426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merigo BT"/>
                <a:cs typeface="PT Bold Heading"/>
              </a:rPr>
              <a:t>وظائف الحبل الشوكي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1557360"/>
            <a:ext cx="6480360" cy="916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merigo BT"/>
                <a:cs typeface="PT Bold Heading"/>
              </a:rPr>
              <a:t>يمتد الحبل الشوكي في قناة داخل سلسة الظهر وهو اسطواني الشكل يتفرع عنه </a:t>
            </a:r>
            <a:r>
              <a:rPr b="1" lang="en-US" sz="1800" spc="-1" strike="noStrike">
                <a:solidFill>
                  <a:srgbClr val="ffffff"/>
                </a:solidFill>
                <a:latin typeface="Amerigo BT"/>
                <a:ea typeface="PT Bold Heading"/>
              </a:rPr>
              <a:t>31</a:t>
            </a:r>
            <a:r>
              <a:rPr b="1" lang="hi-IN" sz="1800" spc="-1" strike="noStrike">
                <a:solidFill>
                  <a:srgbClr val="ffffff"/>
                </a:solidFill>
                <a:latin typeface="Amerigo BT"/>
                <a:cs typeface="PT Bold Heading"/>
              </a:rPr>
              <a:t>زوجاً من الأعصاب مثنى مثنى تسمى الأعصاب الشوكي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2924280"/>
            <a:ext cx="6804000" cy="6426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merigo BT"/>
                <a:ea typeface="PT Bold Heading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merigo BT"/>
                <a:ea typeface="PT Bold Heading"/>
              </a:rPr>
              <a:t>- يصل أعضاء الجسم بالدماغ فينقل النبضات العصبية  منها وإليها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>
            <a:lum contrast="54000"/>
          </a:blip>
          <a:stretch/>
        </p:blipFill>
        <p:spPr>
          <a:xfrm>
            <a:off x="3132000" y="4297320"/>
            <a:ext cx="4608720" cy="2371680"/>
          </a:xfrm>
          <a:prstGeom prst="rect">
            <a:avLst/>
          </a:prstGeom>
          <a:ln w="76320">
            <a:solidFill>
              <a:srgbClr val="00808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7">
            <a:lum contrast="48000"/>
          </a:blip>
          <a:stretch/>
        </p:blipFill>
        <p:spPr>
          <a:xfrm>
            <a:off x="250920" y="2470320"/>
            <a:ext cx="158436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08000" y="2852640"/>
            <a:ext cx="3311640" cy="3919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7040" y="2057400"/>
            <a:ext cx="8778960" cy="642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تختلف الخلايا العصبية في الشكل وتتشابه في التركيب والسبب هو اختلاف وظائفها وتتميز الخلايا العصبية بوجود الياف عصبي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108000" y="2852640"/>
            <a:ext cx="3959280" cy="3919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ial"/>
                <a:cs typeface="Al-Mujahed Classic"/>
              </a:rPr>
              <a:t>أولاً : الجهاز العصبي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80360" y="1484280"/>
            <a:ext cx="1655640" cy="6426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ثالثاً : الأعصاب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484280"/>
            <a:ext cx="7080120" cy="368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إن وحدة التركيب في الجهاز العصبي هي الخلية العصبية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2978280"/>
            <a:ext cx="822240" cy="6426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العصب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2852640"/>
            <a:ext cx="3745080" cy="6426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هو مجموعة من الألياف العصبية لخلايا متعددة محاطة بغطاء واح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3629160"/>
            <a:ext cx="2103480" cy="6426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أنواع الخلايا العصبي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3629160"/>
            <a:ext cx="2521080" cy="3682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خلايا عصبية حركي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4132440"/>
            <a:ext cx="2087640" cy="6426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خلايا عصبية حسي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4132440"/>
            <a:ext cx="2556000" cy="6426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خلايا عصبية من الدما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56000" y="4605480"/>
            <a:ext cx="4716720" cy="146556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يتألف العصب من حزمة أواكثر من الأليف العصبية تحمل النبضات العصبية من العضو إلى الحبل الشوكي أو الدماغ بينما يحمل البعض الآخر الأوامر من الحبل الشوكي والدماغ الى أعضاء الجس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5946840"/>
            <a:ext cx="4680000" cy="64260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سرعة النبضات العصبية في الليف العصبي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12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متراً في الثاني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6050160" cy="965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ial"/>
                <a:cs typeface="Al-Mujahed Classic"/>
              </a:rPr>
              <a:t>أولاً : الجهاز العصبي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32720" y="1628640"/>
            <a:ext cx="2079360" cy="642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أنواع الألياف العصبي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5400" y="2076480"/>
            <a:ext cx="8086680" cy="642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الياف عصبية إحساسية. وهي التي تحمل النبضات العصبية من أعضاء الحس إلى المركز العصبي في الدماغ أو الحبل الشوك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80360" y="3573360"/>
            <a:ext cx="1431720" cy="6426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أنواع الأعصاب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5400" y="2849400"/>
            <a:ext cx="8086680" cy="6426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ألياف عصبية حركية . وهي التي تنقل النبضات العصبية من الدماغ أو الحبل الشوكي إلى العضلات أو الغد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4076640"/>
            <a:ext cx="5103720" cy="6426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أعصاب مختلطة كالأعصاب الشوكية وتحتوي الياف حسية وحركية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797360"/>
            <a:ext cx="5103720" cy="6426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أعصاب إحساسية كالتي تصل كلاً من العين والأذن وتحتوي الياف حسية فق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5516640"/>
            <a:ext cx="5103720" cy="916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T Bold Heading"/>
              </a:rPr>
              <a:t>- أعصاب حركية وهي دقيقة وقصيرة تصل الدماغ بعضلات العين وتحتوي الياف حركية فق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8">
            <a:lum contrast="60000"/>
          </a:blip>
          <a:stretch/>
        </p:blipFill>
        <p:spPr>
          <a:xfrm>
            <a:off x="179280" y="3573360"/>
            <a:ext cx="3262320" cy="321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36440" y="3911760"/>
            <a:ext cx="1987560" cy="2830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108000" y="3718080"/>
            <a:ext cx="3292560" cy="3024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81080" y="4869000"/>
            <a:ext cx="4229280" cy="1465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Boutros Ads Condensed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Boutros Ads Condensed"/>
              </a:rPr>
              <a:t>- الحواس الخارجية : وهي التي تنقل إحساسا تنا بالمؤثرات الخارجية إلى المخ عن طريق أعصاب كل حاسة وتشمل نهاية الألياف الإحسا سية في الجلد والعين والأذن وبراعم التذو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3718080"/>
            <a:ext cx="4229280" cy="916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Boutros Ads Condensed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Boutros Ads Condensed"/>
              </a:rPr>
              <a:t>- الحواس الداخلية : وهي نهاية أعصاب الإحساس التي تنتشر داخل أعضاء الجسم وتنقل إلى المخ شعور الجسم بالألم والجو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71840" y="3284640"/>
            <a:ext cx="2738520" cy="3373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Arial"/>
                <a:cs typeface="Boutros Ads Condensed"/>
              </a:rPr>
              <a:t>علاقة الحواس بالجهاز العصبي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37080" y="2224080"/>
            <a:ext cx="0" cy="6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221472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06640" y="2876400"/>
            <a:ext cx="1666800" cy="3373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  <a:cs typeface="Boutros Ads Condensed"/>
              </a:rPr>
              <a:t>عضوالحركة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1280" y="2876400"/>
            <a:ext cx="1512720" cy="3373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Arial"/>
                <a:cs typeface="Boutros Ads Condensed"/>
              </a:rPr>
              <a:t>عب حركي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l-Mujahed Classic"/>
              </a:rPr>
              <a:t>أولاً : الجهاز العصبي</a:t>
            </a:r>
            <a:r>
              <a:rPr b="1" lang="ar-SA" sz="6000" spc="-1" strike="noStrike">
                <a:solidFill>
                  <a:srgbClr val="ffffff"/>
                </a:solidFill>
                <a:latin typeface="Arial"/>
                <a:ea typeface="Al-Mujahed Classic"/>
              </a:rPr>
              <a:t>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1268280"/>
            <a:ext cx="4114800" cy="7038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Boutros Ads Condensed"/>
              </a:rPr>
              <a:t>عمل الجهاز العصبي { الفعل الانعكاسي }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1773360"/>
            <a:ext cx="2808360" cy="3988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Boutros Ads Condensed"/>
              </a:rPr>
              <a:t>مقومات الفعل الانعكاسي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9800" y="2214720"/>
            <a:ext cx="0" cy="63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67640" y="2214720"/>
            <a:ext cx="0" cy="63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7640" y="2852640"/>
            <a:ext cx="1407960" cy="58068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Arial"/>
                <a:cs typeface="Boutros Ads Condensed"/>
              </a:rPr>
              <a:t>عضو الإحساس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53280" y="3284640"/>
            <a:ext cx="2682720" cy="58068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Arial"/>
                <a:cs typeface="Boutros Ads Condensed"/>
              </a:rPr>
              <a:t>الفعل الانعكاسي في عملية التذو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16920" y="4307040"/>
            <a:ext cx="68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53280" y="3718080"/>
            <a:ext cx="2682720" cy="33732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Boutros Ads Condensed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Boutros Ads Condensed"/>
              </a:rPr>
              <a:t>- عضو الإحساس { اللسان }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53280" y="4130640"/>
            <a:ext cx="2682720" cy="58068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Boutros Ads Condensed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Boutros Ads Condensed"/>
              </a:rPr>
              <a:t>- عصب إحساسي  الذي يربط اللسان بالدما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53280" y="4784760"/>
            <a:ext cx="2682720" cy="33732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Boutros Ads Condensed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Boutros Ads Condensed"/>
              </a:rPr>
              <a:t>- المركز العصبي  { الدماغ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53280" y="5211720"/>
            <a:ext cx="2682720" cy="58068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Boutros Ads Condensed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Boutros Ads Condensed"/>
              </a:rPr>
              <a:t>- عب حركي الذي يربط الدماغ بالغدداللعا بية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53280" y="5829480"/>
            <a:ext cx="2682720" cy="337320"/>
          </a:xfrm>
          <a:prstGeom prst="rect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Boutros Ads Condensed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Boutros Ads Condensed"/>
              </a:rPr>
              <a:t>- عضو الحركة الغدداللعا بية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2214720"/>
            <a:ext cx="6408720" cy="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49800" y="2224080"/>
            <a:ext cx="0" cy="6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9080" y="2862360"/>
            <a:ext cx="1728720" cy="33732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Arial"/>
                <a:cs typeface="Boutros Ads Condensed"/>
              </a:rPr>
              <a:t>عصب إحساسي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2876400"/>
            <a:ext cx="1295280" cy="337320"/>
          </a:xfrm>
          <a:prstGeom prst="rect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Arial"/>
                <a:cs typeface="Boutros Ads Condensed"/>
              </a:rPr>
              <a:t>مركز عصب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1T11:07:26Z</dcterms:created>
  <dc:creator> محمد سعيد علوش</dc:creator>
  <dc:description/>
  <dc:language>en-US</dc:language>
  <cp:lastModifiedBy>*</cp:lastModifiedBy>
  <dcterms:modified xsi:type="dcterms:W3CDTF">2004-02-21T11:31:00Z</dcterms:modified>
  <cp:revision>3</cp:revision>
  <dc:subject>الجهاز العصبي</dc:subject>
  <dc:title>أولاً : الجهاز العصبي </dc:title>
</cp:coreProperties>
</file>