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8A9-B91B-4AB1-9C9A-E679DE48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399-6470-4084-8A29-EFC56FB2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5E2-8E6B-43DD-938A-367787EC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0AF-07BA-4DA1-922C-868166DA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73A-D936-44CB-AAE7-115F5FDC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419-0CA6-450B-AB75-8B6C80D5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A52-1682-4B84-B163-98F641CE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BE1-0A4F-4679-A808-7C7361A3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EB9-D3A4-4C4B-A38F-274A59CB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39B-71C2-4AED-9724-F26D315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0C0-4EB6-400C-B96A-31F54A6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E50-B136-4C55-BA7A-65056D9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61B4-AA6A-476E-BD50-C842BB947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0360" y="189000"/>
            <a:ext cx="2952720" cy="640872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6408720"/>
              <a:gd name="textAreaBottom" fmla="*/ 6264720 h 6408720"/>
            </a:gdLst>
            <a:ahLst/>
            <a:rect l="textAreaLeft" t="textAreaTop" r="textAreaRight" b="textAreaBottom"/>
            <a:pathLst>
              <a:path w="21600" h="46879">
                <a:moveTo>
                  <a:pt x="3600" y="0"/>
                </a:moveTo>
                <a:arcTo wR="3600" hR="3600" stAng="16200000" swAng="-5400000"/>
                <a:lnTo>
                  <a:pt x="0" y="43279"/>
                </a:lnTo>
                <a:arcTo wR="3600" hR="3600" stAng="10800000" swAng="-5400000"/>
                <a:lnTo>
                  <a:pt x="18000" y="46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66cc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32720" y="1125360"/>
            <a:ext cx="143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صحـ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244600" cy="1726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88000" y="5373720"/>
            <a:ext cx="180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درسة القاعدة الثانوية للبنات بالخر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.M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76280"/>
            <a:ext cx="5113440" cy="30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(بسم الله الرحمن الرحي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ا هي الصحة؟ الصحة هي ليست خلو الجسم من الامراض ، بل هي حالة التكامل الجسمان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والعقلي والاجتماعي للفرد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 عندما نسأل بعضنا البعض "كيف صحتك؟؟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فهل يكون في بالنا السؤال عن قوة اجسادنا واستعدادها للنشاط البدني والحركة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وعن قدرتها على الوقاية من الأمراض؟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و يخطر ببالنا السؤال عن قدرتنا النفسية على تحمل اعباء الحياة وهمومها؟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صحة الجيدة تشمل اللياقة وتشمل ايضا الوقاية من الاكتئاب والإحباط تأثرا بأحداث الحياة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في هذه المنشورة سنوضح علاقة الصحة بالغذاء(الفاكهة)وأضرار الوجبات السريع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وكيفية شراء المواد الغذائية. وعن تأثير الصحة على مظهر الشع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765000"/>
            <a:ext cx="19479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قدمه عن الصح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716280"/>
            <a:ext cx="5184720" cy="29527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>
            <a:alphaModFix amt="10000"/>
          </a:blip>
          <a:stretch/>
        </p:blipFill>
        <p:spPr>
          <a:xfrm>
            <a:off x="324000" y="3716280"/>
            <a:ext cx="5184720" cy="295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56000" y="3789360"/>
            <a:ext cx="961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فواك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292640"/>
            <a:ext cx="4608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اهي فوائد الفواكه؟ الفواكه بصفة عامه مصدر مهم للفيتامينات والأملاح المعدنية وتعتبر اغذيه الوقا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وعلاج الامرا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ff00"/>
                </a:solidFill>
                <a:latin typeface="Arial"/>
              </a:rPr>
              <a:t>فوائد التفاح الاخض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تفاح يحارب الاثار السيئة لمادة الكلورسترول الذي يجتمع في شرايين الجس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 يخلص جسم الانسان من السموم لان ثمرة التفاح لها خاصية مهاجمه الفيروسا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كما يعالج الامساك والإسهال الشدي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3399"/>
                </a:solidFill>
                <a:latin typeface="Arial"/>
              </a:rPr>
              <a:t>فوائد فاكهة الرما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لقد اكتشف العلماء ان الرمان غني في عناصره الغذائية,وله خواص وقائية وعلاجيه عظيم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فهو مسكن للآلام ومخفض للحرارة ويفيد في حالة العطش الشديد ومانع للنزي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عصيره يشفي بعض حالات الصداع وامراض العيو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40360" y="189000"/>
            <a:ext cx="2952720" cy="640872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6408720"/>
              <a:gd name="textAreaBottom" fmla="*/ 6264720 h 6408720"/>
            </a:gdLst>
            <a:ahLst/>
            <a:rect l="textAreaLeft" t="textAreaTop" r="textAreaRight" b="textAreaBottom"/>
            <a:pathLst>
              <a:path w="21600" h="46879">
                <a:moveTo>
                  <a:pt x="3600" y="0"/>
                </a:moveTo>
                <a:arcTo wR="3600" hR="3600" stAng="16200000" swAng="-5400000"/>
                <a:lnTo>
                  <a:pt x="0" y="43279"/>
                </a:lnTo>
                <a:arcTo wR="3600" hR="3600" stAng="10800000" swAng="-5400000"/>
                <a:lnTo>
                  <a:pt x="18000" y="46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طرق شراء المواد الغذائية وتأثي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             على الص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واصفات الاغذيه الجيدة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*الخضروات والفواكه الطازجة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القشرة ملساء وناعمة وخاليه من التجاعي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قرون الثمار مثل الفاصوليا الخضراء ممتلئة بالحبوب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*اللحو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ان تكون نظيفة وذات رائحة طيب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اللون فات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الشحم أبي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 تاريخ الشراء او التغليف واضح وجدي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*الدجاج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مغلف بغلاف شفا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اللحم ابيض ومتماسك وليس به أي تلو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*الأسما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الرائحة مقبول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العينان بلوريتان والقرنية شفاف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 الخياشيم حمراء,والجلد خال من التسلخ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*اللحوم والخضروات المعلب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عبوات بلاستيك شفاف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محكمة الغل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تفصيل المواد الحافظه والمحسنة على الغلا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bright="70000" contrast="-70000"/>
            <a:alphaModFix amt="98000"/>
          </a:blip>
          <a:stretch/>
        </p:blipFill>
        <p:spPr>
          <a:xfrm>
            <a:off x="468360" y="333360"/>
            <a:ext cx="5040360" cy="2714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260280"/>
            <a:ext cx="54723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ضرار البرجــ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لاشك أن اللحوم الحمراء بشكل عام تزيد من مخاطر الاصابه ولكن ’’الهامبورجر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عــد الأسوأ,ويقول الأطباء:لم تعرف العلاقة بين ’’الهامبورجر’’ والسرطا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,ولكن البحوث قد ربطت بين تناول اللحوم الحمراء ومخاطر الاصابه بسرط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ثدي والقولون وأمراض القلب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708280"/>
            <a:ext cx="5688000" cy="3960720"/>
          </a:xfrm>
          <a:prstGeom prst="flowChartPunchedTape">
            <a:avLst/>
          </a:prstGeom>
          <a:gradFill rotWithShape="0">
            <a:gsLst>
              <a:gs pos="0">
                <a:srgbClr val="ff66cc">
                  <a:alpha val="60392"/>
                </a:srgbClr>
              </a:gs>
              <a:gs pos="100000">
                <a:srgbClr val="ffccff">
                  <a:alpha val="6039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لكل شعرة في الجسم عمر محدد تنمو خلاله,إلى أن تصل للطول المحدد لها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يختلف معدل نمو الشعر اليومي من شخص إلى آخر ومن جزء إلى آخر في الجسم.ويتساقط الشعر بمعدل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إلى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شعرة يوميا.ولذا نقول أنه لاداعي للخوف من سقوط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شعرة فهي تجدد يوميا.أما أن يزداد التساقط عن هذا المعدل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فذلك يعني البحث عن الأسباب المسؤولة,التي قد تتمثل في شد الشعر أثناء التسريح أو التصفيف أو الإصابة بالأمرا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حاده و المزمنة أو عقب حالات النزف الشديد أو </a:t>
            </a:r>
            <a:r>
              <a:rPr b="0" lang="ar-SA" sz="9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أنيميا)),أو عند الإصابة بصدمات نفسية وعصبي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قد يتعرض المرء أحيانا إلى تساقط الشعر,إذ التزم بنظام غذائي غير متوازن بغرض تخفيف الوز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علما أن الغذاء السليم وتناول الفيتامينات يشكلان العلاج المناسب لوقف تساقط الشع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987640" y="2924280"/>
            <a:ext cx="27716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مشكلة تساقط الشع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5280" y="5157720"/>
            <a:ext cx="2448000" cy="1174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87640" y="537372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صورة مقربة  لطر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</a:rPr>
              <a:t>شعرة انسان مهمل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55:43Z</dcterms:created>
  <dc:creator>Amah</dc:creator>
  <dc:description/>
  <dc:language>en-US</dc:language>
  <cp:lastModifiedBy>Amah</cp:lastModifiedBy>
  <dcterms:modified xsi:type="dcterms:W3CDTF">2009-12-08T14:27:48Z</dcterms:modified>
  <cp:revision>5</cp:revision>
  <dc:subject/>
  <dc:title>الشريحة 1</dc:title>
</cp:coreProperties>
</file>