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rrow.wav" ContentType="audio/x-wav"/>
  <Override PartName="/ppt/media/image7.jpeg" ContentType="image/jpeg"/>
  <Override PartName="/ppt/media/voltage.wav" ContentType="audio/x-wav"/>
  <Override PartName="/ppt/media/wind.wav" ContentType="audio/x-wav"/>
  <Override PartName="/ppt/media/chimes.wav" ContentType="audio/x-wav"/>
  <Override PartName="/ppt/media/image5.jpeg" ContentType="image/jpeg"/>
  <Override PartName="/ppt/media/image12.gif" ContentType="image/gif"/>
  <Override PartName="/ppt/media/cashreg.wav" ContentType="audio/x-wav"/>
  <Override PartName="/ppt/media/image11.gif" ContentType="image/gif"/>
  <Override PartName="/ppt/media/image9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breeze.wav" ContentType="audio/x-wav"/>
  <Override PartName="/ppt/media/image6.jpeg" ContentType="image/jpeg"/>
  <Override PartName="/ppt/media/image10.jpeg" ContentType="image/jpeg"/>
  <Override PartName="/ppt/media/whoosh.wav" ContentType="audio/x-wav"/>
  <Override PartName="/ppt/media/image8.jpeg" ContentType="image/jpe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DA2F2-365A-4BEF-9913-22EBC4831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330D-357F-4F54-9DB9-77A42D61D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2139-94B5-4C02-823E-43A0E7BA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995-45DB-4759-9BA0-9CAD5F7A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8965-7F7F-49A0-83B1-ED66DB28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2DB3-E43D-42B0-A79D-7FCA67756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9DF5-93B8-4C83-9599-6E6115FE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BA96-D728-476B-8585-7FF9F73C8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199-17E7-410B-B468-9A7192A83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7DEB-1741-4372-A731-15FD6031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521-AB1D-4531-B9B1-A36E7C78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5E2-61B8-48F9-97EE-575FCDA5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0637-C2AD-4C0E-8592-935283A5E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reeze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wind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16000" y="1628640"/>
            <a:ext cx="655164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abic Transparent"/>
              </a:rPr>
              <a:t>النظائر والمتكاتلات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كما ان للنظائر المشعة تطبيقات أخرى في مجال التحليل الكيميائي الصناعي وقياس عمر الأرض ومعرفة مصادر الثروات الطبيعية كالنفط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6983280" cy="40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1116000" y="836640"/>
            <a:ext cx="6985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lus"/>
              </a:rPr>
              <a:t>بسم الله الرحمن الرحيــــ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ndalus"/>
              <a:ea typeface="Andalus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95200" y="2997360"/>
            <a:ext cx="8524800" cy="169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lus"/>
              </a:rPr>
              <a:t>((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lus"/>
              </a:rPr>
              <a:t>وإن ربك لذو فضل على الناس ولكن أكثرهم لا يشكرو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lus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ndalus"/>
              </a:rPr>
              <a:t>))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ndalus"/>
              <a:ea typeface="Andalu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916360" y="333360"/>
            <a:ext cx="5616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التقويم التجميعي /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80" name=""/>
          <p:cNvSpPr/>
          <p:nvPr/>
        </p:nvSpPr>
        <p:spPr>
          <a:xfrm>
            <a:off x="7216920" y="2852640"/>
            <a:ext cx="88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24720" y="263700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164360" y="263700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3141720"/>
            <a:ext cx="792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236000" y="306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101080" y="213372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أ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67280" y="270828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80000" y="2708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508720" y="306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933720"/>
            <a:ext cx="8424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ثم حددي كل من :- العدد الذري وعدد البروتونات وعدد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الإلكترونات وعدد النيوترونات وعدد الكتلة لذرات العناصر السابق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8360" y="1484280"/>
            <a:ext cx="842472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abic Transparent"/>
              </a:rPr>
              <a:t>اكتبي المصطلح العلمي الذي يُطلق على ذرات العناصر التالية 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abic Transparent"/>
              <a:ea typeface="Arabic Transparent"/>
            </a:endParaRPr>
          </a:p>
        </p:txBody>
      </p:sp>
      <p:sp>
        <p:nvSpPr>
          <p:cNvPr id="91" name=""/>
          <p:cNvSpPr/>
          <p:nvPr/>
        </p:nvSpPr>
        <p:spPr>
          <a:xfrm>
            <a:off x="4284720" y="2708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24360" y="27082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924360" y="306864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4000" y="530064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2000"/>
                            </p:stCondLst>
                            <p:childTnLst>
                              <p:par>
                                <p:cTn id="2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500"/>
                            </p:stCondLst>
                            <p:childTnLst>
                              <p:par>
                                <p:cTn id="2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35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000"/>
                            </p:stCondLst>
                            <p:childTnLst>
                              <p:par>
                                <p:cTn id="3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0"/>
                            </p:stCondLst>
                            <p:childTnLst>
                              <p:par>
                                <p:cTn id="3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500"/>
                            </p:stCondLst>
                            <p:childTnLst>
                              <p:par>
                                <p:cTn id="3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6000"/>
                            </p:stCondLst>
                            <p:childTnLst>
                              <p:par>
                                <p:cTn id="3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7000"/>
                            </p:stCondLst>
                            <p:childTnLst>
                              <p:par>
                                <p:cTn id="341" nodeType="after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45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2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9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  <p:animClr clrSpc="rgb">
                                <p:cBhvr>
                                  <p:cTn id="3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211640" y="404640"/>
            <a:ext cx="4176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المصطلح العلمي هو /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71640" y="476280"/>
            <a:ext cx="2736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النظائر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2205000"/>
          <a:ext cx="8229600" cy="39448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العدد الذر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دد البروتونا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دد الإلكترونات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دد الكتل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عدد النيوترونات</a:t>
                      </a:r>
                      <a:r>
                        <a:rPr b="1" lang="ar-SA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5364000" y="234936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600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148360" y="249228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03640" y="2205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364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492360" y="2276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2276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249228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64000" y="299736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19640" y="299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299736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364500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36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332000" y="36450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435640" y="429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332000" y="429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429264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99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49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99"/>
                </a:solidFill>
                <a:latin typeface="Arial"/>
              </a:rPr>
              <a:t>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4941720"/>
            <a:ext cx="8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99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508720" y="5589720"/>
            <a:ext cx="43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5589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9933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48360" y="558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9933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116000" y="4869000"/>
            <a:ext cx="71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0099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558972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9933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181160" y="49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Com_016" descr=""/>
          <p:cNvPicPr/>
          <p:nvPr/>
        </p:nvPicPr>
        <p:blipFill>
          <a:blip r:embed="rId1"/>
          <a:stretch/>
        </p:blipFill>
        <p:spPr>
          <a:xfrm>
            <a:off x="7596360" y="18900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81160" y="49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5640" y="753120"/>
            <a:ext cx="7908840" cy="60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Arial"/>
                <a:cs typeface="Times New Roman"/>
              </a:rPr>
              <a:t>س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1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/ أكـــمـــلــي الفراغـــات الــتــاليــة بما يناسبها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ar-SA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: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1 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) 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cs typeface="Times New Roman"/>
              </a:rPr>
              <a:t>النظير المشع المستخدم في علاج الغدة الدرقية هو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2 ) 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cs typeface="Times New Roman"/>
              </a:rPr>
              <a:t>تستخدم النظائر المشعة فــي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000" spc="-1" strike="noStrike">
                <a:solidFill>
                  <a:srgbClr val="000099"/>
                </a:solidFill>
                <a:latin typeface="Arial"/>
              </a:rPr>
              <a:t>و</a:t>
            </a:r>
            <a:r>
              <a:rPr b="1" lang="ar-SA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99"/>
                </a:solidFill>
                <a:latin typeface="Arial"/>
              </a:rPr>
              <a:t>.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ar-SA" sz="2000" spc="-1" strike="noStrike">
                <a:solidFill>
                  <a:srgbClr val="000099"/>
                </a:solidFill>
                <a:latin typeface="Arial"/>
              </a:rPr>
              <a:t>و</a:t>
            </a:r>
            <a:r>
              <a:rPr b="1" lang="ar-SA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ar-SA" sz="2000" spc="-1" strike="noStrike">
                <a:solidFill>
                  <a:srgbClr val="000099"/>
                </a:solidFill>
                <a:latin typeface="Arial"/>
              </a:rPr>
              <a:t>.......................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3 ) 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cs typeface="Times New Roman"/>
              </a:rPr>
              <a:t>نظير الهيدروجين الذي لا يحتوي نيوترونات هو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...............................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4 ) 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cs typeface="Times New Roman"/>
              </a:rPr>
              <a:t>النظير المشع المستخدم في علاج سرطان الحنجرة والمخ هــــو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...................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Times New Roman"/>
              </a:rPr>
              <a:t>س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/ عــلــلــي مــا يــلــي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: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1 ) 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cs typeface="Times New Roman"/>
              </a:rPr>
              <a:t>تــتــشــابـــه نظائــر العــنــصــر الــواحــد في خواصــها الكيميائية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2 ) 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cs typeface="Times New Roman"/>
              </a:rPr>
              <a:t>تــُفــضــل النظائر المشعة على المبيدات الحشرية في القضاء على الحشرات الضارة بالنباتات 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Arial"/>
                <a:cs typeface="Times New Roman"/>
              </a:rPr>
              <a:t>س (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-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3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 ) من الكتاب المدرسي ص </a:t>
            </a:r>
            <a:r>
              <a:rPr b="1" lang="ar-SA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80"/>
                </a:solidFill>
                <a:latin typeface="Arial"/>
                <a:cs typeface="Times New Roman"/>
              </a:rPr>
              <a:t>قـــارنـــــي بــيــن كـــل مـــن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ar-SA" sz="2000" spc="-1" strike="noStrike">
                <a:solidFill>
                  <a:srgbClr val="000080"/>
                </a:solidFill>
                <a:latin typeface="Arial"/>
                <a:ea typeface="Times New Roman"/>
              </a:rPr>
              <a:t>: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80"/>
                </a:solidFill>
                <a:latin typeface="Arial"/>
                <a:cs typeface="Times New Roman"/>
              </a:rPr>
              <a:t>النظائر والمتكاتلات</a:t>
            </a:r>
            <a:r>
              <a:rPr b="1" lang="ar-SA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.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36291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258920" y="5229360"/>
          <a:ext cx="3730680" cy="1152000"/>
        </p:xfrm>
        <a:graphic>
          <a:graphicData uri="http://schemas.openxmlformats.org/drawingml/2006/table">
            <a:tbl>
              <a:tblPr/>
              <a:tblGrid>
                <a:gridCol w="1865160"/>
                <a:gridCol w="1865520"/>
              </a:tblGrid>
              <a:tr h="42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80"/>
                          </a:solidFill>
                          <a:latin typeface="Times New Roman"/>
                          <a:cs typeface="Times New Roman"/>
                        </a:rPr>
                        <a:t>المتكاتلات</a:t>
                      </a:r>
                      <a:r>
                        <a:rPr b="1" lang="ar-SA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62916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000080"/>
                          </a:solidFill>
                          <a:latin typeface="Times New Roman"/>
                          <a:cs typeface="Times New Roman"/>
                        </a:rPr>
                        <a:t>النظائر</a:t>
                      </a:r>
                      <a:r>
                        <a:rPr b="1" lang="ar-SA" sz="1400" spc="-1" strike="noStrike">
                          <a:solidFill>
                            <a:srgbClr val="00008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8" name=""/>
          <p:cNvSpPr/>
          <p:nvPr/>
        </p:nvSpPr>
        <p:spPr>
          <a:xfrm>
            <a:off x="-1181160" y="49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Com_016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181160" y="493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771640" y="476280"/>
            <a:ext cx="403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 Black"/>
              </a:rPr>
              <a:t>الواجب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11280" y="471600"/>
            <a:ext cx="7993080" cy="59101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835280" y="189000"/>
            <a:ext cx="115236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404640"/>
            <a:ext cx="2876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979640" y="765000"/>
            <a:ext cx="287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308720" y="260280"/>
            <a:ext cx="1152720" cy="100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429264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189000"/>
            <a:ext cx="115272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333360"/>
            <a:ext cx="28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003640" y="692280"/>
            <a:ext cx="287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96360" y="836640"/>
            <a:ext cx="2872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24720" y="404640"/>
            <a:ext cx="28728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76360" y="450864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روتيو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378936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ديوتيريو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20000" y="450864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تريتيو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55280" y="1599840"/>
            <a:ext cx="793116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 ذرات العنصر الواحد المتساوية في العدد الذري والمختلفة في عدد الكتل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50920" y="333360"/>
            <a:ext cx="6624720" cy="108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تعريف النظائر /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3284640"/>
            <a:ext cx="9144000" cy="3573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7308720" y="544500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بروتيوم</a:t>
            </a:r>
            <a:r>
              <a:rPr b="1" lang="ar-S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635280" y="357336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Arial"/>
              </a:rPr>
              <a:t>عدد الكتلة</a:t>
            </a:r>
            <a:r>
              <a:rPr b="1" lang="ar-SA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40360" y="508464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0099"/>
                </a:solidFill>
                <a:latin typeface="Arial"/>
              </a:rPr>
              <a:t>العدد الذر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4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4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4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معظم العناصر توجد على شكل خليط من النظائر بينما قليل منها ليس لها نظائر طبيعية مثل :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الألومينيوم والصوديوم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.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النظائر إما ان تكون مشعة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( غير مستقرة )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أو غير مشع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(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مستقرة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)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852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والنظير الذي يوجد بنسبة عالية يُطلق عليه اسم النظير الأكثر شيوعاً فمثلاً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99٫98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% من الهيدروجين الموجود في الطبيعة تتألف من البروتيوم والنسبة الباقية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0٫015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% تتألف من النظيرين الآخرين ، وتُسمى النسبة التي يتواجد بقدرها النظير في الطبيعة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بوفرة النظير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2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3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5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0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5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7928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هي ذرات العناصر المختلفة في أعدادها الذرية والمتساوية في عدد الكتلة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2124000" y="404640"/>
            <a:ext cx="6264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تعريف المتكاتلات /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39640" y="3218040"/>
            <a:ext cx="820908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716360" y="1628640"/>
            <a:ext cx="425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تطبيقات النظائر المشعة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:-</a:t>
            </a: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Arial"/>
              </a:rPr>
              <a:t>1- 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في مجال الطب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ar-SA" sz="28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74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Arial"/>
              </a:rPr>
              <a:t>يستخدم اليود المشع في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تشخيص أمراض الغدة الدرقية ، كما يستخدم السيزيوم المشع في علاج سرطان الثدي ، والكوبالت المشع في علاج سرطان الحنجرة والمخ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619280" y="476280"/>
            <a:ext cx="69134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الكيمياء في حياتنا /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410364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4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140000" y="404280"/>
            <a:ext cx="454644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3300"/>
                </a:solidFill>
                <a:latin typeface="Arial"/>
              </a:rPr>
              <a:t>2-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في مجال الزراعة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ff3300"/>
                </a:solidFill>
                <a:latin typeface="Arial"/>
              </a:rPr>
              <a:t>: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في تشعيع البذور ، والقضاء على الحشرات الضارة بالنبات</a:t>
            </a:r>
            <a:r>
              <a:rPr b="0" lang="ar-SA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حيث أن المبيدات قد تكون غير فعالة أو أنها تسبب في تسمم النباتات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ar-SA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wd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20:05:25Z</dcterms:created>
  <dc:creator>MM</dc:creator>
  <dc:description/>
  <dc:language>en-US</dc:language>
  <cp:lastModifiedBy>MM</cp:lastModifiedBy>
  <dcterms:modified xsi:type="dcterms:W3CDTF">2009-09-02T22:27:55Z</dcterms:modified>
  <cp:revision>17</cp:revision>
  <dc:subject/>
  <dc:title>Slide 1</dc:title>
</cp:coreProperties>
</file>