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  <p:sldId id="285" r:id="rId75"/>
    <p:sldId id="286" r:id="rId76"/>
    <p:sldId id="287" r:id="rId77"/>
    <p:sldId id="288" r:id="rId78"/>
    <p:sldId id="289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slide" Target="slides/slide30.xml"/><Relationship Id="rId76" Type="http://schemas.openxmlformats.org/officeDocument/2006/relationships/slide" Target="slides/slide31.xml"/><Relationship Id="rId77" Type="http://schemas.openxmlformats.org/officeDocument/2006/relationships/slide" Target="slides/slide32.xml"/><Relationship Id="rId78" Type="http://schemas.openxmlformats.org/officeDocument/2006/relationships/slide" Target="slides/slide33.xml"/><Relationship Id="rId79" Type="http://schemas.openxmlformats.org/officeDocument/2006/relationships/slide" Target="slides/slide3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23-0611-4483-829E-64201E6A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2AD-9637-4921-BE49-A690E6D9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CED8C-2D9F-4083-9A31-1B26988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3C7C6-469D-4997-B0B4-4E9CC26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D3577-2720-4532-A6CA-CE6AE3D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0D8DE3-3E26-48A3-A0EA-6BC5FD8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6B61D-5551-4F50-82C7-8A44096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B5ABC-677C-4D30-A4A1-3CB5181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11CD6-AAE9-4679-863F-3716C5C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CCAAE-A038-441E-A655-E4B97658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23DB0-A23E-4400-B3FE-1B66BE79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AABAD-0D25-49CD-B39E-303799C1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C7F-1D6A-4021-9E19-7AB939BE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CFEC1-2EBB-47DB-8446-C4BDDFE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290B6-50A7-4E4A-BDF1-409CECA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C73AC-77B3-4F40-A9E8-FB52DED3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69491-3DE5-43BD-8913-1B153B8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E87B3-A2D6-45A3-BF09-3A1866B4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15983-E521-4D8A-9A8E-2D7D376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9DA1F-F1C8-4EE6-97F3-07B7609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9E89-EAAC-4FE1-948C-2B3C4E71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1CB1F-903B-418F-8860-717C5DF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A9FE-4DF5-40C9-80AF-9985E1B1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8A8-D88E-4EDC-B408-BB0AF535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B0AAC-F07E-464D-9994-6D89655F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F4F87-E491-4BE4-8B52-A2F61C7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C8BF-DDC2-4A32-913F-3A91D2D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6AEE-C355-46ED-92B3-0836BDA0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17C5-D4FD-416C-8679-4E851F25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074B1-D62F-4EC6-9E72-714D4B32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C0EE-4E42-4842-A8B6-951CC0C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104CE-0A4D-4AAF-8BD4-42A4858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C51FB-108D-4CD7-A568-80A7294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7459-5646-412E-8295-A5ECF6E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1D4-141B-4761-AFFD-79B32C48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025BA-5893-4CB2-99F7-D3E1674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016A0-6F17-4AF4-90F4-6331A041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C2965-55F2-49AB-9D52-C7BC605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165C6D-F502-4D9F-B272-DF892889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3960AB-96BD-481A-B192-E745998D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A341DB-F60D-4982-AA14-1C2D23F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1DBC41-999D-491B-9EE5-EA7AEE3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0F2A5F-AC02-4047-9790-FEBEB89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2BC193-3E2E-49D5-80C4-19480CE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9D2364-8B31-4C88-9435-FB15B6D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3ED9-4AAE-41A4-A6F9-539668F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FF3FD4-FC08-4A37-994D-5E5114A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5301E1-1F81-46DE-B4D7-7AF05BB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737A0-6FA9-4BAB-890D-5A90355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D64693-2CC1-435A-B46B-C4A0C0A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855DB4-3679-42E1-A7BA-1F09A0BC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BB9D6-F18D-4C29-9687-6AB4157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7AC16-1B6D-450C-95F9-C8BBFC2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D6407-FAB2-4DB5-968C-DBE8BFF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2E982-5438-4F56-96C4-32228740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BFE24-7776-457E-91B1-4FBD495B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AC4B-DD92-40B3-9968-3CBCF363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B4C48-19B3-488A-9553-DC6F32D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67E86-6EF3-46D7-B242-AC1D6C6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E4428-0B3A-4050-9854-54A52EFE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8622D-32BD-41FC-BF79-023BA2B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7E8CC-664B-414A-9FAE-43BC090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0D46D-14E7-47AD-85C3-054647B3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8DFFB-AF82-4E2E-B983-59698B2B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5CB6E-463E-4082-A72F-6E885772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837B0-3CF8-4BA4-A5F8-A605B28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0B909-B42F-41DD-BBA1-830966C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68F-AA42-4170-8D2E-D59847A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31F86-550C-497E-9A4C-60C970F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B395E-F5BC-49A6-A76A-BB11127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E584A-BA5D-49C5-BDDF-446C96B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52F0D-8C7E-4DC8-B075-705B4A2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303F3-DA67-4744-AEFA-84F6513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0A42E-2463-4448-8A49-619E87FF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CCB57-7429-4994-9DAE-03AB564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40BE1-67BD-4A30-9E65-8D267335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B35AB-4792-4A76-B561-863F212C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041AE-BFCB-46D7-845B-6DDA9A9A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1B2-C25A-4781-891C-AB121AE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2CAD7-B13C-4732-8DD1-E04786D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A508B-6136-4D58-B29F-12DB32EA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63252-65FA-494C-B805-D754BB3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D40FE-0854-49D3-AFDF-9C01972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68EFC-8D83-473C-A4C2-9129754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91619-F3C9-4D0D-B6A0-F40EF61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89CF8-A09D-41FA-9782-60CA8465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EBD51-A0E5-4414-8BA1-4DAC6FA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BFF6F-6A6F-4D92-810C-95E2F1E8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B4DE8-C0CE-4C13-A834-0C78BAB6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69D-7452-4B72-90B2-7C946C3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82ADB-5AC3-4CBA-B006-E37CB6A0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8DA48-18AD-4F79-964C-6CC0BB64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22993-8FFD-40E6-9DFD-552F867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76579-E673-42BA-AE95-9A1D4D7E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C75FC-A0E3-447F-9E42-651F8DA9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3C64A-AD01-482E-8EAE-024B1DCD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37E90-FC87-463F-8DD7-6B90FE5A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52C32-44B3-452F-BB1F-2BB7E6F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745CC-0793-45DF-A7BB-4A0C78CD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110A3-18F7-4FE2-AB71-274BF643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FDC2-4609-4E25-AB78-2F7D749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4C87C-B2D1-4F4D-9784-0AFCB99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92697-6E1E-4F60-9B91-7CEE6DB0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3D825-9528-4854-8565-B9621FAF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C4198-E328-44A3-B58C-96BAB5F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BA537-AF97-4998-8988-7056BCB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FE51F-92BF-4176-A250-D9F6D725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28C0A-8519-4356-9ECD-4A254CB8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EB190-FBBC-46BC-9749-4D3BDF2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7B7F6-5397-41C1-A184-093B83D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1A10A-8430-4D39-BB2F-888DD70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A09-AD86-4D90-8F8F-E3E02C7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BFD-D98C-4547-96BF-085CC55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BD810-3C3C-4875-ACEB-1CE91FA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13C5A-685D-47D9-94F2-C7ECFB5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1B3BC-5FBE-4F6A-9189-997C5F5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AA703-BB5B-440E-8150-489612DB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021CCA-B195-4263-9543-4DC27B9B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CF6C5-5A71-4A98-977A-DDB98D6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1AD7C-70AC-425C-A995-1C34EB3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56E71-570B-446B-A88F-C231965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91A6B-3080-407A-8224-05A727F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823B7-9515-4BA0-AC2E-500902B8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55B7-CF68-48C5-A46F-3899F08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187EA-9086-4C03-81A8-91700DA6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23933-1355-498C-A56B-9DE92A6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D91FE-EADA-43BE-935F-C94E4A3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82EA2-FE87-4F57-BABB-511AA1F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D720F-BE82-40DA-98AA-6C690D4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D0772-9B17-4EFE-8DD7-75C2427D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DEF19-4E0F-4B99-99E3-68D67333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AAE49-960C-4DBD-ABE1-376A690F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409DB-724C-45F3-B677-DE97BB2B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BE9AD-EFBC-49F0-9E70-F2B2E53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45FA-5D6F-46BE-88E4-D21F388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18F69-178C-4313-B793-3FD22D1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07A66-798E-403F-8E41-B14B6D60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1C4AA-ABA0-4348-95D1-A4BD5D77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BE22D-5B56-4091-90B2-9096751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E2A4D-DEC8-4A80-8AC6-6C05B5A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88529-9805-4F9E-8D76-4D02DD6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E7F8C-8329-4D7D-AEB1-24C0D496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C3ABF-14E4-414F-9ECF-CB6CEC7D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7ABD1-EB6E-4653-84C3-02287210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1883A-2552-403C-971F-D6D9E04A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C60-7BB0-402A-B0D8-3ABC263F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A1D21-5B9D-4C0F-8783-B89BD77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FAE4A-9350-49F1-B13D-AE5BE1B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B7CC2-A6CA-4D20-AE35-AFF9E4C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5C37D-A62C-4C55-ADFE-BAD37B23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8A7F5-FDDA-4119-A508-F87F7C61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8E92A-6A9E-418A-8274-773835E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0B223-1990-4BDF-B518-6FAC866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50966-AA98-4BFF-BEED-EFCB3CE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52782-2DD5-40AD-966D-BFAD917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A6711-50D5-424A-9C9C-879E2D02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139-C2E8-4265-89C0-9A30866B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38424-DB42-48C8-B93F-0CDEEE69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89F34E-BB65-4D98-8618-FED6629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4B5EC-7366-4BE6-97FB-5B82CAAC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7DF9E-42B3-43A0-8C3E-9CC416A5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A46CC-5E04-46A9-B002-DFE532F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4D405-A2C5-40B1-ACEB-7BBFC34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C9CD4-291D-4B43-8DDC-E5EF05E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D7F3D-E78B-451C-AE86-7D4F8A2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5048F-BFC4-410D-915E-28EFC2CC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1F925-1E4E-48FE-BF43-CEB9717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EF98-3292-4CC0-AB0C-124BC748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52C51-BC74-4840-BE8C-8122BF5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B672E-F699-410F-8515-9FAF2E0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8D0950-F7DE-4E04-9A44-C7D3A492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CE79A6-2A24-404E-8930-8DCC3AB8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F29F03-C926-4B17-8A3C-105697B7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1E939-FD4B-4DED-BA94-0008AE3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5CFBC-883F-4165-BD5E-31C7EBA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39EFBF-66EE-4FF8-833D-BF34E8D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758FF-4841-4EB2-B3B5-8F756A06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2EA97-899B-40FE-A4FD-A21EEDE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FF02-CCC0-4870-9EB5-D3A9496C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95ED3-1296-44A1-81C1-69510E4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A7E42-0BE1-44BD-AB7B-A4CFAEC1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40990-0898-4CDC-9994-28177EB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64726-9988-4210-AB73-D6689A2C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450E0-2FA2-4B4E-BE1E-EE83D474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97198-E880-4975-9568-82E27FBE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12CEE-787F-4C04-BE9F-61358028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813C57-AC18-4765-A1AB-05A815D9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89718A-8E08-4D53-AF08-AE472C8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BA41A-1FD0-48E0-B534-3576C35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4DA6-4440-4A2B-9EF1-277EC26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8B9A94-48F2-4690-8AD5-92447822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9C6F5-D124-48CD-9678-D578DD6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9F4E4-F59B-462F-9B9F-1124AB7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FDAB23-7940-43DE-9D20-9624102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B70AF-66EE-436C-B3DE-B47818D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0C4FD-2FCB-4812-8D06-D1218434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89C215-5904-40F9-83FC-F06B92EC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F5C24-1E4D-4B7B-BFC2-634DF69C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4C1B9D-BE99-4458-93CC-A9B743B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482802-2239-4DCE-AE5D-38A7217E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07A1-1678-42A2-A455-C4F68DC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47BC2-30D0-4B27-8AF9-F2F2C76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12E30-40A4-4307-A712-5F17D82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C0A5B-77B3-465B-B1B1-C1F9ED0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97005-3C0C-44AE-A9A4-9CC9614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BE3CD-26C5-4019-944F-621394D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1E40FC-EDED-49AF-A8BE-26AE5D8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FF7216-22BB-480C-B7C8-22B86235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7EBBF8-BF7F-442C-9BF9-3EF464EE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FFF2B1-C832-4AE9-9D28-FB67AF3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825A85-7EFD-4F09-A058-E85EA887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CD11-2E86-4167-A036-A25CEE8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AA2F5E-7F01-4FB0-AB16-1A8627AE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CF74CC-6757-46D5-8A6B-C1F24EC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AE92D0-C59C-431B-B83C-611363D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65718F-CE45-4442-BE92-48A5160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3279F7-897F-432B-A02E-923A0167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FEB7A0-AD07-480F-A2FE-94CE256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DD718C-17AC-422B-A340-CC50138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D4A3E6-3827-4080-8C70-6F0FB49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EB7F08-7AA2-4496-BBD9-A14E7EA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83E30-B71C-42BB-A4A5-CFDADED1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650-4964-4177-BAD7-EF147CAD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E915-B707-4201-A7AA-C05A1AAC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1E672-3D55-4DA6-8D52-FFD84724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E91922-A918-4652-AEB4-ECC48094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EF36B-1A36-4DB5-9B66-1BDA64D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292429-4EF5-49F9-BF14-6FEDB93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06C807-C4AF-449D-8FA6-754C4E5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63975B-E385-4BAE-9E67-4DBE2F4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DDD499-010B-4C3C-9F29-41F4435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DD7792-6399-4CF9-A39C-3FC4848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D52B93-679B-46DF-8CB2-08C6BC3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A3B9AC-54B0-4AB7-B2B0-96E65AB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A879-A7EA-4F6F-A826-4E92A7C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1C9632-120A-490C-89CC-520037FC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5B7E9-F365-4F91-B66B-18C2750F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A7060-455E-42AE-B4DC-A4712EA3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47302-F6D3-435C-8A96-13AF7FC1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CBF83-F993-4CE4-80E8-AFFB6E3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595AA0-4602-4CAA-B8F6-6418A24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522F73-AF74-4840-96ED-47110CC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C84EB4-0E9D-4171-9942-AC53798C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ED6940-9C61-4761-BF20-E9CA669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7624AF-A42E-497C-AC85-7772104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EE8A-6F57-498F-A85F-ECBC557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59EF79-4660-4B21-96D7-3A67330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F1FA69-AB95-4F7A-BA87-8FD871F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ABC4EE-2FD8-46BA-A407-33AB1B55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3F7773-48B0-4D4F-A613-4B0C4CD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8C3287-56DE-4FF3-9186-330F6DF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B2EBC-95EF-49B2-B8B8-54DF9566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C6AF43-FB56-4095-8B6B-5B14B884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AFE73-6141-4B47-873E-17AFCE35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86B4CE-170A-41A6-90A3-C3CBF348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05E36-A6AE-408B-8AEC-6240418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3917-53E8-425E-A5FC-6E2FEEB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C6C7E1-DAF6-46D3-AF76-EF83CD94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D6D8EE-7BF1-45C8-AF00-C8F99F6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18FF2A-03B6-41E2-B042-057D219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167322-DB1B-49D6-A245-36DECBF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E1EA03-FC23-40A7-A259-4B86342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9D421C-7D0D-43D1-B3D1-91ECA137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4369F9-0021-4FFE-B1CA-BD3AC717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A64AF7-E793-4F52-8A3E-B065F06C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A4667D-1B9B-4FFC-9176-1F80BD9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7EC4DB-818F-427E-9147-A129C6B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7DAA-C238-4552-BF80-5FCA850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2BBA63-77AF-4DDF-8D74-0F49355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2244E2-03A6-4D51-9EB6-BF699669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AD54C-1B21-49D7-806C-DCE23E5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EFBEA7-D0EA-4D89-9C2B-4C77B01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28A08E-4991-400B-B2E3-C39BE474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184D5A-B97F-498F-B3B8-D45BC4B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8BF146-6C8F-4424-8DEE-42FD55C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875D43-51B9-4BCB-A523-54149C5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39D4B8-5F09-41C3-8401-1729DAC4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776634-AF8B-468A-A2CA-A51F1117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E78E-3B22-4EF8-9421-BA1C766E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52DF12-A6E1-4093-9B23-CFEFE934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F2CB2E-3958-40E4-A4D9-D13BAAE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572D70-F112-44AA-9EB1-738D2AC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55740C-AC3D-4DB2-BA1B-81845AA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8B502B-8884-4C13-BAA6-0B3DA47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A742FA-37DC-4F2A-B104-8B6A6EB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135C22-7B22-4EC9-A011-B752C54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602D15-212D-4260-9CC2-FA25A92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F7360F-B573-4E0C-88C1-4316E7A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521F4D-C2BC-4084-BB1B-8EB78582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6541-5B39-45C6-BFE6-2D9B8D1E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FACE77-5BA7-499A-88E4-57F4D4CB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B62F4B-2265-4684-A8B9-0ABDFBA7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A0C3C0-9583-4395-84B1-E53A5E5D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E9082E-32B9-417A-B887-E5F3FAB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D8B287-B153-4782-9E18-BC2EBF8F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8A463B-6D64-433B-AD47-D1CA035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F3A43D-C514-45A6-B915-BBF2CA0D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254C63-7040-4075-9444-830ECE2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BEA009-FFCD-49C1-AE16-FA4D536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C7AD99-4C63-4B85-AAF1-0C1A237D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B1C9-2288-40D7-B135-02141544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61AF9E-0E5D-4027-BE3D-1CEA40B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031A53-71BA-4C20-A0F7-3A5F5BC7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3EF718-5111-447F-B790-8E596438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DB4A66-62E1-411F-928B-B092B0D7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C4C787-2136-4029-AA9C-46D1400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43951C-994D-4C48-A5A5-1A0B2F4A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BAFB49-C9C7-40A7-86AA-4F8FA0CB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199161-7F6C-4CDC-9A86-21EED7C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6AEA8F-783E-4CAD-9916-B9D16550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F1C890-42C5-4E69-AB8C-B9471D0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91DE-3C7D-4645-9CFB-155D232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8366D2-88DB-46BC-BDB9-6266625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E5A38D-4040-4F18-B21F-5120697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2737C9-5F57-4C1F-88F4-8FAA294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2757F3-C47F-493C-B458-6D3EB472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C6ABB0-C01C-40EE-B2AB-41E0FE50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21B23F-4167-4330-9ADA-43D9BE79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81DA74-C74C-48C7-9890-10292DA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4D6D1D-0D65-42CF-ABB6-6DBA12A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EFA20D-0C82-49F0-96ED-1F6A3C42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9A9539-037F-4C1D-9AE2-B115505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D32F-2B79-4423-97E2-003D714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03FC7D-CD81-48CA-9B8E-00DC723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282AD-9E6B-437C-A6E5-768F572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63E0C9-E746-4E60-A0B0-EB97A01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6465AE-0BFD-4ACB-B8E0-DA10FCD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9C0D46-E1CC-4691-8578-A625AB74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3A2D0A-ADF5-4018-BCA0-9D12CB3B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1A7E54-65F1-4D3A-B64F-9BB2E1DC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79368B-FF48-4F9D-9AF8-F865864B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187221-1908-4E6A-A5BA-A261F21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4A8E85-4108-49CD-AEEA-7368CF0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C77-1C36-43A2-96E2-58427260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68B2-E51E-4E4B-89ED-E0C29EC2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C2E1B8-5C01-403C-BB7D-9022DA6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1F7EFF-AA6C-4A5C-A819-EA9146D6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B75D6E-7C51-443C-BEBA-797A7CA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429144-F55E-4DC7-9A23-63C42A6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3C5BE4-8F05-48FF-828B-79213FE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F634AD-0529-4E63-882B-106D15C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89044F-6DEC-4E83-A3B8-AE404E5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FBAAC9-4592-47DC-A3A4-8ED8F3A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34FE08-703B-4E9D-A96C-3C3F53B1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D1B43A-1B9F-44F0-BA10-B06006E0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0F94-11AA-4C6F-8735-0F1E4F4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E01783-378F-405F-BE64-E0A90678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E2B8AA-3CA8-45EB-84B6-A8C0928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E7B1E8-AB2C-4B08-A416-79D8E1B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3FF3A3-D7F8-49B0-802B-CDF8BA2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687B1F-2334-44D8-84DA-E541895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AE4671-16BC-4B28-AAE5-2C2D8A0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B720A4-C2C6-41A5-B6C0-947F07C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A47DAD-8C88-4022-A4D7-0017698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DCCB42-E42D-4C7A-9133-B82E46F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70DF98-E3B0-41C4-A710-0740A27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0532-EDA5-47EB-AD25-C3D6B388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3E9D98-31A4-4DDC-A375-391B4A92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CA6ED7-839B-4B48-9A78-2579F796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D01700-1FA4-4D15-9861-7FC543E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6BEFB5-1E0B-42DA-A1CB-1708D8CA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D63B17-D639-48C2-A679-F9FDBCAF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0E3511-126C-4B7B-AE16-493CF0F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AB8F51-DC9B-435D-9728-DAB9591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28B519-AA99-4128-8188-1F9784E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D87B1E-5C50-4F7A-B2A0-B324AEC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DC2310-DF4F-4A27-9640-75F91E3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EBBE-9EA4-40BD-ACC7-962AA72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61A5D9-9FAB-42F8-80F6-2E86E386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D63A9E-59F8-4E06-BBFC-2147622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878F0F-EFA1-41EA-A72B-CF99D655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48694D-19DC-4154-B3A0-4468E829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5C7D7D-9FAE-4A78-9429-D2B5DBC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85452F-7618-400B-898E-1EBE2C3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A6ADFB-1E0C-4AE4-A275-5179DC2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EC8BB1-72FD-4F57-9F00-733B598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473B91-BAD2-474C-99E1-3E675F3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5984C6-CDC4-4C37-82F5-488EF7B4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5043-40F9-44E8-85F9-5E69988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DE936A-BE0A-4E17-800C-FF28039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2E5449-4CBE-47C2-925F-CBA3C550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AFEAB4-5DCC-4001-BF85-9CB4370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84493A-B7B7-40FA-A1F9-810B0F1A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C0848A-03B5-4AA1-A9AA-CAAD1F9F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3F57C7-6F3A-4EFC-99F0-9881D11B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A36155-042A-44B1-AAFB-312A7C9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95EEC9-FECE-44B8-8340-4126304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1E453D-167A-45ED-9792-4CE4E56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46BD25-7CC9-49D1-9E33-992A9355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6BFA-A2D8-4F4E-A5A7-E1824AF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1768F-B214-4C90-BC6D-1B55725D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FB60C7-124D-4960-B630-D140D7E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18B6D0-091E-488D-933F-680E23E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11A933-5D6A-4806-B3D7-092F8D0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D70299-3B44-4DF1-82DA-E1CA71BF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6EAC03-C7D5-4293-877D-A916DD6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809AD8-A0CF-4329-8167-FA82C7C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422A56-367B-4C29-A994-C1C64017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95E2F32-A13D-4136-A083-43AFEF61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4544A43-330A-4386-9EE8-CCD7A9AA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A32C-36B3-43CB-9B13-501D30E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CD1CFD9-5764-4A91-866E-95FE5BC8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8C700F-A9D3-4AD9-A964-912E8BC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CDDACEC-6D91-431E-9A64-6B8290C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6E48556-5FF1-4931-9228-018D65C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B086D14-39A8-4D8A-BE38-6A3B8F1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96986EC-7A31-4C9F-919E-A85436A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5EE3E1B-B3CF-42F0-9A9E-08ABCF29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D630CB2-C939-4B20-ABCB-7EC942D1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6110B1-D851-4AC2-89A4-4E09EC8C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5D6B36-0B1F-4456-8A2B-8CA891FF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7B30-7463-423B-8050-5615447B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358F1E-7961-4911-BFAD-516451B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818FC5-A32B-41EA-93E2-0533296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B3DB4F-C43D-4936-9319-F82D650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57229B-AD6E-4089-BB75-DF1E2F3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57CC9B-0AC5-48EB-9044-4EE6DC55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2D4D5D-DDE6-4EE7-B1A5-C5356DF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ED60F4-ADE7-43BB-BCC1-D734351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C839EA-6241-484C-8994-4928475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6263EB-C04A-43E9-9E6B-4A9F6AE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6D6107-07F1-4F8F-8BFC-ADAE701C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3343-A086-4A60-A2C3-2363D938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07472A-7720-4A97-BB7C-69CB75A9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CF1A1B-C8DB-4FCF-A134-34DC7337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F7CEF6-352A-48D4-B39F-54BC7E0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A093C6-CFC7-4FEA-B9B4-4CB58ED5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A06CC2-F76A-40A7-A334-E4339AE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B64401-0FB4-486D-B378-B7D76615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6CFB84-927E-4142-A016-AFADDB4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427D0E-C0C0-40EB-9225-14858A0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721505-C69C-4B1C-B2C8-6F5B12E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35F499-312E-4297-9406-5769E64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465F4-F450-42FC-B8E1-DED60FC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73227E-1953-48FF-99BE-D336A14B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02FB76-9AA7-4579-8A6E-BB7189BA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C9E7EF-B039-404F-9DA9-0213952C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9BC1FD-7F93-473B-B848-77B85A0F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AE449A-F866-49DA-9EEF-DD48208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6E62C9-B982-47CD-AE7B-87D01D9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C3DE7D-04E0-4C35-A9B0-D7DF925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7A2178-0957-42F8-8B61-B20ED32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544D08-3BF1-40BE-937F-314BE82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DC39BD-474D-4E4A-8F3A-295E82E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398-8C8E-41F2-93E3-8417008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42303-4393-4EEC-B19A-8E77E9F8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5AA5C7-CCE6-4313-A81F-3F2E64D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2F5240-505A-4D52-9B88-17E82A6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441F38-ADE2-4530-B933-AA9640D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CB6538-EC14-4A11-A134-7C207417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FE0BB2-8281-4B7C-ACB9-3C2A2B16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1F50DB-F87B-4EFA-AA87-9C5AA8D1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7F9B4F-1F54-4589-BAD4-A2899435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33B080-FA1C-4678-BEDD-997C9D8E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38CA3C-686D-402F-AE59-A23CD51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0780CA-037B-4BE9-9165-15BC6A9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A3221-8D98-44D1-86B9-16F4A63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641170-7B9B-4FBD-99C9-333B40D6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82667D-9655-41AA-8628-406035B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B98C6D-3267-40CA-9CC2-8090DD3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304401-4370-4BA4-8919-737818E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6E1309-8954-4B08-B279-4076A79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9C2597-E0D9-4ACE-B3D3-A57C6E4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B96ADA-5D8B-4324-8C0B-F2F722B3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5ECA07-3AE2-4B42-9C7B-791C8062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9C1CA4-D977-4CD2-8ACC-3B03791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88FDC0-E0C6-423A-9F18-A8B51FF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A9510-2CB8-478E-BB90-44650454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DBF041-4655-46CB-B224-F624CDEA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42BB0E-856B-40C2-9EF5-3F70F56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583892-1E98-43EC-9E97-BFEA2EAF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FBA03E-7747-4314-9C7E-AE0442B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4AE43C-49B6-4A55-9358-7C1BE59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52A739-07DE-4A2C-8D5D-67D6272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CA4D30-7760-42F7-9377-8FA7CA3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D45E18-1A24-4FD5-9789-FE41E000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DEFCEC-94AA-4E92-B487-E96D1BB7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EF7A1-8108-4EFC-ABB7-F974E1E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3C8AC-A0D2-46AC-BC6E-6ADC34A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6BFAE-2C72-4726-88DD-45A66EF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D44D11-9B35-4C95-86EC-56DDCDE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76EAC8-627D-4C8F-8525-D5B8FCB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556DA-B1AC-4C32-B890-AE3A89B2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16352-6C8A-42BA-AFC5-F3702E81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248-E588-45E5-AFB0-6E2D16E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5CA66-F4B3-42BA-AF86-353915A5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EECF-973F-44BA-98B0-07B1BD5C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1F8B5-2DB5-4F8C-8694-1A030043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3577-EF9D-4300-859B-CE31E352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490F-786A-4AC8-89A3-76C2C1D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DB93-6A09-4465-A882-9EE2AF8D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3157-8907-4CC3-9F06-E034078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D58E-73CB-494E-BAC1-1D3EDC4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AD81D-90BB-43C2-9813-6A87E7B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0EA64-4F8C-4B79-A09D-B3DA965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BF2-66D1-4E77-BB22-8704051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789E-E6AD-406B-AD74-5B0CA3AA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5157-92C4-44E7-BB40-37A485A1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3B7D1-8F61-4402-B3D8-FD51D074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36C8-4A9B-4059-9AE4-92DD1E3F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B53B-52C2-464F-8D24-C8704A1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5A752-572E-48B4-B2B6-20EC6C37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D2EA-82BC-4C4C-89A4-94C2EE03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83A10-8056-4CD2-8386-A09FAE2A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1741-BA64-44B6-8D20-35EE2FE6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8D8A-3315-4673-B57B-6DB2FB7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370-D11A-4278-95B5-C3042B3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E8F7-AEA9-4DD2-BB02-B8ED1EC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2240-7B1E-4086-92D7-17BB6E1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C69CB-5E62-4A3F-8995-A98632C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F69C-F0D2-4EE9-93B5-5F145520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21DD2-3055-410E-AF52-2C8564E8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4A727-AC1F-41D8-B11A-2CF73FC9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9C12-32A9-4750-830B-3DBF9ACD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3F4E-0057-40DE-912B-361F376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E8408-7D6A-4A45-84D6-3EF1A80E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AF0F-B0F1-4385-BCC1-C611C7C1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A85-8D4C-4DF8-939B-1F8F8E9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5FAB-3203-4467-88C9-0DF229C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8848-DB22-48CA-9C70-DB685E0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6AB8-F0BA-4945-B40C-46F5FF3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DD22-4309-4D8C-B892-DC5ECA6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9A87-E77A-4E4A-B4A1-283E741B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9566-0B24-414F-A99E-4E8769F8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CA8A-7B68-4001-A352-C9A5061E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280C4-4335-49D6-BB23-40AEF83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E1B722-D9EF-4731-B8B4-C3AC569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45600-A28D-47DA-A514-38FD3EFA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05.xml"/><Relationship Id="rId8" Type="http://schemas.openxmlformats.org/officeDocument/2006/relationships/slideLayout" Target="../slideLayouts/slideLayout506.xml"/><Relationship Id="rId9" Type="http://schemas.openxmlformats.org/officeDocument/2006/relationships/slideLayout" Target="../slideLayouts/slideLayout507.xml"/><Relationship Id="rId10" Type="http://schemas.openxmlformats.org/officeDocument/2006/relationships/slideLayout" Target="../slideLayouts/slideLayout508.xml"/><Relationship Id="rId11" Type="http://schemas.openxmlformats.org/officeDocument/2006/relationships/slideLayout" Target="../slideLayouts/slideLayout509.xml"/><Relationship Id="rId12" Type="http://schemas.openxmlformats.org/officeDocument/2006/relationships/slideLayout" Target="../slideLayouts/slideLayout510.xml"/><Relationship Id="rId13" Type="http://schemas.openxmlformats.org/officeDocument/2006/relationships/slideLayout" Target="../slideLayouts/slideLayout511.xml"/><Relationship Id="rId14" Type="http://schemas.openxmlformats.org/officeDocument/2006/relationships/slideLayout" Target="../slideLayouts/slideLayout512.xml"/><Relationship Id="rId15" Type="http://schemas.openxmlformats.org/officeDocument/2006/relationships/slideLayout" Target="../slideLayouts/slideLayout513.xml"/><Relationship Id="rId16" Type="http://schemas.openxmlformats.org/officeDocument/2006/relationships/slideLayout" Target="../slideLayouts/slideLayout514.xml"/><Relationship Id="rId17" Type="http://schemas.openxmlformats.org/officeDocument/2006/relationships/slideLayout" Target="../slideLayouts/slideLayout515.xml"/><Relationship Id="rId18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ABE-5C89-4388-B267-C243A8AE01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BA5-5A81-40CA-8F50-62AE1A03C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25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7A08-92EF-4144-AAC5-64BF50B47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49F-FCC8-4262-A24B-91F363D8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503A-B7EF-4D53-94A6-A00190935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533-1106-4A96-A376-014845E4C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46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7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8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9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154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54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5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BAB-844F-49CF-AD4E-987E5FCE936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64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64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64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65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65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65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65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66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66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66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67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67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67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67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68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69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69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70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70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71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72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72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72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72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73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73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74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74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74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4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75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76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4F63-C55D-4613-8317-EA21BB7EDCF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1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5B85-5541-4084-9756-3699C9097F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5" name="PlaceHolder 1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5EE2-DACD-4004-AA78-B87FE2F4FB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6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dt" idx="5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 type="ftr" idx="5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27B2-A92F-4E4A-8E37-50E6BCBADD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1D7-1ABB-4BF5-ABCB-819CAA2B2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01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dt" idx="5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ftr" idx="5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sldNum" idx="6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001-EC61-4431-A7D3-A806768E2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5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0F3-8C01-4E7E-AC69-1CE98434B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0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766-61DA-4872-9A4C-2C0EEBB901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FD9-76B6-474B-84C5-3886325D5B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98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6631-37DF-4469-B5FF-60253A38A6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A21-8EEC-4142-908D-998EA4BB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682-F98E-41BB-A47C-1EF0FA62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E00-D65E-4960-9C25-53DCD4E1DA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41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AB0-7078-4093-962D-FE1409F009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 algn="r" rtl="1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 algn="r" rtl="1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 type="dt" idx="85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 type="ftr" idx="8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 type="sldNum" idx="8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7149-A5E7-4FE6-B191-18CE2D21A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68F-AF65-4291-8967-066D9CF767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D27F-F061-4196-972C-290BC2380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51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2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56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3DC-9E1C-46C0-9AD6-434DB1644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60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dt" idx="9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 type="ftr" idx="9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7A0-1CFC-4E02-B1CC-9BC21A507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 type="dt" idx="9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 type="ftr" idx="9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 type="sldNum" idx="9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989-A4D5-438C-B6AD-6834BE798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342-6F25-40C8-9865-5BFE2D44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 algn="r" rtl="1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 algn="r" rtl="1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 type="sldNum" idx="10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0EBE-E641-42A9-A3D1-CB4753F21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274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F40B-ABBD-4571-A1CC-7E503A22E5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9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EB7-D0E4-4297-955B-52CE4AC0729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4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3D8-4F66-4E67-B48F-9F3DD915111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91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 type="sldNum" idx="1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065-6EFD-4D70-91BF-89B4550D5E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 type="dt" idx="1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7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7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CE2B-C277-464B-8A4F-890A8CD1FB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FEF-F444-4A1F-9C0E-D02FB9A5E0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dt" idx="12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 type="ftr" idx="12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 type="sldNum" idx="12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422-C0D0-45FE-BCD0-4F445FE1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3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114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dt" idx="12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ftr" idx="12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sldNum" idx="12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489C-65AF-46DA-BB3D-0D0BEE2E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9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0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0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106F-F366-4416-99EE-4839E5DE28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7"/>
    <p:sldLayoutId id="2147484196" r:id="rId8"/>
    <p:sldLayoutId id="2147484197" r:id="rId9"/>
    <p:sldLayoutId id="2147484198" r:id="rId10"/>
    <p:sldLayoutId id="2147484199" r:id="rId11"/>
    <p:sldLayoutId id="2147484200" r:id="rId12"/>
    <p:sldLayoutId id="2147484201" r:id="rId13"/>
    <p:sldLayoutId id="2147484202" r:id="rId14"/>
    <p:sldLayoutId id="2147484203" r:id="rId15"/>
    <p:sldLayoutId id="2147484204" r:id="rId16"/>
    <p:sldLayoutId id="2147484205" r:id="rId17"/>
    <p:sldLayoutId id="2147484206" r:id="rId18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5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76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88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89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CADA-69C7-41E4-862D-EAD210E689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4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93E-2E3C-4C37-8246-C4E5D573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BBB1-04D5-45F8-814B-1A877681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6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7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7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5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5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97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97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97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4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1C83-0A9A-41E5-88E8-4A9185E9ED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2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7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2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2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13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14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7B1-8CDC-4597-92E9-C0D5B84CC6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CD44-F743-4543-B70A-8B50D710D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9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0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4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0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"/>
          <p:cNvSpPr txBox="1"/>
          <p:nvPr/>
        </p:nvSpPr>
        <p:spPr>
          <a:xfrm>
            <a:off x="1116000" y="907920"/>
            <a:ext cx="5759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فصل السادس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55" name=""/>
          <p:cNvSpPr txBox="1"/>
          <p:nvPr/>
        </p:nvSpPr>
        <p:spPr>
          <a:xfrm>
            <a:off x="179280" y="3068640"/>
            <a:ext cx="7380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المركبات والتفاعلات والمعادلات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356" name=""/>
          <p:cNvSpPr txBox="1"/>
          <p:nvPr/>
        </p:nvSpPr>
        <p:spPr>
          <a:xfrm>
            <a:off x="2484360" y="4581360"/>
            <a:ext cx="346860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الكيميائية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"/>
          <p:cNvSpPr/>
          <p:nvPr/>
        </p:nvSpPr>
        <p:spPr>
          <a:xfrm>
            <a:off x="1476360" y="404640"/>
            <a:ext cx="7343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س</a:t>
            </a: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\ لديك المركب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KOH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 فأحسب نسبة كل من</a:t>
            </a: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لهيدروجين)       (الأكسجين)          (البوتاسيوم)</a:t>
            </a: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Arial"/>
              </a:rPr>
              <a:t>إذا علمت أن  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=1 ,  O=16 ,  K=3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8" name=""/>
          <p:cNvSpPr txBox="1"/>
          <p:nvPr/>
        </p:nvSpPr>
        <p:spPr>
          <a:xfrm>
            <a:off x="5364000" y="2852640"/>
            <a:ext cx="3521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كتلة المركب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H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=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9" name=""/>
          <p:cNvSpPr txBox="1"/>
          <p:nvPr/>
        </p:nvSpPr>
        <p:spPr>
          <a:xfrm>
            <a:off x="5435640" y="4221000"/>
            <a:ext cx="348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نسبة الهيدروجين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90" name=""/>
          <p:cNvSpPr txBox="1"/>
          <p:nvPr/>
        </p:nvSpPr>
        <p:spPr>
          <a:xfrm>
            <a:off x="7596360" y="2205000"/>
            <a:ext cx="114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جـ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2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: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0" y="2852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+16+39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56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و.ك.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3492360" y="4005360"/>
            <a:ext cx="1511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6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H="1">
            <a:off x="3563640" y="465300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0" y="4365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×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8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"/>
          <p:cNvSpPr txBox="1"/>
          <p:nvPr/>
        </p:nvSpPr>
        <p:spPr>
          <a:xfrm>
            <a:off x="5364000" y="2492280"/>
            <a:ext cx="355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نسبة الأكسجين =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6" name=""/>
          <p:cNvSpPr txBox="1"/>
          <p:nvPr/>
        </p:nvSpPr>
        <p:spPr>
          <a:xfrm>
            <a:off x="5292720" y="4724280"/>
            <a:ext cx="3630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نسبة البوتاسيوم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397" name=""/>
          <p:cNvSpPr txBox="1"/>
          <p:nvPr/>
        </p:nvSpPr>
        <p:spPr>
          <a:xfrm>
            <a:off x="5508720" y="404640"/>
            <a:ext cx="3003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ابع س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8" name=""/>
          <p:cNvSpPr/>
          <p:nvPr/>
        </p:nvSpPr>
        <p:spPr>
          <a:xfrm>
            <a:off x="3419640" y="2349360"/>
            <a:ext cx="187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3348000" y="29242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468360" y="26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×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8.6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348000" y="450864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3276720" y="5084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324000" y="4797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×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96.5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"/>
          <p:cNvSpPr txBox="1"/>
          <p:nvPr/>
        </p:nvSpPr>
        <p:spPr>
          <a:xfrm>
            <a:off x="6516720" y="5084640"/>
            <a:ext cx="239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نسبة الكتلية =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5" name=""/>
          <p:cNvSpPr txBox="1"/>
          <p:nvPr/>
        </p:nvSpPr>
        <p:spPr>
          <a:xfrm>
            <a:off x="3995640" y="4437000"/>
            <a:ext cx="178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تلة العنصر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6" name=""/>
          <p:cNvSpPr txBox="1"/>
          <p:nvPr/>
        </p:nvSpPr>
        <p:spPr>
          <a:xfrm>
            <a:off x="3924360" y="5661000"/>
            <a:ext cx="19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تلة المركب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7" name=""/>
          <p:cNvSpPr/>
          <p:nvPr/>
        </p:nvSpPr>
        <p:spPr>
          <a:xfrm flipH="1">
            <a:off x="3419280" y="5300640"/>
            <a:ext cx="2879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179280" y="494172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×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9" name=""/>
          <p:cNvSpPr txBox="1"/>
          <p:nvPr/>
        </p:nvSpPr>
        <p:spPr>
          <a:xfrm>
            <a:off x="3851280" y="2924280"/>
            <a:ext cx="500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س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3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\ ماهي النسبة الكتلية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3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"/>
          <p:cNvSpPr txBox="1"/>
          <p:nvPr/>
        </p:nvSpPr>
        <p:spPr>
          <a:xfrm>
            <a:off x="5003640" y="476280"/>
            <a:ext cx="3851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س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\ عرف التكافؤ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1" name=""/>
          <p:cNvSpPr/>
          <p:nvPr/>
        </p:nvSpPr>
        <p:spPr>
          <a:xfrm>
            <a:off x="0" y="17002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8a500"/>
                </a:solidFill>
                <a:latin typeface="Arial"/>
              </a:rPr>
              <a:t>عدد الإلكترونات التي تكتسبها الذرة أو تفقدها عند تفاعلها  الكيميائي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"/>
          <p:cNvSpPr txBox="1"/>
          <p:nvPr/>
        </p:nvSpPr>
        <p:spPr>
          <a:xfrm>
            <a:off x="1619280" y="1052640"/>
            <a:ext cx="81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3" name=""/>
          <p:cNvSpPr txBox="1"/>
          <p:nvPr/>
        </p:nvSpPr>
        <p:spPr>
          <a:xfrm>
            <a:off x="6877080" y="1052640"/>
            <a:ext cx="63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4" name=""/>
          <p:cNvSpPr txBox="1"/>
          <p:nvPr/>
        </p:nvSpPr>
        <p:spPr>
          <a:xfrm>
            <a:off x="752472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5" name=""/>
          <p:cNvSpPr txBox="1"/>
          <p:nvPr/>
        </p:nvSpPr>
        <p:spPr>
          <a:xfrm>
            <a:off x="2268360" y="177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8" name=""/>
          <p:cNvSpPr txBox="1"/>
          <p:nvPr/>
        </p:nvSpPr>
        <p:spPr>
          <a:xfrm>
            <a:off x="2268360" y="501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9" name=""/>
          <p:cNvSpPr txBox="1"/>
          <p:nvPr/>
        </p:nvSpPr>
        <p:spPr>
          <a:xfrm>
            <a:off x="7524720" y="501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0" name=""/>
          <p:cNvSpPr txBox="1"/>
          <p:nvPr/>
        </p:nvSpPr>
        <p:spPr>
          <a:xfrm>
            <a:off x="4356000" y="5589720"/>
            <a:ext cx="1257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n 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1" name=""/>
          <p:cNvSpPr txBox="1"/>
          <p:nvPr/>
        </p:nvSpPr>
        <p:spPr>
          <a:xfrm>
            <a:off x="5724360" y="6093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2" name=""/>
          <p:cNvSpPr txBox="1"/>
          <p:nvPr/>
        </p:nvSpPr>
        <p:spPr>
          <a:xfrm>
            <a:off x="3132000" y="189000"/>
            <a:ext cx="3084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كلوريد الخارصي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3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5" name=""/>
          <p:cNvSpPr txBox="1"/>
          <p:nvPr/>
        </p:nvSpPr>
        <p:spPr>
          <a:xfrm>
            <a:off x="2268360" y="177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6" name=""/>
          <p:cNvSpPr txBox="1"/>
          <p:nvPr/>
        </p:nvSpPr>
        <p:spPr>
          <a:xfrm>
            <a:off x="1547640" y="1052640"/>
            <a:ext cx="587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7" name=""/>
          <p:cNvSpPr txBox="1"/>
          <p:nvPr/>
        </p:nvSpPr>
        <p:spPr>
          <a:xfrm>
            <a:off x="7164360" y="112536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8" name=""/>
          <p:cNvSpPr txBox="1"/>
          <p:nvPr/>
        </p:nvSpPr>
        <p:spPr>
          <a:xfrm>
            <a:off x="7524720" y="170028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9" name=""/>
          <p:cNvSpPr txBox="1"/>
          <p:nvPr/>
        </p:nvSpPr>
        <p:spPr>
          <a:xfrm>
            <a:off x="7524720" y="5013360"/>
            <a:ext cx="2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0" name=""/>
          <p:cNvSpPr txBox="1"/>
          <p:nvPr/>
        </p:nvSpPr>
        <p:spPr>
          <a:xfrm>
            <a:off x="2340000" y="50133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1" name=""/>
          <p:cNvSpPr txBox="1"/>
          <p:nvPr/>
        </p:nvSpPr>
        <p:spPr>
          <a:xfrm>
            <a:off x="4572000" y="5445000"/>
            <a:ext cx="90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  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2" name=""/>
          <p:cNvSpPr txBox="1"/>
          <p:nvPr/>
        </p:nvSpPr>
        <p:spPr>
          <a:xfrm>
            <a:off x="5651640" y="6021360"/>
            <a:ext cx="28728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3" name=""/>
          <p:cNvSpPr txBox="1"/>
          <p:nvPr/>
        </p:nvSpPr>
        <p:spPr>
          <a:xfrm>
            <a:off x="5003640" y="602136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4" name=""/>
          <p:cNvSpPr txBox="1"/>
          <p:nvPr/>
        </p:nvSpPr>
        <p:spPr>
          <a:xfrm>
            <a:off x="3492360" y="189000"/>
            <a:ext cx="2184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كسيد الحديد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3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7" name=""/>
          <p:cNvSpPr txBox="1"/>
          <p:nvPr/>
        </p:nvSpPr>
        <p:spPr>
          <a:xfrm>
            <a:off x="1619280" y="1052640"/>
            <a:ext cx="466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8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9" name=""/>
          <p:cNvSpPr txBox="1"/>
          <p:nvPr/>
        </p:nvSpPr>
        <p:spPr>
          <a:xfrm>
            <a:off x="7524720" y="508464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0" name=""/>
          <p:cNvSpPr txBox="1"/>
          <p:nvPr/>
        </p:nvSpPr>
        <p:spPr>
          <a:xfrm>
            <a:off x="7596360" y="177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1" name=""/>
          <p:cNvSpPr txBox="1"/>
          <p:nvPr/>
        </p:nvSpPr>
        <p:spPr>
          <a:xfrm>
            <a:off x="2195640" y="501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2" name=""/>
          <p:cNvSpPr txBox="1"/>
          <p:nvPr/>
        </p:nvSpPr>
        <p:spPr>
          <a:xfrm>
            <a:off x="7164360" y="112536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4500720" y="5445000"/>
            <a:ext cx="996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   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5003640" y="6093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"/>
          <p:cNvSpPr txBox="1"/>
          <p:nvPr/>
        </p:nvSpPr>
        <p:spPr>
          <a:xfrm>
            <a:off x="3564000" y="1890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كسيد الصود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3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"/>
          <p:cNvSpPr txBox="1"/>
          <p:nvPr/>
        </p:nvSpPr>
        <p:spPr>
          <a:xfrm>
            <a:off x="3708360" y="189000"/>
            <a:ext cx="248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كلوريد الصود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47" name=""/>
          <p:cNvSpPr txBox="1"/>
          <p:nvPr/>
        </p:nvSpPr>
        <p:spPr>
          <a:xfrm>
            <a:off x="1403280" y="1125360"/>
            <a:ext cx="46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8" name=""/>
          <p:cNvSpPr txBox="1"/>
          <p:nvPr/>
        </p:nvSpPr>
        <p:spPr>
          <a:xfrm>
            <a:off x="6877080" y="1052640"/>
            <a:ext cx="63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9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1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2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3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4" name=""/>
          <p:cNvSpPr txBox="1"/>
          <p:nvPr/>
        </p:nvSpPr>
        <p:spPr>
          <a:xfrm>
            <a:off x="7667640" y="494172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5" name=""/>
          <p:cNvSpPr txBox="1"/>
          <p:nvPr/>
        </p:nvSpPr>
        <p:spPr>
          <a:xfrm>
            <a:off x="4500720" y="5373720"/>
            <a:ext cx="81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 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3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3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3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3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"/>
          <p:cNvSpPr txBox="1"/>
          <p:nvPr/>
        </p:nvSpPr>
        <p:spPr>
          <a:xfrm>
            <a:off x="3708360" y="189000"/>
            <a:ext cx="22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كلوريد الكاس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2195640" y="206064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9" name=""/>
          <p:cNvSpPr txBox="1"/>
          <p:nvPr/>
        </p:nvSpPr>
        <p:spPr>
          <a:xfrm>
            <a:off x="6372360" y="1125360"/>
            <a:ext cx="525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0" name=""/>
          <p:cNvSpPr txBox="1"/>
          <p:nvPr/>
        </p:nvSpPr>
        <p:spPr>
          <a:xfrm>
            <a:off x="7308720" y="1557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2411280" y="177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1908000" y="450864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3" name=""/>
          <p:cNvSpPr txBox="1"/>
          <p:nvPr/>
        </p:nvSpPr>
        <p:spPr>
          <a:xfrm>
            <a:off x="7524720" y="501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2268360" y="1125360"/>
            <a:ext cx="457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4500720" y="5373720"/>
            <a:ext cx="99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   C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5508720" y="587700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3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3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3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3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3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3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3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"/>
          <p:cNvSpPr txBox="1"/>
          <p:nvPr/>
        </p:nvSpPr>
        <p:spPr>
          <a:xfrm>
            <a:off x="1835280" y="1125360"/>
            <a:ext cx="35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8" name=""/>
          <p:cNvSpPr txBox="1"/>
          <p:nvPr/>
        </p:nvSpPr>
        <p:spPr>
          <a:xfrm>
            <a:off x="7093080" y="1057320"/>
            <a:ext cx="39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9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1" name=""/>
          <p:cNvSpPr txBox="1"/>
          <p:nvPr/>
        </p:nvSpPr>
        <p:spPr>
          <a:xfrm>
            <a:off x="2195640" y="17733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2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3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4" name=""/>
          <p:cNvSpPr txBox="1"/>
          <p:nvPr/>
        </p:nvSpPr>
        <p:spPr>
          <a:xfrm>
            <a:off x="7524720" y="501336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5" name=""/>
          <p:cNvSpPr txBox="1"/>
          <p:nvPr/>
        </p:nvSpPr>
        <p:spPr>
          <a:xfrm>
            <a:off x="4643280" y="5516640"/>
            <a:ext cx="82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  B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6" name=""/>
          <p:cNvSpPr txBox="1"/>
          <p:nvPr/>
        </p:nvSpPr>
        <p:spPr>
          <a:xfrm>
            <a:off x="5508720" y="602136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7" name=""/>
          <p:cNvSpPr txBox="1"/>
          <p:nvPr/>
        </p:nvSpPr>
        <p:spPr>
          <a:xfrm>
            <a:off x="3708360" y="1890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روميد الألمن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3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3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3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3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3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3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"/>
          <p:cNvSpPr txBox="1"/>
          <p:nvPr/>
        </p:nvSpPr>
        <p:spPr>
          <a:xfrm>
            <a:off x="3203640" y="476280"/>
            <a:ext cx="2838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مخاليط والمركبات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8" name=""/>
          <p:cNvSpPr txBox="1"/>
          <p:nvPr/>
        </p:nvSpPr>
        <p:spPr>
          <a:xfrm>
            <a:off x="900000" y="1557360"/>
            <a:ext cx="766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تم تقسيم المادة إلى الأقسام الرئيسية التالية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59" name=""/>
          <p:cNvSpPr txBox="1"/>
          <p:nvPr/>
        </p:nvSpPr>
        <p:spPr>
          <a:xfrm>
            <a:off x="6588000" y="2492280"/>
            <a:ext cx="203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- 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عنصر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0" name=""/>
          <p:cNvSpPr txBox="1"/>
          <p:nvPr/>
        </p:nvSpPr>
        <p:spPr>
          <a:xfrm>
            <a:off x="6659640" y="3500280"/>
            <a:ext cx="1984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رك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1" name=""/>
          <p:cNvSpPr txBox="1"/>
          <p:nvPr/>
        </p:nvSpPr>
        <p:spPr>
          <a:xfrm>
            <a:off x="6659640" y="4581360"/>
            <a:ext cx="201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3- 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خلي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0" name=""/>
          <p:cNvSpPr txBox="1"/>
          <p:nvPr/>
        </p:nvSpPr>
        <p:spPr>
          <a:xfrm>
            <a:off x="1835280" y="1125360"/>
            <a:ext cx="35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7164360" y="112536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2" name=""/>
          <p:cNvSpPr txBox="1"/>
          <p:nvPr/>
        </p:nvSpPr>
        <p:spPr>
          <a:xfrm>
            <a:off x="2195640" y="17733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3" name=""/>
          <p:cNvSpPr txBox="1"/>
          <p:nvPr/>
        </p:nvSpPr>
        <p:spPr>
          <a:xfrm>
            <a:off x="7524720" y="1773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4" name=""/>
          <p:cNvSpPr txBox="1"/>
          <p:nvPr/>
        </p:nvSpPr>
        <p:spPr>
          <a:xfrm>
            <a:off x="7596360" y="494172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5" name=""/>
          <p:cNvSpPr txBox="1"/>
          <p:nvPr/>
        </p:nvSpPr>
        <p:spPr>
          <a:xfrm>
            <a:off x="2124000" y="494172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6" name=""/>
          <p:cNvSpPr txBox="1"/>
          <p:nvPr/>
        </p:nvSpPr>
        <p:spPr>
          <a:xfrm>
            <a:off x="4643280" y="5373720"/>
            <a:ext cx="743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  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7" name=""/>
          <p:cNvSpPr txBox="1"/>
          <p:nvPr/>
        </p:nvSpPr>
        <p:spPr>
          <a:xfrm>
            <a:off x="5435640" y="59500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8" name=""/>
          <p:cNvSpPr txBox="1"/>
          <p:nvPr/>
        </p:nvSpPr>
        <p:spPr>
          <a:xfrm>
            <a:off x="5003640" y="595008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9" name=""/>
          <p:cNvSpPr txBox="1"/>
          <p:nvPr/>
        </p:nvSpPr>
        <p:spPr>
          <a:xfrm>
            <a:off x="3708360" y="189000"/>
            <a:ext cx="21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كسيد الألمن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3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3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3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3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3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3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"/>
          <p:cNvSpPr txBox="1"/>
          <p:nvPr/>
        </p:nvSpPr>
        <p:spPr>
          <a:xfrm>
            <a:off x="3564000" y="189000"/>
            <a:ext cx="21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يوديد البوتاس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1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3" name=""/>
          <p:cNvSpPr txBox="1"/>
          <p:nvPr/>
        </p:nvSpPr>
        <p:spPr>
          <a:xfrm>
            <a:off x="1908000" y="1197000"/>
            <a:ext cx="21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7380360" y="1125360"/>
            <a:ext cx="12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5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6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7" name=""/>
          <p:cNvSpPr txBox="1"/>
          <p:nvPr/>
        </p:nvSpPr>
        <p:spPr>
          <a:xfrm>
            <a:off x="7667640" y="494172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8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9" name=""/>
          <p:cNvSpPr txBox="1"/>
          <p:nvPr/>
        </p:nvSpPr>
        <p:spPr>
          <a:xfrm>
            <a:off x="4788000" y="5445000"/>
            <a:ext cx="34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  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3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2000" fill="hold"/>
                                        <p:tgtEl>
                                          <p:spTgt spid="3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3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3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000" fill="hold"/>
                                        <p:tgtEl>
                                          <p:spTgt spid="3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0" fill="hold"/>
                                        <p:tgtEl>
                                          <p:spTgt spid="3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2000" fill="hold"/>
                                        <p:tgtEl>
                                          <p:spTgt spid="3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2000" fill="hold"/>
                                        <p:tgtEl>
                                          <p:spTgt spid="3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3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3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3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"/>
          <p:cNvSpPr txBox="1"/>
          <p:nvPr/>
        </p:nvSpPr>
        <p:spPr>
          <a:xfrm>
            <a:off x="1763640" y="1125360"/>
            <a:ext cx="46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1" name=""/>
          <p:cNvSpPr txBox="1"/>
          <p:nvPr/>
        </p:nvSpPr>
        <p:spPr>
          <a:xfrm>
            <a:off x="7236000" y="1125360"/>
            <a:ext cx="21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4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5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6" name=""/>
          <p:cNvSpPr txBox="1"/>
          <p:nvPr/>
        </p:nvSpPr>
        <p:spPr>
          <a:xfrm>
            <a:off x="7667640" y="494172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7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8" name=""/>
          <p:cNvSpPr txBox="1"/>
          <p:nvPr/>
        </p:nvSpPr>
        <p:spPr>
          <a:xfrm>
            <a:off x="4643280" y="5445000"/>
            <a:ext cx="6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  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3708360" y="189000"/>
            <a:ext cx="215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كبريتيد النحا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3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2000" fill="hold"/>
                                        <p:tgtEl>
                                          <p:spTgt spid="3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3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2000" fill="hold"/>
                                        <p:tgtEl>
                                          <p:spTgt spid="3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2000" fill="hold"/>
                                        <p:tgtEl>
                                          <p:spTgt spid="3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3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3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3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3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2" name=""/>
          <p:cNvSpPr txBox="1"/>
          <p:nvPr/>
        </p:nvSpPr>
        <p:spPr>
          <a:xfrm>
            <a:off x="7164360" y="112536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3" name=""/>
          <p:cNvSpPr txBox="1"/>
          <p:nvPr/>
        </p:nvSpPr>
        <p:spPr>
          <a:xfrm>
            <a:off x="1692360" y="1197000"/>
            <a:ext cx="457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4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5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6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7" name=""/>
          <p:cNvSpPr txBox="1"/>
          <p:nvPr/>
        </p:nvSpPr>
        <p:spPr>
          <a:xfrm>
            <a:off x="7667640" y="494172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8" name=""/>
          <p:cNvSpPr txBox="1"/>
          <p:nvPr/>
        </p:nvSpPr>
        <p:spPr>
          <a:xfrm>
            <a:off x="4572000" y="5516640"/>
            <a:ext cx="771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  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9" name=""/>
          <p:cNvSpPr txBox="1"/>
          <p:nvPr/>
        </p:nvSpPr>
        <p:spPr>
          <a:xfrm>
            <a:off x="3780000" y="260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كسيد الكالسيو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0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0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3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3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2000" fill="hold"/>
                                        <p:tgtEl>
                                          <p:spTgt spid="3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3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3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3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3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1000" fill="hold"/>
                                        <p:tgtEl>
                                          <p:spTgt spid="3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"/>
          <p:cNvSpPr txBox="1"/>
          <p:nvPr/>
        </p:nvSpPr>
        <p:spPr>
          <a:xfrm>
            <a:off x="1619280" y="112536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1" name=""/>
          <p:cNvSpPr txBox="1"/>
          <p:nvPr/>
        </p:nvSpPr>
        <p:spPr>
          <a:xfrm>
            <a:off x="7020000" y="1125360"/>
            <a:ext cx="399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2" name=""/>
          <p:cNvSpPr/>
          <p:nvPr/>
        </p:nvSpPr>
        <p:spPr>
          <a:xfrm flipH="1">
            <a:off x="2556000" y="2349360"/>
            <a:ext cx="4897440" cy="259236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2556000" y="2421000"/>
            <a:ext cx="4967280" cy="2520720"/>
          </a:xfrm>
          <a:prstGeom prst="line">
            <a:avLst/>
          </a:prstGeom>
          <a:ln w="5724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4" name=""/>
          <p:cNvSpPr txBox="1"/>
          <p:nvPr/>
        </p:nvSpPr>
        <p:spPr>
          <a:xfrm>
            <a:off x="7596360" y="177336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5" name=""/>
          <p:cNvSpPr txBox="1"/>
          <p:nvPr/>
        </p:nvSpPr>
        <p:spPr>
          <a:xfrm>
            <a:off x="2268360" y="177336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6" name=""/>
          <p:cNvSpPr txBox="1"/>
          <p:nvPr/>
        </p:nvSpPr>
        <p:spPr>
          <a:xfrm>
            <a:off x="7667640" y="494172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7" name=""/>
          <p:cNvSpPr txBox="1"/>
          <p:nvPr/>
        </p:nvSpPr>
        <p:spPr>
          <a:xfrm>
            <a:off x="2268360" y="4941720"/>
            <a:ext cx="1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8" name=""/>
          <p:cNvSpPr txBox="1"/>
          <p:nvPr/>
        </p:nvSpPr>
        <p:spPr>
          <a:xfrm>
            <a:off x="4500720" y="5516640"/>
            <a:ext cx="94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  B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9" name=""/>
          <p:cNvSpPr txBox="1"/>
          <p:nvPr/>
        </p:nvSpPr>
        <p:spPr>
          <a:xfrm>
            <a:off x="3851280" y="189000"/>
            <a:ext cx="19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روميد الفض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2000" fill="hold"/>
                                        <p:tgtEl>
                                          <p:spTgt spid="3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2000" fill="hold"/>
                                        <p:tgtEl>
                                          <p:spTgt spid="3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20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2000" fill="hold"/>
                                        <p:tgtEl>
                                          <p:spTgt spid="3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20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20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3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2000" fill="hold"/>
                                        <p:tgtEl>
                                          <p:spTgt spid="3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3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3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"/>
          <p:cNvSpPr txBox="1"/>
          <p:nvPr/>
        </p:nvSpPr>
        <p:spPr>
          <a:xfrm>
            <a:off x="2411280" y="54936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شقوق (( الجذور )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531" name=""/>
          <p:cNvGraphicFramePr/>
          <p:nvPr/>
        </p:nvGraphicFramePr>
        <p:xfrm>
          <a:off x="1187280" y="2060640"/>
          <a:ext cx="6775560" cy="3506760"/>
        </p:xfrm>
        <a:graphic>
          <a:graphicData uri="http://schemas.openxmlformats.org/drawingml/2006/table">
            <a:tbl>
              <a:tblPr/>
              <a:tblGrid>
                <a:gridCol w="2259360"/>
                <a:gridCol w="2257200"/>
                <a:gridCol w="225900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افؤه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ه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سم الجذور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   </a:t>
                      </a:r>
                      <a:r>
                        <a:rPr b="0" lang="ar-SA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+</a:t>
                      </a:r>
                      <a:r>
                        <a:rPr b="0" lang="ar-SA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   </a:t>
                      </a:r>
                      <a:r>
                        <a:rPr b="0" lang="ar-SA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مونيوم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H</a:t>
                      </a:r>
                      <a:r>
                        <a:rPr b="0" lang="ar-SA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هيدروكسيد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ترات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    -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ربونات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    -</a:t>
                      </a:r>
                      <a:r>
                        <a:rPr b="0" lang="en-US" sz="2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بريتات</a:t>
                      </a:r>
                      <a:endParaRPr b="0" lang="en-US" sz="27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532" name=""/>
          <p:cNvSpPr/>
          <p:nvPr/>
        </p:nvSpPr>
        <p:spPr>
          <a:xfrm>
            <a:off x="4716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478800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4716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4788000" y="465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"/>
          <p:cNvSpPr txBox="1"/>
          <p:nvPr/>
        </p:nvSpPr>
        <p:spPr>
          <a:xfrm>
            <a:off x="2843280" y="404640"/>
            <a:ext cx="6067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صيغ بعض المركبات المحتوية على جذور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: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537" name=""/>
          <p:cNvSpPr/>
          <p:nvPr/>
        </p:nvSpPr>
        <p:spPr>
          <a:xfrm>
            <a:off x="5508720" y="1844640"/>
            <a:ext cx="309564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ربونات المغنسيو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MgCO</a:t>
            </a: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7451640" y="27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179280" y="1989000"/>
            <a:ext cx="3529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    نترات الصوديو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ded4d"/>
                </a:solidFill>
                <a:latin typeface="Arial"/>
              </a:rPr>
              <a:t>NaNO</a:t>
            </a:r>
            <a:r>
              <a:rPr b="0" lang="ar-SA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2195640" y="306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5580000" y="3789360"/>
            <a:ext cx="3311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بريتات الفض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Ag SO</a:t>
            </a:r>
            <a:r>
              <a:rPr b="0" lang="en-US" sz="1800" spc="-1" strike="noStrike">
                <a:solidFill>
                  <a:srgbClr val="2ded4d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69483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ed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7524720" y="47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ed4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539640" y="3860640"/>
            <a:ext cx="28083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  نترات الكالسيو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a (NO3)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2843280" y="4941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ed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348000" y="5637240"/>
            <a:ext cx="30243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هيدر أكسيد الصوديو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N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ded4d"/>
                </a:solidFill>
                <a:latin typeface="Arial"/>
              </a:rPr>
              <a:t>O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"/>
          <p:cNvSpPr txBox="1"/>
          <p:nvPr/>
        </p:nvSpPr>
        <p:spPr>
          <a:xfrm>
            <a:off x="3132000" y="260280"/>
            <a:ext cx="30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مراجع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548" name="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Arial"/>
              </a:rPr>
              <a:t>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\ اذكر فرق واحد فقط بين المركب والخلي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549" name=""/>
          <p:cNvGraphicFramePr/>
          <p:nvPr/>
        </p:nvGraphicFramePr>
        <p:xfrm>
          <a:off x="0" y="2133720"/>
          <a:ext cx="9144000" cy="289872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ded4d"/>
                          </a:solidFill>
                          <a:latin typeface="Times New Roman"/>
                        </a:rPr>
                        <a:t>                   الخليط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ded4d"/>
                          </a:solidFill>
                          <a:latin typeface="Times New Roman"/>
                        </a:rPr>
                        <a:t>                  المركب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4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توجد مكوناته بنسب وزنيه غير ثابتة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4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يمكن أن توجد مكوناته بنسب وزنيه ثابته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0" name=""/>
          <p:cNvSpPr txBox="1"/>
          <p:nvPr/>
        </p:nvSpPr>
        <p:spPr>
          <a:xfrm>
            <a:off x="684360" y="1413000"/>
            <a:ext cx="176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إجاب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3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3550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3550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3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"/>
          <p:cNvSpPr txBox="1"/>
          <p:nvPr/>
        </p:nvSpPr>
        <p:spPr>
          <a:xfrm>
            <a:off x="3419640" y="189000"/>
            <a:ext cx="2617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تابع مراجع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552" name=""/>
          <p:cNvSpPr/>
          <p:nvPr/>
        </p:nvSpPr>
        <p:spPr>
          <a:xfrm>
            <a:off x="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Arial"/>
              </a:rPr>
              <a:t>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\ اكتب صيغ المركبات التالية :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3" name=""/>
          <p:cNvSpPr txBox="1"/>
          <p:nvPr/>
        </p:nvSpPr>
        <p:spPr>
          <a:xfrm>
            <a:off x="5867280" y="3068640"/>
            <a:ext cx="30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كربونات الكالسيو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4" name=""/>
          <p:cNvSpPr txBox="1"/>
          <p:nvPr/>
        </p:nvSpPr>
        <p:spPr>
          <a:xfrm>
            <a:off x="1403280" y="314172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كلوريد البوتاسيو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5" name=""/>
          <p:cNvSpPr txBox="1"/>
          <p:nvPr/>
        </p:nvSpPr>
        <p:spPr>
          <a:xfrm>
            <a:off x="6443640" y="4221000"/>
            <a:ext cx="23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أكسيد الحدي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6" name=""/>
          <p:cNvSpPr txBox="1"/>
          <p:nvPr/>
        </p:nvSpPr>
        <p:spPr>
          <a:xfrm>
            <a:off x="1476360" y="4365720"/>
            <a:ext cx="2390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ترات الصوديو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7" name=""/>
          <p:cNvSpPr txBox="1"/>
          <p:nvPr/>
        </p:nvSpPr>
        <p:spPr>
          <a:xfrm>
            <a:off x="6012000" y="5516640"/>
            <a:ext cx="29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كبريتات الماغنسيو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8" name=""/>
          <p:cNvSpPr txBox="1"/>
          <p:nvPr/>
        </p:nvSpPr>
        <p:spPr>
          <a:xfrm>
            <a:off x="1403280" y="5445000"/>
            <a:ext cx="3219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يدر اكسيد الخارصي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9" name=""/>
          <p:cNvSpPr/>
          <p:nvPr/>
        </p:nvSpPr>
        <p:spPr>
          <a:xfrm>
            <a:off x="1692360" y="4076640"/>
            <a:ext cx="2736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aNO</a:t>
            </a:r>
            <a:r>
              <a:rPr b="0" lang="ar-SA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059280" y="5084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443640" y="3645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a 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667640" y="39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2268360" y="37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 C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4643280" y="4797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eO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7451640" y="5157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7236000" y="5157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580000" y="587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O )</a:t>
            </a: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7164360" y="6338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755640" y="609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Zn (OH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0" name=""/>
          <p:cNvSpPr txBox="1"/>
          <p:nvPr/>
        </p:nvSpPr>
        <p:spPr>
          <a:xfrm>
            <a:off x="2268360" y="1700280"/>
            <a:ext cx="16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إجاب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71" name=""/>
          <p:cNvSpPr/>
          <p:nvPr/>
        </p:nvSpPr>
        <p:spPr>
          <a:xfrm>
            <a:off x="3492360" y="6400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restart="whenNotActive" nodeType="interactiveSeq" fill="hold">
                <p:stCondLst>
                  <p:cond evt="onClick">
                    <p:tgtEl>
                      <p:spTgt spid="3570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3570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3" dur="2000"/>
                                        <p:tgtEl>
                                          <p:spTgt spid="3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20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9" dur="20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2000"/>
                                        <p:tgtEl>
                                          <p:spTgt spid="3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5" dur="20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20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1" dur="2000"/>
                                        <p:tgtEl>
                                          <p:spTgt spid="3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20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7" dur="2000"/>
                                        <p:tgtEl>
                                          <p:spTgt spid="3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20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3" dur="2000"/>
                                        <p:tgtEl>
                                          <p:spTgt spid="3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20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"/>
          <p:cNvSpPr/>
          <p:nvPr/>
        </p:nvSpPr>
        <p:spPr>
          <a:xfrm>
            <a:off x="3708360" y="6922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ff66"/>
                </a:solidFill>
                <a:latin typeface="Arial"/>
              </a:rPr>
              <a:t>س</a:t>
            </a:r>
            <a:r>
              <a:rPr b="0" lang="ar-SA" sz="3200" spc="-1" strike="noStrike">
                <a:solidFill>
                  <a:srgbClr val="ccff66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ccff66"/>
                </a:solidFill>
                <a:latin typeface="Arial"/>
              </a:rPr>
              <a:t>\ لديك المركب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gO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0" y="184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* احسب كتلة المركب :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0" y="33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* احسب نسبة الـ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g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 في المركب :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0" y="184464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MgOH </a:t>
            </a:r>
            <a:r>
              <a:rPr b="0" lang="ar-SA" sz="3200" spc="-1" strike="noStrike">
                <a:solidFill>
                  <a:srgbClr val="e337be"/>
                </a:solidFill>
                <a:latin typeface="Arial"/>
              </a:rPr>
              <a:t>= 1+16+25= 42</a:t>
            </a:r>
            <a:r>
              <a:rPr b="0" lang="ar-SA" sz="3200" spc="-1" strike="noStrike">
                <a:solidFill>
                  <a:srgbClr val="e337be"/>
                </a:solidFill>
                <a:latin typeface="Arial"/>
              </a:rPr>
              <a:t> و.ك.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1476360" y="3068640"/>
            <a:ext cx="212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flipH="1">
            <a:off x="2700000" y="3716280"/>
            <a:ext cx="1081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-541440" y="342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× </a:t>
            </a: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e337be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9" name=""/>
          <p:cNvSpPr txBox="1"/>
          <p:nvPr/>
        </p:nvSpPr>
        <p:spPr>
          <a:xfrm>
            <a:off x="2627280" y="692280"/>
            <a:ext cx="18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إجاب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80" name=""/>
          <p:cNvSpPr txBox="1"/>
          <p:nvPr/>
        </p:nvSpPr>
        <p:spPr>
          <a:xfrm>
            <a:off x="2843280" y="0"/>
            <a:ext cx="319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تابع مراجعة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3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3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9" restart="whenNotActive" nodeType="interactiveSeq" fill="hold">
                <p:stCondLst>
                  <p:cond evt="onClick">
                    <p:tgtEl>
                      <p:spTgt spid="3579"/>
                    </p:tgtEl>
                  </p:cond>
                </p:stCondLst>
                <p:childTnLst>
                  <p:par>
                    <p:cTn id="1160" fill="hold">
                      <p:stCondLst>
                        <p:cond evt="onClick">
                          <p:tgtEl>
                            <p:spTgt spid="3579"/>
                          </p:tgtEl>
                        </p:cond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2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3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2000" fill="hold"/>
                                        <p:tgtEl>
                                          <p:spTgt spid="3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20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20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"/>
          <p:cNvSpPr txBox="1"/>
          <p:nvPr/>
        </p:nvSpPr>
        <p:spPr>
          <a:xfrm>
            <a:off x="4211640" y="1125360"/>
            <a:ext cx="4686120" cy="7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</a:t>
            </a:r>
            <a:r>
              <a:rPr b="1" lang="en-US" sz="4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r>
              <a:rPr b="1" lang="en-US" sz="4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/ ما هو العنصر ؟</a:t>
            </a:r>
            <a:endParaRPr b="1" lang="en-US" sz="4400" spc="1" strike="noStrike">
              <a:ln w="0">
                <a:noFill/>
              </a:ln>
              <a:solidFill>
                <a:srgbClr val="ffcc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0" y="2060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6699"/>
                </a:solidFill>
                <a:latin typeface="Arial"/>
              </a:rPr>
              <a:t>جـ 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 / مادة غير قابلة للتفكك إلى مواد ابسط منها بالطرق الفيزيائية أو الكيميائية العادية 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"/>
          <p:cNvSpPr txBox="1"/>
          <p:nvPr/>
        </p:nvSpPr>
        <p:spPr>
          <a:xfrm>
            <a:off x="5940360" y="1844640"/>
            <a:ext cx="262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ومنيوم + كلو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3492000" y="2205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3" name=""/>
          <p:cNvSpPr txBox="1"/>
          <p:nvPr/>
        </p:nvSpPr>
        <p:spPr>
          <a:xfrm>
            <a:off x="826920" y="1916280"/>
            <a:ext cx="228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كلوريد الألومنيو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27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Al + 3C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248436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3492360" y="3068640"/>
            <a:ext cx="20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5651640" y="2781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l C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028000" y="31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9" name=""/>
          <p:cNvSpPr txBox="1"/>
          <p:nvPr/>
        </p:nvSpPr>
        <p:spPr>
          <a:xfrm>
            <a:off x="2987640" y="907920"/>
            <a:ext cx="3511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عادلات الكيميائ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3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2000" fill="hold"/>
                                        <p:tgtEl>
                                          <p:spTgt spid="3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2000" fill="hold"/>
                                        <p:tgtEl>
                                          <p:spTgt spid="3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2000" fill="hold"/>
                                        <p:tgtEl>
                                          <p:spTgt spid="3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3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3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3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200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200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"/>
          <p:cNvSpPr txBox="1"/>
          <p:nvPr/>
        </p:nvSpPr>
        <p:spPr>
          <a:xfrm>
            <a:off x="6012000" y="1844640"/>
            <a:ext cx="282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صوديوم + أكسجي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1" name=""/>
          <p:cNvSpPr/>
          <p:nvPr/>
        </p:nvSpPr>
        <p:spPr>
          <a:xfrm flipH="1">
            <a:off x="3492000" y="2205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2" name=""/>
          <p:cNvSpPr txBox="1"/>
          <p:nvPr/>
        </p:nvSpPr>
        <p:spPr>
          <a:xfrm>
            <a:off x="684360" y="1916280"/>
            <a:ext cx="25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أكسيد الصوديو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3" name=""/>
          <p:cNvSpPr/>
          <p:nvPr/>
        </p:nvSpPr>
        <p:spPr>
          <a:xfrm>
            <a:off x="3492360" y="3068640"/>
            <a:ext cx="20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0" y="2781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Na + O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234000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665964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 O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766764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3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3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20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3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3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3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2000" fill="hold"/>
                                        <p:tgtEl>
                                          <p:spTgt spid="3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"/>
          <p:cNvSpPr txBox="1"/>
          <p:nvPr/>
        </p:nvSpPr>
        <p:spPr>
          <a:xfrm>
            <a:off x="6156360" y="1844640"/>
            <a:ext cx="2276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حديد + أكسجي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9" name=""/>
          <p:cNvSpPr/>
          <p:nvPr/>
        </p:nvSpPr>
        <p:spPr>
          <a:xfrm flipH="1">
            <a:off x="3492000" y="22050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0" name=""/>
          <p:cNvSpPr txBox="1"/>
          <p:nvPr/>
        </p:nvSpPr>
        <p:spPr>
          <a:xfrm>
            <a:off x="1187280" y="1916280"/>
            <a:ext cx="1968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أكسيد الحدي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1" name=""/>
          <p:cNvSpPr/>
          <p:nvPr/>
        </p:nvSpPr>
        <p:spPr>
          <a:xfrm>
            <a:off x="3492360" y="3068640"/>
            <a:ext cx="208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684360" y="2852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Fe + 3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2411280" y="31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aa6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86728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2aa68"/>
                </a:solidFill>
                <a:latin typeface="Arial"/>
              </a:rPr>
              <a:t>F e 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7093080" y="32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aa6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774072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aa6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3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3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20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3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3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2000" fill="hold"/>
                                        <p:tgtEl>
                                          <p:spTgt spid="3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2000" fill="hold"/>
                                        <p:tgtEl>
                                          <p:spTgt spid="3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"/>
          <p:cNvSpPr txBox="1"/>
          <p:nvPr/>
        </p:nvSpPr>
        <p:spPr>
          <a:xfrm>
            <a:off x="5940360" y="2276640"/>
            <a:ext cx="229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كالسيوم + كلو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8" name=""/>
          <p:cNvSpPr/>
          <p:nvPr/>
        </p:nvSpPr>
        <p:spPr>
          <a:xfrm flipH="1">
            <a:off x="3492000" y="26370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492360" y="3357720"/>
            <a:ext cx="208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0" name=""/>
          <p:cNvSpPr txBox="1"/>
          <p:nvPr/>
        </p:nvSpPr>
        <p:spPr>
          <a:xfrm>
            <a:off x="900000" y="2276640"/>
            <a:ext cx="2266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كلوريد الكاسيو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1" name=""/>
          <p:cNvSpPr/>
          <p:nvPr/>
        </p:nvSpPr>
        <p:spPr>
          <a:xfrm>
            <a:off x="6300720" y="31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a C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5092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 + 2 C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2411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0280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20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20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3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3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3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2000" fill="hold"/>
                                        <p:tgtEl>
                                          <p:spTgt spid="3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2000" fill="hold"/>
                                        <p:tgtEl>
                                          <p:spTgt spid="3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3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3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2000" fill="hold"/>
                                        <p:tgtEl>
                                          <p:spTgt spid="3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2000" fill="hold"/>
                                        <p:tgtEl>
                                          <p:spTgt spid="3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2000" fill="hold"/>
                                        <p:tgtEl>
                                          <p:spTgt spid="3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2000" fill="hold"/>
                                        <p:tgtEl>
                                          <p:spTgt spid="3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2000" fill="hold"/>
                                        <p:tgtEl>
                                          <p:spTgt spid="3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2000" fill="hold"/>
                                        <p:tgtEl>
                                          <p:spTgt spid="3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"/>
          <p:cNvSpPr txBox="1"/>
          <p:nvPr/>
        </p:nvSpPr>
        <p:spPr>
          <a:xfrm>
            <a:off x="1979640" y="2637000"/>
            <a:ext cx="553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تم بحمد الله الانتهاء من الفصل الساد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16" name=""/>
          <p:cNvSpPr txBox="1"/>
          <p:nvPr/>
        </p:nvSpPr>
        <p:spPr>
          <a:xfrm>
            <a:off x="1403280" y="479736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وقد أعد هذا العرض الطالب :- محمد هاني غس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7" name=""/>
          <p:cNvSpPr txBox="1"/>
          <p:nvPr/>
        </p:nvSpPr>
        <p:spPr>
          <a:xfrm>
            <a:off x="2627280" y="5805360"/>
            <a:ext cx="388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بإشراف الأستاذ :- عتيق مهنا الصاعد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"/>
          <p:cNvSpPr txBox="1"/>
          <p:nvPr/>
        </p:nvSpPr>
        <p:spPr>
          <a:xfrm>
            <a:off x="3635280" y="189000"/>
            <a:ext cx="5207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س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\ ما هو المركب 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5" name=""/>
          <p:cNvSpPr/>
          <p:nvPr/>
        </p:nvSpPr>
        <p:spPr>
          <a:xfrm>
            <a:off x="0" y="981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 جـ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\  مادة مكونة من اتحاد كيميائي بين عنصرين أو أكثر 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6" name=""/>
          <p:cNvSpPr txBox="1"/>
          <p:nvPr/>
        </p:nvSpPr>
        <p:spPr>
          <a:xfrm>
            <a:off x="3635280" y="2565360"/>
            <a:ext cx="53308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س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\ ما هو الخليط ؟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7" name=""/>
          <p:cNvSpPr/>
          <p:nvPr/>
        </p:nvSpPr>
        <p:spPr>
          <a:xfrm>
            <a:off x="0" y="3476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6699"/>
                </a:solidFill>
                <a:latin typeface="Arial"/>
              </a:rPr>
              <a:t>جـ</a:t>
            </a:r>
            <a:r>
              <a:rPr b="0" lang="ar-SA" sz="5400" spc="-1" strike="noStrike">
                <a:solidFill>
                  <a:srgbClr val="ff6699"/>
                </a:solidFill>
                <a:latin typeface="Arial"/>
              </a:rPr>
              <a:t>3</a:t>
            </a:r>
            <a:r>
              <a:rPr b="0" lang="ar-SA" sz="5400" spc="-1" strike="noStrike">
                <a:solidFill>
                  <a:srgbClr val="ff6699"/>
                </a:solidFill>
                <a:latin typeface="Arial"/>
              </a:rPr>
              <a:t>\ </a:t>
            </a:r>
            <a:r>
              <a:rPr b="0" lang="ar-SA" sz="6000" spc="-1" strike="noStrike">
                <a:solidFill>
                  <a:srgbClr val="ff6699"/>
                </a:solidFill>
                <a:latin typeface="Arial"/>
              </a:rPr>
              <a:t>مادة مكونة من إثنين أو أكثر من المركبات أو العناصرمجتمعة مع بعضها دون ان تتحد كيميائيا</a:t>
            </a:r>
            <a:r>
              <a:rPr b="0" lang="ar-SA" sz="54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"/>
          <p:cNvSpPr txBox="1"/>
          <p:nvPr/>
        </p:nvSpPr>
        <p:spPr>
          <a:xfrm>
            <a:off x="1403280" y="2349360"/>
            <a:ext cx="647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س</a:t>
            </a: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\ قارن بين المركب والخليط ؟</a:t>
            </a:r>
            <a:endParaRPr b="0" lang="en-US" sz="4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"/>
          <p:cNvSpPr/>
          <p:nvPr/>
        </p:nvSpPr>
        <p:spPr>
          <a:xfrm>
            <a:off x="4572000" y="170028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-توجد مكوناته بنسب وزنيه غير ثابتة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24000" y="1628640"/>
            <a:ext cx="410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-توجد مكوناته بنسب وزنيه ثابتة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572000" y="0"/>
            <a:ext cx="0" cy="5977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2" name=""/>
          <p:cNvSpPr txBox="1"/>
          <p:nvPr/>
        </p:nvSpPr>
        <p:spPr>
          <a:xfrm>
            <a:off x="6516720" y="476280"/>
            <a:ext cx="1336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خلي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73" name=""/>
          <p:cNvSpPr txBox="1"/>
          <p:nvPr/>
        </p:nvSpPr>
        <p:spPr>
          <a:xfrm>
            <a:off x="2050920" y="404640"/>
            <a:ext cx="13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رك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"/>
          <p:cNvSpPr/>
          <p:nvPr/>
        </p:nvSpPr>
        <p:spPr>
          <a:xfrm>
            <a:off x="4572000" y="1484280"/>
            <a:ext cx="4032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ar-SA" sz="6600" spc="-1" strike="noStrike">
                <a:solidFill>
                  <a:srgbClr val="006600"/>
                </a:solidFill>
                <a:latin typeface="Arial"/>
              </a:rPr>
              <a:t>- لايوجد دليل على حدوث التفاعل الكيميائي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0" y="1557360"/>
            <a:ext cx="442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- يوجد دليل على وجود اتحاد كيميائي بين مكوناته ( تصاعد غاز, حرارة ,تغير لون)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6" name=""/>
          <p:cNvSpPr txBox="1"/>
          <p:nvPr/>
        </p:nvSpPr>
        <p:spPr>
          <a:xfrm>
            <a:off x="6516720" y="476280"/>
            <a:ext cx="1336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خلي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77" name=""/>
          <p:cNvSpPr txBox="1"/>
          <p:nvPr/>
        </p:nvSpPr>
        <p:spPr>
          <a:xfrm>
            <a:off x="2050920" y="404640"/>
            <a:ext cx="13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رك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78" name=""/>
          <p:cNvSpPr/>
          <p:nvPr/>
        </p:nvSpPr>
        <p:spPr>
          <a:xfrm>
            <a:off x="4572000" y="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4572000" y="0"/>
            <a:ext cx="0" cy="59770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0" name=""/>
          <p:cNvSpPr txBox="1"/>
          <p:nvPr/>
        </p:nvSpPr>
        <p:spPr>
          <a:xfrm>
            <a:off x="6516720" y="476280"/>
            <a:ext cx="1336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خليط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1" name=""/>
          <p:cNvSpPr txBox="1"/>
          <p:nvPr/>
        </p:nvSpPr>
        <p:spPr>
          <a:xfrm>
            <a:off x="2050920" y="404640"/>
            <a:ext cx="13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ركب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2" name=""/>
          <p:cNvSpPr/>
          <p:nvPr/>
        </p:nvSpPr>
        <p:spPr>
          <a:xfrm>
            <a:off x="4572000" y="1628640"/>
            <a:ext cx="4572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لا تختلف خواصه عن خواص مكوناته ويمكن فصلها بوسائل فيزيائية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0" y="1773360"/>
            <a:ext cx="4572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</a:rPr>
              <a:t>- تختلف خواصه عن خواص مكوناته ولايمكن فصلها الابوسائل كيميائية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"/>
          <p:cNvSpPr txBox="1"/>
          <p:nvPr/>
        </p:nvSpPr>
        <p:spPr>
          <a:xfrm>
            <a:off x="2124000" y="47628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ثبات نسبة العناصر في المركب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5" name=""/>
          <p:cNvSpPr txBox="1"/>
          <p:nvPr/>
        </p:nvSpPr>
        <p:spPr>
          <a:xfrm>
            <a:off x="3635280" y="1413000"/>
            <a:ext cx="55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س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\ ما هو قانون النسب الثابتة 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6" name=""/>
          <p:cNvSpPr/>
          <p:nvPr/>
        </p:nvSpPr>
        <p:spPr>
          <a:xfrm>
            <a:off x="0" y="2276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Arial"/>
              </a:rPr>
              <a:t>قانون النسب الثابتة :-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يتألف كل  مركب كيميائي من نسب وزنيه ثابتة للعناصر المكونة له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3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9:19Z</dcterms:created>
  <dc:creator>هاني</dc:creator>
  <dc:description/>
  <dc:language>en-US</dc:language>
  <cp:lastModifiedBy>waleed</cp:lastModifiedBy>
  <dcterms:modified xsi:type="dcterms:W3CDTF">2006-12-07T15:30:41Z</dcterms:modified>
  <cp:revision>64</cp:revision>
  <dc:subject/>
  <dc:title>الشريحة 1</dc:title>
</cp:coreProperties>
</file>