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B30-961A-4DA9-BA3E-CD8B25A9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645-047B-44D2-ACED-4844FFE2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814-80A0-4ACB-88FF-97705B5D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F0C-978C-44DD-B009-3086B50B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C11-322D-491D-BAAC-57C7A4E2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6E4-D28A-47C5-842C-BBC3BECC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E42-05F3-4CC1-AF8B-70C8D4B5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7B0-CCA7-45BB-9671-5420CA77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E63-29B2-43F9-ACA4-4BB2515E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D61-9BE3-4B67-B454-9DD9A271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F5E-95EA-4849-A60F-E2F2FDEA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9FC-FD2A-419C-8CD4-6D5586A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7942-20DE-4F80-9694-DA67BF029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604836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مكتب المدير العا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916360" y="981000"/>
            <a:ext cx="936360" cy="720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2492280"/>
            <a:ext cx="604836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Broken"/>
              </a:rPr>
              <a:t> </a:t>
            </a: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شئون التعليمي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Broke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1404000" y="979920"/>
            <a:ext cx="158436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1365840" y="2959560"/>
            <a:ext cx="165744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916360" y="2997360"/>
            <a:ext cx="936360" cy="72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00360" y="4437000"/>
            <a:ext cx="604836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مكتب المدير العا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843280" y="4941720"/>
            <a:ext cx="936720" cy="72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6200000">
            <a:off x="1402560" y="493920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63640" y="476280"/>
            <a:ext cx="698508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ربية الإسلامي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836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35280" y="249228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لغة العرب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0920" y="2852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450864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لغة الإنجليزي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050920" y="486900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465840" y="97992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04000" y="2959920"/>
            <a:ext cx="165744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40360" y="5011920"/>
            <a:ext cx="158436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63640" y="476280"/>
            <a:ext cx="698508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دارة المدرسية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836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35280" y="249228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قسم الرياضي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0920" y="2852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50864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PT Bold Heading"/>
              </a:rPr>
              <a:t>قسم العلو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050920" y="486900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6200000">
            <a:off x="465840" y="97992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04000" y="2959920"/>
            <a:ext cx="165744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540360" y="5011920"/>
            <a:ext cx="158436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63640" y="476280"/>
            <a:ext cx="698508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قسم الاجتماعي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836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35280" y="249228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ربية الفن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0920" y="2852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35280" y="450864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ربية البدني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050920" y="486900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6200000">
            <a:off x="465840" y="97992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04000" y="2959920"/>
            <a:ext cx="165744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40360" y="5011920"/>
            <a:ext cx="158436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476280"/>
            <a:ext cx="698508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تابعة الإداري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836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35280" y="249228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T Bold Broken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علاقات العامة والإعلا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T Bold Broke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0920" y="2852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35280" y="450864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اسب الآل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050920" y="486900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16200000">
            <a:off x="465840" y="97992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504000" y="2959920"/>
            <a:ext cx="165744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40360" y="5011920"/>
            <a:ext cx="158436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63640" y="476280"/>
            <a:ext cx="698508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شئو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 المالية والإدار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836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249228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PT Bold Broken"/>
              </a:rPr>
              <a:t> </a:t>
            </a: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شراف التربوي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PT Bold Broke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0920" y="2852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450864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شئون المعلمي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050920" y="486900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6200000">
            <a:off x="465840" y="97992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504000" y="2959920"/>
            <a:ext cx="165744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540360" y="5011920"/>
            <a:ext cx="158436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63640" y="476280"/>
            <a:ext cx="698508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شئون الموظفي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836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35280" y="249228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سيرات والروات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0920" y="2852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35280" y="450864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دريب التربو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050920" y="486900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6200000">
            <a:off x="465840" y="97992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504000" y="2959920"/>
            <a:ext cx="165744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540360" y="5011920"/>
            <a:ext cx="158436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63640" y="476280"/>
            <a:ext cx="698508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خطيط والتطوير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رب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836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35280" y="249228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خطيط المدرس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0920" y="2852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35280" y="450864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قويم الشام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050920" y="486900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16200000">
            <a:off x="465840" y="97992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504000" y="2959920"/>
            <a:ext cx="165744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540360" y="5011920"/>
            <a:ext cx="158436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63640" y="476280"/>
            <a:ext cx="698508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باني والتجهيز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836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249228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شرف المنس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0920" y="2852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450864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نموذج (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PT Bold Heading"/>
              </a:rPr>
              <a:t> .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PT Bold Heading"/>
              </a:rPr>
              <a:t>10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050920" y="486900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6200000">
            <a:off x="465840" y="97992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504000" y="2959920"/>
            <a:ext cx="165744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540360" y="5011920"/>
            <a:ext cx="158436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63640" y="476280"/>
            <a:ext cx="698508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ختام المفقو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836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35280" y="249228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تـــــــابع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0920" y="2852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65840" y="97992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504000" y="2959920"/>
            <a:ext cx="165744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63640" y="476280"/>
            <a:ext cx="698508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تقنيات التعلي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836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35280" y="249228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خدمات الطلا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0920" y="2852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35280" y="450864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جيه والإرشا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050920" y="486900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16200000">
            <a:off x="465840" y="97992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504000" y="2959920"/>
            <a:ext cx="165744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40360" y="5011920"/>
            <a:ext cx="158436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476280"/>
            <a:ext cx="698508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عية الإسلام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836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35280" y="249228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جازات الموظف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0920" y="285264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35280" y="4508640"/>
            <a:ext cx="698472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صحة المدرسية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050920" y="4869000"/>
            <a:ext cx="1297080" cy="100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16200000">
            <a:off x="465840" y="979920"/>
            <a:ext cx="1584360" cy="722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504000" y="2959920"/>
            <a:ext cx="165744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40360" y="5011920"/>
            <a:ext cx="1584360" cy="722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15:49Z</dcterms:created>
  <dc:creator>User</dc:creator>
  <dc:description/>
  <dc:language>en-US</dc:language>
  <cp:lastModifiedBy>User</cp:lastModifiedBy>
  <dcterms:modified xsi:type="dcterms:W3CDTF">2010-02-22T05:46:27Z</dcterms:modified>
  <cp:revision>7</cp:revision>
  <dc:subject/>
  <dc:title>الصف الاول متوسط</dc:title>
</cp:coreProperties>
</file>