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7.gif" ContentType="image/gif"/>
  <Override PartName="/ppt/media/image28.jpeg" ContentType="image/jpeg"/>
  <Override PartName="/ppt/media/image26.jpeg" ContentType="image/jpeg"/>
  <Override PartName="/ppt/media/image24.gif" ContentType="image/gif"/>
  <Override PartName="/ppt/media/image32.jpeg" ContentType="image/jpeg"/>
  <Override PartName="/ppt/media/image2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4.gif" ContentType="image/gif"/>
  <Override PartName="/ppt/media/image33.jpeg" ContentType="image/jpeg"/>
  <Override PartName="/ppt/media/image34.gif" ContentType="image/gif"/>
  <Override PartName="/ppt/media/image12.png" ContentType="image/png"/>
  <Override PartName="/ppt/media/image20.jpeg" ContentType="image/jpeg"/>
  <Override PartName="/ppt/media/image18.gif" ContentType="image/gif"/>
  <Override PartName="/ppt/media/image13.jpeg" ContentType="image/jpeg"/>
  <Override PartName="/ppt/media/image30.jpeg" ContentType="image/jpeg"/>
  <Override PartName="/ppt/media/image22.gif" ContentType="image/gif"/>
  <Override PartName="/ppt/media/image15.png" ContentType="image/png"/>
  <Override PartName="/ppt/media/image31.jpeg" ContentType="image/jpeg"/>
  <Override PartName="/ppt/media/image35.gif" ContentType="image/gif"/>
  <Override PartName="/ppt/media/image5.gif" ContentType="image/gif"/>
  <Override PartName="/ppt/media/image8.png" ContentType="image/png"/>
  <Override PartName="/ppt/media/image3.png" ContentType="image/png"/>
  <Override PartName="/ppt/media/image23.gif" ContentType="image/gif"/>
  <Override PartName="/ppt/media/image36.jpeg" ContentType="image/jpeg"/>
  <Override PartName="/ppt/media/image2.jpeg" ContentType="image/jpeg"/>
  <Override PartName="/ppt/media/image16.gif" ContentType="image/gif"/>
  <Override PartName="/ppt/media/image27.jpeg" ContentType="image/jpeg"/>
  <Override PartName="/ppt/media/image17.gif" ContentType="image/gif"/>
  <Override PartName="/ppt/media/image19.gif" ContentType="image/gif"/>
  <Override PartName="/ppt/media/image21.gif" ContentType="image/gi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52F-A281-4AC4-9A99-D3BEFDB8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2A4-6040-421F-961D-B5E14FEB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BA3-C26C-4715-AB07-1811E7D9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C79-BAE3-4168-ACE9-5D8C5E3C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3D7-0D1B-49F1-8E75-17CC3626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3B4-F75C-48AD-B696-132E9E42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DEC-4BE2-47D4-93CC-D4A1753B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BB7-2913-4C4D-8D4A-ACBF0AE8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5AD-1094-4548-BA06-19527C7D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353-A5D4-45B9-8756-ADF9C151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8C9-2CFC-4368-B813-E817A7B0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A6D-EF2E-45A5-8DC4-A802123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DF4-DF49-43BC-B0D6-1EAA1381F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372000"/>
          </a:xfrm>
          <a:prstGeom prst="rect">
            <a:avLst/>
          </a:prstGeom>
          <a:ln w="76320">
            <a:solidFill>
              <a:srgbClr val="66663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ff"/>
          </a:solidFill>
          <a:ln w="7632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Wingdings"/>
                <a:ea typeface="Wingdings"/>
              </a:rPr>
              <a:t></a:t>
            </a:r>
            <a:r>
              <a:rPr b="1" lang="hi-IN" sz="7200" spc="-1" strike="noStrike">
                <a:solidFill>
                  <a:srgbClr val="660066"/>
                </a:solidFill>
                <a:latin typeface="Arial"/>
                <a:cs typeface="PT Bold Heading"/>
              </a:rPr>
              <a:t>الجزيئات..!</a:t>
            </a:r>
            <a:br>
              <a:rPr sz="7200"/>
            </a:br>
            <a:r>
              <a:rPr b="1" lang="hi-IN" sz="7200" spc="-1" strike="noStrike">
                <a:solidFill>
                  <a:srgbClr val="660066"/>
                </a:solidFill>
                <a:latin typeface="Arial"/>
                <a:cs typeface="PT Bold Heading"/>
              </a:rPr>
              <a:t>صغيرة جداً لا ترى بالعين المجردة يوجد بينها فراغات على حسب المادة وكروية الشكل وتحتفظ بالخواص الأساس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2000"/>
            </a:blip>
            <a:srcRect/>
            <a:stretch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0720" cy="6337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395280" y="476280"/>
            <a:ext cx="1584360" cy="58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16200000">
            <a:off x="-1641240" y="2729880"/>
            <a:ext cx="561636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T Bold Mirror"/>
              </a:rPr>
              <a:t>الجزيئات داخل المادة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T Bold Mirror"/>
              <a:ea typeface="PT Bold Mirr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c5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a50021"/>
                </a:solidFill>
                <a:latin typeface="Arial"/>
                <a:cs typeface="PT Bold Heading"/>
              </a:rPr>
              <a:t>تتجمع الجزيئات لتكون المادة.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a50021"/>
                </a:solidFill>
                <a:latin typeface="Arial"/>
                <a:cs typeface="PT Bold Heading"/>
              </a:rPr>
              <a:t>واليوم بإذن الله سنتعرف على.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48000" y="260280"/>
            <a:ext cx="5473800" cy="6337440"/>
          </a:xfrm>
          <a:prstGeom prst="verticalScroll">
            <a:avLst>
              <a:gd name="adj" fmla="val 12500"/>
            </a:avLst>
          </a:prstGeom>
          <a:solidFill>
            <a:srgbClr val="0099cc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663300"/>
                </a:solidFill>
                <a:latin typeface="Arial"/>
                <a:cs typeface="PT Bold Heading"/>
              </a:rPr>
              <a:t>النظرية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663300"/>
                </a:solidFill>
                <a:latin typeface="Arial"/>
                <a:cs typeface="PT Bold Heading"/>
              </a:rPr>
              <a:t>الحركي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3300"/>
                </a:solidFill>
                <a:latin typeface="Arial"/>
                <a:ea typeface="PT Bold Heading"/>
              </a:rPr>
              <a:t> للماد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25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2ebb3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a50021"/>
                </a:solidFill>
                <a:latin typeface="Arial"/>
                <a:cs typeface="Diwani Bent"/>
              </a:rPr>
              <a:t>توكلنا على الل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000" spc="-1" strike="noStrike">
                <a:solidFill>
                  <a:srgbClr val="000000"/>
                </a:solidFill>
                <a:latin typeface="Arial"/>
                <a:cs typeface="PT Bold Heading"/>
              </a:rPr>
              <a:t>فكري جيداً قبل أن تجاوبي؟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0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اء وبخار الماء والثلج (مادة) بينما الضوء والحرارة (ليست مادة) من معلوماتك السابقة ..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000" spc="-1" strike="noStrike">
                <a:solidFill>
                  <a:srgbClr val="000000"/>
                </a:solidFill>
                <a:latin typeface="Arial"/>
                <a:cs typeface="PT Bold Heading"/>
              </a:rPr>
              <a:t>ما المقصود بالمادة؟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66"/>
                </a:solidFill>
                <a:latin typeface="Wingdings"/>
                <a:ea typeface="Wingdings"/>
              </a:rPr>
              <a:t></a:t>
            </a:r>
            <a:r>
              <a:rPr b="1" lang="hi-IN" sz="15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مادة</a:t>
            </a:r>
            <a:r>
              <a:rPr b="1" lang="en-US" sz="15000" spc="-1" strike="noStrike">
                <a:solidFill>
                  <a:srgbClr val="000066"/>
                </a:solidFill>
                <a:latin typeface="Wingdings"/>
                <a:ea typeface="Wingdings"/>
              </a:rPr>
              <a:t>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هي كل ما ندركه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بحواسنا, ويشغل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حيز, وله كتلة.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2000" y="260280"/>
            <a:ext cx="7489800" cy="612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33cc"/>
                </a:solidFill>
                <a:latin typeface="Arial"/>
                <a:cs typeface="Andalus"/>
              </a:rPr>
              <a:t>المادة..!!!!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33cc"/>
                </a:solidFill>
                <a:latin typeface="Arial"/>
                <a:cs typeface="Andalus"/>
              </a:rPr>
              <a:t>تحكمها بنود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33cc"/>
                </a:solidFill>
                <a:latin typeface="Arial"/>
                <a:cs typeface="Andalus"/>
              </a:rPr>
              <a:t>بنود النظرية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33cc"/>
                </a:solidFill>
                <a:latin typeface="Arial"/>
                <a:cs typeface="Andalus"/>
              </a:rPr>
              <a:t>الحركية للمادة..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6449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Wingdings"/>
                <a:ea typeface="Wingdings"/>
              </a:rPr>
              <a:t></a:t>
            </a:r>
            <a:r>
              <a:rPr b="1" lang="en-US" sz="8800" spc="-1" strike="noStrike">
                <a:solidFill>
                  <a:srgbClr val="0033cc"/>
                </a:solidFill>
                <a:latin typeface="Arial"/>
                <a:ea typeface="Led Italic Font"/>
              </a:rPr>
              <a:t> </a:t>
            </a:r>
            <a:r>
              <a:rPr b="1" i="1" lang="hi-IN" sz="8000" spc="-1" strike="noStrike">
                <a:solidFill>
                  <a:srgbClr val="0033cc"/>
                </a:solidFill>
                <a:latin typeface="Arial"/>
                <a:cs typeface="Led Italic Font"/>
              </a:rPr>
              <a:t>المادة تتك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cc"/>
                </a:solidFill>
                <a:latin typeface="Arial"/>
                <a:ea typeface="Led Italic Font"/>
              </a:rPr>
              <a:t> من وحد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cc"/>
                </a:solidFill>
                <a:latin typeface="Arial"/>
                <a:ea typeface="Led Italic Font"/>
              </a:rPr>
              <a:t> بناء صغيرة جد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cc"/>
                </a:solidFill>
                <a:latin typeface="Arial"/>
                <a:ea typeface="Led Italic Font"/>
              </a:rPr>
              <a:t> تسمى..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cc"/>
                </a:solidFill>
                <a:latin typeface="Arial"/>
                <a:ea typeface="Led Italic Font"/>
              </a:rPr>
              <a:t> الجزيئ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252360" y="3789360"/>
            <a:ext cx="2708280" cy="278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6600"/>
              </a:buClr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6600"/>
                </a:solidFill>
                <a:latin typeface="Arial"/>
                <a:ea typeface="Led Italic Font"/>
              </a:rPr>
              <a:t> الجزيئا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6600"/>
                </a:solidFill>
                <a:latin typeface="Arial"/>
                <a:ea typeface="Led Italic Font"/>
              </a:rPr>
              <a:t> في حال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6600"/>
                </a:solidFill>
                <a:latin typeface="Arial"/>
                <a:ea typeface="Led Italic Font"/>
              </a:rPr>
              <a:t> حرك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6600"/>
                </a:solidFill>
                <a:latin typeface="Arial"/>
                <a:ea typeface="Led Italic Font"/>
              </a:rPr>
              <a:t> مستمر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508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663300"/>
              </a:buClr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663300"/>
              </a:buClr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663300"/>
                </a:solidFill>
                <a:latin typeface="Arial"/>
                <a:ea typeface="Led Italic Font"/>
              </a:rPr>
              <a:t> يوجد ب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663300"/>
                </a:solidFill>
                <a:latin typeface="Arial"/>
                <a:ea typeface="Led Italic Font"/>
              </a:rPr>
              <a:t> الجزيئات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8000" spc="-1" strike="noStrike">
                <a:solidFill>
                  <a:srgbClr val="663300"/>
                </a:solidFill>
                <a:latin typeface="Arial"/>
                <a:cs typeface="Led Italic Font"/>
              </a:rPr>
              <a:t>قوى تماسك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8000" spc="-1" strike="noStrike">
                <a:solidFill>
                  <a:srgbClr val="663300"/>
                </a:solidFill>
                <a:latin typeface="Arial"/>
                <a:cs typeface="Led Italic Font"/>
              </a:rPr>
              <a:t>قوى تلاصق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36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0" spc="-1" strike="noStrike">
                <a:solidFill>
                  <a:srgbClr val="006600"/>
                </a:solidFill>
                <a:latin typeface="Snap ITC"/>
                <a:cs typeface="Monotype Koufi"/>
              </a:rPr>
              <a:t>قوى التماسك: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0" spc="-1" strike="noStrike">
                <a:solidFill>
                  <a:srgbClr val="006600"/>
                </a:solidFill>
                <a:latin typeface="Snap ITC"/>
                <a:cs typeface="Monotype Koufi"/>
              </a:rPr>
              <a:t>هي القوى بين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0" spc="-1" strike="noStrike">
                <a:solidFill>
                  <a:srgbClr val="006600"/>
                </a:solidFill>
                <a:latin typeface="Snap ITC"/>
                <a:cs typeface="Monotype Koufi"/>
              </a:rPr>
              <a:t>جزيئات المادة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6600"/>
                </a:solidFill>
                <a:latin typeface="Snap ITC"/>
                <a:ea typeface="Monotype Koufi"/>
              </a:rPr>
              <a:t> الواحدة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0" spc="-1" strike="noStrike">
                <a:solidFill>
                  <a:srgbClr val="006600"/>
                </a:solidFill>
                <a:latin typeface="Snap ITC"/>
                <a:cs typeface="Monotype Koufi"/>
              </a:rPr>
              <a:t>قوى التلاصق: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0" spc="-1" strike="noStrike">
                <a:solidFill>
                  <a:srgbClr val="006600"/>
                </a:solidFill>
                <a:latin typeface="Snap ITC"/>
                <a:cs typeface="Monotype Koufi"/>
              </a:rPr>
              <a:t>هي القوى بين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0" spc="-1" strike="noStrike">
                <a:solidFill>
                  <a:srgbClr val="006600"/>
                </a:solidFill>
                <a:latin typeface="Snap ITC"/>
                <a:cs typeface="Monotype Koufi"/>
              </a:rPr>
              <a:t>جزيئات مادتين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0" spc="-1" strike="noStrike">
                <a:solidFill>
                  <a:srgbClr val="006600"/>
                </a:solidFill>
                <a:latin typeface="Snap ITC"/>
                <a:cs typeface="Monotype Koufi"/>
              </a:rPr>
              <a:t>مختلفتين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هذه الجزيئات بينها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مسافات وتختل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على حسب نوع حال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الماد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660066"/>
                </a:solidFill>
                <a:latin typeface="Snap ITC"/>
                <a:cs typeface="Monotype Koufi"/>
              </a:rPr>
              <a:t>سبحان الله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660066"/>
                </a:solidFill>
                <a:latin typeface="Snap ITC"/>
                <a:cs typeface="Monotype Koufi"/>
              </a:rPr>
              <a:t>والحمد لل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660066"/>
                </a:solidFill>
                <a:latin typeface="Snap ITC"/>
                <a:cs typeface="Monotype Koufi"/>
              </a:rPr>
              <a:t>عدد خلق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660066"/>
                </a:solidFill>
                <a:latin typeface="Snap ITC"/>
                <a:cs typeface="Monotype Koufi"/>
              </a:rPr>
              <a:t>ورضا نفس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660066"/>
                </a:solidFill>
                <a:latin typeface="Snap ITC"/>
                <a:cs typeface="Monotype Koufi"/>
              </a:rPr>
              <a:t>وزنة عرش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>
                  <a:alpha val="56078"/>
                </a:srgbClr>
              </a:gs>
              <a:gs pos="100000">
                <a:srgbClr val="808000">
                  <a:alpha val="42352"/>
                </a:srgbClr>
              </a:gs>
            </a:gsLst>
            <a:lin ang="5400000"/>
          </a:gradFill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00"/>
                </a:solidFill>
                <a:latin typeface="Times New Roman"/>
                <a:cs typeface="Times New Roman"/>
              </a:rPr>
              <a:t>تتجمع الجزيئات لتكون مواد مختلف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وجزيئات المادة في الطبيعة في حالة صرا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00"/>
                </a:solidFill>
                <a:latin typeface="Times New Roman"/>
                <a:cs typeface="Times New Roman"/>
              </a:rPr>
              <a:t>دائم كما هو الحال في حياة البش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00"/>
                </a:solidFill>
                <a:latin typeface="Times New Roman"/>
                <a:cs typeface="Times New Roman"/>
              </a:rPr>
              <a:t>ففي مبدأ الصراع والتنافس بين القوى المختلف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بقاء للحياة واستمرار للعط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00"/>
                </a:solidFill>
                <a:latin typeface="Times New Roman"/>
                <a:cs typeface="Times New Roman"/>
              </a:rPr>
              <a:t>فتأملي قوله تعالى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( ولولا دفع الله الناس بعضهم ببع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00"/>
                </a:solidFill>
                <a:latin typeface="Times New Roman"/>
                <a:cs typeface="Times New Roman"/>
              </a:rPr>
              <a:t>لفسدت الأرض ولكن الله ذو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00"/>
                </a:solidFill>
                <a:latin typeface="Times New Roman"/>
                <a:cs typeface="Times New Roman"/>
              </a:rPr>
              <a:t>فضل على العالمين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3300"/>
            </a:solidFill>
            <a:prstDash val="lgDash"/>
            <a:miter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لجبال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البحار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الهواء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مثل الحالات الطبيعية للمادة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الجبال تتألف من صخر جامد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البحيرة تتألف من سائل هو الماء 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الهواء الذي نستنشقه غازي القوام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النبع الذي أمامنا يمثل حالات الماده الثلاثة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76720" cy="237672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9640" y="4884840"/>
            <a:ext cx="3024360" cy="1973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5364000" cy="6858000"/>
          </a:xfrm>
          <a:prstGeom prst="rect">
            <a:avLst/>
          </a:prstGeom>
          <a:gradFill rotWithShape="0">
            <a:gsLst>
              <a:gs pos="0">
                <a:srgbClr val="66ccff">
                  <a:alpha val="70196"/>
                </a:srgbClr>
              </a:gs>
              <a:gs pos="100000">
                <a:srgbClr val="66ccff">
                  <a:alpha val="56078"/>
                </a:srgbClr>
              </a:gs>
            </a:gsLst>
            <a:lin ang="5400000"/>
          </a:gra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0" spc="-1" strike="noStrike">
                <a:solidFill>
                  <a:srgbClr val="a50021"/>
                </a:solidFill>
                <a:latin typeface="Times New Roman"/>
                <a:cs typeface="PT Simple Bold Ruled"/>
              </a:rPr>
              <a:t>حالا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a50021"/>
                </a:solidFill>
                <a:latin typeface="Times New Roman"/>
                <a:ea typeface="PT Simple Bold Ruled"/>
              </a:rPr>
              <a:t> الماد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0920" y="412920"/>
            <a:ext cx="2017440" cy="192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12000" y="2781360"/>
            <a:ext cx="31320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04640"/>
            <a:ext cx="7993080" cy="511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05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66"/>
                </a:solidFill>
                <a:latin typeface="PT Bold Stars"/>
              </a:rPr>
              <a:t>الحالة الجامدة</a:t>
            </a:r>
            <a:endParaRPr b="1" lang="en-US" sz="6600" spc="1" strike="noStrike">
              <a:ln w="9360">
                <a:solidFill>
                  <a:srgbClr val="ff99cc"/>
                </a:solidFill>
                <a:miter/>
              </a:ln>
              <a:solidFill>
                <a:srgbClr val="ff0066"/>
              </a:solidFill>
              <a:latin typeface="PT Bold Stars"/>
              <a:ea typeface="PT Bold Star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5952960"/>
            <a:ext cx="165564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132000" y="6021360"/>
            <a:ext cx="2808360" cy="420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708360" y="4797360"/>
            <a:ext cx="1384200" cy="871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451640" y="4581360"/>
            <a:ext cx="1403280" cy="1432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2340000" y="4221000"/>
            <a:ext cx="117936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779480" cy="1406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156360" y="5084640"/>
            <a:ext cx="1511280" cy="137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292720" y="4005360"/>
            <a:ext cx="897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26028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33336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6028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26028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26028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77336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170028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170028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9640" y="1628640"/>
            <a:ext cx="1439640" cy="136872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70028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21300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306864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314172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306864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314172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465300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4581360"/>
            <a:ext cx="1440000" cy="136872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450864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4581360"/>
            <a:ext cx="1439640" cy="136872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450864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99cc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193032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660066"/>
                </a:solidFill>
                <a:latin typeface="Arial"/>
                <a:cs typeface="PT Bold Heading"/>
              </a:rPr>
              <a:t>الحروف في اللغة العربية..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628640"/>
            <a:ext cx="1439640" cy="1511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1280" y="1700280"/>
            <a:ext cx="1512720" cy="1438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1700280"/>
            <a:ext cx="1584360" cy="1511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2360" y="1844640"/>
            <a:ext cx="1655640" cy="1509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3716280"/>
            <a:ext cx="1728720" cy="1727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445000"/>
            <a:ext cx="1511280" cy="1413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2565360"/>
            <a:ext cx="1728720" cy="1727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ه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4076640"/>
            <a:ext cx="1441440" cy="15573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1916280"/>
            <a:ext cx="1728720" cy="17269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15280" y="5130720"/>
            <a:ext cx="1728720" cy="17272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2000" y="3573360"/>
            <a:ext cx="1332000" cy="12956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068640"/>
            <a:ext cx="1547640" cy="1440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76640"/>
            <a:ext cx="1584360" cy="136692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2781360"/>
            <a:ext cx="1439640" cy="1655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852640"/>
            <a:ext cx="1728720" cy="17272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5157720"/>
            <a:ext cx="1512720" cy="14130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3645000"/>
            <a:ext cx="1548000" cy="14396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81360"/>
            <a:ext cx="1584360" cy="136692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5491080"/>
            <a:ext cx="1584360" cy="136692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5491080"/>
            <a:ext cx="1584360" cy="136692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4000" y="4724280"/>
            <a:ext cx="1332000" cy="12956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660066"/>
                </a:solidFill>
                <a:latin typeface="Arial"/>
                <a:cs typeface="PT Bold Heading"/>
              </a:rPr>
              <a:t>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4360" y="1052640"/>
            <a:ext cx="424800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9360">
                  <a:solidFill>
                    <a:srgbClr val="0033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T Bold Stars"/>
              </a:rPr>
              <a:t>الحالة </a:t>
            </a:r>
            <a:endParaRPr b="1" lang="en-US" sz="6600" spc="1" strike="noStrike">
              <a:ln w="9360">
                <a:solidFill>
                  <a:srgbClr val="0033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9360">
                  <a:solidFill>
                    <a:srgbClr val="0033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T Bold Stars"/>
              </a:rPr>
              <a:t>السائلة</a:t>
            </a:r>
            <a:endParaRPr b="1" lang="en-US" sz="6600" spc="1" strike="noStrike">
              <a:ln w="9360">
                <a:solidFill>
                  <a:srgbClr val="00336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783400" y="1413000"/>
            <a:ext cx="3130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80360" y="26028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6028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18900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63700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270828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263700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522936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515772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515772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4360" y="47628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الحالة الغازية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8256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0360" y="26028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6028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134136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013360"/>
            <a:ext cx="143964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3933720"/>
            <a:ext cx="1440000" cy="136836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0360" y="4581360"/>
            <a:ext cx="1439640" cy="1368720"/>
          </a:xfrm>
          <a:prstGeom prst="flowChartConnector">
            <a:avLst/>
          </a:prstGeom>
          <a:solidFill>
            <a:srgbClr val="0000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33">
                  <a:alpha val="78039"/>
                </a:srgbClr>
              </a:gs>
              <a:gs pos="100000">
                <a:srgbClr val="ff9933">
                  <a:alpha val="64313"/>
                </a:srgbClr>
              </a:gs>
            </a:gsLst>
            <a:lin ang="5400000"/>
          </a:gra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 مقارنة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         بي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              حال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                        المادة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ا جزيئات المادة الجامد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ية ومتماسك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كتي مقيد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مي ثاب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كلي ثاب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5373720"/>
            <a:ext cx="1079280" cy="11509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2924280"/>
            <a:ext cx="1079640" cy="11509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2997360"/>
            <a:ext cx="1079280" cy="11509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4149720"/>
            <a:ext cx="1079280" cy="11509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4149720"/>
            <a:ext cx="1079640" cy="11509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5373720"/>
            <a:ext cx="1079640" cy="11509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5373720"/>
            <a:ext cx="1079280" cy="11509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4221000"/>
            <a:ext cx="1079640" cy="115128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2997360"/>
            <a:ext cx="1079280" cy="1150920"/>
          </a:xfrm>
          <a:prstGeom prst="ellipse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نا جزيئات المادة السائل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ة التماس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ركتي جري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مي ثاب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شكلي حسب الإنا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781360"/>
            <a:ext cx="1008000" cy="10080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2781360"/>
            <a:ext cx="1008360" cy="10080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781360"/>
            <a:ext cx="1008000" cy="10080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4221000"/>
            <a:ext cx="1008000" cy="1008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4149720"/>
            <a:ext cx="1008360" cy="10080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4149720"/>
            <a:ext cx="1008000" cy="10080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نا جزيئات المادة الغازي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ضعيفة التماس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ركتي الانتش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مي متغي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شكلي حسب الإنا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2492280"/>
            <a:ext cx="936720" cy="86544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3933720"/>
            <a:ext cx="936360" cy="86544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4221000"/>
            <a:ext cx="936720" cy="86544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133720"/>
            <a:ext cx="936720" cy="86508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5373720"/>
            <a:ext cx="936720" cy="86508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71640" y="3573000"/>
            <a:ext cx="36036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4508640"/>
            <a:ext cx="576360" cy="21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411280" y="1844280"/>
            <a:ext cx="36036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50560" y="1700280"/>
            <a:ext cx="36036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5280" y="6021360"/>
            <a:ext cx="50472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9592400">
            <a:off x="-323640" y="2636640"/>
            <a:ext cx="9867960" cy="1655640"/>
          </a:xfrm>
          <a:prstGeom prst="rightArrow">
            <a:avLst>
              <a:gd name="adj1" fmla="val 42713"/>
              <a:gd name="adj2" fmla="val 146549"/>
            </a:avLst>
          </a:prstGeom>
          <a:solidFill>
            <a:srgbClr val="a50021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260280"/>
            <a:ext cx="3241440" cy="13669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حالة الجام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1773360"/>
            <a:ext cx="3241800" cy="13665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حالة السائ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357720"/>
            <a:ext cx="3241440" cy="13665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حالة الغاز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0" y="3419640"/>
            <a:ext cx="5257800" cy="3178080"/>
          </a:xfrm>
          <a:prstGeom prst="rect">
            <a:avLst/>
          </a:prstGeom>
          <a:solidFill>
            <a:srgbClr val="bbe0e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كلما صعدنا لأعل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تزيد قوى التماس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بين الجزيئ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663300"/>
                </a:solidFill>
                <a:latin typeface="Arial"/>
                <a:cs typeface="PT Bold Arch"/>
              </a:rPr>
              <a:t>تتجمع الحروف لنصوغ منها عدد لا حصر له من الكلمات..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4416480"/>
            <a:ext cx="230328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8838600">
            <a:off x="-324360" y="2636640"/>
            <a:ext cx="9867960" cy="1655640"/>
          </a:xfrm>
          <a:prstGeom prst="rightArrow">
            <a:avLst>
              <a:gd name="adj1" fmla="val 42713"/>
              <a:gd name="adj2" fmla="val 146549"/>
            </a:avLst>
          </a:prstGeom>
          <a:solidFill>
            <a:srgbClr val="a50021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781360"/>
            <a:ext cx="3241440" cy="13669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حالة الغاز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3419640"/>
            <a:ext cx="5257800" cy="3178080"/>
          </a:xfrm>
          <a:prstGeom prst="rect">
            <a:avLst/>
          </a:prstGeom>
          <a:solidFill>
            <a:srgbClr val="bbe0e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كلما نزلنا لأسفل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تزيد حركة الجزيئ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رع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1557360"/>
            <a:ext cx="3241440" cy="13669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حالة السائ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88000" y="260280"/>
            <a:ext cx="3241440" cy="13669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حالة الجام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rial"/>
                <a:cs typeface="PT Bold Heading"/>
              </a:rPr>
              <a:t>خدعوك وقالوا حالات المادة ثلاث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rial"/>
                <a:cs typeface="PT Bold Heading"/>
              </a:rPr>
              <a:t>هل تعرفين ما هي النجوم والشمس والبرق وغاز المصباح؟؟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rial"/>
                <a:cs typeface="PT Bold Heading"/>
              </a:rPr>
              <a:t>هي الحالة الرابعة للما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rial"/>
                <a:ea typeface="PT Bold Heading"/>
              </a:rPr>
              <a:t> اكتشفها وليام كروك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rial"/>
                <a:cs typeface="PT Bold Heading"/>
              </a:rPr>
              <a:t>وسماها د.إيريف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rial"/>
                <a:cs typeface="PT Bold Heading"/>
              </a:rPr>
              <a:t>الغاز المتأين (حالة البلازما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rial"/>
                <a:cs typeface="PT Bold Heading"/>
              </a:rPr>
              <a:t>ومني لك يا عزيزتي لمن أرادت أيتسع أفاق تفكيرها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rial"/>
                <a:cs typeface="PT Bold Heading"/>
              </a:rPr>
              <a:t>مطوية عن موضوع البلازما عسى أن ينفعك الله بها فإن أصبت فمن الله وإن أخطأت فمن نفسي والشيطان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>
                  <a:alpha val="36078"/>
                </a:srgbClr>
              </a:gs>
              <a:gs pos="100000">
                <a:srgbClr val="00ffff">
                  <a:alpha val="34117"/>
                </a:srgbClr>
              </a:gs>
            </a:gsLst>
            <a:lin ang="5400000"/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ضعي كلمة صح</a:t>
            </a:r>
            <a:r>
              <a:rPr b="1" lang="en-US" sz="6000" spc="-1" strike="noStrike">
                <a:solidFill>
                  <a:srgbClr val="660066"/>
                </a:solidFill>
                <a:latin typeface="Wingdings 2"/>
                <a:ea typeface="Wingdings 2"/>
              </a:rPr>
              <a:t></a:t>
            </a:r>
            <a:r>
              <a:rPr b="1" lang="en-US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أو كلمة خطأ</a:t>
            </a:r>
            <a:r>
              <a:rPr b="1" lang="en-US" sz="6000" spc="-1" strike="noStrike">
                <a:solidFill>
                  <a:srgbClr val="660066"/>
                </a:solidFill>
                <a:latin typeface="Wingdings 2"/>
                <a:ea typeface="Wingdings 2"/>
              </a:rPr>
              <a:t></a:t>
            </a:r>
            <a:r>
              <a:rPr b="1" lang="en-US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مام العبارات التالية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المادة الجامدة أكثر تماسك م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لمادة السائلة(   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قوى التماسك بين جزيئات مادتي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مختلفتين(    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الجزيئات ثابتة لا تتحرك(    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ar-SA" sz="7200" spc="-1" strike="noStrike">
                <a:solidFill>
                  <a:srgbClr val="cc0000"/>
                </a:solidFill>
                <a:latin typeface="Arial"/>
                <a:cs typeface="Diwani Bent"/>
              </a:rPr>
              <a:t>شكرا لك يا صغيرتي على حسن الاستماع</a:t>
            </a:r>
            <a:br>
              <a:rPr sz="7200"/>
            </a:br>
            <a:r>
              <a:rPr b="0" lang="ar-SA" sz="7200" spc="-1" strike="noStrike">
                <a:solidFill>
                  <a:srgbClr val="cc0000"/>
                </a:solidFill>
                <a:latin typeface="Arial"/>
                <a:cs typeface="Diwani Bent"/>
              </a:rPr>
              <a:t>مع تمنياتي للجميع بالتوفيق والنجاح</a:t>
            </a:r>
            <a:br>
              <a:rPr sz="8000"/>
            </a:br>
            <a:r>
              <a:rPr b="0" lang="ar-SA" sz="8000" spc="-1" strike="noStrike">
                <a:solidFill>
                  <a:srgbClr val="cc0000"/>
                </a:solidFill>
                <a:latin typeface="Arial"/>
                <a:ea typeface="Diwani Bent"/>
              </a:rPr>
              <a:t> إعداد الأستاذة:</a:t>
            </a:r>
            <a:br>
              <a:rPr sz="8000"/>
            </a:br>
            <a:r>
              <a:rPr b="0" lang="ar-SA" sz="8000" spc="-1" strike="noStrike">
                <a:solidFill>
                  <a:srgbClr val="cc0000"/>
                </a:solidFill>
                <a:latin typeface="Arial"/>
                <a:ea typeface="Diwani Bent"/>
              </a:rPr>
              <a:t>          </a:t>
            </a:r>
            <a:r>
              <a:rPr b="0" lang="ar-SA" sz="8000" spc="-1" strike="noStrike">
                <a:solidFill>
                  <a:srgbClr val="ff6699"/>
                </a:solidFill>
                <a:latin typeface="Arial"/>
                <a:cs typeface="Diwani Bent"/>
              </a:rPr>
              <a:t>صديقة القم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806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5e46">
                  <a:alpha val="44313"/>
                </a:srgbClr>
              </a:gs>
              <a:gs pos="50000">
                <a:srgbClr val="ffcc99">
                  <a:alpha val="42352"/>
                </a:srgbClr>
              </a:gs>
              <a:gs pos="100000">
                <a:srgbClr val="755e46">
                  <a:alpha val="44313"/>
                </a:srgbClr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3300"/>
                </a:solidFill>
                <a:latin typeface="Arial"/>
                <a:cs typeface="PT Bold Dusky"/>
              </a:rPr>
              <a:t>المعلقات الشعرية الرفيعة..والشتائم البذيئة الرخيصة..والكلمات المنمقة الجذابة..والجمل الرعناء الحمقاء..والخطب السياسية الملتهبة..وأحاديث العلم الرزينة الرصينة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33360"/>
            <a:ext cx="8424720" cy="5759640"/>
          </a:xfrm>
          <a:prstGeom prst="wedgeRectCallout">
            <a:avLst>
              <a:gd name="adj1" fmla="val -64"/>
              <a:gd name="adj2" fmla="val 56337"/>
            </a:avLst>
          </a:prstGeom>
          <a:solidFill>
            <a:srgbClr val="ccec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كون كله عبارة عن ذرات..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تتجمع هذه الذرات لتكون الجزيئات التي تتولى بدورها عرض أنماط وأشكال أجسام ومواد لا حصر له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ولا نها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2808360"/>
            <a:ext cx="5148360" cy="4049640"/>
          </a:xfrm>
          <a:prstGeom prst="rect">
            <a:avLst/>
          </a:prstGeom>
          <a:ln w="0">
            <a:noFill/>
          </a:ln>
        </p:spPr>
      </p:pic>
    </p:spTree>
  </p:cSld>
  <p:transition advTm="17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66">
                  <a:alpha val="72156"/>
                </a:srgbClr>
              </a:gs>
              <a:gs pos="100000">
                <a:srgbClr val="ff9966">
                  <a:alpha val="66274"/>
                </a:srgbClr>
              </a:gs>
            </a:gsLst>
            <a:lin ang="54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Wingdings 2"/>
                <a:ea typeface="Wingdings 2"/>
              </a:rPr>
              <a:t></a:t>
            </a:r>
            <a:r>
              <a:rPr b="1" lang="hi-IN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ذرات..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تتجمع لتكون العناصر الثمينة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والسبائك النافعة, والمتفجرات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خطيرة, والقنابل النووية,والغاز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السامة,والروائح الكريهة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والملابس, وغيرها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2089080" cy="1566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618000"/>
            <a:ext cx="2682720" cy="32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4492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469200" y="3618000"/>
            <a:ext cx="2674800" cy="3240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499080" y="0"/>
            <a:ext cx="2644920" cy="3240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71640" y="260280"/>
            <a:ext cx="3602160" cy="6337440"/>
          </a:xfrm>
          <a:prstGeom prst="rect">
            <a:avLst/>
          </a:pr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زيئات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أصغ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الماد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حتف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خوا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ادة الطبيع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12944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3:49Z</dcterms:created>
  <dc:creator>zizo</dc:creator>
  <dc:description/>
  <dc:language>en-US</dc:language>
  <cp:lastModifiedBy>Advisor</cp:lastModifiedBy>
  <dcterms:modified xsi:type="dcterms:W3CDTF">2010-04-05T21:24:28Z</dcterms:modified>
  <cp:revision>72</cp:revision>
  <dc:subject/>
  <dc:title>الشريحة 1</dc:title>
</cp:coreProperties>
</file>