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laser.wav" ContentType="audio/x-wav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A41-5D14-4405-AB26-1159404D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4B33-9DE3-46F2-8F79-64CC39A1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A14-574A-44B1-90ED-5C1D3067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C5E-8AA1-472F-8CC0-ACA3A09F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626-58A7-4657-A9B4-C1AC237B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2A7-943F-4A32-B73E-CC0D9337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2FD-591A-44B0-9C9E-D6198F77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E5A-F729-4D9A-9E4A-8ABEC21D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BA7-2333-4A6C-BB2E-AB6CCE27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EFF-1CFA-415E-9453-6116076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002-5E29-46BE-89B8-E9868139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3B1-C378-421D-BB3F-B83285CE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115C-443A-4B76-A608-86463EDC4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file:///tmp/home/.config/libreoffice/4/user/gallery/whoosh.wav" TargetMode="External"/><Relationship Id="rId4" Type="http://schemas.microsoft.com/office/2007/relationships/media" Target="file:///tmp/home/.config/libreoffice/4/user/gallery/whoosh.wav" TargetMode="External"/><Relationship Id="rId5" Type="http://schemas.openxmlformats.org/officeDocument/2006/relationships/image" Target="../media/image7.png"/><Relationship Id="rId6" Type="http://schemas.openxmlformats.org/officeDocument/2006/relationships/audio" Target="file:///tmp/home/.config/libreoffice/4/user/gallery/j0214098.wav" TargetMode="External"/><Relationship Id="rId7" Type="http://schemas.microsoft.com/office/2007/relationships/media" Target="file:///tmp/home/.config/libreoffice/4/user/gallery/j0214098.wav" TargetMode="External"/><Relationship Id="rId8" Type="http://schemas.openxmlformats.org/officeDocument/2006/relationships/image" Target="../media/image7.pn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ELPHRG01.wav" TargetMode="External"/><Relationship Id="rId3" Type="http://schemas.microsoft.com/office/2007/relationships/media" Target="file:///tmp/home/.config/libreoffice/4/user/gallery/ELPHRG01.wav" TargetMode="External"/><Relationship Id="rId4" Type="http://schemas.openxmlformats.org/officeDocument/2006/relationships/image" Target="../media/image7.png"/><Relationship Id="rId5" Type="http://schemas.openxmlformats.org/officeDocument/2006/relationships/audio" Target="file:///usr/lib/libreoffice/share/gallery/sounds/laser.wav" TargetMode="External"/><Relationship Id="rId6" Type="http://schemas.microsoft.com/office/2007/relationships/media" Target="file:///usr/lib/libreoffice/share/gallery/sounds/laser.wav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42920" y="404640"/>
            <a:ext cx="43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ملكة العربية السعود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61800" y="1197000"/>
            <a:ext cx="41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زارة التربية والتعليــــ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26400" y="1916280"/>
            <a:ext cx="50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دارة التربية والتعليم بالقنفذ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1600" y="2708280"/>
            <a:ext cx="49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درسة الســــــلامة الابتدائ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60280"/>
            <a:ext cx="3527280" cy="1297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7120" y="476280"/>
            <a:ext cx="358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صف الخام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773360"/>
            <a:ext cx="3816360" cy="1726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ــــــــــو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3240360" cy="143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87280" y="3357720"/>
            <a:ext cx="3456000" cy="143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755640" y="4653000"/>
            <a:ext cx="7056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نكسـار الضـوء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  <p:sndAc>
      <p:stSnd>
        <p:snd r:embed="rId4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85960" y="260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طبي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: ينكسـر الضــوء إذا أنتقل بين وسطين 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39000" y="1628640"/>
            <a:ext cx="24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شــــــــفاف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83360" y="3357720"/>
            <a:ext cx="22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ختــــــلف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78120" y="508464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تميــــــ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1133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1726920" cy="172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5" name="laser.wav"/>
      </p:stSnd>
    </p:sndAc>
  </p:transition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5" dur="474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0" dur="399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399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8840" y="260280"/>
            <a:ext cx="81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طبي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: العدســة المحــــــدبة سميكــــة في  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03920" y="162864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طـــــــــر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43160" y="335772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وســـــــــــ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2560" y="508464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وسط والطر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4000" y="126828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324000" y="479736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9" name="laser.wav"/>
      </p:stSnd>
    </p:sndAc>
  </p:transition>
  <p:timing>
    <p:tnLst>
      <p:par>
        <p:cTn id="516" dur="indefinite" restart="never" nodeType="tmRoot">
          <p:childTnLst>
            <p:seq>
              <p:cTn id="51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4745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399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6"/>
                </p:tgtEl>
              </p:cMediaNode>
            </p:audio>
            <p:seq>
              <p:cTn id="5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399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6320" y="260280"/>
            <a:ext cx="89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طبي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: العدســـــــــــة التي تفرق الضـــــوء هي :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5120" y="1628640"/>
            <a:ext cx="29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عــــــــــــ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81160" y="3357720"/>
            <a:ext cx="28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حــــــــــــد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03080" y="508464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كلتيهمــــــــ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24000" y="1197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324000" y="2997360"/>
            <a:ext cx="1726920" cy="1726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324000" y="479736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9" name="laser.wav"/>
      </p:stSnd>
    </p:sndAc>
  </p:transition>
  <p:timing>
    <p:tnLst>
      <p:par>
        <p:cTn id="532" dur="indefinite" restart="never" nodeType="tmRoot">
          <p:childTnLst>
            <p:seq>
              <p:cTn id="53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7" dur="474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2"/>
                </p:tgtEl>
              </p:cMediaNode>
            </p:audio>
            <p:seq>
              <p:cTn id="5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399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  <p:seq>
              <p:cTn id="54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399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052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دما نكون في وســط شفاف مثل الهــواء والجسـم الذي ننظر اليه في وسط شفاف آخر مثل الماء فإننا نرى الجسم في غير مكانه الحقيقي.وهذا يسمى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PT Bold Heading"/>
              </a:rPr>
              <a:t> </a:t>
            </a:r>
            <a:r>
              <a:rPr b="0" lang="hi-IN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نكســـــــــــــــــــــــ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0120" y="333360"/>
            <a:ext cx="30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نكســـــــــــــ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5760" y="242100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متى يحدث الانكســــــــــــــــــــــــــــــار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292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حدث الانكسار إذا أنتقل الضوء بين وسطين شفاف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00"/>
                </a:solidFill>
                <a:latin typeface="Times New Roman"/>
                <a:cs typeface="PT Bold Heading"/>
              </a:rPr>
              <a:t>العدسات نوعــ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- محدبة ( مجمعة ) : سميكة في الوسط رقيقة في الاطرا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65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ب الأجسام ( تعطينا صوراً مكبرة للأجسام) تجمع الضو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2480" y="5229360"/>
            <a:ext cx="86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- مقعرة ( مفرقة ): رقيقة في الوسط سميكة في الاطرا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8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بعد الأجسـام ( تعطينا صوراً صغيرة للأجسام) تفـرق الضــو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  <p:sndAc>
      <p:stSnd>
        <p:snd r:embed="rId2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773360"/>
            <a:ext cx="9144000" cy="71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هل تستطيع التقاط قطعة نقود من قاع إناء مملوء بالماء من أول محاول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8353440" cy="647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لايستخدم صيادو السمك بنادق للصيد من خارج الماء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645000"/>
            <a:ext cx="8642160" cy="1368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نفذ نشاطاً عملياً على السـؤال الأول ثم تسجي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تيجة النشاط على الســـــــــبو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229360"/>
            <a:ext cx="7993080" cy="12967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50000">
                <a:srgbClr val="a603ab"/>
              </a:gs>
              <a:gs pos="100000">
                <a:srgbClr val="a603a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لإجابة على هذه الأسئلة قم بالأنشطة التاليـة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260280"/>
            <a:ext cx="3673440" cy="115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نكسا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  <p:sndAc>
      <p:stSnd>
        <p:snd r:embed="rId2" name="laser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84360" y="260280"/>
            <a:ext cx="3743280" cy="865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شاط عم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268280"/>
            <a:ext cx="8642160" cy="57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دوات : حوض زجاجي – مفتاح – مسطرة خشبية - م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989000"/>
            <a:ext cx="8642160" cy="4869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1989000"/>
            <a:ext cx="187164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2492280"/>
            <a:ext cx="525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ملأ الحوض بالماء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ضع المفتاح داخل الحوض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ضع إصبعك على المفتاح 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هل وفقت من أول محاول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لمــــــــــاذا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8" idx="0"/>
            <a:endCxn id="58" idx="0"/>
          </p:cNvCxnSpPr>
          <p:nvPr/>
        </p:nvCxnSpPr>
        <p:spPr>
          <a:xfrm>
            <a:off x="4571640" y="2596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 txBox="1"/>
          <p:nvPr/>
        </p:nvSpPr>
        <p:spPr>
          <a:xfrm rot="760200">
            <a:off x="1402920" y="2565360"/>
            <a:ext cx="96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لا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42920" y="5229360"/>
            <a:ext cx="473400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لانرى القطعة في مكانها الصحيح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627280" y="3357720"/>
            <a:ext cx="2232000" cy="1366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  <p:sndAc>
      <p:stSnd>
        <p:snd r:embed="rId2" name="laser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84360" y="260280"/>
            <a:ext cx="3743280" cy="865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شاط عم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268280"/>
            <a:ext cx="8642160" cy="57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دوات : حوض زجاجي – مفتاح – مسطرة خشبية - م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989000"/>
            <a:ext cx="8642160" cy="4869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1989000"/>
            <a:ext cx="187164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2708280"/>
            <a:ext cx="525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ملأ الحوض بالماء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ضع المفتاح داخل الحوض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ضع القلم مائلاً في الحوض بحيث يلامس طرف المفتاح داخل الحو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ظر الى الحوض من الجانب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هل القلم على استقامة واحد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ضع عينك قرب القلم وانظر الى المفتا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PT Bold Heading"/>
              </a:rPr>
              <a:t> هل ترى المفتاح بجانب القلم 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7" idx="0"/>
            <a:endCxn id="67" idx="0"/>
          </p:cNvCxnSpPr>
          <p:nvPr/>
        </p:nvCxnSpPr>
        <p:spPr>
          <a:xfrm>
            <a:off x="4571640" y="2596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230328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3" name="laser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260280"/>
            <a:ext cx="8496000" cy="295272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692280"/>
            <a:ext cx="770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دما نكون في وســط شفاف مثل الهــواء والجسـ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ذي ننظر اليه في وسط شفاف آخر مثل الماء فإننا نرى الجسم في غير مكانه الحقيقي. وهذا يسم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     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PT Bold Heading"/>
              </a:rPr>
              <a:t>  الانكســـــــــــــــــــــــا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4653000"/>
            <a:ext cx="8353440" cy="16556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حدث الانكسار إذا أنتقل الضوء بي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طين شفاف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3141720"/>
            <a:ext cx="7489800" cy="1366920"/>
          </a:xfrm>
          <a:prstGeom prst="downArrowCallout">
            <a:avLst>
              <a:gd name="adj1" fmla="val 136996"/>
              <a:gd name="adj2" fmla="val 136983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ى يحدث الانكســــــــــــــــــــــــــــــار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  <p:sndAc>
      <p:stSnd>
        <p:snd r:embed="rId2" name="laser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907920"/>
            <a:ext cx="8496360" cy="43214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48428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زع على الطــلاب عدســات محــدبة واطلب منهم تأمل شكلها وسمكها في الوسط والاطراف مبيناً لهم أن هذه العدسات تسمى </a:t>
            </a:r>
            <a:r>
              <a:rPr b="0" lang="ar-SA" sz="32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عدسات محد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imes New Roman"/>
                <a:ea typeface="PT Bold Heading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260280"/>
            <a:ext cx="3168360" cy="1008000"/>
          </a:xfrm>
          <a:prstGeom prst="downArrowCallout">
            <a:avLst>
              <a:gd name="adj1" fmla="val 78588"/>
              <a:gd name="adj2" fmla="val 78580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دس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06864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زع على الطــلاب عدســات مقعرة واطلب منهم تأمل شكلها وسمكها في الوسط والاطراف مبيناً لهم أن هذه العدسات تسمى </a:t>
            </a:r>
            <a:r>
              <a:rPr b="0" lang="ar-SA" sz="32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عدسات مقع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imes New Roman"/>
                <a:ea typeface="PT Bold Heading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5013360"/>
            <a:ext cx="2449440" cy="1368360"/>
          </a:xfrm>
          <a:prstGeom prst="leftArrowCallout">
            <a:avLst>
              <a:gd name="adj1" fmla="val 25002"/>
              <a:gd name="adj2" fmla="val 25000"/>
              <a:gd name="adj3" fmla="val 29834"/>
              <a:gd name="adj4" fmla="val 666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دس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ــ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300640"/>
            <a:ext cx="6049800" cy="5763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- محدبة : سميكة في الوسط رقيقة في الاطرا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093000"/>
            <a:ext cx="6049800" cy="506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- مقعرة : رقيقة في الوسط سميكة في الاطرا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  <p:sndAc>
      <p:stSnd>
        <p:snd r:embed="rId2" name="laser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84360" y="260280"/>
            <a:ext cx="3743280" cy="7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دســــــــــــ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1125360"/>
            <a:ext cx="7417080" cy="57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دوات : عدسة محدبة – عدسة مقعرة - كت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628640"/>
            <a:ext cx="8642160" cy="52293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1773360"/>
            <a:ext cx="1871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2421000"/>
            <a:ext cx="417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ضع الكتاب على الطاولة وانظ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يه من خلال العدسة المحد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مـــــــــــــــاذا تلاحــــــــظ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5" idx="0"/>
            <a:endCxn id="85" idx="0"/>
          </p:cNvCxnSpPr>
          <p:nvPr/>
        </p:nvCxnSpPr>
        <p:spPr>
          <a:xfrm>
            <a:off x="4571640" y="22824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89" name="" descr=""/>
          <p:cNvPicPr/>
          <p:nvPr/>
        </p:nvPicPr>
        <p:blipFill>
          <a:blip r:embed="rId2"/>
          <a:srcRect l="44818" t="17339" r="30844" b="71628"/>
          <a:stretch/>
        </p:blipFill>
        <p:spPr>
          <a:xfrm>
            <a:off x="1042920" y="2421000"/>
            <a:ext cx="352908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0" y="4221000"/>
            <a:ext cx="417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ضع الكتاب على الطاولة وانظ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يه من خلال العدسة االمقعر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مـــــــــــــــاذا تلاحــــــــظ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rcRect l="44818" t="31524" r="30844" b="58996"/>
          <a:stretch/>
        </p:blipFill>
        <p:spPr>
          <a:xfrm>
            <a:off x="1116000" y="4365720"/>
            <a:ext cx="345600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4" name="laser.wav"/>
      </p:stSnd>
    </p:sndAc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84360" y="260280"/>
            <a:ext cx="3743280" cy="7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دســــــــــــ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125360"/>
            <a:ext cx="7848720" cy="5050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دوات : عدسة محدبة – عدسة مقعرة – فناء المدر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628640"/>
            <a:ext cx="8642160" cy="52293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773360"/>
            <a:ext cx="1871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2421000"/>
            <a:ext cx="467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ضع العدسة المحدبة بطريقة ينفذ منها ضوء الشمس الى الأرض وغير من بُعد العدسة .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PT Bold Heading"/>
              </a:rPr>
              <a:t>( مجمعـــ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هل بقعة الضوء كبيرة أم صغيرة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4" idx="0"/>
            <a:endCxn id="94" idx="0"/>
          </p:cNvCxnSpPr>
          <p:nvPr/>
        </p:nvCxnSpPr>
        <p:spPr>
          <a:xfrm>
            <a:off x="4571640" y="22824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140360" y="4292640"/>
            <a:ext cx="467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ضع العدسة المقعرة بطريقة ينفذ منها ضوء الشمس الى الأرض وغير من بُعد العدسة .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PT Bold Heading"/>
              </a:rPr>
              <a:t>( مفرقـــــ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هل بقعة الضوء كبيرة أم صغيرة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44821" t="47287" r="26507" b="38529"/>
          <a:stretch/>
        </p:blipFill>
        <p:spPr>
          <a:xfrm>
            <a:off x="1042920" y="2349360"/>
            <a:ext cx="302436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44821" t="66202" r="26507" b="21190"/>
          <a:stretch/>
        </p:blipFill>
        <p:spPr>
          <a:xfrm>
            <a:off x="1116000" y="4292640"/>
            <a:ext cx="295128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4" name="laser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00360" y="260280"/>
            <a:ext cx="3816360" cy="865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فات العدسات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341360"/>
            <a:ext cx="8642160" cy="21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عدسات محدبة ( مجمعة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ب الأجسام ( تعطينا صوراً مكبرة للأجسام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جمـــع الضـــــــــــــــــوء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005360"/>
            <a:ext cx="8497800" cy="22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عدسات مقعرة ( مفرقة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بعد الأجسـام ( تعطينا صوراً صغيرة للأجسام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فـــــرق الضــــــــــــــــــو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  <p:sndAc>
      <p:stSnd>
        <p:snd r:embed="rId2" name="laser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9:10:55Z</dcterms:created>
  <dc:creator>محمد نهاري</dc:creator>
  <dc:description/>
  <dc:language>en-US</dc:language>
  <cp:lastModifiedBy>@</cp:lastModifiedBy>
  <dcterms:modified xsi:type="dcterms:W3CDTF">2006-05-04T01:17:06Z</dcterms:modified>
  <cp:revision>10</cp:revision>
  <dc:subject/>
  <dc:title>عرض تقديمي من PowerPoint</dc:title>
</cp:coreProperties>
</file>