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B11E-71CE-4CB8-91A1-2D2C37D8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ADE7-F0E2-4FB8-B950-2490AA23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5908-D523-4D55-83A1-83702C18A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5E65-AD9D-45F2-BE95-07BD9F4E7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6772-6FF7-4D0E-9005-5041D1BE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D745-FB5D-4A43-B78F-CCB7E550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1FE9-07DD-4939-8B5A-2A88DD41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E84D-1C96-4870-890F-6DF931CE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7189-9B6F-47DA-B1D1-918BE5C2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8154-038A-442E-9D89-B079DC2E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33C4-56C2-4518-91ED-EC960D5C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B387-6C1B-4ECA-B0EC-E3AFB734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7D48-0191-438D-8525-3CFB8009D05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0"/>
            <a:ext cx="426708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426708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3733920"/>
            <a:ext cx="426708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733920"/>
            <a:ext cx="426708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4120" y="0"/>
            <a:ext cx="2220840" cy="1981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638680" y="3886200"/>
            <a:ext cx="1895760" cy="1523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333440" y="3809880"/>
            <a:ext cx="1714680" cy="1524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0" y="1828800"/>
            <a:ext cx="4191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ff0000"/>
                </a:solidFill>
                <a:latin typeface="Times New Roman"/>
              </a:rPr>
              <a:t>أ</a:t>
            </a:r>
            <a:r>
              <a:rPr b="1" lang="hi-IN" sz="8800" spc="-1" strike="noStrike">
                <a:solidFill>
                  <a:srgbClr val="000000"/>
                </a:solidFill>
                <a:latin typeface="Times New Roman"/>
              </a:rPr>
              <a:t>خطبوط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676520"/>
            <a:ext cx="419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ff0000"/>
                </a:solidFill>
                <a:latin typeface="Times New Roman"/>
              </a:rPr>
              <a:t>أ</a:t>
            </a:r>
            <a:r>
              <a:rPr b="1" lang="hi-IN" sz="8800" spc="-1" strike="noStrike">
                <a:solidFill>
                  <a:srgbClr val="000000"/>
                </a:solidFill>
                <a:latin typeface="Times New Roman"/>
              </a:rPr>
              <a:t>نف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424480"/>
            <a:ext cx="419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ff0000"/>
                </a:solidFill>
                <a:latin typeface="Times New Roman"/>
              </a:rPr>
              <a:t>أ</a:t>
            </a:r>
            <a:r>
              <a:rPr b="1" lang="hi-IN" sz="8800" spc="-1" strike="noStrike">
                <a:solidFill>
                  <a:srgbClr val="000000"/>
                </a:solidFill>
                <a:latin typeface="Times New Roman"/>
              </a:rPr>
              <a:t>زهار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5424480"/>
            <a:ext cx="419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ff0000"/>
                </a:solidFill>
                <a:latin typeface="Times New Roman"/>
              </a:rPr>
              <a:t>أ</a:t>
            </a:r>
            <a:r>
              <a:rPr b="1" lang="hi-IN" sz="8800" spc="-1" strike="noStrike">
                <a:solidFill>
                  <a:srgbClr val="000000"/>
                </a:solidFill>
                <a:latin typeface="Times New Roman"/>
              </a:rPr>
              <a:t>شجار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44720" y="0"/>
            <a:ext cx="2003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1000" y="6480"/>
            <a:ext cx="1110960" cy="1587240"/>
          </a:xfrm>
          <a:custGeom>
            <a:avLst/>
            <a:gdLst/>
            <a:ahLst/>
            <a:rect l="l" t="t" r="r" b="b"/>
            <a:pathLst>
              <a:path w="3500" h="6999">
                <a:moveTo>
                  <a:pt x="1353" y="6998"/>
                </a:moveTo>
                <a:lnTo>
                  <a:pt x="1408" y="6999"/>
                </a:lnTo>
                <a:lnTo>
                  <a:pt x="1462" y="6999"/>
                </a:lnTo>
                <a:lnTo>
                  <a:pt x="1517" y="6998"/>
                </a:lnTo>
                <a:lnTo>
                  <a:pt x="1572" y="6996"/>
                </a:lnTo>
                <a:lnTo>
                  <a:pt x="1628" y="6992"/>
                </a:lnTo>
                <a:lnTo>
                  <a:pt x="1683" y="6987"/>
                </a:lnTo>
                <a:lnTo>
                  <a:pt x="1739" y="6981"/>
                </a:lnTo>
                <a:lnTo>
                  <a:pt x="1794" y="6974"/>
                </a:lnTo>
                <a:lnTo>
                  <a:pt x="1851" y="6965"/>
                </a:lnTo>
                <a:lnTo>
                  <a:pt x="1907" y="6955"/>
                </a:lnTo>
                <a:lnTo>
                  <a:pt x="1962" y="6944"/>
                </a:lnTo>
                <a:lnTo>
                  <a:pt x="2018" y="6933"/>
                </a:lnTo>
                <a:lnTo>
                  <a:pt x="2072" y="6919"/>
                </a:lnTo>
                <a:lnTo>
                  <a:pt x="2127" y="6904"/>
                </a:lnTo>
                <a:lnTo>
                  <a:pt x="2181" y="6889"/>
                </a:lnTo>
                <a:lnTo>
                  <a:pt x="2234" y="6872"/>
                </a:lnTo>
                <a:lnTo>
                  <a:pt x="2288" y="6854"/>
                </a:lnTo>
                <a:lnTo>
                  <a:pt x="2340" y="6835"/>
                </a:lnTo>
                <a:lnTo>
                  <a:pt x="2391" y="6814"/>
                </a:lnTo>
                <a:lnTo>
                  <a:pt x="2442" y="6792"/>
                </a:lnTo>
                <a:lnTo>
                  <a:pt x="2491" y="6770"/>
                </a:lnTo>
                <a:lnTo>
                  <a:pt x="2539" y="6745"/>
                </a:lnTo>
                <a:lnTo>
                  <a:pt x="2587" y="6720"/>
                </a:lnTo>
                <a:lnTo>
                  <a:pt x="2634" y="6694"/>
                </a:lnTo>
                <a:lnTo>
                  <a:pt x="2678" y="6665"/>
                </a:lnTo>
                <a:lnTo>
                  <a:pt x="2722" y="6636"/>
                </a:lnTo>
                <a:lnTo>
                  <a:pt x="2764" y="6607"/>
                </a:lnTo>
                <a:lnTo>
                  <a:pt x="2805" y="6575"/>
                </a:lnTo>
                <a:lnTo>
                  <a:pt x="2843" y="6543"/>
                </a:lnTo>
                <a:lnTo>
                  <a:pt x="2881" y="6509"/>
                </a:lnTo>
                <a:lnTo>
                  <a:pt x="2917" y="6474"/>
                </a:lnTo>
                <a:lnTo>
                  <a:pt x="2951" y="6438"/>
                </a:lnTo>
                <a:lnTo>
                  <a:pt x="2985" y="6404"/>
                </a:lnTo>
                <a:lnTo>
                  <a:pt x="3021" y="6372"/>
                </a:lnTo>
                <a:lnTo>
                  <a:pt x="3059" y="6343"/>
                </a:lnTo>
                <a:lnTo>
                  <a:pt x="3097" y="6316"/>
                </a:lnTo>
                <a:lnTo>
                  <a:pt x="3137" y="6289"/>
                </a:lnTo>
                <a:lnTo>
                  <a:pt x="3176" y="6264"/>
                </a:lnTo>
                <a:lnTo>
                  <a:pt x="3215" y="6239"/>
                </a:lnTo>
                <a:lnTo>
                  <a:pt x="3254" y="6214"/>
                </a:lnTo>
                <a:lnTo>
                  <a:pt x="3290" y="6190"/>
                </a:lnTo>
                <a:lnTo>
                  <a:pt x="3325" y="6164"/>
                </a:lnTo>
                <a:lnTo>
                  <a:pt x="3359" y="6137"/>
                </a:lnTo>
                <a:lnTo>
                  <a:pt x="3390" y="6109"/>
                </a:lnTo>
                <a:lnTo>
                  <a:pt x="3418" y="6079"/>
                </a:lnTo>
                <a:lnTo>
                  <a:pt x="3443" y="6046"/>
                </a:lnTo>
                <a:lnTo>
                  <a:pt x="3464" y="6012"/>
                </a:lnTo>
                <a:lnTo>
                  <a:pt x="3481" y="5974"/>
                </a:lnTo>
                <a:lnTo>
                  <a:pt x="3495" y="5918"/>
                </a:lnTo>
                <a:lnTo>
                  <a:pt x="3500" y="5866"/>
                </a:lnTo>
                <a:lnTo>
                  <a:pt x="3495" y="5820"/>
                </a:lnTo>
                <a:lnTo>
                  <a:pt x="3482" y="5777"/>
                </a:lnTo>
                <a:lnTo>
                  <a:pt x="3460" y="5739"/>
                </a:lnTo>
                <a:lnTo>
                  <a:pt x="3432" y="5707"/>
                </a:lnTo>
                <a:lnTo>
                  <a:pt x="3398" y="5678"/>
                </a:lnTo>
                <a:lnTo>
                  <a:pt x="3358" y="5657"/>
                </a:lnTo>
                <a:lnTo>
                  <a:pt x="3314" y="5641"/>
                </a:lnTo>
                <a:lnTo>
                  <a:pt x="3268" y="5632"/>
                </a:lnTo>
                <a:lnTo>
                  <a:pt x="3218" y="5628"/>
                </a:lnTo>
                <a:lnTo>
                  <a:pt x="3167" y="5633"/>
                </a:lnTo>
                <a:lnTo>
                  <a:pt x="3114" y="5644"/>
                </a:lnTo>
                <a:lnTo>
                  <a:pt x="3062" y="5661"/>
                </a:lnTo>
                <a:lnTo>
                  <a:pt x="3011" y="5687"/>
                </a:lnTo>
                <a:lnTo>
                  <a:pt x="2962" y="5721"/>
                </a:lnTo>
                <a:lnTo>
                  <a:pt x="2924" y="5753"/>
                </a:lnTo>
                <a:lnTo>
                  <a:pt x="2885" y="5786"/>
                </a:lnTo>
                <a:lnTo>
                  <a:pt x="2848" y="5820"/>
                </a:lnTo>
                <a:lnTo>
                  <a:pt x="2812" y="5853"/>
                </a:lnTo>
                <a:lnTo>
                  <a:pt x="2775" y="5888"/>
                </a:lnTo>
                <a:lnTo>
                  <a:pt x="2740" y="5923"/>
                </a:lnTo>
                <a:lnTo>
                  <a:pt x="2705" y="5957"/>
                </a:lnTo>
                <a:lnTo>
                  <a:pt x="2670" y="5992"/>
                </a:lnTo>
                <a:lnTo>
                  <a:pt x="2635" y="6028"/>
                </a:lnTo>
                <a:lnTo>
                  <a:pt x="2600" y="6063"/>
                </a:lnTo>
                <a:lnTo>
                  <a:pt x="2566" y="6097"/>
                </a:lnTo>
                <a:lnTo>
                  <a:pt x="2530" y="6132"/>
                </a:lnTo>
                <a:lnTo>
                  <a:pt x="2495" y="6166"/>
                </a:lnTo>
                <a:lnTo>
                  <a:pt x="2460" y="6200"/>
                </a:lnTo>
                <a:lnTo>
                  <a:pt x="2424" y="6232"/>
                </a:lnTo>
                <a:lnTo>
                  <a:pt x="2387" y="6264"/>
                </a:lnTo>
                <a:lnTo>
                  <a:pt x="2351" y="6295"/>
                </a:lnTo>
                <a:lnTo>
                  <a:pt x="2314" y="6326"/>
                </a:lnTo>
                <a:lnTo>
                  <a:pt x="2275" y="6355"/>
                </a:lnTo>
                <a:lnTo>
                  <a:pt x="2237" y="6383"/>
                </a:lnTo>
                <a:lnTo>
                  <a:pt x="2197" y="6409"/>
                </a:lnTo>
                <a:lnTo>
                  <a:pt x="2156" y="6435"/>
                </a:lnTo>
                <a:lnTo>
                  <a:pt x="2114" y="6458"/>
                </a:lnTo>
                <a:lnTo>
                  <a:pt x="2071" y="6481"/>
                </a:lnTo>
                <a:lnTo>
                  <a:pt x="2027" y="6501"/>
                </a:lnTo>
                <a:lnTo>
                  <a:pt x="1981" y="6520"/>
                </a:lnTo>
                <a:lnTo>
                  <a:pt x="1934" y="6536"/>
                </a:lnTo>
                <a:lnTo>
                  <a:pt x="1885" y="6550"/>
                </a:lnTo>
                <a:lnTo>
                  <a:pt x="1835" y="6563"/>
                </a:lnTo>
                <a:lnTo>
                  <a:pt x="1783" y="6573"/>
                </a:lnTo>
                <a:lnTo>
                  <a:pt x="1729" y="6581"/>
                </a:lnTo>
                <a:lnTo>
                  <a:pt x="1673" y="6586"/>
                </a:lnTo>
                <a:lnTo>
                  <a:pt x="1640" y="6588"/>
                </a:lnTo>
                <a:lnTo>
                  <a:pt x="1606" y="6589"/>
                </a:lnTo>
                <a:lnTo>
                  <a:pt x="1571" y="6590"/>
                </a:lnTo>
                <a:lnTo>
                  <a:pt x="1537" y="6592"/>
                </a:lnTo>
                <a:lnTo>
                  <a:pt x="1502" y="6593"/>
                </a:lnTo>
                <a:lnTo>
                  <a:pt x="1467" y="6593"/>
                </a:lnTo>
                <a:lnTo>
                  <a:pt x="1431" y="6593"/>
                </a:lnTo>
                <a:lnTo>
                  <a:pt x="1395" y="6592"/>
                </a:lnTo>
                <a:lnTo>
                  <a:pt x="1360" y="6589"/>
                </a:lnTo>
                <a:lnTo>
                  <a:pt x="1325" y="6588"/>
                </a:lnTo>
                <a:lnTo>
                  <a:pt x="1290" y="6585"/>
                </a:lnTo>
                <a:lnTo>
                  <a:pt x="1255" y="6582"/>
                </a:lnTo>
                <a:lnTo>
                  <a:pt x="1219" y="6577"/>
                </a:lnTo>
                <a:lnTo>
                  <a:pt x="1184" y="6572"/>
                </a:lnTo>
                <a:lnTo>
                  <a:pt x="1150" y="6566"/>
                </a:lnTo>
                <a:lnTo>
                  <a:pt x="1116" y="6558"/>
                </a:lnTo>
                <a:lnTo>
                  <a:pt x="1083" y="6550"/>
                </a:lnTo>
                <a:lnTo>
                  <a:pt x="1050" y="6541"/>
                </a:lnTo>
                <a:lnTo>
                  <a:pt x="1018" y="6531"/>
                </a:lnTo>
                <a:lnTo>
                  <a:pt x="987" y="6519"/>
                </a:lnTo>
                <a:lnTo>
                  <a:pt x="956" y="6506"/>
                </a:lnTo>
                <a:lnTo>
                  <a:pt x="927" y="6492"/>
                </a:lnTo>
                <a:lnTo>
                  <a:pt x="897" y="6476"/>
                </a:lnTo>
                <a:lnTo>
                  <a:pt x="870" y="6460"/>
                </a:lnTo>
                <a:lnTo>
                  <a:pt x="843" y="6442"/>
                </a:lnTo>
                <a:lnTo>
                  <a:pt x="818" y="6422"/>
                </a:lnTo>
                <a:lnTo>
                  <a:pt x="793" y="6400"/>
                </a:lnTo>
                <a:lnTo>
                  <a:pt x="770" y="6378"/>
                </a:lnTo>
                <a:lnTo>
                  <a:pt x="749" y="6353"/>
                </a:lnTo>
                <a:lnTo>
                  <a:pt x="728" y="6327"/>
                </a:lnTo>
                <a:lnTo>
                  <a:pt x="709" y="6298"/>
                </a:lnTo>
                <a:lnTo>
                  <a:pt x="692" y="6269"/>
                </a:lnTo>
                <a:lnTo>
                  <a:pt x="631" y="6147"/>
                </a:lnTo>
                <a:lnTo>
                  <a:pt x="579" y="6024"/>
                </a:lnTo>
                <a:lnTo>
                  <a:pt x="537" y="5899"/>
                </a:lnTo>
                <a:lnTo>
                  <a:pt x="502" y="5772"/>
                </a:lnTo>
                <a:lnTo>
                  <a:pt x="474" y="5644"/>
                </a:lnTo>
                <a:lnTo>
                  <a:pt x="455" y="5515"/>
                </a:lnTo>
                <a:lnTo>
                  <a:pt x="441" y="5386"/>
                </a:lnTo>
                <a:lnTo>
                  <a:pt x="435" y="5256"/>
                </a:lnTo>
                <a:lnTo>
                  <a:pt x="432" y="5127"/>
                </a:lnTo>
                <a:lnTo>
                  <a:pt x="435" y="4998"/>
                </a:lnTo>
                <a:lnTo>
                  <a:pt x="441" y="4868"/>
                </a:lnTo>
                <a:lnTo>
                  <a:pt x="452" y="4740"/>
                </a:lnTo>
                <a:lnTo>
                  <a:pt x="464" y="4614"/>
                </a:lnTo>
                <a:lnTo>
                  <a:pt x="480" y="4488"/>
                </a:lnTo>
                <a:lnTo>
                  <a:pt x="497" y="4364"/>
                </a:lnTo>
                <a:lnTo>
                  <a:pt x="515" y="4243"/>
                </a:lnTo>
                <a:lnTo>
                  <a:pt x="538" y="4096"/>
                </a:lnTo>
                <a:lnTo>
                  <a:pt x="563" y="3951"/>
                </a:lnTo>
                <a:lnTo>
                  <a:pt x="591" y="3806"/>
                </a:lnTo>
                <a:lnTo>
                  <a:pt x="622" y="3662"/>
                </a:lnTo>
                <a:lnTo>
                  <a:pt x="653" y="3519"/>
                </a:lnTo>
                <a:lnTo>
                  <a:pt x="689" y="3376"/>
                </a:lnTo>
                <a:lnTo>
                  <a:pt x="726" y="3235"/>
                </a:lnTo>
                <a:lnTo>
                  <a:pt x="767" y="3095"/>
                </a:lnTo>
                <a:lnTo>
                  <a:pt x="809" y="2956"/>
                </a:lnTo>
                <a:lnTo>
                  <a:pt x="854" y="2819"/>
                </a:lnTo>
                <a:lnTo>
                  <a:pt x="902" y="2684"/>
                </a:lnTo>
                <a:lnTo>
                  <a:pt x="952" y="2549"/>
                </a:lnTo>
                <a:lnTo>
                  <a:pt x="1005" y="2416"/>
                </a:lnTo>
                <a:lnTo>
                  <a:pt x="1061" y="2286"/>
                </a:lnTo>
                <a:lnTo>
                  <a:pt x="1118" y="2158"/>
                </a:lnTo>
                <a:lnTo>
                  <a:pt x="1180" y="2031"/>
                </a:lnTo>
                <a:lnTo>
                  <a:pt x="1242" y="1907"/>
                </a:lnTo>
                <a:lnTo>
                  <a:pt x="1309" y="1784"/>
                </a:lnTo>
                <a:lnTo>
                  <a:pt x="1377" y="1665"/>
                </a:lnTo>
                <a:lnTo>
                  <a:pt x="1448" y="1548"/>
                </a:lnTo>
                <a:lnTo>
                  <a:pt x="1523" y="1434"/>
                </a:lnTo>
                <a:lnTo>
                  <a:pt x="1599" y="1322"/>
                </a:lnTo>
                <a:lnTo>
                  <a:pt x="1679" y="1213"/>
                </a:lnTo>
                <a:lnTo>
                  <a:pt x="1761" y="1108"/>
                </a:lnTo>
                <a:lnTo>
                  <a:pt x="1847" y="1005"/>
                </a:lnTo>
                <a:lnTo>
                  <a:pt x="1935" y="905"/>
                </a:lnTo>
                <a:lnTo>
                  <a:pt x="2025" y="808"/>
                </a:lnTo>
                <a:lnTo>
                  <a:pt x="2119" y="716"/>
                </a:lnTo>
                <a:lnTo>
                  <a:pt x="2215" y="627"/>
                </a:lnTo>
                <a:lnTo>
                  <a:pt x="2314" y="541"/>
                </a:lnTo>
                <a:lnTo>
                  <a:pt x="2416" y="459"/>
                </a:lnTo>
                <a:lnTo>
                  <a:pt x="2521" y="380"/>
                </a:lnTo>
                <a:lnTo>
                  <a:pt x="2553" y="360"/>
                </a:lnTo>
                <a:lnTo>
                  <a:pt x="2586" y="341"/>
                </a:lnTo>
                <a:lnTo>
                  <a:pt x="2618" y="324"/>
                </a:lnTo>
                <a:lnTo>
                  <a:pt x="2649" y="309"/>
                </a:lnTo>
                <a:lnTo>
                  <a:pt x="2680" y="295"/>
                </a:lnTo>
                <a:lnTo>
                  <a:pt x="2708" y="280"/>
                </a:lnTo>
                <a:lnTo>
                  <a:pt x="2733" y="265"/>
                </a:lnTo>
                <a:lnTo>
                  <a:pt x="2756" y="251"/>
                </a:lnTo>
                <a:lnTo>
                  <a:pt x="2773" y="236"/>
                </a:lnTo>
                <a:lnTo>
                  <a:pt x="2786" y="220"/>
                </a:lnTo>
                <a:lnTo>
                  <a:pt x="2791" y="201"/>
                </a:lnTo>
                <a:lnTo>
                  <a:pt x="2791" y="182"/>
                </a:lnTo>
                <a:lnTo>
                  <a:pt x="2783" y="159"/>
                </a:lnTo>
                <a:lnTo>
                  <a:pt x="2767" y="134"/>
                </a:lnTo>
                <a:lnTo>
                  <a:pt x="2742" y="106"/>
                </a:lnTo>
                <a:lnTo>
                  <a:pt x="2708" y="74"/>
                </a:lnTo>
                <a:lnTo>
                  <a:pt x="2668" y="45"/>
                </a:lnTo>
                <a:lnTo>
                  <a:pt x="2625" y="23"/>
                </a:lnTo>
                <a:lnTo>
                  <a:pt x="2580" y="9"/>
                </a:lnTo>
                <a:lnTo>
                  <a:pt x="2534" y="1"/>
                </a:lnTo>
                <a:lnTo>
                  <a:pt x="2486" y="0"/>
                </a:lnTo>
                <a:lnTo>
                  <a:pt x="2437" y="6"/>
                </a:lnTo>
                <a:lnTo>
                  <a:pt x="2389" y="16"/>
                </a:lnTo>
                <a:lnTo>
                  <a:pt x="2340" y="31"/>
                </a:lnTo>
                <a:lnTo>
                  <a:pt x="2291" y="50"/>
                </a:lnTo>
                <a:lnTo>
                  <a:pt x="2243" y="73"/>
                </a:lnTo>
                <a:lnTo>
                  <a:pt x="2198" y="100"/>
                </a:lnTo>
                <a:lnTo>
                  <a:pt x="2154" y="130"/>
                </a:lnTo>
                <a:lnTo>
                  <a:pt x="2112" y="161"/>
                </a:lnTo>
                <a:lnTo>
                  <a:pt x="2072" y="194"/>
                </a:lnTo>
                <a:lnTo>
                  <a:pt x="2036" y="228"/>
                </a:lnTo>
                <a:lnTo>
                  <a:pt x="2003" y="264"/>
                </a:lnTo>
                <a:lnTo>
                  <a:pt x="1970" y="300"/>
                </a:lnTo>
                <a:lnTo>
                  <a:pt x="1937" y="336"/>
                </a:lnTo>
                <a:lnTo>
                  <a:pt x="1905" y="372"/>
                </a:lnTo>
                <a:lnTo>
                  <a:pt x="1873" y="408"/>
                </a:lnTo>
                <a:lnTo>
                  <a:pt x="1841" y="443"/>
                </a:lnTo>
                <a:lnTo>
                  <a:pt x="1809" y="479"/>
                </a:lnTo>
                <a:lnTo>
                  <a:pt x="1778" y="515"/>
                </a:lnTo>
                <a:lnTo>
                  <a:pt x="1747" y="552"/>
                </a:lnTo>
                <a:lnTo>
                  <a:pt x="1716" y="588"/>
                </a:lnTo>
                <a:lnTo>
                  <a:pt x="1685" y="625"/>
                </a:lnTo>
                <a:lnTo>
                  <a:pt x="1656" y="662"/>
                </a:lnTo>
                <a:lnTo>
                  <a:pt x="1625" y="697"/>
                </a:lnTo>
                <a:lnTo>
                  <a:pt x="1596" y="734"/>
                </a:lnTo>
                <a:lnTo>
                  <a:pt x="1566" y="771"/>
                </a:lnTo>
                <a:lnTo>
                  <a:pt x="1537" y="809"/>
                </a:lnTo>
                <a:lnTo>
                  <a:pt x="1509" y="846"/>
                </a:lnTo>
                <a:lnTo>
                  <a:pt x="1480" y="883"/>
                </a:lnTo>
                <a:lnTo>
                  <a:pt x="1452" y="921"/>
                </a:lnTo>
                <a:lnTo>
                  <a:pt x="1424" y="959"/>
                </a:lnTo>
                <a:lnTo>
                  <a:pt x="1396" y="997"/>
                </a:lnTo>
                <a:lnTo>
                  <a:pt x="1369" y="1035"/>
                </a:lnTo>
                <a:lnTo>
                  <a:pt x="1342" y="1073"/>
                </a:lnTo>
                <a:lnTo>
                  <a:pt x="1316" y="1112"/>
                </a:lnTo>
                <a:lnTo>
                  <a:pt x="1289" y="1150"/>
                </a:lnTo>
                <a:lnTo>
                  <a:pt x="1262" y="1189"/>
                </a:lnTo>
                <a:lnTo>
                  <a:pt x="1238" y="1228"/>
                </a:lnTo>
                <a:lnTo>
                  <a:pt x="1211" y="1268"/>
                </a:lnTo>
                <a:lnTo>
                  <a:pt x="1186" y="1307"/>
                </a:lnTo>
                <a:lnTo>
                  <a:pt x="1162" y="1347"/>
                </a:lnTo>
                <a:lnTo>
                  <a:pt x="1137" y="1387"/>
                </a:lnTo>
                <a:lnTo>
                  <a:pt x="1113" y="1427"/>
                </a:lnTo>
                <a:lnTo>
                  <a:pt x="1089" y="1467"/>
                </a:lnTo>
                <a:lnTo>
                  <a:pt x="1014" y="1600"/>
                </a:lnTo>
                <a:lnTo>
                  <a:pt x="939" y="1736"/>
                </a:lnTo>
                <a:lnTo>
                  <a:pt x="866" y="1875"/>
                </a:lnTo>
                <a:lnTo>
                  <a:pt x="793" y="2017"/>
                </a:lnTo>
                <a:lnTo>
                  <a:pt x="723" y="2162"/>
                </a:lnTo>
                <a:lnTo>
                  <a:pt x="653" y="2310"/>
                </a:lnTo>
                <a:lnTo>
                  <a:pt x="587" y="2460"/>
                </a:lnTo>
                <a:lnTo>
                  <a:pt x="522" y="2612"/>
                </a:lnTo>
                <a:lnTo>
                  <a:pt x="460" y="2766"/>
                </a:lnTo>
                <a:lnTo>
                  <a:pt x="401" y="2922"/>
                </a:lnTo>
                <a:lnTo>
                  <a:pt x="344" y="3081"/>
                </a:lnTo>
                <a:lnTo>
                  <a:pt x="291" y="3241"/>
                </a:lnTo>
                <a:lnTo>
                  <a:pt x="242" y="3401"/>
                </a:lnTo>
                <a:lnTo>
                  <a:pt x="196" y="3563"/>
                </a:lnTo>
                <a:lnTo>
                  <a:pt x="154" y="3726"/>
                </a:lnTo>
                <a:lnTo>
                  <a:pt x="117" y="3889"/>
                </a:lnTo>
                <a:lnTo>
                  <a:pt x="85" y="4053"/>
                </a:lnTo>
                <a:lnTo>
                  <a:pt x="57" y="4218"/>
                </a:lnTo>
                <a:lnTo>
                  <a:pt x="34" y="4382"/>
                </a:lnTo>
                <a:lnTo>
                  <a:pt x="17" y="4546"/>
                </a:lnTo>
                <a:lnTo>
                  <a:pt x="6" y="4710"/>
                </a:lnTo>
                <a:lnTo>
                  <a:pt x="0" y="4874"/>
                </a:lnTo>
                <a:lnTo>
                  <a:pt x="1" y="5037"/>
                </a:lnTo>
                <a:lnTo>
                  <a:pt x="8" y="5198"/>
                </a:lnTo>
                <a:lnTo>
                  <a:pt x="22" y="5359"/>
                </a:lnTo>
                <a:lnTo>
                  <a:pt x="43" y="5519"/>
                </a:lnTo>
                <a:lnTo>
                  <a:pt x="71" y="5677"/>
                </a:lnTo>
                <a:lnTo>
                  <a:pt x="106" y="5834"/>
                </a:lnTo>
                <a:lnTo>
                  <a:pt x="150" y="5988"/>
                </a:lnTo>
                <a:lnTo>
                  <a:pt x="201" y="6141"/>
                </a:lnTo>
                <a:lnTo>
                  <a:pt x="260" y="6291"/>
                </a:lnTo>
                <a:lnTo>
                  <a:pt x="328" y="6438"/>
                </a:lnTo>
                <a:lnTo>
                  <a:pt x="346" y="6473"/>
                </a:lnTo>
                <a:lnTo>
                  <a:pt x="365" y="6507"/>
                </a:lnTo>
                <a:lnTo>
                  <a:pt x="386" y="6539"/>
                </a:lnTo>
                <a:lnTo>
                  <a:pt x="407" y="6571"/>
                </a:lnTo>
                <a:lnTo>
                  <a:pt x="430" y="6601"/>
                </a:lnTo>
                <a:lnTo>
                  <a:pt x="454" y="6631"/>
                </a:lnTo>
                <a:lnTo>
                  <a:pt x="479" y="6658"/>
                </a:lnTo>
                <a:lnTo>
                  <a:pt x="505" y="6685"/>
                </a:lnTo>
                <a:lnTo>
                  <a:pt x="532" y="6710"/>
                </a:lnTo>
                <a:lnTo>
                  <a:pt x="559" y="6735"/>
                </a:lnTo>
                <a:lnTo>
                  <a:pt x="589" y="6758"/>
                </a:lnTo>
                <a:lnTo>
                  <a:pt x="618" y="6779"/>
                </a:lnTo>
                <a:lnTo>
                  <a:pt x="649" y="6800"/>
                </a:lnTo>
                <a:lnTo>
                  <a:pt x="681" y="6821"/>
                </a:lnTo>
                <a:lnTo>
                  <a:pt x="712" y="6839"/>
                </a:lnTo>
                <a:lnTo>
                  <a:pt x="745" y="6857"/>
                </a:lnTo>
                <a:lnTo>
                  <a:pt x="779" y="6873"/>
                </a:lnTo>
                <a:lnTo>
                  <a:pt x="813" y="6888"/>
                </a:lnTo>
                <a:lnTo>
                  <a:pt x="849" y="6903"/>
                </a:lnTo>
                <a:lnTo>
                  <a:pt x="885" y="6916"/>
                </a:lnTo>
                <a:lnTo>
                  <a:pt x="921" y="6928"/>
                </a:lnTo>
                <a:lnTo>
                  <a:pt x="957" y="6940"/>
                </a:lnTo>
                <a:lnTo>
                  <a:pt x="995" y="6950"/>
                </a:lnTo>
                <a:lnTo>
                  <a:pt x="1033" y="6960"/>
                </a:lnTo>
                <a:lnTo>
                  <a:pt x="1072" y="6967"/>
                </a:lnTo>
                <a:lnTo>
                  <a:pt x="1111" y="6975"/>
                </a:lnTo>
                <a:lnTo>
                  <a:pt x="1150" y="6981"/>
                </a:lnTo>
                <a:lnTo>
                  <a:pt x="1190" y="6986"/>
                </a:lnTo>
                <a:lnTo>
                  <a:pt x="1231" y="6990"/>
                </a:lnTo>
                <a:lnTo>
                  <a:pt x="1272" y="6993"/>
                </a:lnTo>
                <a:lnTo>
                  <a:pt x="1312" y="6997"/>
                </a:lnTo>
                <a:lnTo>
                  <a:pt x="1353" y="69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52640" y="1009800"/>
            <a:ext cx="365040" cy="423720"/>
          </a:xfrm>
          <a:custGeom>
            <a:avLst/>
            <a:gdLst/>
            <a:ahLst/>
            <a:rect l="l" t="t" r="r" b="b"/>
            <a:pathLst>
              <a:path w="1150" h="1868">
                <a:moveTo>
                  <a:pt x="853" y="1868"/>
                </a:moveTo>
                <a:lnTo>
                  <a:pt x="1030" y="1847"/>
                </a:lnTo>
                <a:lnTo>
                  <a:pt x="1064" y="1825"/>
                </a:lnTo>
                <a:lnTo>
                  <a:pt x="1093" y="1802"/>
                </a:lnTo>
                <a:lnTo>
                  <a:pt x="1117" y="1773"/>
                </a:lnTo>
                <a:lnTo>
                  <a:pt x="1134" y="1743"/>
                </a:lnTo>
                <a:lnTo>
                  <a:pt x="1146" y="1708"/>
                </a:lnTo>
                <a:lnTo>
                  <a:pt x="1150" y="1670"/>
                </a:lnTo>
                <a:lnTo>
                  <a:pt x="1149" y="1629"/>
                </a:lnTo>
                <a:lnTo>
                  <a:pt x="1140" y="1583"/>
                </a:lnTo>
                <a:lnTo>
                  <a:pt x="1134" y="1560"/>
                </a:lnTo>
                <a:lnTo>
                  <a:pt x="1128" y="1541"/>
                </a:lnTo>
                <a:lnTo>
                  <a:pt x="1121" y="1524"/>
                </a:lnTo>
                <a:lnTo>
                  <a:pt x="1113" y="1507"/>
                </a:lnTo>
                <a:lnTo>
                  <a:pt x="1104" y="1493"/>
                </a:lnTo>
                <a:lnTo>
                  <a:pt x="1096" y="1480"/>
                </a:lnTo>
                <a:lnTo>
                  <a:pt x="1090" y="1468"/>
                </a:lnTo>
                <a:lnTo>
                  <a:pt x="1084" y="1456"/>
                </a:lnTo>
                <a:lnTo>
                  <a:pt x="699" y="1393"/>
                </a:lnTo>
                <a:lnTo>
                  <a:pt x="676" y="1378"/>
                </a:lnTo>
                <a:lnTo>
                  <a:pt x="652" y="1362"/>
                </a:lnTo>
                <a:lnTo>
                  <a:pt x="628" y="1344"/>
                </a:lnTo>
                <a:lnTo>
                  <a:pt x="605" y="1325"/>
                </a:lnTo>
                <a:lnTo>
                  <a:pt x="581" y="1303"/>
                </a:lnTo>
                <a:lnTo>
                  <a:pt x="557" y="1281"/>
                </a:lnTo>
                <a:lnTo>
                  <a:pt x="534" y="1258"/>
                </a:lnTo>
                <a:lnTo>
                  <a:pt x="513" y="1233"/>
                </a:lnTo>
                <a:lnTo>
                  <a:pt x="492" y="1205"/>
                </a:lnTo>
                <a:lnTo>
                  <a:pt x="473" y="1178"/>
                </a:lnTo>
                <a:lnTo>
                  <a:pt x="456" y="1150"/>
                </a:lnTo>
                <a:lnTo>
                  <a:pt x="440" y="1120"/>
                </a:lnTo>
                <a:lnTo>
                  <a:pt x="426" y="1089"/>
                </a:lnTo>
                <a:lnTo>
                  <a:pt x="415" y="1058"/>
                </a:lnTo>
                <a:lnTo>
                  <a:pt x="407" y="1025"/>
                </a:lnTo>
                <a:lnTo>
                  <a:pt x="402" y="991"/>
                </a:lnTo>
                <a:lnTo>
                  <a:pt x="409" y="940"/>
                </a:lnTo>
                <a:lnTo>
                  <a:pt x="419" y="892"/>
                </a:lnTo>
                <a:lnTo>
                  <a:pt x="431" y="844"/>
                </a:lnTo>
                <a:lnTo>
                  <a:pt x="447" y="797"/>
                </a:lnTo>
                <a:lnTo>
                  <a:pt x="464" y="753"/>
                </a:lnTo>
                <a:lnTo>
                  <a:pt x="484" y="709"/>
                </a:lnTo>
                <a:lnTo>
                  <a:pt x="507" y="668"/>
                </a:lnTo>
                <a:lnTo>
                  <a:pt x="532" y="628"/>
                </a:lnTo>
                <a:lnTo>
                  <a:pt x="559" y="591"/>
                </a:lnTo>
                <a:lnTo>
                  <a:pt x="590" y="555"/>
                </a:lnTo>
                <a:lnTo>
                  <a:pt x="622" y="521"/>
                </a:lnTo>
                <a:lnTo>
                  <a:pt x="657" y="490"/>
                </a:lnTo>
                <a:lnTo>
                  <a:pt x="694" y="462"/>
                </a:lnTo>
                <a:lnTo>
                  <a:pt x="734" y="436"/>
                </a:lnTo>
                <a:lnTo>
                  <a:pt x="776" y="412"/>
                </a:lnTo>
                <a:lnTo>
                  <a:pt x="820" y="390"/>
                </a:lnTo>
                <a:lnTo>
                  <a:pt x="846" y="387"/>
                </a:lnTo>
                <a:lnTo>
                  <a:pt x="868" y="384"/>
                </a:lnTo>
                <a:lnTo>
                  <a:pt x="885" y="382"/>
                </a:lnTo>
                <a:lnTo>
                  <a:pt x="901" y="381"/>
                </a:lnTo>
                <a:lnTo>
                  <a:pt x="914" y="380"/>
                </a:lnTo>
                <a:lnTo>
                  <a:pt x="929" y="380"/>
                </a:lnTo>
                <a:lnTo>
                  <a:pt x="945" y="380"/>
                </a:lnTo>
                <a:lnTo>
                  <a:pt x="963" y="380"/>
                </a:lnTo>
                <a:lnTo>
                  <a:pt x="988" y="366"/>
                </a:lnTo>
                <a:lnTo>
                  <a:pt x="1011" y="346"/>
                </a:lnTo>
                <a:lnTo>
                  <a:pt x="1031" y="324"/>
                </a:lnTo>
                <a:lnTo>
                  <a:pt x="1050" y="298"/>
                </a:lnTo>
                <a:lnTo>
                  <a:pt x="1066" y="268"/>
                </a:lnTo>
                <a:lnTo>
                  <a:pt x="1080" y="237"/>
                </a:lnTo>
                <a:lnTo>
                  <a:pt x="1090" y="203"/>
                </a:lnTo>
                <a:lnTo>
                  <a:pt x="1096" y="168"/>
                </a:lnTo>
                <a:lnTo>
                  <a:pt x="1007" y="52"/>
                </a:lnTo>
                <a:lnTo>
                  <a:pt x="776" y="0"/>
                </a:lnTo>
                <a:lnTo>
                  <a:pt x="726" y="15"/>
                </a:lnTo>
                <a:lnTo>
                  <a:pt x="679" y="32"/>
                </a:lnTo>
                <a:lnTo>
                  <a:pt x="636" y="51"/>
                </a:lnTo>
                <a:lnTo>
                  <a:pt x="597" y="73"/>
                </a:lnTo>
                <a:lnTo>
                  <a:pt x="558" y="96"/>
                </a:lnTo>
                <a:lnTo>
                  <a:pt x="522" y="121"/>
                </a:lnTo>
                <a:lnTo>
                  <a:pt x="488" y="147"/>
                </a:lnTo>
                <a:lnTo>
                  <a:pt x="455" y="175"/>
                </a:lnTo>
                <a:lnTo>
                  <a:pt x="423" y="205"/>
                </a:lnTo>
                <a:lnTo>
                  <a:pt x="391" y="237"/>
                </a:lnTo>
                <a:lnTo>
                  <a:pt x="360" y="269"/>
                </a:lnTo>
                <a:lnTo>
                  <a:pt x="328" y="304"/>
                </a:lnTo>
                <a:lnTo>
                  <a:pt x="296" y="340"/>
                </a:lnTo>
                <a:lnTo>
                  <a:pt x="262" y="377"/>
                </a:lnTo>
                <a:lnTo>
                  <a:pt x="228" y="415"/>
                </a:lnTo>
                <a:lnTo>
                  <a:pt x="192" y="454"/>
                </a:lnTo>
                <a:lnTo>
                  <a:pt x="154" y="506"/>
                </a:lnTo>
                <a:lnTo>
                  <a:pt x="120" y="561"/>
                </a:lnTo>
                <a:lnTo>
                  <a:pt x="91" y="618"/>
                </a:lnTo>
                <a:lnTo>
                  <a:pt x="65" y="675"/>
                </a:lnTo>
                <a:lnTo>
                  <a:pt x="43" y="735"/>
                </a:lnTo>
                <a:lnTo>
                  <a:pt x="26" y="795"/>
                </a:lnTo>
                <a:lnTo>
                  <a:pt x="13" y="856"/>
                </a:lnTo>
                <a:lnTo>
                  <a:pt x="5" y="917"/>
                </a:lnTo>
                <a:lnTo>
                  <a:pt x="0" y="977"/>
                </a:lnTo>
                <a:lnTo>
                  <a:pt x="1" y="1037"/>
                </a:lnTo>
                <a:lnTo>
                  <a:pt x="7" y="1097"/>
                </a:lnTo>
                <a:lnTo>
                  <a:pt x="18" y="1155"/>
                </a:lnTo>
                <a:lnTo>
                  <a:pt x="34" y="1212"/>
                </a:lnTo>
                <a:lnTo>
                  <a:pt x="56" y="1267"/>
                </a:lnTo>
                <a:lnTo>
                  <a:pt x="83" y="1320"/>
                </a:lnTo>
                <a:lnTo>
                  <a:pt x="115" y="1372"/>
                </a:lnTo>
                <a:lnTo>
                  <a:pt x="133" y="1398"/>
                </a:lnTo>
                <a:lnTo>
                  <a:pt x="152" y="1424"/>
                </a:lnTo>
                <a:lnTo>
                  <a:pt x="171" y="1448"/>
                </a:lnTo>
                <a:lnTo>
                  <a:pt x="191" y="1471"/>
                </a:lnTo>
                <a:lnTo>
                  <a:pt x="210" y="1495"/>
                </a:lnTo>
                <a:lnTo>
                  <a:pt x="229" y="1517"/>
                </a:lnTo>
                <a:lnTo>
                  <a:pt x="248" y="1539"/>
                </a:lnTo>
                <a:lnTo>
                  <a:pt x="269" y="1559"/>
                </a:lnTo>
                <a:lnTo>
                  <a:pt x="289" y="1579"/>
                </a:lnTo>
                <a:lnTo>
                  <a:pt x="310" y="1598"/>
                </a:lnTo>
                <a:lnTo>
                  <a:pt x="330" y="1617"/>
                </a:lnTo>
                <a:lnTo>
                  <a:pt x="352" y="1634"/>
                </a:lnTo>
                <a:lnTo>
                  <a:pt x="372" y="1652"/>
                </a:lnTo>
                <a:lnTo>
                  <a:pt x="394" y="1668"/>
                </a:lnTo>
                <a:lnTo>
                  <a:pt x="416" y="1684"/>
                </a:lnTo>
                <a:lnTo>
                  <a:pt x="438" y="1699"/>
                </a:lnTo>
                <a:lnTo>
                  <a:pt x="461" y="1714"/>
                </a:lnTo>
                <a:lnTo>
                  <a:pt x="484" y="1728"/>
                </a:lnTo>
                <a:lnTo>
                  <a:pt x="507" y="1741"/>
                </a:lnTo>
                <a:lnTo>
                  <a:pt x="531" y="1754"/>
                </a:lnTo>
                <a:lnTo>
                  <a:pt x="556" y="1766"/>
                </a:lnTo>
                <a:lnTo>
                  <a:pt x="580" y="1778"/>
                </a:lnTo>
                <a:lnTo>
                  <a:pt x="605" y="1789"/>
                </a:lnTo>
                <a:lnTo>
                  <a:pt x="631" y="1799"/>
                </a:lnTo>
                <a:lnTo>
                  <a:pt x="657" y="1809"/>
                </a:lnTo>
                <a:lnTo>
                  <a:pt x="683" y="1819"/>
                </a:lnTo>
                <a:lnTo>
                  <a:pt x="710" y="1829"/>
                </a:lnTo>
                <a:lnTo>
                  <a:pt x="737" y="1837"/>
                </a:lnTo>
                <a:lnTo>
                  <a:pt x="766" y="1845"/>
                </a:lnTo>
                <a:lnTo>
                  <a:pt x="794" y="1854"/>
                </a:lnTo>
                <a:lnTo>
                  <a:pt x="823" y="1860"/>
                </a:lnTo>
                <a:lnTo>
                  <a:pt x="853" y="18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75000" y="868320"/>
            <a:ext cx="565200" cy="372960"/>
          </a:xfrm>
          <a:custGeom>
            <a:avLst/>
            <a:gdLst/>
            <a:ahLst/>
            <a:rect l="l" t="t" r="r" b="b"/>
            <a:pathLst>
              <a:path w="1778" h="1646">
                <a:moveTo>
                  <a:pt x="1487" y="1646"/>
                </a:moveTo>
                <a:lnTo>
                  <a:pt x="1642" y="1498"/>
                </a:lnTo>
                <a:lnTo>
                  <a:pt x="1675" y="1456"/>
                </a:lnTo>
                <a:lnTo>
                  <a:pt x="1702" y="1410"/>
                </a:lnTo>
                <a:lnTo>
                  <a:pt x="1726" y="1363"/>
                </a:lnTo>
                <a:lnTo>
                  <a:pt x="1745" y="1314"/>
                </a:lnTo>
                <a:lnTo>
                  <a:pt x="1759" y="1263"/>
                </a:lnTo>
                <a:lnTo>
                  <a:pt x="1770" y="1212"/>
                </a:lnTo>
                <a:lnTo>
                  <a:pt x="1776" y="1158"/>
                </a:lnTo>
                <a:lnTo>
                  <a:pt x="1778" y="1105"/>
                </a:lnTo>
                <a:lnTo>
                  <a:pt x="1777" y="1052"/>
                </a:lnTo>
                <a:lnTo>
                  <a:pt x="1772" y="998"/>
                </a:lnTo>
                <a:lnTo>
                  <a:pt x="1763" y="946"/>
                </a:lnTo>
                <a:lnTo>
                  <a:pt x="1752" y="892"/>
                </a:lnTo>
                <a:lnTo>
                  <a:pt x="1737" y="841"/>
                </a:lnTo>
                <a:lnTo>
                  <a:pt x="1719" y="791"/>
                </a:lnTo>
                <a:lnTo>
                  <a:pt x="1698" y="743"/>
                </a:lnTo>
                <a:lnTo>
                  <a:pt x="1675" y="696"/>
                </a:lnTo>
                <a:lnTo>
                  <a:pt x="1645" y="655"/>
                </a:lnTo>
                <a:lnTo>
                  <a:pt x="1614" y="616"/>
                </a:lnTo>
                <a:lnTo>
                  <a:pt x="1584" y="578"/>
                </a:lnTo>
                <a:lnTo>
                  <a:pt x="1552" y="542"/>
                </a:lnTo>
                <a:lnTo>
                  <a:pt x="1519" y="506"/>
                </a:lnTo>
                <a:lnTo>
                  <a:pt x="1485" y="472"/>
                </a:lnTo>
                <a:lnTo>
                  <a:pt x="1451" y="440"/>
                </a:lnTo>
                <a:lnTo>
                  <a:pt x="1416" y="409"/>
                </a:lnTo>
                <a:lnTo>
                  <a:pt x="1380" y="379"/>
                </a:lnTo>
                <a:lnTo>
                  <a:pt x="1343" y="351"/>
                </a:lnTo>
                <a:lnTo>
                  <a:pt x="1305" y="323"/>
                </a:lnTo>
                <a:lnTo>
                  <a:pt x="1267" y="297"/>
                </a:lnTo>
                <a:lnTo>
                  <a:pt x="1228" y="272"/>
                </a:lnTo>
                <a:lnTo>
                  <a:pt x="1188" y="250"/>
                </a:lnTo>
                <a:lnTo>
                  <a:pt x="1148" y="227"/>
                </a:lnTo>
                <a:lnTo>
                  <a:pt x="1108" y="205"/>
                </a:lnTo>
                <a:lnTo>
                  <a:pt x="1066" y="186"/>
                </a:lnTo>
                <a:lnTo>
                  <a:pt x="1024" y="166"/>
                </a:lnTo>
                <a:lnTo>
                  <a:pt x="981" y="148"/>
                </a:lnTo>
                <a:lnTo>
                  <a:pt x="936" y="131"/>
                </a:lnTo>
                <a:lnTo>
                  <a:pt x="893" y="115"/>
                </a:lnTo>
                <a:lnTo>
                  <a:pt x="848" y="100"/>
                </a:lnTo>
                <a:lnTo>
                  <a:pt x="802" y="86"/>
                </a:lnTo>
                <a:lnTo>
                  <a:pt x="757" y="73"/>
                </a:lnTo>
                <a:lnTo>
                  <a:pt x="711" y="61"/>
                </a:lnTo>
                <a:lnTo>
                  <a:pt x="664" y="50"/>
                </a:lnTo>
                <a:lnTo>
                  <a:pt x="616" y="39"/>
                </a:lnTo>
                <a:lnTo>
                  <a:pt x="569" y="29"/>
                </a:lnTo>
                <a:lnTo>
                  <a:pt x="521" y="21"/>
                </a:lnTo>
                <a:lnTo>
                  <a:pt x="472" y="13"/>
                </a:lnTo>
                <a:lnTo>
                  <a:pt x="424" y="6"/>
                </a:lnTo>
                <a:lnTo>
                  <a:pt x="374" y="0"/>
                </a:lnTo>
                <a:lnTo>
                  <a:pt x="341" y="12"/>
                </a:lnTo>
                <a:lnTo>
                  <a:pt x="308" y="23"/>
                </a:lnTo>
                <a:lnTo>
                  <a:pt x="276" y="34"/>
                </a:lnTo>
                <a:lnTo>
                  <a:pt x="245" y="44"/>
                </a:lnTo>
                <a:lnTo>
                  <a:pt x="214" y="55"/>
                </a:lnTo>
                <a:lnTo>
                  <a:pt x="183" y="67"/>
                </a:lnTo>
                <a:lnTo>
                  <a:pt x="156" y="79"/>
                </a:lnTo>
                <a:lnTo>
                  <a:pt x="129" y="91"/>
                </a:lnTo>
                <a:lnTo>
                  <a:pt x="104" y="103"/>
                </a:lnTo>
                <a:lnTo>
                  <a:pt x="81" y="117"/>
                </a:lnTo>
                <a:lnTo>
                  <a:pt x="61" y="131"/>
                </a:lnTo>
                <a:lnTo>
                  <a:pt x="43" y="146"/>
                </a:lnTo>
                <a:lnTo>
                  <a:pt x="27" y="163"/>
                </a:lnTo>
                <a:lnTo>
                  <a:pt x="14" y="181"/>
                </a:lnTo>
                <a:lnTo>
                  <a:pt x="5" y="201"/>
                </a:lnTo>
                <a:lnTo>
                  <a:pt x="0" y="221"/>
                </a:lnTo>
                <a:lnTo>
                  <a:pt x="1" y="250"/>
                </a:lnTo>
                <a:lnTo>
                  <a:pt x="4" y="278"/>
                </a:lnTo>
                <a:lnTo>
                  <a:pt x="10" y="307"/>
                </a:lnTo>
                <a:lnTo>
                  <a:pt x="18" y="334"/>
                </a:lnTo>
                <a:lnTo>
                  <a:pt x="28" y="361"/>
                </a:lnTo>
                <a:lnTo>
                  <a:pt x="42" y="388"/>
                </a:lnTo>
                <a:lnTo>
                  <a:pt x="57" y="411"/>
                </a:lnTo>
                <a:lnTo>
                  <a:pt x="77" y="432"/>
                </a:lnTo>
                <a:lnTo>
                  <a:pt x="111" y="440"/>
                </a:lnTo>
                <a:lnTo>
                  <a:pt x="145" y="445"/>
                </a:lnTo>
                <a:lnTo>
                  <a:pt x="180" y="451"/>
                </a:lnTo>
                <a:lnTo>
                  <a:pt x="215" y="455"/>
                </a:lnTo>
                <a:lnTo>
                  <a:pt x="251" y="458"/>
                </a:lnTo>
                <a:lnTo>
                  <a:pt x="288" y="461"/>
                </a:lnTo>
                <a:lnTo>
                  <a:pt x="325" y="464"/>
                </a:lnTo>
                <a:lnTo>
                  <a:pt x="361" y="466"/>
                </a:lnTo>
                <a:lnTo>
                  <a:pt x="400" y="467"/>
                </a:lnTo>
                <a:lnTo>
                  <a:pt x="437" y="469"/>
                </a:lnTo>
                <a:lnTo>
                  <a:pt x="475" y="470"/>
                </a:lnTo>
                <a:lnTo>
                  <a:pt x="513" y="472"/>
                </a:lnTo>
                <a:lnTo>
                  <a:pt x="551" y="474"/>
                </a:lnTo>
                <a:lnTo>
                  <a:pt x="588" y="477"/>
                </a:lnTo>
                <a:lnTo>
                  <a:pt x="626" y="480"/>
                </a:lnTo>
                <a:lnTo>
                  <a:pt x="663" y="484"/>
                </a:lnTo>
                <a:lnTo>
                  <a:pt x="700" y="489"/>
                </a:lnTo>
                <a:lnTo>
                  <a:pt x="737" y="494"/>
                </a:lnTo>
                <a:lnTo>
                  <a:pt x="773" y="500"/>
                </a:lnTo>
                <a:lnTo>
                  <a:pt x="809" y="509"/>
                </a:lnTo>
                <a:lnTo>
                  <a:pt x="843" y="518"/>
                </a:lnTo>
                <a:lnTo>
                  <a:pt x="878" y="529"/>
                </a:lnTo>
                <a:lnTo>
                  <a:pt x="911" y="542"/>
                </a:lnTo>
                <a:lnTo>
                  <a:pt x="944" y="556"/>
                </a:lnTo>
                <a:lnTo>
                  <a:pt x="976" y="572"/>
                </a:lnTo>
                <a:lnTo>
                  <a:pt x="1007" y="590"/>
                </a:lnTo>
                <a:lnTo>
                  <a:pt x="1037" y="610"/>
                </a:lnTo>
                <a:lnTo>
                  <a:pt x="1066" y="633"/>
                </a:lnTo>
                <a:lnTo>
                  <a:pt x="1093" y="658"/>
                </a:lnTo>
                <a:lnTo>
                  <a:pt x="1119" y="686"/>
                </a:lnTo>
                <a:lnTo>
                  <a:pt x="1144" y="715"/>
                </a:lnTo>
                <a:lnTo>
                  <a:pt x="1168" y="749"/>
                </a:lnTo>
                <a:lnTo>
                  <a:pt x="1199" y="798"/>
                </a:lnTo>
                <a:lnTo>
                  <a:pt x="1220" y="846"/>
                </a:lnTo>
                <a:lnTo>
                  <a:pt x="1231" y="892"/>
                </a:lnTo>
                <a:lnTo>
                  <a:pt x="1235" y="938"/>
                </a:lnTo>
                <a:lnTo>
                  <a:pt x="1231" y="984"/>
                </a:lnTo>
                <a:lnTo>
                  <a:pt x="1223" y="1028"/>
                </a:lnTo>
                <a:lnTo>
                  <a:pt x="1211" y="1072"/>
                </a:lnTo>
                <a:lnTo>
                  <a:pt x="1197" y="1116"/>
                </a:lnTo>
                <a:lnTo>
                  <a:pt x="1181" y="1160"/>
                </a:lnTo>
                <a:lnTo>
                  <a:pt x="1167" y="1202"/>
                </a:lnTo>
                <a:lnTo>
                  <a:pt x="1154" y="1245"/>
                </a:lnTo>
                <a:lnTo>
                  <a:pt x="1144" y="1289"/>
                </a:lnTo>
                <a:lnTo>
                  <a:pt x="1139" y="1333"/>
                </a:lnTo>
                <a:lnTo>
                  <a:pt x="1140" y="1377"/>
                </a:lnTo>
                <a:lnTo>
                  <a:pt x="1150" y="1421"/>
                </a:lnTo>
                <a:lnTo>
                  <a:pt x="1168" y="1467"/>
                </a:lnTo>
                <a:lnTo>
                  <a:pt x="1182" y="1482"/>
                </a:lnTo>
                <a:lnTo>
                  <a:pt x="1198" y="1497"/>
                </a:lnTo>
                <a:lnTo>
                  <a:pt x="1215" y="1511"/>
                </a:lnTo>
                <a:lnTo>
                  <a:pt x="1233" y="1524"/>
                </a:lnTo>
                <a:lnTo>
                  <a:pt x="1252" y="1537"/>
                </a:lnTo>
                <a:lnTo>
                  <a:pt x="1271" y="1549"/>
                </a:lnTo>
                <a:lnTo>
                  <a:pt x="1290" y="1561"/>
                </a:lnTo>
                <a:lnTo>
                  <a:pt x="1311" y="1572"/>
                </a:lnTo>
                <a:lnTo>
                  <a:pt x="1332" y="1583"/>
                </a:lnTo>
                <a:lnTo>
                  <a:pt x="1354" y="1593"/>
                </a:lnTo>
                <a:lnTo>
                  <a:pt x="1375" y="1603"/>
                </a:lnTo>
                <a:lnTo>
                  <a:pt x="1397" y="1612"/>
                </a:lnTo>
                <a:lnTo>
                  <a:pt x="1419" y="1621"/>
                </a:lnTo>
                <a:lnTo>
                  <a:pt x="1442" y="1630"/>
                </a:lnTo>
                <a:lnTo>
                  <a:pt x="1465" y="1638"/>
                </a:lnTo>
                <a:lnTo>
                  <a:pt x="1487" y="16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426708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3733920"/>
            <a:ext cx="426708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733920"/>
            <a:ext cx="426708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105520" y="3809880"/>
            <a:ext cx="2666880" cy="1828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1600200"/>
            <a:ext cx="419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ff0000"/>
                </a:solidFill>
                <a:latin typeface="Times New Roman"/>
              </a:rPr>
              <a:t>أ</a:t>
            </a:r>
            <a:r>
              <a:rPr b="1" lang="hi-IN" sz="8800" spc="-1" strike="noStrike">
                <a:solidFill>
                  <a:srgbClr val="000000"/>
                </a:solidFill>
                <a:latin typeface="Times New Roman"/>
              </a:rPr>
              <a:t>صابع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5424480"/>
            <a:ext cx="419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ff0000"/>
                </a:solidFill>
                <a:latin typeface="Times New Roman"/>
              </a:rPr>
              <a:t>أ</a:t>
            </a:r>
            <a:r>
              <a:rPr b="1" lang="hi-IN" sz="8800" spc="-1" strike="noStrike">
                <a:solidFill>
                  <a:srgbClr val="000000"/>
                </a:solidFill>
                <a:latin typeface="Times New Roman"/>
              </a:rPr>
              <a:t>ناناس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7200" y="3809880"/>
            <a:ext cx="3505320" cy="1752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5424480"/>
            <a:ext cx="419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ff0000"/>
                </a:solidFill>
                <a:latin typeface="Times New Roman"/>
              </a:rPr>
              <a:t>أ</a:t>
            </a:r>
            <a:r>
              <a:rPr b="1" lang="hi-IN" sz="8800" spc="-1" strike="noStrike">
                <a:solidFill>
                  <a:srgbClr val="000000"/>
                </a:solidFill>
                <a:latin typeface="Times New Roman"/>
              </a:rPr>
              <a:t>سنان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80880" y="0"/>
            <a:ext cx="3353040" cy="1752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842000" y="17640"/>
            <a:ext cx="4267080" cy="31240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068880" y="31680"/>
            <a:ext cx="1820880" cy="1738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842000" y="1708200"/>
            <a:ext cx="4190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أ</a:t>
            </a: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وان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0" y="0"/>
            <a:ext cx="426708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426708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3733920"/>
            <a:ext cx="426708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733920"/>
            <a:ext cx="426708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952880" y="380880"/>
            <a:ext cx="350532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09480" y="0"/>
            <a:ext cx="297180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5181480" y="3962520"/>
            <a:ext cx="2361240" cy="1370880"/>
            <a:chOff x="5181480" y="3962520"/>
            <a:chExt cx="2361240" cy="1370880"/>
          </a:xfrm>
        </p:grpSpPr>
        <p:sp>
          <p:nvSpPr>
            <p:cNvPr id="75" name=""/>
            <p:cNvSpPr/>
            <p:nvPr/>
          </p:nvSpPr>
          <p:spPr>
            <a:xfrm>
              <a:off x="5722560" y="3974040"/>
              <a:ext cx="1803600" cy="1344960"/>
            </a:xfrm>
            <a:custGeom>
              <a:avLst/>
              <a:gdLst/>
              <a:ahLst/>
              <a:rect l="l" t="t" r="r" b="b"/>
              <a:pathLst>
                <a:path w="12310" h="12429">
                  <a:moveTo>
                    <a:pt x="12310" y="6219"/>
                  </a:moveTo>
                  <a:lnTo>
                    <a:pt x="0" y="12429"/>
                  </a:lnTo>
                  <a:lnTo>
                    <a:pt x="4079" y="6219"/>
                  </a:lnTo>
                  <a:lnTo>
                    <a:pt x="0" y="0"/>
                  </a:lnTo>
                  <a:lnTo>
                    <a:pt x="12310" y="621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705640" y="4636080"/>
              <a:ext cx="1828800" cy="697320"/>
            </a:xfrm>
            <a:custGeom>
              <a:avLst/>
              <a:gdLst/>
              <a:ahLst/>
              <a:rect l="l" t="t" r="r" b="b"/>
              <a:pathLst>
                <a:path w="12490" h="6442">
                  <a:moveTo>
                    <a:pt x="26" y="6255"/>
                  </a:moveTo>
                  <a:lnTo>
                    <a:pt x="186" y="6424"/>
                  </a:lnTo>
                  <a:lnTo>
                    <a:pt x="12490" y="212"/>
                  </a:lnTo>
                  <a:lnTo>
                    <a:pt x="12372" y="0"/>
                  </a:lnTo>
                  <a:lnTo>
                    <a:pt x="63" y="6218"/>
                  </a:lnTo>
                  <a:lnTo>
                    <a:pt x="229" y="6380"/>
                  </a:lnTo>
                  <a:lnTo>
                    <a:pt x="63" y="6218"/>
                  </a:lnTo>
                  <a:lnTo>
                    <a:pt x="44" y="6237"/>
                  </a:lnTo>
                  <a:lnTo>
                    <a:pt x="26" y="6237"/>
                  </a:lnTo>
                  <a:lnTo>
                    <a:pt x="26" y="6255"/>
                  </a:lnTo>
                  <a:lnTo>
                    <a:pt x="26" y="6281"/>
                  </a:lnTo>
                  <a:lnTo>
                    <a:pt x="0" y="6281"/>
                  </a:lnTo>
                  <a:lnTo>
                    <a:pt x="0" y="6299"/>
                  </a:lnTo>
                  <a:lnTo>
                    <a:pt x="0" y="6317"/>
                  </a:lnTo>
                  <a:lnTo>
                    <a:pt x="0" y="6343"/>
                  </a:lnTo>
                  <a:lnTo>
                    <a:pt x="0" y="6361"/>
                  </a:lnTo>
                  <a:lnTo>
                    <a:pt x="26" y="6361"/>
                  </a:lnTo>
                  <a:lnTo>
                    <a:pt x="26" y="6380"/>
                  </a:lnTo>
                  <a:lnTo>
                    <a:pt x="26" y="6404"/>
                  </a:lnTo>
                  <a:lnTo>
                    <a:pt x="44" y="6404"/>
                  </a:lnTo>
                  <a:lnTo>
                    <a:pt x="63" y="6424"/>
                  </a:lnTo>
                  <a:lnTo>
                    <a:pt x="87" y="6442"/>
                  </a:lnTo>
                  <a:lnTo>
                    <a:pt x="106" y="6442"/>
                  </a:lnTo>
                  <a:lnTo>
                    <a:pt x="124" y="6442"/>
                  </a:lnTo>
                  <a:lnTo>
                    <a:pt x="150" y="6442"/>
                  </a:lnTo>
                  <a:lnTo>
                    <a:pt x="168" y="6424"/>
                  </a:lnTo>
                  <a:lnTo>
                    <a:pt x="186" y="6424"/>
                  </a:lnTo>
                  <a:lnTo>
                    <a:pt x="26" y="62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10320" y="4633560"/>
              <a:ext cx="626400" cy="692640"/>
            </a:xfrm>
            <a:custGeom>
              <a:avLst/>
              <a:gdLst/>
              <a:ahLst/>
              <a:rect l="l" t="t" r="r" b="b"/>
              <a:pathLst>
                <a:path w="4301" h="6398">
                  <a:moveTo>
                    <a:pt x="4072" y="186"/>
                  </a:moveTo>
                  <a:lnTo>
                    <a:pt x="4072" y="62"/>
                  </a:lnTo>
                  <a:lnTo>
                    <a:pt x="0" y="6273"/>
                  </a:lnTo>
                  <a:lnTo>
                    <a:pt x="203" y="6398"/>
                  </a:lnTo>
                  <a:lnTo>
                    <a:pt x="4282" y="186"/>
                  </a:lnTo>
                  <a:lnTo>
                    <a:pt x="4282" y="62"/>
                  </a:lnTo>
                  <a:lnTo>
                    <a:pt x="4282" y="186"/>
                  </a:lnTo>
                  <a:lnTo>
                    <a:pt x="4301" y="167"/>
                  </a:lnTo>
                  <a:lnTo>
                    <a:pt x="4301" y="143"/>
                  </a:lnTo>
                  <a:lnTo>
                    <a:pt x="4301" y="125"/>
                  </a:lnTo>
                  <a:lnTo>
                    <a:pt x="4301" y="105"/>
                  </a:lnTo>
                  <a:lnTo>
                    <a:pt x="4301" y="81"/>
                  </a:lnTo>
                  <a:lnTo>
                    <a:pt x="4282" y="62"/>
                  </a:lnTo>
                  <a:lnTo>
                    <a:pt x="4282" y="43"/>
                  </a:lnTo>
                  <a:lnTo>
                    <a:pt x="4257" y="43"/>
                  </a:lnTo>
                  <a:lnTo>
                    <a:pt x="4257" y="18"/>
                  </a:lnTo>
                  <a:lnTo>
                    <a:pt x="4238" y="18"/>
                  </a:lnTo>
                  <a:lnTo>
                    <a:pt x="4220" y="18"/>
                  </a:lnTo>
                  <a:lnTo>
                    <a:pt x="4220" y="0"/>
                  </a:lnTo>
                  <a:lnTo>
                    <a:pt x="4195" y="0"/>
                  </a:lnTo>
                  <a:lnTo>
                    <a:pt x="4177" y="0"/>
                  </a:lnTo>
                  <a:lnTo>
                    <a:pt x="4159" y="0"/>
                  </a:lnTo>
                  <a:lnTo>
                    <a:pt x="4133" y="0"/>
                  </a:lnTo>
                  <a:lnTo>
                    <a:pt x="4133" y="18"/>
                  </a:lnTo>
                  <a:lnTo>
                    <a:pt x="4115" y="18"/>
                  </a:lnTo>
                  <a:lnTo>
                    <a:pt x="4096" y="43"/>
                  </a:lnTo>
                  <a:lnTo>
                    <a:pt x="4072" y="62"/>
                  </a:lnTo>
                  <a:lnTo>
                    <a:pt x="4072" y="186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705640" y="3962520"/>
              <a:ext cx="631080" cy="692640"/>
            </a:xfrm>
            <a:custGeom>
              <a:avLst/>
              <a:gdLst/>
              <a:ahLst/>
              <a:rect l="l" t="t" r="r" b="b"/>
              <a:pathLst>
                <a:path w="4308" h="6398">
                  <a:moveTo>
                    <a:pt x="186" y="18"/>
                  </a:moveTo>
                  <a:lnTo>
                    <a:pt x="26" y="181"/>
                  </a:lnTo>
                  <a:lnTo>
                    <a:pt x="4098" y="6398"/>
                  </a:lnTo>
                  <a:lnTo>
                    <a:pt x="4308" y="6274"/>
                  </a:lnTo>
                  <a:lnTo>
                    <a:pt x="229" y="62"/>
                  </a:lnTo>
                  <a:lnTo>
                    <a:pt x="63" y="224"/>
                  </a:lnTo>
                  <a:lnTo>
                    <a:pt x="229" y="62"/>
                  </a:lnTo>
                  <a:lnTo>
                    <a:pt x="229" y="38"/>
                  </a:lnTo>
                  <a:lnTo>
                    <a:pt x="211" y="38"/>
                  </a:lnTo>
                  <a:lnTo>
                    <a:pt x="211" y="18"/>
                  </a:lnTo>
                  <a:lnTo>
                    <a:pt x="186" y="18"/>
                  </a:lnTo>
                  <a:lnTo>
                    <a:pt x="168" y="0"/>
                  </a:lnTo>
                  <a:lnTo>
                    <a:pt x="150" y="0"/>
                  </a:lnTo>
                  <a:lnTo>
                    <a:pt x="124" y="0"/>
                  </a:lnTo>
                  <a:lnTo>
                    <a:pt x="106" y="0"/>
                  </a:lnTo>
                  <a:lnTo>
                    <a:pt x="87" y="0"/>
                  </a:lnTo>
                  <a:lnTo>
                    <a:pt x="87" y="18"/>
                  </a:lnTo>
                  <a:lnTo>
                    <a:pt x="63" y="18"/>
                  </a:lnTo>
                  <a:lnTo>
                    <a:pt x="44" y="18"/>
                  </a:lnTo>
                  <a:lnTo>
                    <a:pt x="44" y="38"/>
                  </a:lnTo>
                  <a:lnTo>
                    <a:pt x="26" y="62"/>
                  </a:lnTo>
                  <a:lnTo>
                    <a:pt x="26" y="81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0" y="118"/>
                  </a:lnTo>
                  <a:lnTo>
                    <a:pt x="0" y="143"/>
                  </a:lnTo>
                  <a:lnTo>
                    <a:pt x="26" y="161"/>
                  </a:lnTo>
                  <a:lnTo>
                    <a:pt x="26" y="18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13920" y="3964320"/>
              <a:ext cx="1828800" cy="697320"/>
            </a:xfrm>
            <a:custGeom>
              <a:avLst/>
              <a:gdLst/>
              <a:ahLst/>
              <a:rect l="l" t="t" r="r" b="b"/>
              <a:pathLst>
                <a:path w="12488" h="6442">
                  <a:moveTo>
                    <a:pt x="12427" y="6424"/>
                  </a:moveTo>
                  <a:lnTo>
                    <a:pt x="12427" y="6212"/>
                  </a:lnTo>
                  <a:lnTo>
                    <a:pt x="123" y="0"/>
                  </a:lnTo>
                  <a:lnTo>
                    <a:pt x="0" y="206"/>
                  </a:lnTo>
                  <a:lnTo>
                    <a:pt x="12309" y="6424"/>
                  </a:lnTo>
                  <a:lnTo>
                    <a:pt x="12309" y="6212"/>
                  </a:lnTo>
                  <a:lnTo>
                    <a:pt x="12309" y="6424"/>
                  </a:lnTo>
                  <a:lnTo>
                    <a:pt x="12328" y="6424"/>
                  </a:lnTo>
                  <a:lnTo>
                    <a:pt x="12346" y="6442"/>
                  </a:lnTo>
                  <a:lnTo>
                    <a:pt x="12371" y="6442"/>
                  </a:lnTo>
                  <a:lnTo>
                    <a:pt x="12389" y="6442"/>
                  </a:lnTo>
                  <a:lnTo>
                    <a:pt x="12407" y="6442"/>
                  </a:lnTo>
                  <a:lnTo>
                    <a:pt x="12427" y="6424"/>
                  </a:lnTo>
                  <a:lnTo>
                    <a:pt x="12451" y="6424"/>
                  </a:lnTo>
                  <a:lnTo>
                    <a:pt x="12451" y="6399"/>
                  </a:lnTo>
                  <a:lnTo>
                    <a:pt x="12470" y="6399"/>
                  </a:lnTo>
                  <a:lnTo>
                    <a:pt x="12470" y="6380"/>
                  </a:lnTo>
                  <a:lnTo>
                    <a:pt x="12470" y="6361"/>
                  </a:lnTo>
                  <a:lnTo>
                    <a:pt x="12488" y="6361"/>
                  </a:lnTo>
                  <a:lnTo>
                    <a:pt x="12488" y="6337"/>
                  </a:lnTo>
                  <a:lnTo>
                    <a:pt x="12488" y="6319"/>
                  </a:lnTo>
                  <a:lnTo>
                    <a:pt x="12488" y="6299"/>
                  </a:lnTo>
                  <a:lnTo>
                    <a:pt x="12488" y="6275"/>
                  </a:lnTo>
                  <a:lnTo>
                    <a:pt x="12470" y="6256"/>
                  </a:lnTo>
                  <a:lnTo>
                    <a:pt x="12470" y="6237"/>
                  </a:lnTo>
                  <a:lnTo>
                    <a:pt x="12451" y="6237"/>
                  </a:lnTo>
                  <a:lnTo>
                    <a:pt x="12427" y="6212"/>
                  </a:lnTo>
                  <a:lnTo>
                    <a:pt x="12427" y="64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196960" y="3974040"/>
              <a:ext cx="1804680" cy="1344960"/>
            </a:xfrm>
            <a:custGeom>
              <a:avLst/>
              <a:gdLst/>
              <a:ahLst/>
              <a:rect l="l" t="t" r="r" b="b"/>
              <a:pathLst>
                <a:path w="12310" h="12429">
                  <a:moveTo>
                    <a:pt x="12310" y="6219"/>
                  </a:moveTo>
                  <a:lnTo>
                    <a:pt x="0" y="12429"/>
                  </a:lnTo>
                  <a:lnTo>
                    <a:pt x="4078" y="6219"/>
                  </a:lnTo>
                  <a:lnTo>
                    <a:pt x="0" y="0"/>
                  </a:lnTo>
                  <a:lnTo>
                    <a:pt x="12310" y="621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81480" y="4636080"/>
              <a:ext cx="1827720" cy="697320"/>
            </a:xfrm>
            <a:custGeom>
              <a:avLst/>
              <a:gdLst/>
              <a:ahLst/>
              <a:rect l="l" t="t" r="r" b="b"/>
              <a:pathLst>
                <a:path w="12488" h="6442">
                  <a:moveTo>
                    <a:pt x="18" y="6255"/>
                  </a:moveTo>
                  <a:lnTo>
                    <a:pt x="179" y="6424"/>
                  </a:lnTo>
                  <a:lnTo>
                    <a:pt x="12488" y="212"/>
                  </a:lnTo>
                  <a:lnTo>
                    <a:pt x="12365" y="0"/>
                  </a:lnTo>
                  <a:lnTo>
                    <a:pt x="61" y="6218"/>
                  </a:lnTo>
                  <a:lnTo>
                    <a:pt x="223" y="6380"/>
                  </a:lnTo>
                  <a:lnTo>
                    <a:pt x="61" y="6218"/>
                  </a:lnTo>
                  <a:lnTo>
                    <a:pt x="37" y="6237"/>
                  </a:lnTo>
                  <a:lnTo>
                    <a:pt x="18" y="6237"/>
                  </a:lnTo>
                  <a:lnTo>
                    <a:pt x="18" y="6255"/>
                  </a:lnTo>
                  <a:lnTo>
                    <a:pt x="0" y="6281"/>
                  </a:lnTo>
                  <a:lnTo>
                    <a:pt x="0" y="6299"/>
                  </a:lnTo>
                  <a:lnTo>
                    <a:pt x="0" y="6317"/>
                  </a:lnTo>
                  <a:lnTo>
                    <a:pt x="0" y="6343"/>
                  </a:lnTo>
                  <a:lnTo>
                    <a:pt x="0" y="6361"/>
                  </a:lnTo>
                  <a:lnTo>
                    <a:pt x="18" y="6361"/>
                  </a:lnTo>
                  <a:lnTo>
                    <a:pt x="18" y="6380"/>
                  </a:lnTo>
                  <a:lnTo>
                    <a:pt x="18" y="6404"/>
                  </a:lnTo>
                  <a:lnTo>
                    <a:pt x="37" y="6404"/>
                  </a:lnTo>
                  <a:lnTo>
                    <a:pt x="37" y="6424"/>
                  </a:lnTo>
                  <a:lnTo>
                    <a:pt x="61" y="6424"/>
                  </a:lnTo>
                  <a:lnTo>
                    <a:pt x="81" y="6442"/>
                  </a:lnTo>
                  <a:lnTo>
                    <a:pt x="99" y="6442"/>
                  </a:lnTo>
                  <a:lnTo>
                    <a:pt x="117" y="6442"/>
                  </a:lnTo>
                  <a:lnTo>
                    <a:pt x="142" y="6442"/>
                  </a:lnTo>
                  <a:lnTo>
                    <a:pt x="160" y="6424"/>
                  </a:lnTo>
                  <a:lnTo>
                    <a:pt x="179" y="6424"/>
                  </a:lnTo>
                  <a:lnTo>
                    <a:pt x="18" y="62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85080" y="4633560"/>
              <a:ext cx="627480" cy="692640"/>
            </a:xfrm>
            <a:custGeom>
              <a:avLst/>
              <a:gdLst/>
              <a:ahLst/>
              <a:rect l="l" t="t" r="r" b="b"/>
              <a:pathLst>
                <a:path w="4301" h="6398">
                  <a:moveTo>
                    <a:pt x="4072" y="186"/>
                  </a:moveTo>
                  <a:lnTo>
                    <a:pt x="4072" y="62"/>
                  </a:lnTo>
                  <a:lnTo>
                    <a:pt x="0" y="6273"/>
                  </a:lnTo>
                  <a:lnTo>
                    <a:pt x="205" y="6398"/>
                  </a:lnTo>
                  <a:lnTo>
                    <a:pt x="4283" y="186"/>
                  </a:lnTo>
                  <a:lnTo>
                    <a:pt x="4283" y="62"/>
                  </a:lnTo>
                  <a:lnTo>
                    <a:pt x="4283" y="186"/>
                  </a:lnTo>
                  <a:lnTo>
                    <a:pt x="4301" y="167"/>
                  </a:lnTo>
                  <a:lnTo>
                    <a:pt x="4301" y="143"/>
                  </a:lnTo>
                  <a:lnTo>
                    <a:pt x="4301" y="125"/>
                  </a:lnTo>
                  <a:lnTo>
                    <a:pt x="4301" y="105"/>
                  </a:lnTo>
                  <a:lnTo>
                    <a:pt x="4301" y="81"/>
                  </a:lnTo>
                  <a:lnTo>
                    <a:pt x="4283" y="81"/>
                  </a:lnTo>
                  <a:lnTo>
                    <a:pt x="4283" y="62"/>
                  </a:lnTo>
                  <a:lnTo>
                    <a:pt x="4283" y="43"/>
                  </a:lnTo>
                  <a:lnTo>
                    <a:pt x="4258" y="43"/>
                  </a:lnTo>
                  <a:lnTo>
                    <a:pt x="4258" y="18"/>
                  </a:lnTo>
                  <a:lnTo>
                    <a:pt x="4240" y="18"/>
                  </a:lnTo>
                  <a:lnTo>
                    <a:pt x="4221" y="18"/>
                  </a:lnTo>
                  <a:lnTo>
                    <a:pt x="4221" y="0"/>
                  </a:lnTo>
                  <a:lnTo>
                    <a:pt x="4196" y="0"/>
                  </a:lnTo>
                  <a:lnTo>
                    <a:pt x="4177" y="0"/>
                  </a:lnTo>
                  <a:lnTo>
                    <a:pt x="4159" y="0"/>
                  </a:lnTo>
                  <a:lnTo>
                    <a:pt x="4135" y="0"/>
                  </a:lnTo>
                  <a:lnTo>
                    <a:pt x="4135" y="18"/>
                  </a:lnTo>
                  <a:lnTo>
                    <a:pt x="4116" y="18"/>
                  </a:lnTo>
                  <a:lnTo>
                    <a:pt x="4098" y="43"/>
                  </a:lnTo>
                  <a:lnTo>
                    <a:pt x="4072" y="62"/>
                  </a:lnTo>
                  <a:lnTo>
                    <a:pt x="4072" y="186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181480" y="3962520"/>
              <a:ext cx="631080" cy="692640"/>
            </a:xfrm>
            <a:custGeom>
              <a:avLst/>
              <a:gdLst/>
              <a:ahLst/>
              <a:rect l="l" t="t" r="r" b="b"/>
              <a:pathLst>
                <a:path w="4301" h="6398">
                  <a:moveTo>
                    <a:pt x="179" y="18"/>
                  </a:moveTo>
                  <a:lnTo>
                    <a:pt x="18" y="181"/>
                  </a:lnTo>
                  <a:lnTo>
                    <a:pt x="4090" y="6398"/>
                  </a:lnTo>
                  <a:lnTo>
                    <a:pt x="4301" y="6274"/>
                  </a:lnTo>
                  <a:lnTo>
                    <a:pt x="223" y="62"/>
                  </a:lnTo>
                  <a:lnTo>
                    <a:pt x="61" y="224"/>
                  </a:lnTo>
                  <a:lnTo>
                    <a:pt x="223" y="62"/>
                  </a:lnTo>
                  <a:lnTo>
                    <a:pt x="204" y="38"/>
                  </a:lnTo>
                  <a:lnTo>
                    <a:pt x="204" y="18"/>
                  </a:lnTo>
                  <a:lnTo>
                    <a:pt x="179" y="18"/>
                  </a:lnTo>
                  <a:lnTo>
                    <a:pt x="160" y="0"/>
                  </a:lnTo>
                  <a:lnTo>
                    <a:pt x="142" y="0"/>
                  </a:lnTo>
                  <a:lnTo>
                    <a:pt x="117" y="0"/>
                  </a:lnTo>
                  <a:lnTo>
                    <a:pt x="99" y="0"/>
                  </a:lnTo>
                  <a:lnTo>
                    <a:pt x="81" y="0"/>
                  </a:lnTo>
                  <a:lnTo>
                    <a:pt x="81" y="18"/>
                  </a:lnTo>
                  <a:lnTo>
                    <a:pt x="61" y="18"/>
                  </a:lnTo>
                  <a:lnTo>
                    <a:pt x="37" y="18"/>
                  </a:lnTo>
                  <a:lnTo>
                    <a:pt x="37" y="38"/>
                  </a:lnTo>
                  <a:lnTo>
                    <a:pt x="18" y="62"/>
                  </a:lnTo>
                  <a:lnTo>
                    <a:pt x="18" y="81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0" y="118"/>
                  </a:lnTo>
                  <a:lnTo>
                    <a:pt x="0" y="143"/>
                  </a:lnTo>
                  <a:lnTo>
                    <a:pt x="0" y="161"/>
                  </a:lnTo>
                  <a:lnTo>
                    <a:pt x="18" y="181"/>
                  </a:lnTo>
                  <a:lnTo>
                    <a:pt x="179" y="18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88680" y="3964320"/>
              <a:ext cx="1828800" cy="697320"/>
            </a:xfrm>
            <a:custGeom>
              <a:avLst/>
              <a:gdLst/>
              <a:ahLst/>
              <a:rect l="l" t="t" r="r" b="b"/>
              <a:pathLst>
                <a:path w="12490" h="6442">
                  <a:moveTo>
                    <a:pt x="12427" y="6424"/>
                  </a:moveTo>
                  <a:lnTo>
                    <a:pt x="12427" y="6212"/>
                  </a:lnTo>
                  <a:lnTo>
                    <a:pt x="118" y="0"/>
                  </a:lnTo>
                  <a:lnTo>
                    <a:pt x="0" y="206"/>
                  </a:lnTo>
                  <a:lnTo>
                    <a:pt x="12304" y="6424"/>
                  </a:lnTo>
                  <a:lnTo>
                    <a:pt x="12304" y="6212"/>
                  </a:lnTo>
                  <a:lnTo>
                    <a:pt x="12304" y="6424"/>
                  </a:lnTo>
                  <a:lnTo>
                    <a:pt x="12322" y="6424"/>
                  </a:lnTo>
                  <a:lnTo>
                    <a:pt x="12340" y="6442"/>
                  </a:lnTo>
                  <a:lnTo>
                    <a:pt x="12366" y="6442"/>
                  </a:lnTo>
                  <a:lnTo>
                    <a:pt x="12384" y="6442"/>
                  </a:lnTo>
                  <a:lnTo>
                    <a:pt x="12403" y="6442"/>
                  </a:lnTo>
                  <a:lnTo>
                    <a:pt x="12427" y="6424"/>
                  </a:lnTo>
                  <a:lnTo>
                    <a:pt x="12446" y="6399"/>
                  </a:lnTo>
                  <a:lnTo>
                    <a:pt x="12464" y="6399"/>
                  </a:lnTo>
                  <a:lnTo>
                    <a:pt x="12464" y="6380"/>
                  </a:lnTo>
                  <a:lnTo>
                    <a:pt x="12464" y="6361"/>
                  </a:lnTo>
                  <a:lnTo>
                    <a:pt x="12490" y="6361"/>
                  </a:lnTo>
                  <a:lnTo>
                    <a:pt x="12490" y="6337"/>
                  </a:lnTo>
                  <a:lnTo>
                    <a:pt x="12490" y="6319"/>
                  </a:lnTo>
                  <a:lnTo>
                    <a:pt x="12490" y="6299"/>
                  </a:lnTo>
                  <a:lnTo>
                    <a:pt x="12490" y="6275"/>
                  </a:lnTo>
                  <a:lnTo>
                    <a:pt x="12464" y="6275"/>
                  </a:lnTo>
                  <a:lnTo>
                    <a:pt x="12464" y="6256"/>
                  </a:lnTo>
                  <a:lnTo>
                    <a:pt x="12464" y="6237"/>
                  </a:lnTo>
                  <a:lnTo>
                    <a:pt x="12446" y="6237"/>
                  </a:lnTo>
                  <a:lnTo>
                    <a:pt x="12427" y="6212"/>
                  </a:lnTo>
                  <a:lnTo>
                    <a:pt x="12427" y="64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754280" y="3886200"/>
            <a:ext cx="1293840" cy="1295280"/>
            <a:chOff x="1754280" y="3886200"/>
            <a:chExt cx="1293840" cy="1295280"/>
          </a:xfrm>
        </p:grpSpPr>
        <p:sp>
          <p:nvSpPr>
            <p:cNvPr id="86" name=""/>
            <p:cNvSpPr/>
            <p:nvPr/>
          </p:nvSpPr>
          <p:spPr>
            <a:xfrm>
              <a:off x="1763640" y="3886200"/>
              <a:ext cx="1260720" cy="212760"/>
            </a:xfrm>
            <a:custGeom>
              <a:avLst/>
              <a:gdLst/>
              <a:ahLst/>
              <a:rect l="l" t="t" r="r" b="b"/>
              <a:pathLst>
                <a:path w="7148" h="2686">
                  <a:moveTo>
                    <a:pt x="3674" y="2369"/>
                  </a:moveTo>
                  <a:lnTo>
                    <a:pt x="7148" y="2369"/>
                  </a:lnTo>
                  <a:lnTo>
                    <a:pt x="7148" y="0"/>
                  </a:lnTo>
                  <a:lnTo>
                    <a:pt x="3742" y="0"/>
                  </a:lnTo>
                  <a:lnTo>
                    <a:pt x="3076" y="37"/>
                  </a:lnTo>
                  <a:lnTo>
                    <a:pt x="2337" y="111"/>
                  </a:lnTo>
                  <a:lnTo>
                    <a:pt x="1739" y="233"/>
                  </a:lnTo>
                  <a:lnTo>
                    <a:pt x="1207" y="401"/>
                  </a:lnTo>
                  <a:lnTo>
                    <a:pt x="793" y="617"/>
                  </a:lnTo>
                  <a:lnTo>
                    <a:pt x="419" y="903"/>
                  </a:lnTo>
                  <a:lnTo>
                    <a:pt x="240" y="1087"/>
                  </a:lnTo>
                  <a:lnTo>
                    <a:pt x="117" y="1267"/>
                  </a:lnTo>
                  <a:lnTo>
                    <a:pt x="33" y="1493"/>
                  </a:lnTo>
                  <a:lnTo>
                    <a:pt x="5" y="1593"/>
                  </a:lnTo>
                  <a:lnTo>
                    <a:pt x="0" y="1694"/>
                  </a:lnTo>
                  <a:lnTo>
                    <a:pt x="22" y="1778"/>
                  </a:lnTo>
                  <a:lnTo>
                    <a:pt x="72" y="1879"/>
                  </a:lnTo>
                  <a:lnTo>
                    <a:pt x="139" y="1994"/>
                  </a:lnTo>
                  <a:lnTo>
                    <a:pt x="206" y="2079"/>
                  </a:lnTo>
                  <a:lnTo>
                    <a:pt x="280" y="2163"/>
                  </a:lnTo>
                  <a:lnTo>
                    <a:pt x="419" y="2306"/>
                  </a:lnTo>
                  <a:lnTo>
                    <a:pt x="626" y="2464"/>
                  </a:lnTo>
                  <a:lnTo>
                    <a:pt x="733" y="2522"/>
                  </a:lnTo>
                  <a:lnTo>
                    <a:pt x="850" y="2586"/>
                  </a:lnTo>
                  <a:lnTo>
                    <a:pt x="990" y="2633"/>
                  </a:lnTo>
                  <a:lnTo>
                    <a:pt x="1135" y="2686"/>
                  </a:lnTo>
                  <a:lnTo>
                    <a:pt x="1308" y="2612"/>
                  </a:lnTo>
                  <a:lnTo>
                    <a:pt x="1504" y="2538"/>
                  </a:lnTo>
                  <a:lnTo>
                    <a:pt x="1750" y="2475"/>
                  </a:lnTo>
                  <a:lnTo>
                    <a:pt x="1985" y="2438"/>
                  </a:lnTo>
                  <a:lnTo>
                    <a:pt x="2679" y="2369"/>
                  </a:lnTo>
                  <a:lnTo>
                    <a:pt x="3205" y="2369"/>
                  </a:lnTo>
                  <a:lnTo>
                    <a:pt x="3674" y="236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763640" y="3886200"/>
              <a:ext cx="1260720" cy="212760"/>
            </a:xfrm>
            <a:custGeom>
              <a:avLst/>
              <a:gdLst/>
              <a:ahLst/>
              <a:rect l="l" t="t" r="r" b="b"/>
              <a:pathLst>
                <a:path w="7148" h="2686">
                  <a:moveTo>
                    <a:pt x="3674" y="2369"/>
                  </a:moveTo>
                  <a:lnTo>
                    <a:pt x="7148" y="2369"/>
                  </a:lnTo>
                  <a:lnTo>
                    <a:pt x="7148" y="0"/>
                  </a:lnTo>
                  <a:lnTo>
                    <a:pt x="3742" y="0"/>
                  </a:lnTo>
                  <a:lnTo>
                    <a:pt x="3076" y="37"/>
                  </a:lnTo>
                  <a:lnTo>
                    <a:pt x="2337" y="111"/>
                  </a:lnTo>
                  <a:lnTo>
                    <a:pt x="1739" y="233"/>
                  </a:lnTo>
                  <a:lnTo>
                    <a:pt x="1207" y="401"/>
                  </a:lnTo>
                  <a:lnTo>
                    <a:pt x="793" y="617"/>
                  </a:lnTo>
                  <a:lnTo>
                    <a:pt x="419" y="903"/>
                  </a:lnTo>
                  <a:lnTo>
                    <a:pt x="240" y="1087"/>
                  </a:lnTo>
                  <a:lnTo>
                    <a:pt x="117" y="1267"/>
                  </a:lnTo>
                  <a:lnTo>
                    <a:pt x="33" y="1493"/>
                  </a:lnTo>
                  <a:lnTo>
                    <a:pt x="5" y="1593"/>
                  </a:lnTo>
                  <a:lnTo>
                    <a:pt x="0" y="1694"/>
                  </a:lnTo>
                  <a:lnTo>
                    <a:pt x="22" y="1778"/>
                  </a:lnTo>
                  <a:lnTo>
                    <a:pt x="72" y="1879"/>
                  </a:lnTo>
                  <a:lnTo>
                    <a:pt x="139" y="1994"/>
                  </a:lnTo>
                  <a:lnTo>
                    <a:pt x="206" y="2079"/>
                  </a:lnTo>
                  <a:lnTo>
                    <a:pt x="280" y="2163"/>
                  </a:lnTo>
                  <a:lnTo>
                    <a:pt x="419" y="2306"/>
                  </a:lnTo>
                  <a:lnTo>
                    <a:pt x="626" y="2464"/>
                  </a:lnTo>
                  <a:lnTo>
                    <a:pt x="733" y="2522"/>
                  </a:lnTo>
                  <a:lnTo>
                    <a:pt x="850" y="2586"/>
                  </a:lnTo>
                  <a:lnTo>
                    <a:pt x="990" y="2633"/>
                  </a:lnTo>
                  <a:lnTo>
                    <a:pt x="1135" y="2686"/>
                  </a:lnTo>
                  <a:lnTo>
                    <a:pt x="1308" y="2612"/>
                  </a:lnTo>
                  <a:lnTo>
                    <a:pt x="1504" y="2538"/>
                  </a:lnTo>
                  <a:lnTo>
                    <a:pt x="1750" y="2475"/>
                  </a:lnTo>
                  <a:lnTo>
                    <a:pt x="1985" y="2438"/>
                  </a:lnTo>
                  <a:lnTo>
                    <a:pt x="2679" y="2369"/>
                  </a:lnTo>
                  <a:lnTo>
                    <a:pt x="3205" y="2369"/>
                  </a:lnTo>
                  <a:lnTo>
                    <a:pt x="3674" y="2369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63640" y="4021200"/>
              <a:ext cx="1271520" cy="328680"/>
            </a:xfrm>
            <a:custGeom>
              <a:avLst/>
              <a:gdLst/>
              <a:ahLst/>
              <a:rect l="l" t="t" r="r" b="b"/>
              <a:pathLst>
                <a:path w="7210" h="4120">
                  <a:moveTo>
                    <a:pt x="0" y="2253"/>
                  </a:moveTo>
                  <a:lnTo>
                    <a:pt x="0" y="0"/>
                  </a:lnTo>
                  <a:lnTo>
                    <a:pt x="44" y="116"/>
                  </a:lnTo>
                  <a:lnTo>
                    <a:pt x="123" y="247"/>
                  </a:lnTo>
                  <a:lnTo>
                    <a:pt x="206" y="369"/>
                  </a:lnTo>
                  <a:lnTo>
                    <a:pt x="307" y="490"/>
                  </a:lnTo>
                  <a:lnTo>
                    <a:pt x="430" y="617"/>
                  </a:lnTo>
                  <a:lnTo>
                    <a:pt x="581" y="718"/>
                  </a:lnTo>
                  <a:lnTo>
                    <a:pt x="671" y="786"/>
                  </a:lnTo>
                  <a:lnTo>
                    <a:pt x="749" y="818"/>
                  </a:lnTo>
                  <a:lnTo>
                    <a:pt x="878" y="886"/>
                  </a:lnTo>
                  <a:lnTo>
                    <a:pt x="1207" y="992"/>
                  </a:lnTo>
                  <a:lnTo>
                    <a:pt x="1733" y="1134"/>
                  </a:lnTo>
                  <a:lnTo>
                    <a:pt x="2533" y="1271"/>
                  </a:lnTo>
                  <a:lnTo>
                    <a:pt x="3076" y="1335"/>
                  </a:lnTo>
                  <a:lnTo>
                    <a:pt x="3674" y="1393"/>
                  </a:lnTo>
                  <a:lnTo>
                    <a:pt x="4474" y="1483"/>
                  </a:lnTo>
                  <a:lnTo>
                    <a:pt x="5068" y="1609"/>
                  </a:lnTo>
                  <a:lnTo>
                    <a:pt x="5542" y="1704"/>
                  </a:lnTo>
                  <a:lnTo>
                    <a:pt x="5940" y="1825"/>
                  </a:lnTo>
                  <a:lnTo>
                    <a:pt x="6476" y="2068"/>
                  </a:lnTo>
                  <a:lnTo>
                    <a:pt x="6723" y="2226"/>
                  </a:lnTo>
                  <a:lnTo>
                    <a:pt x="6907" y="2384"/>
                  </a:lnTo>
                  <a:lnTo>
                    <a:pt x="7042" y="2527"/>
                  </a:lnTo>
                  <a:lnTo>
                    <a:pt x="7131" y="2675"/>
                  </a:lnTo>
                  <a:lnTo>
                    <a:pt x="7181" y="2807"/>
                  </a:lnTo>
                  <a:lnTo>
                    <a:pt x="7210" y="2938"/>
                  </a:lnTo>
                  <a:lnTo>
                    <a:pt x="7210" y="3091"/>
                  </a:lnTo>
                  <a:lnTo>
                    <a:pt x="7148" y="3297"/>
                  </a:lnTo>
                  <a:lnTo>
                    <a:pt x="7064" y="3450"/>
                  </a:lnTo>
                  <a:lnTo>
                    <a:pt x="6997" y="3545"/>
                  </a:lnTo>
                  <a:lnTo>
                    <a:pt x="6913" y="3625"/>
                  </a:lnTo>
                  <a:lnTo>
                    <a:pt x="6751" y="3741"/>
                  </a:lnTo>
                  <a:lnTo>
                    <a:pt x="6594" y="3831"/>
                  </a:lnTo>
                  <a:lnTo>
                    <a:pt x="6404" y="3904"/>
                  </a:lnTo>
                  <a:lnTo>
                    <a:pt x="6080" y="4025"/>
                  </a:lnTo>
                  <a:lnTo>
                    <a:pt x="5805" y="4120"/>
                  </a:lnTo>
                  <a:lnTo>
                    <a:pt x="5604" y="4042"/>
                  </a:lnTo>
                  <a:lnTo>
                    <a:pt x="5347" y="3952"/>
                  </a:lnTo>
                  <a:lnTo>
                    <a:pt x="4911" y="3883"/>
                  </a:lnTo>
                  <a:lnTo>
                    <a:pt x="4407" y="3841"/>
                  </a:lnTo>
                  <a:lnTo>
                    <a:pt x="3674" y="3841"/>
                  </a:lnTo>
                  <a:lnTo>
                    <a:pt x="2998" y="3756"/>
                  </a:lnTo>
                  <a:lnTo>
                    <a:pt x="2209" y="3678"/>
                  </a:lnTo>
                  <a:lnTo>
                    <a:pt x="1611" y="3598"/>
                  </a:lnTo>
                  <a:lnTo>
                    <a:pt x="1006" y="3392"/>
                  </a:lnTo>
                  <a:lnTo>
                    <a:pt x="609" y="3192"/>
                  </a:lnTo>
                  <a:lnTo>
                    <a:pt x="273" y="2938"/>
                  </a:lnTo>
                  <a:lnTo>
                    <a:pt x="72" y="2617"/>
                  </a:lnTo>
                  <a:lnTo>
                    <a:pt x="5" y="2289"/>
                  </a:lnTo>
                  <a:lnTo>
                    <a:pt x="0" y="225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63640" y="4021200"/>
              <a:ext cx="1271520" cy="328680"/>
            </a:xfrm>
            <a:custGeom>
              <a:avLst/>
              <a:gdLst/>
              <a:ahLst/>
              <a:rect l="l" t="t" r="r" b="b"/>
              <a:pathLst>
                <a:path w="7210" h="4120">
                  <a:moveTo>
                    <a:pt x="0" y="2253"/>
                  </a:moveTo>
                  <a:lnTo>
                    <a:pt x="0" y="0"/>
                  </a:lnTo>
                  <a:lnTo>
                    <a:pt x="44" y="116"/>
                  </a:lnTo>
                  <a:lnTo>
                    <a:pt x="123" y="247"/>
                  </a:lnTo>
                  <a:lnTo>
                    <a:pt x="206" y="369"/>
                  </a:lnTo>
                  <a:lnTo>
                    <a:pt x="307" y="490"/>
                  </a:lnTo>
                  <a:lnTo>
                    <a:pt x="430" y="617"/>
                  </a:lnTo>
                  <a:lnTo>
                    <a:pt x="581" y="718"/>
                  </a:lnTo>
                  <a:lnTo>
                    <a:pt x="671" y="786"/>
                  </a:lnTo>
                  <a:lnTo>
                    <a:pt x="749" y="818"/>
                  </a:lnTo>
                  <a:lnTo>
                    <a:pt x="878" y="886"/>
                  </a:lnTo>
                  <a:lnTo>
                    <a:pt x="1207" y="992"/>
                  </a:lnTo>
                  <a:lnTo>
                    <a:pt x="1733" y="1134"/>
                  </a:lnTo>
                  <a:lnTo>
                    <a:pt x="2533" y="1271"/>
                  </a:lnTo>
                  <a:lnTo>
                    <a:pt x="3076" y="1335"/>
                  </a:lnTo>
                  <a:lnTo>
                    <a:pt x="3674" y="1393"/>
                  </a:lnTo>
                  <a:lnTo>
                    <a:pt x="4474" y="1483"/>
                  </a:lnTo>
                  <a:lnTo>
                    <a:pt x="5068" y="1609"/>
                  </a:lnTo>
                  <a:lnTo>
                    <a:pt x="5542" y="1704"/>
                  </a:lnTo>
                  <a:lnTo>
                    <a:pt x="5940" y="1825"/>
                  </a:lnTo>
                  <a:lnTo>
                    <a:pt x="6476" y="2068"/>
                  </a:lnTo>
                  <a:lnTo>
                    <a:pt x="6723" y="2226"/>
                  </a:lnTo>
                  <a:lnTo>
                    <a:pt x="6907" y="2384"/>
                  </a:lnTo>
                  <a:lnTo>
                    <a:pt x="7042" y="2527"/>
                  </a:lnTo>
                  <a:lnTo>
                    <a:pt x="7131" y="2675"/>
                  </a:lnTo>
                  <a:lnTo>
                    <a:pt x="7181" y="2807"/>
                  </a:lnTo>
                  <a:lnTo>
                    <a:pt x="7210" y="2938"/>
                  </a:lnTo>
                  <a:lnTo>
                    <a:pt x="7210" y="3091"/>
                  </a:lnTo>
                  <a:lnTo>
                    <a:pt x="7148" y="3297"/>
                  </a:lnTo>
                  <a:lnTo>
                    <a:pt x="7064" y="3450"/>
                  </a:lnTo>
                  <a:lnTo>
                    <a:pt x="6997" y="3545"/>
                  </a:lnTo>
                  <a:lnTo>
                    <a:pt x="6913" y="3625"/>
                  </a:lnTo>
                  <a:lnTo>
                    <a:pt x="6751" y="3741"/>
                  </a:lnTo>
                  <a:lnTo>
                    <a:pt x="6594" y="3831"/>
                  </a:lnTo>
                  <a:lnTo>
                    <a:pt x="6404" y="3904"/>
                  </a:lnTo>
                  <a:lnTo>
                    <a:pt x="6080" y="4025"/>
                  </a:lnTo>
                  <a:lnTo>
                    <a:pt x="5805" y="4120"/>
                  </a:lnTo>
                  <a:lnTo>
                    <a:pt x="5604" y="4042"/>
                  </a:lnTo>
                  <a:lnTo>
                    <a:pt x="5347" y="3952"/>
                  </a:lnTo>
                  <a:lnTo>
                    <a:pt x="4911" y="3883"/>
                  </a:lnTo>
                  <a:lnTo>
                    <a:pt x="4407" y="3841"/>
                  </a:lnTo>
                  <a:lnTo>
                    <a:pt x="3674" y="3841"/>
                  </a:lnTo>
                  <a:lnTo>
                    <a:pt x="2998" y="3756"/>
                  </a:lnTo>
                  <a:lnTo>
                    <a:pt x="2209" y="3678"/>
                  </a:lnTo>
                  <a:lnTo>
                    <a:pt x="1611" y="3598"/>
                  </a:lnTo>
                  <a:lnTo>
                    <a:pt x="1006" y="3392"/>
                  </a:lnTo>
                  <a:lnTo>
                    <a:pt x="609" y="3192"/>
                  </a:lnTo>
                  <a:lnTo>
                    <a:pt x="273" y="2938"/>
                  </a:lnTo>
                  <a:lnTo>
                    <a:pt x="72" y="2617"/>
                  </a:lnTo>
                  <a:lnTo>
                    <a:pt x="5" y="2289"/>
                  </a:lnTo>
                  <a:lnTo>
                    <a:pt x="0" y="2253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754280" y="4267080"/>
              <a:ext cx="1280880" cy="322560"/>
            </a:xfrm>
            <a:custGeom>
              <a:avLst/>
              <a:gdLst/>
              <a:ahLst/>
              <a:rect l="l" t="t" r="r" b="b"/>
              <a:pathLst>
                <a:path w="7267" h="4064">
                  <a:moveTo>
                    <a:pt x="7205" y="2607"/>
                  </a:moveTo>
                  <a:lnTo>
                    <a:pt x="7267" y="2464"/>
                  </a:lnTo>
                  <a:lnTo>
                    <a:pt x="7267" y="0"/>
                  </a:lnTo>
                  <a:lnTo>
                    <a:pt x="7233" y="122"/>
                  </a:lnTo>
                  <a:lnTo>
                    <a:pt x="7210" y="185"/>
                  </a:lnTo>
                  <a:lnTo>
                    <a:pt x="7188" y="243"/>
                  </a:lnTo>
                  <a:lnTo>
                    <a:pt x="7104" y="386"/>
                  </a:lnTo>
                  <a:lnTo>
                    <a:pt x="7025" y="486"/>
                  </a:lnTo>
                  <a:lnTo>
                    <a:pt x="6930" y="565"/>
                  </a:lnTo>
                  <a:lnTo>
                    <a:pt x="6824" y="639"/>
                  </a:lnTo>
                  <a:lnTo>
                    <a:pt x="6590" y="765"/>
                  </a:lnTo>
                  <a:lnTo>
                    <a:pt x="6142" y="934"/>
                  </a:lnTo>
                  <a:lnTo>
                    <a:pt x="5740" y="1072"/>
                  </a:lnTo>
                  <a:lnTo>
                    <a:pt x="5331" y="1151"/>
                  </a:lnTo>
                  <a:lnTo>
                    <a:pt x="4727" y="1288"/>
                  </a:lnTo>
                  <a:lnTo>
                    <a:pt x="4134" y="1378"/>
                  </a:lnTo>
                  <a:lnTo>
                    <a:pt x="3463" y="1404"/>
                  </a:lnTo>
                  <a:lnTo>
                    <a:pt x="2669" y="1404"/>
                  </a:lnTo>
                  <a:lnTo>
                    <a:pt x="1858" y="1488"/>
                  </a:lnTo>
                  <a:lnTo>
                    <a:pt x="1326" y="1684"/>
                  </a:lnTo>
                  <a:lnTo>
                    <a:pt x="857" y="1895"/>
                  </a:lnTo>
                  <a:lnTo>
                    <a:pt x="487" y="2137"/>
                  </a:lnTo>
                  <a:lnTo>
                    <a:pt x="286" y="2301"/>
                  </a:lnTo>
                  <a:lnTo>
                    <a:pt x="118" y="2518"/>
                  </a:lnTo>
                  <a:lnTo>
                    <a:pt x="29" y="2734"/>
                  </a:lnTo>
                  <a:lnTo>
                    <a:pt x="0" y="2950"/>
                  </a:lnTo>
                  <a:lnTo>
                    <a:pt x="0" y="3108"/>
                  </a:lnTo>
                  <a:lnTo>
                    <a:pt x="51" y="3224"/>
                  </a:lnTo>
                  <a:lnTo>
                    <a:pt x="129" y="3372"/>
                  </a:lnTo>
                  <a:lnTo>
                    <a:pt x="258" y="3499"/>
                  </a:lnTo>
                  <a:lnTo>
                    <a:pt x="386" y="3625"/>
                  </a:lnTo>
                  <a:lnTo>
                    <a:pt x="510" y="3720"/>
                  </a:lnTo>
                  <a:lnTo>
                    <a:pt x="661" y="3821"/>
                  </a:lnTo>
                  <a:lnTo>
                    <a:pt x="918" y="3968"/>
                  </a:lnTo>
                  <a:lnTo>
                    <a:pt x="1192" y="4064"/>
                  </a:lnTo>
                  <a:lnTo>
                    <a:pt x="1668" y="3931"/>
                  </a:lnTo>
                  <a:lnTo>
                    <a:pt x="2345" y="3805"/>
                  </a:lnTo>
                  <a:lnTo>
                    <a:pt x="3133" y="3752"/>
                  </a:lnTo>
                  <a:lnTo>
                    <a:pt x="3921" y="3688"/>
                  </a:lnTo>
                  <a:lnTo>
                    <a:pt x="4531" y="3688"/>
                  </a:lnTo>
                  <a:lnTo>
                    <a:pt x="5125" y="3610"/>
                  </a:lnTo>
                  <a:lnTo>
                    <a:pt x="5800" y="3446"/>
                  </a:lnTo>
                  <a:lnTo>
                    <a:pt x="6371" y="3251"/>
                  </a:lnTo>
                  <a:lnTo>
                    <a:pt x="6791" y="3056"/>
                  </a:lnTo>
                  <a:lnTo>
                    <a:pt x="6937" y="2950"/>
                  </a:lnTo>
                  <a:lnTo>
                    <a:pt x="7087" y="2787"/>
                  </a:lnTo>
                  <a:lnTo>
                    <a:pt x="7205" y="260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754280" y="4267080"/>
              <a:ext cx="1280880" cy="322560"/>
            </a:xfrm>
            <a:custGeom>
              <a:avLst/>
              <a:gdLst/>
              <a:ahLst/>
              <a:rect l="l" t="t" r="r" b="b"/>
              <a:pathLst>
                <a:path w="7267" h="4064">
                  <a:moveTo>
                    <a:pt x="7205" y="2607"/>
                  </a:moveTo>
                  <a:lnTo>
                    <a:pt x="7267" y="2464"/>
                  </a:lnTo>
                  <a:lnTo>
                    <a:pt x="7267" y="0"/>
                  </a:lnTo>
                  <a:lnTo>
                    <a:pt x="7233" y="122"/>
                  </a:lnTo>
                  <a:lnTo>
                    <a:pt x="7210" y="185"/>
                  </a:lnTo>
                  <a:lnTo>
                    <a:pt x="7188" y="243"/>
                  </a:lnTo>
                  <a:lnTo>
                    <a:pt x="7104" y="386"/>
                  </a:lnTo>
                  <a:lnTo>
                    <a:pt x="7025" y="486"/>
                  </a:lnTo>
                  <a:lnTo>
                    <a:pt x="6930" y="565"/>
                  </a:lnTo>
                  <a:lnTo>
                    <a:pt x="6824" y="639"/>
                  </a:lnTo>
                  <a:lnTo>
                    <a:pt x="6590" y="765"/>
                  </a:lnTo>
                  <a:lnTo>
                    <a:pt x="6142" y="934"/>
                  </a:lnTo>
                  <a:lnTo>
                    <a:pt x="5740" y="1072"/>
                  </a:lnTo>
                  <a:lnTo>
                    <a:pt x="5331" y="1151"/>
                  </a:lnTo>
                  <a:lnTo>
                    <a:pt x="4727" y="1288"/>
                  </a:lnTo>
                  <a:lnTo>
                    <a:pt x="4134" y="1378"/>
                  </a:lnTo>
                  <a:lnTo>
                    <a:pt x="3463" y="1404"/>
                  </a:lnTo>
                  <a:lnTo>
                    <a:pt x="2669" y="1404"/>
                  </a:lnTo>
                  <a:lnTo>
                    <a:pt x="1858" y="1488"/>
                  </a:lnTo>
                  <a:lnTo>
                    <a:pt x="1326" y="1684"/>
                  </a:lnTo>
                  <a:lnTo>
                    <a:pt x="857" y="1895"/>
                  </a:lnTo>
                  <a:lnTo>
                    <a:pt x="487" y="2137"/>
                  </a:lnTo>
                  <a:lnTo>
                    <a:pt x="286" y="2301"/>
                  </a:lnTo>
                  <a:lnTo>
                    <a:pt x="118" y="2518"/>
                  </a:lnTo>
                  <a:lnTo>
                    <a:pt x="29" y="2734"/>
                  </a:lnTo>
                  <a:lnTo>
                    <a:pt x="0" y="2950"/>
                  </a:lnTo>
                  <a:lnTo>
                    <a:pt x="0" y="3108"/>
                  </a:lnTo>
                  <a:lnTo>
                    <a:pt x="51" y="3224"/>
                  </a:lnTo>
                  <a:lnTo>
                    <a:pt x="129" y="3372"/>
                  </a:lnTo>
                  <a:lnTo>
                    <a:pt x="258" y="3499"/>
                  </a:lnTo>
                  <a:lnTo>
                    <a:pt x="386" y="3625"/>
                  </a:lnTo>
                  <a:lnTo>
                    <a:pt x="510" y="3720"/>
                  </a:lnTo>
                  <a:lnTo>
                    <a:pt x="661" y="3821"/>
                  </a:lnTo>
                  <a:lnTo>
                    <a:pt x="918" y="3968"/>
                  </a:lnTo>
                  <a:lnTo>
                    <a:pt x="1192" y="4064"/>
                  </a:lnTo>
                  <a:lnTo>
                    <a:pt x="1668" y="3931"/>
                  </a:lnTo>
                  <a:lnTo>
                    <a:pt x="2345" y="3805"/>
                  </a:lnTo>
                  <a:lnTo>
                    <a:pt x="3133" y="3752"/>
                  </a:lnTo>
                  <a:lnTo>
                    <a:pt x="3921" y="3688"/>
                  </a:lnTo>
                  <a:lnTo>
                    <a:pt x="4531" y="3688"/>
                  </a:lnTo>
                  <a:lnTo>
                    <a:pt x="5125" y="3610"/>
                  </a:lnTo>
                  <a:lnTo>
                    <a:pt x="5800" y="3446"/>
                  </a:lnTo>
                  <a:lnTo>
                    <a:pt x="6371" y="3251"/>
                  </a:lnTo>
                  <a:lnTo>
                    <a:pt x="6791" y="3056"/>
                  </a:lnTo>
                  <a:lnTo>
                    <a:pt x="6937" y="2950"/>
                  </a:lnTo>
                  <a:lnTo>
                    <a:pt x="7087" y="2787"/>
                  </a:lnTo>
                  <a:lnTo>
                    <a:pt x="7205" y="2607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54280" y="4513320"/>
              <a:ext cx="1293840" cy="325440"/>
            </a:xfrm>
            <a:custGeom>
              <a:avLst/>
              <a:gdLst/>
              <a:ahLst/>
              <a:rect l="l" t="t" r="r" b="b"/>
              <a:pathLst>
                <a:path w="7339" h="4089">
                  <a:moveTo>
                    <a:pt x="0" y="2132"/>
                  </a:moveTo>
                  <a:lnTo>
                    <a:pt x="0" y="0"/>
                  </a:lnTo>
                  <a:lnTo>
                    <a:pt x="57" y="133"/>
                  </a:lnTo>
                  <a:lnTo>
                    <a:pt x="124" y="243"/>
                  </a:lnTo>
                  <a:lnTo>
                    <a:pt x="224" y="364"/>
                  </a:lnTo>
                  <a:lnTo>
                    <a:pt x="337" y="470"/>
                  </a:lnTo>
                  <a:lnTo>
                    <a:pt x="459" y="580"/>
                  </a:lnTo>
                  <a:lnTo>
                    <a:pt x="661" y="713"/>
                  </a:lnTo>
                  <a:lnTo>
                    <a:pt x="762" y="776"/>
                  </a:lnTo>
                  <a:lnTo>
                    <a:pt x="907" y="855"/>
                  </a:lnTo>
                  <a:lnTo>
                    <a:pt x="1102" y="934"/>
                  </a:lnTo>
                  <a:lnTo>
                    <a:pt x="1326" y="1008"/>
                  </a:lnTo>
                  <a:lnTo>
                    <a:pt x="1992" y="1151"/>
                  </a:lnTo>
                  <a:lnTo>
                    <a:pt x="2669" y="1235"/>
                  </a:lnTo>
                  <a:lnTo>
                    <a:pt x="3262" y="1320"/>
                  </a:lnTo>
                  <a:lnTo>
                    <a:pt x="3799" y="1320"/>
                  </a:lnTo>
                  <a:lnTo>
                    <a:pt x="4464" y="1320"/>
                  </a:lnTo>
                  <a:lnTo>
                    <a:pt x="5063" y="1388"/>
                  </a:lnTo>
                  <a:lnTo>
                    <a:pt x="5728" y="1557"/>
                  </a:lnTo>
                  <a:lnTo>
                    <a:pt x="6332" y="1804"/>
                  </a:lnTo>
                  <a:lnTo>
                    <a:pt x="6735" y="2047"/>
                  </a:lnTo>
                  <a:lnTo>
                    <a:pt x="6964" y="2232"/>
                  </a:lnTo>
                  <a:lnTo>
                    <a:pt x="7121" y="2411"/>
                  </a:lnTo>
                  <a:lnTo>
                    <a:pt x="7221" y="2538"/>
                  </a:lnTo>
                  <a:lnTo>
                    <a:pt x="7283" y="2659"/>
                  </a:lnTo>
                  <a:lnTo>
                    <a:pt x="7322" y="2770"/>
                  </a:lnTo>
                  <a:lnTo>
                    <a:pt x="7339" y="2865"/>
                  </a:lnTo>
                  <a:lnTo>
                    <a:pt x="7272" y="3135"/>
                  </a:lnTo>
                  <a:lnTo>
                    <a:pt x="7160" y="3399"/>
                  </a:lnTo>
                  <a:lnTo>
                    <a:pt x="7076" y="3509"/>
                  </a:lnTo>
                  <a:lnTo>
                    <a:pt x="6970" y="3625"/>
                  </a:lnTo>
                  <a:lnTo>
                    <a:pt x="6881" y="3725"/>
                  </a:lnTo>
                  <a:lnTo>
                    <a:pt x="6785" y="3794"/>
                  </a:lnTo>
                  <a:lnTo>
                    <a:pt x="6646" y="3878"/>
                  </a:lnTo>
                  <a:lnTo>
                    <a:pt x="6505" y="3958"/>
                  </a:lnTo>
                  <a:lnTo>
                    <a:pt x="6332" y="4026"/>
                  </a:lnTo>
                  <a:lnTo>
                    <a:pt x="6170" y="4089"/>
                  </a:lnTo>
                  <a:lnTo>
                    <a:pt x="5800" y="4011"/>
                  </a:lnTo>
                  <a:lnTo>
                    <a:pt x="5202" y="3905"/>
                  </a:lnTo>
                  <a:lnTo>
                    <a:pt x="4788" y="3868"/>
                  </a:lnTo>
                  <a:lnTo>
                    <a:pt x="4252" y="3836"/>
                  </a:lnTo>
                  <a:lnTo>
                    <a:pt x="3066" y="3836"/>
                  </a:lnTo>
                  <a:lnTo>
                    <a:pt x="3066" y="2807"/>
                  </a:lnTo>
                  <a:lnTo>
                    <a:pt x="2098" y="3673"/>
                  </a:lnTo>
                  <a:lnTo>
                    <a:pt x="1908" y="3662"/>
                  </a:lnTo>
                  <a:lnTo>
                    <a:pt x="1712" y="3641"/>
                  </a:lnTo>
                  <a:lnTo>
                    <a:pt x="1522" y="3599"/>
                  </a:lnTo>
                  <a:lnTo>
                    <a:pt x="1326" y="3530"/>
                  </a:lnTo>
                  <a:lnTo>
                    <a:pt x="1130" y="3451"/>
                  </a:lnTo>
                  <a:lnTo>
                    <a:pt x="924" y="3351"/>
                  </a:lnTo>
                  <a:lnTo>
                    <a:pt x="762" y="3251"/>
                  </a:lnTo>
                  <a:lnTo>
                    <a:pt x="588" y="3129"/>
                  </a:lnTo>
                  <a:lnTo>
                    <a:pt x="437" y="2987"/>
                  </a:lnTo>
                  <a:lnTo>
                    <a:pt x="330" y="2855"/>
                  </a:lnTo>
                  <a:lnTo>
                    <a:pt x="213" y="2697"/>
                  </a:lnTo>
                  <a:lnTo>
                    <a:pt x="129" y="2538"/>
                  </a:lnTo>
                  <a:lnTo>
                    <a:pt x="51" y="2322"/>
                  </a:lnTo>
                  <a:lnTo>
                    <a:pt x="0" y="213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54280" y="4513320"/>
              <a:ext cx="1293840" cy="325440"/>
            </a:xfrm>
            <a:custGeom>
              <a:avLst/>
              <a:gdLst/>
              <a:ahLst/>
              <a:rect l="l" t="t" r="r" b="b"/>
              <a:pathLst>
                <a:path w="7339" h="4089">
                  <a:moveTo>
                    <a:pt x="0" y="2132"/>
                  </a:moveTo>
                  <a:lnTo>
                    <a:pt x="0" y="0"/>
                  </a:lnTo>
                  <a:lnTo>
                    <a:pt x="57" y="133"/>
                  </a:lnTo>
                  <a:lnTo>
                    <a:pt x="124" y="243"/>
                  </a:lnTo>
                  <a:lnTo>
                    <a:pt x="224" y="364"/>
                  </a:lnTo>
                  <a:lnTo>
                    <a:pt x="337" y="470"/>
                  </a:lnTo>
                  <a:lnTo>
                    <a:pt x="459" y="580"/>
                  </a:lnTo>
                  <a:lnTo>
                    <a:pt x="661" y="713"/>
                  </a:lnTo>
                  <a:lnTo>
                    <a:pt x="762" y="776"/>
                  </a:lnTo>
                  <a:lnTo>
                    <a:pt x="907" y="855"/>
                  </a:lnTo>
                  <a:lnTo>
                    <a:pt x="1102" y="934"/>
                  </a:lnTo>
                  <a:lnTo>
                    <a:pt x="1326" y="1008"/>
                  </a:lnTo>
                  <a:lnTo>
                    <a:pt x="1992" y="1151"/>
                  </a:lnTo>
                  <a:lnTo>
                    <a:pt x="2669" y="1235"/>
                  </a:lnTo>
                  <a:lnTo>
                    <a:pt x="3262" y="1320"/>
                  </a:lnTo>
                  <a:lnTo>
                    <a:pt x="3799" y="1320"/>
                  </a:lnTo>
                  <a:lnTo>
                    <a:pt x="4464" y="1320"/>
                  </a:lnTo>
                  <a:lnTo>
                    <a:pt x="5063" y="1388"/>
                  </a:lnTo>
                  <a:lnTo>
                    <a:pt x="5728" y="1557"/>
                  </a:lnTo>
                  <a:lnTo>
                    <a:pt x="6332" y="1804"/>
                  </a:lnTo>
                  <a:lnTo>
                    <a:pt x="6735" y="2047"/>
                  </a:lnTo>
                  <a:lnTo>
                    <a:pt x="6964" y="2232"/>
                  </a:lnTo>
                  <a:lnTo>
                    <a:pt x="7121" y="2411"/>
                  </a:lnTo>
                  <a:lnTo>
                    <a:pt x="7221" y="2538"/>
                  </a:lnTo>
                  <a:lnTo>
                    <a:pt x="7283" y="2659"/>
                  </a:lnTo>
                  <a:lnTo>
                    <a:pt x="7322" y="2770"/>
                  </a:lnTo>
                  <a:lnTo>
                    <a:pt x="7339" y="2865"/>
                  </a:lnTo>
                  <a:lnTo>
                    <a:pt x="7272" y="3135"/>
                  </a:lnTo>
                  <a:lnTo>
                    <a:pt x="7160" y="3399"/>
                  </a:lnTo>
                  <a:lnTo>
                    <a:pt x="7076" y="3509"/>
                  </a:lnTo>
                  <a:lnTo>
                    <a:pt x="6970" y="3625"/>
                  </a:lnTo>
                  <a:lnTo>
                    <a:pt x="6881" y="3725"/>
                  </a:lnTo>
                  <a:lnTo>
                    <a:pt x="6785" y="3794"/>
                  </a:lnTo>
                  <a:lnTo>
                    <a:pt x="6646" y="3878"/>
                  </a:lnTo>
                  <a:lnTo>
                    <a:pt x="6505" y="3958"/>
                  </a:lnTo>
                  <a:lnTo>
                    <a:pt x="6332" y="4026"/>
                  </a:lnTo>
                  <a:lnTo>
                    <a:pt x="6170" y="4089"/>
                  </a:lnTo>
                  <a:lnTo>
                    <a:pt x="5800" y="4011"/>
                  </a:lnTo>
                  <a:lnTo>
                    <a:pt x="5202" y="3905"/>
                  </a:lnTo>
                  <a:lnTo>
                    <a:pt x="4788" y="3868"/>
                  </a:lnTo>
                  <a:lnTo>
                    <a:pt x="4252" y="3836"/>
                  </a:lnTo>
                  <a:lnTo>
                    <a:pt x="3066" y="3836"/>
                  </a:lnTo>
                  <a:lnTo>
                    <a:pt x="3066" y="2807"/>
                  </a:lnTo>
                  <a:lnTo>
                    <a:pt x="2098" y="3673"/>
                  </a:lnTo>
                  <a:lnTo>
                    <a:pt x="1908" y="3662"/>
                  </a:lnTo>
                  <a:lnTo>
                    <a:pt x="1712" y="3641"/>
                  </a:lnTo>
                  <a:lnTo>
                    <a:pt x="1522" y="3599"/>
                  </a:lnTo>
                  <a:lnTo>
                    <a:pt x="1326" y="3530"/>
                  </a:lnTo>
                  <a:lnTo>
                    <a:pt x="1130" y="3451"/>
                  </a:lnTo>
                  <a:lnTo>
                    <a:pt x="924" y="3351"/>
                  </a:lnTo>
                  <a:lnTo>
                    <a:pt x="762" y="3251"/>
                  </a:lnTo>
                  <a:lnTo>
                    <a:pt x="588" y="3129"/>
                  </a:lnTo>
                  <a:lnTo>
                    <a:pt x="437" y="2987"/>
                  </a:lnTo>
                  <a:lnTo>
                    <a:pt x="330" y="2855"/>
                  </a:lnTo>
                  <a:lnTo>
                    <a:pt x="213" y="2697"/>
                  </a:lnTo>
                  <a:lnTo>
                    <a:pt x="129" y="2538"/>
                  </a:lnTo>
                  <a:lnTo>
                    <a:pt x="51" y="2322"/>
                  </a:lnTo>
                  <a:lnTo>
                    <a:pt x="0" y="2132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54280" y="4737240"/>
              <a:ext cx="1293840" cy="444240"/>
            </a:xfrm>
            <a:custGeom>
              <a:avLst/>
              <a:gdLst/>
              <a:ahLst/>
              <a:rect l="l" t="t" r="r" b="b"/>
              <a:pathLst>
                <a:path w="7339" h="5599">
                  <a:moveTo>
                    <a:pt x="7339" y="2496"/>
                  </a:moveTo>
                  <a:lnTo>
                    <a:pt x="7339" y="75"/>
                  </a:lnTo>
                  <a:lnTo>
                    <a:pt x="7288" y="243"/>
                  </a:lnTo>
                  <a:lnTo>
                    <a:pt x="7249" y="396"/>
                  </a:lnTo>
                  <a:lnTo>
                    <a:pt x="7182" y="539"/>
                  </a:lnTo>
                  <a:lnTo>
                    <a:pt x="7065" y="718"/>
                  </a:lnTo>
                  <a:lnTo>
                    <a:pt x="6869" y="924"/>
                  </a:lnTo>
                  <a:lnTo>
                    <a:pt x="6696" y="1046"/>
                  </a:lnTo>
                  <a:lnTo>
                    <a:pt x="6472" y="1161"/>
                  </a:lnTo>
                  <a:lnTo>
                    <a:pt x="6293" y="1235"/>
                  </a:lnTo>
                  <a:lnTo>
                    <a:pt x="6170" y="1282"/>
                  </a:lnTo>
                  <a:lnTo>
                    <a:pt x="5885" y="1362"/>
                  </a:lnTo>
                  <a:lnTo>
                    <a:pt x="5326" y="1499"/>
                  </a:lnTo>
                  <a:lnTo>
                    <a:pt x="4873" y="1573"/>
                  </a:lnTo>
                  <a:lnTo>
                    <a:pt x="4598" y="1605"/>
                  </a:lnTo>
                  <a:lnTo>
                    <a:pt x="3066" y="1605"/>
                  </a:lnTo>
                  <a:lnTo>
                    <a:pt x="3066" y="0"/>
                  </a:lnTo>
                  <a:lnTo>
                    <a:pt x="0" y="2744"/>
                  </a:lnTo>
                  <a:lnTo>
                    <a:pt x="3055" y="5599"/>
                  </a:lnTo>
                  <a:lnTo>
                    <a:pt x="3055" y="4053"/>
                  </a:lnTo>
                  <a:lnTo>
                    <a:pt x="3530" y="4053"/>
                  </a:lnTo>
                  <a:lnTo>
                    <a:pt x="4067" y="4053"/>
                  </a:lnTo>
                  <a:lnTo>
                    <a:pt x="4660" y="4053"/>
                  </a:lnTo>
                  <a:lnTo>
                    <a:pt x="5125" y="4000"/>
                  </a:lnTo>
                  <a:lnTo>
                    <a:pt x="5617" y="3900"/>
                  </a:lnTo>
                  <a:lnTo>
                    <a:pt x="5885" y="3815"/>
                  </a:lnTo>
                  <a:lnTo>
                    <a:pt x="6137" y="3705"/>
                  </a:lnTo>
                  <a:lnTo>
                    <a:pt x="6533" y="3477"/>
                  </a:lnTo>
                  <a:lnTo>
                    <a:pt x="6914" y="3224"/>
                  </a:lnTo>
                  <a:lnTo>
                    <a:pt x="7121" y="3035"/>
                  </a:lnTo>
                  <a:lnTo>
                    <a:pt x="7210" y="2934"/>
                  </a:lnTo>
                  <a:lnTo>
                    <a:pt x="7267" y="2829"/>
                  </a:lnTo>
                  <a:lnTo>
                    <a:pt x="7316" y="2659"/>
                  </a:lnTo>
                  <a:lnTo>
                    <a:pt x="7339" y="24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754280" y="4737240"/>
              <a:ext cx="1293840" cy="444240"/>
            </a:xfrm>
            <a:custGeom>
              <a:avLst/>
              <a:gdLst/>
              <a:ahLst/>
              <a:rect l="l" t="t" r="r" b="b"/>
              <a:pathLst>
                <a:path w="7339" h="5599">
                  <a:moveTo>
                    <a:pt x="7339" y="2496"/>
                  </a:moveTo>
                  <a:lnTo>
                    <a:pt x="7339" y="75"/>
                  </a:lnTo>
                  <a:lnTo>
                    <a:pt x="7288" y="243"/>
                  </a:lnTo>
                  <a:lnTo>
                    <a:pt x="7249" y="396"/>
                  </a:lnTo>
                  <a:lnTo>
                    <a:pt x="7182" y="539"/>
                  </a:lnTo>
                  <a:lnTo>
                    <a:pt x="7065" y="718"/>
                  </a:lnTo>
                  <a:lnTo>
                    <a:pt x="6869" y="924"/>
                  </a:lnTo>
                  <a:lnTo>
                    <a:pt x="6696" y="1046"/>
                  </a:lnTo>
                  <a:lnTo>
                    <a:pt x="6472" y="1161"/>
                  </a:lnTo>
                  <a:lnTo>
                    <a:pt x="6293" y="1235"/>
                  </a:lnTo>
                  <a:lnTo>
                    <a:pt x="6170" y="1282"/>
                  </a:lnTo>
                  <a:lnTo>
                    <a:pt x="5885" y="1362"/>
                  </a:lnTo>
                  <a:lnTo>
                    <a:pt x="5326" y="1499"/>
                  </a:lnTo>
                  <a:lnTo>
                    <a:pt x="4873" y="1573"/>
                  </a:lnTo>
                  <a:lnTo>
                    <a:pt x="4598" y="1605"/>
                  </a:lnTo>
                  <a:lnTo>
                    <a:pt x="3066" y="1605"/>
                  </a:lnTo>
                  <a:lnTo>
                    <a:pt x="3066" y="0"/>
                  </a:lnTo>
                  <a:lnTo>
                    <a:pt x="0" y="2744"/>
                  </a:lnTo>
                  <a:lnTo>
                    <a:pt x="3055" y="5599"/>
                  </a:lnTo>
                  <a:lnTo>
                    <a:pt x="3055" y="4053"/>
                  </a:lnTo>
                  <a:lnTo>
                    <a:pt x="3530" y="4053"/>
                  </a:lnTo>
                  <a:lnTo>
                    <a:pt x="4067" y="4053"/>
                  </a:lnTo>
                  <a:lnTo>
                    <a:pt x="4660" y="4053"/>
                  </a:lnTo>
                  <a:lnTo>
                    <a:pt x="5125" y="4000"/>
                  </a:lnTo>
                  <a:lnTo>
                    <a:pt x="5617" y="3900"/>
                  </a:lnTo>
                  <a:lnTo>
                    <a:pt x="5885" y="3815"/>
                  </a:lnTo>
                  <a:lnTo>
                    <a:pt x="6137" y="3705"/>
                  </a:lnTo>
                  <a:lnTo>
                    <a:pt x="6533" y="3477"/>
                  </a:lnTo>
                  <a:lnTo>
                    <a:pt x="6914" y="3224"/>
                  </a:lnTo>
                  <a:lnTo>
                    <a:pt x="7121" y="3035"/>
                  </a:lnTo>
                  <a:lnTo>
                    <a:pt x="7210" y="2934"/>
                  </a:lnTo>
                  <a:lnTo>
                    <a:pt x="7267" y="2829"/>
                  </a:lnTo>
                  <a:lnTo>
                    <a:pt x="7316" y="2659"/>
                  </a:lnTo>
                  <a:lnTo>
                    <a:pt x="7339" y="2496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4572000" y="1828800"/>
            <a:ext cx="419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ff0000"/>
                </a:solidFill>
                <a:latin typeface="Times New Roman"/>
              </a:rPr>
              <a:t>أ</a:t>
            </a:r>
            <a:r>
              <a:rPr b="1" lang="hi-IN" sz="8800" spc="-1" strike="noStrike">
                <a:solidFill>
                  <a:srgbClr val="000000"/>
                </a:solidFill>
                <a:latin typeface="Times New Roman"/>
              </a:rPr>
              <a:t>حمر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676520"/>
            <a:ext cx="419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ff0000"/>
                </a:solidFill>
                <a:latin typeface="Times New Roman"/>
              </a:rPr>
              <a:t>أ</a:t>
            </a:r>
            <a:r>
              <a:rPr b="1" lang="hi-IN" sz="8800" spc="-1" strike="noStrike">
                <a:solidFill>
                  <a:srgbClr val="000000"/>
                </a:solidFill>
                <a:latin typeface="Times New Roman"/>
              </a:rPr>
              <a:t>زرق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5424480"/>
            <a:ext cx="419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ff0000"/>
                </a:solidFill>
                <a:latin typeface="Times New Roman"/>
              </a:rPr>
              <a:t>أ</a:t>
            </a:r>
            <a:r>
              <a:rPr b="1" lang="hi-IN" sz="8800" spc="-1" strike="noStrike">
                <a:solidFill>
                  <a:srgbClr val="000000"/>
                </a:solidFill>
                <a:latin typeface="Times New Roman"/>
              </a:rPr>
              <a:t>صفر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424480"/>
            <a:ext cx="419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ff0000"/>
                </a:solidFill>
                <a:latin typeface="Times New Roman"/>
              </a:rPr>
              <a:t>أ</a:t>
            </a:r>
            <a:r>
              <a:rPr b="1" lang="hi-IN" sz="8800" spc="-1" strike="noStrike">
                <a:solidFill>
                  <a:srgbClr val="000000"/>
                </a:solidFill>
                <a:latin typeface="Times New Roman"/>
              </a:rPr>
              <a:t>سود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0" y="0"/>
            <a:ext cx="426708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426708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3733920"/>
            <a:ext cx="426708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0"/>
            <a:ext cx="3200400" cy="16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94440" y="7920"/>
            <a:ext cx="3174840" cy="1676520"/>
          </a:xfrm>
          <a:custGeom>
            <a:avLst/>
            <a:gdLst/>
            <a:ahLst/>
            <a:rect l="l" t="t" r="r" b="b"/>
            <a:pathLst>
              <a:path w="5999" h="5280">
                <a:moveTo>
                  <a:pt x="1" y="1773"/>
                </a:moveTo>
                <a:lnTo>
                  <a:pt x="2689" y="1773"/>
                </a:lnTo>
                <a:lnTo>
                  <a:pt x="1970" y="0"/>
                </a:lnTo>
                <a:lnTo>
                  <a:pt x="5999" y="2638"/>
                </a:lnTo>
                <a:lnTo>
                  <a:pt x="1971" y="5280"/>
                </a:lnTo>
                <a:lnTo>
                  <a:pt x="2727" y="3544"/>
                </a:lnTo>
                <a:lnTo>
                  <a:pt x="0" y="3544"/>
                </a:lnTo>
                <a:lnTo>
                  <a:pt x="1" y="1773"/>
                </a:lnTo>
                <a:close/>
              </a:path>
            </a:pathLst>
          </a:custGeom>
          <a:solidFill>
            <a:srgbClr val="33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1828800"/>
            <a:ext cx="419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ff0000"/>
                </a:solidFill>
                <a:latin typeface="Times New Roman"/>
              </a:rPr>
              <a:t>أ</a:t>
            </a:r>
            <a:r>
              <a:rPr b="1" lang="hi-IN" sz="8800" spc="-1" strike="noStrike">
                <a:solidFill>
                  <a:srgbClr val="000000"/>
                </a:solidFill>
                <a:latin typeface="Times New Roman"/>
              </a:rPr>
              <a:t>خضر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676520"/>
            <a:ext cx="419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ff0000"/>
                </a:solidFill>
                <a:latin typeface="Times New Roman"/>
              </a:rPr>
              <a:t>أ</a:t>
            </a:r>
            <a:r>
              <a:rPr b="1" lang="hi-IN" sz="8800" spc="-1" strike="noStrike">
                <a:solidFill>
                  <a:srgbClr val="000000"/>
                </a:solidFill>
                <a:latin typeface="Times New Roman"/>
              </a:rPr>
              <a:t>ذن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5424480"/>
            <a:ext cx="419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ff0000"/>
                </a:solidFill>
                <a:latin typeface="Times New Roman"/>
              </a:rPr>
              <a:t>أ</a:t>
            </a:r>
            <a:r>
              <a:rPr b="1" lang="hi-IN" sz="8800" spc="-1" strike="noStrike">
                <a:solidFill>
                  <a:srgbClr val="000000"/>
                </a:solidFill>
                <a:latin typeface="Times New Roman"/>
              </a:rPr>
              <a:t>نف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96000" y="4600440"/>
            <a:ext cx="1517760" cy="808200"/>
          </a:xfrm>
          <a:custGeom>
            <a:avLst/>
            <a:gdLst/>
            <a:ahLst/>
            <a:rect l="l" t="t" r="r" b="b"/>
            <a:pathLst>
              <a:path w="13392" h="8645">
                <a:moveTo>
                  <a:pt x="3925" y="408"/>
                </a:moveTo>
                <a:lnTo>
                  <a:pt x="3716" y="303"/>
                </a:lnTo>
                <a:lnTo>
                  <a:pt x="3613" y="257"/>
                </a:lnTo>
                <a:lnTo>
                  <a:pt x="3509" y="212"/>
                </a:lnTo>
                <a:lnTo>
                  <a:pt x="3414" y="176"/>
                </a:lnTo>
                <a:lnTo>
                  <a:pt x="3297" y="140"/>
                </a:lnTo>
                <a:lnTo>
                  <a:pt x="3179" y="117"/>
                </a:lnTo>
                <a:lnTo>
                  <a:pt x="3124" y="117"/>
                </a:lnTo>
                <a:lnTo>
                  <a:pt x="3053" y="117"/>
                </a:lnTo>
                <a:lnTo>
                  <a:pt x="2785" y="117"/>
                </a:lnTo>
                <a:lnTo>
                  <a:pt x="2645" y="127"/>
                </a:lnTo>
                <a:lnTo>
                  <a:pt x="2505" y="140"/>
                </a:lnTo>
                <a:lnTo>
                  <a:pt x="2378" y="163"/>
                </a:lnTo>
                <a:lnTo>
                  <a:pt x="2238" y="176"/>
                </a:lnTo>
                <a:lnTo>
                  <a:pt x="2098" y="199"/>
                </a:lnTo>
                <a:lnTo>
                  <a:pt x="1970" y="235"/>
                </a:lnTo>
                <a:lnTo>
                  <a:pt x="1701" y="303"/>
                </a:lnTo>
                <a:lnTo>
                  <a:pt x="1456" y="385"/>
                </a:lnTo>
                <a:lnTo>
                  <a:pt x="1329" y="431"/>
                </a:lnTo>
                <a:lnTo>
                  <a:pt x="1212" y="490"/>
                </a:lnTo>
                <a:lnTo>
                  <a:pt x="1094" y="545"/>
                </a:lnTo>
                <a:lnTo>
                  <a:pt x="990" y="604"/>
                </a:lnTo>
                <a:lnTo>
                  <a:pt x="873" y="676"/>
                </a:lnTo>
                <a:lnTo>
                  <a:pt x="781" y="744"/>
                </a:lnTo>
                <a:lnTo>
                  <a:pt x="678" y="813"/>
                </a:lnTo>
                <a:lnTo>
                  <a:pt x="583" y="898"/>
                </a:lnTo>
                <a:lnTo>
                  <a:pt x="502" y="980"/>
                </a:lnTo>
                <a:lnTo>
                  <a:pt x="420" y="1062"/>
                </a:lnTo>
                <a:lnTo>
                  <a:pt x="339" y="1153"/>
                </a:lnTo>
                <a:lnTo>
                  <a:pt x="267" y="1248"/>
                </a:lnTo>
                <a:lnTo>
                  <a:pt x="211" y="1352"/>
                </a:lnTo>
                <a:lnTo>
                  <a:pt x="153" y="1457"/>
                </a:lnTo>
                <a:lnTo>
                  <a:pt x="104" y="1561"/>
                </a:lnTo>
                <a:lnTo>
                  <a:pt x="72" y="1679"/>
                </a:lnTo>
                <a:lnTo>
                  <a:pt x="35" y="1806"/>
                </a:lnTo>
                <a:lnTo>
                  <a:pt x="13" y="1924"/>
                </a:lnTo>
                <a:lnTo>
                  <a:pt x="0" y="2054"/>
                </a:lnTo>
                <a:lnTo>
                  <a:pt x="0" y="2195"/>
                </a:lnTo>
                <a:lnTo>
                  <a:pt x="0" y="2310"/>
                </a:lnTo>
                <a:lnTo>
                  <a:pt x="23" y="2427"/>
                </a:lnTo>
                <a:lnTo>
                  <a:pt x="48" y="2532"/>
                </a:lnTo>
                <a:lnTo>
                  <a:pt x="81" y="2650"/>
                </a:lnTo>
                <a:lnTo>
                  <a:pt x="130" y="2754"/>
                </a:lnTo>
                <a:lnTo>
                  <a:pt x="186" y="2859"/>
                </a:lnTo>
                <a:lnTo>
                  <a:pt x="257" y="2953"/>
                </a:lnTo>
                <a:lnTo>
                  <a:pt x="325" y="3035"/>
                </a:lnTo>
                <a:lnTo>
                  <a:pt x="407" y="3129"/>
                </a:lnTo>
                <a:lnTo>
                  <a:pt x="488" y="3198"/>
                </a:lnTo>
                <a:lnTo>
                  <a:pt x="583" y="3257"/>
                </a:lnTo>
                <a:lnTo>
                  <a:pt x="678" y="3316"/>
                </a:lnTo>
                <a:lnTo>
                  <a:pt x="781" y="3361"/>
                </a:lnTo>
                <a:lnTo>
                  <a:pt x="886" y="3398"/>
                </a:lnTo>
                <a:lnTo>
                  <a:pt x="1003" y="3407"/>
                </a:lnTo>
                <a:lnTo>
                  <a:pt x="1061" y="3420"/>
                </a:lnTo>
                <a:lnTo>
                  <a:pt x="1117" y="3420"/>
                </a:lnTo>
                <a:lnTo>
                  <a:pt x="1202" y="3420"/>
                </a:lnTo>
                <a:lnTo>
                  <a:pt x="1283" y="3407"/>
                </a:lnTo>
                <a:lnTo>
                  <a:pt x="1352" y="3385"/>
                </a:lnTo>
                <a:lnTo>
                  <a:pt x="1420" y="3361"/>
                </a:lnTo>
                <a:lnTo>
                  <a:pt x="1560" y="3303"/>
                </a:lnTo>
                <a:lnTo>
                  <a:pt x="1677" y="3235"/>
                </a:lnTo>
                <a:lnTo>
                  <a:pt x="1794" y="3153"/>
                </a:lnTo>
                <a:lnTo>
                  <a:pt x="1922" y="3058"/>
                </a:lnTo>
                <a:lnTo>
                  <a:pt x="2052" y="2976"/>
                </a:lnTo>
                <a:lnTo>
                  <a:pt x="2108" y="2941"/>
                </a:lnTo>
                <a:lnTo>
                  <a:pt x="2179" y="2895"/>
                </a:lnTo>
                <a:lnTo>
                  <a:pt x="2225" y="3104"/>
                </a:lnTo>
                <a:lnTo>
                  <a:pt x="2271" y="3293"/>
                </a:lnTo>
                <a:lnTo>
                  <a:pt x="2329" y="3666"/>
                </a:lnTo>
                <a:lnTo>
                  <a:pt x="2378" y="4006"/>
                </a:lnTo>
                <a:lnTo>
                  <a:pt x="2424" y="4346"/>
                </a:lnTo>
                <a:lnTo>
                  <a:pt x="2469" y="4672"/>
                </a:lnTo>
                <a:lnTo>
                  <a:pt x="2541" y="5008"/>
                </a:lnTo>
                <a:lnTo>
                  <a:pt x="2586" y="5175"/>
                </a:lnTo>
                <a:lnTo>
                  <a:pt x="2645" y="5348"/>
                </a:lnTo>
                <a:lnTo>
                  <a:pt x="2703" y="5534"/>
                </a:lnTo>
                <a:lnTo>
                  <a:pt x="2785" y="5724"/>
                </a:lnTo>
                <a:lnTo>
                  <a:pt x="2877" y="5920"/>
                </a:lnTo>
                <a:lnTo>
                  <a:pt x="2971" y="6110"/>
                </a:lnTo>
                <a:lnTo>
                  <a:pt x="3075" y="6283"/>
                </a:lnTo>
                <a:lnTo>
                  <a:pt x="3179" y="6459"/>
                </a:lnTo>
                <a:lnTo>
                  <a:pt x="3297" y="6623"/>
                </a:lnTo>
                <a:lnTo>
                  <a:pt x="3414" y="6786"/>
                </a:lnTo>
                <a:lnTo>
                  <a:pt x="3541" y="6939"/>
                </a:lnTo>
                <a:lnTo>
                  <a:pt x="3672" y="7080"/>
                </a:lnTo>
                <a:lnTo>
                  <a:pt x="3798" y="7217"/>
                </a:lnTo>
                <a:lnTo>
                  <a:pt x="3938" y="7347"/>
                </a:lnTo>
                <a:lnTo>
                  <a:pt x="4088" y="7466"/>
                </a:lnTo>
                <a:lnTo>
                  <a:pt x="4242" y="7580"/>
                </a:lnTo>
                <a:lnTo>
                  <a:pt x="4391" y="7698"/>
                </a:lnTo>
                <a:lnTo>
                  <a:pt x="4544" y="7802"/>
                </a:lnTo>
                <a:lnTo>
                  <a:pt x="4717" y="7897"/>
                </a:lnTo>
                <a:lnTo>
                  <a:pt x="4880" y="7989"/>
                </a:lnTo>
                <a:lnTo>
                  <a:pt x="5056" y="8073"/>
                </a:lnTo>
                <a:lnTo>
                  <a:pt x="5231" y="8142"/>
                </a:lnTo>
                <a:lnTo>
                  <a:pt x="5404" y="8224"/>
                </a:lnTo>
                <a:lnTo>
                  <a:pt x="5594" y="8283"/>
                </a:lnTo>
                <a:lnTo>
                  <a:pt x="5779" y="8341"/>
                </a:lnTo>
                <a:lnTo>
                  <a:pt x="5964" y="8400"/>
                </a:lnTo>
                <a:lnTo>
                  <a:pt x="6164" y="8446"/>
                </a:lnTo>
                <a:lnTo>
                  <a:pt x="6349" y="8491"/>
                </a:lnTo>
                <a:lnTo>
                  <a:pt x="6558" y="8528"/>
                </a:lnTo>
                <a:lnTo>
                  <a:pt x="6753" y="8564"/>
                </a:lnTo>
                <a:lnTo>
                  <a:pt x="6952" y="8586"/>
                </a:lnTo>
                <a:lnTo>
                  <a:pt x="7160" y="8610"/>
                </a:lnTo>
                <a:lnTo>
                  <a:pt x="7372" y="8632"/>
                </a:lnTo>
                <a:lnTo>
                  <a:pt x="7593" y="8645"/>
                </a:lnTo>
                <a:lnTo>
                  <a:pt x="8024" y="8645"/>
                </a:lnTo>
                <a:lnTo>
                  <a:pt x="8244" y="8645"/>
                </a:lnTo>
                <a:lnTo>
                  <a:pt x="8466" y="8632"/>
                </a:lnTo>
                <a:lnTo>
                  <a:pt x="8688" y="8610"/>
                </a:lnTo>
                <a:lnTo>
                  <a:pt x="8909" y="8586"/>
                </a:lnTo>
                <a:lnTo>
                  <a:pt x="9131" y="8550"/>
                </a:lnTo>
                <a:lnTo>
                  <a:pt x="9352" y="8515"/>
                </a:lnTo>
                <a:lnTo>
                  <a:pt x="9561" y="8469"/>
                </a:lnTo>
                <a:lnTo>
                  <a:pt x="9783" y="8409"/>
                </a:lnTo>
                <a:lnTo>
                  <a:pt x="9991" y="8351"/>
                </a:lnTo>
                <a:lnTo>
                  <a:pt x="10203" y="8283"/>
                </a:lnTo>
                <a:lnTo>
                  <a:pt x="10399" y="8201"/>
                </a:lnTo>
                <a:lnTo>
                  <a:pt x="10597" y="8119"/>
                </a:lnTo>
                <a:lnTo>
                  <a:pt x="10796" y="8024"/>
                </a:lnTo>
                <a:lnTo>
                  <a:pt x="10981" y="7919"/>
                </a:lnTo>
                <a:lnTo>
                  <a:pt x="11157" y="7815"/>
                </a:lnTo>
                <a:lnTo>
                  <a:pt x="11249" y="7769"/>
                </a:lnTo>
                <a:lnTo>
                  <a:pt x="11330" y="7711"/>
                </a:lnTo>
                <a:lnTo>
                  <a:pt x="11506" y="7593"/>
                </a:lnTo>
                <a:lnTo>
                  <a:pt x="11669" y="7466"/>
                </a:lnTo>
                <a:lnTo>
                  <a:pt x="11822" y="7325"/>
                </a:lnTo>
                <a:lnTo>
                  <a:pt x="11962" y="7184"/>
                </a:lnTo>
                <a:lnTo>
                  <a:pt x="12099" y="7044"/>
                </a:lnTo>
                <a:lnTo>
                  <a:pt x="12158" y="6963"/>
                </a:lnTo>
                <a:lnTo>
                  <a:pt x="12229" y="6890"/>
                </a:lnTo>
                <a:lnTo>
                  <a:pt x="12346" y="6727"/>
                </a:lnTo>
                <a:lnTo>
                  <a:pt x="12451" y="6554"/>
                </a:lnTo>
                <a:lnTo>
                  <a:pt x="12496" y="6472"/>
                </a:lnTo>
                <a:lnTo>
                  <a:pt x="12541" y="6391"/>
                </a:lnTo>
                <a:lnTo>
                  <a:pt x="12623" y="6201"/>
                </a:lnTo>
                <a:lnTo>
                  <a:pt x="12704" y="6015"/>
                </a:lnTo>
                <a:lnTo>
                  <a:pt x="12763" y="5816"/>
                </a:lnTo>
                <a:lnTo>
                  <a:pt x="12786" y="5724"/>
                </a:lnTo>
                <a:lnTo>
                  <a:pt x="12812" y="5616"/>
                </a:lnTo>
                <a:lnTo>
                  <a:pt x="12835" y="5525"/>
                </a:lnTo>
                <a:lnTo>
                  <a:pt x="12845" y="5420"/>
                </a:lnTo>
                <a:lnTo>
                  <a:pt x="12858" y="5313"/>
                </a:lnTo>
                <a:lnTo>
                  <a:pt x="12867" y="5198"/>
                </a:lnTo>
                <a:lnTo>
                  <a:pt x="12867" y="5093"/>
                </a:lnTo>
                <a:lnTo>
                  <a:pt x="12867" y="4976"/>
                </a:lnTo>
                <a:lnTo>
                  <a:pt x="12867" y="4894"/>
                </a:lnTo>
                <a:lnTo>
                  <a:pt x="12867" y="4845"/>
                </a:lnTo>
                <a:lnTo>
                  <a:pt x="12867" y="4799"/>
                </a:lnTo>
                <a:lnTo>
                  <a:pt x="12858" y="4717"/>
                </a:lnTo>
                <a:lnTo>
                  <a:pt x="12835" y="4649"/>
                </a:lnTo>
                <a:lnTo>
                  <a:pt x="12812" y="4567"/>
                </a:lnTo>
                <a:lnTo>
                  <a:pt x="12786" y="4496"/>
                </a:lnTo>
                <a:lnTo>
                  <a:pt x="12731" y="4355"/>
                </a:lnTo>
                <a:lnTo>
                  <a:pt x="12649" y="4215"/>
                </a:lnTo>
                <a:lnTo>
                  <a:pt x="12565" y="4087"/>
                </a:lnTo>
                <a:lnTo>
                  <a:pt x="12356" y="3829"/>
                </a:lnTo>
                <a:lnTo>
                  <a:pt x="12473" y="3737"/>
                </a:lnTo>
                <a:lnTo>
                  <a:pt x="12590" y="3643"/>
                </a:lnTo>
                <a:lnTo>
                  <a:pt x="12695" y="3538"/>
                </a:lnTo>
                <a:lnTo>
                  <a:pt x="12799" y="3443"/>
                </a:lnTo>
                <a:lnTo>
                  <a:pt x="12880" y="3326"/>
                </a:lnTo>
                <a:lnTo>
                  <a:pt x="12975" y="3221"/>
                </a:lnTo>
                <a:lnTo>
                  <a:pt x="13043" y="3104"/>
                </a:lnTo>
                <a:lnTo>
                  <a:pt x="13125" y="2990"/>
                </a:lnTo>
                <a:lnTo>
                  <a:pt x="13184" y="2871"/>
                </a:lnTo>
                <a:lnTo>
                  <a:pt x="13242" y="2745"/>
                </a:lnTo>
                <a:lnTo>
                  <a:pt x="13288" y="2614"/>
                </a:lnTo>
                <a:lnTo>
                  <a:pt x="13323" y="2486"/>
                </a:lnTo>
                <a:lnTo>
                  <a:pt x="13359" y="2345"/>
                </a:lnTo>
                <a:lnTo>
                  <a:pt x="13369" y="2195"/>
                </a:lnTo>
                <a:lnTo>
                  <a:pt x="13392" y="2042"/>
                </a:lnTo>
                <a:lnTo>
                  <a:pt x="13392" y="1891"/>
                </a:lnTo>
                <a:lnTo>
                  <a:pt x="13392" y="1784"/>
                </a:lnTo>
                <a:lnTo>
                  <a:pt x="13382" y="1679"/>
                </a:lnTo>
                <a:lnTo>
                  <a:pt x="13369" y="1588"/>
                </a:lnTo>
                <a:lnTo>
                  <a:pt x="13347" y="1479"/>
                </a:lnTo>
                <a:lnTo>
                  <a:pt x="13323" y="1389"/>
                </a:lnTo>
                <a:lnTo>
                  <a:pt x="13288" y="1294"/>
                </a:lnTo>
                <a:lnTo>
                  <a:pt x="13252" y="1212"/>
                </a:lnTo>
                <a:lnTo>
                  <a:pt x="13206" y="1117"/>
                </a:lnTo>
                <a:lnTo>
                  <a:pt x="13160" y="1035"/>
                </a:lnTo>
                <a:lnTo>
                  <a:pt x="13115" y="954"/>
                </a:lnTo>
                <a:lnTo>
                  <a:pt x="13057" y="872"/>
                </a:lnTo>
                <a:lnTo>
                  <a:pt x="12998" y="790"/>
                </a:lnTo>
                <a:lnTo>
                  <a:pt x="12940" y="722"/>
                </a:lnTo>
                <a:lnTo>
                  <a:pt x="12867" y="649"/>
                </a:lnTo>
                <a:lnTo>
                  <a:pt x="12799" y="581"/>
                </a:lnTo>
                <a:lnTo>
                  <a:pt x="12718" y="523"/>
                </a:lnTo>
                <a:lnTo>
                  <a:pt x="12649" y="467"/>
                </a:lnTo>
                <a:lnTo>
                  <a:pt x="12565" y="408"/>
                </a:lnTo>
                <a:lnTo>
                  <a:pt x="12473" y="349"/>
                </a:lnTo>
                <a:lnTo>
                  <a:pt x="12392" y="303"/>
                </a:lnTo>
                <a:lnTo>
                  <a:pt x="12216" y="212"/>
                </a:lnTo>
                <a:lnTo>
                  <a:pt x="12017" y="140"/>
                </a:lnTo>
                <a:lnTo>
                  <a:pt x="11926" y="104"/>
                </a:lnTo>
                <a:lnTo>
                  <a:pt x="11832" y="82"/>
                </a:lnTo>
                <a:lnTo>
                  <a:pt x="11623" y="36"/>
                </a:lnTo>
                <a:lnTo>
                  <a:pt x="11518" y="22"/>
                </a:lnTo>
                <a:lnTo>
                  <a:pt x="11412" y="12"/>
                </a:lnTo>
                <a:lnTo>
                  <a:pt x="11216" y="0"/>
                </a:lnTo>
                <a:lnTo>
                  <a:pt x="11307" y="12"/>
                </a:lnTo>
                <a:lnTo>
                  <a:pt x="11401" y="36"/>
                </a:lnTo>
                <a:lnTo>
                  <a:pt x="11496" y="58"/>
                </a:lnTo>
                <a:lnTo>
                  <a:pt x="11577" y="82"/>
                </a:lnTo>
                <a:lnTo>
                  <a:pt x="11669" y="117"/>
                </a:lnTo>
                <a:lnTo>
                  <a:pt x="11751" y="140"/>
                </a:lnTo>
                <a:lnTo>
                  <a:pt x="11832" y="186"/>
                </a:lnTo>
                <a:lnTo>
                  <a:pt x="11903" y="221"/>
                </a:lnTo>
                <a:lnTo>
                  <a:pt x="11985" y="267"/>
                </a:lnTo>
                <a:lnTo>
                  <a:pt x="12053" y="327"/>
                </a:lnTo>
                <a:lnTo>
                  <a:pt x="12125" y="376"/>
                </a:lnTo>
                <a:lnTo>
                  <a:pt x="12193" y="431"/>
                </a:lnTo>
                <a:lnTo>
                  <a:pt x="12251" y="490"/>
                </a:lnTo>
                <a:lnTo>
                  <a:pt x="12321" y="558"/>
                </a:lnTo>
                <a:lnTo>
                  <a:pt x="12379" y="617"/>
                </a:lnTo>
                <a:lnTo>
                  <a:pt x="12427" y="686"/>
                </a:lnTo>
                <a:lnTo>
                  <a:pt x="12532" y="839"/>
                </a:lnTo>
                <a:lnTo>
                  <a:pt x="12623" y="989"/>
                </a:lnTo>
                <a:lnTo>
                  <a:pt x="12695" y="1153"/>
                </a:lnTo>
                <a:lnTo>
                  <a:pt x="12763" y="1329"/>
                </a:lnTo>
                <a:lnTo>
                  <a:pt x="12812" y="1515"/>
                </a:lnTo>
                <a:lnTo>
                  <a:pt x="12845" y="1692"/>
                </a:lnTo>
                <a:lnTo>
                  <a:pt x="12858" y="1784"/>
                </a:lnTo>
                <a:lnTo>
                  <a:pt x="12867" y="1891"/>
                </a:lnTo>
                <a:lnTo>
                  <a:pt x="12867" y="2078"/>
                </a:lnTo>
                <a:lnTo>
                  <a:pt x="12867" y="2241"/>
                </a:lnTo>
                <a:lnTo>
                  <a:pt x="12845" y="2381"/>
                </a:lnTo>
                <a:lnTo>
                  <a:pt x="12812" y="2522"/>
                </a:lnTo>
                <a:lnTo>
                  <a:pt x="12786" y="2590"/>
                </a:lnTo>
                <a:lnTo>
                  <a:pt x="12763" y="2663"/>
                </a:lnTo>
                <a:lnTo>
                  <a:pt x="12718" y="2789"/>
                </a:lnTo>
                <a:lnTo>
                  <a:pt x="12649" y="2917"/>
                </a:lnTo>
                <a:lnTo>
                  <a:pt x="12565" y="3022"/>
                </a:lnTo>
                <a:lnTo>
                  <a:pt x="12532" y="3080"/>
                </a:lnTo>
                <a:lnTo>
                  <a:pt x="12483" y="3140"/>
                </a:lnTo>
                <a:lnTo>
                  <a:pt x="12392" y="3244"/>
                </a:lnTo>
                <a:lnTo>
                  <a:pt x="12288" y="3339"/>
                </a:lnTo>
                <a:lnTo>
                  <a:pt x="12170" y="3434"/>
                </a:lnTo>
                <a:lnTo>
                  <a:pt x="12112" y="3480"/>
                </a:lnTo>
                <a:lnTo>
                  <a:pt x="12053" y="3525"/>
                </a:lnTo>
                <a:lnTo>
                  <a:pt x="11936" y="3606"/>
                </a:lnTo>
                <a:lnTo>
                  <a:pt x="11809" y="3688"/>
                </a:lnTo>
                <a:lnTo>
                  <a:pt x="11669" y="3760"/>
                </a:lnTo>
                <a:lnTo>
                  <a:pt x="11542" y="3829"/>
                </a:lnTo>
                <a:lnTo>
                  <a:pt x="11564" y="3900"/>
                </a:lnTo>
                <a:lnTo>
                  <a:pt x="11600" y="3960"/>
                </a:lnTo>
                <a:lnTo>
                  <a:pt x="11669" y="4074"/>
                </a:lnTo>
                <a:lnTo>
                  <a:pt x="11740" y="4182"/>
                </a:lnTo>
                <a:lnTo>
                  <a:pt x="11795" y="4286"/>
                </a:lnTo>
                <a:lnTo>
                  <a:pt x="11854" y="4401"/>
                </a:lnTo>
                <a:lnTo>
                  <a:pt x="11903" y="4518"/>
                </a:lnTo>
                <a:lnTo>
                  <a:pt x="11926" y="4577"/>
                </a:lnTo>
                <a:lnTo>
                  <a:pt x="11936" y="4649"/>
                </a:lnTo>
                <a:lnTo>
                  <a:pt x="11949" y="4717"/>
                </a:lnTo>
                <a:lnTo>
                  <a:pt x="11949" y="4790"/>
                </a:lnTo>
                <a:lnTo>
                  <a:pt x="11936" y="4999"/>
                </a:lnTo>
                <a:lnTo>
                  <a:pt x="11913" y="5198"/>
                </a:lnTo>
                <a:lnTo>
                  <a:pt x="11890" y="5384"/>
                </a:lnTo>
                <a:lnTo>
                  <a:pt x="11844" y="5571"/>
                </a:lnTo>
                <a:lnTo>
                  <a:pt x="11786" y="5746"/>
                </a:lnTo>
                <a:lnTo>
                  <a:pt x="11751" y="5838"/>
                </a:lnTo>
                <a:lnTo>
                  <a:pt x="11714" y="5920"/>
                </a:lnTo>
                <a:lnTo>
                  <a:pt x="11632" y="6086"/>
                </a:lnTo>
                <a:lnTo>
                  <a:pt x="11588" y="6168"/>
                </a:lnTo>
                <a:lnTo>
                  <a:pt x="11542" y="6250"/>
                </a:lnTo>
                <a:lnTo>
                  <a:pt x="11437" y="6400"/>
                </a:lnTo>
                <a:lnTo>
                  <a:pt x="11379" y="6472"/>
                </a:lnTo>
                <a:lnTo>
                  <a:pt x="11320" y="6541"/>
                </a:lnTo>
                <a:lnTo>
                  <a:pt x="11203" y="6682"/>
                </a:lnTo>
                <a:lnTo>
                  <a:pt x="11135" y="6750"/>
                </a:lnTo>
                <a:lnTo>
                  <a:pt x="11076" y="6822"/>
                </a:lnTo>
                <a:lnTo>
                  <a:pt x="10936" y="6949"/>
                </a:lnTo>
                <a:lnTo>
                  <a:pt x="10782" y="7067"/>
                </a:lnTo>
                <a:lnTo>
                  <a:pt x="10633" y="7184"/>
                </a:lnTo>
                <a:lnTo>
                  <a:pt x="10470" y="7289"/>
                </a:lnTo>
                <a:lnTo>
                  <a:pt x="10307" y="7393"/>
                </a:lnTo>
                <a:lnTo>
                  <a:pt x="10131" y="7488"/>
                </a:lnTo>
                <a:lnTo>
                  <a:pt x="9946" y="7570"/>
                </a:lnTo>
                <a:lnTo>
                  <a:pt x="9769" y="7652"/>
                </a:lnTo>
                <a:lnTo>
                  <a:pt x="9574" y="7733"/>
                </a:lnTo>
                <a:lnTo>
                  <a:pt x="9385" y="7802"/>
                </a:lnTo>
                <a:lnTo>
                  <a:pt x="9189" y="7861"/>
                </a:lnTo>
                <a:lnTo>
                  <a:pt x="8991" y="7919"/>
                </a:lnTo>
                <a:lnTo>
                  <a:pt x="8779" y="7965"/>
                </a:lnTo>
                <a:lnTo>
                  <a:pt x="8583" y="8014"/>
                </a:lnTo>
                <a:lnTo>
                  <a:pt x="8372" y="8047"/>
                </a:lnTo>
                <a:lnTo>
                  <a:pt x="8163" y="8073"/>
                </a:lnTo>
                <a:lnTo>
                  <a:pt x="7965" y="8096"/>
                </a:lnTo>
                <a:lnTo>
                  <a:pt x="7756" y="8119"/>
                </a:lnTo>
                <a:lnTo>
                  <a:pt x="7544" y="8129"/>
                </a:lnTo>
                <a:lnTo>
                  <a:pt x="7336" y="8129"/>
                </a:lnTo>
                <a:lnTo>
                  <a:pt x="7101" y="8119"/>
                </a:lnTo>
                <a:lnTo>
                  <a:pt x="6870" y="8106"/>
                </a:lnTo>
                <a:lnTo>
                  <a:pt x="6652" y="8096"/>
                </a:lnTo>
                <a:lnTo>
                  <a:pt x="6417" y="8060"/>
                </a:lnTo>
                <a:lnTo>
                  <a:pt x="6199" y="8024"/>
                </a:lnTo>
                <a:lnTo>
                  <a:pt x="5964" y="7979"/>
                </a:lnTo>
                <a:lnTo>
                  <a:pt x="5860" y="7956"/>
                </a:lnTo>
                <a:lnTo>
                  <a:pt x="5743" y="7933"/>
                </a:lnTo>
                <a:lnTo>
                  <a:pt x="5521" y="7874"/>
                </a:lnTo>
                <a:lnTo>
                  <a:pt x="5313" y="7802"/>
                </a:lnTo>
                <a:lnTo>
                  <a:pt x="5101" y="7733"/>
                </a:lnTo>
                <a:lnTo>
                  <a:pt x="4893" y="7652"/>
                </a:lnTo>
                <a:lnTo>
                  <a:pt x="4685" y="7557"/>
                </a:lnTo>
                <a:lnTo>
                  <a:pt x="4486" y="7466"/>
                </a:lnTo>
                <a:lnTo>
                  <a:pt x="4300" y="7358"/>
                </a:lnTo>
                <a:lnTo>
                  <a:pt x="4111" y="7243"/>
                </a:lnTo>
                <a:lnTo>
                  <a:pt x="3938" y="7126"/>
                </a:lnTo>
                <a:lnTo>
                  <a:pt x="3762" y="6995"/>
                </a:lnTo>
                <a:lnTo>
                  <a:pt x="3599" y="6857"/>
                </a:lnTo>
                <a:lnTo>
                  <a:pt x="3450" y="6717"/>
                </a:lnTo>
                <a:lnTo>
                  <a:pt x="3297" y="6577"/>
                </a:lnTo>
                <a:lnTo>
                  <a:pt x="3156" y="6413"/>
                </a:lnTo>
                <a:lnTo>
                  <a:pt x="3029" y="6260"/>
                </a:lnTo>
                <a:lnTo>
                  <a:pt x="2912" y="6086"/>
                </a:lnTo>
                <a:lnTo>
                  <a:pt x="2808" y="5910"/>
                </a:lnTo>
                <a:lnTo>
                  <a:pt x="2749" y="5816"/>
                </a:lnTo>
                <a:lnTo>
                  <a:pt x="2703" y="5734"/>
                </a:lnTo>
                <a:lnTo>
                  <a:pt x="2622" y="5534"/>
                </a:lnTo>
                <a:lnTo>
                  <a:pt x="2586" y="5443"/>
                </a:lnTo>
                <a:lnTo>
                  <a:pt x="2551" y="5348"/>
                </a:lnTo>
                <a:lnTo>
                  <a:pt x="2483" y="5139"/>
                </a:lnTo>
                <a:lnTo>
                  <a:pt x="2437" y="4927"/>
                </a:lnTo>
                <a:lnTo>
                  <a:pt x="2424" y="4822"/>
                </a:lnTo>
                <a:lnTo>
                  <a:pt x="2401" y="4717"/>
                </a:lnTo>
                <a:lnTo>
                  <a:pt x="2388" y="4613"/>
                </a:lnTo>
                <a:lnTo>
                  <a:pt x="2378" y="4496"/>
                </a:lnTo>
                <a:lnTo>
                  <a:pt x="2378" y="4378"/>
                </a:lnTo>
                <a:lnTo>
                  <a:pt x="2378" y="4273"/>
                </a:lnTo>
                <a:lnTo>
                  <a:pt x="2378" y="4169"/>
                </a:lnTo>
                <a:lnTo>
                  <a:pt x="2388" y="4074"/>
                </a:lnTo>
                <a:lnTo>
                  <a:pt x="2401" y="3982"/>
                </a:lnTo>
                <a:lnTo>
                  <a:pt x="2410" y="3888"/>
                </a:lnTo>
                <a:lnTo>
                  <a:pt x="2446" y="3725"/>
                </a:lnTo>
                <a:lnTo>
                  <a:pt x="2505" y="3561"/>
                </a:lnTo>
                <a:lnTo>
                  <a:pt x="2564" y="3407"/>
                </a:lnTo>
                <a:lnTo>
                  <a:pt x="2632" y="3244"/>
                </a:lnTo>
                <a:lnTo>
                  <a:pt x="2785" y="2895"/>
                </a:lnTo>
                <a:lnTo>
                  <a:pt x="710" y="2895"/>
                </a:lnTo>
                <a:lnTo>
                  <a:pt x="710" y="2789"/>
                </a:lnTo>
                <a:lnTo>
                  <a:pt x="700" y="2685"/>
                </a:lnTo>
                <a:lnTo>
                  <a:pt x="664" y="2486"/>
                </a:lnTo>
                <a:lnTo>
                  <a:pt x="642" y="2299"/>
                </a:lnTo>
                <a:lnTo>
                  <a:pt x="629" y="2195"/>
                </a:lnTo>
                <a:lnTo>
                  <a:pt x="629" y="2078"/>
                </a:lnTo>
                <a:lnTo>
                  <a:pt x="629" y="1947"/>
                </a:lnTo>
                <a:lnTo>
                  <a:pt x="651" y="1819"/>
                </a:lnTo>
                <a:lnTo>
                  <a:pt x="678" y="1702"/>
                </a:lnTo>
                <a:lnTo>
                  <a:pt x="710" y="1588"/>
                </a:lnTo>
                <a:lnTo>
                  <a:pt x="759" y="1470"/>
                </a:lnTo>
                <a:lnTo>
                  <a:pt x="805" y="1365"/>
                </a:lnTo>
                <a:lnTo>
                  <a:pt x="873" y="1270"/>
                </a:lnTo>
                <a:lnTo>
                  <a:pt x="944" y="1176"/>
                </a:lnTo>
                <a:lnTo>
                  <a:pt x="1013" y="1084"/>
                </a:lnTo>
                <a:lnTo>
                  <a:pt x="1107" y="1003"/>
                </a:lnTo>
                <a:lnTo>
                  <a:pt x="1189" y="931"/>
                </a:lnTo>
                <a:lnTo>
                  <a:pt x="1294" y="862"/>
                </a:lnTo>
                <a:lnTo>
                  <a:pt x="1397" y="790"/>
                </a:lnTo>
                <a:lnTo>
                  <a:pt x="1505" y="722"/>
                </a:lnTo>
                <a:lnTo>
                  <a:pt x="1619" y="676"/>
                </a:lnTo>
                <a:lnTo>
                  <a:pt x="1736" y="617"/>
                </a:lnTo>
                <a:lnTo>
                  <a:pt x="1853" y="568"/>
                </a:lnTo>
                <a:lnTo>
                  <a:pt x="1981" y="535"/>
                </a:lnTo>
                <a:lnTo>
                  <a:pt x="2120" y="490"/>
                </a:lnTo>
                <a:lnTo>
                  <a:pt x="2247" y="467"/>
                </a:lnTo>
                <a:lnTo>
                  <a:pt x="2388" y="431"/>
                </a:lnTo>
                <a:lnTo>
                  <a:pt x="2518" y="408"/>
                </a:lnTo>
                <a:lnTo>
                  <a:pt x="2655" y="398"/>
                </a:lnTo>
                <a:lnTo>
                  <a:pt x="2808" y="376"/>
                </a:lnTo>
                <a:lnTo>
                  <a:pt x="2948" y="362"/>
                </a:lnTo>
                <a:lnTo>
                  <a:pt x="3088" y="362"/>
                </a:lnTo>
                <a:lnTo>
                  <a:pt x="3368" y="362"/>
                </a:lnTo>
                <a:lnTo>
                  <a:pt x="3658" y="376"/>
                </a:lnTo>
                <a:lnTo>
                  <a:pt x="3925" y="408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41960" y="4608360"/>
            <a:ext cx="100080" cy="33480"/>
          </a:xfrm>
          <a:custGeom>
            <a:avLst/>
            <a:gdLst/>
            <a:ahLst/>
            <a:rect l="l" t="t" r="r" b="b"/>
            <a:pathLst>
              <a:path w="885" h="362">
                <a:moveTo>
                  <a:pt x="850" y="362"/>
                </a:moveTo>
                <a:lnTo>
                  <a:pt x="429" y="163"/>
                </a:lnTo>
                <a:lnTo>
                  <a:pt x="234" y="94"/>
                </a:lnTo>
                <a:lnTo>
                  <a:pt x="126" y="71"/>
                </a:lnTo>
                <a:lnTo>
                  <a:pt x="0" y="58"/>
                </a:lnTo>
                <a:lnTo>
                  <a:pt x="0" y="0"/>
                </a:lnTo>
                <a:lnTo>
                  <a:pt x="126" y="12"/>
                </a:lnTo>
                <a:lnTo>
                  <a:pt x="256" y="35"/>
                </a:lnTo>
                <a:lnTo>
                  <a:pt x="465" y="104"/>
                </a:lnTo>
                <a:lnTo>
                  <a:pt x="885" y="303"/>
                </a:lnTo>
                <a:lnTo>
                  <a:pt x="850" y="36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91320" y="4608360"/>
            <a:ext cx="350640" cy="196920"/>
          </a:xfrm>
          <a:custGeom>
            <a:avLst/>
            <a:gdLst/>
            <a:ahLst/>
            <a:rect l="l" t="t" r="r" b="b"/>
            <a:pathLst>
              <a:path w="3089" h="2100">
                <a:moveTo>
                  <a:pt x="3089" y="58"/>
                </a:moveTo>
                <a:lnTo>
                  <a:pt x="2541" y="94"/>
                </a:lnTo>
                <a:lnTo>
                  <a:pt x="2283" y="130"/>
                </a:lnTo>
                <a:lnTo>
                  <a:pt x="2017" y="185"/>
                </a:lnTo>
                <a:lnTo>
                  <a:pt x="1749" y="257"/>
                </a:lnTo>
                <a:lnTo>
                  <a:pt x="1505" y="339"/>
                </a:lnTo>
                <a:lnTo>
                  <a:pt x="1260" y="441"/>
                </a:lnTo>
                <a:lnTo>
                  <a:pt x="1026" y="558"/>
                </a:lnTo>
                <a:lnTo>
                  <a:pt x="828" y="698"/>
                </a:lnTo>
                <a:lnTo>
                  <a:pt x="641" y="849"/>
                </a:lnTo>
                <a:lnTo>
                  <a:pt x="560" y="931"/>
                </a:lnTo>
                <a:lnTo>
                  <a:pt x="478" y="1002"/>
                </a:lnTo>
                <a:lnTo>
                  <a:pt x="397" y="1094"/>
                </a:lnTo>
                <a:lnTo>
                  <a:pt x="329" y="1188"/>
                </a:lnTo>
                <a:lnTo>
                  <a:pt x="212" y="1397"/>
                </a:lnTo>
                <a:lnTo>
                  <a:pt x="140" y="1597"/>
                </a:lnTo>
                <a:lnTo>
                  <a:pt x="84" y="1842"/>
                </a:lnTo>
                <a:lnTo>
                  <a:pt x="71" y="2100"/>
                </a:lnTo>
                <a:lnTo>
                  <a:pt x="0" y="2100"/>
                </a:lnTo>
                <a:lnTo>
                  <a:pt x="13" y="1842"/>
                </a:lnTo>
                <a:lnTo>
                  <a:pt x="71" y="1587"/>
                </a:lnTo>
                <a:lnTo>
                  <a:pt x="153" y="1365"/>
                </a:lnTo>
                <a:lnTo>
                  <a:pt x="271" y="1152"/>
                </a:lnTo>
                <a:lnTo>
                  <a:pt x="339" y="1062"/>
                </a:lnTo>
                <a:lnTo>
                  <a:pt x="420" y="967"/>
                </a:lnTo>
                <a:lnTo>
                  <a:pt x="515" y="872"/>
                </a:lnTo>
                <a:lnTo>
                  <a:pt x="597" y="790"/>
                </a:lnTo>
                <a:lnTo>
                  <a:pt x="782" y="640"/>
                </a:lnTo>
                <a:lnTo>
                  <a:pt x="991" y="499"/>
                </a:lnTo>
                <a:lnTo>
                  <a:pt x="1225" y="385"/>
                </a:lnTo>
                <a:lnTo>
                  <a:pt x="1469" y="280"/>
                </a:lnTo>
                <a:lnTo>
                  <a:pt x="1713" y="199"/>
                </a:lnTo>
                <a:lnTo>
                  <a:pt x="1993" y="130"/>
                </a:lnTo>
                <a:lnTo>
                  <a:pt x="2261" y="71"/>
                </a:lnTo>
                <a:lnTo>
                  <a:pt x="2541" y="35"/>
                </a:lnTo>
                <a:lnTo>
                  <a:pt x="3089" y="0"/>
                </a:lnTo>
                <a:lnTo>
                  <a:pt x="3089" y="58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41960" y="4608360"/>
            <a:ext cx="1800" cy="6480"/>
          </a:xfrm>
          <a:custGeom>
            <a:avLst/>
            <a:gdLst/>
            <a:ahLst/>
            <a:rect l="l" t="t" r="r" b="b"/>
            <a:pathLst>
              <a:path w="0" h="58">
                <a:moveTo>
                  <a:pt x="0" y="0"/>
                </a:moveTo>
                <a:lnTo>
                  <a:pt x="0" y="58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91320" y="4805280"/>
            <a:ext cx="129960" cy="119160"/>
          </a:xfrm>
          <a:custGeom>
            <a:avLst/>
            <a:gdLst/>
            <a:ahLst/>
            <a:rect l="l" t="t" r="r" b="b"/>
            <a:pathLst>
              <a:path w="1153" h="1274">
                <a:moveTo>
                  <a:pt x="71" y="0"/>
                </a:moveTo>
                <a:lnTo>
                  <a:pt x="95" y="232"/>
                </a:lnTo>
                <a:lnTo>
                  <a:pt x="117" y="350"/>
                </a:lnTo>
                <a:lnTo>
                  <a:pt x="140" y="454"/>
                </a:lnTo>
                <a:lnTo>
                  <a:pt x="247" y="653"/>
                </a:lnTo>
                <a:lnTo>
                  <a:pt x="303" y="759"/>
                </a:lnTo>
                <a:lnTo>
                  <a:pt x="385" y="830"/>
                </a:lnTo>
                <a:lnTo>
                  <a:pt x="538" y="993"/>
                </a:lnTo>
                <a:lnTo>
                  <a:pt x="723" y="1111"/>
                </a:lnTo>
                <a:lnTo>
                  <a:pt x="922" y="1179"/>
                </a:lnTo>
                <a:lnTo>
                  <a:pt x="1039" y="1193"/>
                </a:lnTo>
                <a:lnTo>
                  <a:pt x="1153" y="1203"/>
                </a:lnTo>
                <a:lnTo>
                  <a:pt x="1153" y="1274"/>
                </a:lnTo>
                <a:lnTo>
                  <a:pt x="1026" y="1261"/>
                </a:lnTo>
                <a:lnTo>
                  <a:pt x="909" y="1252"/>
                </a:lnTo>
                <a:lnTo>
                  <a:pt x="687" y="1170"/>
                </a:lnTo>
                <a:lnTo>
                  <a:pt x="502" y="1053"/>
                </a:lnTo>
                <a:lnTo>
                  <a:pt x="339" y="889"/>
                </a:lnTo>
                <a:lnTo>
                  <a:pt x="247" y="794"/>
                </a:lnTo>
                <a:lnTo>
                  <a:pt x="189" y="689"/>
                </a:lnTo>
                <a:lnTo>
                  <a:pt x="84" y="490"/>
                </a:lnTo>
                <a:lnTo>
                  <a:pt x="49" y="362"/>
                </a:lnTo>
                <a:lnTo>
                  <a:pt x="26" y="245"/>
                </a:lnTo>
                <a:lnTo>
                  <a:pt x="0" y="13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91320" y="4805280"/>
            <a:ext cx="7920" cy="1800"/>
          </a:xfrm>
          <a:custGeom>
            <a:avLst/>
            <a:gdLst/>
            <a:ahLst/>
            <a:rect l="l" t="t" r="r" b="b"/>
            <a:pathLst>
              <a:path w="71" h="13">
                <a:moveTo>
                  <a:pt x="0" y="0"/>
                </a:moveTo>
                <a:lnTo>
                  <a:pt x="0" y="13"/>
                </a:lnTo>
                <a:lnTo>
                  <a:pt x="7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21280" y="4869000"/>
            <a:ext cx="122400" cy="55440"/>
          </a:xfrm>
          <a:custGeom>
            <a:avLst/>
            <a:gdLst/>
            <a:ahLst/>
            <a:rect l="l" t="t" r="r" b="b"/>
            <a:pathLst>
              <a:path w="1072" h="585">
                <a:moveTo>
                  <a:pt x="0" y="514"/>
                </a:moveTo>
                <a:lnTo>
                  <a:pt x="166" y="504"/>
                </a:lnTo>
                <a:lnTo>
                  <a:pt x="303" y="455"/>
                </a:lnTo>
                <a:lnTo>
                  <a:pt x="538" y="340"/>
                </a:lnTo>
                <a:lnTo>
                  <a:pt x="782" y="164"/>
                </a:lnTo>
                <a:lnTo>
                  <a:pt x="899" y="82"/>
                </a:lnTo>
                <a:lnTo>
                  <a:pt x="1040" y="0"/>
                </a:lnTo>
                <a:lnTo>
                  <a:pt x="1072" y="59"/>
                </a:lnTo>
                <a:lnTo>
                  <a:pt x="935" y="141"/>
                </a:lnTo>
                <a:lnTo>
                  <a:pt x="818" y="223"/>
                </a:lnTo>
                <a:lnTo>
                  <a:pt x="574" y="399"/>
                </a:lnTo>
                <a:lnTo>
                  <a:pt x="316" y="527"/>
                </a:lnTo>
                <a:lnTo>
                  <a:pt x="177" y="572"/>
                </a:lnTo>
                <a:lnTo>
                  <a:pt x="0" y="585"/>
                </a:lnTo>
                <a:lnTo>
                  <a:pt x="0" y="514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21280" y="4916520"/>
            <a:ext cx="1800" cy="7920"/>
          </a:xfrm>
          <a:custGeom>
            <a:avLst/>
            <a:gdLst/>
            <a:ahLst/>
            <a:rect l="l" t="t" r="r" b="b"/>
            <a:pathLst>
              <a:path w="0" h="71">
                <a:moveTo>
                  <a:pt x="0" y="71"/>
                </a:moveTo>
                <a:lnTo>
                  <a:pt x="0" y="0"/>
                </a:lnTo>
                <a:lnTo>
                  <a:pt x="0" y="71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39000" y="4871880"/>
            <a:ext cx="75960" cy="265320"/>
          </a:xfrm>
          <a:custGeom>
            <a:avLst/>
            <a:gdLst/>
            <a:ahLst/>
            <a:rect l="l" t="t" r="r" b="b"/>
            <a:pathLst>
              <a:path w="677" h="2839">
                <a:moveTo>
                  <a:pt x="71" y="0"/>
                </a:moveTo>
                <a:lnTo>
                  <a:pt x="162" y="398"/>
                </a:lnTo>
                <a:lnTo>
                  <a:pt x="220" y="760"/>
                </a:lnTo>
                <a:lnTo>
                  <a:pt x="315" y="1451"/>
                </a:lnTo>
                <a:lnTo>
                  <a:pt x="429" y="2113"/>
                </a:lnTo>
                <a:lnTo>
                  <a:pt x="537" y="2453"/>
                </a:lnTo>
                <a:lnTo>
                  <a:pt x="677" y="2829"/>
                </a:lnTo>
                <a:lnTo>
                  <a:pt x="605" y="2839"/>
                </a:lnTo>
                <a:lnTo>
                  <a:pt x="465" y="2467"/>
                </a:lnTo>
                <a:lnTo>
                  <a:pt x="361" y="2127"/>
                </a:lnTo>
                <a:lnTo>
                  <a:pt x="244" y="1460"/>
                </a:lnTo>
                <a:lnTo>
                  <a:pt x="152" y="771"/>
                </a:lnTo>
                <a:lnTo>
                  <a:pt x="94" y="408"/>
                </a:lnTo>
                <a:lnTo>
                  <a:pt x="0" y="13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39000" y="4867200"/>
            <a:ext cx="7920" cy="7920"/>
          </a:xfrm>
          <a:custGeom>
            <a:avLst/>
            <a:gdLst/>
            <a:ahLst/>
            <a:rect l="l" t="t" r="r" b="b"/>
            <a:pathLst>
              <a:path w="71" h="81">
                <a:moveTo>
                  <a:pt x="13" y="22"/>
                </a:moveTo>
                <a:lnTo>
                  <a:pt x="58" y="0"/>
                </a:lnTo>
                <a:lnTo>
                  <a:pt x="71" y="46"/>
                </a:lnTo>
                <a:lnTo>
                  <a:pt x="0" y="59"/>
                </a:lnTo>
                <a:lnTo>
                  <a:pt x="45" y="81"/>
                </a:lnTo>
                <a:lnTo>
                  <a:pt x="13" y="2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07040" y="5133960"/>
            <a:ext cx="596880" cy="277920"/>
          </a:xfrm>
          <a:custGeom>
            <a:avLst/>
            <a:gdLst/>
            <a:ahLst/>
            <a:rect l="l" t="t" r="r" b="b"/>
            <a:pathLst>
              <a:path w="5261" h="2970">
                <a:moveTo>
                  <a:pt x="59" y="0"/>
                </a:moveTo>
                <a:lnTo>
                  <a:pt x="245" y="386"/>
                </a:lnTo>
                <a:lnTo>
                  <a:pt x="456" y="735"/>
                </a:lnTo>
                <a:lnTo>
                  <a:pt x="687" y="1065"/>
                </a:lnTo>
                <a:lnTo>
                  <a:pt x="945" y="1342"/>
                </a:lnTo>
                <a:lnTo>
                  <a:pt x="1072" y="1483"/>
                </a:lnTo>
                <a:lnTo>
                  <a:pt x="1199" y="1614"/>
                </a:lnTo>
                <a:lnTo>
                  <a:pt x="1493" y="1846"/>
                </a:lnTo>
                <a:lnTo>
                  <a:pt x="1805" y="2058"/>
                </a:lnTo>
                <a:lnTo>
                  <a:pt x="2144" y="2245"/>
                </a:lnTo>
                <a:lnTo>
                  <a:pt x="2482" y="2395"/>
                </a:lnTo>
                <a:lnTo>
                  <a:pt x="2845" y="2535"/>
                </a:lnTo>
                <a:lnTo>
                  <a:pt x="3215" y="2653"/>
                </a:lnTo>
                <a:lnTo>
                  <a:pt x="3600" y="2747"/>
                </a:lnTo>
                <a:lnTo>
                  <a:pt x="4004" y="2817"/>
                </a:lnTo>
                <a:lnTo>
                  <a:pt x="4411" y="2862"/>
                </a:lnTo>
                <a:lnTo>
                  <a:pt x="5261" y="2899"/>
                </a:lnTo>
                <a:lnTo>
                  <a:pt x="5261" y="2970"/>
                </a:lnTo>
                <a:lnTo>
                  <a:pt x="4411" y="2934"/>
                </a:lnTo>
                <a:lnTo>
                  <a:pt x="3994" y="2885"/>
                </a:lnTo>
                <a:lnTo>
                  <a:pt x="3587" y="2817"/>
                </a:lnTo>
                <a:lnTo>
                  <a:pt x="3203" y="2722"/>
                </a:lnTo>
                <a:lnTo>
                  <a:pt x="2831" y="2608"/>
                </a:lnTo>
                <a:lnTo>
                  <a:pt x="2470" y="2467"/>
                </a:lnTo>
                <a:lnTo>
                  <a:pt x="2108" y="2303"/>
                </a:lnTo>
                <a:lnTo>
                  <a:pt x="1773" y="2114"/>
                </a:lnTo>
                <a:lnTo>
                  <a:pt x="1456" y="1905"/>
                </a:lnTo>
                <a:lnTo>
                  <a:pt x="1167" y="1673"/>
                </a:lnTo>
                <a:lnTo>
                  <a:pt x="1026" y="1543"/>
                </a:lnTo>
                <a:lnTo>
                  <a:pt x="896" y="1402"/>
                </a:lnTo>
                <a:lnTo>
                  <a:pt x="629" y="1097"/>
                </a:lnTo>
                <a:lnTo>
                  <a:pt x="397" y="771"/>
                </a:lnTo>
                <a:lnTo>
                  <a:pt x="186" y="421"/>
                </a:lnTo>
                <a:lnTo>
                  <a:pt x="0" y="35"/>
                </a:lnTo>
                <a:lnTo>
                  <a:pt x="59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07040" y="5133960"/>
            <a:ext cx="7920" cy="3240"/>
          </a:xfrm>
          <a:custGeom>
            <a:avLst/>
            <a:gdLst/>
            <a:ahLst/>
            <a:rect l="l" t="t" r="r" b="b"/>
            <a:pathLst>
              <a:path w="72" h="35">
                <a:moveTo>
                  <a:pt x="0" y="23"/>
                </a:moveTo>
                <a:lnTo>
                  <a:pt x="0" y="35"/>
                </a:lnTo>
                <a:lnTo>
                  <a:pt x="59" y="0"/>
                </a:lnTo>
                <a:lnTo>
                  <a:pt x="72" y="13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03920" y="5065560"/>
            <a:ext cx="554040" cy="346320"/>
          </a:xfrm>
          <a:custGeom>
            <a:avLst/>
            <a:gdLst/>
            <a:ahLst/>
            <a:rect l="l" t="t" r="r" b="b"/>
            <a:pathLst>
              <a:path w="4884" h="3705">
                <a:moveTo>
                  <a:pt x="0" y="3634"/>
                </a:moveTo>
                <a:lnTo>
                  <a:pt x="456" y="3620"/>
                </a:lnTo>
                <a:lnTo>
                  <a:pt x="899" y="3574"/>
                </a:lnTo>
                <a:lnTo>
                  <a:pt x="1342" y="3506"/>
                </a:lnTo>
                <a:lnTo>
                  <a:pt x="1759" y="3401"/>
                </a:lnTo>
                <a:lnTo>
                  <a:pt x="2180" y="3261"/>
                </a:lnTo>
                <a:lnTo>
                  <a:pt x="2564" y="3120"/>
                </a:lnTo>
                <a:lnTo>
                  <a:pt x="2948" y="2921"/>
                </a:lnTo>
                <a:lnTo>
                  <a:pt x="3297" y="2708"/>
                </a:lnTo>
                <a:lnTo>
                  <a:pt x="3636" y="2463"/>
                </a:lnTo>
                <a:lnTo>
                  <a:pt x="3926" y="2186"/>
                </a:lnTo>
                <a:lnTo>
                  <a:pt x="4197" y="1881"/>
                </a:lnTo>
                <a:lnTo>
                  <a:pt x="4404" y="1565"/>
                </a:lnTo>
                <a:lnTo>
                  <a:pt x="4580" y="1216"/>
                </a:lnTo>
                <a:lnTo>
                  <a:pt x="4662" y="1026"/>
                </a:lnTo>
                <a:lnTo>
                  <a:pt x="4721" y="830"/>
                </a:lnTo>
                <a:lnTo>
                  <a:pt x="4767" y="631"/>
                </a:lnTo>
                <a:lnTo>
                  <a:pt x="4802" y="418"/>
                </a:lnTo>
                <a:lnTo>
                  <a:pt x="4825" y="222"/>
                </a:lnTo>
                <a:lnTo>
                  <a:pt x="4825" y="0"/>
                </a:lnTo>
                <a:lnTo>
                  <a:pt x="4884" y="0"/>
                </a:lnTo>
                <a:lnTo>
                  <a:pt x="4884" y="222"/>
                </a:lnTo>
                <a:lnTo>
                  <a:pt x="4857" y="444"/>
                </a:lnTo>
                <a:lnTo>
                  <a:pt x="4825" y="653"/>
                </a:lnTo>
                <a:lnTo>
                  <a:pt x="4776" y="862"/>
                </a:lnTo>
                <a:lnTo>
                  <a:pt x="4721" y="1061"/>
                </a:lnTo>
                <a:lnTo>
                  <a:pt x="4639" y="1248"/>
                </a:lnTo>
                <a:lnTo>
                  <a:pt x="4463" y="1601"/>
                </a:lnTo>
                <a:lnTo>
                  <a:pt x="4241" y="1938"/>
                </a:lnTo>
                <a:lnTo>
                  <a:pt x="3975" y="2241"/>
                </a:lnTo>
                <a:lnTo>
                  <a:pt x="3671" y="2523"/>
                </a:lnTo>
                <a:lnTo>
                  <a:pt x="3333" y="2768"/>
                </a:lnTo>
                <a:lnTo>
                  <a:pt x="2984" y="2980"/>
                </a:lnTo>
                <a:lnTo>
                  <a:pt x="2600" y="3179"/>
                </a:lnTo>
                <a:lnTo>
                  <a:pt x="2193" y="3329"/>
                </a:lnTo>
                <a:lnTo>
                  <a:pt x="1773" y="3470"/>
                </a:lnTo>
                <a:lnTo>
                  <a:pt x="1352" y="3574"/>
                </a:lnTo>
                <a:lnTo>
                  <a:pt x="899" y="3646"/>
                </a:lnTo>
                <a:lnTo>
                  <a:pt x="456" y="3692"/>
                </a:lnTo>
                <a:lnTo>
                  <a:pt x="0" y="3705"/>
                </a:lnTo>
                <a:lnTo>
                  <a:pt x="0" y="3634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3920" y="5405400"/>
            <a:ext cx="1800" cy="6480"/>
          </a:xfrm>
          <a:custGeom>
            <a:avLst/>
            <a:gdLst/>
            <a:ahLst/>
            <a:rect l="l" t="t" r="r" b="b"/>
            <a:pathLst>
              <a:path w="0" h="71">
                <a:moveTo>
                  <a:pt x="0" y="71"/>
                </a:moveTo>
                <a:lnTo>
                  <a:pt x="0" y="0"/>
                </a:lnTo>
                <a:lnTo>
                  <a:pt x="0" y="71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92800" y="4956120"/>
            <a:ext cx="65160" cy="109440"/>
          </a:xfrm>
          <a:custGeom>
            <a:avLst/>
            <a:gdLst/>
            <a:ahLst/>
            <a:rect l="l" t="t" r="r" b="b"/>
            <a:pathLst>
              <a:path w="561" h="1170">
                <a:moveTo>
                  <a:pt x="502" y="1170"/>
                </a:moveTo>
                <a:lnTo>
                  <a:pt x="488" y="993"/>
                </a:lnTo>
                <a:lnTo>
                  <a:pt x="466" y="843"/>
                </a:lnTo>
                <a:lnTo>
                  <a:pt x="420" y="712"/>
                </a:lnTo>
                <a:lnTo>
                  <a:pt x="362" y="572"/>
                </a:lnTo>
                <a:lnTo>
                  <a:pt x="208" y="304"/>
                </a:lnTo>
                <a:lnTo>
                  <a:pt x="0" y="45"/>
                </a:lnTo>
                <a:lnTo>
                  <a:pt x="46" y="0"/>
                </a:lnTo>
                <a:lnTo>
                  <a:pt x="257" y="258"/>
                </a:lnTo>
                <a:lnTo>
                  <a:pt x="420" y="540"/>
                </a:lnTo>
                <a:lnTo>
                  <a:pt x="479" y="679"/>
                </a:lnTo>
                <a:lnTo>
                  <a:pt x="525" y="817"/>
                </a:lnTo>
                <a:lnTo>
                  <a:pt x="547" y="993"/>
                </a:lnTo>
                <a:lnTo>
                  <a:pt x="561" y="1170"/>
                </a:lnTo>
                <a:lnTo>
                  <a:pt x="502" y="117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50040" y="5065560"/>
            <a:ext cx="7920" cy="1800"/>
          </a:xfrm>
          <a:custGeom>
            <a:avLst/>
            <a:gdLst/>
            <a:ahLst/>
            <a:rect l="l" t="t" r="r" b="b"/>
            <a:pathLst>
              <a:path w="59" h="0">
                <a:moveTo>
                  <a:pt x="59" y="0"/>
                </a:moveTo>
                <a:lnTo>
                  <a:pt x="0" y="0"/>
                </a:lnTo>
                <a:lnTo>
                  <a:pt x="59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192800" y="4778280"/>
            <a:ext cx="123840" cy="184320"/>
          </a:xfrm>
          <a:custGeom>
            <a:avLst/>
            <a:gdLst/>
            <a:ahLst/>
            <a:rect l="l" t="t" r="r" b="b"/>
            <a:pathLst>
              <a:path w="1085" h="1974">
                <a:moveTo>
                  <a:pt x="0" y="1915"/>
                </a:moveTo>
                <a:lnTo>
                  <a:pt x="232" y="1729"/>
                </a:lnTo>
                <a:lnTo>
                  <a:pt x="430" y="1516"/>
                </a:lnTo>
                <a:lnTo>
                  <a:pt x="616" y="1307"/>
                </a:lnTo>
                <a:lnTo>
                  <a:pt x="746" y="1085"/>
                </a:lnTo>
                <a:lnTo>
                  <a:pt x="863" y="840"/>
                </a:lnTo>
                <a:lnTo>
                  <a:pt x="955" y="572"/>
                </a:lnTo>
                <a:lnTo>
                  <a:pt x="1001" y="291"/>
                </a:lnTo>
                <a:lnTo>
                  <a:pt x="1026" y="0"/>
                </a:lnTo>
                <a:lnTo>
                  <a:pt x="1085" y="0"/>
                </a:lnTo>
                <a:lnTo>
                  <a:pt x="1059" y="314"/>
                </a:lnTo>
                <a:lnTo>
                  <a:pt x="1014" y="595"/>
                </a:lnTo>
                <a:lnTo>
                  <a:pt x="919" y="876"/>
                </a:lnTo>
                <a:lnTo>
                  <a:pt x="805" y="1121"/>
                </a:lnTo>
                <a:lnTo>
                  <a:pt x="665" y="1366"/>
                </a:lnTo>
                <a:lnTo>
                  <a:pt x="479" y="1575"/>
                </a:lnTo>
                <a:lnTo>
                  <a:pt x="281" y="1775"/>
                </a:lnTo>
                <a:lnTo>
                  <a:pt x="36" y="1974"/>
                </a:lnTo>
                <a:lnTo>
                  <a:pt x="0" y="191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91360" y="4956120"/>
            <a:ext cx="7920" cy="6480"/>
          </a:xfrm>
          <a:custGeom>
            <a:avLst/>
            <a:gdLst/>
            <a:ahLst/>
            <a:rect l="l" t="t" r="r" b="b"/>
            <a:pathLst>
              <a:path w="69" h="59">
                <a:moveTo>
                  <a:pt x="23" y="45"/>
                </a:moveTo>
                <a:lnTo>
                  <a:pt x="0" y="23"/>
                </a:lnTo>
                <a:lnTo>
                  <a:pt x="23" y="0"/>
                </a:lnTo>
                <a:lnTo>
                  <a:pt x="59" y="59"/>
                </a:lnTo>
                <a:lnTo>
                  <a:pt x="69" y="0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66080" y="4599000"/>
            <a:ext cx="250560" cy="179280"/>
          </a:xfrm>
          <a:custGeom>
            <a:avLst/>
            <a:gdLst/>
            <a:ahLst/>
            <a:rect l="l" t="t" r="r" b="b"/>
            <a:pathLst>
              <a:path w="2215" h="1915">
                <a:moveTo>
                  <a:pt x="2156" y="1915"/>
                </a:moveTo>
                <a:lnTo>
                  <a:pt x="2144" y="1703"/>
                </a:lnTo>
                <a:lnTo>
                  <a:pt x="2107" y="1517"/>
                </a:lnTo>
                <a:lnTo>
                  <a:pt x="2049" y="1340"/>
                </a:lnTo>
                <a:lnTo>
                  <a:pt x="1968" y="1168"/>
                </a:lnTo>
                <a:lnTo>
                  <a:pt x="1876" y="1004"/>
                </a:lnTo>
                <a:lnTo>
                  <a:pt x="1772" y="837"/>
                </a:lnTo>
                <a:lnTo>
                  <a:pt x="1642" y="710"/>
                </a:lnTo>
                <a:lnTo>
                  <a:pt x="1492" y="569"/>
                </a:lnTo>
                <a:lnTo>
                  <a:pt x="1166" y="363"/>
                </a:lnTo>
                <a:lnTo>
                  <a:pt x="977" y="269"/>
                </a:lnTo>
                <a:lnTo>
                  <a:pt x="804" y="200"/>
                </a:lnTo>
                <a:lnTo>
                  <a:pt x="606" y="141"/>
                </a:lnTo>
                <a:lnTo>
                  <a:pt x="420" y="95"/>
                </a:lnTo>
                <a:lnTo>
                  <a:pt x="0" y="60"/>
                </a:lnTo>
                <a:lnTo>
                  <a:pt x="0" y="0"/>
                </a:lnTo>
                <a:lnTo>
                  <a:pt x="420" y="36"/>
                </a:lnTo>
                <a:lnTo>
                  <a:pt x="629" y="82"/>
                </a:lnTo>
                <a:lnTo>
                  <a:pt x="827" y="141"/>
                </a:lnTo>
                <a:lnTo>
                  <a:pt x="1013" y="210"/>
                </a:lnTo>
                <a:lnTo>
                  <a:pt x="1199" y="305"/>
                </a:lnTo>
                <a:lnTo>
                  <a:pt x="1537" y="526"/>
                </a:lnTo>
                <a:lnTo>
                  <a:pt x="1691" y="651"/>
                </a:lnTo>
                <a:lnTo>
                  <a:pt x="1818" y="792"/>
                </a:lnTo>
                <a:lnTo>
                  <a:pt x="1935" y="967"/>
                </a:lnTo>
                <a:lnTo>
                  <a:pt x="2026" y="1131"/>
                </a:lnTo>
                <a:lnTo>
                  <a:pt x="2107" y="1307"/>
                </a:lnTo>
                <a:lnTo>
                  <a:pt x="2166" y="1494"/>
                </a:lnTo>
                <a:lnTo>
                  <a:pt x="2202" y="1703"/>
                </a:lnTo>
                <a:lnTo>
                  <a:pt x="2215" y="1915"/>
                </a:lnTo>
                <a:lnTo>
                  <a:pt x="2156" y="191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10520" y="4778280"/>
            <a:ext cx="6120" cy="1800"/>
          </a:xfrm>
          <a:custGeom>
            <a:avLst/>
            <a:gdLst/>
            <a:ahLst/>
            <a:rect l="l" t="t" r="r" b="b"/>
            <a:pathLst>
              <a:path w="59" h="0">
                <a:moveTo>
                  <a:pt x="59" y="0"/>
                </a:moveTo>
                <a:lnTo>
                  <a:pt x="0" y="0"/>
                </a:lnTo>
                <a:lnTo>
                  <a:pt x="59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64280" y="4597560"/>
            <a:ext cx="193680" cy="198360"/>
          </a:xfrm>
          <a:custGeom>
            <a:avLst/>
            <a:gdLst/>
            <a:ahLst/>
            <a:rect l="l" t="t" r="r" b="b"/>
            <a:pathLst>
              <a:path w="1710" h="2115">
                <a:moveTo>
                  <a:pt x="10" y="0"/>
                </a:moveTo>
                <a:lnTo>
                  <a:pt x="208" y="37"/>
                </a:lnTo>
                <a:lnTo>
                  <a:pt x="384" y="82"/>
                </a:lnTo>
                <a:lnTo>
                  <a:pt x="570" y="154"/>
                </a:lnTo>
                <a:lnTo>
                  <a:pt x="720" y="236"/>
                </a:lnTo>
                <a:lnTo>
                  <a:pt x="873" y="340"/>
                </a:lnTo>
                <a:lnTo>
                  <a:pt x="1023" y="445"/>
                </a:lnTo>
                <a:lnTo>
                  <a:pt x="1153" y="572"/>
                </a:lnTo>
                <a:lnTo>
                  <a:pt x="1258" y="713"/>
                </a:lnTo>
                <a:lnTo>
                  <a:pt x="1362" y="863"/>
                </a:lnTo>
                <a:lnTo>
                  <a:pt x="1456" y="1017"/>
                </a:lnTo>
                <a:lnTo>
                  <a:pt x="1538" y="1190"/>
                </a:lnTo>
                <a:lnTo>
                  <a:pt x="1593" y="1366"/>
                </a:lnTo>
                <a:lnTo>
                  <a:pt x="1652" y="1543"/>
                </a:lnTo>
                <a:lnTo>
                  <a:pt x="1687" y="1729"/>
                </a:lnTo>
                <a:lnTo>
                  <a:pt x="1710" y="1928"/>
                </a:lnTo>
                <a:lnTo>
                  <a:pt x="1710" y="2115"/>
                </a:lnTo>
                <a:lnTo>
                  <a:pt x="1642" y="2115"/>
                </a:lnTo>
                <a:lnTo>
                  <a:pt x="1642" y="1928"/>
                </a:lnTo>
                <a:lnTo>
                  <a:pt x="1619" y="1739"/>
                </a:lnTo>
                <a:lnTo>
                  <a:pt x="1584" y="1552"/>
                </a:lnTo>
                <a:lnTo>
                  <a:pt x="1525" y="1377"/>
                </a:lnTo>
                <a:lnTo>
                  <a:pt x="1466" y="1203"/>
                </a:lnTo>
                <a:lnTo>
                  <a:pt x="1397" y="1050"/>
                </a:lnTo>
                <a:lnTo>
                  <a:pt x="1303" y="899"/>
                </a:lnTo>
                <a:lnTo>
                  <a:pt x="1199" y="746"/>
                </a:lnTo>
                <a:lnTo>
                  <a:pt x="1104" y="631"/>
                </a:lnTo>
                <a:lnTo>
                  <a:pt x="977" y="504"/>
                </a:lnTo>
                <a:lnTo>
                  <a:pt x="837" y="399"/>
                </a:lnTo>
                <a:lnTo>
                  <a:pt x="684" y="294"/>
                </a:lnTo>
                <a:lnTo>
                  <a:pt x="534" y="213"/>
                </a:lnTo>
                <a:lnTo>
                  <a:pt x="371" y="154"/>
                </a:lnTo>
                <a:lnTo>
                  <a:pt x="195" y="108"/>
                </a:lnTo>
                <a:lnTo>
                  <a:pt x="0" y="73"/>
                </a:lnTo>
                <a:lnTo>
                  <a:pt x="1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64280" y="4597560"/>
            <a:ext cx="1800" cy="6120"/>
          </a:xfrm>
          <a:custGeom>
            <a:avLst/>
            <a:gdLst/>
            <a:ahLst/>
            <a:rect l="l" t="t" r="r" b="b"/>
            <a:pathLst>
              <a:path w="10" h="73">
                <a:moveTo>
                  <a:pt x="10" y="13"/>
                </a:moveTo>
                <a:lnTo>
                  <a:pt x="0" y="73"/>
                </a:lnTo>
                <a:lnTo>
                  <a:pt x="10" y="0"/>
                </a:lnTo>
                <a:lnTo>
                  <a:pt x="10" y="73"/>
                </a:lnTo>
                <a:lnTo>
                  <a:pt x="10" y="13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01000" y="4795920"/>
            <a:ext cx="156960" cy="166680"/>
          </a:xfrm>
          <a:custGeom>
            <a:avLst/>
            <a:gdLst/>
            <a:ahLst/>
            <a:rect l="l" t="t" r="r" b="b"/>
            <a:pathLst>
              <a:path w="1385" h="1787">
                <a:moveTo>
                  <a:pt x="1385" y="0"/>
                </a:moveTo>
                <a:lnTo>
                  <a:pt x="1362" y="303"/>
                </a:lnTo>
                <a:lnTo>
                  <a:pt x="1281" y="585"/>
                </a:lnTo>
                <a:lnTo>
                  <a:pt x="1213" y="735"/>
                </a:lnTo>
                <a:lnTo>
                  <a:pt x="1154" y="852"/>
                </a:lnTo>
                <a:lnTo>
                  <a:pt x="991" y="1084"/>
                </a:lnTo>
                <a:lnTo>
                  <a:pt x="792" y="1297"/>
                </a:lnTo>
                <a:lnTo>
                  <a:pt x="558" y="1470"/>
                </a:lnTo>
                <a:lnTo>
                  <a:pt x="304" y="1647"/>
                </a:lnTo>
                <a:lnTo>
                  <a:pt x="33" y="1787"/>
                </a:lnTo>
                <a:lnTo>
                  <a:pt x="0" y="1728"/>
                </a:lnTo>
                <a:lnTo>
                  <a:pt x="268" y="1588"/>
                </a:lnTo>
                <a:lnTo>
                  <a:pt x="512" y="1424"/>
                </a:lnTo>
                <a:lnTo>
                  <a:pt x="747" y="1238"/>
                </a:lnTo>
                <a:lnTo>
                  <a:pt x="933" y="1051"/>
                </a:lnTo>
                <a:lnTo>
                  <a:pt x="1096" y="817"/>
                </a:lnTo>
                <a:lnTo>
                  <a:pt x="1154" y="699"/>
                </a:lnTo>
                <a:lnTo>
                  <a:pt x="1213" y="572"/>
                </a:lnTo>
                <a:lnTo>
                  <a:pt x="1294" y="291"/>
                </a:lnTo>
                <a:lnTo>
                  <a:pt x="1317" y="0"/>
                </a:lnTo>
                <a:lnTo>
                  <a:pt x="1385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250040" y="4795920"/>
            <a:ext cx="7920" cy="1440"/>
          </a:xfrm>
          <a:custGeom>
            <a:avLst/>
            <a:gdLst/>
            <a:ahLst/>
            <a:rect l="l" t="t" r="r" b="b"/>
            <a:pathLst>
              <a:path w="68" h="0">
                <a:moveTo>
                  <a:pt x="68" y="0"/>
                </a:moveTo>
                <a:lnTo>
                  <a:pt x="0" y="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99200" y="4957920"/>
            <a:ext cx="55800" cy="90360"/>
          </a:xfrm>
          <a:custGeom>
            <a:avLst/>
            <a:gdLst/>
            <a:ahLst/>
            <a:rect l="l" t="t" r="r" b="b"/>
            <a:pathLst>
              <a:path w="479" h="971">
                <a:moveTo>
                  <a:pt x="58" y="0"/>
                </a:moveTo>
                <a:lnTo>
                  <a:pt x="185" y="245"/>
                </a:lnTo>
                <a:lnTo>
                  <a:pt x="316" y="454"/>
                </a:lnTo>
                <a:lnTo>
                  <a:pt x="384" y="582"/>
                </a:lnTo>
                <a:lnTo>
                  <a:pt x="430" y="699"/>
                </a:lnTo>
                <a:lnTo>
                  <a:pt x="465" y="830"/>
                </a:lnTo>
                <a:lnTo>
                  <a:pt x="479" y="971"/>
                </a:lnTo>
                <a:lnTo>
                  <a:pt x="407" y="971"/>
                </a:lnTo>
                <a:lnTo>
                  <a:pt x="397" y="840"/>
                </a:lnTo>
                <a:lnTo>
                  <a:pt x="362" y="712"/>
                </a:lnTo>
                <a:lnTo>
                  <a:pt x="316" y="595"/>
                </a:lnTo>
                <a:lnTo>
                  <a:pt x="257" y="490"/>
                </a:lnTo>
                <a:lnTo>
                  <a:pt x="126" y="277"/>
                </a:lnTo>
                <a:lnTo>
                  <a:pt x="0" y="32"/>
                </a:lnTo>
                <a:lnTo>
                  <a:pt x="58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99200" y="4956120"/>
            <a:ext cx="7920" cy="6480"/>
          </a:xfrm>
          <a:custGeom>
            <a:avLst/>
            <a:gdLst/>
            <a:ahLst/>
            <a:rect l="l" t="t" r="r" b="b"/>
            <a:pathLst>
              <a:path w="68" h="59">
                <a:moveTo>
                  <a:pt x="22" y="0"/>
                </a:moveTo>
                <a:lnTo>
                  <a:pt x="0" y="13"/>
                </a:lnTo>
                <a:lnTo>
                  <a:pt x="10" y="45"/>
                </a:lnTo>
                <a:lnTo>
                  <a:pt x="68" y="13"/>
                </a:lnTo>
                <a:lnTo>
                  <a:pt x="55" y="59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27960" y="5048280"/>
            <a:ext cx="527040" cy="315720"/>
          </a:xfrm>
          <a:custGeom>
            <a:avLst/>
            <a:gdLst/>
            <a:ahLst/>
            <a:rect l="l" t="t" r="r" b="b"/>
            <a:pathLst>
              <a:path w="4649" h="3374">
                <a:moveTo>
                  <a:pt x="4649" y="0"/>
                </a:moveTo>
                <a:lnTo>
                  <a:pt x="4613" y="395"/>
                </a:lnTo>
                <a:lnTo>
                  <a:pt x="4532" y="781"/>
                </a:lnTo>
                <a:lnTo>
                  <a:pt x="4404" y="1130"/>
                </a:lnTo>
                <a:lnTo>
                  <a:pt x="4310" y="1320"/>
                </a:lnTo>
                <a:lnTo>
                  <a:pt x="4215" y="1483"/>
                </a:lnTo>
                <a:lnTo>
                  <a:pt x="4007" y="1773"/>
                </a:lnTo>
                <a:lnTo>
                  <a:pt x="3750" y="2067"/>
                </a:lnTo>
                <a:lnTo>
                  <a:pt x="3622" y="2195"/>
                </a:lnTo>
                <a:lnTo>
                  <a:pt x="3473" y="2312"/>
                </a:lnTo>
                <a:lnTo>
                  <a:pt x="3144" y="2535"/>
                </a:lnTo>
                <a:lnTo>
                  <a:pt x="2808" y="2731"/>
                </a:lnTo>
                <a:lnTo>
                  <a:pt x="2433" y="2894"/>
                </a:lnTo>
                <a:lnTo>
                  <a:pt x="2062" y="3048"/>
                </a:lnTo>
                <a:lnTo>
                  <a:pt x="1665" y="3166"/>
                </a:lnTo>
                <a:lnTo>
                  <a:pt x="1258" y="3257"/>
                </a:lnTo>
                <a:lnTo>
                  <a:pt x="837" y="3316"/>
                </a:lnTo>
                <a:lnTo>
                  <a:pt x="420" y="3365"/>
                </a:lnTo>
                <a:lnTo>
                  <a:pt x="0" y="3374"/>
                </a:lnTo>
                <a:lnTo>
                  <a:pt x="0" y="3316"/>
                </a:lnTo>
                <a:lnTo>
                  <a:pt x="420" y="3306"/>
                </a:lnTo>
                <a:lnTo>
                  <a:pt x="815" y="3257"/>
                </a:lnTo>
                <a:lnTo>
                  <a:pt x="1234" y="3199"/>
                </a:lnTo>
                <a:lnTo>
                  <a:pt x="1632" y="3107"/>
                </a:lnTo>
                <a:lnTo>
                  <a:pt x="2026" y="2989"/>
                </a:lnTo>
                <a:lnTo>
                  <a:pt x="2401" y="2839"/>
                </a:lnTo>
                <a:lnTo>
                  <a:pt x="2772" y="2676"/>
                </a:lnTo>
                <a:lnTo>
                  <a:pt x="3111" y="2476"/>
                </a:lnTo>
                <a:lnTo>
                  <a:pt x="3424" y="2254"/>
                </a:lnTo>
                <a:lnTo>
                  <a:pt x="3577" y="2137"/>
                </a:lnTo>
                <a:lnTo>
                  <a:pt x="3704" y="2009"/>
                </a:lnTo>
                <a:lnTo>
                  <a:pt x="3948" y="1738"/>
                </a:lnTo>
                <a:lnTo>
                  <a:pt x="4160" y="1447"/>
                </a:lnTo>
                <a:lnTo>
                  <a:pt x="4252" y="1283"/>
                </a:lnTo>
                <a:lnTo>
                  <a:pt x="4333" y="1120"/>
                </a:lnTo>
                <a:lnTo>
                  <a:pt x="4459" y="771"/>
                </a:lnTo>
                <a:lnTo>
                  <a:pt x="4541" y="395"/>
                </a:lnTo>
                <a:lnTo>
                  <a:pt x="4577" y="0"/>
                </a:lnTo>
                <a:lnTo>
                  <a:pt x="4649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47080" y="5048280"/>
            <a:ext cx="7920" cy="1440"/>
          </a:xfrm>
          <a:custGeom>
            <a:avLst/>
            <a:gdLst/>
            <a:ahLst/>
            <a:rect l="l" t="t" r="r" b="b"/>
            <a:pathLst>
              <a:path w="72" h="0">
                <a:moveTo>
                  <a:pt x="72" y="0"/>
                </a:moveTo>
                <a:lnTo>
                  <a:pt x="0" y="0"/>
                </a:lnTo>
                <a:lnTo>
                  <a:pt x="72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60960" y="4998960"/>
            <a:ext cx="567000" cy="365040"/>
          </a:xfrm>
          <a:custGeom>
            <a:avLst/>
            <a:gdLst/>
            <a:ahLst/>
            <a:rect l="l" t="t" r="r" b="b"/>
            <a:pathLst>
              <a:path w="4994" h="3900">
                <a:moveTo>
                  <a:pt x="4994" y="3900"/>
                </a:moveTo>
                <a:lnTo>
                  <a:pt x="4528" y="3878"/>
                </a:lnTo>
                <a:lnTo>
                  <a:pt x="4075" y="3832"/>
                </a:lnTo>
                <a:lnTo>
                  <a:pt x="3610" y="3750"/>
                </a:lnTo>
                <a:lnTo>
                  <a:pt x="3170" y="3643"/>
                </a:lnTo>
                <a:lnTo>
                  <a:pt x="2750" y="3505"/>
                </a:lnTo>
                <a:lnTo>
                  <a:pt x="2528" y="3420"/>
                </a:lnTo>
                <a:lnTo>
                  <a:pt x="2319" y="3329"/>
                </a:lnTo>
                <a:lnTo>
                  <a:pt x="1935" y="3120"/>
                </a:lnTo>
                <a:lnTo>
                  <a:pt x="1574" y="2884"/>
                </a:lnTo>
                <a:lnTo>
                  <a:pt x="1235" y="2617"/>
                </a:lnTo>
                <a:lnTo>
                  <a:pt x="932" y="2345"/>
                </a:lnTo>
                <a:lnTo>
                  <a:pt x="665" y="2009"/>
                </a:lnTo>
                <a:lnTo>
                  <a:pt x="535" y="1846"/>
                </a:lnTo>
                <a:lnTo>
                  <a:pt x="430" y="1669"/>
                </a:lnTo>
                <a:lnTo>
                  <a:pt x="244" y="1297"/>
                </a:lnTo>
                <a:lnTo>
                  <a:pt x="104" y="885"/>
                </a:lnTo>
                <a:lnTo>
                  <a:pt x="59" y="676"/>
                </a:lnTo>
                <a:lnTo>
                  <a:pt x="22" y="453"/>
                </a:lnTo>
                <a:lnTo>
                  <a:pt x="0" y="232"/>
                </a:lnTo>
                <a:lnTo>
                  <a:pt x="0" y="0"/>
                </a:lnTo>
                <a:lnTo>
                  <a:pt x="59" y="0"/>
                </a:lnTo>
                <a:lnTo>
                  <a:pt x="59" y="232"/>
                </a:lnTo>
                <a:lnTo>
                  <a:pt x="82" y="453"/>
                </a:lnTo>
                <a:lnTo>
                  <a:pt x="117" y="653"/>
                </a:lnTo>
                <a:lnTo>
                  <a:pt x="163" y="862"/>
                </a:lnTo>
                <a:lnTo>
                  <a:pt x="303" y="1261"/>
                </a:lnTo>
                <a:lnTo>
                  <a:pt x="489" y="1634"/>
                </a:lnTo>
                <a:lnTo>
                  <a:pt x="593" y="1809"/>
                </a:lnTo>
                <a:lnTo>
                  <a:pt x="711" y="1960"/>
                </a:lnTo>
                <a:lnTo>
                  <a:pt x="977" y="2290"/>
                </a:lnTo>
                <a:lnTo>
                  <a:pt x="1281" y="2568"/>
                </a:lnTo>
                <a:lnTo>
                  <a:pt x="1619" y="2838"/>
                </a:lnTo>
                <a:lnTo>
                  <a:pt x="1968" y="3061"/>
                </a:lnTo>
                <a:lnTo>
                  <a:pt x="2352" y="3270"/>
                </a:lnTo>
                <a:lnTo>
                  <a:pt x="2563" y="3365"/>
                </a:lnTo>
                <a:lnTo>
                  <a:pt x="2772" y="3447"/>
                </a:lnTo>
                <a:lnTo>
                  <a:pt x="3193" y="3587"/>
                </a:lnTo>
                <a:lnTo>
                  <a:pt x="3635" y="3692"/>
                </a:lnTo>
                <a:lnTo>
                  <a:pt x="4075" y="3774"/>
                </a:lnTo>
                <a:lnTo>
                  <a:pt x="4528" y="3819"/>
                </a:lnTo>
                <a:lnTo>
                  <a:pt x="4994" y="3842"/>
                </a:lnTo>
                <a:lnTo>
                  <a:pt x="4994" y="39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7960" y="5357880"/>
            <a:ext cx="1440" cy="6120"/>
          </a:xfrm>
          <a:custGeom>
            <a:avLst/>
            <a:gdLst/>
            <a:ahLst/>
            <a:rect l="l" t="t" r="r" b="b"/>
            <a:pathLst>
              <a:path w="0" h="58">
                <a:moveTo>
                  <a:pt x="0" y="58"/>
                </a:moveTo>
                <a:lnTo>
                  <a:pt x="0" y="0"/>
                </a:lnTo>
                <a:lnTo>
                  <a:pt x="0" y="58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60960" y="4870440"/>
            <a:ext cx="52560" cy="128520"/>
          </a:xfrm>
          <a:custGeom>
            <a:avLst/>
            <a:gdLst/>
            <a:ahLst/>
            <a:rect l="l" t="t" r="r" b="b"/>
            <a:pathLst>
              <a:path w="466" h="1380">
                <a:moveTo>
                  <a:pt x="0" y="1380"/>
                </a:moveTo>
                <a:lnTo>
                  <a:pt x="0" y="1180"/>
                </a:lnTo>
                <a:lnTo>
                  <a:pt x="36" y="994"/>
                </a:lnTo>
                <a:lnTo>
                  <a:pt x="127" y="664"/>
                </a:lnTo>
                <a:lnTo>
                  <a:pt x="407" y="0"/>
                </a:lnTo>
                <a:lnTo>
                  <a:pt x="466" y="33"/>
                </a:lnTo>
                <a:lnTo>
                  <a:pt x="185" y="700"/>
                </a:lnTo>
                <a:lnTo>
                  <a:pt x="95" y="1027"/>
                </a:lnTo>
                <a:lnTo>
                  <a:pt x="59" y="1203"/>
                </a:lnTo>
                <a:lnTo>
                  <a:pt x="59" y="1380"/>
                </a:lnTo>
                <a:lnTo>
                  <a:pt x="0" y="138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60960" y="4998960"/>
            <a:ext cx="6480" cy="1800"/>
          </a:xfrm>
          <a:custGeom>
            <a:avLst/>
            <a:gdLst/>
            <a:ahLst/>
            <a:rect l="l" t="t" r="r" b="b"/>
            <a:pathLst>
              <a:path w="59" h="0">
                <a:moveTo>
                  <a:pt x="0" y="0"/>
                </a:moveTo>
                <a:lnTo>
                  <a:pt x="59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75200" y="4869000"/>
            <a:ext cx="235080" cy="6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07040" y="4869000"/>
            <a:ext cx="9720" cy="6120"/>
          </a:xfrm>
          <a:custGeom>
            <a:avLst/>
            <a:gdLst/>
            <a:ahLst/>
            <a:rect l="l" t="t" r="r" b="b"/>
            <a:pathLst>
              <a:path w="82" h="71">
                <a:moveTo>
                  <a:pt x="59" y="58"/>
                </a:moveTo>
                <a:lnTo>
                  <a:pt x="82" y="0"/>
                </a:lnTo>
                <a:lnTo>
                  <a:pt x="36" y="0"/>
                </a:lnTo>
                <a:lnTo>
                  <a:pt x="36" y="71"/>
                </a:lnTo>
                <a:lnTo>
                  <a:pt x="0" y="25"/>
                </a:lnTo>
                <a:lnTo>
                  <a:pt x="59" y="58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62600" y="4795920"/>
            <a:ext cx="15840" cy="75960"/>
          </a:xfrm>
          <a:custGeom>
            <a:avLst/>
            <a:gdLst/>
            <a:ahLst/>
            <a:rect l="l" t="t" r="r" b="b"/>
            <a:pathLst>
              <a:path w="137" h="817">
                <a:moveTo>
                  <a:pt x="82" y="817"/>
                </a:moveTo>
                <a:lnTo>
                  <a:pt x="68" y="594"/>
                </a:lnTo>
                <a:lnTo>
                  <a:pt x="33" y="408"/>
                </a:lnTo>
                <a:lnTo>
                  <a:pt x="9" y="221"/>
                </a:lnTo>
                <a:lnTo>
                  <a:pt x="0" y="0"/>
                </a:lnTo>
                <a:lnTo>
                  <a:pt x="55" y="0"/>
                </a:lnTo>
                <a:lnTo>
                  <a:pt x="68" y="221"/>
                </a:lnTo>
                <a:lnTo>
                  <a:pt x="91" y="408"/>
                </a:lnTo>
                <a:lnTo>
                  <a:pt x="127" y="594"/>
                </a:lnTo>
                <a:lnTo>
                  <a:pt x="137" y="817"/>
                </a:lnTo>
                <a:lnTo>
                  <a:pt x="82" y="817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72320" y="4869000"/>
            <a:ext cx="6120" cy="6120"/>
          </a:xfrm>
          <a:custGeom>
            <a:avLst/>
            <a:gdLst/>
            <a:ahLst/>
            <a:rect l="l" t="t" r="r" b="b"/>
            <a:pathLst>
              <a:path w="55" h="71">
                <a:moveTo>
                  <a:pt x="32" y="71"/>
                </a:moveTo>
                <a:lnTo>
                  <a:pt x="0" y="71"/>
                </a:lnTo>
                <a:lnTo>
                  <a:pt x="0" y="36"/>
                </a:lnTo>
                <a:lnTo>
                  <a:pt x="55" y="36"/>
                </a:lnTo>
                <a:lnTo>
                  <a:pt x="32" y="0"/>
                </a:lnTo>
                <a:lnTo>
                  <a:pt x="32" y="71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2600" y="4632480"/>
            <a:ext cx="378000" cy="163440"/>
          </a:xfrm>
          <a:custGeom>
            <a:avLst/>
            <a:gdLst/>
            <a:ahLst/>
            <a:rect l="l" t="t" r="r" b="b"/>
            <a:pathLst>
              <a:path w="3329" h="1751">
                <a:moveTo>
                  <a:pt x="0" y="1751"/>
                </a:moveTo>
                <a:lnTo>
                  <a:pt x="9" y="1479"/>
                </a:lnTo>
                <a:lnTo>
                  <a:pt x="82" y="1247"/>
                </a:lnTo>
                <a:lnTo>
                  <a:pt x="172" y="1025"/>
                </a:lnTo>
                <a:lnTo>
                  <a:pt x="313" y="826"/>
                </a:lnTo>
                <a:lnTo>
                  <a:pt x="476" y="653"/>
                </a:lnTo>
                <a:lnTo>
                  <a:pt x="674" y="499"/>
                </a:lnTo>
                <a:lnTo>
                  <a:pt x="883" y="371"/>
                </a:lnTo>
                <a:lnTo>
                  <a:pt x="1140" y="254"/>
                </a:lnTo>
                <a:lnTo>
                  <a:pt x="1385" y="163"/>
                </a:lnTo>
                <a:lnTo>
                  <a:pt x="1651" y="94"/>
                </a:lnTo>
                <a:lnTo>
                  <a:pt x="1922" y="49"/>
                </a:lnTo>
                <a:lnTo>
                  <a:pt x="2199" y="12"/>
                </a:lnTo>
                <a:lnTo>
                  <a:pt x="2492" y="0"/>
                </a:lnTo>
                <a:lnTo>
                  <a:pt x="2772" y="0"/>
                </a:lnTo>
                <a:lnTo>
                  <a:pt x="3329" y="49"/>
                </a:lnTo>
                <a:lnTo>
                  <a:pt x="3320" y="117"/>
                </a:lnTo>
                <a:lnTo>
                  <a:pt x="2772" y="71"/>
                </a:lnTo>
                <a:lnTo>
                  <a:pt x="2492" y="71"/>
                </a:lnTo>
                <a:lnTo>
                  <a:pt x="2199" y="81"/>
                </a:lnTo>
                <a:lnTo>
                  <a:pt x="1922" y="117"/>
                </a:lnTo>
                <a:lnTo>
                  <a:pt x="1665" y="163"/>
                </a:lnTo>
                <a:lnTo>
                  <a:pt x="1398" y="231"/>
                </a:lnTo>
                <a:lnTo>
                  <a:pt x="1154" y="322"/>
                </a:lnTo>
                <a:lnTo>
                  <a:pt x="918" y="431"/>
                </a:lnTo>
                <a:lnTo>
                  <a:pt x="710" y="558"/>
                </a:lnTo>
                <a:lnTo>
                  <a:pt x="511" y="708"/>
                </a:lnTo>
                <a:lnTo>
                  <a:pt x="359" y="885"/>
                </a:lnTo>
                <a:lnTo>
                  <a:pt x="231" y="1062"/>
                </a:lnTo>
                <a:lnTo>
                  <a:pt x="137" y="1283"/>
                </a:lnTo>
                <a:lnTo>
                  <a:pt x="68" y="1506"/>
                </a:lnTo>
                <a:lnTo>
                  <a:pt x="55" y="1751"/>
                </a:lnTo>
                <a:lnTo>
                  <a:pt x="0" y="1751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62600" y="4795920"/>
            <a:ext cx="6480" cy="1440"/>
          </a:xfrm>
          <a:custGeom>
            <a:avLst/>
            <a:gdLst/>
            <a:ahLst/>
            <a:rect l="l" t="t" r="r" b="b"/>
            <a:pathLst>
              <a:path w="55" h="0">
                <a:moveTo>
                  <a:pt x="0" y="0"/>
                </a:moveTo>
                <a:lnTo>
                  <a:pt x="55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37360" y="4635360"/>
            <a:ext cx="4680" cy="6480"/>
          </a:xfrm>
          <a:custGeom>
            <a:avLst/>
            <a:gdLst/>
            <a:ahLst/>
            <a:rect l="l" t="t" r="r" b="b"/>
            <a:pathLst>
              <a:path w="35" h="68">
                <a:moveTo>
                  <a:pt x="13" y="68"/>
                </a:moveTo>
                <a:lnTo>
                  <a:pt x="35" y="9"/>
                </a:lnTo>
                <a:lnTo>
                  <a:pt x="0" y="68"/>
                </a:lnTo>
                <a:lnTo>
                  <a:pt x="22" y="0"/>
                </a:lnTo>
                <a:lnTo>
                  <a:pt x="13" y="68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10560" y="3887640"/>
            <a:ext cx="142560" cy="741600"/>
          </a:xfrm>
          <a:custGeom>
            <a:avLst/>
            <a:gdLst/>
            <a:ahLst/>
            <a:rect l="l" t="t" r="r" b="b"/>
            <a:pathLst>
              <a:path w="1258" h="7946">
                <a:moveTo>
                  <a:pt x="629" y="0"/>
                </a:moveTo>
                <a:lnTo>
                  <a:pt x="593" y="164"/>
                </a:lnTo>
                <a:lnTo>
                  <a:pt x="547" y="327"/>
                </a:lnTo>
                <a:lnTo>
                  <a:pt x="466" y="689"/>
                </a:lnTo>
                <a:lnTo>
                  <a:pt x="325" y="1379"/>
                </a:lnTo>
                <a:lnTo>
                  <a:pt x="325" y="3751"/>
                </a:lnTo>
                <a:lnTo>
                  <a:pt x="371" y="4055"/>
                </a:lnTo>
                <a:lnTo>
                  <a:pt x="407" y="4349"/>
                </a:lnTo>
                <a:lnTo>
                  <a:pt x="476" y="4898"/>
                </a:lnTo>
                <a:lnTo>
                  <a:pt x="570" y="5398"/>
                </a:lnTo>
                <a:lnTo>
                  <a:pt x="616" y="5646"/>
                </a:lnTo>
                <a:lnTo>
                  <a:pt x="664" y="5879"/>
                </a:lnTo>
                <a:lnTo>
                  <a:pt x="778" y="6358"/>
                </a:lnTo>
                <a:lnTo>
                  <a:pt x="838" y="6603"/>
                </a:lnTo>
                <a:lnTo>
                  <a:pt x="909" y="6849"/>
                </a:lnTo>
                <a:lnTo>
                  <a:pt x="1072" y="7374"/>
                </a:lnTo>
                <a:lnTo>
                  <a:pt x="1163" y="7655"/>
                </a:lnTo>
                <a:lnTo>
                  <a:pt x="1258" y="7946"/>
                </a:lnTo>
                <a:lnTo>
                  <a:pt x="968" y="7094"/>
                </a:lnTo>
                <a:lnTo>
                  <a:pt x="720" y="6309"/>
                </a:lnTo>
                <a:lnTo>
                  <a:pt x="606" y="5937"/>
                </a:lnTo>
                <a:lnTo>
                  <a:pt x="502" y="5574"/>
                </a:lnTo>
                <a:lnTo>
                  <a:pt x="407" y="5212"/>
                </a:lnTo>
                <a:lnTo>
                  <a:pt x="325" y="4849"/>
                </a:lnTo>
                <a:lnTo>
                  <a:pt x="244" y="4486"/>
                </a:lnTo>
                <a:lnTo>
                  <a:pt x="186" y="4126"/>
                </a:lnTo>
                <a:lnTo>
                  <a:pt x="127" y="3751"/>
                </a:lnTo>
                <a:lnTo>
                  <a:pt x="81" y="3366"/>
                </a:lnTo>
                <a:lnTo>
                  <a:pt x="69" y="3179"/>
                </a:lnTo>
                <a:lnTo>
                  <a:pt x="46" y="2980"/>
                </a:lnTo>
                <a:lnTo>
                  <a:pt x="23" y="2558"/>
                </a:lnTo>
                <a:lnTo>
                  <a:pt x="10" y="2127"/>
                </a:lnTo>
                <a:lnTo>
                  <a:pt x="0" y="1673"/>
                </a:lnTo>
                <a:lnTo>
                  <a:pt x="10" y="1555"/>
                </a:lnTo>
                <a:lnTo>
                  <a:pt x="10" y="1425"/>
                </a:lnTo>
                <a:lnTo>
                  <a:pt x="23" y="1310"/>
                </a:lnTo>
                <a:lnTo>
                  <a:pt x="32" y="1193"/>
                </a:lnTo>
                <a:lnTo>
                  <a:pt x="59" y="1088"/>
                </a:lnTo>
                <a:lnTo>
                  <a:pt x="81" y="984"/>
                </a:lnTo>
                <a:lnTo>
                  <a:pt x="105" y="875"/>
                </a:lnTo>
                <a:lnTo>
                  <a:pt x="140" y="771"/>
                </a:lnTo>
                <a:lnTo>
                  <a:pt x="186" y="667"/>
                </a:lnTo>
                <a:lnTo>
                  <a:pt x="232" y="572"/>
                </a:lnTo>
                <a:lnTo>
                  <a:pt x="281" y="480"/>
                </a:lnTo>
                <a:lnTo>
                  <a:pt x="336" y="376"/>
                </a:lnTo>
                <a:lnTo>
                  <a:pt x="395" y="281"/>
                </a:lnTo>
                <a:lnTo>
                  <a:pt x="466" y="186"/>
                </a:lnTo>
                <a:lnTo>
                  <a:pt x="547" y="95"/>
                </a:lnTo>
                <a:lnTo>
                  <a:pt x="629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45480" y="3887640"/>
            <a:ext cx="41040" cy="128880"/>
          </a:xfrm>
          <a:custGeom>
            <a:avLst/>
            <a:gdLst/>
            <a:ahLst/>
            <a:rect l="l" t="t" r="r" b="b"/>
            <a:pathLst>
              <a:path w="361" h="1379">
                <a:moveTo>
                  <a:pt x="361" y="14"/>
                </a:moveTo>
                <a:lnTo>
                  <a:pt x="313" y="164"/>
                </a:lnTo>
                <a:lnTo>
                  <a:pt x="280" y="340"/>
                </a:lnTo>
                <a:lnTo>
                  <a:pt x="199" y="703"/>
                </a:lnTo>
                <a:lnTo>
                  <a:pt x="59" y="1379"/>
                </a:lnTo>
                <a:lnTo>
                  <a:pt x="0" y="1370"/>
                </a:lnTo>
                <a:lnTo>
                  <a:pt x="141" y="689"/>
                </a:lnTo>
                <a:lnTo>
                  <a:pt x="209" y="317"/>
                </a:lnTo>
                <a:lnTo>
                  <a:pt x="255" y="153"/>
                </a:lnTo>
                <a:lnTo>
                  <a:pt x="290" y="0"/>
                </a:lnTo>
                <a:lnTo>
                  <a:pt x="361" y="14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45480" y="4016520"/>
            <a:ext cx="6120" cy="220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945480" y="4014720"/>
            <a:ext cx="6120" cy="1800"/>
          </a:xfrm>
          <a:custGeom>
            <a:avLst/>
            <a:gdLst/>
            <a:ahLst/>
            <a:rect l="l" t="t" r="r" b="b"/>
            <a:pathLst>
              <a:path w="59" h="9">
                <a:moveTo>
                  <a:pt x="0" y="0"/>
                </a:moveTo>
                <a:lnTo>
                  <a:pt x="0" y="9"/>
                </a:lnTo>
                <a:lnTo>
                  <a:pt x="59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45480" y="4237200"/>
            <a:ext cx="112680" cy="393480"/>
          </a:xfrm>
          <a:custGeom>
            <a:avLst/>
            <a:gdLst/>
            <a:ahLst/>
            <a:rect l="l" t="t" r="r" b="b"/>
            <a:pathLst>
              <a:path w="991" h="4208">
                <a:moveTo>
                  <a:pt x="59" y="0"/>
                </a:moveTo>
                <a:lnTo>
                  <a:pt x="92" y="304"/>
                </a:lnTo>
                <a:lnTo>
                  <a:pt x="127" y="598"/>
                </a:lnTo>
                <a:lnTo>
                  <a:pt x="209" y="1134"/>
                </a:lnTo>
                <a:lnTo>
                  <a:pt x="290" y="1637"/>
                </a:lnTo>
                <a:lnTo>
                  <a:pt x="336" y="1882"/>
                </a:lnTo>
                <a:lnTo>
                  <a:pt x="385" y="2114"/>
                </a:lnTo>
                <a:lnTo>
                  <a:pt x="499" y="2607"/>
                </a:lnTo>
                <a:lnTo>
                  <a:pt x="570" y="2839"/>
                </a:lnTo>
                <a:lnTo>
                  <a:pt x="638" y="3098"/>
                </a:lnTo>
                <a:lnTo>
                  <a:pt x="792" y="3610"/>
                </a:lnTo>
                <a:lnTo>
                  <a:pt x="883" y="3892"/>
                </a:lnTo>
                <a:lnTo>
                  <a:pt x="991" y="4186"/>
                </a:lnTo>
                <a:lnTo>
                  <a:pt x="918" y="4208"/>
                </a:lnTo>
                <a:lnTo>
                  <a:pt x="828" y="3914"/>
                </a:lnTo>
                <a:lnTo>
                  <a:pt x="733" y="3634"/>
                </a:lnTo>
                <a:lnTo>
                  <a:pt x="570" y="3111"/>
                </a:lnTo>
                <a:lnTo>
                  <a:pt x="499" y="2863"/>
                </a:lnTo>
                <a:lnTo>
                  <a:pt x="443" y="2618"/>
                </a:lnTo>
                <a:lnTo>
                  <a:pt x="326" y="2140"/>
                </a:lnTo>
                <a:lnTo>
                  <a:pt x="280" y="1895"/>
                </a:lnTo>
                <a:lnTo>
                  <a:pt x="231" y="1647"/>
                </a:lnTo>
                <a:lnTo>
                  <a:pt x="141" y="1147"/>
                </a:lnTo>
                <a:lnTo>
                  <a:pt x="68" y="608"/>
                </a:lnTo>
                <a:lnTo>
                  <a:pt x="33" y="317"/>
                </a:lnTo>
                <a:lnTo>
                  <a:pt x="0" y="13"/>
                </a:lnTo>
                <a:lnTo>
                  <a:pt x="59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45480" y="4237200"/>
            <a:ext cx="6120" cy="1440"/>
          </a:xfrm>
          <a:custGeom>
            <a:avLst/>
            <a:gdLst/>
            <a:ahLst/>
            <a:rect l="l" t="t" r="r" b="b"/>
            <a:pathLst>
              <a:path w="59" h="13">
                <a:moveTo>
                  <a:pt x="0" y="0"/>
                </a:moveTo>
                <a:lnTo>
                  <a:pt x="0" y="13"/>
                </a:lnTo>
                <a:lnTo>
                  <a:pt x="59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08760" y="4043520"/>
            <a:ext cx="149400" cy="587160"/>
          </a:xfrm>
          <a:custGeom>
            <a:avLst/>
            <a:gdLst/>
            <a:ahLst/>
            <a:rect l="l" t="t" r="r" b="b"/>
            <a:pathLst>
              <a:path w="1317" h="6286">
                <a:moveTo>
                  <a:pt x="1258" y="6286"/>
                </a:moveTo>
                <a:lnTo>
                  <a:pt x="964" y="5434"/>
                </a:lnTo>
                <a:lnTo>
                  <a:pt x="711" y="4650"/>
                </a:lnTo>
                <a:lnTo>
                  <a:pt x="593" y="4277"/>
                </a:lnTo>
                <a:lnTo>
                  <a:pt x="489" y="3901"/>
                </a:lnTo>
                <a:lnTo>
                  <a:pt x="394" y="3552"/>
                </a:lnTo>
                <a:lnTo>
                  <a:pt x="313" y="3189"/>
                </a:lnTo>
                <a:lnTo>
                  <a:pt x="245" y="2826"/>
                </a:lnTo>
                <a:lnTo>
                  <a:pt x="173" y="2453"/>
                </a:lnTo>
                <a:lnTo>
                  <a:pt x="114" y="2091"/>
                </a:lnTo>
                <a:lnTo>
                  <a:pt x="82" y="1706"/>
                </a:lnTo>
                <a:lnTo>
                  <a:pt x="55" y="1506"/>
                </a:lnTo>
                <a:lnTo>
                  <a:pt x="46" y="1307"/>
                </a:lnTo>
                <a:lnTo>
                  <a:pt x="11" y="885"/>
                </a:lnTo>
                <a:lnTo>
                  <a:pt x="0" y="454"/>
                </a:lnTo>
                <a:lnTo>
                  <a:pt x="0" y="0"/>
                </a:lnTo>
                <a:lnTo>
                  <a:pt x="55" y="0"/>
                </a:lnTo>
                <a:lnTo>
                  <a:pt x="55" y="454"/>
                </a:lnTo>
                <a:lnTo>
                  <a:pt x="82" y="885"/>
                </a:lnTo>
                <a:lnTo>
                  <a:pt x="104" y="1298"/>
                </a:lnTo>
                <a:lnTo>
                  <a:pt x="114" y="1494"/>
                </a:lnTo>
                <a:lnTo>
                  <a:pt x="137" y="1693"/>
                </a:lnTo>
                <a:lnTo>
                  <a:pt x="186" y="2078"/>
                </a:lnTo>
                <a:lnTo>
                  <a:pt x="231" y="2441"/>
                </a:lnTo>
                <a:lnTo>
                  <a:pt x="304" y="2813"/>
                </a:lnTo>
                <a:lnTo>
                  <a:pt x="372" y="3176"/>
                </a:lnTo>
                <a:lnTo>
                  <a:pt x="467" y="3529"/>
                </a:lnTo>
                <a:lnTo>
                  <a:pt x="557" y="3891"/>
                </a:lnTo>
                <a:lnTo>
                  <a:pt x="652" y="4250"/>
                </a:lnTo>
                <a:lnTo>
                  <a:pt x="769" y="4626"/>
                </a:lnTo>
                <a:lnTo>
                  <a:pt x="1023" y="5407"/>
                </a:lnTo>
                <a:lnTo>
                  <a:pt x="1317" y="6264"/>
                </a:lnTo>
                <a:lnTo>
                  <a:pt x="1258" y="628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50240" y="4629240"/>
            <a:ext cx="7920" cy="1440"/>
          </a:xfrm>
          <a:custGeom>
            <a:avLst/>
            <a:gdLst/>
            <a:ahLst/>
            <a:rect l="l" t="t" r="r" b="b"/>
            <a:pathLst>
              <a:path w="73" h="22">
                <a:moveTo>
                  <a:pt x="73" y="0"/>
                </a:moveTo>
                <a:lnTo>
                  <a:pt x="14" y="22"/>
                </a:lnTo>
                <a:lnTo>
                  <a:pt x="73" y="0"/>
                </a:lnTo>
                <a:lnTo>
                  <a:pt x="0" y="22"/>
                </a:lnTo>
                <a:lnTo>
                  <a:pt x="73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08760" y="3886200"/>
            <a:ext cx="76320" cy="157320"/>
          </a:xfrm>
          <a:custGeom>
            <a:avLst/>
            <a:gdLst/>
            <a:ahLst/>
            <a:rect l="l" t="t" r="r" b="b"/>
            <a:pathLst>
              <a:path w="674" h="1686">
                <a:moveTo>
                  <a:pt x="0" y="1686"/>
                </a:moveTo>
                <a:lnTo>
                  <a:pt x="0" y="1555"/>
                </a:lnTo>
                <a:lnTo>
                  <a:pt x="0" y="1438"/>
                </a:lnTo>
                <a:lnTo>
                  <a:pt x="11" y="1323"/>
                </a:lnTo>
                <a:lnTo>
                  <a:pt x="23" y="1206"/>
                </a:lnTo>
                <a:lnTo>
                  <a:pt x="46" y="1088"/>
                </a:lnTo>
                <a:lnTo>
                  <a:pt x="69" y="983"/>
                </a:lnTo>
                <a:lnTo>
                  <a:pt x="104" y="879"/>
                </a:lnTo>
                <a:lnTo>
                  <a:pt x="137" y="774"/>
                </a:lnTo>
                <a:lnTo>
                  <a:pt x="173" y="667"/>
                </a:lnTo>
                <a:lnTo>
                  <a:pt x="222" y="575"/>
                </a:lnTo>
                <a:lnTo>
                  <a:pt x="277" y="471"/>
                </a:lnTo>
                <a:lnTo>
                  <a:pt x="336" y="376"/>
                </a:lnTo>
                <a:lnTo>
                  <a:pt x="394" y="281"/>
                </a:lnTo>
                <a:lnTo>
                  <a:pt x="467" y="190"/>
                </a:lnTo>
                <a:lnTo>
                  <a:pt x="548" y="95"/>
                </a:lnTo>
                <a:lnTo>
                  <a:pt x="629" y="0"/>
                </a:lnTo>
                <a:lnTo>
                  <a:pt x="674" y="36"/>
                </a:lnTo>
                <a:lnTo>
                  <a:pt x="593" y="131"/>
                </a:lnTo>
                <a:lnTo>
                  <a:pt x="511" y="223"/>
                </a:lnTo>
                <a:lnTo>
                  <a:pt x="440" y="317"/>
                </a:lnTo>
                <a:lnTo>
                  <a:pt x="385" y="411"/>
                </a:lnTo>
                <a:lnTo>
                  <a:pt x="326" y="503"/>
                </a:lnTo>
                <a:lnTo>
                  <a:pt x="277" y="598"/>
                </a:lnTo>
                <a:lnTo>
                  <a:pt x="231" y="692"/>
                </a:lnTo>
                <a:lnTo>
                  <a:pt x="196" y="797"/>
                </a:lnTo>
                <a:lnTo>
                  <a:pt x="163" y="888"/>
                </a:lnTo>
                <a:lnTo>
                  <a:pt x="128" y="997"/>
                </a:lnTo>
                <a:lnTo>
                  <a:pt x="104" y="1111"/>
                </a:lnTo>
                <a:lnTo>
                  <a:pt x="92" y="1215"/>
                </a:lnTo>
                <a:lnTo>
                  <a:pt x="69" y="1334"/>
                </a:lnTo>
                <a:lnTo>
                  <a:pt x="69" y="1438"/>
                </a:lnTo>
                <a:lnTo>
                  <a:pt x="55" y="1568"/>
                </a:lnTo>
                <a:lnTo>
                  <a:pt x="55" y="1686"/>
                </a:lnTo>
                <a:lnTo>
                  <a:pt x="0" y="168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08760" y="4043520"/>
            <a:ext cx="6480" cy="1440"/>
          </a:xfrm>
          <a:custGeom>
            <a:avLst/>
            <a:gdLst/>
            <a:ahLst/>
            <a:rect l="l" t="t" r="r" b="b"/>
            <a:pathLst>
              <a:path w="55" h="0">
                <a:moveTo>
                  <a:pt x="0" y="0"/>
                </a:moveTo>
                <a:lnTo>
                  <a:pt x="55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78600" y="3886200"/>
            <a:ext cx="7920" cy="3240"/>
          </a:xfrm>
          <a:custGeom>
            <a:avLst/>
            <a:gdLst/>
            <a:ahLst/>
            <a:rect l="l" t="t" r="r" b="b"/>
            <a:pathLst>
              <a:path w="71" h="36">
                <a:moveTo>
                  <a:pt x="13" y="0"/>
                </a:moveTo>
                <a:lnTo>
                  <a:pt x="71" y="27"/>
                </a:lnTo>
                <a:lnTo>
                  <a:pt x="0" y="13"/>
                </a:lnTo>
                <a:lnTo>
                  <a:pt x="58" y="36"/>
                </a:lnTo>
                <a:lnTo>
                  <a:pt x="13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2286000" cy="15256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4920" y="3733920"/>
            <a:ext cx="4267080" cy="31240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025640" y="3886200"/>
            <a:ext cx="2516040" cy="17524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4920" y="5424480"/>
            <a:ext cx="419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أ</a:t>
            </a: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ـد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572000" y="0"/>
            <a:ext cx="426708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426708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3733920"/>
            <a:ext cx="426708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733920"/>
            <a:ext cx="426708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410080" y="0"/>
            <a:ext cx="2516400" cy="17524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914400" y="76320"/>
            <a:ext cx="2133720" cy="14968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572000" y="1995480"/>
            <a:ext cx="419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ff0000"/>
                </a:solidFill>
                <a:latin typeface="Times New Roman"/>
              </a:rPr>
              <a:t>أ</a:t>
            </a:r>
            <a:r>
              <a:rPr b="1" lang="hi-IN" sz="8800" spc="-1" strike="noStrike">
                <a:solidFill>
                  <a:srgbClr val="000000"/>
                </a:solidFill>
                <a:latin typeface="Times New Roman"/>
              </a:rPr>
              <a:t>سـد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600200"/>
            <a:ext cx="419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ff0000"/>
                </a:solidFill>
                <a:latin typeface="Times New Roman"/>
              </a:rPr>
              <a:t>أ</a:t>
            </a:r>
            <a:r>
              <a:rPr b="1" lang="hi-IN" sz="8800" spc="-1" strike="noStrike">
                <a:solidFill>
                  <a:srgbClr val="000000"/>
                </a:solidFill>
                <a:latin typeface="Times New Roman"/>
              </a:rPr>
              <a:t>رنب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5943600" y="3886200"/>
            <a:ext cx="1125360" cy="17524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572000" y="5424480"/>
            <a:ext cx="419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ff0000"/>
                </a:solidFill>
                <a:latin typeface="Times New Roman"/>
              </a:rPr>
              <a:t>أ</a:t>
            </a:r>
            <a:r>
              <a:rPr b="1" lang="hi-IN" sz="8800" spc="-1" strike="noStrike">
                <a:solidFill>
                  <a:srgbClr val="000000"/>
                </a:solidFill>
                <a:latin typeface="Times New Roman"/>
              </a:rPr>
              <a:t>ب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143000" y="3733920"/>
            <a:ext cx="2334960" cy="1752480"/>
            <a:chOff x="1143000" y="3733920"/>
            <a:chExt cx="2334960" cy="1752480"/>
          </a:xfrm>
        </p:grpSpPr>
        <p:sp>
          <p:nvSpPr>
            <p:cNvPr id="173" name=""/>
            <p:cNvSpPr/>
            <p:nvPr/>
          </p:nvSpPr>
          <p:spPr>
            <a:xfrm>
              <a:off x="1143000" y="3800520"/>
              <a:ext cx="2334960" cy="163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58920" y="3733920"/>
              <a:ext cx="2127240" cy="1752480"/>
            </a:xfrm>
            <a:custGeom>
              <a:avLst/>
              <a:gdLst/>
              <a:ahLst/>
              <a:rect l="l" t="t" r="r" b="b"/>
              <a:pathLst>
                <a:path w="1340" h="1104">
                  <a:moveTo>
                    <a:pt x="773" y="1104"/>
                  </a:moveTo>
                  <a:lnTo>
                    <a:pt x="776" y="1104"/>
                  </a:lnTo>
                  <a:lnTo>
                    <a:pt x="779" y="1104"/>
                  </a:lnTo>
                  <a:lnTo>
                    <a:pt x="785" y="1104"/>
                  </a:lnTo>
                  <a:lnTo>
                    <a:pt x="788" y="1104"/>
                  </a:lnTo>
                  <a:lnTo>
                    <a:pt x="790" y="1104"/>
                  </a:lnTo>
                  <a:lnTo>
                    <a:pt x="796" y="1104"/>
                  </a:lnTo>
                  <a:lnTo>
                    <a:pt x="799" y="1104"/>
                  </a:lnTo>
                  <a:lnTo>
                    <a:pt x="805" y="1104"/>
                  </a:lnTo>
                  <a:lnTo>
                    <a:pt x="808" y="1102"/>
                  </a:lnTo>
                  <a:lnTo>
                    <a:pt x="811" y="1102"/>
                  </a:lnTo>
                  <a:lnTo>
                    <a:pt x="817" y="1102"/>
                  </a:lnTo>
                  <a:lnTo>
                    <a:pt x="819" y="1102"/>
                  </a:lnTo>
                  <a:lnTo>
                    <a:pt x="825" y="1102"/>
                  </a:lnTo>
                  <a:lnTo>
                    <a:pt x="828" y="1100"/>
                  </a:lnTo>
                  <a:lnTo>
                    <a:pt x="834" y="1100"/>
                  </a:lnTo>
                  <a:lnTo>
                    <a:pt x="837" y="1100"/>
                  </a:lnTo>
                  <a:lnTo>
                    <a:pt x="843" y="1098"/>
                  </a:lnTo>
                  <a:lnTo>
                    <a:pt x="849" y="1098"/>
                  </a:lnTo>
                  <a:lnTo>
                    <a:pt x="854" y="1096"/>
                  </a:lnTo>
                  <a:lnTo>
                    <a:pt x="857" y="1094"/>
                  </a:lnTo>
                  <a:lnTo>
                    <a:pt x="863" y="1094"/>
                  </a:lnTo>
                  <a:lnTo>
                    <a:pt x="866" y="1092"/>
                  </a:lnTo>
                  <a:lnTo>
                    <a:pt x="872" y="1090"/>
                  </a:lnTo>
                  <a:lnTo>
                    <a:pt x="875" y="1086"/>
                  </a:lnTo>
                  <a:lnTo>
                    <a:pt x="878" y="1078"/>
                  </a:lnTo>
                  <a:lnTo>
                    <a:pt x="881" y="1070"/>
                  </a:lnTo>
                  <a:lnTo>
                    <a:pt x="881" y="1062"/>
                  </a:lnTo>
                  <a:lnTo>
                    <a:pt x="881" y="1052"/>
                  </a:lnTo>
                  <a:lnTo>
                    <a:pt x="878" y="1044"/>
                  </a:lnTo>
                  <a:lnTo>
                    <a:pt x="872" y="1036"/>
                  </a:lnTo>
                  <a:lnTo>
                    <a:pt x="863" y="1032"/>
                  </a:lnTo>
                  <a:lnTo>
                    <a:pt x="851" y="1028"/>
                  </a:lnTo>
                  <a:lnTo>
                    <a:pt x="854" y="1010"/>
                  </a:lnTo>
                  <a:lnTo>
                    <a:pt x="857" y="990"/>
                  </a:lnTo>
                  <a:lnTo>
                    <a:pt x="860" y="966"/>
                  </a:lnTo>
                  <a:lnTo>
                    <a:pt x="866" y="942"/>
                  </a:lnTo>
                  <a:lnTo>
                    <a:pt x="869" y="918"/>
                  </a:lnTo>
                  <a:lnTo>
                    <a:pt x="878" y="894"/>
                  </a:lnTo>
                  <a:lnTo>
                    <a:pt x="883" y="876"/>
                  </a:lnTo>
                  <a:lnTo>
                    <a:pt x="892" y="860"/>
                  </a:lnTo>
                  <a:lnTo>
                    <a:pt x="901" y="860"/>
                  </a:lnTo>
                  <a:lnTo>
                    <a:pt x="910" y="858"/>
                  </a:lnTo>
                  <a:lnTo>
                    <a:pt x="921" y="858"/>
                  </a:lnTo>
                  <a:lnTo>
                    <a:pt x="930" y="856"/>
                  </a:lnTo>
                  <a:lnTo>
                    <a:pt x="939" y="854"/>
                  </a:lnTo>
                  <a:lnTo>
                    <a:pt x="947" y="852"/>
                  </a:lnTo>
                  <a:lnTo>
                    <a:pt x="956" y="850"/>
                  </a:lnTo>
                  <a:lnTo>
                    <a:pt x="965" y="848"/>
                  </a:lnTo>
                  <a:lnTo>
                    <a:pt x="976" y="846"/>
                  </a:lnTo>
                  <a:lnTo>
                    <a:pt x="985" y="844"/>
                  </a:lnTo>
                  <a:lnTo>
                    <a:pt x="994" y="842"/>
                  </a:lnTo>
                  <a:lnTo>
                    <a:pt x="1003" y="840"/>
                  </a:lnTo>
                  <a:lnTo>
                    <a:pt x="1011" y="836"/>
                  </a:lnTo>
                  <a:lnTo>
                    <a:pt x="1020" y="834"/>
                  </a:lnTo>
                  <a:lnTo>
                    <a:pt x="1029" y="832"/>
                  </a:lnTo>
                  <a:lnTo>
                    <a:pt x="1038" y="828"/>
                  </a:lnTo>
                  <a:lnTo>
                    <a:pt x="1049" y="826"/>
                  </a:lnTo>
                  <a:lnTo>
                    <a:pt x="1058" y="824"/>
                  </a:lnTo>
                  <a:lnTo>
                    <a:pt x="1067" y="820"/>
                  </a:lnTo>
                  <a:lnTo>
                    <a:pt x="1075" y="818"/>
                  </a:lnTo>
                  <a:lnTo>
                    <a:pt x="1084" y="816"/>
                  </a:lnTo>
                  <a:lnTo>
                    <a:pt x="1093" y="814"/>
                  </a:lnTo>
                  <a:lnTo>
                    <a:pt x="1101" y="810"/>
                  </a:lnTo>
                  <a:lnTo>
                    <a:pt x="1110" y="808"/>
                  </a:lnTo>
                  <a:lnTo>
                    <a:pt x="1119" y="806"/>
                  </a:lnTo>
                  <a:lnTo>
                    <a:pt x="1128" y="804"/>
                  </a:lnTo>
                  <a:lnTo>
                    <a:pt x="1139" y="802"/>
                  </a:lnTo>
                  <a:lnTo>
                    <a:pt x="1148" y="800"/>
                  </a:lnTo>
                  <a:lnTo>
                    <a:pt x="1157" y="798"/>
                  </a:lnTo>
                  <a:lnTo>
                    <a:pt x="1165" y="796"/>
                  </a:lnTo>
                  <a:lnTo>
                    <a:pt x="1174" y="794"/>
                  </a:lnTo>
                  <a:lnTo>
                    <a:pt x="1183" y="794"/>
                  </a:lnTo>
                  <a:lnTo>
                    <a:pt x="1200" y="892"/>
                  </a:lnTo>
                  <a:lnTo>
                    <a:pt x="1186" y="900"/>
                  </a:lnTo>
                  <a:lnTo>
                    <a:pt x="1177" y="910"/>
                  </a:lnTo>
                  <a:lnTo>
                    <a:pt x="1174" y="918"/>
                  </a:lnTo>
                  <a:lnTo>
                    <a:pt x="1171" y="926"/>
                  </a:lnTo>
                  <a:lnTo>
                    <a:pt x="1174" y="936"/>
                  </a:lnTo>
                  <a:lnTo>
                    <a:pt x="1180" y="946"/>
                  </a:lnTo>
                  <a:lnTo>
                    <a:pt x="1189" y="956"/>
                  </a:lnTo>
                  <a:lnTo>
                    <a:pt x="1200" y="966"/>
                  </a:lnTo>
                  <a:lnTo>
                    <a:pt x="1212" y="968"/>
                  </a:lnTo>
                  <a:lnTo>
                    <a:pt x="1224" y="970"/>
                  </a:lnTo>
                  <a:lnTo>
                    <a:pt x="1232" y="972"/>
                  </a:lnTo>
                  <a:lnTo>
                    <a:pt x="1244" y="974"/>
                  </a:lnTo>
                  <a:lnTo>
                    <a:pt x="1253" y="974"/>
                  </a:lnTo>
                  <a:lnTo>
                    <a:pt x="1261" y="974"/>
                  </a:lnTo>
                  <a:lnTo>
                    <a:pt x="1270" y="974"/>
                  </a:lnTo>
                  <a:lnTo>
                    <a:pt x="1279" y="972"/>
                  </a:lnTo>
                  <a:lnTo>
                    <a:pt x="1288" y="970"/>
                  </a:lnTo>
                  <a:lnTo>
                    <a:pt x="1293" y="968"/>
                  </a:lnTo>
                  <a:lnTo>
                    <a:pt x="1302" y="964"/>
                  </a:lnTo>
                  <a:lnTo>
                    <a:pt x="1311" y="962"/>
                  </a:lnTo>
                  <a:lnTo>
                    <a:pt x="1317" y="956"/>
                  </a:lnTo>
                  <a:lnTo>
                    <a:pt x="1325" y="952"/>
                  </a:lnTo>
                  <a:lnTo>
                    <a:pt x="1331" y="948"/>
                  </a:lnTo>
                  <a:lnTo>
                    <a:pt x="1340" y="942"/>
                  </a:lnTo>
                  <a:lnTo>
                    <a:pt x="1328" y="932"/>
                  </a:lnTo>
                  <a:lnTo>
                    <a:pt x="1322" y="920"/>
                  </a:lnTo>
                  <a:lnTo>
                    <a:pt x="1317" y="912"/>
                  </a:lnTo>
                  <a:lnTo>
                    <a:pt x="1311" y="902"/>
                  </a:lnTo>
                  <a:lnTo>
                    <a:pt x="1311" y="892"/>
                  </a:lnTo>
                  <a:lnTo>
                    <a:pt x="1308" y="882"/>
                  </a:lnTo>
                  <a:lnTo>
                    <a:pt x="1311" y="872"/>
                  </a:lnTo>
                  <a:lnTo>
                    <a:pt x="1311" y="864"/>
                  </a:lnTo>
                  <a:lnTo>
                    <a:pt x="1314" y="854"/>
                  </a:lnTo>
                  <a:lnTo>
                    <a:pt x="1317" y="844"/>
                  </a:lnTo>
                  <a:lnTo>
                    <a:pt x="1317" y="834"/>
                  </a:lnTo>
                  <a:lnTo>
                    <a:pt x="1320" y="824"/>
                  </a:lnTo>
                  <a:lnTo>
                    <a:pt x="1322" y="814"/>
                  </a:lnTo>
                  <a:lnTo>
                    <a:pt x="1322" y="802"/>
                  </a:lnTo>
                  <a:lnTo>
                    <a:pt x="1322" y="792"/>
                  </a:lnTo>
                  <a:lnTo>
                    <a:pt x="1322" y="780"/>
                  </a:lnTo>
                  <a:lnTo>
                    <a:pt x="1320" y="718"/>
                  </a:lnTo>
                  <a:lnTo>
                    <a:pt x="1314" y="658"/>
                  </a:lnTo>
                  <a:lnTo>
                    <a:pt x="1308" y="596"/>
                  </a:lnTo>
                  <a:lnTo>
                    <a:pt x="1302" y="534"/>
                  </a:lnTo>
                  <a:lnTo>
                    <a:pt x="1293" y="472"/>
                  </a:lnTo>
                  <a:lnTo>
                    <a:pt x="1288" y="410"/>
                  </a:lnTo>
                  <a:lnTo>
                    <a:pt x="1279" y="348"/>
                  </a:lnTo>
                  <a:lnTo>
                    <a:pt x="1273" y="286"/>
                  </a:lnTo>
                  <a:lnTo>
                    <a:pt x="1273" y="274"/>
                  </a:lnTo>
                  <a:lnTo>
                    <a:pt x="1270" y="262"/>
                  </a:lnTo>
                  <a:lnTo>
                    <a:pt x="1267" y="246"/>
                  </a:lnTo>
                  <a:lnTo>
                    <a:pt x="1264" y="230"/>
                  </a:lnTo>
                  <a:lnTo>
                    <a:pt x="1258" y="214"/>
                  </a:lnTo>
                  <a:lnTo>
                    <a:pt x="1253" y="196"/>
                  </a:lnTo>
                  <a:lnTo>
                    <a:pt x="1247" y="180"/>
                  </a:lnTo>
                  <a:lnTo>
                    <a:pt x="1238" y="162"/>
                  </a:lnTo>
                  <a:lnTo>
                    <a:pt x="1229" y="144"/>
                  </a:lnTo>
                  <a:lnTo>
                    <a:pt x="1221" y="128"/>
                  </a:lnTo>
                  <a:lnTo>
                    <a:pt x="1212" y="110"/>
                  </a:lnTo>
                  <a:lnTo>
                    <a:pt x="1200" y="94"/>
                  </a:lnTo>
                  <a:lnTo>
                    <a:pt x="1192" y="80"/>
                  </a:lnTo>
                  <a:lnTo>
                    <a:pt x="1180" y="68"/>
                  </a:lnTo>
                  <a:lnTo>
                    <a:pt x="1168" y="56"/>
                  </a:lnTo>
                  <a:lnTo>
                    <a:pt x="1157" y="46"/>
                  </a:lnTo>
                  <a:lnTo>
                    <a:pt x="1151" y="44"/>
                  </a:lnTo>
                  <a:lnTo>
                    <a:pt x="1145" y="42"/>
                  </a:lnTo>
                  <a:lnTo>
                    <a:pt x="1136" y="40"/>
                  </a:lnTo>
                  <a:lnTo>
                    <a:pt x="1131" y="38"/>
                  </a:lnTo>
                  <a:lnTo>
                    <a:pt x="1122" y="36"/>
                  </a:lnTo>
                  <a:lnTo>
                    <a:pt x="1113" y="36"/>
                  </a:lnTo>
                  <a:lnTo>
                    <a:pt x="1104" y="36"/>
                  </a:lnTo>
                  <a:lnTo>
                    <a:pt x="1096" y="34"/>
                  </a:lnTo>
                  <a:lnTo>
                    <a:pt x="1087" y="34"/>
                  </a:lnTo>
                  <a:lnTo>
                    <a:pt x="1078" y="34"/>
                  </a:lnTo>
                  <a:lnTo>
                    <a:pt x="1069" y="36"/>
                  </a:lnTo>
                  <a:lnTo>
                    <a:pt x="1061" y="36"/>
                  </a:lnTo>
                  <a:lnTo>
                    <a:pt x="1052" y="36"/>
                  </a:lnTo>
                  <a:lnTo>
                    <a:pt x="1046" y="38"/>
                  </a:lnTo>
                  <a:lnTo>
                    <a:pt x="1038" y="38"/>
                  </a:lnTo>
                  <a:lnTo>
                    <a:pt x="1032" y="40"/>
                  </a:lnTo>
                  <a:lnTo>
                    <a:pt x="1023" y="44"/>
                  </a:lnTo>
                  <a:lnTo>
                    <a:pt x="1014" y="46"/>
                  </a:lnTo>
                  <a:lnTo>
                    <a:pt x="1003" y="46"/>
                  </a:lnTo>
                  <a:lnTo>
                    <a:pt x="994" y="46"/>
                  </a:lnTo>
                  <a:lnTo>
                    <a:pt x="982" y="46"/>
                  </a:lnTo>
                  <a:lnTo>
                    <a:pt x="968" y="44"/>
                  </a:lnTo>
                  <a:lnTo>
                    <a:pt x="956" y="42"/>
                  </a:lnTo>
                  <a:lnTo>
                    <a:pt x="944" y="40"/>
                  </a:lnTo>
                  <a:lnTo>
                    <a:pt x="930" y="36"/>
                  </a:lnTo>
                  <a:lnTo>
                    <a:pt x="918" y="34"/>
                  </a:lnTo>
                  <a:lnTo>
                    <a:pt x="904" y="30"/>
                  </a:lnTo>
                  <a:lnTo>
                    <a:pt x="892" y="28"/>
                  </a:lnTo>
                  <a:lnTo>
                    <a:pt x="881" y="24"/>
                  </a:lnTo>
                  <a:lnTo>
                    <a:pt x="869" y="22"/>
                  </a:lnTo>
                  <a:lnTo>
                    <a:pt x="860" y="20"/>
                  </a:lnTo>
                  <a:lnTo>
                    <a:pt x="851" y="20"/>
                  </a:lnTo>
                  <a:lnTo>
                    <a:pt x="846" y="20"/>
                  </a:lnTo>
                  <a:lnTo>
                    <a:pt x="840" y="22"/>
                  </a:lnTo>
                  <a:lnTo>
                    <a:pt x="837" y="22"/>
                  </a:lnTo>
                  <a:lnTo>
                    <a:pt x="831" y="24"/>
                  </a:lnTo>
                  <a:lnTo>
                    <a:pt x="828" y="24"/>
                  </a:lnTo>
                  <a:lnTo>
                    <a:pt x="825" y="26"/>
                  </a:lnTo>
                  <a:lnTo>
                    <a:pt x="819" y="28"/>
                  </a:lnTo>
                  <a:lnTo>
                    <a:pt x="817" y="30"/>
                  </a:lnTo>
                  <a:lnTo>
                    <a:pt x="811" y="28"/>
                  </a:lnTo>
                  <a:lnTo>
                    <a:pt x="802" y="28"/>
                  </a:lnTo>
                  <a:lnTo>
                    <a:pt x="790" y="26"/>
                  </a:lnTo>
                  <a:lnTo>
                    <a:pt x="779" y="26"/>
                  </a:lnTo>
                  <a:lnTo>
                    <a:pt x="767" y="26"/>
                  </a:lnTo>
                  <a:lnTo>
                    <a:pt x="756" y="26"/>
                  </a:lnTo>
                  <a:lnTo>
                    <a:pt x="744" y="26"/>
                  </a:lnTo>
                  <a:lnTo>
                    <a:pt x="732" y="24"/>
                  </a:lnTo>
                  <a:lnTo>
                    <a:pt x="718" y="24"/>
                  </a:lnTo>
                  <a:lnTo>
                    <a:pt x="706" y="24"/>
                  </a:lnTo>
                  <a:lnTo>
                    <a:pt x="694" y="24"/>
                  </a:lnTo>
                  <a:lnTo>
                    <a:pt x="686" y="22"/>
                  </a:lnTo>
                  <a:lnTo>
                    <a:pt x="677" y="22"/>
                  </a:lnTo>
                  <a:lnTo>
                    <a:pt x="671" y="20"/>
                  </a:lnTo>
                  <a:lnTo>
                    <a:pt x="665" y="18"/>
                  </a:lnTo>
                  <a:lnTo>
                    <a:pt x="663" y="16"/>
                  </a:lnTo>
                  <a:lnTo>
                    <a:pt x="660" y="16"/>
                  </a:lnTo>
                  <a:lnTo>
                    <a:pt x="657" y="14"/>
                  </a:lnTo>
                  <a:lnTo>
                    <a:pt x="654" y="12"/>
                  </a:lnTo>
                  <a:lnTo>
                    <a:pt x="651" y="12"/>
                  </a:lnTo>
                  <a:lnTo>
                    <a:pt x="648" y="10"/>
                  </a:lnTo>
                  <a:lnTo>
                    <a:pt x="645" y="8"/>
                  </a:lnTo>
                  <a:lnTo>
                    <a:pt x="642" y="8"/>
                  </a:lnTo>
                  <a:lnTo>
                    <a:pt x="639" y="6"/>
                  </a:lnTo>
                  <a:lnTo>
                    <a:pt x="633" y="4"/>
                  </a:lnTo>
                  <a:lnTo>
                    <a:pt x="628" y="4"/>
                  </a:lnTo>
                  <a:lnTo>
                    <a:pt x="622" y="2"/>
                  </a:lnTo>
                  <a:lnTo>
                    <a:pt x="616" y="0"/>
                  </a:lnTo>
                  <a:lnTo>
                    <a:pt x="610" y="0"/>
                  </a:lnTo>
                  <a:lnTo>
                    <a:pt x="601" y="0"/>
                  </a:lnTo>
                  <a:lnTo>
                    <a:pt x="596" y="0"/>
                  </a:lnTo>
                  <a:lnTo>
                    <a:pt x="590" y="0"/>
                  </a:lnTo>
                  <a:lnTo>
                    <a:pt x="584" y="0"/>
                  </a:lnTo>
                  <a:lnTo>
                    <a:pt x="575" y="2"/>
                  </a:lnTo>
                  <a:lnTo>
                    <a:pt x="569" y="4"/>
                  </a:lnTo>
                  <a:lnTo>
                    <a:pt x="564" y="6"/>
                  </a:lnTo>
                  <a:lnTo>
                    <a:pt x="561" y="8"/>
                  </a:lnTo>
                  <a:lnTo>
                    <a:pt x="555" y="10"/>
                  </a:lnTo>
                  <a:lnTo>
                    <a:pt x="549" y="12"/>
                  </a:lnTo>
                  <a:lnTo>
                    <a:pt x="543" y="16"/>
                  </a:lnTo>
                  <a:lnTo>
                    <a:pt x="540" y="14"/>
                  </a:lnTo>
                  <a:lnTo>
                    <a:pt x="535" y="14"/>
                  </a:lnTo>
                  <a:lnTo>
                    <a:pt x="529" y="14"/>
                  </a:lnTo>
                  <a:lnTo>
                    <a:pt x="523" y="12"/>
                  </a:lnTo>
                  <a:lnTo>
                    <a:pt x="520" y="12"/>
                  </a:lnTo>
                  <a:lnTo>
                    <a:pt x="514" y="12"/>
                  </a:lnTo>
                  <a:lnTo>
                    <a:pt x="508" y="12"/>
                  </a:lnTo>
                  <a:lnTo>
                    <a:pt x="506" y="12"/>
                  </a:lnTo>
                  <a:lnTo>
                    <a:pt x="500" y="12"/>
                  </a:lnTo>
                  <a:lnTo>
                    <a:pt x="494" y="12"/>
                  </a:lnTo>
                  <a:lnTo>
                    <a:pt x="488" y="10"/>
                  </a:lnTo>
                  <a:lnTo>
                    <a:pt x="485" y="10"/>
                  </a:lnTo>
                  <a:lnTo>
                    <a:pt x="479" y="10"/>
                  </a:lnTo>
                  <a:lnTo>
                    <a:pt x="474" y="10"/>
                  </a:lnTo>
                  <a:lnTo>
                    <a:pt x="471" y="12"/>
                  </a:lnTo>
                  <a:lnTo>
                    <a:pt x="465" y="12"/>
                  </a:lnTo>
                  <a:lnTo>
                    <a:pt x="462" y="10"/>
                  </a:lnTo>
                  <a:lnTo>
                    <a:pt x="462" y="10"/>
                  </a:lnTo>
                  <a:lnTo>
                    <a:pt x="459" y="8"/>
                  </a:lnTo>
                  <a:lnTo>
                    <a:pt x="459" y="6"/>
                  </a:lnTo>
                  <a:lnTo>
                    <a:pt x="444" y="8"/>
                  </a:lnTo>
                  <a:lnTo>
                    <a:pt x="430" y="10"/>
                  </a:lnTo>
                  <a:lnTo>
                    <a:pt x="418" y="14"/>
                  </a:lnTo>
                  <a:lnTo>
                    <a:pt x="404" y="18"/>
                  </a:lnTo>
                  <a:lnTo>
                    <a:pt x="392" y="24"/>
                  </a:lnTo>
                  <a:lnTo>
                    <a:pt x="381" y="32"/>
                  </a:lnTo>
                  <a:lnTo>
                    <a:pt x="372" y="40"/>
                  </a:lnTo>
                  <a:lnTo>
                    <a:pt x="363" y="50"/>
                  </a:lnTo>
                  <a:lnTo>
                    <a:pt x="354" y="58"/>
                  </a:lnTo>
                  <a:lnTo>
                    <a:pt x="346" y="68"/>
                  </a:lnTo>
                  <a:lnTo>
                    <a:pt x="337" y="78"/>
                  </a:lnTo>
                  <a:lnTo>
                    <a:pt x="331" y="88"/>
                  </a:lnTo>
                  <a:lnTo>
                    <a:pt x="325" y="98"/>
                  </a:lnTo>
                  <a:lnTo>
                    <a:pt x="319" y="108"/>
                  </a:lnTo>
                  <a:lnTo>
                    <a:pt x="317" y="116"/>
                  </a:lnTo>
                  <a:lnTo>
                    <a:pt x="314" y="124"/>
                  </a:lnTo>
                  <a:lnTo>
                    <a:pt x="308" y="130"/>
                  </a:lnTo>
                  <a:lnTo>
                    <a:pt x="302" y="138"/>
                  </a:lnTo>
                  <a:lnTo>
                    <a:pt x="296" y="146"/>
                  </a:lnTo>
                  <a:lnTo>
                    <a:pt x="293" y="154"/>
                  </a:lnTo>
                  <a:lnTo>
                    <a:pt x="287" y="160"/>
                  </a:lnTo>
                  <a:lnTo>
                    <a:pt x="282" y="170"/>
                  </a:lnTo>
                  <a:lnTo>
                    <a:pt x="276" y="178"/>
                  </a:lnTo>
                  <a:lnTo>
                    <a:pt x="270" y="186"/>
                  </a:lnTo>
                  <a:lnTo>
                    <a:pt x="264" y="194"/>
                  </a:lnTo>
                  <a:lnTo>
                    <a:pt x="261" y="202"/>
                  </a:lnTo>
                  <a:lnTo>
                    <a:pt x="256" y="212"/>
                  </a:lnTo>
                  <a:lnTo>
                    <a:pt x="253" y="220"/>
                  </a:lnTo>
                  <a:lnTo>
                    <a:pt x="247" y="228"/>
                  </a:lnTo>
                  <a:lnTo>
                    <a:pt x="244" y="236"/>
                  </a:lnTo>
                  <a:lnTo>
                    <a:pt x="241" y="242"/>
                  </a:lnTo>
                  <a:lnTo>
                    <a:pt x="238" y="250"/>
                  </a:lnTo>
                  <a:lnTo>
                    <a:pt x="229" y="268"/>
                  </a:lnTo>
                  <a:lnTo>
                    <a:pt x="224" y="286"/>
                  </a:lnTo>
                  <a:lnTo>
                    <a:pt x="218" y="304"/>
                  </a:lnTo>
                  <a:lnTo>
                    <a:pt x="212" y="322"/>
                  </a:lnTo>
                  <a:lnTo>
                    <a:pt x="206" y="340"/>
                  </a:lnTo>
                  <a:lnTo>
                    <a:pt x="197" y="356"/>
                  </a:lnTo>
                  <a:lnTo>
                    <a:pt x="192" y="374"/>
                  </a:lnTo>
                  <a:lnTo>
                    <a:pt x="186" y="392"/>
                  </a:lnTo>
                  <a:lnTo>
                    <a:pt x="180" y="410"/>
                  </a:lnTo>
                  <a:lnTo>
                    <a:pt x="174" y="428"/>
                  </a:lnTo>
                  <a:lnTo>
                    <a:pt x="168" y="446"/>
                  </a:lnTo>
                  <a:lnTo>
                    <a:pt x="162" y="464"/>
                  </a:lnTo>
                  <a:lnTo>
                    <a:pt x="157" y="482"/>
                  </a:lnTo>
                  <a:lnTo>
                    <a:pt x="151" y="500"/>
                  </a:lnTo>
                  <a:lnTo>
                    <a:pt x="148" y="518"/>
                  </a:lnTo>
                  <a:lnTo>
                    <a:pt x="142" y="536"/>
                  </a:lnTo>
                  <a:lnTo>
                    <a:pt x="139" y="548"/>
                  </a:lnTo>
                  <a:lnTo>
                    <a:pt x="133" y="562"/>
                  </a:lnTo>
                  <a:lnTo>
                    <a:pt x="130" y="574"/>
                  </a:lnTo>
                  <a:lnTo>
                    <a:pt x="125" y="588"/>
                  </a:lnTo>
                  <a:lnTo>
                    <a:pt x="122" y="600"/>
                  </a:lnTo>
                  <a:lnTo>
                    <a:pt x="116" y="614"/>
                  </a:lnTo>
                  <a:lnTo>
                    <a:pt x="113" y="626"/>
                  </a:lnTo>
                  <a:lnTo>
                    <a:pt x="107" y="640"/>
                  </a:lnTo>
                  <a:lnTo>
                    <a:pt x="101" y="652"/>
                  </a:lnTo>
                  <a:lnTo>
                    <a:pt x="99" y="666"/>
                  </a:lnTo>
                  <a:lnTo>
                    <a:pt x="93" y="678"/>
                  </a:lnTo>
                  <a:lnTo>
                    <a:pt x="90" y="692"/>
                  </a:lnTo>
                  <a:lnTo>
                    <a:pt x="84" y="706"/>
                  </a:lnTo>
                  <a:lnTo>
                    <a:pt x="81" y="718"/>
                  </a:lnTo>
                  <a:lnTo>
                    <a:pt x="78" y="732"/>
                  </a:lnTo>
                  <a:lnTo>
                    <a:pt x="75" y="744"/>
                  </a:lnTo>
                  <a:lnTo>
                    <a:pt x="69" y="756"/>
                  </a:lnTo>
                  <a:lnTo>
                    <a:pt x="67" y="766"/>
                  </a:lnTo>
                  <a:lnTo>
                    <a:pt x="64" y="778"/>
                  </a:lnTo>
                  <a:lnTo>
                    <a:pt x="61" y="788"/>
                  </a:lnTo>
                  <a:lnTo>
                    <a:pt x="58" y="800"/>
                  </a:lnTo>
                  <a:lnTo>
                    <a:pt x="58" y="812"/>
                  </a:lnTo>
                  <a:lnTo>
                    <a:pt x="55" y="822"/>
                  </a:lnTo>
                  <a:lnTo>
                    <a:pt x="52" y="834"/>
                  </a:lnTo>
                  <a:lnTo>
                    <a:pt x="49" y="844"/>
                  </a:lnTo>
                  <a:lnTo>
                    <a:pt x="46" y="856"/>
                  </a:lnTo>
                  <a:lnTo>
                    <a:pt x="40" y="866"/>
                  </a:lnTo>
                  <a:lnTo>
                    <a:pt x="37" y="876"/>
                  </a:lnTo>
                  <a:lnTo>
                    <a:pt x="32" y="886"/>
                  </a:lnTo>
                  <a:lnTo>
                    <a:pt x="23" y="894"/>
                  </a:lnTo>
                  <a:lnTo>
                    <a:pt x="14" y="904"/>
                  </a:lnTo>
                  <a:lnTo>
                    <a:pt x="5" y="912"/>
                  </a:lnTo>
                  <a:lnTo>
                    <a:pt x="3" y="922"/>
                  </a:lnTo>
                  <a:lnTo>
                    <a:pt x="3" y="930"/>
                  </a:lnTo>
                  <a:lnTo>
                    <a:pt x="0" y="938"/>
                  </a:lnTo>
                  <a:lnTo>
                    <a:pt x="0" y="946"/>
                  </a:lnTo>
                  <a:lnTo>
                    <a:pt x="0" y="954"/>
                  </a:lnTo>
                  <a:lnTo>
                    <a:pt x="3" y="960"/>
                  </a:lnTo>
                  <a:lnTo>
                    <a:pt x="3" y="968"/>
                  </a:lnTo>
                  <a:lnTo>
                    <a:pt x="5" y="974"/>
                  </a:lnTo>
                  <a:lnTo>
                    <a:pt x="11" y="980"/>
                  </a:lnTo>
                  <a:lnTo>
                    <a:pt x="14" y="984"/>
                  </a:lnTo>
                  <a:lnTo>
                    <a:pt x="20" y="990"/>
                  </a:lnTo>
                  <a:lnTo>
                    <a:pt x="29" y="994"/>
                  </a:lnTo>
                  <a:lnTo>
                    <a:pt x="37" y="1000"/>
                  </a:lnTo>
                  <a:lnTo>
                    <a:pt x="49" y="1004"/>
                  </a:lnTo>
                  <a:lnTo>
                    <a:pt x="58" y="1008"/>
                  </a:lnTo>
                  <a:lnTo>
                    <a:pt x="72" y="1010"/>
                  </a:lnTo>
                  <a:lnTo>
                    <a:pt x="84" y="1010"/>
                  </a:lnTo>
                  <a:lnTo>
                    <a:pt x="96" y="1010"/>
                  </a:lnTo>
                  <a:lnTo>
                    <a:pt x="104" y="1010"/>
                  </a:lnTo>
                  <a:lnTo>
                    <a:pt x="113" y="1008"/>
                  </a:lnTo>
                  <a:lnTo>
                    <a:pt x="119" y="1008"/>
                  </a:lnTo>
                  <a:lnTo>
                    <a:pt x="125" y="1006"/>
                  </a:lnTo>
                  <a:lnTo>
                    <a:pt x="128" y="1004"/>
                  </a:lnTo>
                  <a:lnTo>
                    <a:pt x="130" y="1002"/>
                  </a:lnTo>
                  <a:lnTo>
                    <a:pt x="136" y="1000"/>
                  </a:lnTo>
                  <a:lnTo>
                    <a:pt x="139" y="998"/>
                  </a:lnTo>
                  <a:lnTo>
                    <a:pt x="142" y="994"/>
                  </a:lnTo>
                  <a:lnTo>
                    <a:pt x="145" y="992"/>
                  </a:lnTo>
                  <a:lnTo>
                    <a:pt x="148" y="988"/>
                  </a:lnTo>
                  <a:lnTo>
                    <a:pt x="154" y="984"/>
                  </a:lnTo>
                  <a:lnTo>
                    <a:pt x="157" y="980"/>
                  </a:lnTo>
                  <a:lnTo>
                    <a:pt x="165" y="976"/>
                  </a:lnTo>
                  <a:lnTo>
                    <a:pt x="151" y="942"/>
                  </a:lnTo>
                  <a:lnTo>
                    <a:pt x="125" y="930"/>
                  </a:lnTo>
                  <a:lnTo>
                    <a:pt x="128" y="922"/>
                  </a:lnTo>
                  <a:lnTo>
                    <a:pt x="130" y="912"/>
                  </a:lnTo>
                  <a:lnTo>
                    <a:pt x="133" y="902"/>
                  </a:lnTo>
                  <a:lnTo>
                    <a:pt x="136" y="892"/>
                  </a:lnTo>
                  <a:lnTo>
                    <a:pt x="142" y="880"/>
                  </a:lnTo>
                  <a:lnTo>
                    <a:pt x="145" y="870"/>
                  </a:lnTo>
                  <a:lnTo>
                    <a:pt x="148" y="860"/>
                  </a:lnTo>
                  <a:lnTo>
                    <a:pt x="151" y="854"/>
                  </a:lnTo>
                  <a:lnTo>
                    <a:pt x="154" y="836"/>
                  </a:lnTo>
                  <a:lnTo>
                    <a:pt x="157" y="816"/>
                  </a:lnTo>
                  <a:lnTo>
                    <a:pt x="162" y="796"/>
                  </a:lnTo>
                  <a:lnTo>
                    <a:pt x="168" y="774"/>
                  </a:lnTo>
                  <a:lnTo>
                    <a:pt x="174" y="754"/>
                  </a:lnTo>
                  <a:lnTo>
                    <a:pt x="183" y="734"/>
                  </a:lnTo>
                  <a:lnTo>
                    <a:pt x="192" y="714"/>
                  </a:lnTo>
                  <a:lnTo>
                    <a:pt x="200" y="698"/>
                  </a:lnTo>
                  <a:lnTo>
                    <a:pt x="206" y="674"/>
                  </a:lnTo>
                  <a:lnTo>
                    <a:pt x="212" y="650"/>
                  </a:lnTo>
                  <a:lnTo>
                    <a:pt x="218" y="624"/>
                  </a:lnTo>
                  <a:lnTo>
                    <a:pt x="224" y="596"/>
                  </a:lnTo>
                  <a:lnTo>
                    <a:pt x="229" y="568"/>
                  </a:lnTo>
                  <a:lnTo>
                    <a:pt x="235" y="540"/>
                  </a:lnTo>
                  <a:lnTo>
                    <a:pt x="241" y="512"/>
                  </a:lnTo>
                  <a:lnTo>
                    <a:pt x="247" y="484"/>
                  </a:lnTo>
                  <a:lnTo>
                    <a:pt x="256" y="454"/>
                  </a:lnTo>
                  <a:lnTo>
                    <a:pt x="264" y="426"/>
                  </a:lnTo>
                  <a:lnTo>
                    <a:pt x="273" y="400"/>
                  </a:lnTo>
                  <a:lnTo>
                    <a:pt x="282" y="372"/>
                  </a:lnTo>
                  <a:lnTo>
                    <a:pt x="293" y="346"/>
                  </a:lnTo>
                  <a:lnTo>
                    <a:pt x="308" y="322"/>
                  </a:lnTo>
                  <a:lnTo>
                    <a:pt x="322" y="298"/>
                  </a:lnTo>
                  <a:lnTo>
                    <a:pt x="340" y="278"/>
                  </a:lnTo>
                  <a:lnTo>
                    <a:pt x="340" y="266"/>
                  </a:lnTo>
                  <a:lnTo>
                    <a:pt x="346" y="254"/>
                  </a:lnTo>
                  <a:lnTo>
                    <a:pt x="351" y="240"/>
                  </a:lnTo>
                  <a:lnTo>
                    <a:pt x="360" y="226"/>
                  </a:lnTo>
                  <a:lnTo>
                    <a:pt x="366" y="212"/>
                  </a:lnTo>
                  <a:lnTo>
                    <a:pt x="375" y="198"/>
                  </a:lnTo>
                  <a:lnTo>
                    <a:pt x="381" y="186"/>
                  </a:lnTo>
                  <a:lnTo>
                    <a:pt x="386" y="174"/>
                  </a:lnTo>
                  <a:lnTo>
                    <a:pt x="392" y="164"/>
                  </a:lnTo>
                  <a:lnTo>
                    <a:pt x="398" y="150"/>
                  </a:lnTo>
                  <a:lnTo>
                    <a:pt x="401" y="134"/>
                  </a:lnTo>
                  <a:lnTo>
                    <a:pt x="407" y="118"/>
                  </a:lnTo>
                  <a:lnTo>
                    <a:pt x="412" y="102"/>
                  </a:lnTo>
                  <a:lnTo>
                    <a:pt x="418" y="88"/>
                  </a:lnTo>
                  <a:lnTo>
                    <a:pt x="427" y="78"/>
                  </a:lnTo>
                  <a:lnTo>
                    <a:pt x="439" y="70"/>
                  </a:lnTo>
                  <a:lnTo>
                    <a:pt x="447" y="72"/>
                  </a:lnTo>
                  <a:lnTo>
                    <a:pt x="453" y="74"/>
                  </a:lnTo>
                  <a:lnTo>
                    <a:pt x="459" y="78"/>
                  </a:lnTo>
                  <a:lnTo>
                    <a:pt x="465" y="82"/>
                  </a:lnTo>
                  <a:lnTo>
                    <a:pt x="471" y="84"/>
                  </a:lnTo>
                  <a:lnTo>
                    <a:pt x="474" y="88"/>
                  </a:lnTo>
                  <a:lnTo>
                    <a:pt x="476" y="92"/>
                  </a:lnTo>
                  <a:lnTo>
                    <a:pt x="482" y="94"/>
                  </a:lnTo>
                  <a:lnTo>
                    <a:pt x="485" y="98"/>
                  </a:lnTo>
                  <a:lnTo>
                    <a:pt x="488" y="102"/>
                  </a:lnTo>
                  <a:lnTo>
                    <a:pt x="494" y="106"/>
                  </a:lnTo>
                  <a:lnTo>
                    <a:pt x="497" y="108"/>
                  </a:lnTo>
                  <a:lnTo>
                    <a:pt x="500" y="112"/>
                  </a:lnTo>
                  <a:lnTo>
                    <a:pt x="506" y="114"/>
                  </a:lnTo>
                  <a:lnTo>
                    <a:pt x="508" y="116"/>
                  </a:lnTo>
                  <a:lnTo>
                    <a:pt x="514" y="118"/>
                  </a:lnTo>
                  <a:lnTo>
                    <a:pt x="506" y="126"/>
                  </a:lnTo>
                  <a:lnTo>
                    <a:pt x="500" y="134"/>
                  </a:lnTo>
                  <a:lnTo>
                    <a:pt x="497" y="140"/>
                  </a:lnTo>
                  <a:lnTo>
                    <a:pt x="497" y="146"/>
                  </a:lnTo>
                  <a:lnTo>
                    <a:pt x="494" y="152"/>
                  </a:lnTo>
                  <a:lnTo>
                    <a:pt x="491" y="158"/>
                  </a:lnTo>
                  <a:lnTo>
                    <a:pt x="485" y="162"/>
                  </a:lnTo>
                  <a:lnTo>
                    <a:pt x="476" y="168"/>
                  </a:lnTo>
                  <a:lnTo>
                    <a:pt x="471" y="172"/>
                  </a:lnTo>
                  <a:lnTo>
                    <a:pt x="468" y="180"/>
                  </a:lnTo>
                  <a:lnTo>
                    <a:pt x="462" y="188"/>
                  </a:lnTo>
                  <a:lnTo>
                    <a:pt x="459" y="200"/>
                  </a:lnTo>
                  <a:lnTo>
                    <a:pt x="453" y="212"/>
                  </a:lnTo>
                  <a:lnTo>
                    <a:pt x="450" y="224"/>
                  </a:lnTo>
                  <a:lnTo>
                    <a:pt x="444" y="238"/>
                  </a:lnTo>
                  <a:lnTo>
                    <a:pt x="439" y="252"/>
                  </a:lnTo>
                  <a:lnTo>
                    <a:pt x="436" y="266"/>
                  </a:lnTo>
                  <a:lnTo>
                    <a:pt x="433" y="280"/>
                  </a:lnTo>
                  <a:lnTo>
                    <a:pt x="430" y="292"/>
                  </a:lnTo>
                  <a:lnTo>
                    <a:pt x="427" y="304"/>
                  </a:lnTo>
                  <a:lnTo>
                    <a:pt x="424" y="314"/>
                  </a:lnTo>
                  <a:lnTo>
                    <a:pt x="424" y="322"/>
                  </a:lnTo>
                  <a:lnTo>
                    <a:pt x="421" y="328"/>
                  </a:lnTo>
                  <a:lnTo>
                    <a:pt x="424" y="332"/>
                  </a:lnTo>
                  <a:lnTo>
                    <a:pt x="424" y="340"/>
                  </a:lnTo>
                  <a:lnTo>
                    <a:pt x="421" y="348"/>
                  </a:lnTo>
                  <a:lnTo>
                    <a:pt x="415" y="360"/>
                  </a:lnTo>
                  <a:lnTo>
                    <a:pt x="407" y="370"/>
                  </a:lnTo>
                  <a:lnTo>
                    <a:pt x="401" y="382"/>
                  </a:lnTo>
                  <a:lnTo>
                    <a:pt x="395" y="392"/>
                  </a:lnTo>
                  <a:lnTo>
                    <a:pt x="395" y="402"/>
                  </a:lnTo>
                  <a:lnTo>
                    <a:pt x="398" y="408"/>
                  </a:lnTo>
                  <a:lnTo>
                    <a:pt x="398" y="412"/>
                  </a:lnTo>
                  <a:lnTo>
                    <a:pt x="392" y="420"/>
                  </a:lnTo>
                  <a:lnTo>
                    <a:pt x="386" y="432"/>
                  </a:lnTo>
                  <a:lnTo>
                    <a:pt x="381" y="446"/>
                  </a:lnTo>
                  <a:lnTo>
                    <a:pt x="375" y="462"/>
                  </a:lnTo>
                  <a:lnTo>
                    <a:pt x="369" y="476"/>
                  </a:lnTo>
                  <a:lnTo>
                    <a:pt x="366" y="488"/>
                  </a:lnTo>
                  <a:lnTo>
                    <a:pt x="366" y="496"/>
                  </a:lnTo>
                  <a:lnTo>
                    <a:pt x="369" y="498"/>
                  </a:lnTo>
                  <a:lnTo>
                    <a:pt x="369" y="502"/>
                  </a:lnTo>
                  <a:lnTo>
                    <a:pt x="366" y="504"/>
                  </a:lnTo>
                  <a:lnTo>
                    <a:pt x="363" y="508"/>
                  </a:lnTo>
                  <a:lnTo>
                    <a:pt x="360" y="514"/>
                  </a:lnTo>
                  <a:lnTo>
                    <a:pt x="357" y="518"/>
                  </a:lnTo>
                  <a:lnTo>
                    <a:pt x="351" y="524"/>
                  </a:lnTo>
                  <a:lnTo>
                    <a:pt x="349" y="528"/>
                  </a:lnTo>
                  <a:lnTo>
                    <a:pt x="343" y="534"/>
                  </a:lnTo>
                  <a:lnTo>
                    <a:pt x="337" y="538"/>
                  </a:lnTo>
                  <a:lnTo>
                    <a:pt x="334" y="544"/>
                  </a:lnTo>
                  <a:lnTo>
                    <a:pt x="328" y="548"/>
                  </a:lnTo>
                  <a:lnTo>
                    <a:pt x="325" y="552"/>
                  </a:lnTo>
                  <a:lnTo>
                    <a:pt x="322" y="558"/>
                  </a:lnTo>
                  <a:lnTo>
                    <a:pt x="322" y="560"/>
                  </a:lnTo>
                  <a:lnTo>
                    <a:pt x="322" y="564"/>
                  </a:lnTo>
                  <a:lnTo>
                    <a:pt x="308" y="568"/>
                  </a:lnTo>
                  <a:lnTo>
                    <a:pt x="299" y="572"/>
                  </a:lnTo>
                  <a:lnTo>
                    <a:pt x="293" y="574"/>
                  </a:lnTo>
                  <a:lnTo>
                    <a:pt x="287" y="578"/>
                  </a:lnTo>
                  <a:lnTo>
                    <a:pt x="287" y="582"/>
                  </a:lnTo>
                  <a:lnTo>
                    <a:pt x="285" y="588"/>
                  </a:lnTo>
                  <a:lnTo>
                    <a:pt x="287" y="596"/>
                  </a:lnTo>
                  <a:lnTo>
                    <a:pt x="290" y="606"/>
                  </a:lnTo>
                  <a:lnTo>
                    <a:pt x="276" y="604"/>
                  </a:lnTo>
                  <a:lnTo>
                    <a:pt x="267" y="606"/>
                  </a:lnTo>
                  <a:lnTo>
                    <a:pt x="261" y="608"/>
                  </a:lnTo>
                  <a:lnTo>
                    <a:pt x="261" y="612"/>
                  </a:lnTo>
                  <a:lnTo>
                    <a:pt x="261" y="616"/>
                  </a:lnTo>
                  <a:lnTo>
                    <a:pt x="264" y="622"/>
                  </a:lnTo>
                  <a:lnTo>
                    <a:pt x="267" y="628"/>
                  </a:lnTo>
                  <a:lnTo>
                    <a:pt x="273" y="632"/>
                  </a:lnTo>
                  <a:lnTo>
                    <a:pt x="279" y="638"/>
                  </a:lnTo>
                  <a:lnTo>
                    <a:pt x="287" y="642"/>
                  </a:lnTo>
                  <a:lnTo>
                    <a:pt x="293" y="644"/>
                  </a:lnTo>
                  <a:lnTo>
                    <a:pt x="299" y="644"/>
                  </a:lnTo>
                  <a:lnTo>
                    <a:pt x="302" y="640"/>
                  </a:lnTo>
                  <a:lnTo>
                    <a:pt x="305" y="636"/>
                  </a:lnTo>
                  <a:lnTo>
                    <a:pt x="305" y="626"/>
                  </a:lnTo>
                  <a:lnTo>
                    <a:pt x="302" y="614"/>
                  </a:lnTo>
                  <a:lnTo>
                    <a:pt x="308" y="612"/>
                  </a:lnTo>
                  <a:lnTo>
                    <a:pt x="314" y="612"/>
                  </a:lnTo>
                  <a:lnTo>
                    <a:pt x="317" y="610"/>
                  </a:lnTo>
                  <a:lnTo>
                    <a:pt x="322" y="608"/>
                  </a:lnTo>
                  <a:lnTo>
                    <a:pt x="325" y="606"/>
                  </a:lnTo>
                  <a:lnTo>
                    <a:pt x="325" y="604"/>
                  </a:lnTo>
                  <a:lnTo>
                    <a:pt x="328" y="604"/>
                  </a:lnTo>
                  <a:lnTo>
                    <a:pt x="331" y="602"/>
                  </a:lnTo>
                  <a:lnTo>
                    <a:pt x="331" y="600"/>
                  </a:lnTo>
                  <a:lnTo>
                    <a:pt x="334" y="598"/>
                  </a:lnTo>
                  <a:lnTo>
                    <a:pt x="337" y="598"/>
                  </a:lnTo>
                  <a:lnTo>
                    <a:pt x="340" y="596"/>
                  </a:lnTo>
                  <a:lnTo>
                    <a:pt x="343" y="596"/>
                  </a:lnTo>
                  <a:lnTo>
                    <a:pt x="349" y="596"/>
                  </a:lnTo>
                  <a:lnTo>
                    <a:pt x="354" y="596"/>
                  </a:lnTo>
                  <a:lnTo>
                    <a:pt x="363" y="596"/>
                  </a:lnTo>
                  <a:lnTo>
                    <a:pt x="366" y="600"/>
                  </a:lnTo>
                  <a:lnTo>
                    <a:pt x="369" y="604"/>
                  </a:lnTo>
                  <a:lnTo>
                    <a:pt x="369" y="606"/>
                  </a:lnTo>
                  <a:lnTo>
                    <a:pt x="372" y="608"/>
                  </a:lnTo>
                  <a:lnTo>
                    <a:pt x="375" y="608"/>
                  </a:lnTo>
                  <a:lnTo>
                    <a:pt x="381" y="608"/>
                  </a:lnTo>
                  <a:lnTo>
                    <a:pt x="386" y="608"/>
                  </a:lnTo>
                  <a:lnTo>
                    <a:pt x="392" y="606"/>
                  </a:lnTo>
                  <a:lnTo>
                    <a:pt x="395" y="602"/>
                  </a:lnTo>
                  <a:lnTo>
                    <a:pt x="395" y="594"/>
                  </a:lnTo>
                  <a:lnTo>
                    <a:pt x="395" y="586"/>
                  </a:lnTo>
                  <a:lnTo>
                    <a:pt x="395" y="578"/>
                  </a:lnTo>
                  <a:lnTo>
                    <a:pt x="395" y="570"/>
                  </a:lnTo>
                  <a:lnTo>
                    <a:pt x="392" y="562"/>
                  </a:lnTo>
                  <a:lnTo>
                    <a:pt x="389" y="556"/>
                  </a:lnTo>
                  <a:lnTo>
                    <a:pt x="386" y="550"/>
                  </a:lnTo>
                  <a:lnTo>
                    <a:pt x="398" y="542"/>
                  </a:lnTo>
                  <a:lnTo>
                    <a:pt x="407" y="536"/>
                  </a:lnTo>
                  <a:lnTo>
                    <a:pt x="412" y="528"/>
                  </a:lnTo>
                  <a:lnTo>
                    <a:pt x="418" y="522"/>
                  </a:lnTo>
                  <a:lnTo>
                    <a:pt x="418" y="516"/>
                  </a:lnTo>
                  <a:lnTo>
                    <a:pt x="421" y="512"/>
                  </a:lnTo>
                  <a:lnTo>
                    <a:pt x="421" y="508"/>
                  </a:lnTo>
                  <a:lnTo>
                    <a:pt x="421" y="506"/>
                  </a:lnTo>
                  <a:lnTo>
                    <a:pt x="436" y="498"/>
                  </a:lnTo>
                  <a:lnTo>
                    <a:pt x="444" y="492"/>
                  </a:lnTo>
                  <a:lnTo>
                    <a:pt x="447" y="486"/>
                  </a:lnTo>
                  <a:lnTo>
                    <a:pt x="444" y="480"/>
                  </a:lnTo>
                  <a:lnTo>
                    <a:pt x="442" y="476"/>
                  </a:lnTo>
                  <a:lnTo>
                    <a:pt x="439" y="472"/>
                  </a:lnTo>
                  <a:lnTo>
                    <a:pt x="436" y="468"/>
                  </a:lnTo>
                  <a:lnTo>
                    <a:pt x="436" y="466"/>
                  </a:lnTo>
                  <a:lnTo>
                    <a:pt x="447" y="460"/>
                  </a:lnTo>
                  <a:lnTo>
                    <a:pt x="456" y="454"/>
                  </a:lnTo>
                  <a:lnTo>
                    <a:pt x="465" y="448"/>
                  </a:lnTo>
                  <a:lnTo>
                    <a:pt x="468" y="442"/>
                  </a:lnTo>
                  <a:lnTo>
                    <a:pt x="471" y="438"/>
                  </a:lnTo>
                  <a:lnTo>
                    <a:pt x="468" y="432"/>
                  </a:lnTo>
                  <a:lnTo>
                    <a:pt x="462" y="426"/>
                  </a:lnTo>
                  <a:lnTo>
                    <a:pt x="456" y="418"/>
                  </a:lnTo>
                  <a:lnTo>
                    <a:pt x="459" y="414"/>
                  </a:lnTo>
                  <a:lnTo>
                    <a:pt x="465" y="410"/>
                  </a:lnTo>
                  <a:lnTo>
                    <a:pt x="471" y="408"/>
                  </a:lnTo>
                  <a:lnTo>
                    <a:pt x="474" y="402"/>
                  </a:lnTo>
                  <a:lnTo>
                    <a:pt x="476" y="398"/>
                  </a:lnTo>
                  <a:lnTo>
                    <a:pt x="476" y="394"/>
                  </a:lnTo>
                  <a:lnTo>
                    <a:pt x="474" y="390"/>
                  </a:lnTo>
                  <a:lnTo>
                    <a:pt x="468" y="384"/>
                  </a:lnTo>
                  <a:lnTo>
                    <a:pt x="471" y="382"/>
                  </a:lnTo>
                  <a:lnTo>
                    <a:pt x="474" y="380"/>
                  </a:lnTo>
                  <a:lnTo>
                    <a:pt x="476" y="378"/>
                  </a:lnTo>
                  <a:lnTo>
                    <a:pt x="479" y="374"/>
                  </a:lnTo>
                  <a:lnTo>
                    <a:pt x="485" y="372"/>
                  </a:lnTo>
                  <a:lnTo>
                    <a:pt x="488" y="370"/>
                  </a:lnTo>
                  <a:lnTo>
                    <a:pt x="488" y="366"/>
                  </a:lnTo>
                  <a:lnTo>
                    <a:pt x="488" y="364"/>
                  </a:lnTo>
                  <a:lnTo>
                    <a:pt x="488" y="360"/>
                  </a:lnTo>
                  <a:lnTo>
                    <a:pt x="488" y="358"/>
                  </a:lnTo>
                  <a:lnTo>
                    <a:pt x="485" y="356"/>
                  </a:lnTo>
                  <a:lnTo>
                    <a:pt x="485" y="354"/>
                  </a:lnTo>
                  <a:lnTo>
                    <a:pt x="482" y="352"/>
                  </a:lnTo>
                  <a:lnTo>
                    <a:pt x="482" y="350"/>
                  </a:lnTo>
                  <a:lnTo>
                    <a:pt x="482" y="348"/>
                  </a:lnTo>
                  <a:lnTo>
                    <a:pt x="485" y="346"/>
                  </a:lnTo>
                  <a:lnTo>
                    <a:pt x="494" y="342"/>
                  </a:lnTo>
                  <a:lnTo>
                    <a:pt x="500" y="338"/>
                  </a:lnTo>
                  <a:lnTo>
                    <a:pt x="500" y="332"/>
                  </a:lnTo>
                  <a:lnTo>
                    <a:pt x="500" y="326"/>
                  </a:lnTo>
                  <a:lnTo>
                    <a:pt x="497" y="320"/>
                  </a:lnTo>
                  <a:lnTo>
                    <a:pt x="494" y="316"/>
                  </a:lnTo>
                  <a:lnTo>
                    <a:pt x="488" y="310"/>
                  </a:lnTo>
                  <a:lnTo>
                    <a:pt x="488" y="304"/>
                  </a:lnTo>
                  <a:lnTo>
                    <a:pt x="497" y="302"/>
                  </a:lnTo>
                  <a:lnTo>
                    <a:pt x="506" y="296"/>
                  </a:lnTo>
                  <a:lnTo>
                    <a:pt x="508" y="292"/>
                  </a:lnTo>
                  <a:lnTo>
                    <a:pt x="508" y="286"/>
                  </a:lnTo>
                  <a:lnTo>
                    <a:pt x="508" y="280"/>
                  </a:lnTo>
                  <a:lnTo>
                    <a:pt x="506" y="272"/>
                  </a:lnTo>
                  <a:lnTo>
                    <a:pt x="503" y="266"/>
                  </a:lnTo>
                  <a:lnTo>
                    <a:pt x="500" y="260"/>
                  </a:lnTo>
                  <a:lnTo>
                    <a:pt x="508" y="256"/>
                  </a:lnTo>
                  <a:lnTo>
                    <a:pt x="514" y="250"/>
                  </a:lnTo>
                  <a:lnTo>
                    <a:pt x="523" y="246"/>
                  </a:lnTo>
                  <a:lnTo>
                    <a:pt x="526" y="242"/>
                  </a:lnTo>
                  <a:lnTo>
                    <a:pt x="529" y="238"/>
                  </a:lnTo>
                  <a:lnTo>
                    <a:pt x="526" y="232"/>
                  </a:lnTo>
                  <a:lnTo>
                    <a:pt x="523" y="226"/>
                  </a:lnTo>
                  <a:lnTo>
                    <a:pt x="517" y="220"/>
                  </a:lnTo>
                  <a:lnTo>
                    <a:pt x="526" y="216"/>
                  </a:lnTo>
                  <a:lnTo>
                    <a:pt x="535" y="212"/>
                  </a:lnTo>
                  <a:lnTo>
                    <a:pt x="540" y="208"/>
                  </a:lnTo>
                  <a:lnTo>
                    <a:pt x="540" y="204"/>
                  </a:lnTo>
                  <a:lnTo>
                    <a:pt x="540" y="200"/>
                  </a:lnTo>
                  <a:lnTo>
                    <a:pt x="540" y="194"/>
                  </a:lnTo>
                  <a:lnTo>
                    <a:pt x="537" y="188"/>
                  </a:lnTo>
                  <a:lnTo>
                    <a:pt x="535" y="180"/>
                  </a:lnTo>
                  <a:lnTo>
                    <a:pt x="540" y="178"/>
                  </a:lnTo>
                  <a:lnTo>
                    <a:pt x="546" y="176"/>
                  </a:lnTo>
                  <a:lnTo>
                    <a:pt x="552" y="174"/>
                  </a:lnTo>
                  <a:lnTo>
                    <a:pt x="555" y="172"/>
                  </a:lnTo>
                  <a:lnTo>
                    <a:pt x="561" y="170"/>
                  </a:lnTo>
                  <a:lnTo>
                    <a:pt x="567" y="168"/>
                  </a:lnTo>
                  <a:lnTo>
                    <a:pt x="569" y="164"/>
                  </a:lnTo>
                  <a:lnTo>
                    <a:pt x="572" y="162"/>
                  </a:lnTo>
                  <a:lnTo>
                    <a:pt x="575" y="160"/>
                  </a:lnTo>
                  <a:lnTo>
                    <a:pt x="578" y="156"/>
                  </a:lnTo>
                  <a:lnTo>
                    <a:pt x="581" y="154"/>
                  </a:lnTo>
                  <a:lnTo>
                    <a:pt x="584" y="150"/>
                  </a:lnTo>
                  <a:lnTo>
                    <a:pt x="584" y="146"/>
                  </a:lnTo>
                  <a:lnTo>
                    <a:pt x="584" y="142"/>
                  </a:lnTo>
                  <a:lnTo>
                    <a:pt x="581" y="138"/>
                  </a:lnTo>
                  <a:lnTo>
                    <a:pt x="578" y="134"/>
                  </a:lnTo>
                  <a:lnTo>
                    <a:pt x="584" y="130"/>
                  </a:lnTo>
                  <a:lnTo>
                    <a:pt x="590" y="124"/>
                  </a:lnTo>
                  <a:lnTo>
                    <a:pt x="596" y="120"/>
                  </a:lnTo>
                  <a:lnTo>
                    <a:pt x="599" y="116"/>
                  </a:lnTo>
                  <a:lnTo>
                    <a:pt x="601" y="110"/>
                  </a:lnTo>
                  <a:lnTo>
                    <a:pt x="604" y="106"/>
                  </a:lnTo>
                  <a:lnTo>
                    <a:pt x="604" y="100"/>
                  </a:lnTo>
                  <a:lnTo>
                    <a:pt x="604" y="92"/>
                  </a:lnTo>
                  <a:lnTo>
                    <a:pt x="604" y="92"/>
                  </a:lnTo>
                  <a:lnTo>
                    <a:pt x="607" y="90"/>
                  </a:lnTo>
                  <a:lnTo>
                    <a:pt x="610" y="90"/>
                  </a:lnTo>
                  <a:lnTo>
                    <a:pt x="616" y="90"/>
                  </a:lnTo>
                  <a:lnTo>
                    <a:pt x="619" y="90"/>
                  </a:lnTo>
                  <a:lnTo>
                    <a:pt x="622" y="92"/>
                  </a:lnTo>
                  <a:lnTo>
                    <a:pt x="628" y="92"/>
                  </a:lnTo>
                  <a:lnTo>
                    <a:pt x="631" y="92"/>
                  </a:lnTo>
                  <a:lnTo>
                    <a:pt x="636" y="92"/>
                  </a:lnTo>
                  <a:lnTo>
                    <a:pt x="639" y="94"/>
                  </a:lnTo>
                  <a:lnTo>
                    <a:pt x="645" y="94"/>
                  </a:lnTo>
                  <a:lnTo>
                    <a:pt x="648" y="94"/>
                  </a:lnTo>
                  <a:lnTo>
                    <a:pt x="654" y="94"/>
                  </a:lnTo>
                  <a:lnTo>
                    <a:pt x="657" y="92"/>
                  </a:lnTo>
                  <a:lnTo>
                    <a:pt x="663" y="92"/>
                  </a:lnTo>
                  <a:lnTo>
                    <a:pt x="665" y="90"/>
                  </a:lnTo>
                  <a:lnTo>
                    <a:pt x="665" y="84"/>
                  </a:lnTo>
                  <a:lnTo>
                    <a:pt x="663" y="78"/>
                  </a:lnTo>
                  <a:lnTo>
                    <a:pt x="665" y="78"/>
                  </a:lnTo>
                  <a:lnTo>
                    <a:pt x="671" y="78"/>
                  </a:lnTo>
                  <a:lnTo>
                    <a:pt x="683" y="78"/>
                  </a:lnTo>
                  <a:lnTo>
                    <a:pt x="694" y="80"/>
                  </a:lnTo>
                  <a:lnTo>
                    <a:pt x="712" y="80"/>
                  </a:lnTo>
                  <a:lnTo>
                    <a:pt x="726" y="82"/>
                  </a:lnTo>
                  <a:lnTo>
                    <a:pt x="747" y="82"/>
                  </a:lnTo>
                  <a:lnTo>
                    <a:pt x="764" y="84"/>
                  </a:lnTo>
                  <a:lnTo>
                    <a:pt x="779" y="86"/>
                  </a:lnTo>
                  <a:lnTo>
                    <a:pt x="796" y="90"/>
                  </a:lnTo>
                  <a:lnTo>
                    <a:pt x="811" y="92"/>
                  </a:lnTo>
                  <a:lnTo>
                    <a:pt x="819" y="94"/>
                  </a:lnTo>
                  <a:lnTo>
                    <a:pt x="828" y="98"/>
                  </a:lnTo>
                  <a:lnTo>
                    <a:pt x="831" y="102"/>
                  </a:lnTo>
                  <a:lnTo>
                    <a:pt x="831" y="106"/>
                  </a:lnTo>
                  <a:lnTo>
                    <a:pt x="822" y="112"/>
                  </a:lnTo>
                  <a:lnTo>
                    <a:pt x="825" y="124"/>
                  </a:lnTo>
                  <a:lnTo>
                    <a:pt x="822" y="132"/>
                  </a:lnTo>
                  <a:lnTo>
                    <a:pt x="819" y="140"/>
                  </a:lnTo>
                  <a:lnTo>
                    <a:pt x="817" y="146"/>
                  </a:lnTo>
                  <a:lnTo>
                    <a:pt x="811" y="152"/>
                  </a:lnTo>
                  <a:lnTo>
                    <a:pt x="808" y="160"/>
                  </a:lnTo>
                  <a:lnTo>
                    <a:pt x="805" y="170"/>
                  </a:lnTo>
                  <a:lnTo>
                    <a:pt x="805" y="182"/>
                  </a:lnTo>
                  <a:lnTo>
                    <a:pt x="796" y="188"/>
                  </a:lnTo>
                  <a:lnTo>
                    <a:pt x="790" y="194"/>
                  </a:lnTo>
                  <a:lnTo>
                    <a:pt x="785" y="198"/>
                  </a:lnTo>
                  <a:lnTo>
                    <a:pt x="785" y="202"/>
                  </a:lnTo>
                  <a:lnTo>
                    <a:pt x="785" y="206"/>
                  </a:lnTo>
                  <a:lnTo>
                    <a:pt x="785" y="212"/>
                  </a:lnTo>
                  <a:lnTo>
                    <a:pt x="785" y="218"/>
                  </a:lnTo>
                  <a:lnTo>
                    <a:pt x="788" y="226"/>
                  </a:lnTo>
                  <a:lnTo>
                    <a:pt x="773" y="234"/>
                  </a:lnTo>
                  <a:lnTo>
                    <a:pt x="764" y="242"/>
                  </a:lnTo>
                  <a:lnTo>
                    <a:pt x="764" y="252"/>
                  </a:lnTo>
                  <a:lnTo>
                    <a:pt x="764" y="262"/>
                  </a:lnTo>
                  <a:lnTo>
                    <a:pt x="767" y="270"/>
                  </a:lnTo>
                  <a:lnTo>
                    <a:pt x="773" y="278"/>
                  </a:lnTo>
                  <a:lnTo>
                    <a:pt x="776" y="286"/>
                  </a:lnTo>
                  <a:lnTo>
                    <a:pt x="776" y="290"/>
                  </a:lnTo>
                  <a:lnTo>
                    <a:pt x="761" y="292"/>
                  </a:lnTo>
                  <a:lnTo>
                    <a:pt x="753" y="298"/>
                  </a:lnTo>
                  <a:lnTo>
                    <a:pt x="747" y="302"/>
                  </a:lnTo>
                  <a:lnTo>
                    <a:pt x="747" y="308"/>
                  </a:lnTo>
                  <a:lnTo>
                    <a:pt x="747" y="316"/>
                  </a:lnTo>
                  <a:lnTo>
                    <a:pt x="747" y="322"/>
                  </a:lnTo>
                  <a:lnTo>
                    <a:pt x="747" y="326"/>
                  </a:lnTo>
                  <a:lnTo>
                    <a:pt x="747" y="328"/>
                  </a:lnTo>
                  <a:lnTo>
                    <a:pt x="735" y="334"/>
                  </a:lnTo>
                  <a:lnTo>
                    <a:pt x="729" y="340"/>
                  </a:lnTo>
                  <a:lnTo>
                    <a:pt x="729" y="346"/>
                  </a:lnTo>
                  <a:lnTo>
                    <a:pt x="729" y="354"/>
                  </a:lnTo>
                  <a:lnTo>
                    <a:pt x="729" y="360"/>
                  </a:lnTo>
                  <a:lnTo>
                    <a:pt x="732" y="366"/>
                  </a:lnTo>
                  <a:lnTo>
                    <a:pt x="738" y="374"/>
                  </a:lnTo>
                  <a:lnTo>
                    <a:pt x="744" y="380"/>
                  </a:lnTo>
                  <a:lnTo>
                    <a:pt x="732" y="384"/>
                  </a:lnTo>
                  <a:lnTo>
                    <a:pt x="724" y="388"/>
                  </a:lnTo>
                  <a:lnTo>
                    <a:pt x="718" y="394"/>
                  </a:lnTo>
                  <a:lnTo>
                    <a:pt x="712" y="400"/>
                  </a:lnTo>
                  <a:lnTo>
                    <a:pt x="712" y="406"/>
                  </a:lnTo>
                  <a:lnTo>
                    <a:pt x="712" y="412"/>
                  </a:lnTo>
                  <a:lnTo>
                    <a:pt x="715" y="420"/>
                  </a:lnTo>
                  <a:lnTo>
                    <a:pt x="718" y="428"/>
                  </a:lnTo>
                  <a:lnTo>
                    <a:pt x="712" y="438"/>
                  </a:lnTo>
                  <a:lnTo>
                    <a:pt x="709" y="452"/>
                  </a:lnTo>
                  <a:lnTo>
                    <a:pt x="706" y="466"/>
                  </a:lnTo>
                  <a:lnTo>
                    <a:pt x="706" y="480"/>
                  </a:lnTo>
                  <a:lnTo>
                    <a:pt x="709" y="494"/>
                  </a:lnTo>
                  <a:lnTo>
                    <a:pt x="709" y="504"/>
                  </a:lnTo>
                  <a:lnTo>
                    <a:pt x="712" y="512"/>
                  </a:lnTo>
                  <a:lnTo>
                    <a:pt x="712" y="514"/>
                  </a:lnTo>
                  <a:lnTo>
                    <a:pt x="703" y="520"/>
                  </a:lnTo>
                  <a:lnTo>
                    <a:pt x="697" y="530"/>
                  </a:lnTo>
                  <a:lnTo>
                    <a:pt x="697" y="542"/>
                  </a:lnTo>
                  <a:lnTo>
                    <a:pt x="697" y="556"/>
                  </a:lnTo>
                  <a:lnTo>
                    <a:pt x="700" y="570"/>
                  </a:lnTo>
                  <a:lnTo>
                    <a:pt x="700" y="584"/>
                  </a:lnTo>
                  <a:lnTo>
                    <a:pt x="697" y="594"/>
                  </a:lnTo>
                  <a:lnTo>
                    <a:pt x="689" y="602"/>
                  </a:lnTo>
                  <a:lnTo>
                    <a:pt x="686" y="606"/>
                  </a:lnTo>
                  <a:lnTo>
                    <a:pt x="680" y="610"/>
                  </a:lnTo>
                  <a:lnTo>
                    <a:pt x="680" y="614"/>
                  </a:lnTo>
                  <a:lnTo>
                    <a:pt x="677" y="620"/>
                  </a:lnTo>
                  <a:lnTo>
                    <a:pt x="677" y="624"/>
                  </a:lnTo>
                  <a:lnTo>
                    <a:pt x="680" y="628"/>
                  </a:lnTo>
                  <a:lnTo>
                    <a:pt x="680" y="632"/>
                  </a:lnTo>
                  <a:lnTo>
                    <a:pt x="683" y="636"/>
                  </a:lnTo>
                  <a:lnTo>
                    <a:pt x="689" y="638"/>
                  </a:lnTo>
                  <a:lnTo>
                    <a:pt x="692" y="640"/>
                  </a:lnTo>
                  <a:lnTo>
                    <a:pt x="697" y="642"/>
                  </a:lnTo>
                  <a:lnTo>
                    <a:pt x="703" y="640"/>
                  </a:lnTo>
                  <a:lnTo>
                    <a:pt x="709" y="640"/>
                  </a:lnTo>
                  <a:lnTo>
                    <a:pt x="718" y="636"/>
                  </a:lnTo>
                  <a:lnTo>
                    <a:pt x="724" y="630"/>
                  </a:lnTo>
                  <a:lnTo>
                    <a:pt x="732" y="624"/>
                  </a:lnTo>
                  <a:lnTo>
                    <a:pt x="750" y="636"/>
                  </a:lnTo>
                  <a:lnTo>
                    <a:pt x="756" y="660"/>
                  </a:lnTo>
                  <a:lnTo>
                    <a:pt x="761" y="662"/>
                  </a:lnTo>
                  <a:lnTo>
                    <a:pt x="767" y="660"/>
                  </a:lnTo>
                  <a:lnTo>
                    <a:pt x="770" y="656"/>
                  </a:lnTo>
                  <a:lnTo>
                    <a:pt x="773" y="650"/>
                  </a:lnTo>
                  <a:lnTo>
                    <a:pt x="773" y="642"/>
                  </a:lnTo>
                  <a:lnTo>
                    <a:pt x="776" y="636"/>
                  </a:lnTo>
                  <a:lnTo>
                    <a:pt x="776" y="630"/>
                  </a:lnTo>
                  <a:lnTo>
                    <a:pt x="776" y="624"/>
                  </a:lnTo>
                  <a:lnTo>
                    <a:pt x="753" y="604"/>
                  </a:lnTo>
                  <a:lnTo>
                    <a:pt x="761" y="596"/>
                  </a:lnTo>
                  <a:lnTo>
                    <a:pt x="764" y="590"/>
                  </a:lnTo>
                  <a:lnTo>
                    <a:pt x="767" y="586"/>
                  </a:lnTo>
                  <a:lnTo>
                    <a:pt x="770" y="580"/>
                  </a:lnTo>
                  <a:lnTo>
                    <a:pt x="767" y="576"/>
                  </a:lnTo>
                  <a:lnTo>
                    <a:pt x="761" y="572"/>
                  </a:lnTo>
                  <a:lnTo>
                    <a:pt x="756" y="570"/>
                  </a:lnTo>
                  <a:lnTo>
                    <a:pt x="747" y="566"/>
                  </a:lnTo>
                  <a:lnTo>
                    <a:pt x="758" y="554"/>
                  </a:lnTo>
                  <a:lnTo>
                    <a:pt x="764" y="546"/>
                  </a:lnTo>
                  <a:lnTo>
                    <a:pt x="767" y="540"/>
                  </a:lnTo>
                  <a:lnTo>
                    <a:pt x="767" y="536"/>
                  </a:lnTo>
                  <a:lnTo>
                    <a:pt x="764" y="532"/>
                  </a:lnTo>
                  <a:lnTo>
                    <a:pt x="761" y="528"/>
                  </a:lnTo>
                  <a:lnTo>
                    <a:pt x="758" y="522"/>
                  </a:lnTo>
                  <a:lnTo>
                    <a:pt x="756" y="516"/>
                  </a:lnTo>
                  <a:lnTo>
                    <a:pt x="761" y="508"/>
                  </a:lnTo>
                  <a:lnTo>
                    <a:pt x="767" y="500"/>
                  </a:lnTo>
                  <a:lnTo>
                    <a:pt x="773" y="488"/>
                  </a:lnTo>
                  <a:lnTo>
                    <a:pt x="773" y="474"/>
                  </a:lnTo>
                  <a:lnTo>
                    <a:pt x="776" y="462"/>
                  </a:lnTo>
                  <a:lnTo>
                    <a:pt x="773" y="450"/>
                  </a:lnTo>
                  <a:lnTo>
                    <a:pt x="770" y="442"/>
                  </a:lnTo>
                  <a:lnTo>
                    <a:pt x="764" y="436"/>
                  </a:lnTo>
                  <a:lnTo>
                    <a:pt x="773" y="428"/>
                  </a:lnTo>
                  <a:lnTo>
                    <a:pt x="779" y="420"/>
                  </a:lnTo>
                  <a:lnTo>
                    <a:pt x="782" y="414"/>
                  </a:lnTo>
                  <a:lnTo>
                    <a:pt x="785" y="410"/>
                  </a:lnTo>
                  <a:lnTo>
                    <a:pt x="782" y="404"/>
                  </a:lnTo>
                  <a:lnTo>
                    <a:pt x="782" y="398"/>
                  </a:lnTo>
                  <a:lnTo>
                    <a:pt x="779" y="392"/>
                  </a:lnTo>
                  <a:lnTo>
                    <a:pt x="773" y="384"/>
                  </a:lnTo>
                  <a:lnTo>
                    <a:pt x="785" y="380"/>
                  </a:lnTo>
                  <a:lnTo>
                    <a:pt x="793" y="374"/>
                  </a:lnTo>
                  <a:lnTo>
                    <a:pt x="796" y="370"/>
                  </a:lnTo>
                  <a:lnTo>
                    <a:pt x="799" y="366"/>
                  </a:lnTo>
                  <a:lnTo>
                    <a:pt x="799" y="362"/>
                  </a:lnTo>
                  <a:lnTo>
                    <a:pt x="796" y="356"/>
                  </a:lnTo>
                  <a:lnTo>
                    <a:pt x="793" y="350"/>
                  </a:lnTo>
                  <a:lnTo>
                    <a:pt x="790" y="344"/>
                  </a:lnTo>
                  <a:lnTo>
                    <a:pt x="796" y="338"/>
                  </a:lnTo>
                  <a:lnTo>
                    <a:pt x="805" y="334"/>
                  </a:lnTo>
                  <a:lnTo>
                    <a:pt x="811" y="328"/>
                  </a:lnTo>
                  <a:lnTo>
                    <a:pt x="817" y="322"/>
                  </a:lnTo>
                  <a:lnTo>
                    <a:pt x="819" y="318"/>
                  </a:lnTo>
                  <a:lnTo>
                    <a:pt x="819" y="312"/>
                  </a:lnTo>
                  <a:lnTo>
                    <a:pt x="814" y="304"/>
                  </a:lnTo>
                  <a:lnTo>
                    <a:pt x="805" y="298"/>
                  </a:lnTo>
                  <a:lnTo>
                    <a:pt x="817" y="292"/>
                  </a:lnTo>
                  <a:lnTo>
                    <a:pt x="825" y="284"/>
                  </a:lnTo>
                  <a:lnTo>
                    <a:pt x="831" y="278"/>
                  </a:lnTo>
                  <a:lnTo>
                    <a:pt x="834" y="270"/>
                  </a:lnTo>
                  <a:lnTo>
                    <a:pt x="837" y="264"/>
                  </a:lnTo>
                  <a:lnTo>
                    <a:pt x="834" y="256"/>
                  </a:lnTo>
                  <a:lnTo>
                    <a:pt x="828" y="248"/>
                  </a:lnTo>
                  <a:lnTo>
                    <a:pt x="819" y="240"/>
                  </a:lnTo>
                  <a:lnTo>
                    <a:pt x="834" y="236"/>
                  </a:lnTo>
                  <a:lnTo>
                    <a:pt x="843" y="230"/>
                  </a:lnTo>
                  <a:lnTo>
                    <a:pt x="851" y="226"/>
                  </a:lnTo>
                  <a:lnTo>
                    <a:pt x="854" y="220"/>
                  </a:lnTo>
                  <a:lnTo>
                    <a:pt x="857" y="216"/>
                  </a:lnTo>
                  <a:lnTo>
                    <a:pt x="857" y="208"/>
                  </a:lnTo>
                  <a:lnTo>
                    <a:pt x="854" y="200"/>
                  </a:lnTo>
                  <a:lnTo>
                    <a:pt x="849" y="190"/>
                  </a:lnTo>
                  <a:lnTo>
                    <a:pt x="849" y="186"/>
                  </a:lnTo>
                  <a:lnTo>
                    <a:pt x="854" y="182"/>
                  </a:lnTo>
                  <a:lnTo>
                    <a:pt x="860" y="178"/>
                  </a:lnTo>
                  <a:lnTo>
                    <a:pt x="866" y="176"/>
                  </a:lnTo>
                  <a:lnTo>
                    <a:pt x="872" y="172"/>
                  </a:lnTo>
                  <a:lnTo>
                    <a:pt x="872" y="168"/>
                  </a:lnTo>
                  <a:lnTo>
                    <a:pt x="866" y="160"/>
                  </a:lnTo>
                  <a:lnTo>
                    <a:pt x="851" y="152"/>
                  </a:lnTo>
                  <a:lnTo>
                    <a:pt x="860" y="146"/>
                  </a:lnTo>
                  <a:lnTo>
                    <a:pt x="866" y="142"/>
                  </a:lnTo>
                  <a:lnTo>
                    <a:pt x="872" y="138"/>
                  </a:lnTo>
                  <a:lnTo>
                    <a:pt x="878" y="134"/>
                  </a:lnTo>
                  <a:lnTo>
                    <a:pt x="881" y="130"/>
                  </a:lnTo>
                  <a:lnTo>
                    <a:pt x="883" y="126"/>
                  </a:lnTo>
                  <a:lnTo>
                    <a:pt x="886" y="120"/>
                  </a:lnTo>
                  <a:lnTo>
                    <a:pt x="889" y="112"/>
                  </a:lnTo>
                  <a:lnTo>
                    <a:pt x="892" y="112"/>
                  </a:lnTo>
                  <a:lnTo>
                    <a:pt x="895" y="112"/>
                  </a:lnTo>
                  <a:lnTo>
                    <a:pt x="898" y="112"/>
                  </a:lnTo>
                  <a:lnTo>
                    <a:pt x="901" y="112"/>
                  </a:lnTo>
                  <a:lnTo>
                    <a:pt x="904" y="110"/>
                  </a:lnTo>
                  <a:lnTo>
                    <a:pt x="907" y="110"/>
                  </a:lnTo>
                  <a:lnTo>
                    <a:pt x="910" y="110"/>
                  </a:lnTo>
                  <a:lnTo>
                    <a:pt x="913" y="108"/>
                  </a:lnTo>
                  <a:lnTo>
                    <a:pt x="910" y="104"/>
                  </a:lnTo>
                  <a:lnTo>
                    <a:pt x="910" y="102"/>
                  </a:lnTo>
                  <a:lnTo>
                    <a:pt x="910" y="100"/>
                  </a:lnTo>
                  <a:lnTo>
                    <a:pt x="913" y="98"/>
                  </a:lnTo>
                  <a:lnTo>
                    <a:pt x="918" y="98"/>
                  </a:lnTo>
                  <a:lnTo>
                    <a:pt x="921" y="98"/>
                  </a:lnTo>
                  <a:lnTo>
                    <a:pt x="930" y="98"/>
                  </a:lnTo>
                  <a:lnTo>
                    <a:pt x="936" y="98"/>
                  </a:lnTo>
                  <a:lnTo>
                    <a:pt x="942" y="98"/>
                  </a:lnTo>
                  <a:lnTo>
                    <a:pt x="950" y="100"/>
                  </a:lnTo>
                  <a:lnTo>
                    <a:pt x="956" y="100"/>
                  </a:lnTo>
                  <a:lnTo>
                    <a:pt x="962" y="102"/>
                  </a:lnTo>
                  <a:lnTo>
                    <a:pt x="971" y="102"/>
                  </a:lnTo>
                  <a:lnTo>
                    <a:pt x="974" y="104"/>
                  </a:lnTo>
                  <a:lnTo>
                    <a:pt x="979" y="104"/>
                  </a:lnTo>
                  <a:lnTo>
                    <a:pt x="982" y="104"/>
                  </a:lnTo>
                  <a:lnTo>
                    <a:pt x="968" y="156"/>
                  </a:lnTo>
                  <a:lnTo>
                    <a:pt x="956" y="206"/>
                  </a:lnTo>
                  <a:lnTo>
                    <a:pt x="942" y="258"/>
                  </a:lnTo>
                  <a:lnTo>
                    <a:pt x="930" y="310"/>
                  </a:lnTo>
                  <a:lnTo>
                    <a:pt x="915" y="362"/>
                  </a:lnTo>
                  <a:lnTo>
                    <a:pt x="904" y="414"/>
                  </a:lnTo>
                  <a:lnTo>
                    <a:pt x="892" y="466"/>
                  </a:lnTo>
                  <a:lnTo>
                    <a:pt x="881" y="518"/>
                  </a:lnTo>
                  <a:lnTo>
                    <a:pt x="869" y="570"/>
                  </a:lnTo>
                  <a:lnTo>
                    <a:pt x="854" y="622"/>
                  </a:lnTo>
                  <a:lnTo>
                    <a:pt x="843" y="674"/>
                  </a:lnTo>
                  <a:lnTo>
                    <a:pt x="828" y="724"/>
                  </a:lnTo>
                  <a:lnTo>
                    <a:pt x="817" y="776"/>
                  </a:lnTo>
                  <a:lnTo>
                    <a:pt x="802" y="828"/>
                  </a:lnTo>
                  <a:lnTo>
                    <a:pt x="788" y="878"/>
                  </a:lnTo>
                  <a:lnTo>
                    <a:pt x="773" y="930"/>
                  </a:lnTo>
                  <a:lnTo>
                    <a:pt x="767" y="942"/>
                  </a:lnTo>
                  <a:lnTo>
                    <a:pt x="764" y="954"/>
                  </a:lnTo>
                  <a:lnTo>
                    <a:pt x="764" y="966"/>
                  </a:lnTo>
                  <a:lnTo>
                    <a:pt x="761" y="978"/>
                  </a:lnTo>
                  <a:lnTo>
                    <a:pt x="758" y="988"/>
                  </a:lnTo>
                  <a:lnTo>
                    <a:pt x="756" y="1000"/>
                  </a:lnTo>
                  <a:lnTo>
                    <a:pt x="753" y="1012"/>
                  </a:lnTo>
                  <a:lnTo>
                    <a:pt x="747" y="1022"/>
                  </a:lnTo>
                  <a:lnTo>
                    <a:pt x="732" y="1028"/>
                  </a:lnTo>
                  <a:lnTo>
                    <a:pt x="724" y="1034"/>
                  </a:lnTo>
                  <a:lnTo>
                    <a:pt x="718" y="1040"/>
                  </a:lnTo>
                  <a:lnTo>
                    <a:pt x="715" y="1046"/>
                  </a:lnTo>
                  <a:lnTo>
                    <a:pt x="715" y="1054"/>
                  </a:lnTo>
                  <a:lnTo>
                    <a:pt x="715" y="1062"/>
                  </a:lnTo>
                  <a:lnTo>
                    <a:pt x="715" y="1070"/>
                  </a:lnTo>
                  <a:lnTo>
                    <a:pt x="718" y="1080"/>
                  </a:lnTo>
                  <a:lnTo>
                    <a:pt x="721" y="1084"/>
                  </a:lnTo>
                  <a:lnTo>
                    <a:pt x="724" y="1088"/>
                  </a:lnTo>
                  <a:lnTo>
                    <a:pt x="726" y="1090"/>
                  </a:lnTo>
                  <a:lnTo>
                    <a:pt x="729" y="1094"/>
                  </a:lnTo>
                  <a:lnTo>
                    <a:pt x="735" y="1096"/>
                  </a:lnTo>
                  <a:lnTo>
                    <a:pt x="741" y="1098"/>
                  </a:lnTo>
                  <a:lnTo>
                    <a:pt x="744" y="1100"/>
                  </a:lnTo>
                  <a:lnTo>
                    <a:pt x="750" y="1102"/>
                  </a:lnTo>
                  <a:lnTo>
                    <a:pt x="753" y="1102"/>
                  </a:lnTo>
                  <a:lnTo>
                    <a:pt x="756" y="1102"/>
                  </a:lnTo>
                  <a:lnTo>
                    <a:pt x="758" y="1102"/>
                  </a:lnTo>
                  <a:lnTo>
                    <a:pt x="761" y="1102"/>
                  </a:lnTo>
                  <a:lnTo>
                    <a:pt x="764" y="1102"/>
                  </a:lnTo>
                  <a:lnTo>
                    <a:pt x="767" y="1102"/>
                  </a:lnTo>
                  <a:lnTo>
                    <a:pt x="770" y="1104"/>
                  </a:lnTo>
                  <a:lnTo>
                    <a:pt x="773" y="1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425680" y="5381640"/>
              <a:ext cx="183960" cy="82800"/>
            </a:xfrm>
            <a:custGeom>
              <a:avLst/>
              <a:gdLst/>
              <a:ahLst/>
              <a:rect l="l" t="t" r="r" b="b"/>
              <a:pathLst>
                <a:path w="116" h="52">
                  <a:moveTo>
                    <a:pt x="18" y="52"/>
                  </a:moveTo>
                  <a:lnTo>
                    <a:pt x="23" y="52"/>
                  </a:lnTo>
                  <a:lnTo>
                    <a:pt x="29" y="52"/>
                  </a:lnTo>
                  <a:lnTo>
                    <a:pt x="32" y="52"/>
                  </a:lnTo>
                  <a:lnTo>
                    <a:pt x="38" y="52"/>
                  </a:lnTo>
                  <a:lnTo>
                    <a:pt x="41" y="52"/>
                  </a:lnTo>
                  <a:lnTo>
                    <a:pt x="47" y="50"/>
                  </a:lnTo>
                  <a:lnTo>
                    <a:pt x="53" y="50"/>
                  </a:lnTo>
                  <a:lnTo>
                    <a:pt x="55" y="50"/>
                  </a:lnTo>
                  <a:lnTo>
                    <a:pt x="61" y="50"/>
                  </a:lnTo>
                  <a:lnTo>
                    <a:pt x="67" y="48"/>
                  </a:lnTo>
                  <a:lnTo>
                    <a:pt x="70" y="48"/>
                  </a:lnTo>
                  <a:lnTo>
                    <a:pt x="76" y="48"/>
                  </a:lnTo>
                  <a:lnTo>
                    <a:pt x="82" y="46"/>
                  </a:lnTo>
                  <a:lnTo>
                    <a:pt x="84" y="46"/>
                  </a:lnTo>
                  <a:lnTo>
                    <a:pt x="90" y="44"/>
                  </a:lnTo>
                  <a:lnTo>
                    <a:pt x="93" y="44"/>
                  </a:lnTo>
                  <a:lnTo>
                    <a:pt x="99" y="40"/>
                  </a:lnTo>
                  <a:lnTo>
                    <a:pt x="105" y="34"/>
                  </a:lnTo>
                  <a:lnTo>
                    <a:pt x="108" y="30"/>
                  </a:lnTo>
                  <a:lnTo>
                    <a:pt x="111" y="24"/>
                  </a:lnTo>
                  <a:lnTo>
                    <a:pt x="114" y="18"/>
                  </a:lnTo>
                  <a:lnTo>
                    <a:pt x="114" y="12"/>
                  </a:lnTo>
                  <a:lnTo>
                    <a:pt x="116" y="6"/>
                  </a:lnTo>
                  <a:lnTo>
                    <a:pt x="116" y="0"/>
                  </a:lnTo>
                  <a:lnTo>
                    <a:pt x="116" y="2"/>
                  </a:lnTo>
                  <a:lnTo>
                    <a:pt x="114" y="6"/>
                  </a:lnTo>
                  <a:lnTo>
                    <a:pt x="114" y="8"/>
                  </a:lnTo>
                  <a:lnTo>
                    <a:pt x="114" y="12"/>
                  </a:lnTo>
                  <a:lnTo>
                    <a:pt x="111" y="14"/>
                  </a:lnTo>
                  <a:lnTo>
                    <a:pt x="108" y="16"/>
                  </a:lnTo>
                  <a:lnTo>
                    <a:pt x="108" y="18"/>
                  </a:lnTo>
                  <a:lnTo>
                    <a:pt x="105" y="20"/>
                  </a:lnTo>
                  <a:lnTo>
                    <a:pt x="99" y="22"/>
                  </a:lnTo>
                  <a:lnTo>
                    <a:pt x="96" y="22"/>
                  </a:lnTo>
                  <a:lnTo>
                    <a:pt x="93" y="24"/>
                  </a:lnTo>
                  <a:lnTo>
                    <a:pt x="87" y="24"/>
                  </a:lnTo>
                  <a:lnTo>
                    <a:pt x="84" y="26"/>
                  </a:lnTo>
                  <a:lnTo>
                    <a:pt x="82" y="26"/>
                  </a:lnTo>
                  <a:lnTo>
                    <a:pt x="76" y="26"/>
                  </a:lnTo>
                  <a:lnTo>
                    <a:pt x="73" y="26"/>
                  </a:lnTo>
                  <a:lnTo>
                    <a:pt x="67" y="28"/>
                  </a:lnTo>
                  <a:lnTo>
                    <a:pt x="64" y="28"/>
                  </a:lnTo>
                  <a:lnTo>
                    <a:pt x="61" y="28"/>
                  </a:lnTo>
                  <a:lnTo>
                    <a:pt x="55" y="26"/>
                  </a:lnTo>
                  <a:lnTo>
                    <a:pt x="53" y="26"/>
                  </a:lnTo>
                  <a:lnTo>
                    <a:pt x="50" y="26"/>
                  </a:lnTo>
                  <a:lnTo>
                    <a:pt x="44" y="26"/>
                  </a:lnTo>
                  <a:lnTo>
                    <a:pt x="41" y="24"/>
                  </a:lnTo>
                  <a:lnTo>
                    <a:pt x="38" y="24"/>
                  </a:lnTo>
                  <a:lnTo>
                    <a:pt x="32" y="22"/>
                  </a:lnTo>
                  <a:lnTo>
                    <a:pt x="29" y="20"/>
                  </a:lnTo>
                  <a:lnTo>
                    <a:pt x="26" y="18"/>
                  </a:lnTo>
                  <a:lnTo>
                    <a:pt x="23" y="16"/>
                  </a:lnTo>
                  <a:lnTo>
                    <a:pt x="21" y="14"/>
                  </a:lnTo>
                  <a:lnTo>
                    <a:pt x="18" y="12"/>
                  </a:lnTo>
                  <a:lnTo>
                    <a:pt x="15" y="10"/>
                  </a:lnTo>
                  <a:lnTo>
                    <a:pt x="12" y="12"/>
                  </a:lnTo>
                  <a:lnTo>
                    <a:pt x="9" y="12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3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6" y="46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9" y="50"/>
                  </a:lnTo>
                  <a:lnTo>
                    <a:pt x="9" y="50"/>
                  </a:lnTo>
                  <a:lnTo>
                    <a:pt x="12" y="50"/>
                  </a:lnTo>
                  <a:lnTo>
                    <a:pt x="15" y="50"/>
                  </a:lnTo>
                  <a:lnTo>
                    <a:pt x="18" y="52"/>
                  </a:lnTo>
                  <a:lnTo>
                    <a:pt x="18" y="52"/>
                  </a:lnTo>
                  <a:close/>
                </a:path>
              </a:pathLst>
            </a:custGeom>
            <a:solidFill>
              <a:srgbClr val="33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512800" y="4295880"/>
              <a:ext cx="263520" cy="1111320"/>
            </a:xfrm>
            <a:custGeom>
              <a:avLst/>
              <a:gdLst/>
              <a:ahLst/>
              <a:rect l="l" t="t" r="r" b="b"/>
              <a:pathLst>
                <a:path w="166" h="700">
                  <a:moveTo>
                    <a:pt x="3" y="700"/>
                  </a:moveTo>
                  <a:lnTo>
                    <a:pt x="3" y="700"/>
                  </a:lnTo>
                  <a:lnTo>
                    <a:pt x="6" y="700"/>
                  </a:lnTo>
                  <a:lnTo>
                    <a:pt x="6" y="700"/>
                  </a:lnTo>
                  <a:lnTo>
                    <a:pt x="9" y="700"/>
                  </a:lnTo>
                  <a:lnTo>
                    <a:pt x="9" y="700"/>
                  </a:lnTo>
                  <a:lnTo>
                    <a:pt x="12" y="698"/>
                  </a:lnTo>
                  <a:lnTo>
                    <a:pt x="12" y="698"/>
                  </a:lnTo>
                  <a:lnTo>
                    <a:pt x="12" y="698"/>
                  </a:lnTo>
                  <a:lnTo>
                    <a:pt x="15" y="694"/>
                  </a:lnTo>
                  <a:lnTo>
                    <a:pt x="15" y="688"/>
                  </a:lnTo>
                  <a:lnTo>
                    <a:pt x="18" y="684"/>
                  </a:lnTo>
                  <a:lnTo>
                    <a:pt x="18" y="680"/>
                  </a:lnTo>
                  <a:lnTo>
                    <a:pt x="21" y="666"/>
                  </a:lnTo>
                  <a:lnTo>
                    <a:pt x="24" y="654"/>
                  </a:lnTo>
                  <a:lnTo>
                    <a:pt x="27" y="640"/>
                  </a:lnTo>
                  <a:lnTo>
                    <a:pt x="29" y="628"/>
                  </a:lnTo>
                  <a:lnTo>
                    <a:pt x="29" y="622"/>
                  </a:lnTo>
                  <a:lnTo>
                    <a:pt x="32" y="614"/>
                  </a:lnTo>
                  <a:lnTo>
                    <a:pt x="35" y="608"/>
                  </a:lnTo>
                  <a:lnTo>
                    <a:pt x="38" y="602"/>
                  </a:lnTo>
                  <a:lnTo>
                    <a:pt x="41" y="596"/>
                  </a:lnTo>
                  <a:lnTo>
                    <a:pt x="44" y="588"/>
                  </a:lnTo>
                  <a:lnTo>
                    <a:pt x="44" y="582"/>
                  </a:lnTo>
                  <a:lnTo>
                    <a:pt x="47" y="574"/>
                  </a:lnTo>
                  <a:lnTo>
                    <a:pt x="50" y="568"/>
                  </a:lnTo>
                  <a:lnTo>
                    <a:pt x="50" y="560"/>
                  </a:lnTo>
                  <a:lnTo>
                    <a:pt x="53" y="554"/>
                  </a:lnTo>
                  <a:lnTo>
                    <a:pt x="56" y="546"/>
                  </a:lnTo>
                  <a:lnTo>
                    <a:pt x="59" y="526"/>
                  </a:lnTo>
                  <a:lnTo>
                    <a:pt x="61" y="506"/>
                  </a:lnTo>
                  <a:lnTo>
                    <a:pt x="64" y="484"/>
                  </a:lnTo>
                  <a:lnTo>
                    <a:pt x="67" y="464"/>
                  </a:lnTo>
                  <a:lnTo>
                    <a:pt x="73" y="444"/>
                  </a:lnTo>
                  <a:lnTo>
                    <a:pt x="76" y="424"/>
                  </a:lnTo>
                  <a:lnTo>
                    <a:pt x="82" y="404"/>
                  </a:lnTo>
                  <a:lnTo>
                    <a:pt x="88" y="384"/>
                  </a:lnTo>
                  <a:lnTo>
                    <a:pt x="93" y="356"/>
                  </a:lnTo>
                  <a:lnTo>
                    <a:pt x="99" y="330"/>
                  </a:lnTo>
                  <a:lnTo>
                    <a:pt x="105" y="302"/>
                  </a:lnTo>
                  <a:lnTo>
                    <a:pt x="114" y="276"/>
                  </a:lnTo>
                  <a:lnTo>
                    <a:pt x="123" y="250"/>
                  </a:lnTo>
                  <a:lnTo>
                    <a:pt x="128" y="222"/>
                  </a:lnTo>
                  <a:lnTo>
                    <a:pt x="134" y="196"/>
                  </a:lnTo>
                  <a:lnTo>
                    <a:pt x="137" y="170"/>
                  </a:lnTo>
                  <a:lnTo>
                    <a:pt x="140" y="158"/>
                  </a:lnTo>
                  <a:lnTo>
                    <a:pt x="140" y="144"/>
                  </a:lnTo>
                  <a:lnTo>
                    <a:pt x="143" y="132"/>
                  </a:lnTo>
                  <a:lnTo>
                    <a:pt x="146" y="120"/>
                  </a:lnTo>
                  <a:lnTo>
                    <a:pt x="149" y="108"/>
                  </a:lnTo>
                  <a:lnTo>
                    <a:pt x="149" y="96"/>
                  </a:lnTo>
                  <a:lnTo>
                    <a:pt x="152" y="86"/>
                  </a:lnTo>
                  <a:lnTo>
                    <a:pt x="152" y="74"/>
                  </a:lnTo>
                  <a:lnTo>
                    <a:pt x="154" y="64"/>
                  </a:lnTo>
                  <a:lnTo>
                    <a:pt x="154" y="54"/>
                  </a:lnTo>
                  <a:lnTo>
                    <a:pt x="157" y="46"/>
                  </a:lnTo>
                  <a:lnTo>
                    <a:pt x="160" y="36"/>
                  </a:lnTo>
                  <a:lnTo>
                    <a:pt x="160" y="28"/>
                  </a:lnTo>
                  <a:lnTo>
                    <a:pt x="163" y="18"/>
                  </a:lnTo>
                  <a:lnTo>
                    <a:pt x="166" y="8"/>
                  </a:lnTo>
                  <a:lnTo>
                    <a:pt x="166" y="0"/>
                  </a:lnTo>
                  <a:lnTo>
                    <a:pt x="163" y="6"/>
                  </a:lnTo>
                  <a:lnTo>
                    <a:pt x="163" y="14"/>
                  </a:lnTo>
                  <a:lnTo>
                    <a:pt x="160" y="20"/>
                  </a:lnTo>
                  <a:lnTo>
                    <a:pt x="157" y="28"/>
                  </a:lnTo>
                  <a:lnTo>
                    <a:pt x="154" y="36"/>
                  </a:lnTo>
                  <a:lnTo>
                    <a:pt x="152" y="46"/>
                  </a:lnTo>
                  <a:lnTo>
                    <a:pt x="152" y="54"/>
                  </a:lnTo>
                  <a:lnTo>
                    <a:pt x="149" y="64"/>
                  </a:lnTo>
                  <a:lnTo>
                    <a:pt x="146" y="72"/>
                  </a:lnTo>
                  <a:lnTo>
                    <a:pt x="146" y="80"/>
                  </a:lnTo>
                  <a:lnTo>
                    <a:pt x="143" y="90"/>
                  </a:lnTo>
                  <a:lnTo>
                    <a:pt x="140" y="98"/>
                  </a:lnTo>
                  <a:lnTo>
                    <a:pt x="131" y="120"/>
                  </a:lnTo>
                  <a:lnTo>
                    <a:pt x="125" y="142"/>
                  </a:lnTo>
                  <a:lnTo>
                    <a:pt x="120" y="164"/>
                  </a:lnTo>
                  <a:lnTo>
                    <a:pt x="114" y="184"/>
                  </a:lnTo>
                  <a:lnTo>
                    <a:pt x="108" y="206"/>
                  </a:lnTo>
                  <a:lnTo>
                    <a:pt x="105" y="228"/>
                  </a:lnTo>
                  <a:lnTo>
                    <a:pt x="99" y="248"/>
                  </a:lnTo>
                  <a:lnTo>
                    <a:pt x="96" y="270"/>
                  </a:lnTo>
                  <a:lnTo>
                    <a:pt x="91" y="292"/>
                  </a:lnTo>
                  <a:lnTo>
                    <a:pt x="88" y="314"/>
                  </a:lnTo>
                  <a:lnTo>
                    <a:pt x="82" y="336"/>
                  </a:lnTo>
                  <a:lnTo>
                    <a:pt x="79" y="356"/>
                  </a:lnTo>
                  <a:lnTo>
                    <a:pt x="73" y="378"/>
                  </a:lnTo>
                  <a:lnTo>
                    <a:pt x="67" y="400"/>
                  </a:lnTo>
                  <a:lnTo>
                    <a:pt x="64" y="420"/>
                  </a:lnTo>
                  <a:lnTo>
                    <a:pt x="59" y="442"/>
                  </a:lnTo>
                  <a:lnTo>
                    <a:pt x="53" y="458"/>
                  </a:lnTo>
                  <a:lnTo>
                    <a:pt x="47" y="472"/>
                  </a:lnTo>
                  <a:lnTo>
                    <a:pt x="44" y="488"/>
                  </a:lnTo>
                  <a:lnTo>
                    <a:pt x="38" y="504"/>
                  </a:lnTo>
                  <a:lnTo>
                    <a:pt x="35" y="520"/>
                  </a:lnTo>
                  <a:lnTo>
                    <a:pt x="32" y="534"/>
                  </a:lnTo>
                  <a:lnTo>
                    <a:pt x="29" y="550"/>
                  </a:lnTo>
                  <a:lnTo>
                    <a:pt x="24" y="566"/>
                  </a:lnTo>
                  <a:lnTo>
                    <a:pt x="21" y="580"/>
                  </a:lnTo>
                  <a:lnTo>
                    <a:pt x="18" y="596"/>
                  </a:lnTo>
                  <a:lnTo>
                    <a:pt x="15" y="612"/>
                  </a:lnTo>
                  <a:lnTo>
                    <a:pt x="12" y="626"/>
                  </a:lnTo>
                  <a:lnTo>
                    <a:pt x="9" y="642"/>
                  </a:lnTo>
                  <a:lnTo>
                    <a:pt x="6" y="658"/>
                  </a:lnTo>
                  <a:lnTo>
                    <a:pt x="3" y="672"/>
                  </a:lnTo>
                  <a:lnTo>
                    <a:pt x="0" y="688"/>
                  </a:lnTo>
                  <a:lnTo>
                    <a:pt x="0" y="700"/>
                  </a:lnTo>
                  <a:lnTo>
                    <a:pt x="0" y="700"/>
                  </a:lnTo>
                  <a:lnTo>
                    <a:pt x="0" y="700"/>
                  </a:lnTo>
                  <a:lnTo>
                    <a:pt x="0" y="700"/>
                  </a:lnTo>
                  <a:lnTo>
                    <a:pt x="3" y="700"/>
                  </a:lnTo>
                  <a:close/>
                </a:path>
              </a:pathLst>
            </a:custGeom>
            <a:solidFill>
              <a:srgbClr val="33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17600" y="5235840"/>
              <a:ext cx="120600" cy="75960"/>
            </a:xfrm>
            <a:custGeom>
              <a:avLst/>
              <a:gdLst/>
              <a:ahLst/>
              <a:rect l="l" t="t" r="r" b="b"/>
              <a:pathLst>
                <a:path w="76" h="48">
                  <a:moveTo>
                    <a:pt x="30" y="48"/>
                  </a:moveTo>
                  <a:lnTo>
                    <a:pt x="64" y="44"/>
                  </a:lnTo>
                  <a:lnTo>
                    <a:pt x="67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3" y="36"/>
                  </a:lnTo>
                  <a:lnTo>
                    <a:pt x="73" y="34"/>
                  </a:lnTo>
                  <a:lnTo>
                    <a:pt x="73" y="30"/>
                  </a:lnTo>
                  <a:lnTo>
                    <a:pt x="76" y="28"/>
                  </a:lnTo>
                  <a:lnTo>
                    <a:pt x="76" y="26"/>
                  </a:lnTo>
                  <a:lnTo>
                    <a:pt x="76" y="22"/>
                  </a:lnTo>
                  <a:lnTo>
                    <a:pt x="76" y="20"/>
                  </a:lnTo>
                  <a:lnTo>
                    <a:pt x="73" y="18"/>
                  </a:lnTo>
                  <a:lnTo>
                    <a:pt x="73" y="18"/>
                  </a:lnTo>
                  <a:lnTo>
                    <a:pt x="73" y="16"/>
                  </a:lnTo>
                  <a:lnTo>
                    <a:pt x="70" y="14"/>
                  </a:lnTo>
                  <a:lnTo>
                    <a:pt x="64" y="14"/>
                  </a:lnTo>
                  <a:lnTo>
                    <a:pt x="62" y="14"/>
                  </a:lnTo>
                  <a:lnTo>
                    <a:pt x="59" y="12"/>
                  </a:lnTo>
                  <a:lnTo>
                    <a:pt x="56" y="12"/>
                  </a:lnTo>
                  <a:lnTo>
                    <a:pt x="53" y="12"/>
                  </a:lnTo>
                  <a:lnTo>
                    <a:pt x="50" y="10"/>
                  </a:lnTo>
                  <a:lnTo>
                    <a:pt x="44" y="10"/>
                  </a:lnTo>
                  <a:lnTo>
                    <a:pt x="41" y="10"/>
                  </a:lnTo>
                  <a:lnTo>
                    <a:pt x="35" y="8"/>
                  </a:lnTo>
                  <a:lnTo>
                    <a:pt x="32" y="8"/>
                  </a:lnTo>
                  <a:lnTo>
                    <a:pt x="30" y="6"/>
                  </a:lnTo>
                  <a:lnTo>
                    <a:pt x="27" y="4"/>
                  </a:lnTo>
                  <a:lnTo>
                    <a:pt x="24" y="2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6" y="2"/>
                  </a:lnTo>
                  <a:lnTo>
                    <a:pt x="6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14"/>
                  </a:lnTo>
                  <a:lnTo>
                    <a:pt x="0" y="24"/>
                  </a:lnTo>
                  <a:lnTo>
                    <a:pt x="3" y="34"/>
                  </a:lnTo>
                  <a:lnTo>
                    <a:pt x="6" y="44"/>
                  </a:lnTo>
                  <a:lnTo>
                    <a:pt x="30" y="48"/>
                  </a:lnTo>
                  <a:close/>
                </a:path>
              </a:pathLst>
            </a:custGeom>
            <a:solidFill>
              <a:srgbClr val="33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59000" y="5194440"/>
              <a:ext cx="166680" cy="57240"/>
            </a:xfrm>
            <a:custGeom>
              <a:avLst/>
              <a:gdLst/>
              <a:ahLst/>
              <a:rect l="l" t="t" r="r" b="b"/>
              <a:pathLst>
                <a:path w="105" h="36">
                  <a:moveTo>
                    <a:pt x="35" y="36"/>
                  </a:moveTo>
                  <a:lnTo>
                    <a:pt x="38" y="36"/>
                  </a:lnTo>
                  <a:lnTo>
                    <a:pt x="44" y="36"/>
                  </a:lnTo>
                  <a:lnTo>
                    <a:pt x="47" y="36"/>
                  </a:lnTo>
                  <a:lnTo>
                    <a:pt x="53" y="36"/>
                  </a:lnTo>
                  <a:lnTo>
                    <a:pt x="59" y="36"/>
                  </a:lnTo>
                  <a:lnTo>
                    <a:pt x="61" y="36"/>
                  </a:lnTo>
                  <a:lnTo>
                    <a:pt x="67" y="34"/>
                  </a:lnTo>
                  <a:lnTo>
                    <a:pt x="70" y="34"/>
                  </a:lnTo>
                  <a:lnTo>
                    <a:pt x="73" y="32"/>
                  </a:lnTo>
                  <a:lnTo>
                    <a:pt x="79" y="32"/>
                  </a:lnTo>
                  <a:lnTo>
                    <a:pt x="82" y="30"/>
                  </a:lnTo>
                  <a:lnTo>
                    <a:pt x="85" y="30"/>
                  </a:lnTo>
                  <a:lnTo>
                    <a:pt x="91" y="28"/>
                  </a:lnTo>
                  <a:lnTo>
                    <a:pt x="93" y="26"/>
                  </a:lnTo>
                  <a:lnTo>
                    <a:pt x="96" y="24"/>
                  </a:lnTo>
                  <a:lnTo>
                    <a:pt x="99" y="22"/>
                  </a:lnTo>
                  <a:lnTo>
                    <a:pt x="102" y="18"/>
                  </a:lnTo>
                  <a:lnTo>
                    <a:pt x="105" y="12"/>
                  </a:lnTo>
                  <a:lnTo>
                    <a:pt x="105" y="6"/>
                  </a:lnTo>
                  <a:lnTo>
                    <a:pt x="102" y="0"/>
                  </a:lnTo>
                  <a:lnTo>
                    <a:pt x="82" y="14"/>
                  </a:lnTo>
                  <a:lnTo>
                    <a:pt x="79" y="16"/>
                  </a:lnTo>
                  <a:lnTo>
                    <a:pt x="79" y="16"/>
                  </a:lnTo>
                  <a:lnTo>
                    <a:pt x="76" y="16"/>
                  </a:lnTo>
                  <a:lnTo>
                    <a:pt x="73" y="18"/>
                  </a:lnTo>
                  <a:lnTo>
                    <a:pt x="67" y="18"/>
                  </a:lnTo>
                  <a:lnTo>
                    <a:pt x="64" y="18"/>
                  </a:lnTo>
                  <a:lnTo>
                    <a:pt x="61" y="20"/>
                  </a:lnTo>
                  <a:lnTo>
                    <a:pt x="59" y="20"/>
                  </a:lnTo>
                  <a:lnTo>
                    <a:pt x="53" y="20"/>
                  </a:lnTo>
                  <a:lnTo>
                    <a:pt x="47" y="18"/>
                  </a:lnTo>
                  <a:lnTo>
                    <a:pt x="41" y="16"/>
                  </a:lnTo>
                  <a:lnTo>
                    <a:pt x="35" y="14"/>
                  </a:lnTo>
                  <a:lnTo>
                    <a:pt x="29" y="12"/>
                  </a:lnTo>
                  <a:lnTo>
                    <a:pt x="24" y="10"/>
                  </a:lnTo>
                  <a:lnTo>
                    <a:pt x="18" y="8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3" y="6"/>
                  </a:lnTo>
                  <a:lnTo>
                    <a:pt x="0" y="8"/>
                  </a:lnTo>
                  <a:lnTo>
                    <a:pt x="12" y="34"/>
                  </a:lnTo>
                  <a:lnTo>
                    <a:pt x="35" y="36"/>
                  </a:lnTo>
                  <a:close/>
                </a:path>
              </a:pathLst>
            </a:custGeom>
            <a:solidFill>
              <a:srgbClr val="33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50720" y="3778200"/>
              <a:ext cx="604800" cy="1447920"/>
            </a:xfrm>
            <a:custGeom>
              <a:avLst/>
              <a:gdLst/>
              <a:ahLst/>
              <a:rect l="l" t="t" r="r" b="b"/>
              <a:pathLst>
                <a:path w="381" h="912">
                  <a:moveTo>
                    <a:pt x="17" y="912"/>
                  </a:moveTo>
                  <a:lnTo>
                    <a:pt x="26" y="912"/>
                  </a:lnTo>
                  <a:lnTo>
                    <a:pt x="35" y="882"/>
                  </a:lnTo>
                  <a:lnTo>
                    <a:pt x="41" y="876"/>
                  </a:lnTo>
                  <a:lnTo>
                    <a:pt x="43" y="866"/>
                  </a:lnTo>
                  <a:lnTo>
                    <a:pt x="46" y="858"/>
                  </a:lnTo>
                  <a:lnTo>
                    <a:pt x="49" y="850"/>
                  </a:lnTo>
                  <a:lnTo>
                    <a:pt x="52" y="842"/>
                  </a:lnTo>
                  <a:lnTo>
                    <a:pt x="55" y="832"/>
                  </a:lnTo>
                  <a:lnTo>
                    <a:pt x="58" y="824"/>
                  </a:lnTo>
                  <a:lnTo>
                    <a:pt x="58" y="814"/>
                  </a:lnTo>
                  <a:lnTo>
                    <a:pt x="58" y="812"/>
                  </a:lnTo>
                  <a:lnTo>
                    <a:pt x="58" y="810"/>
                  </a:lnTo>
                  <a:lnTo>
                    <a:pt x="61" y="808"/>
                  </a:lnTo>
                  <a:lnTo>
                    <a:pt x="61" y="804"/>
                  </a:lnTo>
                  <a:lnTo>
                    <a:pt x="61" y="804"/>
                  </a:lnTo>
                  <a:lnTo>
                    <a:pt x="61" y="804"/>
                  </a:lnTo>
                  <a:lnTo>
                    <a:pt x="61" y="802"/>
                  </a:lnTo>
                  <a:lnTo>
                    <a:pt x="61" y="802"/>
                  </a:lnTo>
                  <a:lnTo>
                    <a:pt x="64" y="796"/>
                  </a:lnTo>
                  <a:lnTo>
                    <a:pt x="64" y="790"/>
                  </a:lnTo>
                  <a:lnTo>
                    <a:pt x="64" y="784"/>
                  </a:lnTo>
                  <a:lnTo>
                    <a:pt x="67" y="780"/>
                  </a:lnTo>
                  <a:lnTo>
                    <a:pt x="70" y="764"/>
                  </a:lnTo>
                  <a:lnTo>
                    <a:pt x="75" y="750"/>
                  </a:lnTo>
                  <a:lnTo>
                    <a:pt x="81" y="736"/>
                  </a:lnTo>
                  <a:lnTo>
                    <a:pt x="84" y="720"/>
                  </a:lnTo>
                  <a:lnTo>
                    <a:pt x="90" y="706"/>
                  </a:lnTo>
                  <a:lnTo>
                    <a:pt x="96" y="692"/>
                  </a:lnTo>
                  <a:lnTo>
                    <a:pt x="99" y="678"/>
                  </a:lnTo>
                  <a:lnTo>
                    <a:pt x="104" y="664"/>
                  </a:lnTo>
                  <a:lnTo>
                    <a:pt x="110" y="648"/>
                  </a:lnTo>
                  <a:lnTo>
                    <a:pt x="116" y="634"/>
                  </a:lnTo>
                  <a:lnTo>
                    <a:pt x="119" y="620"/>
                  </a:lnTo>
                  <a:lnTo>
                    <a:pt x="125" y="606"/>
                  </a:lnTo>
                  <a:lnTo>
                    <a:pt x="128" y="590"/>
                  </a:lnTo>
                  <a:lnTo>
                    <a:pt x="131" y="576"/>
                  </a:lnTo>
                  <a:lnTo>
                    <a:pt x="134" y="562"/>
                  </a:lnTo>
                  <a:lnTo>
                    <a:pt x="136" y="546"/>
                  </a:lnTo>
                  <a:lnTo>
                    <a:pt x="139" y="532"/>
                  </a:lnTo>
                  <a:lnTo>
                    <a:pt x="142" y="518"/>
                  </a:lnTo>
                  <a:lnTo>
                    <a:pt x="145" y="502"/>
                  </a:lnTo>
                  <a:lnTo>
                    <a:pt x="148" y="488"/>
                  </a:lnTo>
                  <a:lnTo>
                    <a:pt x="151" y="474"/>
                  </a:lnTo>
                  <a:lnTo>
                    <a:pt x="154" y="458"/>
                  </a:lnTo>
                  <a:lnTo>
                    <a:pt x="160" y="444"/>
                  </a:lnTo>
                  <a:lnTo>
                    <a:pt x="166" y="430"/>
                  </a:lnTo>
                  <a:lnTo>
                    <a:pt x="168" y="418"/>
                  </a:lnTo>
                  <a:lnTo>
                    <a:pt x="171" y="404"/>
                  </a:lnTo>
                  <a:lnTo>
                    <a:pt x="174" y="392"/>
                  </a:lnTo>
                  <a:lnTo>
                    <a:pt x="180" y="380"/>
                  </a:lnTo>
                  <a:lnTo>
                    <a:pt x="183" y="368"/>
                  </a:lnTo>
                  <a:lnTo>
                    <a:pt x="186" y="356"/>
                  </a:lnTo>
                  <a:lnTo>
                    <a:pt x="192" y="344"/>
                  </a:lnTo>
                  <a:lnTo>
                    <a:pt x="198" y="332"/>
                  </a:lnTo>
                  <a:lnTo>
                    <a:pt x="209" y="312"/>
                  </a:lnTo>
                  <a:lnTo>
                    <a:pt x="218" y="292"/>
                  </a:lnTo>
                  <a:lnTo>
                    <a:pt x="227" y="272"/>
                  </a:lnTo>
                  <a:lnTo>
                    <a:pt x="235" y="252"/>
                  </a:lnTo>
                  <a:lnTo>
                    <a:pt x="244" y="230"/>
                  </a:lnTo>
                  <a:lnTo>
                    <a:pt x="253" y="210"/>
                  </a:lnTo>
                  <a:lnTo>
                    <a:pt x="261" y="190"/>
                  </a:lnTo>
                  <a:lnTo>
                    <a:pt x="273" y="168"/>
                  </a:lnTo>
                  <a:lnTo>
                    <a:pt x="282" y="148"/>
                  </a:lnTo>
                  <a:lnTo>
                    <a:pt x="291" y="128"/>
                  </a:lnTo>
                  <a:lnTo>
                    <a:pt x="302" y="110"/>
                  </a:lnTo>
                  <a:lnTo>
                    <a:pt x="317" y="90"/>
                  </a:lnTo>
                  <a:lnTo>
                    <a:pt x="328" y="74"/>
                  </a:lnTo>
                  <a:lnTo>
                    <a:pt x="346" y="58"/>
                  </a:lnTo>
                  <a:lnTo>
                    <a:pt x="360" y="42"/>
                  </a:lnTo>
                  <a:lnTo>
                    <a:pt x="381" y="28"/>
                  </a:lnTo>
                  <a:lnTo>
                    <a:pt x="378" y="20"/>
                  </a:lnTo>
                  <a:lnTo>
                    <a:pt x="375" y="14"/>
                  </a:lnTo>
                  <a:lnTo>
                    <a:pt x="375" y="6"/>
                  </a:lnTo>
                  <a:lnTo>
                    <a:pt x="375" y="0"/>
                  </a:lnTo>
                  <a:lnTo>
                    <a:pt x="369" y="2"/>
                  </a:lnTo>
                  <a:lnTo>
                    <a:pt x="360" y="6"/>
                  </a:lnTo>
                  <a:lnTo>
                    <a:pt x="354" y="10"/>
                  </a:lnTo>
                  <a:lnTo>
                    <a:pt x="349" y="14"/>
                  </a:lnTo>
                  <a:lnTo>
                    <a:pt x="343" y="18"/>
                  </a:lnTo>
                  <a:lnTo>
                    <a:pt x="337" y="22"/>
                  </a:lnTo>
                  <a:lnTo>
                    <a:pt x="331" y="26"/>
                  </a:lnTo>
                  <a:lnTo>
                    <a:pt x="325" y="32"/>
                  </a:lnTo>
                  <a:lnTo>
                    <a:pt x="317" y="36"/>
                  </a:lnTo>
                  <a:lnTo>
                    <a:pt x="311" y="44"/>
                  </a:lnTo>
                  <a:lnTo>
                    <a:pt x="305" y="50"/>
                  </a:lnTo>
                  <a:lnTo>
                    <a:pt x="302" y="58"/>
                  </a:lnTo>
                  <a:lnTo>
                    <a:pt x="299" y="64"/>
                  </a:lnTo>
                  <a:lnTo>
                    <a:pt x="293" y="72"/>
                  </a:lnTo>
                  <a:lnTo>
                    <a:pt x="291" y="80"/>
                  </a:lnTo>
                  <a:lnTo>
                    <a:pt x="288" y="88"/>
                  </a:lnTo>
                  <a:lnTo>
                    <a:pt x="285" y="96"/>
                  </a:lnTo>
                  <a:lnTo>
                    <a:pt x="282" y="104"/>
                  </a:lnTo>
                  <a:lnTo>
                    <a:pt x="279" y="112"/>
                  </a:lnTo>
                  <a:lnTo>
                    <a:pt x="276" y="120"/>
                  </a:lnTo>
                  <a:lnTo>
                    <a:pt x="273" y="126"/>
                  </a:lnTo>
                  <a:lnTo>
                    <a:pt x="267" y="134"/>
                  </a:lnTo>
                  <a:lnTo>
                    <a:pt x="264" y="140"/>
                  </a:lnTo>
                  <a:lnTo>
                    <a:pt x="259" y="146"/>
                  </a:lnTo>
                  <a:lnTo>
                    <a:pt x="256" y="154"/>
                  </a:lnTo>
                  <a:lnTo>
                    <a:pt x="250" y="160"/>
                  </a:lnTo>
                  <a:lnTo>
                    <a:pt x="247" y="168"/>
                  </a:lnTo>
                  <a:lnTo>
                    <a:pt x="244" y="174"/>
                  </a:lnTo>
                  <a:lnTo>
                    <a:pt x="238" y="182"/>
                  </a:lnTo>
                  <a:lnTo>
                    <a:pt x="232" y="188"/>
                  </a:lnTo>
                  <a:lnTo>
                    <a:pt x="229" y="196"/>
                  </a:lnTo>
                  <a:lnTo>
                    <a:pt x="224" y="202"/>
                  </a:lnTo>
                  <a:lnTo>
                    <a:pt x="221" y="208"/>
                  </a:lnTo>
                  <a:lnTo>
                    <a:pt x="215" y="216"/>
                  </a:lnTo>
                  <a:lnTo>
                    <a:pt x="212" y="222"/>
                  </a:lnTo>
                  <a:lnTo>
                    <a:pt x="206" y="230"/>
                  </a:lnTo>
                  <a:lnTo>
                    <a:pt x="203" y="236"/>
                  </a:lnTo>
                  <a:lnTo>
                    <a:pt x="200" y="244"/>
                  </a:lnTo>
                  <a:lnTo>
                    <a:pt x="198" y="250"/>
                  </a:lnTo>
                  <a:lnTo>
                    <a:pt x="198" y="258"/>
                  </a:lnTo>
                  <a:lnTo>
                    <a:pt x="192" y="274"/>
                  </a:lnTo>
                  <a:lnTo>
                    <a:pt x="183" y="290"/>
                  </a:lnTo>
                  <a:lnTo>
                    <a:pt x="177" y="304"/>
                  </a:lnTo>
                  <a:lnTo>
                    <a:pt x="171" y="320"/>
                  </a:lnTo>
                  <a:lnTo>
                    <a:pt x="168" y="336"/>
                  </a:lnTo>
                  <a:lnTo>
                    <a:pt x="163" y="352"/>
                  </a:lnTo>
                  <a:lnTo>
                    <a:pt x="160" y="366"/>
                  </a:lnTo>
                  <a:lnTo>
                    <a:pt x="154" y="382"/>
                  </a:lnTo>
                  <a:lnTo>
                    <a:pt x="23" y="826"/>
                  </a:lnTo>
                  <a:lnTo>
                    <a:pt x="23" y="828"/>
                  </a:lnTo>
                  <a:lnTo>
                    <a:pt x="20" y="828"/>
                  </a:lnTo>
                  <a:lnTo>
                    <a:pt x="20" y="828"/>
                  </a:lnTo>
                  <a:lnTo>
                    <a:pt x="17" y="828"/>
                  </a:lnTo>
                  <a:lnTo>
                    <a:pt x="17" y="838"/>
                  </a:lnTo>
                  <a:lnTo>
                    <a:pt x="14" y="846"/>
                  </a:lnTo>
                  <a:lnTo>
                    <a:pt x="14" y="856"/>
                  </a:lnTo>
                  <a:lnTo>
                    <a:pt x="14" y="864"/>
                  </a:lnTo>
                  <a:lnTo>
                    <a:pt x="11" y="874"/>
                  </a:lnTo>
                  <a:lnTo>
                    <a:pt x="9" y="882"/>
                  </a:lnTo>
                  <a:lnTo>
                    <a:pt x="6" y="892"/>
                  </a:lnTo>
                  <a:lnTo>
                    <a:pt x="3" y="902"/>
                  </a:lnTo>
                  <a:lnTo>
                    <a:pt x="3" y="902"/>
                  </a:lnTo>
                  <a:lnTo>
                    <a:pt x="0" y="904"/>
                  </a:lnTo>
                  <a:lnTo>
                    <a:pt x="0" y="906"/>
                  </a:lnTo>
                  <a:lnTo>
                    <a:pt x="0" y="908"/>
                  </a:lnTo>
                  <a:lnTo>
                    <a:pt x="0" y="910"/>
                  </a:lnTo>
                  <a:lnTo>
                    <a:pt x="0" y="910"/>
                  </a:lnTo>
                  <a:lnTo>
                    <a:pt x="0" y="910"/>
                  </a:lnTo>
                  <a:lnTo>
                    <a:pt x="3" y="910"/>
                  </a:lnTo>
                  <a:lnTo>
                    <a:pt x="17" y="912"/>
                  </a:lnTo>
                  <a:close/>
                </a:path>
              </a:pathLst>
            </a:custGeom>
            <a:solidFill>
              <a:srgbClr val="33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05120" y="3832200"/>
              <a:ext cx="479160" cy="1336680"/>
            </a:xfrm>
            <a:custGeom>
              <a:avLst/>
              <a:gdLst/>
              <a:ahLst/>
              <a:rect l="l" t="t" r="r" b="b"/>
              <a:pathLst>
                <a:path w="302" h="842">
                  <a:moveTo>
                    <a:pt x="282" y="840"/>
                  </a:moveTo>
                  <a:lnTo>
                    <a:pt x="282" y="834"/>
                  </a:lnTo>
                  <a:lnTo>
                    <a:pt x="284" y="828"/>
                  </a:lnTo>
                  <a:lnTo>
                    <a:pt x="284" y="822"/>
                  </a:lnTo>
                  <a:lnTo>
                    <a:pt x="287" y="816"/>
                  </a:lnTo>
                  <a:lnTo>
                    <a:pt x="290" y="808"/>
                  </a:lnTo>
                  <a:lnTo>
                    <a:pt x="293" y="802"/>
                  </a:lnTo>
                  <a:lnTo>
                    <a:pt x="296" y="796"/>
                  </a:lnTo>
                  <a:lnTo>
                    <a:pt x="299" y="790"/>
                  </a:lnTo>
                  <a:lnTo>
                    <a:pt x="302" y="770"/>
                  </a:lnTo>
                  <a:lnTo>
                    <a:pt x="302" y="752"/>
                  </a:lnTo>
                  <a:lnTo>
                    <a:pt x="302" y="732"/>
                  </a:lnTo>
                  <a:lnTo>
                    <a:pt x="302" y="712"/>
                  </a:lnTo>
                  <a:lnTo>
                    <a:pt x="299" y="694"/>
                  </a:lnTo>
                  <a:lnTo>
                    <a:pt x="299" y="674"/>
                  </a:lnTo>
                  <a:lnTo>
                    <a:pt x="296" y="654"/>
                  </a:lnTo>
                  <a:lnTo>
                    <a:pt x="296" y="636"/>
                  </a:lnTo>
                  <a:lnTo>
                    <a:pt x="293" y="624"/>
                  </a:lnTo>
                  <a:lnTo>
                    <a:pt x="293" y="610"/>
                  </a:lnTo>
                  <a:lnTo>
                    <a:pt x="290" y="598"/>
                  </a:lnTo>
                  <a:lnTo>
                    <a:pt x="287" y="586"/>
                  </a:lnTo>
                  <a:lnTo>
                    <a:pt x="287" y="572"/>
                  </a:lnTo>
                  <a:lnTo>
                    <a:pt x="284" y="560"/>
                  </a:lnTo>
                  <a:lnTo>
                    <a:pt x="282" y="546"/>
                  </a:lnTo>
                  <a:lnTo>
                    <a:pt x="282" y="534"/>
                  </a:lnTo>
                  <a:lnTo>
                    <a:pt x="279" y="518"/>
                  </a:lnTo>
                  <a:lnTo>
                    <a:pt x="276" y="504"/>
                  </a:lnTo>
                  <a:lnTo>
                    <a:pt x="276" y="488"/>
                  </a:lnTo>
                  <a:lnTo>
                    <a:pt x="276" y="474"/>
                  </a:lnTo>
                  <a:lnTo>
                    <a:pt x="276" y="462"/>
                  </a:lnTo>
                  <a:lnTo>
                    <a:pt x="276" y="448"/>
                  </a:lnTo>
                  <a:lnTo>
                    <a:pt x="276" y="436"/>
                  </a:lnTo>
                  <a:lnTo>
                    <a:pt x="276" y="424"/>
                  </a:lnTo>
                  <a:lnTo>
                    <a:pt x="276" y="410"/>
                  </a:lnTo>
                  <a:lnTo>
                    <a:pt x="276" y="398"/>
                  </a:lnTo>
                  <a:lnTo>
                    <a:pt x="273" y="386"/>
                  </a:lnTo>
                  <a:lnTo>
                    <a:pt x="276" y="374"/>
                  </a:lnTo>
                  <a:lnTo>
                    <a:pt x="273" y="370"/>
                  </a:lnTo>
                  <a:lnTo>
                    <a:pt x="273" y="366"/>
                  </a:lnTo>
                  <a:lnTo>
                    <a:pt x="273" y="364"/>
                  </a:lnTo>
                  <a:lnTo>
                    <a:pt x="270" y="360"/>
                  </a:lnTo>
                  <a:lnTo>
                    <a:pt x="270" y="350"/>
                  </a:lnTo>
                  <a:lnTo>
                    <a:pt x="270" y="340"/>
                  </a:lnTo>
                  <a:lnTo>
                    <a:pt x="270" y="332"/>
                  </a:lnTo>
                  <a:lnTo>
                    <a:pt x="270" y="322"/>
                  </a:lnTo>
                  <a:lnTo>
                    <a:pt x="264" y="302"/>
                  </a:lnTo>
                  <a:lnTo>
                    <a:pt x="261" y="284"/>
                  </a:lnTo>
                  <a:lnTo>
                    <a:pt x="258" y="264"/>
                  </a:lnTo>
                  <a:lnTo>
                    <a:pt x="258" y="246"/>
                  </a:lnTo>
                  <a:lnTo>
                    <a:pt x="255" y="228"/>
                  </a:lnTo>
                  <a:lnTo>
                    <a:pt x="252" y="210"/>
                  </a:lnTo>
                  <a:lnTo>
                    <a:pt x="247" y="192"/>
                  </a:lnTo>
                  <a:lnTo>
                    <a:pt x="241" y="172"/>
                  </a:lnTo>
                  <a:lnTo>
                    <a:pt x="238" y="168"/>
                  </a:lnTo>
                  <a:lnTo>
                    <a:pt x="238" y="162"/>
                  </a:lnTo>
                  <a:lnTo>
                    <a:pt x="235" y="156"/>
                  </a:lnTo>
                  <a:lnTo>
                    <a:pt x="232" y="152"/>
                  </a:lnTo>
                  <a:lnTo>
                    <a:pt x="232" y="146"/>
                  </a:lnTo>
                  <a:lnTo>
                    <a:pt x="229" y="142"/>
                  </a:lnTo>
                  <a:lnTo>
                    <a:pt x="226" y="138"/>
                  </a:lnTo>
                  <a:lnTo>
                    <a:pt x="226" y="132"/>
                  </a:lnTo>
                  <a:lnTo>
                    <a:pt x="221" y="124"/>
                  </a:lnTo>
                  <a:lnTo>
                    <a:pt x="218" y="116"/>
                  </a:lnTo>
                  <a:lnTo>
                    <a:pt x="212" y="106"/>
                  </a:lnTo>
                  <a:lnTo>
                    <a:pt x="209" y="98"/>
                  </a:lnTo>
                  <a:lnTo>
                    <a:pt x="203" y="88"/>
                  </a:lnTo>
                  <a:lnTo>
                    <a:pt x="197" y="80"/>
                  </a:lnTo>
                  <a:lnTo>
                    <a:pt x="194" y="72"/>
                  </a:lnTo>
                  <a:lnTo>
                    <a:pt x="189" y="64"/>
                  </a:lnTo>
                  <a:lnTo>
                    <a:pt x="186" y="62"/>
                  </a:lnTo>
                  <a:lnTo>
                    <a:pt x="186" y="60"/>
                  </a:lnTo>
                  <a:lnTo>
                    <a:pt x="183" y="58"/>
                  </a:lnTo>
                  <a:lnTo>
                    <a:pt x="183" y="56"/>
                  </a:lnTo>
                  <a:lnTo>
                    <a:pt x="180" y="54"/>
                  </a:lnTo>
                  <a:lnTo>
                    <a:pt x="180" y="50"/>
                  </a:lnTo>
                  <a:lnTo>
                    <a:pt x="180" y="48"/>
                  </a:lnTo>
                  <a:lnTo>
                    <a:pt x="177" y="46"/>
                  </a:lnTo>
                  <a:lnTo>
                    <a:pt x="174" y="42"/>
                  </a:lnTo>
                  <a:lnTo>
                    <a:pt x="171" y="40"/>
                  </a:lnTo>
                  <a:lnTo>
                    <a:pt x="168" y="36"/>
                  </a:lnTo>
                  <a:lnTo>
                    <a:pt x="165" y="34"/>
                  </a:lnTo>
                  <a:lnTo>
                    <a:pt x="162" y="30"/>
                  </a:lnTo>
                  <a:lnTo>
                    <a:pt x="162" y="28"/>
                  </a:lnTo>
                  <a:lnTo>
                    <a:pt x="159" y="24"/>
                  </a:lnTo>
                  <a:lnTo>
                    <a:pt x="157" y="22"/>
                  </a:lnTo>
                  <a:lnTo>
                    <a:pt x="154" y="20"/>
                  </a:lnTo>
                  <a:lnTo>
                    <a:pt x="154" y="20"/>
                  </a:lnTo>
                  <a:lnTo>
                    <a:pt x="151" y="18"/>
                  </a:lnTo>
                  <a:lnTo>
                    <a:pt x="148" y="18"/>
                  </a:lnTo>
                  <a:lnTo>
                    <a:pt x="148" y="16"/>
                  </a:lnTo>
                  <a:lnTo>
                    <a:pt x="145" y="16"/>
                  </a:lnTo>
                  <a:lnTo>
                    <a:pt x="142" y="14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39" y="12"/>
                  </a:lnTo>
                  <a:lnTo>
                    <a:pt x="136" y="12"/>
                  </a:lnTo>
                  <a:lnTo>
                    <a:pt x="133" y="12"/>
                  </a:lnTo>
                  <a:lnTo>
                    <a:pt x="133" y="10"/>
                  </a:lnTo>
                  <a:lnTo>
                    <a:pt x="133" y="10"/>
                  </a:lnTo>
                  <a:lnTo>
                    <a:pt x="130" y="8"/>
                  </a:lnTo>
                  <a:lnTo>
                    <a:pt x="130" y="8"/>
                  </a:lnTo>
                  <a:lnTo>
                    <a:pt x="127" y="8"/>
                  </a:lnTo>
                  <a:lnTo>
                    <a:pt x="125" y="8"/>
                  </a:lnTo>
                  <a:lnTo>
                    <a:pt x="122" y="6"/>
                  </a:lnTo>
                  <a:lnTo>
                    <a:pt x="122" y="6"/>
                  </a:lnTo>
                  <a:lnTo>
                    <a:pt x="119" y="6"/>
                  </a:lnTo>
                  <a:lnTo>
                    <a:pt x="116" y="4"/>
                  </a:lnTo>
                  <a:lnTo>
                    <a:pt x="113" y="4"/>
                  </a:lnTo>
                  <a:lnTo>
                    <a:pt x="110" y="4"/>
                  </a:lnTo>
                  <a:lnTo>
                    <a:pt x="101" y="2"/>
                  </a:lnTo>
                  <a:lnTo>
                    <a:pt x="95" y="0"/>
                  </a:lnTo>
                  <a:lnTo>
                    <a:pt x="87" y="0"/>
                  </a:lnTo>
                  <a:lnTo>
                    <a:pt x="81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1" y="2"/>
                  </a:lnTo>
                  <a:lnTo>
                    <a:pt x="55" y="4"/>
                  </a:lnTo>
                  <a:lnTo>
                    <a:pt x="46" y="30"/>
                  </a:lnTo>
                  <a:lnTo>
                    <a:pt x="40" y="58"/>
                  </a:lnTo>
                  <a:lnTo>
                    <a:pt x="32" y="86"/>
                  </a:lnTo>
                  <a:lnTo>
                    <a:pt x="23" y="114"/>
                  </a:lnTo>
                  <a:lnTo>
                    <a:pt x="14" y="140"/>
                  </a:lnTo>
                  <a:lnTo>
                    <a:pt x="8" y="168"/>
                  </a:lnTo>
                  <a:lnTo>
                    <a:pt x="2" y="196"/>
                  </a:lnTo>
                  <a:lnTo>
                    <a:pt x="0" y="224"/>
                  </a:lnTo>
                  <a:lnTo>
                    <a:pt x="2" y="214"/>
                  </a:lnTo>
                  <a:lnTo>
                    <a:pt x="5" y="206"/>
                  </a:lnTo>
                  <a:lnTo>
                    <a:pt x="8" y="196"/>
                  </a:lnTo>
                  <a:lnTo>
                    <a:pt x="11" y="186"/>
                  </a:lnTo>
                  <a:lnTo>
                    <a:pt x="14" y="176"/>
                  </a:lnTo>
                  <a:lnTo>
                    <a:pt x="17" y="166"/>
                  </a:lnTo>
                  <a:lnTo>
                    <a:pt x="20" y="156"/>
                  </a:lnTo>
                  <a:lnTo>
                    <a:pt x="23" y="146"/>
                  </a:lnTo>
                  <a:lnTo>
                    <a:pt x="26" y="140"/>
                  </a:lnTo>
                  <a:lnTo>
                    <a:pt x="26" y="134"/>
                  </a:lnTo>
                  <a:lnTo>
                    <a:pt x="29" y="128"/>
                  </a:lnTo>
                  <a:lnTo>
                    <a:pt x="32" y="122"/>
                  </a:lnTo>
                  <a:lnTo>
                    <a:pt x="32" y="116"/>
                  </a:lnTo>
                  <a:lnTo>
                    <a:pt x="34" y="112"/>
                  </a:lnTo>
                  <a:lnTo>
                    <a:pt x="34" y="106"/>
                  </a:lnTo>
                  <a:lnTo>
                    <a:pt x="37" y="100"/>
                  </a:lnTo>
                  <a:lnTo>
                    <a:pt x="40" y="94"/>
                  </a:lnTo>
                  <a:lnTo>
                    <a:pt x="40" y="90"/>
                  </a:lnTo>
                  <a:lnTo>
                    <a:pt x="43" y="84"/>
                  </a:lnTo>
                  <a:lnTo>
                    <a:pt x="43" y="80"/>
                  </a:lnTo>
                  <a:lnTo>
                    <a:pt x="49" y="72"/>
                  </a:lnTo>
                  <a:lnTo>
                    <a:pt x="52" y="64"/>
                  </a:lnTo>
                  <a:lnTo>
                    <a:pt x="58" y="58"/>
                  </a:lnTo>
                  <a:lnTo>
                    <a:pt x="64" y="52"/>
                  </a:lnTo>
                  <a:lnTo>
                    <a:pt x="69" y="46"/>
                  </a:lnTo>
                  <a:lnTo>
                    <a:pt x="78" y="40"/>
                  </a:lnTo>
                  <a:lnTo>
                    <a:pt x="87" y="36"/>
                  </a:lnTo>
                  <a:lnTo>
                    <a:pt x="95" y="34"/>
                  </a:lnTo>
                  <a:lnTo>
                    <a:pt x="101" y="32"/>
                  </a:lnTo>
                  <a:lnTo>
                    <a:pt x="107" y="32"/>
                  </a:lnTo>
                  <a:lnTo>
                    <a:pt x="113" y="30"/>
                  </a:lnTo>
                  <a:lnTo>
                    <a:pt x="116" y="30"/>
                  </a:lnTo>
                  <a:lnTo>
                    <a:pt x="122" y="30"/>
                  </a:lnTo>
                  <a:lnTo>
                    <a:pt x="127" y="30"/>
                  </a:lnTo>
                  <a:lnTo>
                    <a:pt x="130" y="32"/>
                  </a:lnTo>
                  <a:lnTo>
                    <a:pt x="136" y="34"/>
                  </a:lnTo>
                  <a:lnTo>
                    <a:pt x="145" y="42"/>
                  </a:lnTo>
                  <a:lnTo>
                    <a:pt x="151" y="50"/>
                  </a:lnTo>
                  <a:lnTo>
                    <a:pt x="157" y="56"/>
                  </a:lnTo>
                  <a:lnTo>
                    <a:pt x="162" y="64"/>
                  </a:lnTo>
                  <a:lnTo>
                    <a:pt x="168" y="72"/>
                  </a:lnTo>
                  <a:lnTo>
                    <a:pt x="174" y="80"/>
                  </a:lnTo>
                  <a:lnTo>
                    <a:pt x="180" y="90"/>
                  </a:lnTo>
                  <a:lnTo>
                    <a:pt x="183" y="98"/>
                  </a:lnTo>
                  <a:lnTo>
                    <a:pt x="189" y="106"/>
                  </a:lnTo>
                  <a:lnTo>
                    <a:pt x="191" y="114"/>
                  </a:lnTo>
                  <a:lnTo>
                    <a:pt x="194" y="124"/>
                  </a:lnTo>
                  <a:lnTo>
                    <a:pt x="200" y="132"/>
                  </a:lnTo>
                  <a:lnTo>
                    <a:pt x="203" y="142"/>
                  </a:lnTo>
                  <a:lnTo>
                    <a:pt x="206" y="150"/>
                  </a:lnTo>
                  <a:lnTo>
                    <a:pt x="209" y="160"/>
                  </a:lnTo>
                  <a:lnTo>
                    <a:pt x="209" y="168"/>
                  </a:lnTo>
                  <a:lnTo>
                    <a:pt x="212" y="178"/>
                  </a:lnTo>
                  <a:lnTo>
                    <a:pt x="212" y="186"/>
                  </a:lnTo>
                  <a:lnTo>
                    <a:pt x="215" y="194"/>
                  </a:lnTo>
                  <a:lnTo>
                    <a:pt x="218" y="202"/>
                  </a:lnTo>
                  <a:lnTo>
                    <a:pt x="221" y="210"/>
                  </a:lnTo>
                  <a:lnTo>
                    <a:pt x="226" y="256"/>
                  </a:lnTo>
                  <a:lnTo>
                    <a:pt x="232" y="300"/>
                  </a:lnTo>
                  <a:lnTo>
                    <a:pt x="238" y="344"/>
                  </a:lnTo>
                  <a:lnTo>
                    <a:pt x="244" y="390"/>
                  </a:lnTo>
                  <a:lnTo>
                    <a:pt x="250" y="434"/>
                  </a:lnTo>
                  <a:lnTo>
                    <a:pt x="252" y="478"/>
                  </a:lnTo>
                  <a:lnTo>
                    <a:pt x="255" y="522"/>
                  </a:lnTo>
                  <a:lnTo>
                    <a:pt x="258" y="566"/>
                  </a:lnTo>
                  <a:lnTo>
                    <a:pt x="255" y="586"/>
                  </a:lnTo>
                  <a:lnTo>
                    <a:pt x="255" y="604"/>
                  </a:lnTo>
                  <a:lnTo>
                    <a:pt x="255" y="622"/>
                  </a:lnTo>
                  <a:lnTo>
                    <a:pt x="252" y="642"/>
                  </a:lnTo>
                  <a:lnTo>
                    <a:pt x="255" y="646"/>
                  </a:lnTo>
                  <a:lnTo>
                    <a:pt x="258" y="652"/>
                  </a:lnTo>
                  <a:lnTo>
                    <a:pt x="261" y="656"/>
                  </a:lnTo>
                  <a:lnTo>
                    <a:pt x="264" y="660"/>
                  </a:lnTo>
                  <a:lnTo>
                    <a:pt x="267" y="664"/>
                  </a:lnTo>
                  <a:lnTo>
                    <a:pt x="267" y="668"/>
                  </a:lnTo>
                  <a:lnTo>
                    <a:pt x="267" y="672"/>
                  </a:lnTo>
                  <a:lnTo>
                    <a:pt x="267" y="678"/>
                  </a:lnTo>
                  <a:lnTo>
                    <a:pt x="267" y="682"/>
                  </a:lnTo>
                  <a:lnTo>
                    <a:pt x="267" y="686"/>
                  </a:lnTo>
                  <a:lnTo>
                    <a:pt x="267" y="690"/>
                  </a:lnTo>
                  <a:lnTo>
                    <a:pt x="267" y="694"/>
                  </a:lnTo>
                  <a:lnTo>
                    <a:pt x="261" y="698"/>
                  </a:lnTo>
                  <a:lnTo>
                    <a:pt x="258" y="702"/>
                  </a:lnTo>
                  <a:lnTo>
                    <a:pt x="258" y="706"/>
                  </a:lnTo>
                  <a:lnTo>
                    <a:pt x="258" y="712"/>
                  </a:lnTo>
                  <a:lnTo>
                    <a:pt x="258" y="716"/>
                  </a:lnTo>
                  <a:lnTo>
                    <a:pt x="258" y="722"/>
                  </a:lnTo>
                  <a:lnTo>
                    <a:pt x="258" y="726"/>
                  </a:lnTo>
                  <a:lnTo>
                    <a:pt x="255" y="732"/>
                  </a:lnTo>
                  <a:lnTo>
                    <a:pt x="258" y="746"/>
                  </a:lnTo>
                  <a:lnTo>
                    <a:pt x="261" y="760"/>
                  </a:lnTo>
                  <a:lnTo>
                    <a:pt x="264" y="772"/>
                  </a:lnTo>
                  <a:lnTo>
                    <a:pt x="267" y="786"/>
                  </a:lnTo>
                  <a:lnTo>
                    <a:pt x="270" y="800"/>
                  </a:lnTo>
                  <a:lnTo>
                    <a:pt x="273" y="814"/>
                  </a:lnTo>
                  <a:lnTo>
                    <a:pt x="276" y="828"/>
                  </a:lnTo>
                  <a:lnTo>
                    <a:pt x="282" y="842"/>
                  </a:lnTo>
                  <a:lnTo>
                    <a:pt x="282" y="842"/>
                  </a:lnTo>
                  <a:lnTo>
                    <a:pt x="282" y="842"/>
                  </a:lnTo>
                  <a:lnTo>
                    <a:pt x="282" y="842"/>
                  </a:lnTo>
                  <a:lnTo>
                    <a:pt x="282" y="840"/>
                  </a:lnTo>
                  <a:close/>
                </a:path>
              </a:pathLst>
            </a:custGeom>
            <a:solidFill>
              <a:srgbClr val="33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84520" y="4930920"/>
              <a:ext cx="447480" cy="139680"/>
            </a:xfrm>
            <a:custGeom>
              <a:avLst/>
              <a:gdLst/>
              <a:ahLst/>
              <a:rect l="l" t="t" r="r" b="b"/>
              <a:pathLst>
                <a:path w="282" h="88">
                  <a:moveTo>
                    <a:pt x="3" y="88"/>
                  </a:moveTo>
                  <a:lnTo>
                    <a:pt x="12" y="86"/>
                  </a:lnTo>
                  <a:lnTo>
                    <a:pt x="17" y="84"/>
                  </a:lnTo>
                  <a:lnTo>
                    <a:pt x="23" y="82"/>
                  </a:lnTo>
                  <a:lnTo>
                    <a:pt x="32" y="80"/>
                  </a:lnTo>
                  <a:lnTo>
                    <a:pt x="38" y="78"/>
                  </a:lnTo>
                  <a:lnTo>
                    <a:pt x="46" y="78"/>
                  </a:lnTo>
                  <a:lnTo>
                    <a:pt x="52" y="76"/>
                  </a:lnTo>
                  <a:lnTo>
                    <a:pt x="58" y="74"/>
                  </a:lnTo>
                  <a:lnTo>
                    <a:pt x="67" y="72"/>
                  </a:lnTo>
                  <a:lnTo>
                    <a:pt x="73" y="70"/>
                  </a:lnTo>
                  <a:lnTo>
                    <a:pt x="78" y="68"/>
                  </a:lnTo>
                  <a:lnTo>
                    <a:pt x="87" y="66"/>
                  </a:lnTo>
                  <a:lnTo>
                    <a:pt x="93" y="64"/>
                  </a:lnTo>
                  <a:lnTo>
                    <a:pt x="99" y="62"/>
                  </a:lnTo>
                  <a:lnTo>
                    <a:pt x="108" y="60"/>
                  </a:lnTo>
                  <a:lnTo>
                    <a:pt x="113" y="60"/>
                  </a:lnTo>
                  <a:lnTo>
                    <a:pt x="119" y="58"/>
                  </a:lnTo>
                  <a:lnTo>
                    <a:pt x="122" y="58"/>
                  </a:lnTo>
                  <a:lnTo>
                    <a:pt x="128" y="56"/>
                  </a:lnTo>
                  <a:lnTo>
                    <a:pt x="134" y="56"/>
                  </a:lnTo>
                  <a:lnTo>
                    <a:pt x="137" y="54"/>
                  </a:lnTo>
                  <a:lnTo>
                    <a:pt x="142" y="54"/>
                  </a:lnTo>
                  <a:lnTo>
                    <a:pt x="145" y="52"/>
                  </a:lnTo>
                  <a:lnTo>
                    <a:pt x="151" y="52"/>
                  </a:lnTo>
                  <a:lnTo>
                    <a:pt x="157" y="50"/>
                  </a:lnTo>
                  <a:lnTo>
                    <a:pt x="163" y="48"/>
                  </a:lnTo>
                  <a:lnTo>
                    <a:pt x="171" y="46"/>
                  </a:lnTo>
                  <a:lnTo>
                    <a:pt x="177" y="44"/>
                  </a:lnTo>
                  <a:lnTo>
                    <a:pt x="183" y="42"/>
                  </a:lnTo>
                  <a:lnTo>
                    <a:pt x="192" y="40"/>
                  </a:lnTo>
                  <a:lnTo>
                    <a:pt x="198" y="38"/>
                  </a:lnTo>
                  <a:lnTo>
                    <a:pt x="203" y="36"/>
                  </a:lnTo>
                  <a:lnTo>
                    <a:pt x="209" y="34"/>
                  </a:lnTo>
                  <a:lnTo>
                    <a:pt x="218" y="32"/>
                  </a:lnTo>
                  <a:lnTo>
                    <a:pt x="224" y="30"/>
                  </a:lnTo>
                  <a:lnTo>
                    <a:pt x="230" y="28"/>
                  </a:lnTo>
                  <a:lnTo>
                    <a:pt x="235" y="26"/>
                  </a:lnTo>
                  <a:lnTo>
                    <a:pt x="241" y="24"/>
                  </a:lnTo>
                  <a:lnTo>
                    <a:pt x="247" y="22"/>
                  </a:lnTo>
                  <a:lnTo>
                    <a:pt x="253" y="20"/>
                  </a:lnTo>
                  <a:lnTo>
                    <a:pt x="273" y="12"/>
                  </a:lnTo>
                  <a:lnTo>
                    <a:pt x="276" y="12"/>
                  </a:lnTo>
                  <a:lnTo>
                    <a:pt x="276" y="10"/>
                  </a:lnTo>
                  <a:lnTo>
                    <a:pt x="279" y="10"/>
                  </a:lnTo>
                  <a:lnTo>
                    <a:pt x="279" y="10"/>
                  </a:lnTo>
                  <a:lnTo>
                    <a:pt x="282" y="4"/>
                  </a:lnTo>
                  <a:lnTo>
                    <a:pt x="282" y="4"/>
                  </a:lnTo>
                  <a:lnTo>
                    <a:pt x="282" y="2"/>
                  </a:lnTo>
                  <a:lnTo>
                    <a:pt x="282" y="2"/>
                  </a:lnTo>
                  <a:lnTo>
                    <a:pt x="279" y="0"/>
                  </a:lnTo>
                  <a:lnTo>
                    <a:pt x="273" y="2"/>
                  </a:lnTo>
                  <a:lnTo>
                    <a:pt x="267" y="4"/>
                  </a:lnTo>
                  <a:lnTo>
                    <a:pt x="262" y="6"/>
                  </a:lnTo>
                  <a:lnTo>
                    <a:pt x="256" y="8"/>
                  </a:lnTo>
                  <a:lnTo>
                    <a:pt x="250" y="10"/>
                  </a:lnTo>
                  <a:lnTo>
                    <a:pt x="241" y="12"/>
                  </a:lnTo>
                  <a:lnTo>
                    <a:pt x="235" y="12"/>
                  </a:lnTo>
                  <a:lnTo>
                    <a:pt x="230" y="14"/>
                  </a:lnTo>
                  <a:lnTo>
                    <a:pt x="224" y="16"/>
                  </a:lnTo>
                  <a:lnTo>
                    <a:pt x="215" y="18"/>
                  </a:lnTo>
                  <a:lnTo>
                    <a:pt x="206" y="20"/>
                  </a:lnTo>
                  <a:lnTo>
                    <a:pt x="198" y="22"/>
                  </a:lnTo>
                  <a:lnTo>
                    <a:pt x="189" y="24"/>
                  </a:lnTo>
                  <a:lnTo>
                    <a:pt x="183" y="26"/>
                  </a:lnTo>
                  <a:lnTo>
                    <a:pt x="174" y="28"/>
                  </a:lnTo>
                  <a:lnTo>
                    <a:pt x="166" y="28"/>
                  </a:lnTo>
                  <a:lnTo>
                    <a:pt x="157" y="30"/>
                  </a:lnTo>
                  <a:lnTo>
                    <a:pt x="151" y="32"/>
                  </a:lnTo>
                  <a:lnTo>
                    <a:pt x="142" y="34"/>
                  </a:lnTo>
                  <a:lnTo>
                    <a:pt x="134" y="36"/>
                  </a:lnTo>
                  <a:lnTo>
                    <a:pt x="128" y="38"/>
                  </a:lnTo>
                  <a:lnTo>
                    <a:pt x="119" y="40"/>
                  </a:lnTo>
                  <a:lnTo>
                    <a:pt x="110" y="42"/>
                  </a:lnTo>
                  <a:lnTo>
                    <a:pt x="105" y="44"/>
                  </a:lnTo>
                  <a:lnTo>
                    <a:pt x="99" y="46"/>
                  </a:lnTo>
                  <a:lnTo>
                    <a:pt x="93" y="48"/>
                  </a:lnTo>
                  <a:lnTo>
                    <a:pt x="90" y="50"/>
                  </a:lnTo>
                  <a:lnTo>
                    <a:pt x="84" y="52"/>
                  </a:lnTo>
                  <a:lnTo>
                    <a:pt x="78" y="54"/>
                  </a:lnTo>
                  <a:lnTo>
                    <a:pt x="73" y="54"/>
                  </a:lnTo>
                  <a:lnTo>
                    <a:pt x="70" y="56"/>
                  </a:lnTo>
                  <a:lnTo>
                    <a:pt x="64" y="58"/>
                  </a:lnTo>
                  <a:lnTo>
                    <a:pt x="61" y="58"/>
                  </a:lnTo>
                  <a:lnTo>
                    <a:pt x="58" y="60"/>
                  </a:lnTo>
                  <a:lnTo>
                    <a:pt x="55" y="60"/>
                  </a:lnTo>
                  <a:lnTo>
                    <a:pt x="52" y="62"/>
                  </a:lnTo>
                  <a:lnTo>
                    <a:pt x="46" y="62"/>
                  </a:lnTo>
                  <a:lnTo>
                    <a:pt x="44" y="64"/>
                  </a:lnTo>
                  <a:lnTo>
                    <a:pt x="41" y="64"/>
                  </a:lnTo>
                  <a:lnTo>
                    <a:pt x="38" y="64"/>
                  </a:lnTo>
                  <a:lnTo>
                    <a:pt x="32" y="66"/>
                  </a:lnTo>
                  <a:lnTo>
                    <a:pt x="29" y="66"/>
                  </a:lnTo>
                  <a:lnTo>
                    <a:pt x="26" y="68"/>
                  </a:lnTo>
                  <a:lnTo>
                    <a:pt x="23" y="68"/>
                  </a:lnTo>
                  <a:lnTo>
                    <a:pt x="17" y="68"/>
                  </a:lnTo>
                  <a:lnTo>
                    <a:pt x="15" y="68"/>
                  </a:lnTo>
                  <a:lnTo>
                    <a:pt x="12" y="70"/>
                  </a:lnTo>
                  <a:lnTo>
                    <a:pt x="9" y="70"/>
                  </a:lnTo>
                  <a:lnTo>
                    <a:pt x="6" y="70"/>
                  </a:lnTo>
                  <a:lnTo>
                    <a:pt x="3" y="72"/>
                  </a:lnTo>
                  <a:lnTo>
                    <a:pt x="3" y="72"/>
                  </a:lnTo>
                  <a:lnTo>
                    <a:pt x="0" y="72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3" y="88"/>
                  </a:lnTo>
                  <a:lnTo>
                    <a:pt x="3" y="88"/>
                  </a:lnTo>
                  <a:lnTo>
                    <a:pt x="3" y="88"/>
                  </a:lnTo>
                  <a:close/>
                </a:path>
              </a:pathLst>
            </a:custGeom>
            <a:solidFill>
              <a:srgbClr val="33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693880" y="3921120"/>
              <a:ext cx="442800" cy="1089000"/>
            </a:xfrm>
            <a:custGeom>
              <a:avLst/>
              <a:gdLst/>
              <a:ahLst/>
              <a:rect l="l" t="t" r="r" b="b"/>
              <a:pathLst>
                <a:path w="279" h="686">
                  <a:moveTo>
                    <a:pt x="0" y="686"/>
                  </a:moveTo>
                  <a:lnTo>
                    <a:pt x="40" y="676"/>
                  </a:lnTo>
                  <a:lnTo>
                    <a:pt x="180" y="636"/>
                  </a:lnTo>
                  <a:lnTo>
                    <a:pt x="267" y="608"/>
                  </a:lnTo>
                  <a:lnTo>
                    <a:pt x="267" y="604"/>
                  </a:lnTo>
                  <a:lnTo>
                    <a:pt x="270" y="600"/>
                  </a:lnTo>
                  <a:lnTo>
                    <a:pt x="270" y="596"/>
                  </a:lnTo>
                  <a:lnTo>
                    <a:pt x="276" y="594"/>
                  </a:lnTo>
                  <a:lnTo>
                    <a:pt x="279" y="442"/>
                  </a:lnTo>
                  <a:lnTo>
                    <a:pt x="279" y="428"/>
                  </a:lnTo>
                  <a:lnTo>
                    <a:pt x="279" y="414"/>
                  </a:lnTo>
                  <a:lnTo>
                    <a:pt x="276" y="400"/>
                  </a:lnTo>
                  <a:lnTo>
                    <a:pt x="273" y="384"/>
                  </a:lnTo>
                  <a:lnTo>
                    <a:pt x="270" y="370"/>
                  </a:lnTo>
                  <a:lnTo>
                    <a:pt x="267" y="356"/>
                  </a:lnTo>
                  <a:lnTo>
                    <a:pt x="267" y="342"/>
                  </a:lnTo>
                  <a:lnTo>
                    <a:pt x="264" y="328"/>
                  </a:lnTo>
                  <a:lnTo>
                    <a:pt x="261" y="316"/>
                  </a:lnTo>
                  <a:lnTo>
                    <a:pt x="261" y="304"/>
                  </a:lnTo>
                  <a:lnTo>
                    <a:pt x="261" y="294"/>
                  </a:lnTo>
                  <a:lnTo>
                    <a:pt x="261" y="282"/>
                  </a:lnTo>
                  <a:lnTo>
                    <a:pt x="259" y="256"/>
                  </a:lnTo>
                  <a:lnTo>
                    <a:pt x="256" y="230"/>
                  </a:lnTo>
                  <a:lnTo>
                    <a:pt x="256" y="204"/>
                  </a:lnTo>
                  <a:lnTo>
                    <a:pt x="253" y="180"/>
                  </a:lnTo>
                  <a:lnTo>
                    <a:pt x="250" y="174"/>
                  </a:lnTo>
                  <a:lnTo>
                    <a:pt x="250" y="170"/>
                  </a:lnTo>
                  <a:lnTo>
                    <a:pt x="247" y="166"/>
                  </a:lnTo>
                  <a:lnTo>
                    <a:pt x="247" y="160"/>
                  </a:lnTo>
                  <a:lnTo>
                    <a:pt x="247" y="156"/>
                  </a:lnTo>
                  <a:lnTo>
                    <a:pt x="244" y="152"/>
                  </a:lnTo>
                  <a:lnTo>
                    <a:pt x="244" y="148"/>
                  </a:lnTo>
                  <a:lnTo>
                    <a:pt x="241" y="144"/>
                  </a:lnTo>
                  <a:lnTo>
                    <a:pt x="238" y="136"/>
                  </a:lnTo>
                  <a:lnTo>
                    <a:pt x="235" y="126"/>
                  </a:lnTo>
                  <a:lnTo>
                    <a:pt x="232" y="116"/>
                  </a:lnTo>
                  <a:lnTo>
                    <a:pt x="232" y="106"/>
                  </a:lnTo>
                  <a:lnTo>
                    <a:pt x="229" y="96"/>
                  </a:lnTo>
                  <a:lnTo>
                    <a:pt x="227" y="88"/>
                  </a:lnTo>
                  <a:lnTo>
                    <a:pt x="224" y="78"/>
                  </a:lnTo>
                  <a:lnTo>
                    <a:pt x="221" y="68"/>
                  </a:lnTo>
                  <a:lnTo>
                    <a:pt x="218" y="60"/>
                  </a:lnTo>
                  <a:lnTo>
                    <a:pt x="212" y="50"/>
                  </a:lnTo>
                  <a:lnTo>
                    <a:pt x="209" y="42"/>
                  </a:lnTo>
                  <a:lnTo>
                    <a:pt x="203" y="32"/>
                  </a:lnTo>
                  <a:lnTo>
                    <a:pt x="197" y="24"/>
                  </a:lnTo>
                  <a:lnTo>
                    <a:pt x="192" y="16"/>
                  </a:lnTo>
                  <a:lnTo>
                    <a:pt x="186" y="8"/>
                  </a:lnTo>
                  <a:lnTo>
                    <a:pt x="180" y="0"/>
                  </a:lnTo>
                  <a:lnTo>
                    <a:pt x="177" y="2"/>
                  </a:lnTo>
                  <a:lnTo>
                    <a:pt x="174" y="4"/>
                  </a:lnTo>
                  <a:lnTo>
                    <a:pt x="171" y="6"/>
                  </a:lnTo>
                  <a:lnTo>
                    <a:pt x="171" y="8"/>
                  </a:lnTo>
                  <a:lnTo>
                    <a:pt x="171" y="8"/>
                  </a:lnTo>
                  <a:lnTo>
                    <a:pt x="171" y="8"/>
                  </a:lnTo>
                  <a:lnTo>
                    <a:pt x="171" y="10"/>
                  </a:lnTo>
                  <a:lnTo>
                    <a:pt x="171" y="10"/>
                  </a:lnTo>
                  <a:lnTo>
                    <a:pt x="168" y="14"/>
                  </a:lnTo>
                  <a:lnTo>
                    <a:pt x="165" y="16"/>
                  </a:lnTo>
                  <a:lnTo>
                    <a:pt x="163" y="20"/>
                  </a:lnTo>
                  <a:lnTo>
                    <a:pt x="163" y="24"/>
                  </a:lnTo>
                  <a:lnTo>
                    <a:pt x="160" y="26"/>
                  </a:lnTo>
                  <a:lnTo>
                    <a:pt x="160" y="30"/>
                  </a:lnTo>
                  <a:lnTo>
                    <a:pt x="157" y="34"/>
                  </a:lnTo>
                  <a:lnTo>
                    <a:pt x="154" y="38"/>
                  </a:lnTo>
                  <a:lnTo>
                    <a:pt x="154" y="44"/>
                  </a:lnTo>
                  <a:lnTo>
                    <a:pt x="151" y="50"/>
                  </a:lnTo>
                  <a:lnTo>
                    <a:pt x="148" y="56"/>
                  </a:lnTo>
                  <a:lnTo>
                    <a:pt x="148" y="60"/>
                  </a:lnTo>
                  <a:lnTo>
                    <a:pt x="145" y="66"/>
                  </a:lnTo>
                  <a:lnTo>
                    <a:pt x="142" y="72"/>
                  </a:lnTo>
                  <a:lnTo>
                    <a:pt x="139" y="78"/>
                  </a:lnTo>
                  <a:lnTo>
                    <a:pt x="136" y="84"/>
                  </a:lnTo>
                  <a:lnTo>
                    <a:pt x="131" y="100"/>
                  </a:lnTo>
                  <a:lnTo>
                    <a:pt x="125" y="118"/>
                  </a:lnTo>
                  <a:lnTo>
                    <a:pt x="119" y="136"/>
                  </a:lnTo>
                  <a:lnTo>
                    <a:pt x="113" y="154"/>
                  </a:lnTo>
                  <a:lnTo>
                    <a:pt x="107" y="172"/>
                  </a:lnTo>
                  <a:lnTo>
                    <a:pt x="104" y="190"/>
                  </a:lnTo>
                  <a:lnTo>
                    <a:pt x="99" y="208"/>
                  </a:lnTo>
                  <a:lnTo>
                    <a:pt x="96" y="226"/>
                  </a:lnTo>
                  <a:lnTo>
                    <a:pt x="90" y="244"/>
                  </a:lnTo>
                  <a:lnTo>
                    <a:pt x="87" y="262"/>
                  </a:lnTo>
                  <a:lnTo>
                    <a:pt x="84" y="280"/>
                  </a:lnTo>
                  <a:lnTo>
                    <a:pt x="78" y="298"/>
                  </a:lnTo>
                  <a:lnTo>
                    <a:pt x="75" y="316"/>
                  </a:lnTo>
                  <a:lnTo>
                    <a:pt x="72" y="334"/>
                  </a:lnTo>
                  <a:lnTo>
                    <a:pt x="70" y="352"/>
                  </a:lnTo>
                  <a:lnTo>
                    <a:pt x="67" y="370"/>
                  </a:lnTo>
                  <a:lnTo>
                    <a:pt x="64" y="394"/>
                  </a:lnTo>
                  <a:lnTo>
                    <a:pt x="61" y="418"/>
                  </a:lnTo>
                  <a:lnTo>
                    <a:pt x="55" y="442"/>
                  </a:lnTo>
                  <a:lnTo>
                    <a:pt x="52" y="466"/>
                  </a:lnTo>
                  <a:lnTo>
                    <a:pt x="46" y="490"/>
                  </a:lnTo>
                  <a:lnTo>
                    <a:pt x="40" y="514"/>
                  </a:lnTo>
                  <a:lnTo>
                    <a:pt x="35" y="538"/>
                  </a:lnTo>
                  <a:lnTo>
                    <a:pt x="26" y="562"/>
                  </a:lnTo>
                  <a:lnTo>
                    <a:pt x="0" y="686"/>
                  </a:lnTo>
                  <a:lnTo>
                    <a:pt x="0" y="686"/>
                  </a:lnTo>
                  <a:lnTo>
                    <a:pt x="0" y="686"/>
                  </a:lnTo>
                  <a:lnTo>
                    <a:pt x="0" y="686"/>
                  </a:lnTo>
                  <a:lnTo>
                    <a:pt x="0" y="6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646280" y="4873680"/>
              <a:ext cx="322200" cy="104760"/>
            </a:xfrm>
            <a:custGeom>
              <a:avLst/>
              <a:gdLst/>
              <a:ahLst/>
              <a:rect l="l" t="t" r="r" b="b"/>
              <a:pathLst>
                <a:path w="203" h="66">
                  <a:moveTo>
                    <a:pt x="145" y="66"/>
                  </a:moveTo>
                  <a:lnTo>
                    <a:pt x="203" y="58"/>
                  </a:lnTo>
                  <a:lnTo>
                    <a:pt x="200" y="58"/>
                  </a:lnTo>
                  <a:lnTo>
                    <a:pt x="198" y="58"/>
                  </a:lnTo>
                  <a:lnTo>
                    <a:pt x="195" y="58"/>
                  </a:lnTo>
                  <a:lnTo>
                    <a:pt x="192" y="58"/>
                  </a:lnTo>
                  <a:lnTo>
                    <a:pt x="189" y="58"/>
                  </a:lnTo>
                  <a:lnTo>
                    <a:pt x="186" y="58"/>
                  </a:lnTo>
                  <a:lnTo>
                    <a:pt x="180" y="58"/>
                  </a:lnTo>
                  <a:lnTo>
                    <a:pt x="177" y="58"/>
                  </a:lnTo>
                  <a:lnTo>
                    <a:pt x="166" y="58"/>
                  </a:lnTo>
                  <a:lnTo>
                    <a:pt x="151" y="58"/>
                  </a:lnTo>
                  <a:lnTo>
                    <a:pt x="139" y="56"/>
                  </a:lnTo>
                  <a:lnTo>
                    <a:pt x="128" y="52"/>
                  </a:lnTo>
                  <a:lnTo>
                    <a:pt x="119" y="50"/>
                  </a:lnTo>
                  <a:lnTo>
                    <a:pt x="107" y="44"/>
                  </a:lnTo>
                  <a:lnTo>
                    <a:pt x="99" y="40"/>
                  </a:lnTo>
                  <a:lnTo>
                    <a:pt x="90" y="34"/>
                  </a:lnTo>
                  <a:lnTo>
                    <a:pt x="81" y="30"/>
                  </a:lnTo>
                  <a:lnTo>
                    <a:pt x="73" y="24"/>
                  </a:lnTo>
                  <a:lnTo>
                    <a:pt x="64" y="20"/>
                  </a:lnTo>
                  <a:lnTo>
                    <a:pt x="55" y="14"/>
                  </a:lnTo>
                  <a:lnTo>
                    <a:pt x="43" y="10"/>
                  </a:lnTo>
                  <a:lnTo>
                    <a:pt x="35" y="6"/>
                  </a:lnTo>
                  <a:lnTo>
                    <a:pt x="23" y="2"/>
                  </a:lnTo>
                  <a:lnTo>
                    <a:pt x="12" y="0"/>
                  </a:lnTo>
                  <a:lnTo>
                    <a:pt x="3" y="2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8"/>
                  </a:lnTo>
                  <a:lnTo>
                    <a:pt x="17" y="20"/>
                  </a:lnTo>
                  <a:lnTo>
                    <a:pt x="20" y="20"/>
                  </a:lnTo>
                  <a:lnTo>
                    <a:pt x="23" y="22"/>
                  </a:lnTo>
                  <a:lnTo>
                    <a:pt x="29" y="24"/>
                  </a:lnTo>
                  <a:lnTo>
                    <a:pt x="32" y="26"/>
                  </a:lnTo>
                  <a:lnTo>
                    <a:pt x="35" y="28"/>
                  </a:lnTo>
                  <a:lnTo>
                    <a:pt x="38" y="30"/>
                  </a:lnTo>
                  <a:lnTo>
                    <a:pt x="43" y="34"/>
                  </a:lnTo>
                  <a:lnTo>
                    <a:pt x="46" y="36"/>
                  </a:lnTo>
                  <a:lnTo>
                    <a:pt x="49" y="38"/>
                  </a:lnTo>
                  <a:lnTo>
                    <a:pt x="55" y="40"/>
                  </a:lnTo>
                  <a:lnTo>
                    <a:pt x="58" y="42"/>
                  </a:lnTo>
                  <a:lnTo>
                    <a:pt x="61" y="44"/>
                  </a:lnTo>
                  <a:lnTo>
                    <a:pt x="67" y="46"/>
                  </a:lnTo>
                  <a:lnTo>
                    <a:pt x="70" y="50"/>
                  </a:lnTo>
                  <a:lnTo>
                    <a:pt x="75" y="50"/>
                  </a:lnTo>
                  <a:lnTo>
                    <a:pt x="78" y="52"/>
                  </a:lnTo>
                  <a:lnTo>
                    <a:pt x="84" y="54"/>
                  </a:lnTo>
                  <a:lnTo>
                    <a:pt x="87" y="54"/>
                  </a:lnTo>
                  <a:lnTo>
                    <a:pt x="93" y="56"/>
                  </a:lnTo>
                  <a:lnTo>
                    <a:pt x="96" y="58"/>
                  </a:lnTo>
                  <a:lnTo>
                    <a:pt x="102" y="60"/>
                  </a:lnTo>
                  <a:lnTo>
                    <a:pt x="105" y="60"/>
                  </a:lnTo>
                  <a:lnTo>
                    <a:pt x="110" y="62"/>
                  </a:lnTo>
                  <a:lnTo>
                    <a:pt x="116" y="62"/>
                  </a:lnTo>
                  <a:lnTo>
                    <a:pt x="119" y="64"/>
                  </a:lnTo>
                  <a:lnTo>
                    <a:pt x="125" y="64"/>
                  </a:lnTo>
                  <a:lnTo>
                    <a:pt x="128" y="66"/>
                  </a:lnTo>
                  <a:lnTo>
                    <a:pt x="134" y="66"/>
                  </a:lnTo>
                  <a:lnTo>
                    <a:pt x="139" y="66"/>
                  </a:lnTo>
                  <a:lnTo>
                    <a:pt x="145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98440" y="4950000"/>
              <a:ext cx="92160" cy="28440"/>
            </a:xfrm>
            <a:custGeom>
              <a:avLst/>
              <a:gdLst/>
              <a:ahLst/>
              <a:rect l="l" t="t" r="r" b="b"/>
              <a:pathLst>
                <a:path w="58" h="18">
                  <a:moveTo>
                    <a:pt x="38" y="18"/>
                  </a:moveTo>
                  <a:lnTo>
                    <a:pt x="52" y="18"/>
                  </a:lnTo>
                  <a:lnTo>
                    <a:pt x="55" y="18"/>
                  </a:lnTo>
                  <a:lnTo>
                    <a:pt x="55" y="16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55" y="6"/>
                  </a:lnTo>
                  <a:lnTo>
                    <a:pt x="49" y="4"/>
                  </a:lnTo>
                  <a:lnTo>
                    <a:pt x="43" y="4"/>
                  </a:lnTo>
                  <a:lnTo>
                    <a:pt x="40" y="2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3" y="10"/>
                  </a:lnTo>
                  <a:lnTo>
                    <a:pt x="6" y="14"/>
                  </a:lnTo>
                  <a:lnTo>
                    <a:pt x="11" y="14"/>
                  </a:lnTo>
                  <a:lnTo>
                    <a:pt x="17" y="16"/>
                  </a:lnTo>
                  <a:lnTo>
                    <a:pt x="23" y="18"/>
                  </a:lnTo>
                  <a:lnTo>
                    <a:pt x="29" y="18"/>
                  </a:lnTo>
                  <a:lnTo>
                    <a:pt x="35" y="18"/>
                  </a:lnTo>
                  <a:lnTo>
                    <a:pt x="3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660320" y="4714920"/>
              <a:ext cx="857160" cy="222480"/>
            </a:xfrm>
            <a:custGeom>
              <a:avLst/>
              <a:gdLst/>
              <a:ahLst/>
              <a:rect l="l" t="t" r="r" b="b"/>
              <a:pathLst>
                <a:path w="540" h="140">
                  <a:moveTo>
                    <a:pt x="450" y="140"/>
                  </a:moveTo>
                  <a:lnTo>
                    <a:pt x="456" y="140"/>
                  </a:lnTo>
                  <a:lnTo>
                    <a:pt x="459" y="140"/>
                  </a:lnTo>
                  <a:lnTo>
                    <a:pt x="459" y="138"/>
                  </a:lnTo>
                  <a:lnTo>
                    <a:pt x="462" y="138"/>
                  </a:lnTo>
                  <a:lnTo>
                    <a:pt x="462" y="136"/>
                  </a:lnTo>
                  <a:lnTo>
                    <a:pt x="465" y="134"/>
                  </a:lnTo>
                  <a:lnTo>
                    <a:pt x="468" y="134"/>
                  </a:lnTo>
                  <a:lnTo>
                    <a:pt x="471" y="134"/>
                  </a:lnTo>
                  <a:lnTo>
                    <a:pt x="471" y="132"/>
                  </a:lnTo>
                  <a:lnTo>
                    <a:pt x="473" y="130"/>
                  </a:lnTo>
                  <a:lnTo>
                    <a:pt x="476" y="130"/>
                  </a:lnTo>
                  <a:lnTo>
                    <a:pt x="476" y="128"/>
                  </a:lnTo>
                  <a:lnTo>
                    <a:pt x="476" y="126"/>
                  </a:lnTo>
                  <a:lnTo>
                    <a:pt x="479" y="122"/>
                  </a:lnTo>
                  <a:lnTo>
                    <a:pt x="479" y="120"/>
                  </a:lnTo>
                  <a:lnTo>
                    <a:pt x="482" y="118"/>
                  </a:lnTo>
                  <a:lnTo>
                    <a:pt x="485" y="116"/>
                  </a:lnTo>
                  <a:lnTo>
                    <a:pt x="488" y="114"/>
                  </a:lnTo>
                  <a:lnTo>
                    <a:pt x="491" y="112"/>
                  </a:lnTo>
                  <a:lnTo>
                    <a:pt x="494" y="110"/>
                  </a:lnTo>
                  <a:lnTo>
                    <a:pt x="497" y="108"/>
                  </a:lnTo>
                  <a:lnTo>
                    <a:pt x="497" y="106"/>
                  </a:lnTo>
                  <a:lnTo>
                    <a:pt x="500" y="106"/>
                  </a:lnTo>
                  <a:lnTo>
                    <a:pt x="500" y="106"/>
                  </a:lnTo>
                  <a:lnTo>
                    <a:pt x="503" y="106"/>
                  </a:lnTo>
                  <a:lnTo>
                    <a:pt x="537" y="82"/>
                  </a:lnTo>
                  <a:lnTo>
                    <a:pt x="540" y="78"/>
                  </a:lnTo>
                  <a:lnTo>
                    <a:pt x="540" y="76"/>
                  </a:lnTo>
                  <a:lnTo>
                    <a:pt x="537" y="72"/>
                  </a:lnTo>
                  <a:lnTo>
                    <a:pt x="537" y="70"/>
                  </a:lnTo>
                  <a:lnTo>
                    <a:pt x="520" y="60"/>
                  </a:lnTo>
                  <a:lnTo>
                    <a:pt x="520" y="58"/>
                  </a:lnTo>
                  <a:lnTo>
                    <a:pt x="523" y="56"/>
                  </a:lnTo>
                  <a:lnTo>
                    <a:pt x="523" y="54"/>
                  </a:lnTo>
                  <a:lnTo>
                    <a:pt x="520" y="52"/>
                  </a:lnTo>
                  <a:lnTo>
                    <a:pt x="517" y="52"/>
                  </a:lnTo>
                  <a:lnTo>
                    <a:pt x="514" y="50"/>
                  </a:lnTo>
                  <a:lnTo>
                    <a:pt x="511" y="50"/>
                  </a:lnTo>
                  <a:lnTo>
                    <a:pt x="505" y="48"/>
                  </a:lnTo>
                  <a:lnTo>
                    <a:pt x="503" y="48"/>
                  </a:lnTo>
                  <a:lnTo>
                    <a:pt x="497" y="48"/>
                  </a:lnTo>
                  <a:lnTo>
                    <a:pt x="494" y="46"/>
                  </a:lnTo>
                  <a:lnTo>
                    <a:pt x="488" y="46"/>
                  </a:lnTo>
                  <a:lnTo>
                    <a:pt x="485" y="46"/>
                  </a:lnTo>
                  <a:lnTo>
                    <a:pt x="482" y="44"/>
                  </a:lnTo>
                  <a:lnTo>
                    <a:pt x="476" y="44"/>
                  </a:lnTo>
                  <a:lnTo>
                    <a:pt x="473" y="44"/>
                  </a:lnTo>
                  <a:lnTo>
                    <a:pt x="468" y="44"/>
                  </a:lnTo>
                  <a:lnTo>
                    <a:pt x="465" y="44"/>
                  </a:lnTo>
                  <a:lnTo>
                    <a:pt x="459" y="42"/>
                  </a:lnTo>
                  <a:lnTo>
                    <a:pt x="456" y="42"/>
                  </a:lnTo>
                  <a:lnTo>
                    <a:pt x="453" y="40"/>
                  </a:lnTo>
                  <a:lnTo>
                    <a:pt x="447" y="38"/>
                  </a:lnTo>
                  <a:lnTo>
                    <a:pt x="444" y="38"/>
                  </a:lnTo>
                  <a:lnTo>
                    <a:pt x="441" y="36"/>
                  </a:lnTo>
                  <a:lnTo>
                    <a:pt x="436" y="34"/>
                  </a:lnTo>
                  <a:lnTo>
                    <a:pt x="433" y="34"/>
                  </a:lnTo>
                  <a:lnTo>
                    <a:pt x="427" y="34"/>
                  </a:lnTo>
                  <a:lnTo>
                    <a:pt x="424" y="36"/>
                  </a:lnTo>
                  <a:lnTo>
                    <a:pt x="421" y="36"/>
                  </a:lnTo>
                  <a:lnTo>
                    <a:pt x="421" y="38"/>
                  </a:lnTo>
                  <a:lnTo>
                    <a:pt x="421" y="38"/>
                  </a:lnTo>
                  <a:lnTo>
                    <a:pt x="421" y="38"/>
                  </a:lnTo>
                  <a:lnTo>
                    <a:pt x="412" y="38"/>
                  </a:lnTo>
                  <a:lnTo>
                    <a:pt x="401" y="40"/>
                  </a:lnTo>
                  <a:lnTo>
                    <a:pt x="392" y="40"/>
                  </a:lnTo>
                  <a:lnTo>
                    <a:pt x="383" y="40"/>
                  </a:lnTo>
                  <a:lnTo>
                    <a:pt x="372" y="38"/>
                  </a:lnTo>
                  <a:lnTo>
                    <a:pt x="363" y="38"/>
                  </a:lnTo>
                  <a:lnTo>
                    <a:pt x="354" y="38"/>
                  </a:lnTo>
                  <a:lnTo>
                    <a:pt x="343" y="36"/>
                  </a:lnTo>
                  <a:lnTo>
                    <a:pt x="334" y="34"/>
                  </a:lnTo>
                  <a:lnTo>
                    <a:pt x="322" y="34"/>
                  </a:lnTo>
                  <a:lnTo>
                    <a:pt x="314" y="32"/>
                  </a:lnTo>
                  <a:lnTo>
                    <a:pt x="305" y="30"/>
                  </a:lnTo>
                  <a:lnTo>
                    <a:pt x="293" y="28"/>
                  </a:lnTo>
                  <a:lnTo>
                    <a:pt x="284" y="28"/>
                  </a:lnTo>
                  <a:lnTo>
                    <a:pt x="276" y="26"/>
                  </a:lnTo>
                  <a:lnTo>
                    <a:pt x="264" y="24"/>
                  </a:lnTo>
                  <a:lnTo>
                    <a:pt x="258" y="22"/>
                  </a:lnTo>
                  <a:lnTo>
                    <a:pt x="253" y="22"/>
                  </a:lnTo>
                  <a:lnTo>
                    <a:pt x="247" y="20"/>
                  </a:lnTo>
                  <a:lnTo>
                    <a:pt x="241" y="20"/>
                  </a:lnTo>
                  <a:lnTo>
                    <a:pt x="232" y="20"/>
                  </a:lnTo>
                  <a:lnTo>
                    <a:pt x="226" y="18"/>
                  </a:lnTo>
                  <a:lnTo>
                    <a:pt x="221" y="18"/>
                  </a:lnTo>
                  <a:lnTo>
                    <a:pt x="215" y="18"/>
                  </a:lnTo>
                  <a:lnTo>
                    <a:pt x="206" y="18"/>
                  </a:lnTo>
                  <a:lnTo>
                    <a:pt x="200" y="16"/>
                  </a:lnTo>
                  <a:lnTo>
                    <a:pt x="194" y="16"/>
                  </a:lnTo>
                  <a:lnTo>
                    <a:pt x="189" y="16"/>
                  </a:lnTo>
                  <a:lnTo>
                    <a:pt x="183" y="16"/>
                  </a:lnTo>
                  <a:lnTo>
                    <a:pt x="177" y="16"/>
                  </a:lnTo>
                  <a:lnTo>
                    <a:pt x="168" y="14"/>
                  </a:lnTo>
                  <a:lnTo>
                    <a:pt x="162" y="14"/>
                  </a:lnTo>
                  <a:lnTo>
                    <a:pt x="162" y="12"/>
                  </a:lnTo>
                  <a:lnTo>
                    <a:pt x="159" y="10"/>
                  </a:lnTo>
                  <a:lnTo>
                    <a:pt x="157" y="8"/>
                  </a:lnTo>
                  <a:lnTo>
                    <a:pt x="154" y="6"/>
                  </a:lnTo>
                  <a:lnTo>
                    <a:pt x="151" y="4"/>
                  </a:lnTo>
                  <a:lnTo>
                    <a:pt x="148" y="2"/>
                  </a:lnTo>
                  <a:lnTo>
                    <a:pt x="142" y="0"/>
                  </a:lnTo>
                  <a:lnTo>
                    <a:pt x="139" y="0"/>
                  </a:lnTo>
                  <a:lnTo>
                    <a:pt x="136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28" y="0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2" y="2"/>
                  </a:lnTo>
                  <a:lnTo>
                    <a:pt x="122" y="6"/>
                  </a:lnTo>
                  <a:lnTo>
                    <a:pt x="125" y="8"/>
                  </a:lnTo>
                  <a:lnTo>
                    <a:pt x="125" y="12"/>
                  </a:lnTo>
                  <a:lnTo>
                    <a:pt x="125" y="14"/>
                  </a:lnTo>
                  <a:lnTo>
                    <a:pt x="122" y="14"/>
                  </a:lnTo>
                  <a:lnTo>
                    <a:pt x="122" y="14"/>
                  </a:lnTo>
                  <a:lnTo>
                    <a:pt x="119" y="14"/>
                  </a:lnTo>
                  <a:lnTo>
                    <a:pt x="116" y="14"/>
                  </a:lnTo>
                  <a:lnTo>
                    <a:pt x="113" y="14"/>
                  </a:lnTo>
                  <a:lnTo>
                    <a:pt x="110" y="14"/>
                  </a:lnTo>
                  <a:lnTo>
                    <a:pt x="110" y="14"/>
                  </a:lnTo>
                  <a:lnTo>
                    <a:pt x="107" y="16"/>
                  </a:lnTo>
                  <a:lnTo>
                    <a:pt x="107" y="18"/>
                  </a:lnTo>
                  <a:lnTo>
                    <a:pt x="104" y="18"/>
                  </a:lnTo>
                  <a:lnTo>
                    <a:pt x="101" y="20"/>
                  </a:lnTo>
                  <a:lnTo>
                    <a:pt x="98" y="20"/>
                  </a:lnTo>
                  <a:lnTo>
                    <a:pt x="98" y="22"/>
                  </a:lnTo>
                  <a:lnTo>
                    <a:pt x="96" y="22"/>
                  </a:lnTo>
                  <a:lnTo>
                    <a:pt x="93" y="24"/>
                  </a:lnTo>
                  <a:lnTo>
                    <a:pt x="87" y="26"/>
                  </a:lnTo>
                  <a:lnTo>
                    <a:pt x="84" y="26"/>
                  </a:lnTo>
                  <a:lnTo>
                    <a:pt x="78" y="28"/>
                  </a:lnTo>
                  <a:lnTo>
                    <a:pt x="75" y="30"/>
                  </a:lnTo>
                  <a:lnTo>
                    <a:pt x="69" y="30"/>
                  </a:lnTo>
                  <a:lnTo>
                    <a:pt x="66" y="32"/>
                  </a:lnTo>
                  <a:lnTo>
                    <a:pt x="61" y="34"/>
                  </a:lnTo>
                  <a:lnTo>
                    <a:pt x="58" y="36"/>
                  </a:lnTo>
                  <a:lnTo>
                    <a:pt x="55" y="36"/>
                  </a:lnTo>
                  <a:lnTo>
                    <a:pt x="49" y="38"/>
                  </a:lnTo>
                  <a:lnTo>
                    <a:pt x="46" y="40"/>
                  </a:lnTo>
                  <a:lnTo>
                    <a:pt x="40" y="42"/>
                  </a:lnTo>
                  <a:lnTo>
                    <a:pt x="37" y="42"/>
                  </a:lnTo>
                  <a:lnTo>
                    <a:pt x="32" y="44"/>
                  </a:lnTo>
                  <a:lnTo>
                    <a:pt x="29" y="44"/>
                  </a:lnTo>
                  <a:lnTo>
                    <a:pt x="23" y="46"/>
                  </a:lnTo>
                  <a:lnTo>
                    <a:pt x="20" y="44"/>
                  </a:lnTo>
                  <a:lnTo>
                    <a:pt x="20" y="40"/>
                  </a:lnTo>
                  <a:lnTo>
                    <a:pt x="17" y="38"/>
                  </a:lnTo>
                  <a:lnTo>
                    <a:pt x="17" y="34"/>
                  </a:lnTo>
                  <a:lnTo>
                    <a:pt x="17" y="30"/>
                  </a:lnTo>
                  <a:lnTo>
                    <a:pt x="14" y="28"/>
                  </a:lnTo>
                  <a:lnTo>
                    <a:pt x="11" y="24"/>
                  </a:lnTo>
                  <a:lnTo>
                    <a:pt x="8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3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3" y="40"/>
                  </a:lnTo>
                  <a:lnTo>
                    <a:pt x="3" y="42"/>
                  </a:lnTo>
                  <a:lnTo>
                    <a:pt x="5" y="44"/>
                  </a:lnTo>
                  <a:lnTo>
                    <a:pt x="3" y="52"/>
                  </a:lnTo>
                  <a:lnTo>
                    <a:pt x="3" y="62"/>
                  </a:lnTo>
                  <a:lnTo>
                    <a:pt x="5" y="68"/>
                  </a:lnTo>
                  <a:lnTo>
                    <a:pt x="11" y="76"/>
                  </a:lnTo>
                  <a:lnTo>
                    <a:pt x="14" y="78"/>
                  </a:lnTo>
                  <a:lnTo>
                    <a:pt x="20" y="82"/>
                  </a:lnTo>
                  <a:lnTo>
                    <a:pt x="26" y="84"/>
                  </a:lnTo>
                  <a:lnTo>
                    <a:pt x="32" y="86"/>
                  </a:lnTo>
                  <a:lnTo>
                    <a:pt x="34" y="88"/>
                  </a:lnTo>
                  <a:lnTo>
                    <a:pt x="40" y="88"/>
                  </a:lnTo>
                  <a:lnTo>
                    <a:pt x="46" y="90"/>
                  </a:lnTo>
                  <a:lnTo>
                    <a:pt x="52" y="90"/>
                  </a:lnTo>
                  <a:lnTo>
                    <a:pt x="58" y="92"/>
                  </a:lnTo>
                  <a:lnTo>
                    <a:pt x="64" y="92"/>
                  </a:lnTo>
                  <a:lnTo>
                    <a:pt x="69" y="94"/>
                  </a:lnTo>
                  <a:lnTo>
                    <a:pt x="75" y="94"/>
                  </a:lnTo>
                  <a:lnTo>
                    <a:pt x="81" y="96"/>
                  </a:lnTo>
                  <a:lnTo>
                    <a:pt x="87" y="96"/>
                  </a:lnTo>
                  <a:lnTo>
                    <a:pt x="93" y="98"/>
                  </a:lnTo>
                  <a:lnTo>
                    <a:pt x="98" y="100"/>
                  </a:lnTo>
                  <a:lnTo>
                    <a:pt x="101" y="100"/>
                  </a:lnTo>
                  <a:lnTo>
                    <a:pt x="107" y="102"/>
                  </a:lnTo>
                  <a:lnTo>
                    <a:pt x="113" y="102"/>
                  </a:lnTo>
                  <a:lnTo>
                    <a:pt x="116" y="102"/>
                  </a:lnTo>
                  <a:lnTo>
                    <a:pt x="122" y="104"/>
                  </a:lnTo>
                  <a:lnTo>
                    <a:pt x="125" y="104"/>
                  </a:lnTo>
                  <a:lnTo>
                    <a:pt x="130" y="106"/>
                  </a:lnTo>
                  <a:lnTo>
                    <a:pt x="133" y="106"/>
                  </a:lnTo>
                  <a:lnTo>
                    <a:pt x="139" y="108"/>
                  </a:lnTo>
                  <a:lnTo>
                    <a:pt x="145" y="108"/>
                  </a:lnTo>
                  <a:lnTo>
                    <a:pt x="148" y="108"/>
                  </a:lnTo>
                  <a:lnTo>
                    <a:pt x="154" y="110"/>
                  </a:lnTo>
                  <a:lnTo>
                    <a:pt x="157" y="110"/>
                  </a:lnTo>
                  <a:lnTo>
                    <a:pt x="162" y="112"/>
                  </a:lnTo>
                  <a:lnTo>
                    <a:pt x="165" y="112"/>
                  </a:lnTo>
                  <a:lnTo>
                    <a:pt x="171" y="114"/>
                  </a:lnTo>
                  <a:lnTo>
                    <a:pt x="174" y="116"/>
                  </a:lnTo>
                  <a:lnTo>
                    <a:pt x="177" y="118"/>
                  </a:lnTo>
                  <a:lnTo>
                    <a:pt x="183" y="118"/>
                  </a:lnTo>
                  <a:lnTo>
                    <a:pt x="189" y="120"/>
                  </a:lnTo>
                  <a:lnTo>
                    <a:pt x="191" y="120"/>
                  </a:lnTo>
                  <a:lnTo>
                    <a:pt x="197" y="120"/>
                  </a:lnTo>
                  <a:lnTo>
                    <a:pt x="203" y="122"/>
                  </a:lnTo>
                  <a:lnTo>
                    <a:pt x="206" y="122"/>
                  </a:lnTo>
                  <a:lnTo>
                    <a:pt x="209" y="122"/>
                  </a:lnTo>
                  <a:lnTo>
                    <a:pt x="215" y="122"/>
                  </a:lnTo>
                  <a:lnTo>
                    <a:pt x="221" y="122"/>
                  </a:lnTo>
                  <a:lnTo>
                    <a:pt x="223" y="122"/>
                  </a:lnTo>
                  <a:lnTo>
                    <a:pt x="229" y="122"/>
                  </a:lnTo>
                  <a:lnTo>
                    <a:pt x="232" y="122"/>
                  </a:lnTo>
                  <a:lnTo>
                    <a:pt x="238" y="122"/>
                  </a:lnTo>
                  <a:lnTo>
                    <a:pt x="241" y="122"/>
                  </a:lnTo>
                  <a:lnTo>
                    <a:pt x="247" y="122"/>
                  </a:lnTo>
                  <a:lnTo>
                    <a:pt x="253" y="122"/>
                  </a:lnTo>
                  <a:lnTo>
                    <a:pt x="255" y="122"/>
                  </a:lnTo>
                  <a:lnTo>
                    <a:pt x="261" y="122"/>
                  </a:lnTo>
                  <a:lnTo>
                    <a:pt x="267" y="124"/>
                  </a:lnTo>
                  <a:lnTo>
                    <a:pt x="270" y="124"/>
                  </a:lnTo>
                  <a:lnTo>
                    <a:pt x="276" y="124"/>
                  </a:lnTo>
                  <a:lnTo>
                    <a:pt x="282" y="124"/>
                  </a:lnTo>
                  <a:lnTo>
                    <a:pt x="287" y="124"/>
                  </a:lnTo>
                  <a:lnTo>
                    <a:pt x="293" y="124"/>
                  </a:lnTo>
                  <a:lnTo>
                    <a:pt x="296" y="126"/>
                  </a:lnTo>
                  <a:lnTo>
                    <a:pt x="302" y="126"/>
                  </a:lnTo>
                  <a:lnTo>
                    <a:pt x="308" y="126"/>
                  </a:lnTo>
                  <a:lnTo>
                    <a:pt x="314" y="124"/>
                  </a:lnTo>
                  <a:lnTo>
                    <a:pt x="319" y="126"/>
                  </a:lnTo>
                  <a:lnTo>
                    <a:pt x="325" y="126"/>
                  </a:lnTo>
                  <a:lnTo>
                    <a:pt x="331" y="126"/>
                  </a:lnTo>
                  <a:lnTo>
                    <a:pt x="337" y="126"/>
                  </a:lnTo>
                  <a:lnTo>
                    <a:pt x="343" y="126"/>
                  </a:lnTo>
                  <a:lnTo>
                    <a:pt x="348" y="128"/>
                  </a:lnTo>
                  <a:lnTo>
                    <a:pt x="354" y="128"/>
                  </a:lnTo>
                  <a:lnTo>
                    <a:pt x="360" y="128"/>
                  </a:lnTo>
                  <a:lnTo>
                    <a:pt x="366" y="128"/>
                  </a:lnTo>
                  <a:lnTo>
                    <a:pt x="372" y="128"/>
                  </a:lnTo>
                  <a:lnTo>
                    <a:pt x="378" y="130"/>
                  </a:lnTo>
                  <a:lnTo>
                    <a:pt x="383" y="130"/>
                  </a:lnTo>
                  <a:lnTo>
                    <a:pt x="389" y="130"/>
                  </a:lnTo>
                  <a:lnTo>
                    <a:pt x="395" y="130"/>
                  </a:lnTo>
                  <a:lnTo>
                    <a:pt x="401" y="132"/>
                  </a:lnTo>
                  <a:lnTo>
                    <a:pt x="407" y="132"/>
                  </a:lnTo>
                  <a:lnTo>
                    <a:pt x="412" y="132"/>
                  </a:lnTo>
                  <a:lnTo>
                    <a:pt x="418" y="134"/>
                  </a:lnTo>
                  <a:lnTo>
                    <a:pt x="421" y="134"/>
                  </a:lnTo>
                  <a:lnTo>
                    <a:pt x="427" y="136"/>
                  </a:lnTo>
                  <a:lnTo>
                    <a:pt x="430" y="136"/>
                  </a:lnTo>
                  <a:lnTo>
                    <a:pt x="433" y="136"/>
                  </a:lnTo>
                  <a:lnTo>
                    <a:pt x="439" y="138"/>
                  </a:lnTo>
                  <a:lnTo>
                    <a:pt x="441" y="138"/>
                  </a:lnTo>
                  <a:lnTo>
                    <a:pt x="444" y="140"/>
                  </a:lnTo>
                  <a:lnTo>
                    <a:pt x="450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714320" y="4816440"/>
              <a:ext cx="633600" cy="79560"/>
            </a:xfrm>
            <a:custGeom>
              <a:avLst/>
              <a:gdLst/>
              <a:ahLst/>
              <a:rect l="l" t="t" r="r" b="b"/>
              <a:pathLst>
                <a:path w="399" h="50">
                  <a:moveTo>
                    <a:pt x="376" y="50"/>
                  </a:moveTo>
                  <a:lnTo>
                    <a:pt x="399" y="40"/>
                  </a:lnTo>
                  <a:lnTo>
                    <a:pt x="326" y="40"/>
                  </a:lnTo>
                  <a:lnTo>
                    <a:pt x="314" y="38"/>
                  </a:lnTo>
                  <a:lnTo>
                    <a:pt x="300" y="38"/>
                  </a:lnTo>
                  <a:lnTo>
                    <a:pt x="288" y="36"/>
                  </a:lnTo>
                  <a:lnTo>
                    <a:pt x="277" y="34"/>
                  </a:lnTo>
                  <a:lnTo>
                    <a:pt x="262" y="32"/>
                  </a:lnTo>
                  <a:lnTo>
                    <a:pt x="250" y="30"/>
                  </a:lnTo>
                  <a:lnTo>
                    <a:pt x="239" y="28"/>
                  </a:lnTo>
                  <a:lnTo>
                    <a:pt x="227" y="26"/>
                  </a:lnTo>
                  <a:lnTo>
                    <a:pt x="213" y="26"/>
                  </a:lnTo>
                  <a:lnTo>
                    <a:pt x="201" y="24"/>
                  </a:lnTo>
                  <a:lnTo>
                    <a:pt x="189" y="22"/>
                  </a:lnTo>
                  <a:lnTo>
                    <a:pt x="178" y="20"/>
                  </a:lnTo>
                  <a:lnTo>
                    <a:pt x="163" y="18"/>
                  </a:lnTo>
                  <a:lnTo>
                    <a:pt x="152" y="18"/>
                  </a:lnTo>
                  <a:lnTo>
                    <a:pt x="140" y="18"/>
                  </a:lnTo>
                  <a:lnTo>
                    <a:pt x="125" y="18"/>
                  </a:lnTo>
                  <a:lnTo>
                    <a:pt x="120" y="18"/>
                  </a:lnTo>
                  <a:lnTo>
                    <a:pt x="114" y="18"/>
                  </a:lnTo>
                  <a:lnTo>
                    <a:pt x="108" y="18"/>
                  </a:lnTo>
                  <a:lnTo>
                    <a:pt x="102" y="16"/>
                  </a:lnTo>
                  <a:lnTo>
                    <a:pt x="96" y="16"/>
                  </a:lnTo>
                  <a:lnTo>
                    <a:pt x="91" y="16"/>
                  </a:lnTo>
                  <a:lnTo>
                    <a:pt x="82" y="16"/>
                  </a:lnTo>
                  <a:lnTo>
                    <a:pt x="76" y="16"/>
                  </a:lnTo>
                  <a:lnTo>
                    <a:pt x="70" y="14"/>
                  </a:lnTo>
                  <a:lnTo>
                    <a:pt x="64" y="14"/>
                  </a:lnTo>
                  <a:lnTo>
                    <a:pt x="59" y="14"/>
                  </a:lnTo>
                  <a:lnTo>
                    <a:pt x="53" y="12"/>
                  </a:lnTo>
                  <a:lnTo>
                    <a:pt x="47" y="12"/>
                  </a:lnTo>
                  <a:lnTo>
                    <a:pt x="41" y="10"/>
                  </a:lnTo>
                  <a:lnTo>
                    <a:pt x="38" y="10"/>
                  </a:lnTo>
                  <a:lnTo>
                    <a:pt x="30" y="8"/>
                  </a:lnTo>
                  <a:lnTo>
                    <a:pt x="30" y="6"/>
                  </a:lnTo>
                  <a:lnTo>
                    <a:pt x="24" y="6"/>
                  </a:lnTo>
                  <a:lnTo>
                    <a:pt x="21" y="4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9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3" y="10"/>
                  </a:lnTo>
                  <a:lnTo>
                    <a:pt x="12" y="10"/>
                  </a:lnTo>
                  <a:lnTo>
                    <a:pt x="21" y="12"/>
                  </a:lnTo>
                  <a:lnTo>
                    <a:pt x="30" y="14"/>
                  </a:lnTo>
                  <a:lnTo>
                    <a:pt x="38" y="14"/>
                  </a:lnTo>
                  <a:lnTo>
                    <a:pt x="47" y="16"/>
                  </a:lnTo>
                  <a:lnTo>
                    <a:pt x="56" y="18"/>
                  </a:lnTo>
                  <a:lnTo>
                    <a:pt x="62" y="20"/>
                  </a:lnTo>
                  <a:lnTo>
                    <a:pt x="70" y="20"/>
                  </a:lnTo>
                  <a:lnTo>
                    <a:pt x="79" y="22"/>
                  </a:lnTo>
                  <a:lnTo>
                    <a:pt x="88" y="24"/>
                  </a:lnTo>
                  <a:lnTo>
                    <a:pt x="96" y="26"/>
                  </a:lnTo>
                  <a:lnTo>
                    <a:pt x="105" y="26"/>
                  </a:lnTo>
                  <a:lnTo>
                    <a:pt x="114" y="28"/>
                  </a:lnTo>
                  <a:lnTo>
                    <a:pt x="123" y="30"/>
                  </a:lnTo>
                  <a:lnTo>
                    <a:pt x="131" y="32"/>
                  </a:lnTo>
                  <a:lnTo>
                    <a:pt x="140" y="34"/>
                  </a:lnTo>
                  <a:lnTo>
                    <a:pt x="155" y="34"/>
                  </a:lnTo>
                  <a:lnTo>
                    <a:pt x="166" y="34"/>
                  </a:lnTo>
                  <a:lnTo>
                    <a:pt x="181" y="36"/>
                  </a:lnTo>
                  <a:lnTo>
                    <a:pt x="192" y="36"/>
                  </a:lnTo>
                  <a:lnTo>
                    <a:pt x="207" y="36"/>
                  </a:lnTo>
                  <a:lnTo>
                    <a:pt x="221" y="36"/>
                  </a:lnTo>
                  <a:lnTo>
                    <a:pt x="233" y="38"/>
                  </a:lnTo>
                  <a:lnTo>
                    <a:pt x="248" y="38"/>
                  </a:lnTo>
                  <a:lnTo>
                    <a:pt x="259" y="38"/>
                  </a:lnTo>
                  <a:lnTo>
                    <a:pt x="274" y="40"/>
                  </a:lnTo>
                  <a:lnTo>
                    <a:pt x="285" y="40"/>
                  </a:lnTo>
                  <a:lnTo>
                    <a:pt x="300" y="42"/>
                  </a:lnTo>
                  <a:lnTo>
                    <a:pt x="312" y="42"/>
                  </a:lnTo>
                  <a:lnTo>
                    <a:pt x="326" y="44"/>
                  </a:lnTo>
                  <a:lnTo>
                    <a:pt x="338" y="46"/>
                  </a:lnTo>
                  <a:lnTo>
                    <a:pt x="352" y="46"/>
                  </a:lnTo>
                  <a:lnTo>
                    <a:pt x="355" y="48"/>
                  </a:lnTo>
                  <a:lnTo>
                    <a:pt x="358" y="48"/>
                  </a:lnTo>
                  <a:lnTo>
                    <a:pt x="361" y="48"/>
                  </a:lnTo>
                  <a:lnTo>
                    <a:pt x="364" y="48"/>
                  </a:lnTo>
                  <a:lnTo>
                    <a:pt x="367" y="50"/>
                  </a:lnTo>
                  <a:lnTo>
                    <a:pt x="370" y="50"/>
                  </a:lnTo>
                  <a:lnTo>
                    <a:pt x="373" y="50"/>
                  </a:lnTo>
                  <a:lnTo>
                    <a:pt x="376" y="50"/>
                  </a:lnTo>
                  <a:lnTo>
                    <a:pt x="376" y="50"/>
                  </a:lnTo>
                  <a:lnTo>
                    <a:pt x="376" y="50"/>
                  </a:lnTo>
                  <a:lnTo>
                    <a:pt x="376" y="50"/>
                  </a:lnTo>
                  <a:lnTo>
                    <a:pt x="376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398680" y="4832640"/>
              <a:ext cx="60120" cy="3168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3" y="20"/>
                  </a:moveTo>
                  <a:lnTo>
                    <a:pt x="38" y="4"/>
                  </a:lnTo>
                  <a:lnTo>
                    <a:pt x="35" y="0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3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803240" y="4768920"/>
              <a:ext cx="511200" cy="73080"/>
            </a:xfrm>
            <a:custGeom>
              <a:avLst/>
              <a:gdLst/>
              <a:ahLst/>
              <a:rect l="l" t="t" r="r" b="b"/>
              <a:pathLst>
                <a:path w="322" h="46">
                  <a:moveTo>
                    <a:pt x="320" y="46"/>
                  </a:moveTo>
                  <a:lnTo>
                    <a:pt x="320" y="46"/>
                  </a:lnTo>
                  <a:lnTo>
                    <a:pt x="320" y="46"/>
                  </a:lnTo>
                  <a:lnTo>
                    <a:pt x="320" y="46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22" y="44"/>
                  </a:lnTo>
                  <a:lnTo>
                    <a:pt x="322" y="42"/>
                  </a:lnTo>
                  <a:lnTo>
                    <a:pt x="322" y="42"/>
                  </a:lnTo>
                  <a:lnTo>
                    <a:pt x="320" y="42"/>
                  </a:lnTo>
                  <a:lnTo>
                    <a:pt x="320" y="42"/>
                  </a:lnTo>
                  <a:lnTo>
                    <a:pt x="317" y="42"/>
                  </a:lnTo>
                  <a:lnTo>
                    <a:pt x="317" y="42"/>
                  </a:lnTo>
                  <a:lnTo>
                    <a:pt x="314" y="40"/>
                  </a:lnTo>
                  <a:lnTo>
                    <a:pt x="314" y="36"/>
                  </a:lnTo>
                  <a:lnTo>
                    <a:pt x="314" y="32"/>
                  </a:lnTo>
                  <a:lnTo>
                    <a:pt x="314" y="28"/>
                  </a:lnTo>
                  <a:lnTo>
                    <a:pt x="308" y="26"/>
                  </a:lnTo>
                  <a:lnTo>
                    <a:pt x="299" y="22"/>
                  </a:lnTo>
                  <a:lnTo>
                    <a:pt x="290" y="22"/>
                  </a:lnTo>
                  <a:lnTo>
                    <a:pt x="282" y="20"/>
                  </a:lnTo>
                  <a:lnTo>
                    <a:pt x="273" y="18"/>
                  </a:lnTo>
                  <a:lnTo>
                    <a:pt x="264" y="18"/>
                  </a:lnTo>
                  <a:lnTo>
                    <a:pt x="256" y="16"/>
                  </a:lnTo>
                  <a:lnTo>
                    <a:pt x="247" y="16"/>
                  </a:lnTo>
                  <a:lnTo>
                    <a:pt x="238" y="16"/>
                  </a:lnTo>
                  <a:lnTo>
                    <a:pt x="229" y="14"/>
                  </a:lnTo>
                  <a:lnTo>
                    <a:pt x="221" y="14"/>
                  </a:lnTo>
                  <a:lnTo>
                    <a:pt x="212" y="12"/>
                  </a:lnTo>
                  <a:lnTo>
                    <a:pt x="203" y="10"/>
                  </a:lnTo>
                  <a:lnTo>
                    <a:pt x="194" y="10"/>
                  </a:lnTo>
                  <a:lnTo>
                    <a:pt x="186" y="8"/>
                  </a:lnTo>
                  <a:lnTo>
                    <a:pt x="177" y="4"/>
                  </a:lnTo>
                  <a:lnTo>
                    <a:pt x="168" y="4"/>
                  </a:lnTo>
                  <a:lnTo>
                    <a:pt x="163" y="4"/>
                  </a:lnTo>
                  <a:lnTo>
                    <a:pt x="154" y="2"/>
                  </a:lnTo>
                  <a:lnTo>
                    <a:pt x="148" y="2"/>
                  </a:lnTo>
                  <a:lnTo>
                    <a:pt x="139" y="2"/>
                  </a:lnTo>
                  <a:lnTo>
                    <a:pt x="133" y="2"/>
                  </a:lnTo>
                  <a:lnTo>
                    <a:pt x="125" y="2"/>
                  </a:lnTo>
                  <a:lnTo>
                    <a:pt x="119" y="2"/>
                  </a:lnTo>
                  <a:lnTo>
                    <a:pt x="110" y="2"/>
                  </a:lnTo>
                  <a:lnTo>
                    <a:pt x="104" y="2"/>
                  </a:lnTo>
                  <a:lnTo>
                    <a:pt x="96" y="2"/>
                  </a:lnTo>
                  <a:lnTo>
                    <a:pt x="90" y="2"/>
                  </a:lnTo>
                  <a:lnTo>
                    <a:pt x="81" y="2"/>
                  </a:lnTo>
                  <a:lnTo>
                    <a:pt x="75" y="2"/>
                  </a:lnTo>
                  <a:lnTo>
                    <a:pt x="67" y="2"/>
                  </a:lnTo>
                  <a:lnTo>
                    <a:pt x="61" y="0"/>
                  </a:lnTo>
                  <a:lnTo>
                    <a:pt x="58" y="2"/>
                  </a:lnTo>
                  <a:lnTo>
                    <a:pt x="55" y="4"/>
                  </a:lnTo>
                  <a:lnTo>
                    <a:pt x="49" y="6"/>
                  </a:lnTo>
                  <a:lnTo>
                    <a:pt x="46" y="8"/>
                  </a:lnTo>
                  <a:lnTo>
                    <a:pt x="43" y="8"/>
                  </a:lnTo>
                  <a:lnTo>
                    <a:pt x="38" y="10"/>
                  </a:lnTo>
                  <a:lnTo>
                    <a:pt x="35" y="10"/>
                  </a:lnTo>
                  <a:lnTo>
                    <a:pt x="32" y="12"/>
                  </a:lnTo>
                  <a:lnTo>
                    <a:pt x="26" y="12"/>
                  </a:lnTo>
                  <a:lnTo>
                    <a:pt x="23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8" y="16"/>
                  </a:lnTo>
                  <a:lnTo>
                    <a:pt x="6" y="18"/>
                  </a:lnTo>
                  <a:lnTo>
                    <a:pt x="3" y="18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14" y="20"/>
                  </a:lnTo>
                  <a:lnTo>
                    <a:pt x="20" y="22"/>
                  </a:lnTo>
                  <a:lnTo>
                    <a:pt x="29" y="22"/>
                  </a:lnTo>
                  <a:lnTo>
                    <a:pt x="38" y="22"/>
                  </a:lnTo>
                  <a:lnTo>
                    <a:pt x="43" y="22"/>
                  </a:lnTo>
                  <a:lnTo>
                    <a:pt x="52" y="22"/>
                  </a:lnTo>
                  <a:lnTo>
                    <a:pt x="61" y="24"/>
                  </a:lnTo>
                  <a:lnTo>
                    <a:pt x="69" y="24"/>
                  </a:lnTo>
                  <a:lnTo>
                    <a:pt x="75" y="24"/>
                  </a:lnTo>
                  <a:lnTo>
                    <a:pt x="84" y="24"/>
                  </a:lnTo>
                  <a:lnTo>
                    <a:pt x="93" y="26"/>
                  </a:lnTo>
                  <a:lnTo>
                    <a:pt x="99" y="26"/>
                  </a:lnTo>
                  <a:lnTo>
                    <a:pt x="107" y="26"/>
                  </a:lnTo>
                  <a:lnTo>
                    <a:pt x="116" y="28"/>
                  </a:lnTo>
                  <a:lnTo>
                    <a:pt x="122" y="30"/>
                  </a:lnTo>
                  <a:lnTo>
                    <a:pt x="128" y="30"/>
                  </a:lnTo>
                  <a:lnTo>
                    <a:pt x="131" y="30"/>
                  </a:lnTo>
                  <a:lnTo>
                    <a:pt x="133" y="30"/>
                  </a:lnTo>
                  <a:lnTo>
                    <a:pt x="139" y="30"/>
                  </a:lnTo>
                  <a:lnTo>
                    <a:pt x="142" y="30"/>
                  </a:lnTo>
                  <a:lnTo>
                    <a:pt x="145" y="32"/>
                  </a:lnTo>
                  <a:lnTo>
                    <a:pt x="148" y="32"/>
                  </a:lnTo>
                  <a:lnTo>
                    <a:pt x="154" y="32"/>
                  </a:lnTo>
                  <a:lnTo>
                    <a:pt x="157" y="34"/>
                  </a:lnTo>
                  <a:lnTo>
                    <a:pt x="160" y="34"/>
                  </a:lnTo>
                  <a:lnTo>
                    <a:pt x="163" y="34"/>
                  </a:lnTo>
                  <a:lnTo>
                    <a:pt x="165" y="36"/>
                  </a:lnTo>
                  <a:lnTo>
                    <a:pt x="171" y="36"/>
                  </a:lnTo>
                  <a:lnTo>
                    <a:pt x="174" y="36"/>
                  </a:lnTo>
                  <a:lnTo>
                    <a:pt x="177" y="36"/>
                  </a:lnTo>
                  <a:lnTo>
                    <a:pt x="180" y="38"/>
                  </a:lnTo>
                  <a:lnTo>
                    <a:pt x="186" y="38"/>
                  </a:lnTo>
                  <a:lnTo>
                    <a:pt x="192" y="40"/>
                  </a:lnTo>
                  <a:lnTo>
                    <a:pt x="197" y="40"/>
                  </a:lnTo>
                  <a:lnTo>
                    <a:pt x="203" y="40"/>
                  </a:lnTo>
                  <a:lnTo>
                    <a:pt x="206" y="40"/>
                  </a:lnTo>
                  <a:lnTo>
                    <a:pt x="212" y="42"/>
                  </a:lnTo>
                  <a:lnTo>
                    <a:pt x="218" y="42"/>
                  </a:lnTo>
                  <a:lnTo>
                    <a:pt x="224" y="42"/>
                  </a:lnTo>
                  <a:lnTo>
                    <a:pt x="229" y="44"/>
                  </a:lnTo>
                  <a:lnTo>
                    <a:pt x="235" y="44"/>
                  </a:lnTo>
                  <a:lnTo>
                    <a:pt x="241" y="44"/>
                  </a:lnTo>
                  <a:lnTo>
                    <a:pt x="247" y="44"/>
                  </a:lnTo>
                  <a:lnTo>
                    <a:pt x="253" y="44"/>
                  </a:lnTo>
                  <a:lnTo>
                    <a:pt x="258" y="44"/>
                  </a:lnTo>
                  <a:lnTo>
                    <a:pt x="264" y="44"/>
                  </a:lnTo>
                  <a:lnTo>
                    <a:pt x="270" y="44"/>
                  </a:lnTo>
                  <a:lnTo>
                    <a:pt x="276" y="44"/>
                  </a:lnTo>
                  <a:lnTo>
                    <a:pt x="282" y="46"/>
                  </a:lnTo>
                  <a:lnTo>
                    <a:pt x="288" y="46"/>
                  </a:lnTo>
                  <a:lnTo>
                    <a:pt x="293" y="46"/>
                  </a:lnTo>
                  <a:lnTo>
                    <a:pt x="302" y="46"/>
                  </a:lnTo>
                  <a:lnTo>
                    <a:pt x="308" y="46"/>
                  </a:lnTo>
                  <a:lnTo>
                    <a:pt x="314" y="46"/>
                  </a:lnTo>
                  <a:lnTo>
                    <a:pt x="320" y="4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328840" y="4810320"/>
              <a:ext cx="69840" cy="31680"/>
            </a:xfrm>
            <a:custGeom>
              <a:avLst/>
              <a:gdLst/>
              <a:ahLst/>
              <a:rect l="l" t="t" r="r" b="b"/>
              <a:pathLst>
                <a:path w="44" h="20">
                  <a:moveTo>
                    <a:pt x="12" y="20"/>
                  </a:moveTo>
                  <a:lnTo>
                    <a:pt x="15" y="20"/>
                  </a:lnTo>
                  <a:lnTo>
                    <a:pt x="20" y="18"/>
                  </a:lnTo>
                  <a:lnTo>
                    <a:pt x="23" y="16"/>
                  </a:lnTo>
                  <a:lnTo>
                    <a:pt x="29" y="16"/>
                  </a:lnTo>
                  <a:lnTo>
                    <a:pt x="32" y="12"/>
                  </a:lnTo>
                  <a:lnTo>
                    <a:pt x="38" y="10"/>
                  </a:lnTo>
                  <a:lnTo>
                    <a:pt x="41" y="8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4" y="4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8" y="0"/>
                  </a:lnTo>
                  <a:lnTo>
                    <a:pt x="15" y="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3" y="16"/>
                  </a:lnTo>
                  <a:lnTo>
                    <a:pt x="6" y="18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33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84280" y="4695840"/>
              <a:ext cx="36360" cy="2232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3" y="12"/>
                  </a:moveTo>
                  <a:lnTo>
                    <a:pt x="20" y="10"/>
                  </a:lnTo>
                  <a:lnTo>
                    <a:pt x="20" y="8"/>
                  </a:lnTo>
                  <a:lnTo>
                    <a:pt x="20" y="4"/>
                  </a:lnTo>
                  <a:lnTo>
                    <a:pt x="20" y="2"/>
                  </a:lnTo>
                  <a:lnTo>
                    <a:pt x="9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6" y="8"/>
                  </a:lnTo>
                  <a:lnTo>
                    <a:pt x="9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5" y="10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3" y="12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33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24040" y="469908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94000" y="4645080"/>
              <a:ext cx="21960" cy="3492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6" y="22"/>
                  </a:moveTo>
                  <a:lnTo>
                    <a:pt x="6" y="22"/>
                  </a:lnTo>
                  <a:lnTo>
                    <a:pt x="6" y="22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14" y="16"/>
                  </a:lnTo>
                  <a:lnTo>
                    <a:pt x="14" y="12"/>
                  </a:lnTo>
                  <a:lnTo>
                    <a:pt x="14" y="6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6" y="22"/>
                  </a:lnTo>
                  <a:close/>
                </a:path>
              </a:pathLst>
            </a:custGeom>
            <a:solidFill>
              <a:srgbClr val="33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93880" y="4606920"/>
              <a:ext cx="41040" cy="57240"/>
            </a:xfrm>
            <a:custGeom>
              <a:avLst/>
              <a:gdLst/>
              <a:ahLst/>
              <a:rect l="l" t="t" r="r" b="b"/>
              <a:pathLst>
                <a:path w="26" h="36">
                  <a:moveTo>
                    <a:pt x="9" y="36"/>
                  </a:moveTo>
                  <a:lnTo>
                    <a:pt x="26" y="28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7" y="2"/>
                  </a:lnTo>
                  <a:lnTo>
                    <a:pt x="12" y="4"/>
                  </a:lnTo>
                  <a:lnTo>
                    <a:pt x="9" y="6"/>
                  </a:lnTo>
                  <a:lnTo>
                    <a:pt x="9" y="8"/>
                  </a:lnTo>
                  <a:lnTo>
                    <a:pt x="6" y="12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0" y="22"/>
                  </a:lnTo>
                  <a:lnTo>
                    <a:pt x="3" y="28"/>
                  </a:lnTo>
                  <a:lnTo>
                    <a:pt x="3" y="32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9" y="36"/>
                  </a:lnTo>
                  <a:lnTo>
                    <a:pt x="9" y="36"/>
                  </a:lnTo>
                  <a:close/>
                </a:path>
              </a:pathLst>
            </a:custGeom>
            <a:solidFill>
              <a:srgbClr val="33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522520" y="4429080"/>
              <a:ext cx="65160" cy="206640"/>
            </a:xfrm>
            <a:custGeom>
              <a:avLst/>
              <a:gdLst/>
              <a:ahLst/>
              <a:rect l="l" t="t" r="r" b="b"/>
              <a:pathLst>
                <a:path w="41" h="130">
                  <a:moveTo>
                    <a:pt x="9" y="130"/>
                  </a:moveTo>
                  <a:lnTo>
                    <a:pt x="15" y="124"/>
                  </a:lnTo>
                  <a:lnTo>
                    <a:pt x="15" y="118"/>
                  </a:lnTo>
                  <a:lnTo>
                    <a:pt x="18" y="112"/>
                  </a:lnTo>
                  <a:lnTo>
                    <a:pt x="21" y="106"/>
                  </a:lnTo>
                  <a:lnTo>
                    <a:pt x="21" y="100"/>
                  </a:lnTo>
                  <a:lnTo>
                    <a:pt x="23" y="94"/>
                  </a:lnTo>
                  <a:lnTo>
                    <a:pt x="23" y="88"/>
                  </a:lnTo>
                  <a:lnTo>
                    <a:pt x="26" y="82"/>
                  </a:lnTo>
                  <a:lnTo>
                    <a:pt x="29" y="72"/>
                  </a:lnTo>
                  <a:lnTo>
                    <a:pt x="32" y="62"/>
                  </a:lnTo>
                  <a:lnTo>
                    <a:pt x="35" y="52"/>
                  </a:lnTo>
                  <a:lnTo>
                    <a:pt x="38" y="44"/>
                  </a:lnTo>
                  <a:lnTo>
                    <a:pt x="41" y="34"/>
                  </a:lnTo>
                  <a:lnTo>
                    <a:pt x="41" y="24"/>
                  </a:lnTo>
                  <a:lnTo>
                    <a:pt x="38" y="16"/>
                  </a:lnTo>
                  <a:lnTo>
                    <a:pt x="35" y="6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16"/>
                  </a:lnTo>
                  <a:lnTo>
                    <a:pt x="9" y="32"/>
                  </a:lnTo>
                  <a:lnTo>
                    <a:pt x="3" y="48"/>
                  </a:lnTo>
                  <a:lnTo>
                    <a:pt x="0" y="64"/>
                  </a:lnTo>
                  <a:lnTo>
                    <a:pt x="0" y="82"/>
                  </a:lnTo>
                  <a:lnTo>
                    <a:pt x="0" y="98"/>
                  </a:lnTo>
                  <a:lnTo>
                    <a:pt x="3" y="114"/>
                  </a:lnTo>
                  <a:lnTo>
                    <a:pt x="9" y="130"/>
                  </a:lnTo>
                  <a:lnTo>
                    <a:pt x="9" y="130"/>
                  </a:lnTo>
                  <a:lnTo>
                    <a:pt x="9" y="130"/>
                  </a:lnTo>
                  <a:lnTo>
                    <a:pt x="9" y="13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57400" y="4530960"/>
              <a:ext cx="104760" cy="88920"/>
            </a:xfrm>
            <a:custGeom>
              <a:avLst/>
              <a:gdLst/>
              <a:ahLst/>
              <a:rect l="l" t="t" r="r" b="b"/>
              <a:pathLst>
                <a:path w="66" h="56">
                  <a:moveTo>
                    <a:pt x="3" y="56"/>
                  </a:moveTo>
                  <a:lnTo>
                    <a:pt x="11" y="54"/>
                  </a:lnTo>
                  <a:lnTo>
                    <a:pt x="20" y="52"/>
                  </a:lnTo>
                  <a:lnTo>
                    <a:pt x="26" y="50"/>
                  </a:lnTo>
                  <a:lnTo>
                    <a:pt x="32" y="46"/>
                  </a:lnTo>
                  <a:lnTo>
                    <a:pt x="37" y="42"/>
                  </a:lnTo>
                  <a:lnTo>
                    <a:pt x="46" y="38"/>
                  </a:lnTo>
                  <a:lnTo>
                    <a:pt x="52" y="34"/>
                  </a:lnTo>
                  <a:lnTo>
                    <a:pt x="58" y="28"/>
                  </a:lnTo>
                  <a:lnTo>
                    <a:pt x="61" y="26"/>
                  </a:lnTo>
                  <a:lnTo>
                    <a:pt x="64" y="24"/>
                  </a:lnTo>
                  <a:lnTo>
                    <a:pt x="64" y="20"/>
                  </a:lnTo>
                  <a:lnTo>
                    <a:pt x="66" y="18"/>
                  </a:lnTo>
                  <a:lnTo>
                    <a:pt x="58" y="8"/>
                  </a:lnTo>
                  <a:lnTo>
                    <a:pt x="58" y="6"/>
                  </a:lnTo>
                  <a:lnTo>
                    <a:pt x="55" y="6"/>
                  </a:lnTo>
                  <a:lnTo>
                    <a:pt x="55" y="4"/>
                  </a:lnTo>
                  <a:lnTo>
                    <a:pt x="52" y="4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0" y="2"/>
                  </a:lnTo>
                  <a:lnTo>
                    <a:pt x="37" y="4"/>
                  </a:lnTo>
                  <a:lnTo>
                    <a:pt x="37" y="8"/>
                  </a:lnTo>
                  <a:lnTo>
                    <a:pt x="34" y="10"/>
                  </a:lnTo>
                  <a:lnTo>
                    <a:pt x="32" y="14"/>
                  </a:lnTo>
                  <a:lnTo>
                    <a:pt x="29" y="16"/>
                  </a:lnTo>
                  <a:lnTo>
                    <a:pt x="26" y="18"/>
                  </a:lnTo>
                  <a:lnTo>
                    <a:pt x="23" y="22"/>
                  </a:lnTo>
                  <a:lnTo>
                    <a:pt x="20" y="26"/>
                  </a:lnTo>
                  <a:lnTo>
                    <a:pt x="17" y="30"/>
                  </a:lnTo>
                  <a:lnTo>
                    <a:pt x="14" y="34"/>
                  </a:lnTo>
                  <a:lnTo>
                    <a:pt x="11" y="38"/>
                  </a:lnTo>
                  <a:lnTo>
                    <a:pt x="8" y="42"/>
                  </a:lnTo>
                  <a:lnTo>
                    <a:pt x="5" y="46"/>
                  </a:lnTo>
                  <a:lnTo>
                    <a:pt x="3" y="50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3" y="56"/>
                  </a:lnTo>
                  <a:lnTo>
                    <a:pt x="3" y="56"/>
                  </a:lnTo>
                  <a:lnTo>
                    <a:pt x="3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03360" y="4581720"/>
              <a:ext cx="22320" cy="316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3" y="18"/>
                  </a:moveTo>
                  <a:lnTo>
                    <a:pt x="14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3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33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834920" y="4540320"/>
              <a:ext cx="46080" cy="5724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9" y="36"/>
                  </a:moveTo>
                  <a:lnTo>
                    <a:pt x="12" y="34"/>
                  </a:lnTo>
                  <a:lnTo>
                    <a:pt x="18" y="32"/>
                  </a:lnTo>
                  <a:lnTo>
                    <a:pt x="20" y="30"/>
                  </a:lnTo>
                  <a:lnTo>
                    <a:pt x="23" y="28"/>
                  </a:lnTo>
                  <a:lnTo>
                    <a:pt x="26" y="26"/>
                  </a:lnTo>
                  <a:lnTo>
                    <a:pt x="26" y="22"/>
                  </a:lnTo>
                  <a:lnTo>
                    <a:pt x="29" y="20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29" y="10"/>
                  </a:lnTo>
                  <a:lnTo>
                    <a:pt x="29" y="8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2" y="4"/>
                  </a:lnTo>
                  <a:lnTo>
                    <a:pt x="9" y="6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3" y="32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9" y="36"/>
                  </a:lnTo>
                  <a:lnTo>
                    <a:pt x="9" y="36"/>
                  </a:lnTo>
                  <a:close/>
                </a:path>
              </a:pathLst>
            </a:custGeom>
            <a:solidFill>
              <a:srgbClr val="33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06640" y="4391280"/>
              <a:ext cx="137880" cy="168120"/>
            </a:xfrm>
            <a:custGeom>
              <a:avLst/>
              <a:gdLst/>
              <a:ahLst/>
              <a:rect l="l" t="t" r="r" b="b"/>
              <a:pathLst>
                <a:path w="87" h="106">
                  <a:moveTo>
                    <a:pt x="0" y="106"/>
                  </a:moveTo>
                  <a:lnTo>
                    <a:pt x="5" y="106"/>
                  </a:lnTo>
                  <a:lnTo>
                    <a:pt x="8" y="104"/>
                  </a:lnTo>
                  <a:lnTo>
                    <a:pt x="11" y="102"/>
                  </a:lnTo>
                  <a:lnTo>
                    <a:pt x="17" y="100"/>
                  </a:lnTo>
                  <a:lnTo>
                    <a:pt x="20" y="98"/>
                  </a:lnTo>
                  <a:lnTo>
                    <a:pt x="23" y="96"/>
                  </a:lnTo>
                  <a:lnTo>
                    <a:pt x="26" y="94"/>
                  </a:lnTo>
                  <a:lnTo>
                    <a:pt x="29" y="92"/>
                  </a:lnTo>
                  <a:lnTo>
                    <a:pt x="32" y="90"/>
                  </a:lnTo>
                  <a:lnTo>
                    <a:pt x="32" y="88"/>
                  </a:lnTo>
                  <a:lnTo>
                    <a:pt x="35" y="86"/>
                  </a:lnTo>
                  <a:lnTo>
                    <a:pt x="35" y="86"/>
                  </a:lnTo>
                  <a:lnTo>
                    <a:pt x="37" y="84"/>
                  </a:lnTo>
                  <a:lnTo>
                    <a:pt x="37" y="84"/>
                  </a:lnTo>
                  <a:lnTo>
                    <a:pt x="40" y="82"/>
                  </a:lnTo>
                  <a:lnTo>
                    <a:pt x="40" y="80"/>
                  </a:lnTo>
                  <a:lnTo>
                    <a:pt x="40" y="80"/>
                  </a:lnTo>
                  <a:lnTo>
                    <a:pt x="43" y="78"/>
                  </a:lnTo>
                  <a:lnTo>
                    <a:pt x="43" y="78"/>
                  </a:lnTo>
                  <a:lnTo>
                    <a:pt x="46" y="78"/>
                  </a:lnTo>
                  <a:lnTo>
                    <a:pt x="69" y="56"/>
                  </a:lnTo>
                  <a:lnTo>
                    <a:pt x="81" y="40"/>
                  </a:lnTo>
                  <a:lnTo>
                    <a:pt x="84" y="34"/>
                  </a:lnTo>
                  <a:lnTo>
                    <a:pt x="87" y="26"/>
                  </a:lnTo>
                  <a:lnTo>
                    <a:pt x="87" y="20"/>
                  </a:lnTo>
                  <a:lnTo>
                    <a:pt x="87" y="12"/>
                  </a:lnTo>
                  <a:lnTo>
                    <a:pt x="84" y="10"/>
                  </a:lnTo>
                  <a:lnTo>
                    <a:pt x="81" y="8"/>
                  </a:lnTo>
                  <a:lnTo>
                    <a:pt x="78" y="6"/>
                  </a:lnTo>
                  <a:lnTo>
                    <a:pt x="75" y="4"/>
                  </a:lnTo>
                  <a:lnTo>
                    <a:pt x="72" y="2"/>
                  </a:lnTo>
                  <a:lnTo>
                    <a:pt x="69" y="2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5" y="2"/>
                  </a:lnTo>
                  <a:lnTo>
                    <a:pt x="52" y="2"/>
                  </a:lnTo>
                  <a:lnTo>
                    <a:pt x="52" y="2"/>
                  </a:lnTo>
                  <a:lnTo>
                    <a:pt x="49" y="1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876320" y="4483080"/>
              <a:ext cx="41400" cy="4788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6" y="30"/>
                  </a:moveTo>
                  <a:lnTo>
                    <a:pt x="21" y="24"/>
                  </a:lnTo>
                  <a:lnTo>
                    <a:pt x="26" y="18"/>
                  </a:lnTo>
                  <a:lnTo>
                    <a:pt x="26" y="14"/>
                  </a:lnTo>
                  <a:lnTo>
                    <a:pt x="26" y="8"/>
                  </a:lnTo>
                  <a:lnTo>
                    <a:pt x="26" y="4"/>
                  </a:lnTo>
                  <a:lnTo>
                    <a:pt x="26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2"/>
                  </a:lnTo>
                  <a:lnTo>
                    <a:pt x="12" y="4"/>
                  </a:lnTo>
                  <a:lnTo>
                    <a:pt x="9" y="8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3" y="20"/>
                  </a:lnTo>
                  <a:lnTo>
                    <a:pt x="0" y="24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8"/>
                  </a:lnTo>
                  <a:lnTo>
                    <a:pt x="3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33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11280" y="4502160"/>
              <a:ext cx="19080" cy="28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16"/>
                  </a:move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3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6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33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15960" y="444204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3" y="16"/>
                  </a:move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6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33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04760" y="4407120"/>
              <a:ext cx="41400" cy="54000"/>
            </a:xfrm>
            <a:custGeom>
              <a:avLst/>
              <a:gdLst/>
              <a:ahLst/>
              <a:rect l="l" t="t" r="r" b="b"/>
              <a:pathLst>
                <a:path w="26" h="34">
                  <a:moveTo>
                    <a:pt x="3" y="34"/>
                  </a:moveTo>
                  <a:lnTo>
                    <a:pt x="8" y="30"/>
                  </a:lnTo>
                  <a:lnTo>
                    <a:pt x="14" y="28"/>
                  </a:lnTo>
                  <a:lnTo>
                    <a:pt x="17" y="24"/>
                  </a:lnTo>
                  <a:lnTo>
                    <a:pt x="20" y="20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6" y="6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7" y="4"/>
                  </a:lnTo>
                  <a:lnTo>
                    <a:pt x="14" y="6"/>
                  </a:lnTo>
                  <a:lnTo>
                    <a:pt x="11" y="10"/>
                  </a:lnTo>
                  <a:lnTo>
                    <a:pt x="8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3" y="26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0" y="32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3" y="34"/>
                  </a:lnTo>
                  <a:close/>
                </a:path>
              </a:pathLst>
            </a:custGeom>
            <a:solidFill>
              <a:srgbClr val="33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11280" y="4365720"/>
              <a:ext cx="33480" cy="4464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6" y="28"/>
                  </a:moveTo>
                  <a:lnTo>
                    <a:pt x="15" y="26"/>
                  </a:lnTo>
                  <a:lnTo>
                    <a:pt x="18" y="20"/>
                  </a:lnTo>
                  <a:lnTo>
                    <a:pt x="21" y="14"/>
                  </a:lnTo>
                  <a:lnTo>
                    <a:pt x="21" y="6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9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3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8"/>
                  </a:lnTo>
                  <a:close/>
                </a:path>
              </a:pathLst>
            </a:custGeom>
            <a:solidFill>
              <a:srgbClr val="33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927080" y="4346640"/>
              <a:ext cx="28440" cy="38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3" y="24"/>
                  </a:moveTo>
                  <a:lnTo>
                    <a:pt x="6" y="24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8" y="14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3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3" y="24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33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60560" y="4292640"/>
              <a:ext cx="17280" cy="3168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2" y="20"/>
                  </a:moveTo>
                  <a:lnTo>
                    <a:pt x="5" y="16"/>
                  </a:lnTo>
                  <a:lnTo>
                    <a:pt x="8" y="12"/>
                  </a:lnTo>
                  <a:lnTo>
                    <a:pt x="11" y="6"/>
                  </a:lnTo>
                  <a:lnTo>
                    <a:pt x="11" y="2"/>
                  </a:lnTo>
                  <a:lnTo>
                    <a:pt x="8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33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49440" y="4283280"/>
              <a:ext cx="27000" cy="4104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6" y="26"/>
                  </a:moveTo>
                  <a:lnTo>
                    <a:pt x="8" y="24"/>
                  </a:lnTo>
                  <a:lnTo>
                    <a:pt x="11" y="22"/>
                  </a:lnTo>
                  <a:lnTo>
                    <a:pt x="11" y="20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2"/>
                  </a:lnTo>
                  <a:lnTo>
                    <a:pt x="6" y="6"/>
                  </a:lnTo>
                  <a:lnTo>
                    <a:pt x="6" y="8"/>
                  </a:lnTo>
                  <a:lnTo>
                    <a:pt x="3" y="10"/>
                  </a:lnTo>
                  <a:lnTo>
                    <a:pt x="3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3" y="24"/>
                  </a:lnTo>
                  <a:lnTo>
                    <a:pt x="3" y="26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33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108160" y="4102200"/>
              <a:ext cx="54000" cy="184320"/>
            </a:xfrm>
            <a:custGeom>
              <a:avLst/>
              <a:gdLst/>
              <a:ahLst/>
              <a:rect l="l" t="t" r="r" b="b"/>
              <a:pathLst>
                <a:path w="34" h="116">
                  <a:moveTo>
                    <a:pt x="5" y="116"/>
                  </a:moveTo>
                  <a:lnTo>
                    <a:pt x="5" y="116"/>
                  </a:lnTo>
                  <a:lnTo>
                    <a:pt x="5" y="116"/>
                  </a:lnTo>
                  <a:lnTo>
                    <a:pt x="5" y="114"/>
                  </a:lnTo>
                  <a:lnTo>
                    <a:pt x="5" y="114"/>
                  </a:lnTo>
                  <a:lnTo>
                    <a:pt x="8" y="100"/>
                  </a:lnTo>
                  <a:lnTo>
                    <a:pt x="17" y="88"/>
                  </a:lnTo>
                  <a:lnTo>
                    <a:pt x="23" y="74"/>
                  </a:lnTo>
                  <a:lnTo>
                    <a:pt x="29" y="58"/>
                  </a:lnTo>
                  <a:lnTo>
                    <a:pt x="32" y="44"/>
                  </a:lnTo>
                  <a:lnTo>
                    <a:pt x="34" y="30"/>
                  </a:lnTo>
                  <a:lnTo>
                    <a:pt x="34" y="16"/>
                  </a:lnTo>
                  <a:lnTo>
                    <a:pt x="32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6" y="0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0" y="8"/>
                  </a:lnTo>
                  <a:lnTo>
                    <a:pt x="20" y="12"/>
                  </a:lnTo>
                  <a:lnTo>
                    <a:pt x="17" y="16"/>
                  </a:lnTo>
                  <a:lnTo>
                    <a:pt x="14" y="22"/>
                  </a:lnTo>
                  <a:lnTo>
                    <a:pt x="11" y="26"/>
                  </a:lnTo>
                  <a:lnTo>
                    <a:pt x="11" y="32"/>
                  </a:lnTo>
                  <a:lnTo>
                    <a:pt x="8" y="36"/>
                  </a:lnTo>
                  <a:lnTo>
                    <a:pt x="8" y="42"/>
                  </a:lnTo>
                  <a:lnTo>
                    <a:pt x="5" y="50"/>
                  </a:lnTo>
                  <a:lnTo>
                    <a:pt x="2" y="60"/>
                  </a:lnTo>
                  <a:lnTo>
                    <a:pt x="2" y="70"/>
                  </a:lnTo>
                  <a:lnTo>
                    <a:pt x="0" y="80"/>
                  </a:lnTo>
                  <a:lnTo>
                    <a:pt x="0" y="90"/>
                  </a:lnTo>
                  <a:lnTo>
                    <a:pt x="0" y="98"/>
                  </a:lnTo>
                  <a:lnTo>
                    <a:pt x="2" y="108"/>
                  </a:lnTo>
                  <a:lnTo>
                    <a:pt x="5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63440" y="4216680"/>
              <a:ext cx="24120" cy="56880"/>
            </a:xfrm>
            <a:custGeom>
              <a:avLst/>
              <a:gdLst/>
              <a:ahLst/>
              <a:rect l="l" t="t" r="r" b="b"/>
              <a:pathLst>
                <a:path w="15" h="36">
                  <a:moveTo>
                    <a:pt x="6" y="36"/>
                  </a:moveTo>
                  <a:lnTo>
                    <a:pt x="6" y="36"/>
                  </a:lnTo>
                  <a:lnTo>
                    <a:pt x="9" y="36"/>
                  </a:lnTo>
                  <a:lnTo>
                    <a:pt x="9" y="34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5" y="32"/>
                  </a:lnTo>
                  <a:lnTo>
                    <a:pt x="15" y="32"/>
                  </a:lnTo>
                  <a:lnTo>
                    <a:pt x="15" y="3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4"/>
                  </a:lnTo>
                  <a:lnTo>
                    <a:pt x="6" y="6"/>
                  </a:lnTo>
                  <a:lnTo>
                    <a:pt x="3" y="10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3" y="32"/>
                  </a:lnTo>
                  <a:lnTo>
                    <a:pt x="3" y="34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6" y="36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33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90720" y="4238640"/>
              <a:ext cx="4680" cy="9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6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81120" y="42325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3" y="1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33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87560" y="4152960"/>
              <a:ext cx="19080" cy="44640"/>
            </a:xfrm>
            <a:custGeom>
              <a:avLst/>
              <a:gdLst/>
              <a:ahLst/>
              <a:rect l="l" t="t" r="r" b="b"/>
              <a:pathLst>
                <a:path w="12" h="28">
                  <a:moveTo>
                    <a:pt x="6" y="26"/>
                  </a:moveTo>
                  <a:lnTo>
                    <a:pt x="9" y="26"/>
                  </a:lnTo>
                  <a:lnTo>
                    <a:pt x="9" y="26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2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3" y="2"/>
                  </a:lnTo>
                  <a:lnTo>
                    <a:pt x="0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3" y="24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33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04880" y="4121280"/>
              <a:ext cx="31680" cy="60480"/>
            </a:xfrm>
            <a:custGeom>
              <a:avLst/>
              <a:gdLst/>
              <a:ahLst/>
              <a:rect l="l" t="t" r="r" b="b"/>
              <a:pathLst>
                <a:path w="20" h="38">
                  <a:moveTo>
                    <a:pt x="3" y="38"/>
                  </a:moveTo>
                  <a:lnTo>
                    <a:pt x="8" y="36"/>
                  </a:lnTo>
                  <a:lnTo>
                    <a:pt x="11" y="34"/>
                  </a:lnTo>
                  <a:lnTo>
                    <a:pt x="14" y="32"/>
                  </a:lnTo>
                  <a:lnTo>
                    <a:pt x="14" y="28"/>
                  </a:lnTo>
                  <a:lnTo>
                    <a:pt x="17" y="26"/>
                  </a:lnTo>
                  <a:lnTo>
                    <a:pt x="17" y="22"/>
                  </a:lnTo>
                  <a:lnTo>
                    <a:pt x="17" y="18"/>
                  </a:lnTo>
                  <a:lnTo>
                    <a:pt x="20" y="14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14" y="2"/>
                  </a:lnTo>
                  <a:lnTo>
                    <a:pt x="11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5" y="10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3" y="38"/>
                  </a:lnTo>
                  <a:lnTo>
                    <a:pt x="3" y="38"/>
                  </a:lnTo>
                  <a:lnTo>
                    <a:pt x="3" y="38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33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011320" y="4079880"/>
              <a:ext cx="31680" cy="4464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2" y="28"/>
                  </a:moveTo>
                  <a:lnTo>
                    <a:pt x="2" y="28"/>
                  </a:lnTo>
                  <a:lnTo>
                    <a:pt x="2" y="28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8" y="24"/>
                  </a:lnTo>
                  <a:lnTo>
                    <a:pt x="11" y="22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7" y="14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20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5" y="4"/>
                  </a:lnTo>
                  <a:lnTo>
                    <a:pt x="2" y="6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28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33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536560" y="4048200"/>
              <a:ext cx="41400" cy="4464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6" y="28"/>
                  </a:moveTo>
                  <a:lnTo>
                    <a:pt x="9" y="28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4" y="24"/>
                  </a:lnTo>
                  <a:lnTo>
                    <a:pt x="17" y="22"/>
                  </a:lnTo>
                  <a:lnTo>
                    <a:pt x="17" y="20"/>
                  </a:lnTo>
                  <a:lnTo>
                    <a:pt x="20" y="18"/>
                  </a:lnTo>
                  <a:lnTo>
                    <a:pt x="20" y="16"/>
                  </a:lnTo>
                  <a:lnTo>
                    <a:pt x="23" y="12"/>
                  </a:lnTo>
                  <a:lnTo>
                    <a:pt x="23" y="8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7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9" y="8"/>
                  </a:lnTo>
                  <a:lnTo>
                    <a:pt x="6" y="10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6" y="28"/>
                  </a:lnTo>
                  <a:close/>
                </a:path>
              </a:pathLst>
            </a:custGeom>
            <a:solidFill>
              <a:srgbClr val="33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033640" y="4013280"/>
              <a:ext cx="28440" cy="4752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6" y="30"/>
                  </a:moveTo>
                  <a:lnTo>
                    <a:pt x="12" y="28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2"/>
                  </a:lnTo>
                  <a:lnTo>
                    <a:pt x="9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3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3" y="30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33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58880" y="3981600"/>
              <a:ext cx="33480" cy="4140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3" y="24"/>
                  </a:moveTo>
                  <a:lnTo>
                    <a:pt x="21" y="12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9" y="8"/>
                  </a:lnTo>
                  <a:lnTo>
                    <a:pt x="6" y="10"/>
                  </a:lnTo>
                  <a:lnTo>
                    <a:pt x="3" y="12"/>
                  </a:lnTo>
                  <a:lnTo>
                    <a:pt x="3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33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084400" y="3949920"/>
              <a:ext cx="46080" cy="4428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3" y="28"/>
                  </a:moveTo>
                  <a:lnTo>
                    <a:pt x="9" y="26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17" y="22"/>
                  </a:lnTo>
                  <a:lnTo>
                    <a:pt x="20" y="20"/>
                  </a:lnTo>
                  <a:lnTo>
                    <a:pt x="23" y="18"/>
                  </a:lnTo>
                  <a:lnTo>
                    <a:pt x="26" y="14"/>
                  </a:lnTo>
                  <a:lnTo>
                    <a:pt x="29" y="12"/>
                  </a:lnTo>
                  <a:lnTo>
                    <a:pt x="29" y="10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9" y="4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8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3" y="28"/>
                  </a:lnTo>
                  <a:close/>
                </a:path>
              </a:pathLst>
            </a:custGeom>
            <a:solidFill>
              <a:srgbClr val="33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139840" y="3892680"/>
              <a:ext cx="36360" cy="3168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3" y="20"/>
                  </a:moveTo>
                  <a:lnTo>
                    <a:pt x="6" y="18"/>
                  </a:lnTo>
                  <a:lnTo>
                    <a:pt x="9" y="16"/>
                  </a:lnTo>
                  <a:lnTo>
                    <a:pt x="12" y="14"/>
                  </a:lnTo>
                  <a:lnTo>
                    <a:pt x="17" y="12"/>
                  </a:lnTo>
                  <a:lnTo>
                    <a:pt x="20" y="10"/>
                  </a:lnTo>
                  <a:lnTo>
                    <a:pt x="23" y="6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20" y="2"/>
                  </a:lnTo>
                  <a:lnTo>
                    <a:pt x="17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9" y="8"/>
                  </a:lnTo>
                  <a:lnTo>
                    <a:pt x="6" y="12"/>
                  </a:lnTo>
                  <a:lnTo>
                    <a:pt x="3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3" y="20"/>
                  </a:lnTo>
                  <a:close/>
                </a:path>
              </a:pathLst>
            </a:custGeom>
            <a:solidFill>
              <a:srgbClr val="33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043000" y="3854520"/>
              <a:ext cx="68400" cy="5400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35" y="34"/>
                  </a:moveTo>
                  <a:lnTo>
                    <a:pt x="43" y="14"/>
                  </a:lnTo>
                  <a:lnTo>
                    <a:pt x="29" y="8"/>
                  </a:lnTo>
                  <a:lnTo>
                    <a:pt x="26" y="4"/>
                  </a:lnTo>
                  <a:lnTo>
                    <a:pt x="0" y="0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5" y="34"/>
                  </a:lnTo>
                  <a:lnTo>
                    <a:pt x="35" y="34"/>
                  </a:lnTo>
                  <a:lnTo>
                    <a:pt x="35" y="34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68600" y="3787920"/>
              <a:ext cx="110880" cy="92160"/>
            </a:xfrm>
            <a:custGeom>
              <a:avLst/>
              <a:gdLst/>
              <a:ahLst/>
              <a:rect l="l" t="t" r="r" b="b"/>
              <a:pathLst>
                <a:path w="70" h="58">
                  <a:moveTo>
                    <a:pt x="64" y="58"/>
                  </a:moveTo>
                  <a:lnTo>
                    <a:pt x="61" y="56"/>
                  </a:lnTo>
                  <a:lnTo>
                    <a:pt x="58" y="52"/>
                  </a:lnTo>
                  <a:lnTo>
                    <a:pt x="56" y="48"/>
                  </a:lnTo>
                  <a:lnTo>
                    <a:pt x="53" y="44"/>
                  </a:lnTo>
                  <a:lnTo>
                    <a:pt x="50" y="40"/>
                  </a:lnTo>
                  <a:lnTo>
                    <a:pt x="47" y="36"/>
                  </a:lnTo>
                  <a:lnTo>
                    <a:pt x="47" y="32"/>
                  </a:lnTo>
                  <a:lnTo>
                    <a:pt x="50" y="28"/>
                  </a:lnTo>
                  <a:lnTo>
                    <a:pt x="53" y="26"/>
                  </a:lnTo>
                  <a:lnTo>
                    <a:pt x="53" y="24"/>
                  </a:lnTo>
                  <a:lnTo>
                    <a:pt x="56" y="24"/>
                  </a:lnTo>
                  <a:lnTo>
                    <a:pt x="58" y="22"/>
                  </a:lnTo>
                  <a:lnTo>
                    <a:pt x="61" y="20"/>
                  </a:lnTo>
                  <a:lnTo>
                    <a:pt x="64" y="20"/>
                  </a:lnTo>
                  <a:lnTo>
                    <a:pt x="67" y="18"/>
                  </a:lnTo>
                  <a:lnTo>
                    <a:pt x="70" y="18"/>
                  </a:lnTo>
                  <a:lnTo>
                    <a:pt x="70" y="8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6"/>
                  </a:lnTo>
                  <a:lnTo>
                    <a:pt x="6" y="14"/>
                  </a:lnTo>
                  <a:lnTo>
                    <a:pt x="3" y="18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3" y="40"/>
                  </a:lnTo>
                  <a:lnTo>
                    <a:pt x="3" y="46"/>
                  </a:lnTo>
                  <a:lnTo>
                    <a:pt x="6" y="50"/>
                  </a:lnTo>
                  <a:lnTo>
                    <a:pt x="35" y="54"/>
                  </a:lnTo>
                  <a:lnTo>
                    <a:pt x="35" y="54"/>
                  </a:lnTo>
                  <a:lnTo>
                    <a:pt x="38" y="54"/>
                  </a:lnTo>
                  <a:lnTo>
                    <a:pt x="38" y="56"/>
                  </a:lnTo>
                  <a:lnTo>
                    <a:pt x="38" y="56"/>
                  </a:lnTo>
                  <a:lnTo>
                    <a:pt x="64" y="58"/>
                  </a:lnTo>
                  <a:close/>
                </a:path>
              </a:pathLst>
            </a:custGeom>
            <a:solidFill>
              <a:srgbClr val="33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689200" y="3826080"/>
              <a:ext cx="156960" cy="47520"/>
            </a:xfrm>
            <a:custGeom>
              <a:avLst/>
              <a:gdLst/>
              <a:ahLst/>
              <a:rect l="l" t="t" r="r" b="b"/>
              <a:pathLst>
                <a:path w="99" h="30">
                  <a:moveTo>
                    <a:pt x="87" y="30"/>
                  </a:moveTo>
                  <a:lnTo>
                    <a:pt x="87" y="30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99" y="6"/>
                  </a:lnTo>
                  <a:lnTo>
                    <a:pt x="99" y="4"/>
                  </a:lnTo>
                  <a:lnTo>
                    <a:pt x="99" y="4"/>
                  </a:lnTo>
                  <a:lnTo>
                    <a:pt x="99" y="4"/>
                  </a:lnTo>
                  <a:lnTo>
                    <a:pt x="99" y="2"/>
                  </a:lnTo>
                  <a:lnTo>
                    <a:pt x="93" y="2"/>
                  </a:lnTo>
                  <a:lnTo>
                    <a:pt x="90" y="2"/>
                  </a:lnTo>
                  <a:lnTo>
                    <a:pt x="84" y="0"/>
                  </a:lnTo>
                  <a:lnTo>
                    <a:pt x="81" y="0"/>
                  </a:lnTo>
                  <a:lnTo>
                    <a:pt x="75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2"/>
                  </a:lnTo>
                  <a:lnTo>
                    <a:pt x="20" y="4"/>
                  </a:lnTo>
                  <a:lnTo>
                    <a:pt x="17" y="6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6" y="12"/>
                  </a:lnTo>
                  <a:lnTo>
                    <a:pt x="3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3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14" y="26"/>
                  </a:lnTo>
                  <a:lnTo>
                    <a:pt x="17" y="26"/>
                  </a:lnTo>
                  <a:lnTo>
                    <a:pt x="20" y="26"/>
                  </a:lnTo>
                  <a:lnTo>
                    <a:pt x="26" y="26"/>
                  </a:lnTo>
                  <a:lnTo>
                    <a:pt x="29" y="26"/>
                  </a:lnTo>
                  <a:lnTo>
                    <a:pt x="35" y="26"/>
                  </a:lnTo>
                  <a:lnTo>
                    <a:pt x="38" y="26"/>
                  </a:lnTo>
                  <a:lnTo>
                    <a:pt x="43" y="26"/>
                  </a:lnTo>
                  <a:lnTo>
                    <a:pt x="46" y="26"/>
                  </a:lnTo>
                  <a:lnTo>
                    <a:pt x="52" y="26"/>
                  </a:lnTo>
                  <a:lnTo>
                    <a:pt x="55" y="26"/>
                  </a:lnTo>
                  <a:lnTo>
                    <a:pt x="58" y="28"/>
                  </a:lnTo>
                  <a:lnTo>
                    <a:pt x="64" y="28"/>
                  </a:lnTo>
                  <a:lnTo>
                    <a:pt x="67" y="28"/>
                  </a:lnTo>
                  <a:lnTo>
                    <a:pt x="70" y="28"/>
                  </a:lnTo>
                  <a:lnTo>
                    <a:pt x="73" y="28"/>
                  </a:lnTo>
                  <a:lnTo>
                    <a:pt x="75" y="28"/>
                  </a:lnTo>
                  <a:lnTo>
                    <a:pt x="78" y="28"/>
                  </a:lnTo>
                  <a:lnTo>
                    <a:pt x="81" y="28"/>
                  </a:lnTo>
                  <a:lnTo>
                    <a:pt x="84" y="30"/>
                  </a:lnTo>
                  <a:lnTo>
                    <a:pt x="87" y="30"/>
                  </a:lnTo>
                  <a:close/>
                </a:path>
              </a:pathLst>
            </a:custGeom>
            <a:solidFill>
              <a:srgbClr val="33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144520" y="3768840"/>
              <a:ext cx="115920" cy="7632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52" y="48"/>
                  </a:moveTo>
                  <a:lnTo>
                    <a:pt x="55" y="48"/>
                  </a:lnTo>
                  <a:lnTo>
                    <a:pt x="58" y="48"/>
                  </a:lnTo>
                  <a:lnTo>
                    <a:pt x="61" y="48"/>
                  </a:lnTo>
                  <a:lnTo>
                    <a:pt x="61" y="46"/>
                  </a:lnTo>
                  <a:lnTo>
                    <a:pt x="64" y="46"/>
                  </a:lnTo>
                  <a:lnTo>
                    <a:pt x="67" y="44"/>
                  </a:lnTo>
                  <a:lnTo>
                    <a:pt x="70" y="42"/>
                  </a:lnTo>
                  <a:lnTo>
                    <a:pt x="73" y="42"/>
                  </a:lnTo>
                  <a:lnTo>
                    <a:pt x="70" y="32"/>
                  </a:lnTo>
                  <a:lnTo>
                    <a:pt x="67" y="24"/>
                  </a:lnTo>
                  <a:lnTo>
                    <a:pt x="67" y="14"/>
                  </a:lnTo>
                  <a:lnTo>
                    <a:pt x="70" y="6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64" y="2"/>
                  </a:lnTo>
                  <a:lnTo>
                    <a:pt x="61" y="2"/>
                  </a:lnTo>
                  <a:lnTo>
                    <a:pt x="58" y="2"/>
                  </a:lnTo>
                  <a:lnTo>
                    <a:pt x="55" y="2"/>
                  </a:lnTo>
                  <a:lnTo>
                    <a:pt x="52" y="2"/>
                  </a:lnTo>
                  <a:lnTo>
                    <a:pt x="46" y="2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32" y="2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4" y="4"/>
                  </a:lnTo>
                  <a:lnTo>
                    <a:pt x="11" y="4"/>
                  </a:lnTo>
                  <a:lnTo>
                    <a:pt x="9" y="10"/>
                  </a:lnTo>
                  <a:lnTo>
                    <a:pt x="9" y="12"/>
                  </a:lnTo>
                  <a:lnTo>
                    <a:pt x="9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22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6" y="42"/>
                  </a:lnTo>
                  <a:lnTo>
                    <a:pt x="52" y="48"/>
                  </a:lnTo>
                  <a:close/>
                </a:path>
              </a:pathLst>
            </a:custGeom>
            <a:solidFill>
              <a:srgbClr val="33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68360" y="3797280"/>
              <a:ext cx="258840" cy="44640"/>
            </a:xfrm>
            <a:custGeom>
              <a:avLst/>
              <a:gdLst/>
              <a:ahLst/>
              <a:rect l="l" t="t" r="r" b="b"/>
              <a:pathLst>
                <a:path w="163" h="28">
                  <a:moveTo>
                    <a:pt x="163" y="28"/>
                  </a:moveTo>
                  <a:lnTo>
                    <a:pt x="163" y="10"/>
                  </a:lnTo>
                  <a:lnTo>
                    <a:pt x="131" y="8"/>
                  </a:lnTo>
                  <a:lnTo>
                    <a:pt x="128" y="8"/>
                  </a:lnTo>
                  <a:lnTo>
                    <a:pt x="128" y="8"/>
                  </a:lnTo>
                  <a:lnTo>
                    <a:pt x="125" y="6"/>
                  </a:lnTo>
                  <a:lnTo>
                    <a:pt x="125" y="6"/>
                  </a:lnTo>
                  <a:lnTo>
                    <a:pt x="122" y="6"/>
                  </a:lnTo>
                  <a:lnTo>
                    <a:pt x="120" y="6"/>
                  </a:lnTo>
                  <a:lnTo>
                    <a:pt x="120" y="6"/>
                  </a:lnTo>
                  <a:lnTo>
                    <a:pt x="117" y="6"/>
                  </a:lnTo>
                  <a:lnTo>
                    <a:pt x="117" y="6"/>
                  </a:lnTo>
                  <a:lnTo>
                    <a:pt x="114" y="6"/>
                  </a:lnTo>
                  <a:lnTo>
                    <a:pt x="111" y="6"/>
                  </a:lnTo>
                  <a:lnTo>
                    <a:pt x="111" y="6"/>
                  </a:lnTo>
                  <a:lnTo>
                    <a:pt x="108" y="6"/>
                  </a:lnTo>
                  <a:lnTo>
                    <a:pt x="108" y="6"/>
                  </a:lnTo>
                  <a:lnTo>
                    <a:pt x="105" y="6"/>
                  </a:lnTo>
                  <a:lnTo>
                    <a:pt x="105" y="8"/>
                  </a:lnTo>
                  <a:lnTo>
                    <a:pt x="102" y="6"/>
                  </a:lnTo>
                  <a:lnTo>
                    <a:pt x="96" y="6"/>
                  </a:lnTo>
                  <a:lnTo>
                    <a:pt x="93" y="4"/>
                  </a:lnTo>
                  <a:lnTo>
                    <a:pt x="90" y="4"/>
                  </a:lnTo>
                  <a:lnTo>
                    <a:pt x="88" y="4"/>
                  </a:lnTo>
                  <a:lnTo>
                    <a:pt x="85" y="4"/>
                  </a:lnTo>
                  <a:lnTo>
                    <a:pt x="79" y="6"/>
                  </a:lnTo>
                  <a:lnTo>
                    <a:pt x="76" y="6"/>
                  </a:lnTo>
                  <a:lnTo>
                    <a:pt x="29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6"/>
                  </a:lnTo>
                  <a:lnTo>
                    <a:pt x="3" y="10"/>
                  </a:lnTo>
                  <a:lnTo>
                    <a:pt x="6" y="12"/>
                  </a:lnTo>
                  <a:lnTo>
                    <a:pt x="9" y="14"/>
                  </a:lnTo>
                  <a:lnTo>
                    <a:pt x="9" y="16"/>
                  </a:lnTo>
                  <a:lnTo>
                    <a:pt x="12" y="18"/>
                  </a:lnTo>
                  <a:lnTo>
                    <a:pt x="18" y="20"/>
                  </a:lnTo>
                  <a:lnTo>
                    <a:pt x="27" y="20"/>
                  </a:lnTo>
                  <a:lnTo>
                    <a:pt x="32" y="22"/>
                  </a:lnTo>
                  <a:lnTo>
                    <a:pt x="41" y="22"/>
                  </a:lnTo>
                  <a:lnTo>
                    <a:pt x="47" y="22"/>
                  </a:lnTo>
                  <a:lnTo>
                    <a:pt x="53" y="22"/>
                  </a:lnTo>
                  <a:lnTo>
                    <a:pt x="58" y="22"/>
                  </a:lnTo>
                  <a:lnTo>
                    <a:pt x="67" y="24"/>
                  </a:lnTo>
                  <a:lnTo>
                    <a:pt x="73" y="24"/>
                  </a:lnTo>
                  <a:lnTo>
                    <a:pt x="79" y="24"/>
                  </a:lnTo>
                  <a:lnTo>
                    <a:pt x="85" y="24"/>
                  </a:lnTo>
                  <a:lnTo>
                    <a:pt x="90" y="24"/>
                  </a:lnTo>
                  <a:lnTo>
                    <a:pt x="96" y="26"/>
                  </a:lnTo>
                  <a:lnTo>
                    <a:pt x="105" y="26"/>
                  </a:lnTo>
                  <a:lnTo>
                    <a:pt x="111" y="26"/>
                  </a:lnTo>
                  <a:lnTo>
                    <a:pt x="117" y="26"/>
                  </a:lnTo>
                  <a:lnTo>
                    <a:pt x="122" y="26"/>
                  </a:lnTo>
                  <a:lnTo>
                    <a:pt x="128" y="26"/>
                  </a:lnTo>
                  <a:lnTo>
                    <a:pt x="134" y="26"/>
                  </a:lnTo>
                  <a:lnTo>
                    <a:pt x="140" y="26"/>
                  </a:lnTo>
                  <a:lnTo>
                    <a:pt x="146" y="26"/>
                  </a:lnTo>
                  <a:lnTo>
                    <a:pt x="152" y="26"/>
                  </a:lnTo>
                  <a:lnTo>
                    <a:pt x="157" y="28"/>
                  </a:lnTo>
                  <a:lnTo>
                    <a:pt x="163" y="28"/>
                  </a:lnTo>
                  <a:close/>
                </a:path>
              </a:pathLst>
            </a:custGeom>
            <a:solidFill>
              <a:srgbClr val="33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77840" y="3787920"/>
              <a:ext cx="130320" cy="34920"/>
            </a:xfrm>
            <a:custGeom>
              <a:avLst/>
              <a:gdLst/>
              <a:ahLst/>
              <a:rect l="l" t="t" r="r" b="b"/>
              <a:pathLst>
                <a:path w="82" h="22">
                  <a:moveTo>
                    <a:pt x="41" y="22"/>
                  </a:moveTo>
                  <a:lnTo>
                    <a:pt x="82" y="18"/>
                  </a:lnTo>
                  <a:lnTo>
                    <a:pt x="79" y="8"/>
                  </a:lnTo>
                  <a:lnTo>
                    <a:pt x="12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16"/>
                  </a:lnTo>
                  <a:lnTo>
                    <a:pt x="41" y="22"/>
                  </a:lnTo>
                  <a:close/>
                </a:path>
              </a:pathLst>
            </a:custGeom>
            <a:solidFill>
              <a:srgbClr val="33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0" y="5424480"/>
            <a:ext cx="4191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ff0000"/>
                </a:solidFill>
                <a:latin typeface="Times New Roman"/>
              </a:rPr>
              <a:t>أ</a:t>
            </a:r>
            <a:r>
              <a:rPr b="1" lang="hi-IN" sz="8800" spc="-1" strike="noStrike">
                <a:solidFill>
                  <a:srgbClr val="000000"/>
                </a:solidFill>
                <a:latin typeface="Times New Roman"/>
              </a:rPr>
              <a:t>رجوح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9T19:26:15Z</dcterms:created>
  <dc:creator>a</dc:creator>
  <dc:description/>
  <dc:language>en-US</dc:language>
  <cp:lastModifiedBy>Free User</cp:lastModifiedBy>
  <dcterms:modified xsi:type="dcterms:W3CDTF">2007-03-15T14:02:21Z</dcterms:modified>
  <cp:revision>55</cp:revision>
  <dc:subject/>
  <dc:title>عرض تقديمي من PowerPoint</dc:title>
</cp:coreProperties>
</file>