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56A-60F4-4C3D-97C1-1AA5D78E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C5D-E6C1-40AA-82C9-3A0EF9A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4F7-7ED0-4C72-92EE-FB593B1C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EB0-5998-4588-BAAE-63D23E39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25E-86B9-48A1-934C-E836938A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6F0-7900-42D7-8E17-A9287AD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14E-C177-43E8-8BED-EE0E903B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1EC-0D76-4515-84E8-A09F6C44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87D-7DCA-4C44-9E15-27DC9CD2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108-7A1B-469E-8787-4DEDC3D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9CD-CBD4-403E-A37C-5E4B855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D37-6572-45C6-9FF3-9D1FF699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BC7-A3FF-4A8D-B6FF-8422320548F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267080" cy="3048120"/>
            <a:chOff x="0" y="0"/>
            <a:chExt cx="4267080" cy="30481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4267080" cy="304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1066680" y="152280"/>
              <a:ext cx="195768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190512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ـلاث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80988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43600" y="3962520"/>
            <a:ext cx="1957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105520"/>
            <a:ext cx="3352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8800" spc="-1" strike="noStrike">
                <a:solidFill>
                  <a:srgbClr val="000000"/>
                </a:solidFill>
                <a:latin typeface="Times New Roman"/>
              </a:rPr>
              <a:t>ـماني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988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75928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bright="-6000"/>
          </a:blip>
          <a:srcRect l="67202" t="29488" r="15598" b="60441"/>
          <a:stretch/>
        </p:blipFill>
        <p:spPr>
          <a:xfrm>
            <a:off x="1066680" y="4251240"/>
            <a:ext cx="2362320" cy="111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1320" y="1522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57800" y="21337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ـعـل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876920" y="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80988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988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1839960" cy="112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2100240" cy="15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438280" y="4114800"/>
            <a:ext cx="138276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914400" y="115920"/>
            <a:ext cx="2178000" cy="163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791320" y="1522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57800" y="21337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6000" spc="-1" strike="noStrike">
                <a:solidFill>
                  <a:srgbClr val="000000"/>
                </a:solidFill>
                <a:latin typeface="Times New Roman"/>
              </a:rPr>
              <a:t>ـعـل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9810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0000"/>
                </a:solidFill>
                <a:latin typeface="Times New Roman"/>
              </a:rPr>
              <a:t>ثـ</a:t>
            </a:r>
            <a:r>
              <a:rPr b="1" lang="hi-IN" sz="6000" spc="-1" strike="noStrike">
                <a:solidFill>
                  <a:srgbClr val="000000"/>
                </a:solidFill>
                <a:latin typeface="Times New Roman"/>
              </a:rPr>
              <a:t>ـمـ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85144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6000" spc="-1" strike="noStrike">
                <a:solidFill>
                  <a:srgbClr val="000000"/>
                </a:solidFill>
                <a:latin typeface="Times New Roman"/>
              </a:rPr>
              <a:t>ـعب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85144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6000" spc="-1" strike="noStrike">
                <a:solidFill>
                  <a:srgbClr val="000000"/>
                </a:solidFill>
                <a:latin typeface="Times New Roman"/>
              </a:rPr>
              <a:t>ـل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876920" y="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380988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0988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2670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62720" y="7632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12408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57800" y="1905120"/>
            <a:ext cx="335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6600" spc="-1" strike="noStrike">
                <a:solidFill>
                  <a:srgbClr val="000000"/>
                </a:solidFill>
                <a:latin typeface="Times New Roman"/>
              </a:rPr>
              <a:t>ـو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85144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6000" spc="-1" strike="noStrike">
                <a:solidFill>
                  <a:srgbClr val="000000"/>
                </a:solidFill>
                <a:latin typeface="Times New Roman"/>
              </a:rPr>
              <a:t>ـلاج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05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0000"/>
                </a:solidFill>
                <a:latin typeface="Times New Roman"/>
              </a:rPr>
              <a:t>ث</a:t>
            </a:r>
            <a:r>
              <a:rPr b="1" lang="hi-IN" sz="7200" spc="-1" strike="noStrike">
                <a:solidFill>
                  <a:srgbClr val="000000"/>
                </a:solidFill>
                <a:latin typeface="Times New Roman"/>
              </a:rPr>
              <a:t>ــ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851440"/>
            <a:ext cx="335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0000"/>
                </a:solidFill>
                <a:latin typeface="Times New Roman"/>
              </a:rPr>
              <a:t>ثـ</a:t>
            </a:r>
            <a:r>
              <a:rPr b="1" lang="hi-IN" sz="6600" spc="-1" strike="noStrike">
                <a:solidFill>
                  <a:srgbClr val="000000"/>
                </a:solidFill>
                <a:latin typeface="Times New Roman"/>
              </a:rPr>
              <a:t>ـ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2096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143000" y="3886200"/>
            <a:ext cx="1904760" cy="1535040"/>
            <a:chOff x="1143000" y="3886200"/>
            <a:chExt cx="1904760" cy="1535040"/>
          </a:xfrm>
        </p:grpSpPr>
        <p:sp>
          <p:nvSpPr>
            <p:cNvPr id="79" name=""/>
            <p:cNvSpPr/>
            <p:nvPr/>
          </p:nvSpPr>
          <p:spPr>
            <a:xfrm>
              <a:off x="1143000" y="3900600"/>
              <a:ext cx="742320" cy="1520640"/>
            </a:xfrm>
            <a:custGeom>
              <a:avLst/>
              <a:gdLst/>
              <a:ahLst/>
              <a:rect l="l" t="t" r="r" b="b"/>
              <a:pathLst>
                <a:path w="4405" h="15330">
                  <a:moveTo>
                    <a:pt x="0" y="1985"/>
                  </a:moveTo>
                  <a:lnTo>
                    <a:pt x="4013" y="41"/>
                  </a:lnTo>
                  <a:lnTo>
                    <a:pt x="4033" y="32"/>
                  </a:lnTo>
                  <a:lnTo>
                    <a:pt x="4055" y="16"/>
                  </a:lnTo>
                  <a:lnTo>
                    <a:pt x="4089" y="6"/>
                  </a:lnTo>
                  <a:lnTo>
                    <a:pt x="4140" y="0"/>
                  </a:lnTo>
                  <a:lnTo>
                    <a:pt x="4215" y="0"/>
                  </a:lnTo>
                  <a:lnTo>
                    <a:pt x="4298" y="0"/>
                  </a:lnTo>
                  <a:lnTo>
                    <a:pt x="4405" y="6"/>
                  </a:lnTo>
                  <a:lnTo>
                    <a:pt x="4405" y="15185"/>
                  </a:lnTo>
                  <a:lnTo>
                    <a:pt x="4399" y="15195"/>
                  </a:lnTo>
                  <a:lnTo>
                    <a:pt x="4383" y="15210"/>
                  </a:lnTo>
                  <a:lnTo>
                    <a:pt x="4357" y="15227"/>
                  </a:lnTo>
                  <a:lnTo>
                    <a:pt x="4313" y="15253"/>
                  </a:lnTo>
                  <a:lnTo>
                    <a:pt x="4273" y="15289"/>
                  </a:lnTo>
                  <a:lnTo>
                    <a:pt x="4222" y="15304"/>
                  </a:lnTo>
                  <a:lnTo>
                    <a:pt x="4171" y="15321"/>
                  </a:lnTo>
                  <a:lnTo>
                    <a:pt x="4123" y="15330"/>
                  </a:lnTo>
                  <a:lnTo>
                    <a:pt x="4055" y="15321"/>
                  </a:lnTo>
                  <a:lnTo>
                    <a:pt x="3905" y="15289"/>
                  </a:lnTo>
                  <a:lnTo>
                    <a:pt x="3688" y="15227"/>
                  </a:lnTo>
                  <a:lnTo>
                    <a:pt x="3422" y="15159"/>
                  </a:lnTo>
                  <a:lnTo>
                    <a:pt x="3103" y="15081"/>
                  </a:lnTo>
                  <a:lnTo>
                    <a:pt x="2752" y="14988"/>
                  </a:lnTo>
                  <a:lnTo>
                    <a:pt x="2386" y="14885"/>
                  </a:lnTo>
                  <a:lnTo>
                    <a:pt x="2010" y="14785"/>
                  </a:lnTo>
                  <a:lnTo>
                    <a:pt x="1627" y="14691"/>
                  </a:lnTo>
                  <a:lnTo>
                    <a:pt x="1267" y="14588"/>
                  </a:lnTo>
                  <a:lnTo>
                    <a:pt x="926" y="14494"/>
                  </a:lnTo>
                  <a:lnTo>
                    <a:pt x="625" y="14417"/>
                  </a:lnTo>
                  <a:lnTo>
                    <a:pt x="366" y="14349"/>
                  </a:lnTo>
                  <a:lnTo>
                    <a:pt x="173" y="14291"/>
                  </a:lnTo>
                  <a:lnTo>
                    <a:pt x="40" y="14255"/>
                  </a:lnTo>
                  <a:lnTo>
                    <a:pt x="0" y="1424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f4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3987720"/>
              <a:ext cx="696600" cy="1422360"/>
            </a:xfrm>
            <a:custGeom>
              <a:avLst/>
              <a:gdLst/>
              <a:ahLst/>
              <a:rect l="l" t="t" r="r" b="b"/>
              <a:pathLst>
                <a:path w="4130" h="14336">
                  <a:moveTo>
                    <a:pt x="0" y="1776"/>
                  </a:moveTo>
                  <a:lnTo>
                    <a:pt x="3855" y="60"/>
                  </a:lnTo>
                  <a:lnTo>
                    <a:pt x="3855" y="45"/>
                  </a:lnTo>
                  <a:lnTo>
                    <a:pt x="3865" y="35"/>
                  </a:lnTo>
                  <a:lnTo>
                    <a:pt x="3880" y="19"/>
                  </a:lnTo>
                  <a:lnTo>
                    <a:pt x="3916" y="9"/>
                  </a:lnTo>
                  <a:lnTo>
                    <a:pt x="3963" y="0"/>
                  </a:lnTo>
                  <a:lnTo>
                    <a:pt x="4033" y="0"/>
                  </a:lnTo>
                  <a:lnTo>
                    <a:pt x="4130" y="9"/>
                  </a:lnTo>
                  <a:lnTo>
                    <a:pt x="4130" y="14196"/>
                  </a:lnTo>
                  <a:lnTo>
                    <a:pt x="4123" y="14207"/>
                  </a:lnTo>
                  <a:lnTo>
                    <a:pt x="4105" y="14216"/>
                  </a:lnTo>
                  <a:lnTo>
                    <a:pt x="4080" y="14239"/>
                  </a:lnTo>
                  <a:lnTo>
                    <a:pt x="4048" y="14264"/>
                  </a:lnTo>
                  <a:lnTo>
                    <a:pt x="4007" y="14290"/>
                  </a:lnTo>
                  <a:lnTo>
                    <a:pt x="3963" y="14310"/>
                  </a:lnTo>
                  <a:lnTo>
                    <a:pt x="3916" y="14325"/>
                  </a:lnTo>
                  <a:lnTo>
                    <a:pt x="3865" y="14336"/>
                  </a:lnTo>
                  <a:lnTo>
                    <a:pt x="3798" y="14325"/>
                  </a:lnTo>
                  <a:lnTo>
                    <a:pt x="3662" y="14290"/>
                  </a:lnTo>
                  <a:lnTo>
                    <a:pt x="3453" y="14239"/>
                  </a:lnTo>
                  <a:lnTo>
                    <a:pt x="3204" y="14171"/>
                  </a:lnTo>
                  <a:lnTo>
                    <a:pt x="2914" y="14096"/>
                  </a:lnTo>
                  <a:lnTo>
                    <a:pt x="2579" y="14009"/>
                  </a:lnTo>
                  <a:lnTo>
                    <a:pt x="2237" y="13916"/>
                  </a:lnTo>
                  <a:lnTo>
                    <a:pt x="1886" y="13822"/>
                  </a:lnTo>
                  <a:lnTo>
                    <a:pt x="1526" y="13728"/>
                  </a:lnTo>
                  <a:lnTo>
                    <a:pt x="1184" y="13635"/>
                  </a:lnTo>
                  <a:lnTo>
                    <a:pt x="868" y="13551"/>
                  </a:lnTo>
                  <a:lnTo>
                    <a:pt x="584" y="13473"/>
                  </a:lnTo>
                  <a:lnTo>
                    <a:pt x="341" y="13406"/>
                  </a:lnTo>
                  <a:lnTo>
                    <a:pt x="157" y="13354"/>
                  </a:lnTo>
                  <a:lnTo>
                    <a:pt x="40" y="13318"/>
                  </a:lnTo>
                  <a:lnTo>
                    <a:pt x="0" y="13312"/>
                  </a:lnTo>
                  <a:lnTo>
                    <a:pt x="0" y="1776"/>
                  </a:lnTo>
                  <a:close/>
                </a:path>
              </a:pathLst>
            </a:custGeom>
            <a:solidFill>
              <a:srgbClr val="f4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43000" y="4076640"/>
              <a:ext cx="647640" cy="1322280"/>
            </a:xfrm>
            <a:custGeom>
              <a:avLst/>
              <a:gdLst/>
              <a:ahLst/>
              <a:rect l="l" t="t" r="r" b="b"/>
              <a:pathLst>
                <a:path w="3855" h="13325">
                  <a:moveTo>
                    <a:pt x="0" y="1560"/>
                  </a:moveTo>
                  <a:lnTo>
                    <a:pt x="3688" y="78"/>
                  </a:lnTo>
                  <a:lnTo>
                    <a:pt x="3688" y="68"/>
                  </a:lnTo>
                  <a:lnTo>
                    <a:pt x="3672" y="58"/>
                  </a:lnTo>
                  <a:lnTo>
                    <a:pt x="3672" y="42"/>
                  </a:lnTo>
                  <a:lnTo>
                    <a:pt x="3672" y="26"/>
                  </a:lnTo>
                  <a:lnTo>
                    <a:pt x="3681" y="16"/>
                  </a:lnTo>
                  <a:lnTo>
                    <a:pt x="3713" y="7"/>
                  </a:lnTo>
                  <a:lnTo>
                    <a:pt x="3773" y="0"/>
                  </a:lnTo>
                  <a:lnTo>
                    <a:pt x="3855" y="7"/>
                  </a:lnTo>
                  <a:lnTo>
                    <a:pt x="3855" y="13206"/>
                  </a:lnTo>
                  <a:lnTo>
                    <a:pt x="3846" y="13216"/>
                  </a:lnTo>
                  <a:lnTo>
                    <a:pt x="3830" y="13222"/>
                  </a:lnTo>
                  <a:lnTo>
                    <a:pt x="3805" y="13242"/>
                  </a:lnTo>
                  <a:lnTo>
                    <a:pt x="3779" y="13267"/>
                  </a:lnTo>
                  <a:lnTo>
                    <a:pt x="3738" y="13293"/>
                  </a:lnTo>
                  <a:lnTo>
                    <a:pt x="3698" y="13310"/>
                  </a:lnTo>
                  <a:lnTo>
                    <a:pt x="3656" y="13319"/>
                  </a:lnTo>
                  <a:lnTo>
                    <a:pt x="3606" y="13325"/>
                  </a:lnTo>
                  <a:lnTo>
                    <a:pt x="3545" y="13319"/>
                  </a:lnTo>
                  <a:lnTo>
                    <a:pt x="3413" y="13283"/>
                  </a:lnTo>
                  <a:lnTo>
                    <a:pt x="3229" y="13242"/>
                  </a:lnTo>
                  <a:lnTo>
                    <a:pt x="2986" y="13174"/>
                  </a:lnTo>
                  <a:lnTo>
                    <a:pt x="2711" y="13103"/>
                  </a:lnTo>
                  <a:lnTo>
                    <a:pt x="2411" y="13028"/>
                  </a:lnTo>
                  <a:lnTo>
                    <a:pt x="2085" y="12935"/>
                  </a:lnTo>
                  <a:lnTo>
                    <a:pt x="1753" y="12848"/>
                  </a:lnTo>
                  <a:lnTo>
                    <a:pt x="1428" y="12763"/>
                  </a:lnTo>
                  <a:lnTo>
                    <a:pt x="1109" y="12670"/>
                  </a:lnTo>
                  <a:lnTo>
                    <a:pt x="809" y="12592"/>
                  </a:lnTo>
                  <a:lnTo>
                    <a:pt x="542" y="12515"/>
                  </a:lnTo>
                  <a:lnTo>
                    <a:pt x="325" y="12457"/>
                  </a:lnTo>
                  <a:lnTo>
                    <a:pt x="148" y="12415"/>
                  </a:lnTo>
                  <a:lnTo>
                    <a:pt x="40" y="12379"/>
                  </a:lnTo>
                  <a:lnTo>
                    <a:pt x="0" y="12370"/>
                  </a:lnTo>
                  <a:lnTo>
                    <a:pt x="0" y="1560"/>
                  </a:lnTo>
                  <a:close/>
                </a:path>
              </a:pathLst>
            </a:custGeom>
            <a:solidFill>
              <a:srgbClr val="f4c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43000" y="4165560"/>
              <a:ext cx="601920" cy="1222560"/>
            </a:xfrm>
            <a:custGeom>
              <a:avLst/>
              <a:gdLst/>
              <a:ahLst/>
              <a:rect l="l" t="t" r="r" b="b"/>
              <a:pathLst>
                <a:path w="3581" h="12328">
                  <a:moveTo>
                    <a:pt x="0" y="1340"/>
                  </a:moveTo>
                  <a:lnTo>
                    <a:pt x="3520" y="94"/>
                  </a:lnTo>
                  <a:lnTo>
                    <a:pt x="3514" y="88"/>
                  </a:lnTo>
                  <a:lnTo>
                    <a:pt x="3498" y="78"/>
                  </a:lnTo>
                  <a:lnTo>
                    <a:pt x="3473" y="62"/>
                  </a:lnTo>
                  <a:lnTo>
                    <a:pt x="3453" y="36"/>
                  </a:lnTo>
                  <a:lnTo>
                    <a:pt x="3447" y="17"/>
                  </a:lnTo>
                  <a:lnTo>
                    <a:pt x="3464" y="0"/>
                  </a:lnTo>
                  <a:lnTo>
                    <a:pt x="3504" y="0"/>
                  </a:lnTo>
                  <a:lnTo>
                    <a:pt x="3581" y="0"/>
                  </a:lnTo>
                  <a:lnTo>
                    <a:pt x="3581" y="12209"/>
                  </a:lnTo>
                  <a:lnTo>
                    <a:pt x="3564" y="12228"/>
                  </a:lnTo>
                  <a:lnTo>
                    <a:pt x="3504" y="12270"/>
                  </a:lnTo>
                  <a:lnTo>
                    <a:pt x="3428" y="12312"/>
                  </a:lnTo>
                  <a:lnTo>
                    <a:pt x="3346" y="12328"/>
                  </a:lnTo>
                  <a:lnTo>
                    <a:pt x="3289" y="12322"/>
                  </a:lnTo>
                  <a:lnTo>
                    <a:pt x="3173" y="12286"/>
                  </a:lnTo>
                  <a:lnTo>
                    <a:pt x="2995" y="12245"/>
                  </a:lnTo>
                  <a:lnTo>
                    <a:pt x="2777" y="12186"/>
                  </a:lnTo>
                  <a:lnTo>
                    <a:pt x="2521" y="12115"/>
                  </a:lnTo>
                  <a:lnTo>
                    <a:pt x="2237" y="12041"/>
                  </a:lnTo>
                  <a:lnTo>
                    <a:pt x="1937" y="11963"/>
                  </a:lnTo>
                  <a:lnTo>
                    <a:pt x="1636" y="11876"/>
                  </a:lnTo>
                  <a:lnTo>
                    <a:pt x="1326" y="11792"/>
                  </a:lnTo>
                  <a:lnTo>
                    <a:pt x="1027" y="11715"/>
                  </a:lnTo>
                  <a:lnTo>
                    <a:pt x="751" y="11641"/>
                  </a:lnTo>
                  <a:lnTo>
                    <a:pt x="508" y="11569"/>
                  </a:lnTo>
                  <a:lnTo>
                    <a:pt x="299" y="11511"/>
                  </a:lnTo>
                  <a:lnTo>
                    <a:pt x="142" y="11469"/>
                  </a:lnTo>
                  <a:lnTo>
                    <a:pt x="31" y="11433"/>
                  </a:lnTo>
                  <a:lnTo>
                    <a:pt x="0" y="11424"/>
                  </a:lnTo>
                  <a:lnTo>
                    <a:pt x="0" y="1340"/>
                  </a:lnTo>
                  <a:close/>
                </a:path>
              </a:pathLst>
            </a:custGeom>
            <a:solidFill>
              <a:srgbClr val="f4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4253040"/>
              <a:ext cx="556920" cy="1125360"/>
            </a:xfrm>
            <a:custGeom>
              <a:avLst/>
              <a:gdLst/>
              <a:ahLst/>
              <a:rect l="l" t="t" r="r" b="b"/>
              <a:pathLst>
                <a:path w="3305" h="11329">
                  <a:moveTo>
                    <a:pt x="0" y="1132"/>
                  </a:moveTo>
                  <a:lnTo>
                    <a:pt x="3264" y="145"/>
                  </a:lnTo>
                  <a:lnTo>
                    <a:pt x="3239" y="119"/>
                  </a:lnTo>
                  <a:lnTo>
                    <a:pt x="3195" y="57"/>
                  </a:lnTo>
                  <a:lnTo>
                    <a:pt x="3195" y="6"/>
                  </a:lnTo>
                  <a:lnTo>
                    <a:pt x="3305" y="0"/>
                  </a:lnTo>
                  <a:lnTo>
                    <a:pt x="3305" y="11220"/>
                  </a:lnTo>
                  <a:lnTo>
                    <a:pt x="3289" y="11236"/>
                  </a:lnTo>
                  <a:lnTo>
                    <a:pt x="3239" y="11271"/>
                  </a:lnTo>
                  <a:lnTo>
                    <a:pt x="3173" y="11313"/>
                  </a:lnTo>
                  <a:lnTo>
                    <a:pt x="3087" y="11329"/>
                  </a:lnTo>
                  <a:lnTo>
                    <a:pt x="3037" y="11320"/>
                  </a:lnTo>
                  <a:lnTo>
                    <a:pt x="2929" y="11297"/>
                  </a:lnTo>
                  <a:lnTo>
                    <a:pt x="2761" y="11252"/>
                  </a:lnTo>
                  <a:lnTo>
                    <a:pt x="2562" y="11203"/>
                  </a:lnTo>
                  <a:lnTo>
                    <a:pt x="2328" y="11132"/>
                  </a:lnTo>
                  <a:lnTo>
                    <a:pt x="2069" y="11065"/>
                  </a:lnTo>
                  <a:lnTo>
                    <a:pt x="1795" y="10987"/>
                  </a:lnTo>
                  <a:lnTo>
                    <a:pt x="1510" y="10903"/>
                  </a:lnTo>
                  <a:lnTo>
                    <a:pt x="1226" y="10826"/>
                  </a:lnTo>
                  <a:lnTo>
                    <a:pt x="951" y="10752"/>
                  </a:lnTo>
                  <a:lnTo>
                    <a:pt x="692" y="10680"/>
                  </a:lnTo>
                  <a:lnTo>
                    <a:pt x="467" y="10612"/>
                  </a:lnTo>
                  <a:lnTo>
                    <a:pt x="274" y="10561"/>
                  </a:lnTo>
                  <a:lnTo>
                    <a:pt x="126" y="10519"/>
                  </a:lnTo>
                  <a:lnTo>
                    <a:pt x="31" y="10493"/>
                  </a:lnTo>
                  <a:lnTo>
                    <a:pt x="0" y="10487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f4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4341960"/>
              <a:ext cx="511200" cy="1025280"/>
            </a:xfrm>
            <a:custGeom>
              <a:avLst/>
              <a:gdLst/>
              <a:ahLst/>
              <a:rect l="l" t="t" r="r" b="b"/>
              <a:pathLst>
                <a:path w="3031" h="10326">
                  <a:moveTo>
                    <a:pt x="0" y="914"/>
                  </a:moveTo>
                  <a:lnTo>
                    <a:pt x="2995" y="187"/>
                  </a:lnTo>
                  <a:lnTo>
                    <a:pt x="2970" y="155"/>
                  </a:lnTo>
                  <a:lnTo>
                    <a:pt x="2929" y="87"/>
                  </a:lnTo>
                  <a:lnTo>
                    <a:pt x="2929" y="16"/>
                  </a:lnTo>
                  <a:lnTo>
                    <a:pt x="3031" y="0"/>
                  </a:lnTo>
                  <a:lnTo>
                    <a:pt x="3031" y="10232"/>
                  </a:lnTo>
                  <a:lnTo>
                    <a:pt x="3011" y="10248"/>
                  </a:lnTo>
                  <a:lnTo>
                    <a:pt x="2970" y="10274"/>
                  </a:lnTo>
                  <a:lnTo>
                    <a:pt x="2904" y="10309"/>
                  </a:lnTo>
                  <a:lnTo>
                    <a:pt x="2838" y="10326"/>
                  </a:lnTo>
                  <a:lnTo>
                    <a:pt x="2786" y="10316"/>
                  </a:lnTo>
                  <a:lnTo>
                    <a:pt x="2686" y="10289"/>
                  </a:lnTo>
                  <a:lnTo>
                    <a:pt x="2537" y="10258"/>
                  </a:lnTo>
                  <a:lnTo>
                    <a:pt x="2354" y="10206"/>
                  </a:lnTo>
                  <a:lnTo>
                    <a:pt x="2136" y="10145"/>
                  </a:lnTo>
                  <a:lnTo>
                    <a:pt x="1892" y="10077"/>
                  </a:lnTo>
                  <a:lnTo>
                    <a:pt x="1643" y="10009"/>
                  </a:lnTo>
                  <a:lnTo>
                    <a:pt x="1384" y="9932"/>
                  </a:lnTo>
                  <a:lnTo>
                    <a:pt x="1119" y="9858"/>
                  </a:lnTo>
                  <a:lnTo>
                    <a:pt x="868" y="9786"/>
                  </a:lnTo>
                  <a:lnTo>
                    <a:pt x="634" y="9718"/>
                  </a:lnTo>
                  <a:lnTo>
                    <a:pt x="426" y="9661"/>
                  </a:lnTo>
                  <a:lnTo>
                    <a:pt x="249" y="9609"/>
                  </a:lnTo>
                  <a:lnTo>
                    <a:pt x="117" y="9573"/>
                  </a:lnTo>
                  <a:lnTo>
                    <a:pt x="31" y="9547"/>
                  </a:lnTo>
                  <a:lnTo>
                    <a:pt x="0" y="9541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f4c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4430880"/>
              <a:ext cx="462240" cy="925200"/>
            </a:xfrm>
            <a:custGeom>
              <a:avLst/>
              <a:gdLst/>
              <a:ahLst/>
              <a:rect l="l" t="t" r="r" b="b"/>
              <a:pathLst>
                <a:path w="2752" h="9324">
                  <a:moveTo>
                    <a:pt x="0" y="698"/>
                  </a:moveTo>
                  <a:lnTo>
                    <a:pt x="2705" y="213"/>
                  </a:lnTo>
                  <a:lnTo>
                    <a:pt x="2686" y="177"/>
                  </a:lnTo>
                  <a:lnTo>
                    <a:pt x="2654" y="103"/>
                  </a:lnTo>
                  <a:lnTo>
                    <a:pt x="2660" y="26"/>
                  </a:lnTo>
                  <a:lnTo>
                    <a:pt x="2752" y="0"/>
                  </a:lnTo>
                  <a:lnTo>
                    <a:pt x="2752" y="9241"/>
                  </a:lnTo>
                  <a:lnTo>
                    <a:pt x="2736" y="9257"/>
                  </a:lnTo>
                  <a:lnTo>
                    <a:pt x="2696" y="9283"/>
                  </a:lnTo>
                  <a:lnTo>
                    <a:pt x="2645" y="9309"/>
                  </a:lnTo>
                  <a:lnTo>
                    <a:pt x="2579" y="9324"/>
                  </a:lnTo>
                  <a:lnTo>
                    <a:pt x="2537" y="9318"/>
                  </a:lnTo>
                  <a:lnTo>
                    <a:pt x="2445" y="9292"/>
                  </a:lnTo>
                  <a:lnTo>
                    <a:pt x="2303" y="9257"/>
                  </a:lnTo>
                  <a:lnTo>
                    <a:pt x="2136" y="9215"/>
                  </a:lnTo>
                  <a:lnTo>
                    <a:pt x="1937" y="9163"/>
                  </a:lnTo>
                  <a:lnTo>
                    <a:pt x="1719" y="9095"/>
                  </a:lnTo>
                  <a:lnTo>
                    <a:pt x="1494" y="9038"/>
                  </a:lnTo>
                  <a:lnTo>
                    <a:pt x="1251" y="8970"/>
                  </a:lnTo>
                  <a:lnTo>
                    <a:pt x="1017" y="8898"/>
                  </a:lnTo>
                  <a:lnTo>
                    <a:pt x="793" y="8840"/>
                  </a:lnTo>
                  <a:lnTo>
                    <a:pt x="575" y="8773"/>
                  </a:lnTo>
                  <a:lnTo>
                    <a:pt x="391" y="8721"/>
                  </a:lnTo>
                  <a:lnTo>
                    <a:pt x="234" y="8679"/>
                  </a:lnTo>
                  <a:lnTo>
                    <a:pt x="107" y="8643"/>
                  </a:lnTo>
                  <a:lnTo>
                    <a:pt x="25" y="8617"/>
                  </a:lnTo>
                  <a:lnTo>
                    <a:pt x="0" y="8611"/>
                  </a:lnTo>
                  <a:lnTo>
                    <a:pt x="0" y="698"/>
                  </a:lnTo>
                  <a:close/>
                </a:path>
              </a:pathLst>
            </a:custGeom>
            <a:solidFill>
              <a:srgbClr val="f4d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3000" y="4518000"/>
              <a:ext cx="416520" cy="827280"/>
            </a:xfrm>
            <a:custGeom>
              <a:avLst/>
              <a:gdLst/>
              <a:ahLst/>
              <a:rect l="l" t="t" r="r" b="b"/>
              <a:pathLst>
                <a:path w="2477" h="8337">
                  <a:moveTo>
                    <a:pt x="0" y="485"/>
                  </a:moveTo>
                  <a:lnTo>
                    <a:pt x="2445" y="214"/>
                  </a:lnTo>
                  <a:lnTo>
                    <a:pt x="2426" y="179"/>
                  </a:lnTo>
                  <a:lnTo>
                    <a:pt x="2395" y="100"/>
                  </a:lnTo>
                  <a:lnTo>
                    <a:pt x="2404" y="23"/>
                  </a:lnTo>
                  <a:lnTo>
                    <a:pt x="2477" y="0"/>
                  </a:lnTo>
                  <a:lnTo>
                    <a:pt x="2477" y="8251"/>
                  </a:lnTo>
                  <a:lnTo>
                    <a:pt x="2462" y="8269"/>
                  </a:lnTo>
                  <a:lnTo>
                    <a:pt x="2426" y="8295"/>
                  </a:lnTo>
                  <a:lnTo>
                    <a:pt x="2379" y="8318"/>
                  </a:lnTo>
                  <a:lnTo>
                    <a:pt x="2319" y="8337"/>
                  </a:lnTo>
                  <a:lnTo>
                    <a:pt x="2278" y="8328"/>
                  </a:lnTo>
                  <a:lnTo>
                    <a:pt x="2196" y="8311"/>
                  </a:lnTo>
                  <a:lnTo>
                    <a:pt x="2079" y="8276"/>
                  </a:lnTo>
                  <a:lnTo>
                    <a:pt x="1918" y="8234"/>
                  </a:lnTo>
                  <a:lnTo>
                    <a:pt x="1744" y="8183"/>
                  </a:lnTo>
                  <a:lnTo>
                    <a:pt x="1551" y="8124"/>
                  </a:lnTo>
                  <a:lnTo>
                    <a:pt x="1343" y="8063"/>
                  </a:lnTo>
                  <a:lnTo>
                    <a:pt x="1125" y="8005"/>
                  </a:lnTo>
                  <a:lnTo>
                    <a:pt x="916" y="7943"/>
                  </a:lnTo>
                  <a:lnTo>
                    <a:pt x="707" y="7886"/>
                  </a:lnTo>
                  <a:lnTo>
                    <a:pt x="517" y="7824"/>
                  </a:lnTo>
                  <a:lnTo>
                    <a:pt x="350" y="7772"/>
                  </a:lnTo>
                  <a:lnTo>
                    <a:pt x="207" y="7730"/>
                  </a:lnTo>
                  <a:lnTo>
                    <a:pt x="101" y="7698"/>
                  </a:lnTo>
                  <a:lnTo>
                    <a:pt x="25" y="7679"/>
                  </a:lnTo>
                  <a:lnTo>
                    <a:pt x="0" y="7672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f4d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4606920"/>
              <a:ext cx="370800" cy="727200"/>
            </a:xfrm>
            <a:custGeom>
              <a:avLst/>
              <a:gdLst/>
              <a:ahLst/>
              <a:rect l="l" t="t" r="r" b="b"/>
              <a:pathLst>
                <a:path w="2202" h="7339">
                  <a:moveTo>
                    <a:pt x="0" y="280"/>
                  </a:moveTo>
                  <a:lnTo>
                    <a:pt x="2177" y="212"/>
                  </a:lnTo>
                  <a:lnTo>
                    <a:pt x="2161" y="180"/>
                  </a:lnTo>
                  <a:lnTo>
                    <a:pt x="2127" y="103"/>
                  </a:lnTo>
                  <a:lnTo>
                    <a:pt x="2136" y="25"/>
                  </a:lnTo>
                  <a:lnTo>
                    <a:pt x="2202" y="0"/>
                  </a:lnTo>
                  <a:lnTo>
                    <a:pt x="2202" y="7271"/>
                  </a:lnTo>
                  <a:lnTo>
                    <a:pt x="2186" y="7280"/>
                  </a:lnTo>
                  <a:lnTo>
                    <a:pt x="2161" y="7306"/>
                  </a:lnTo>
                  <a:lnTo>
                    <a:pt x="2110" y="7332"/>
                  </a:lnTo>
                  <a:lnTo>
                    <a:pt x="2060" y="7339"/>
                  </a:lnTo>
                  <a:lnTo>
                    <a:pt x="2029" y="7332"/>
                  </a:lnTo>
                  <a:lnTo>
                    <a:pt x="1953" y="7316"/>
                  </a:lnTo>
                  <a:lnTo>
                    <a:pt x="1845" y="7280"/>
                  </a:lnTo>
                  <a:lnTo>
                    <a:pt x="1709" y="7245"/>
                  </a:lnTo>
                  <a:lnTo>
                    <a:pt x="1551" y="7203"/>
                  </a:lnTo>
                  <a:lnTo>
                    <a:pt x="1377" y="7151"/>
                  </a:lnTo>
                  <a:lnTo>
                    <a:pt x="1194" y="7094"/>
                  </a:lnTo>
                  <a:lnTo>
                    <a:pt x="1002" y="7032"/>
                  </a:lnTo>
                  <a:lnTo>
                    <a:pt x="818" y="6980"/>
                  </a:lnTo>
                  <a:lnTo>
                    <a:pt x="634" y="6922"/>
                  </a:lnTo>
                  <a:lnTo>
                    <a:pt x="458" y="6870"/>
                  </a:lnTo>
                  <a:lnTo>
                    <a:pt x="309" y="6829"/>
                  </a:lnTo>
                  <a:lnTo>
                    <a:pt x="182" y="6793"/>
                  </a:lnTo>
                  <a:lnTo>
                    <a:pt x="81" y="6761"/>
                  </a:lnTo>
                  <a:lnTo>
                    <a:pt x="25" y="6744"/>
                  </a:lnTo>
                  <a:lnTo>
                    <a:pt x="0" y="6735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4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4695840"/>
              <a:ext cx="325080" cy="627120"/>
            </a:xfrm>
            <a:custGeom>
              <a:avLst/>
              <a:gdLst/>
              <a:ahLst/>
              <a:rect l="l" t="t" r="r" b="b"/>
              <a:pathLst>
                <a:path w="1927" h="6336">
                  <a:moveTo>
                    <a:pt x="0" y="59"/>
                  </a:moveTo>
                  <a:lnTo>
                    <a:pt x="1902" y="153"/>
                  </a:lnTo>
                  <a:lnTo>
                    <a:pt x="1886" y="126"/>
                  </a:lnTo>
                  <a:lnTo>
                    <a:pt x="1861" y="68"/>
                  </a:lnTo>
                  <a:lnTo>
                    <a:pt x="1861" y="17"/>
                  </a:lnTo>
                  <a:lnTo>
                    <a:pt x="1927" y="0"/>
                  </a:lnTo>
                  <a:lnTo>
                    <a:pt x="1927" y="6278"/>
                  </a:lnTo>
                  <a:lnTo>
                    <a:pt x="1918" y="6284"/>
                  </a:lnTo>
                  <a:lnTo>
                    <a:pt x="1886" y="6304"/>
                  </a:lnTo>
                  <a:lnTo>
                    <a:pt x="1845" y="6326"/>
                  </a:lnTo>
                  <a:lnTo>
                    <a:pt x="1801" y="6336"/>
                  </a:lnTo>
                  <a:lnTo>
                    <a:pt x="1769" y="6326"/>
                  </a:lnTo>
                  <a:lnTo>
                    <a:pt x="1709" y="6310"/>
                  </a:lnTo>
                  <a:lnTo>
                    <a:pt x="1611" y="6284"/>
                  </a:lnTo>
                  <a:lnTo>
                    <a:pt x="1494" y="6252"/>
                  </a:lnTo>
                  <a:lnTo>
                    <a:pt x="1359" y="6207"/>
                  </a:lnTo>
                  <a:lnTo>
                    <a:pt x="1209" y="6164"/>
                  </a:lnTo>
                  <a:lnTo>
                    <a:pt x="1042" y="6113"/>
                  </a:lnTo>
                  <a:lnTo>
                    <a:pt x="874" y="6064"/>
                  </a:lnTo>
                  <a:lnTo>
                    <a:pt x="717" y="6013"/>
                  </a:lnTo>
                  <a:lnTo>
                    <a:pt x="550" y="5961"/>
                  </a:lnTo>
                  <a:lnTo>
                    <a:pt x="407" y="5919"/>
                  </a:lnTo>
                  <a:lnTo>
                    <a:pt x="274" y="5874"/>
                  </a:lnTo>
                  <a:lnTo>
                    <a:pt x="157" y="5842"/>
                  </a:lnTo>
                  <a:lnTo>
                    <a:pt x="75" y="5816"/>
                  </a:lnTo>
                  <a:lnTo>
                    <a:pt x="15" y="5800"/>
                  </a:lnTo>
                  <a:lnTo>
                    <a:pt x="0" y="579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4d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3000" y="4768920"/>
              <a:ext cx="279360" cy="544320"/>
            </a:xfrm>
            <a:custGeom>
              <a:avLst/>
              <a:gdLst/>
              <a:ahLst/>
              <a:rect l="l" t="t" r="r" b="b"/>
              <a:pathLst>
                <a:path w="1662" h="5492">
                  <a:moveTo>
                    <a:pt x="0" y="0"/>
                  </a:moveTo>
                  <a:lnTo>
                    <a:pt x="1621" y="275"/>
                  </a:lnTo>
                  <a:lnTo>
                    <a:pt x="1612" y="258"/>
                  </a:lnTo>
                  <a:lnTo>
                    <a:pt x="1596" y="207"/>
                  </a:lnTo>
                  <a:lnTo>
                    <a:pt x="1602" y="164"/>
                  </a:lnTo>
                  <a:lnTo>
                    <a:pt x="1662" y="146"/>
                  </a:lnTo>
                  <a:lnTo>
                    <a:pt x="1662" y="5434"/>
                  </a:lnTo>
                  <a:lnTo>
                    <a:pt x="1653" y="5444"/>
                  </a:lnTo>
                  <a:lnTo>
                    <a:pt x="1627" y="5461"/>
                  </a:lnTo>
                  <a:lnTo>
                    <a:pt x="1596" y="5486"/>
                  </a:lnTo>
                  <a:lnTo>
                    <a:pt x="1554" y="5492"/>
                  </a:lnTo>
                  <a:lnTo>
                    <a:pt x="1529" y="5486"/>
                  </a:lnTo>
                  <a:lnTo>
                    <a:pt x="1470" y="5476"/>
                  </a:lnTo>
                  <a:lnTo>
                    <a:pt x="1394" y="5450"/>
                  </a:lnTo>
                  <a:lnTo>
                    <a:pt x="1296" y="5418"/>
                  </a:lnTo>
                  <a:lnTo>
                    <a:pt x="1169" y="5382"/>
                  </a:lnTo>
                  <a:lnTo>
                    <a:pt x="1043" y="5341"/>
                  </a:lnTo>
                  <a:lnTo>
                    <a:pt x="904" y="5289"/>
                  </a:lnTo>
                  <a:lnTo>
                    <a:pt x="761" y="5247"/>
                  </a:lnTo>
                  <a:lnTo>
                    <a:pt x="619" y="5205"/>
                  </a:lnTo>
                  <a:lnTo>
                    <a:pt x="484" y="5153"/>
                  </a:lnTo>
                  <a:lnTo>
                    <a:pt x="360" y="5111"/>
                  </a:lnTo>
                  <a:lnTo>
                    <a:pt x="244" y="5076"/>
                  </a:lnTo>
                  <a:lnTo>
                    <a:pt x="152" y="5040"/>
                  </a:lnTo>
                  <a:lnTo>
                    <a:pt x="76" y="5014"/>
                  </a:lnTo>
                  <a:lnTo>
                    <a:pt x="25" y="5008"/>
                  </a:lnTo>
                  <a:lnTo>
                    <a:pt x="10" y="49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d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4835520"/>
              <a:ext cx="231120" cy="466560"/>
            </a:xfrm>
            <a:custGeom>
              <a:avLst/>
              <a:gdLst/>
              <a:ahLst/>
              <a:rect l="l" t="t" r="r" b="b"/>
              <a:pathLst>
                <a:path w="1387" h="4707">
                  <a:moveTo>
                    <a:pt x="0" y="0"/>
                  </a:moveTo>
                  <a:lnTo>
                    <a:pt x="1321" y="375"/>
                  </a:lnTo>
                  <a:lnTo>
                    <a:pt x="1321" y="368"/>
                  </a:lnTo>
                  <a:lnTo>
                    <a:pt x="1336" y="368"/>
                  </a:lnTo>
                  <a:lnTo>
                    <a:pt x="1387" y="368"/>
                  </a:lnTo>
                  <a:lnTo>
                    <a:pt x="1387" y="4666"/>
                  </a:lnTo>
                  <a:lnTo>
                    <a:pt x="1378" y="4672"/>
                  </a:lnTo>
                  <a:lnTo>
                    <a:pt x="1353" y="4681"/>
                  </a:lnTo>
                  <a:lnTo>
                    <a:pt x="1327" y="4698"/>
                  </a:lnTo>
                  <a:lnTo>
                    <a:pt x="1296" y="4707"/>
                  </a:lnTo>
                  <a:lnTo>
                    <a:pt x="1229" y="4692"/>
                  </a:lnTo>
                  <a:lnTo>
                    <a:pt x="1077" y="4640"/>
                  </a:lnTo>
                  <a:lnTo>
                    <a:pt x="869" y="4572"/>
                  </a:lnTo>
                  <a:lnTo>
                    <a:pt x="635" y="4495"/>
                  </a:lnTo>
                  <a:lnTo>
                    <a:pt x="401" y="4416"/>
                  </a:lnTo>
                  <a:lnTo>
                    <a:pt x="202" y="4349"/>
                  </a:lnTo>
                  <a:lnTo>
                    <a:pt x="60" y="4298"/>
                  </a:lnTo>
                  <a:lnTo>
                    <a:pt x="10" y="4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4902120"/>
              <a:ext cx="193320" cy="389160"/>
            </a:xfrm>
            <a:custGeom>
              <a:avLst/>
              <a:gdLst/>
              <a:ahLst/>
              <a:rect l="l" t="t" r="r" b="b"/>
              <a:pathLst>
                <a:path w="1160" h="3917">
                  <a:moveTo>
                    <a:pt x="0" y="0"/>
                  </a:moveTo>
                  <a:lnTo>
                    <a:pt x="1160" y="488"/>
                  </a:lnTo>
                  <a:lnTo>
                    <a:pt x="1144" y="498"/>
                  </a:lnTo>
                  <a:lnTo>
                    <a:pt x="1112" y="530"/>
                  </a:lnTo>
                  <a:lnTo>
                    <a:pt x="1087" y="556"/>
                  </a:lnTo>
                  <a:lnTo>
                    <a:pt x="1112" y="572"/>
                  </a:lnTo>
                  <a:lnTo>
                    <a:pt x="1112" y="3881"/>
                  </a:lnTo>
                  <a:lnTo>
                    <a:pt x="1103" y="3891"/>
                  </a:lnTo>
                  <a:lnTo>
                    <a:pt x="1087" y="3897"/>
                  </a:lnTo>
                  <a:lnTo>
                    <a:pt x="1062" y="3907"/>
                  </a:lnTo>
                  <a:lnTo>
                    <a:pt x="1037" y="3917"/>
                  </a:lnTo>
                  <a:lnTo>
                    <a:pt x="986" y="3897"/>
                  </a:lnTo>
                  <a:lnTo>
                    <a:pt x="859" y="3855"/>
                  </a:lnTo>
                  <a:lnTo>
                    <a:pt x="692" y="3797"/>
                  </a:lnTo>
                  <a:lnTo>
                    <a:pt x="509" y="3729"/>
                  </a:lnTo>
                  <a:lnTo>
                    <a:pt x="325" y="3668"/>
                  </a:lnTo>
                  <a:lnTo>
                    <a:pt x="167" y="3610"/>
                  </a:lnTo>
                  <a:lnTo>
                    <a:pt x="50" y="3564"/>
                  </a:lnTo>
                  <a:lnTo>
                    <a:pt x="10" y="35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4970520"/>
              <a:ext cx="169560" cy="309600"/>
            </a:xfrm>
            <a:custGeom>
              <a:avLst/>
              <a:gdLst/>
              <a:ahLst/>
              <a:rect l="l" t="t" r="r" b="b"/>
              <a:pathLst>
                <a:path w="1018" h="3129">
                  <a:moveTo>
                    <a:pt x="0" y="0"/>
                  </a:moveTo>
                  <a:lnTo>
                    <a:pt x="1018" y="581"/>
                  </a:lnTo>
                  <a:lnTo>
                    <a:pt x="986" y="613"/>
                  </a:lnTo>
                  <a:lnTo>
                    <a:pt x="904" y="681"/>
                  </a:lnTo>
                  <a:lnTo>
                    <a:pt x="834" y="759"/>
                  </a:lnTo>
                  <a:lnTo>
                    <a:pt x="834" y="794"/>
                  </a:lnTo>
                  <a:lnTo>
                    <a:pt x="834" y="3103"/>
                  </a:lnTo>
                  <a:lnTo>
                    <a:pt x="828" y="3103"/>
                  </a:lnTo>
                  <a:lnTo>
                    <a:pt x="819" y="3113"/>
                  </a:lnTo>
                  <a:lnTo>
                    <a:pt x="803" y="3129"/>
                  </a:lnTo>
                  <a:lnTo>
                    <a:pt x="777" y="3129"/>
                  </a:lnTo>
                  <a:lnTo>
                    <a:pt x="736" y="3113"/>
                  </a:lnTo>
                  <a:lnTo>
                    <a:pt x="644" y="3080"/>
                  </a:lnTo>
                  <a:lnTo>
                    <a:pt x="527" y="3035"/>
                  </a:lnTo>
                  <a:lnTo>
                    <a:pt x="385" y="2977"/>
                  </a:lnTo>
                  <a:lnTo>
                    <a:pt x="244" y="2915"/>
                  </a:lnTo>
                  <a:lnTo>
                    <a:pt x="127" y="2874"/>
                  </a:lnTo>
                  <a:lnTo>
                    <a:pt x="41" y="2841"/>
                  </a:lnTo>
                  <a:lnTo>
                    <a:pt x="10" y="28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5037120"/>
              <a:ext cx="137160" cy="233280"/>
            </a:xfrm>
            <a:custGeom>
              <a:avLst/>
              <a:gdLst/>
              <a:ahLst/>
              <a:rect l="l" t="t" r="r" b="b"/>
              <a:pathLst>
                <a:path w="819" h="2354">
                  <a:moveTo>
                    <a:pt x="0" y="0"/>
                  </a:moveTo>
                  <a:lnTo>
                    <a:pt x="819" y="620"/>
                  </a:lnTo>
                  <a:lnTo>
                    <a:pt x="803" y="639"/>
                  </a:lnTo>
                  <a:lnTo>
                    <a:pt x="767" y="682"/>
                  </a:lnTo>
                  <a:lnTo>
                    <a:pt x="727" y="739"/>
                  </a:lnTo>
                  <a:lnTo>
                    <a:pt x="677" y="810"/>
                  </a:lnTo>
                  <a:lnTo>
                    <a:pt x="626" y="885"/>
                  </a:lnTo>
                  <a:lnTo>
                    <a:pt x="585" y="946"/>
                  </a:lnTo>
                  <a:lnTo>
                    <a:pt x="560" y="988"/>
                  </a:lnTo>
                  <a:lnTo>
                    <a:pt x="560" y="1004"/>
                  </a:lnTo>
                  <a:lnTo>
                    <a:pt x="560" y="2334"/>
                  </a:lnTo>
                  <a:lnTo>
                    <a:pt x="552" y="2344"/>
                  </a:lnTo>
                  <a:lnTo>
                    <a:pt x="534" y="2354"/>
                  </a:lnTo>
                  <a:lnTo>
                    <a:pt x="518" y="2354"/>
                  </a:lnTo>
                  <a:lnTo>
                    <a:pt x="493" y="2344"/>
                  </a:lnTo>
                  <a:lnTo>
                    <a:pt x="436" y="2308"/>
                  </a:lnTo>
                  <a:lnTo>
                    <a:pt x="351" y="2276"/>
                  </a:lnTo>
                  <a:lnTo>
                    <a:pt x="259" y="2225"/>
                  </a:lnTo>
                  <a:lnTo>
                    <a:pt x="167" y="2173"/>
                  </a:lnTo>
                  <a:lnTo>
                    <a:pt x="85" y="2140"/>
                  </a:lnTo>
                  <a:lnTo>
                    <a:pt x="35" y="2105"/>
                  </a:lnTo>
                  <a:lnTo>
                    <a:pt x="10" y="20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5103720"/>
              <a:ext cx="88200" cy="155520"/>
            </a:xfrm>
            <a:custGeom>
              <a:avLst/>
              <a:gdLst/>
              <a:ahLst/>
              <a:rect l="l" t="t" r="r" b="b"/>
              <a:pathLst>
                <a:path w="527" h="1558">
                  <a:moveTo>
                    <a:pt x="0" y="0"/>
                  </a:moveTo>
                  <a:lnTo>
                    <a:pt x="527" y="528"/>
                  </a:lnTo>
                  <a:lnTo>
                    <a:pt x="518" y="554"/>
                  </a:lnTo>
                  <a:lnTo>
                    <a:pt x="484" y="639"/>
                  </a:lnTo>
                  <a:lnTo>
                    <a:pt x="442" y="742"/>
                  </a:lnTo>
                  <a:lnTo>
                    <a:pt x="401" y="868"/>
                  </a:lnTo>
                  <a:lnTo>
                    <a:pt x="351" y="996"/>
                  </a:lnTo>
                  <a:lnTo>
                    <a:pt x="319" y="1107"/>
                  </a:lnTo>
                  <a:lnTo>
                    <a:pt x="294" y="1184"/>
                  </a:lnTo>
                  <a:lnTo>
                    <a:pt x="284" y="1220"/>
                  </a:lnTo>
                  <a:lnTo>
                    <a:pt x="284" y="1552"/>
                  </a:lnTo>
                  <a:lnTo>
                    <a:pt x="275" y="1552"/>
                  </a:lnTo>
                  <a:lnTo>
                    <a:pt x="275" y="1558"/>
                  </a:lnTo>
                  <a:lnTo>
                    <a:pt x="269" y="1558"/>
                  </a:lnTo>
                  <a:lnTo>
                    <a:pt x="250" y="1552"/>
                  </a:lnTo>
                  <a:lnTo>
                    <a:pt x="228" y="1532"/>
                  </a:lnTo>
                  <a:lnTo>
                    <a:pt x="183" y="1500"/>
                  </a:lnTo>
                  <a:lnTo>
                    <a:pt x="136" y="1465"/>
                  </a:lnTo>
                  <a:lnTo>
                    <a:pt x="91" y="1432"/>
                  </a:lnTo>
                  <a:lnTo>
                    <a:pt x="50" y="1397"/>
                  </a:lnTo>
                  <a:lnTo>
                    <a:pt x="19" y="1381"/>
                  </a:lnTo>
                  <a:lnTo>
                    <a:pt x="10" y="1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3000" y="5172120"/>
              <a:ext cx="231120" cy="174600"/>
            </a:xfrm>
            <a:custGeom>
              <a:avLst/>
              <a:gdLst/>
              <a:ahLst/>
              <a:rect l="l" t="t" r="r" b="b"/>
              <a:pathLst>
                <a:path w="1378" h="1762">
                  <a:moveTo>
                    <a:pt x="10" y="1430"/>
                  </a:moveTo>
                  <a:lnTo>
                    <a:pt x="0" y="0"/>
                  </a:lnTo>
                  <a:lnTo>
                    <a:pt x="1378" y="1762"/>
                  </a:lnTo>
                  <a:lnTo>
                    <a:pt x="10" y="1430"/>
                  </a:lnTo>
                  <a:close/>
                </a:path>
              </a:pathLst>
            </a:custGeom>
            <a:solidFill>
              <a:srgbClr val="f4e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4080" y="3905280"/>
              <a:ext cx="1081080" cy="1512720"/>
            </a:xfrm>
            <a:custGeom>
              <a:avLst/>
              <a:gdLst/>
              <a:ahLst/>
              <a:rect l="l" t="t" r="r" b="b"/>
              <a:pathLst>
                <a:path w="6425" h="15252">
                  <a:moveTo>
                    <a:pt x="0" y="0"/>
                  </a:moveTo>
                  <a:lnTo>
                    <a:pt x="6425" y="1362"/>
                  </a:lnTo>
                  <a:lnTo>
                    <a:pt x="6425" y="14287"/>
                  </a:lnTo>
                  <a:lnTo>
                    <a:pt x="0" y="15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6720" y="4387680"/>
              <a:ext cx="1189440" cy="114480"/>
            </a:xfrm>
            <a:custGeom>
              <a:avLst/>
              <a:gdLst/>
              <a:ahLst/>
              <a:rect l="l" t="t" r="r" b="b"/>
              <a:pathLst>
                <a:path w="7076" h="1152">
                  <a:moveTo>
                    <a:pt x="0" y="248"/>
                  </a:moveTo>
                  <a:lnTo>
                    <a:pt x="6574" y="1152"/>
                  </a:lnTo>
                  <a:lnTo>
                    <a:pt x="7076" y="1007"/>
                  </a:lnTo>
                  <a:lnTo>
                    <a:pt x="667" y="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ba8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34200" y="3887640"/>
              <a:ext cx="1189080" cy="600120"/>
            </a:xfrm>
            <a:custGeom>
              <a:avLst/>
              <a:gdLst/>
              <a:ahLst/>
              <a:rect l="l" t="t" r="r" b="b"/>
              <a:pathLst>
                <a:path w="7067" h="6044">
                  <a:moveTo>
                    <a:pt x="177" y="100"/>
                  </a:moveTo>
                  <a:lnTo>
                    <a:pt x="152" y="109"/>
                  </a:lnTo>
                  <a:lnTo>
                    <a:pt x="91" y="160"/>
                  </a:lnTo>
                  <a:lnTo>
                    <a:pt x="25" y="254"/>
                  </a:lnTo>
                  <a:lnTo>
                    <a:pt x="0" y="425"/>
                  </a:lnTo>
                  <a:lnTo>
                    <a:pt x="0" y="5285"/>
                  </a:lnTo>
                  <a:lnTo>
                    <a:pt x="701" y="5039"/>
                  </a:lnTo>
                  <a:lnTo>
                    <a:pt x="7067" y="6044"/>
                  </a:lnTo>
                  <a:lnTo>
                    <a:pt x="7067" y="1475"/>
                  </a:lnTo>
                  <a:lnTo>
                    <a:pt x="7060" y="1465"/>
                  </a:lnTo>
                  <a:lnTo>
                    <a:pt x="7035" y="1440"/>
                  </a:lnTo>
                  <a:lnTo>
                    <a:pt x="7001" y="1408"/>
                  </a:lnTo>
                  <a:lnTo>
                    <a:pt x="6959" y="1362"/>
                  </a:lnTo>
                  <a:lnTo>
                    <a:pt x="6909" y="1329"/>
                  </a:lnTo>
                  <a:lnTo>
                    <a:pt x="6858" y="1294"/>
                  </a:lnTo>
                  <a:lnTo>
                    <a:pt x="6811" y="1268"/>
                  </a:lnTo>
                  <a:lnTo>
                    <a:pt x="6750" y="1262"/>
                  </a:lnTo>
                  <a:lnTo>
                    <a:pt x="6725" y="1262"/>
                  </a:lnTo>
                  <a:lnTo>
                    <a:pt x="6659" y="1243"/>
                  </a:lnTo>
                  <a:lnTo>
                    <a:pt x="6577" y="1226"/>
                  </a:lnTo>
                  <a:lnTo>
                    <a:pt x="6460" y="1210"/>
                  </a:lnTo>
                  <a:lnTo>
                    <a:pt x="6318" y="1175"/>
                  </a:lnTo>
                  <a:lnTo>
                    <a:pt x="6150" y="1143"/>
                  </a:lnTo>
                  <a:lnTo>
                    <a:pt x="5967" y="1107"/>
                  </a:lnTo>
                  <a:lnTo>
                    <a:pt x="5765" y="1064"/>
                  </a:lnTo>
                  <a:lnTo>
                    <a:pt x="5550" y="1013"/>
                  </a:lnTo>
                  <a:lnTo>
                    <a:pt x="5316" y="972"/>
                  </a:lnTo>
                  <a:lnTo>
                    <a:pt x="5066" y="920"/>
                  </a:lnTo>
                  <a:lnTo>
                    <a:pt x="4813" y="861"/>
                  </a:lnTo>
                  <a:lnTo>
                    <a:pt x="4548" y="810"/>
                  </a:lnTo>
                  <a:lnTo>
                    <a:pt x="4279" y="749"/>
                  </a:lnTo>
                  <a:lnTo>
                    <a:pt x="4004" y="690"/>
                  </a:lnTo>
                  <a:lnTo>
                    <a:pt x="3729" y="629"/>
                  </a:lnTo>
                  <a:lnTo>
                    <a:pt x="3454" y="571"/>
                  </a:lnTo>
                  <a:lnTo>
                    <a:pt x="3180" y="510"/>
                  </a:lnTo>
                  <a:lnTo>
                    <a:pt x="2914" y="451"/>
                  </a:lnTo>
                  <a:lnTo>
                    <a:pt x="2655" y="400"/>
                  </a:lnTo>
                  <a:lnTo>
                    <a:pt x="2405" y="339"/>
                  </a:lnTo>
                  <a:lnTo>
                    <a:pt x="2162" y="290"/>
                  </a:lnTo>
                  <a:lnTo>
                    <a:pt x="1938" y="245"/>
                  </a:lnTo>
                  <a:lnTo>
                    <a:pt x="1720" y="196"/>
                  </a:lnTo>
                  <a:lnTo>
                    <a:pt x="1530" y="151"/>
                  </a:lnTo>
                  <a:lnTo>
                    <a:pt x="1346" y="119"/>
                  </a:lnTo>
                  <a:lnTo>
                    <a:pt x="1195" y="83"/>
                  </a:lnTo>
                  <a:lnTo>
                    <a:pt x="1062" y="51"/>
                  </a:lnTo>
                  <a:lnTo>
                    <a:pt x="951" y="32"/>
                  </a:lnTo>
                  <a:lnTo>
                    <a:pt x="878" y="15"/>
                  </a:lnTo>
                  <a:lnTo>
                    <a:pt x="828" y="0"/>
                  </a:lnTo>
                  <a:lnTo>
                    <a:pt x="812" y="0"/>
                  </a:lnTo>
                  <a:lnTo>
                    <a:pt x="793" y="0"/>
                  </a:lnTo>
                  <a:lnTo>
                    <a:pt x="736" y="0"/>
                  </a:lnTo>
                  <a:lnTo>
                    <a:pt x="651" y="6"/>
                  </a:lnTo>
                  <a:lnTo>
                    <a:pt x="559" y="6"/>
                  </a:lnTo>
                  <a:lnTo>
                    <a:pt x="452" y="25"/>
                  </a:lnTo>
                  <a:lnTo>
                    <a:pt x="350" y="42"/>
                  </a:lnTo>
                  <a:lnTo>
                    <a:pt x="252" y="68"/>
                  </a:lnTo>
                  <a:lnTo>
                    <a:pt x="177" y="100"/>
                  </a:lnTo>
                  <a:close/>
                </a:path>
              </a:pathLst>
            </a:custGeom>
            <a:solidFill>
              <a:srgbClr val="ff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5000" y="3889440"/>
              <a:ext cx="1121760" cy="593640"/>
            </a:xfrm>
            <a:custGeom>
              <a:avLst/>
              <a:gdLst/>
              <a:ahLst/>
              <a:rect l="l" t="t" r="r" b="b"/>
              <a:pathLst>
                <a:path w="6681" h="5990">
                  <a:moveTo>
                    <a:pt x="0" y="4956"/>
                  </a:moveTo>
                  <a:lnTo>
                    <a:pt x="667" y="5033"/>
                  </a:lnTo>
                  <a:lnTo>
                    <a:pt x="6681" y="5990"/>
                  </a:lnTo>
                  <a:lnTo>
                    <a:pt x="6681" y="1391"/>
                  </a:lnTo>
                  <a:lnTo>
                    <a:pt x="6675" y="1382"/>
                  </a:lnTo>
                  <a:lnTo>
                    <a:pt x="6656" y="1356"/>
                  </a:lnTo>
                  <a:lnTo>
                    <a:pt x="6625" y="1323"/>
                  </a:lnTo>
                  <a:lnTo>
                    <a:pt x="6583" y="1288"/>
                  </a:lnTo>
                  <a:lnTo>
                    <a:pt x="6533" y="1256"/>
                  </a:lnTo>
                  <a:lnTo>
                    <a:pt x="6483" y="1220"/>
                  </a:lnTo>
                  <a:lnTo>
                    <a:pt x="6431" y="1194"/>
                  </a:lnTo>
                  <a:lnTo>
                    <a:pt x="6381" y="1188"/>
                  </a:lnTo>
                  <a:lnTo>
                    <a:pt x="6355" y="1188"/>
                  </a:lnTo>
                  <a:lnTo>
                    <a:pt x="6299" y="1169"/>
                  </a:lnTo>
                  <a:lnTo>
                    <a:pt x="6216" y="1162"/>
                  </a:lnTo>
                  <a:lnTo>
                    <a:pt x="6106" y="1137"/>
                  </a:lnTo>
                  <a:lnTo>
                    <a:pt x="5973" y="1111"/>
                  </a:lnTo>
                  <a:lnTo>
                    <a:pt x="5816" y="1075"/>
                  </a:lnTo>
                  <a:lnTo>
                    <a:pt x="5638" y="1043"/>
                  </a:lnTo>
                  <a:lnTo>
                    <a:pt x="5448" y="998"/>
                  </a:lnTo>
                  <a:lnTo>
                    <a:pt x="5247" y="955"/>
                  </a:lnTo>
                  <a:lnTo>
                    <a:pt x="5022" y="914"/>
                  </a:lnTo>
                  <a:lnTo>
                    <a:pt x="4798" y="861"/>
                  </a:lnTo>
                  <a:lnTo>
                    <a:pt x="4554" y="810"/>
                  </a:lnTo>
                  <a:lnTo>
                    <a:pt x="4304" y="758"/>
                  </a:lnTo>
                  <a:lnTo>
                    <a:pt x="4046" y="701"/>
                  </a:lnTo>
                  <a:lnTo>
                    <a:pt x="3796" y="649"/>
                  </a:lnTo>
                  <a:lnTo>
                    <a:pt x="3536" y="590"/>
                  </a:lnTo>
                  <a:lnTo>
                    <a:pt x="3268" y="539"/>
                  </a:lnTo>
                  <a:lnTo>
                    <a:pt x="3022" y="487"/>
                  </a:lnTo>
                  <a:lnTo>
                    <a:pt x="2771" y="427"/>
                  </a:lnTo>
                  <a:lnTo>
                    <a:pt x="2519" y="378"/>
                  </a:lnTo>
                  <a:lnTo>
                    <a:pt x="2288" y="325"/>
                  </a:lnTo>
                  <a:lnTo>
                    <a:pt x="2054" y="274"/>
                  </a:lnTo>
                  <a:lnTo>
                    <a:pt x="1845" y="233"/>
                  </a:lnTo>
                  <a:lnTo>
                    <a:pt x="1643" y="190"/>
                  </a:lnTo>
                  <a:lnTo>
                    <a:pt x="1451" y="145"/>
                  </a:lnTo>
                  <a:lnTo>
                    <a:pt x="1292" y="113"/>
                  </a:lnTo>
                  <a:lnTo>
                    <a:pt x="1144" y="77"/>
                  </a:lnTo>
                  <a:lnTo>
                    <a:pt x="1018" y="51"/>
                  </a:lnTo>
                  <a:lnTo>
                    <a:pt x="917" y="26"/>
                  </a:lnTo>
                  <a:lnTo>
                    <a:pt x="843" y="19"/>
                  </a:lnTo>
                  <a:lnTo>
                    <a:pt x="800" y="0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717" y="0"/>
                  </a:lnTo>
                  <a:lnTo>
                    <a:pt x="641" y="9"/>
                  </a:lnTo>
                  <a:lnTo>
                    <a:pt x="550" y="9"/>
                  </a:lnTo>
                  <a:lnTo>
                    <a:pt x="449" y="26"/>
                  </a:lnTo>
                  <a:lnTo>
                    <a:pt x="357" y="45"/>
                  </a:lnTo>
                  <a:lnTo>
                    <a:pt x="265" y="71"/>
                  </a:lnTo>
                  <a:lnTo>
                    <a:pt x="192" y="103"/>
                  </a:lnTo>
                  <a:lnTo>
                    <a:pt x="167" y="113"/>
                  </a:lnTo>
                  <a:lnTo>
                    <a:pt x="108" y="145"/>
                  </a:lnTo>
                  <a:lnTo>
                    <a:pt x="50" y="239"/>
                  </a:lnTo>
                  <a:lnTo>
                    <a:pt x="25" y="404"/>
                  </a:lnTo>
                  <a:lnTo>
                    <a:pt x="0" y="4956"/>
                  </a:lnTo>
                  <a:close/>
                </a:path>
              </a:pathLst>
            </a:custGeom>
            <a:solidFill>
              <a:srgbClr val="ffd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55440" y="3889440"/>
              <a:ext cx="1057320" cy="588960"/>
            </a:xfrm>
            <a:custGeom>
              <a:avLst/>
              <a:gdLst/>
              <a:ahLst/>
              <a:rect l="l" t="t" r="r" b="b"/>
              <a:pathLst>
                <a:path w="6283" h="5929">
                  <a:moveTo>
                    <a:pt x="0" y="4615"/>
                  </a:moveTo>
                  <a:lnTo>
                    <a:pt x="617" y="5024"/>
                  </a:lnTo>
                  <a:lnTo>
                    <a:pt x="6283" y="5929"/>
                  </a:lnTo>
                  <a:lnTo>
                    <a:pt x="6283" y="1299"/>
                  </a:lnTo>
                  <a:lnTo>
                    <a:pt x="6274" y="1289"/>
                  </a:lnTo>
                  <a:lnTo>
                    <a:pt x="6258" y="1273"/>
                  </a:lnTo>
                  <a:lnTo>
                    <a:pt x="6233" y="1237"/>
                  </a:lnTo>
                  <a:lnTo>
                    <a:pt x="6192" y="1202"/>
                  </a:lnTo>
                  <a:lnTo>
                    <a:pt x="6150" y="1169"/>
                  </a:lnTo>
                  <a:lnTo>
                    <a:pt x="6100" y="1134"/>
                  </a:lnTo>
                  <a:lnTo>
                    <a:pt x="6056" y="1117"/>
                  </a:lnTo>
                  <a:lnTo>
                    <a:pt x="6009" y="1108"/>
                  </a:lnTo>
                  <a:lnTo>
                    <a:pt x="5923" y="1102"/>
                  </a:lnTo>
                  <a:lnTo>
                    <a:pt x="5750" y="1060"/>
                  </a:lnTo>
                  <a:lnTo>
                    <a:pt x="5474" y="1008"/>
                  </a:lnTo>
                  <a:lnTo>
                    <a:pt x="5130" y="940"/>
                  </a:lnTo>
                  <a:lnTo>
                    <a:pt x="4732" y="852"/>
                  </a:lnTo>
                  <a:lnTo>
                    <a:pt x="4290" y="760"/>
                  </a:lnTo>
                  <a:lnTo>
                    <a:pt x="3821" y="656"/>
                  </a:lnTo>
                  <a:lnTo>
                    <a:pt x="3335" y="556"/>
                  </a:lnTo>
                  <a:lnTo>
                    <a:pt x="2854" y="453"/>
                  </a:lnTo>
                  <a:lnTo>
                    <a:pt x="2387" y="349"/>
                  </a:lnTo>
                  <a:lnTo>
                    <a:pt x="1954" y="256"/>
                  </a:lnTo>
                  <a:lnTo>
                    <a:pt x="1561" y="171"/>
                  </a:lnTo>
                  <a:lnTo>
                    <a:pt x="1236" y="104"/>
                  </a:lnTo>
                  <a:lnTo>
                    <a:pt x="977" y="53"/>
                  </a:lnTo>
                  <a:lnTo>
                    <a:pt x="819" y="10"/>
                  </a:lnTo>
                  <a:lnTo>
                    <a:pt x="759" y="0"/>
                  </a:lnTo>
                  <a:lnTo>
                    <a:pt x="743" y="0"/>
                  </a:lnTo>
                  <a:lnTo>
                    <a:pt x="693" y="0"/>
                  </a:lnTo>
                  <a:lnTo>
                    <a:pt x="626" y="10"/>
                  </a:lnTo>
                  <a:lnTo>
                    <a:pt x="534" y="10"/>
                  </a:lnTo>
                  <a:lnTo>
                    <a:pt x="442" y="27"/>
                  </a:lnTo>
                  <a:lnTo>
                    <a:pt x="351" y="42"/>
                  </a:lnTo>
                  <a:lnTo>
                    <a:pt x="266" y="62"/>
                  </a:lnTo>
                  <a:lnTo>
                    <a:pt x="199" y="94"/>
                  </a:lnTo>
                  <a:lnTo>
                    <a:pt x="174" y="104"/>
                  </a:lnTo>
                  <a:lnTo>
                    <a:pt x="126" y="136"/>
                  </a:lnTo>
                  <a:lnTo>
                    <a:pt x="67" y="224"/>
                  </a:lnTo>
                  <a:lnTo>
                    <a:pt x="42" y="375"/>
                  </a:lnTo>
                  <a:lnTo>
                    <a:pt x="0" y="4615"/>
                  </a:lnTo>
                  <a:close/>
                </a:path>
              </a:pathLst>
            </a:custGeom>
            <a:solidFill>
              <a:srgbClr val="ff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64080" y="3889440"/>
              <a:ext cx="992520" cy="582480"/>
            </a:xfrm>
            <a:custGeom>
              <a:avLst/>
              <a:gdLst/>
              <a:ahLst/>
              <a:rect l="l" t="t" r="r" b="b"/>
              <a:pathLst>
                <a:path w="5900" h="5876">
                  <a:moveTo>
                    <a:pt x="0" y="4291"/>
                  </a:moveTo>
                  <a:lnTo>
                    <a:pt x="579" y="5031"/>
                  </a:lnTo>
                  <a:lnTo>
                    <a:pt x="5891" y="5876"/>
                  </a:lnTo>
                  <a:lnTo>
                    <a:pt x="5900" y="1222"/>
                  </a:lnTo>
                  <a:lnTo>
                    <a:pt x="5891" y="1211"/>
                  </a:lnTo>
                  <a:lnTo>
                    <a:pt x="5875" y="1195"/>
                  </a:lnTo>
                  <a:lnTo>
                    <a:pt x="5850" y="1160"/>
                  </a:lnTo>
                  <a:lnTo>
                    <a:pt x="5810" y="1128"/>
                  </a:lnTo>
                  <a:lnTo>
                    <a:pt x="5774" y="1102"/>
                  </a:lnTo>
                  <a:lnTo>
                    <a:pt x="5724" y="1066"/>
                  </a:lnTo>
                  <a:lnTo>
                    <a:pt x="5683" y="1049"/>
                  </a:lnTo>
                  <a:lnTo>
                    <a:pt x="5642" y="1040"/>
                  </a:lnTo>
                  <a:lnTo>
                    <a:pt x="5566" y="1034"/>
                  </a:lnTo>
                  <a:lnTo>
                    <a:pt x="5398" y="998"/>
                  </a:lnTo>
                  <a:lnTo>
                    <a:pt x="5149" y="946"/>
                  </a:lnTo>
                  <a:lnTo>
                    <a:pt x="4823" y="878"/>
                  </a:lnTo>
                  <a:lnTo>
                    <a:pt x="4448" y="801"/>
                  </a:lnTo>
                  <a:lnTo>
                    <a:pt x="4039" y="707"/>
                  </a:lnTo>
                  <a:lnTo>
                    <a:pt x="3597" y="614"/>
                  </a:lnTo>
                  <a:lnTo>
                    <a:pt x="3145" y="521"/>
                  </a:lnTo>
                  <a:lnTo>
                    <a:pt x="2699" y="427"/>
                  </a:lnTo>
                  <a:lnTo>
                    <a:pt x="2257" y="333"/>
                  </a:lnTo>
                  <a:lnTo>
                    <a:pt x="1855" y="239"/>
                  </a:lnTo>
                  <a:lnTo>
                    <a:pt x="1489" y="162"/>
                  </a:lnTo>
                  <a:lnTo>
                    <a:pt x="1179" y="94"/>
                  </a:lnTo>
                  <a:lnTo>
                    <a:pt x="945" y="42"/>
                  </a:lnTo>
                  <a:lnTo>
                    <a:pt x="787" y="10"/>
                  </a:lnTo>
                  <a:lnTo>
                    <a:pt x="736" y="0"/>
                  </a:lnTo>
                  <a:lnTo>
                    <a:pt x="720" y="0"/>
                  </a:lnTo>
                  <a:lnTo>
                    <a:pt x="677" y="0"/>
                  </a:lnTo>
                  <a:lnTo>
                    <a:pt x="610" y="10"/>
                  </a:lnTo>
                  <a:lnTo>
                    <a:pt x="528" y="10"/>
                  </a:lnTo>
                  <a:lnTo>
                    <a:pt x="443" y="27"/>
                  </a:lnTo>
                  <a:lnTo>
                    <a:pt x="360" y="42"/>
                  </a:lnTo>
                  <a:lnTo>
                    <a:pt x="284" y="62"/>
                  </a:lnTo>
                  <a:lnTo>
                    <a:pt x="218" y="94"/>
                  </a:lnTo>
                  <a:lnTo>
                    <a:pt x="193" y="104"/>
                  </a:lnTo>
                  <a:lnTo>
                    <a:pt x="142" y="136"/>
                  </a:lnTo>
                  <a:lnTo>
                    <a:pt x="95" y="213"/>
                  </a:lnTo>
                  <a:lnTo>
                    <a:pt x="69" y="359"/>
                  </a:lnTo>
                  <a:lnTo>
                    <a:pt x="0" y="4291"/>
                  </a:lnTo>
                  <a:close/>
                </a:path>
              </a:pathLst>
            </a:custGeom>
            <a:solidFill>
              <a:srgbClr val="ff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7400" y="3890880"/>
              <a:ext cx="922320" cy="576360"/>
            </a:xfrm>
            <a:custGeom>
              <a:avLst/>
              <a:gdLst/>
              <a:ahLst/>
              <a:rect l="l" t="t" r="r" b="b"/>
              <a:pathLst>
                <a:path w="5497" h="5815">
                  <a:moveTo>
                    <a:pt x="0" y="3955"/>
                  </a:moveTo>
                  <a:lnTo>
                    <a:pt x="525" y="5021"/>
                  </a:lnTo>
                  <a:lnTo>
                    <a:pt x="5487" y="5815"/>
                  </a:lnTo>
                  <a:lnTo>
                    <a:pt x="5497" y="1133"/>
                  </a:lnTo>
                  <a:lnTo>
                    <a:pt x="5471" y="1107"/>
                  </a:lnTo>
                  <a:lnTo>
                    <a:pt x="5415" y="1050"/>
                  </a:lnTo>
                  <a:lnTo>
                    <a:pt x="5339" y="998"/>
                  </a:lnTo>
                  <a:lnTo>
                    <a:pt x="5256" y="972"/>
                  </a:lnTo>
                  <a:lnTo>
                    <a:pt x="5187" y="962"/>
                  </a:lnTo>
                  <a:lnTo>
                    <a:pt x="5029" y="930"/>
                  </a:lnTo>
                  <a:lnTo>
                    <a:pt x="4795" y="879"/>
                  </a:lnTo>
                  <a:lnTo>
                    <a:pt x="4505" y="817"/>
                  </a:lnTo>
                  <a:lnTo>
                    <a:pt x="4154" y="750"/>
                  </a:lnTo>
                  <a:lnTo>
                    <a:pt x="3768" y="665"/>
                  </a:lnTo>
                  <a:lnTo>
                    <a:pt x="3360" y="579"/>
                  </a:lnTo>
                  <a:lnTo>
                    <a:pt x="2943" y="485"/>
                  </a:lnTo>
                  <a:lnTo>
                    <a:pt x="2520" y="391"/>
                  </a:lnTo>
                  <a:lnTo>
                    <a:pt x="2118" y="306"/>
                  </a:lnTo>
                  <a:lnTo>
                    <a:pt x="1736" y="220"/>
                  </a:lnTo>
                  <a:lnTo>
                    <a:pt x="1401" y="152"/>
                  </a:lnTo>
                  <a:lnTo>
                    <a:pt x="1110" y="94"/>
                  </a:lnTo>
                  <a:lnTo>
                    <a:pt x="892" y="43"/>
                  </a:lnTo>
                  <a:lnTo>
                    <a:pt x="750" y="7"/>
                  </a:lnTo>
                  <a:lnTo>
                    <a:pt x="699" y="0"/>
                  </a:lnTo>
                  <a:lnTo>
                    <a:pt x="684" y="0"/>
                  </a:lnTo>
                  <a:lnTo>
                    <a:pt x="642" y="0"/>
                  </a:lnTo>
                  <a:lnTo>
                    <a:pt x="583" y="7"/>
                  </a:lnTo>
                  <a:lnTo>
                    <a:pt x="510" y="7"/>
                  </a:lnTo>
                  <a:lnTo>
                    <a:pt x="433" y="17"/>
                  </a:lnTo>
                  <a:lnTo>
                    <a:pt x="352" y="32"/>
                  </a:lnTo>
                  <a:lnTo>
                    <a:pt x="282" y="58"/>
                  </a:lnTo>
                  <a:lnTo>
                    <a:pt x="225" y="84"/>
                  </a:lnTo>
                  <a:lnTo>
                    <a:pt x="209" y="94"/>
                  </a:lnTo>
                  <a:lnTo>
                    <a:pt x="159" y="126"/>
                  </a:lnTo>
                  <a:lnTo>
                    <a:pt x="118" y="194"/>
                  </a:lnTo>
                  <a:lnTo>
                    <a:pt x="92" y="323"/>
                  </a:lnTo>
                  <a:lnTo>
                    <a:pt x="0" y="3955"/>
                  </a:lnTo>
                  <a:close/>
                </a:path>
              </a:pathLst>
            </a:custGeom>
            <a:solidFill>
              <a:srgbClr val="ff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85320" y="3890880"/>
              <a:ext cx="858240" cy="571680"/>
            </a:xfrm>
            <a:custGeom>
              <a:avLst/>
              <a:gdLst/>
              <a:ahLst/>
              <a:rect l="l" t="t" r="r" b="b"/>
              <a:pathLst>
                <a:path w="5104" h="5756">
                  <a:moveTo>
                    <a:pt x="0" y="3615"/>
                  </a:moveTo>
                  <a:lnTo>
                    <a:pt x="483" y="5014"/>
                  </a:lnTo>
                  <a:lnTo>
                    <a:pt x="5104" y="5756"/>
                  </a:lnTo>
                  <a:lnTo>
                    <a:pt x="5104" y="1043"/>
                  </a:lnTo>
                  <a:lnTo>
                    <a:pt x="5088" y="1017"/>
                  </a:lnTo>
                  <a:lnTo>
                    <a:pt x="5038" y="965"/>
                  </a:lnTo>
                  <a:lnTo>
                    <a:pt x="4965" y="923"/>
                  </a:lnTo>
                  <a:lnTo>
                    <a:pt x="4889" y="897"/>
                  </a:lnTo>
                  <a:lnTo>
                    <a:pt x="4823" y="888"/>
                  </a:lnTo>
                  <a:lnTo>
                    <a:pt x="4681" y="852"/>
                  </a:lnTo>
                  <a:lnTo>
                    <a:pt x="4462" y="810"/>
                  </a:lnTo>
                  <a:lnTo>
                    <a:pt x="4187" y="758"/>
                  </a:lnTo>
                  <a:lnTo>
                    <a:pt x="3872" y="690"/>
                  </a:lnTo>
                  <a:lnTo>
                    <a:pt x="3511" y="616"/>
                  </a:lnTo>
                  <a:lnTo>
                    <a:pt x="3135" y="529"/>
                  </a:lnTo>
                  <a:lnTo>
                    <a:pt x="2746" y="445"/>
                  </a:lnTo>
                  <a:lnTo>
                    <a:pt x="2364" y="368"/>
                  </a:lnTo>
                  <a:lnTo>
                    <a:pt x="1988" y="284"/>
                  </a:lnTo>
                  <a:lnTo>
                    <a:pt x="1637" y="207"/>
                  </a:lnTo>
                  <a:lnTo>
                    <a:pt x="1318" y="139"/>
                  </a:lnTo>
                  <a:lnTo>
                    <a:pt x="1058" y="87"/>
                  </a:lnTo>
                  <a:lnTo>
                    <a:pt x="850" y="45"/>
                  </a:lnTo>
                  <a:lnTo>
                    <a:pt x="726" y="10"/>
                  </a:lnTo>
                  <a:lnTo>
                    <a:pt x="676" y="0"/>
                  </a:lnTo>
                  <a:lnTo>
                    <a:pt x="660" y="0"/>
                  </a:lnTo>
                  <a:lnTo>
                    <a:pt x="626" y="0"/>
                  </a:lnTo>
                  <a:lnTo>
                    <a:pt x="568" y="0"/>
                  </a:lnTo>
                  <a:lnTo>
                    <a:pt x="502" y="10"/>
                  </a:lnTo>
                  <a:lnTo>
                    <a:pt x="426" y="19"/>
                  </a:lnTo>
                  <a:lnTo>
                    <a:pt x="360" y="36"/>
                  </a:lnTo>
                  <a:lnTo>
                    <a:pt x="294" y="51"/>
                  </a:lnTo>
                  <a:lnTo>
                    <a:pt x="233" y="77"/>
                  </a:lnTo>
                  <a:lnTo>
                    <a:pt x="218" y="87"/>
                  </a:lnTo>
                  <a:lnTo>
                    <a:pt x="177" y="113"/>
                  </a:lnTo>
                  <a:lnTo>
                    <a:pt x="132" y="181"/>
                  </a:lnTo>
                  <a:lnTo>
                    <a:pt x="117" y="299"/>
                  </a:lnTo>
                  <a:lnTo>
                    <a:pt x="0" y="3615"/>
                  </a:lnTo>
                  <a:close/>
                </a:path>
              </a:pathLst>
            </a:custGeom>
            <a:solidFill>
              <a:srgbClr val="ff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5760" y="3892680"/>
              <a:ext cx="793440" cy="565200"/>
            </a:xfrm>
            <a:custGeom>
              <a:avLst/>
              <a:gdLst/>
              <a:ahLst/>
              <a:rect l="l" t="t" r="r" b="b"/>
              <a:pathLst>
                <a:path w="4713" h="5695">
                  <a:moveTo>
                    <a:pt x="0" y="3283"/>
                  </a:moveTo>
                  <a:lnTo>
                    <a:pt x="436" y="5014"/>
                  </a:lnTo>
                  <a:lnTo>
                    <a:pt x="4706" y="5695"/>
                  </a:lnTo>
                  <a:lnTo>
                    <a:pt x="4713" y="955"/>
                  </a:lnTo>
                  <a:lnTo>
                    <a:pt x="4696" y="930"/>
                  </a:lnTo>
                  <a:lnTo>
                    <a:pt x="4646" y="887"/>
                  </a:lnTo>
                  <a:lnTo>
                    <a:pt x="4579" y="836"/>
                  </a:lnTo>
                  <a:lnTo>
                    <a:pt x="4513" y="819"/>
                  </a:lnTo>
                  <a:lnTo>
                    <a:pt x="4456" y="810"/>
                  </a:lnTo>
                  <a:lnTo>
                    <a:pt x="4320" y="784"/>
                  </a:lnTo>
                  <a:lnTo>
                    <a:pt x="4121" y="742"/>
                  </a:lnTo>
                  <a:lnTo>
                    <a:pt x="3872" y="690"/>
                  </a:lnTo>
                  <a:lnTo>
                    <a:pt x="3577" y="629"/>
                  </a:lnTo>
                  <a:lnTo>
                    <a:pt x="3246" y="562"/>
                  </a:lnTo>
                  <a:lnTo>
                    <a:pt x="2901" y="487"/>
                  </a:lnTo>
                  <a:lnTo>
                    <a:pt x="2547" y="409"/>
                  </a:lnTo>
                  <a:lnTo>
                    <a:pt x="2187" y="332"/>
                  </a:lnTo>
                  <a:lnTo>
                    <a:pt x="1846" y="254"/>
                  </a:lnTo>
                  <a:lnTo>
                    <a:pt x="1520" y="186"/>
                  </a:lnTo>
                  <a:lnTo>
                    <a:pt x="1236" y="129"/>
                  </a:lnTo>
                  <a:lnTo>
                    <a:pt x="992" y="77"/>
                  </a:lnTo>
                  <a:lnTo>
                    <a:pt x="803" y="35"/>
                  </a:lnTo>
                  <a:lnTo>
                    <a:pt x="686" y="9"/>
                  </a:lnTo>
                  <a:lnTo>
                    <a:pt x="644" y="0"/>
                  </a:lnTo>
                  <a:lnTo>
                    <a:pt x="635" y="0"/>
                  </a:lnTo>
                  <a:lnTo>
                    <a:pt x="594" y="0"/>
                  </a:lnTo>
                  <a:lnTo>
                    <a:pt x="554" y="0"/>
                  </a:lnTo>
                  <a:lnTo>
                    <a:pt x="484" y="9"/>
                  </a:lnTo>
                  <a:lnTo>
                    <a:pt x="417" y="15"/>
                  </a:lnTo>
                  <a:lnTo>
                    <a:pt x="351" y="26"/>
                  </a:lnTo>
                  <a:lnTo>
                    <a:pt x="294" y="41"/>
                  </a:lnTo>
                  <a:lnTo>
                    <a:pt x="244" y="67"/>
                  </a:lnTo>
                  <a:lnTo>
                    <a:pt x="228" y="77"/>
                  </a:lnTo>
                  <a:lnTo>
                    <a:pt x="192" y="103"/>
                  </a:lnTo>
                  <a:lnTo>
                    <a:pt x="152" y="161"/>
                  </a:lnTo>
                  <a:lnTo>
                    <a:pt x="133" y="274"/>
                  </a:lnTo>
                  <a:lnTo>
                    <a:pt x="0" y="3283"/>
                  </a:lnTo>
                  <a:close/>
                </a:path>
              </a:pathLst>
            </a:custGeom>
            <a:solidFill>
              <a:srgbClr val="ff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6560" y="3892680"/>
              <a:ext cx="726480" cy="560160"/>
            </a:xfrm>
            <a:custGeom>
              <a:avLst/>
              <a:gdLst/>
              <a:ahLst/>
              <a:rect l="l" t="t" r="r" b="b"/>
              <a:pathLst>
                <a:path w="4321" h="5637">
                  <a:moveTo>
                    <a:pt x="0" y="2942"/>
                  </a:moveTo>
                  <a:lnTo>
                    <a:pt x="399" y="5005"/>
                  </a:lnTo>
                  <a:lnTo>
                    <a:pt x="4311" y="5637"/>
                  </a:lnTo>
                  <a:lnTo>
                    <a:pt x="4321" y="869"/>
                  </a:lnTo>
                  <a:lnTo>
                    <a:pt x="4305" y="853"/>
                  </a:lnTo>
                  <a:lnTo>
                    <a:pt x="4260" y="801"/>
                  </a:lnTo>
                  <a:lnTo>
                    <a:pt x="4204" y="759"/>
                  </a:lnTo>
                  <a:lnTo>
                    <a:pt x="4137" y="739"/>
                  </a:lnTo>
                  <a:lnTo>
                    <a:pt x="4087" y="733"/>
                  </a:lnTo>
                  <a:lnTo>
                    <a:pt x="3960" y="707"/>
                  </a:lnTo>
                  <a:lnTo>
                    <a:pt x="3786" y="671"/>
                  </a:lnTo>
                  <a:lnTo>
                    <a:pt x="3553" y="620"/>
                  </a:lnTo>
                  <a:lnTo>
                    <a:pt x="3283" y="571"/>
                  </a:lnTo>
                  <a:lnTo>
                    <a:pt x="2993" y="500"/>
                  </a:lnTo>
                  <a:lnTo>
                    <a:pt x="2677" y="442"/>
                  </a:lnTo>
                  <a:lnTo>
                    <a:pt x="2351" y="365"/>
                  </a:lnTo>
                  <a:lnTo>
                    <a:pt x="2026" y="297"/>
                  </a:lnTo>
                  <a:lnTo>
                    <a:pt x="1719" y="239"/>
                  </a:lnTo>
                  <a:lnTo>
                    <a:pt x="1426" y="168"/>
                  </a:lnTo>
                  <a:lnTo>
                    <a:pt x="1167" y="120"/>
                  </a:lnTo>
                  <a:lnTo>
                    <a:pt x="942" y="68"/>
                  </a:lnTo>
                  <a:lnTo>
                    <a:pt x="774" y="32"/>
                  </a:lnTo>
                  <a:lnTo>
                    <a:pt x="667" y="6"/>
                  </a:lnTo>
                  <a:lnTo>
                    <a:pt x="626" y="0"/>
                  </a:lnTo>
                  <a:lnTo>
                    <a:pt x="617" y="0"/>
                  </a:lnTo>
                  <a:lnTo>
                    <a:pt x="584" y="0"/>
                  </a:lnTo>
                  <a:lnTo>
                    <a:pt x="534" y="0"/>
                  </a:lnTo>
                  <a:lnTo>
                    <a:pt x="483" y="6"/>
                  </a:lnTo>
                  <a:lnTo>
                    <a:pt x="417" y="17"/>
                  </a:lnTo>
                  <a:lnTo>
                    <a:pt x="357" y="26"/>
                  </a:lnTo>
                  <a:lnTo>
                    <a:pt x="300" y="42"/>
                  </a:lnTo>
                  <a:lnTo>
                    <a:pt x="259" y="58"/>
                  </a:lnTo>
                  <a:lnTo>
                    <a:pt x="240" y="68"/>
                  </a:lnTo>
                  <a:lnTo>
                    <a:pt x="209" y="84"/>
                  </a:lnTo>
                  <a:lnTo>
                    <a:pt x="174" y="145"/>
                  </a:lnTo>
                  <a:lnTo>
                    <a:pt x="159" y="239"/>
                  </a:lnTo>
                  <a:lnTo>
                    <a:pt x="0" y="2942"/>
                  </a:lnTo>
                  <a:close/>
                </a:path>
              </a:pathLst>
            </a:custGeom>
            <a:solidFill>
              <a:srgbClr val="ff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7720" y="3894120"/>
              <a:ext cx="658800" cy="554040"/>
            </a:xfrm>
            <a:custGeom>
              <a:avLst/>
              <a:gdLst/>
              <a:ahLst/>
              <a:rect l="l" t="t" r="r" b="b"/>
              <a:pathLst>
                <a:path w="3919" h="5580">
                  <a:moveTo>
                    <a:pt x="0" y="2612"/>
                  </a:moveTo>
                  <a:lnTo>
                    <a:pt x="350" y="4999"/>
                  </a:lnTo>
                  <a:lnTo>
                    <a:pt x="3913" y="5580"/>
                  </a:lnTo>
                  <a:lnTo>
                    <a:pt x="3919" y="779"/>
                  </a:lnTo>
                  <a:lnTo>
                    <a:pt x="3903" y="759"/>
                  </a:lnTo>
                  <a:lnTo>
                    <a:pt x="3868" y="727"/>
                  </a:lnTo>
                  <a:lnTo>
                    <a:pt x="3818" y="692"/>
                  </a:lnTo>
                  <a:lnTo>
                    <a:pt x="3760" y="675"/>
                  </a:lnTo>
                  <a:lnTo>
                    <a:pt x="3710" y="665"/>
                  </a:lnTo>
                  <a:lnTo>
                    <a:pt x="3603" y="650"/>
                  </a:lnTo>
                  <a:lnTo>
                    <a:pt x="3444" y="614"/>
                  </a:lnTo>
                  <a:lnTo>
                    <a:pt x="3236" y="572"/>
                  </a:lnTo>
                  <a:lnTo>
                    <a:pt x="2992" y="520"/>
                  </a:lnTo>
                  <a:lnTo>
                    <a:pt x="2724" y="462"/>
                  </a:lnTo>
                  <a:lnTo>
                    <a:pt x="2446" y="401"/>
                  </a:lnTo>
                  <a:lnTo>
                    <a:pt x="2152" y="333"/>
                  </a:lnTo>
                  <a:lnTo>
                    <a:pt x="1861" y="274"/>
                  </a:lnTo>
                  <a:lnTo>
                    <a:pt x="1577" y="214"/>
                  </a:lnTo>
                  <a:lnTo>
                    <a:pt x="1317" y="156"/>
                  </a:lnTo>
                  <a:lnTo>
                    <a:pt x="1077" y="103"/>
                  </a:lnTo>
                  <a:lnTo>
                    <a:pt x="875" y="62"/>
                  </a:lnTo>
                  <a:lnTo>
                    <a:pt x="726" y="26"/>
                  </a:lnTo>
                  <a:lnTo>
                    <a:pt x="625" y="11"/>
                  </a:lnTo>
                  <a:lnTo>
                    <a:pt x="590" y="0"/>
                  </a:lnTo>
                  <a:lnTo>
                    <a:pt x="584" y="0"/>
                  </a:lnTo>
                  <a:lnTo>
                    <a:pt x="550" y="0"/>
                  </a:lnTo>
                  <a:lnTo>
                    <a:pt x="517" y="0"/>
                  </a:lnTo>
                  <a:lnTo>
                    <a:pt x="467" y="11"/>
                  </a:lnTo>
                  <a:lnTo>
                    <a:pt x="407" y="11"/>
                  </a:lnTo>
                  <a:lnTo>
                    <a:pt x="357" y="26"/>
                  </a:lnTo>
                  <a:lnTo>
                    <a:pt x="309" y="36"/>
                  </a:lnTo>
                  <a:lnTo>
                    <a:pt x="265" y="52"/>
                  </a:lnTo>
                  <a:lnTo>
                    <a:pt x="249" y="62"/>
                  </a:lnTo>
                  <a:lnTo>
                    <a:pt x="224" y="78"/>
                  </a:lnTo>
                  <a:lnTo>
                    <a:pt x="192" y="129"/>
                  </a:lnTo>
                  <a:lnTo>
                    <a:pt x="173" y="214"/>
                  </a:lnTo>
                  <a:lnTo>
                    <a:pt x="0" y="2612"/>
                  </a:lnTo>
                  <a:close/>
                </a:path>
              </a:pathLst>
            </a:custGeom>
            <a:solidFill>
              <a:srgbClr val="ff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28160" y="3894120"/>
              <a:ext cx="594720" cy="547560"/>
            </a:xfrm>
            <a:custGeom>
              <a:avLst/>
              <a:gdLst/>
              <a:ahLst/>
              <a:rect l="l" t="t" r="r" b="b"/>
              <a:pathLst>
                <a:path w="3537" h="5517">
                  <a:moveTo>
                    <a:pt x="0" y="2266"/>
                  </a:moveTo>
                  <a:lnTo>
                    <a:pt x="310" y="4998"/>
                  </a:lnTo>
                  <a:lnTo>
                    <a:pt x="3521" y="5517"/>
                  </a:lnTo>
                  <a:lnTo>
                    <a:pt x="3537" y="690"/>
                  </a:lnTo>
                  <a:lnTo>
                    <a:pt x="3521" y="674"/>
                  </a:lnTo>
                  <a:lnTo>
                    <a:pt x="3486" y="639"/>
                  </a:lnTo>
                  <a:lnTo>
                    <a:pt x="3445" y="613"/>
                  </a:lnTo>
                  <a:lnTo>
                    <a:pt x="3394" y="596"/>
                  </a:lnTo>
                  <a:lnTo>
                    <a:pt x="3353" y="587"/>
                  </a:lnTo>
                  <a:lnTo>
                    <a:pt x="3252" y="571"/>
                  </a:lnTo>
                  <a:lnTo>
                    <a:pt x="3110" y="545"/>
                  </a:lnTo>
                  <a:lnTo>
                    <a:pt x="2927" y="503"/>
                  </a:lnTo>
                  <a:lnTo>
                    <a:pt x="2712" y="461"/>
                  </a:lnTo>
                  <a:lnTo>
                    <a:pt x="2481" y="409"/>
                  </a:lnTo>
                  <a:lnTo>
                    <a:pt x="2222" y="357"/>
                  </a:lnTo>
                  <a:lnTo>
                    <a:pt x="1963" y="296"/>
                  </a:lnTo>
                  <a:lnTo>
                    <a:pt x="1703" y="238"/>
                  </a:lnTo>
                  <a:lnTo>
                    <a:pt x="1445" y="186"/>
                  </a:lnTo>
                  <a:lnTo>
                    <a:pt x="1211" y="135"/>
                  </a:lnTo>
                  <a:lnTo>
                    <a:pt x="1002" y="92"/>
                  </a:lnTo>
                  <a:lnTo>
                    <a:pt x="829" y="51"/>
                  </a:lnTo>
                  <a:lnTo>
                    <a:pt x="686" y="25"/>
                  </a:lnTo>
                  <a:lnTo>
                    <a:pt x="601" y="9"/>
                  </a:lnTo>
                  <a:lnTo>
                    <a:pt x="569" y="0"/>
                  </a:lnTo>
                  <a:lnTo>
                    <a:pt x="559" y="0"/>
                  </a:lnTo>
                  <a:lnTo>
                    <a:pt x="534" y="0"/>
                  </a:lnTo>
                  <a:lnTo>
                    <a:pt x="503" y="0"/>
                  </a:lnTo>
                  <a:lnTo>
                    <a:pt x="452" y="9"/>
                  </a:lnTo>
                  <a:lnTo>
                    <a:pt x="411" y="9"/>
                  </a:lnTo>
                  <a:lnTo>
                    <a:pt x="360" y="15"/>
                  </a:lnTo>
                  <a:lnTo>
                    <a:pt x="319" y="25"/>
                  </a:lnTo>
                  <a:lnTo>
                    <a:pt x="285" y="41"/>
                  </a:lnTo>
                  <a:lnTo>
                    <a:pt x="269" y="51"/>
                  </a:lnTo>
                  <a:lnTo>
                    <a:pt x="243" y="67"/>
                  </a:lnTo>
                  <a:lnTo>
                    <a:pt x="218" y="109"/>
                  </a:lnTo>
                  <a:lnTo>
                    <a:pt x="203" y="186"/>
                  </a:lnTo>
                  <a:lnTo>
                    <a:pt x="0" y="2266"/>
                  </a:lnTo>
                  <a:close/>
                </a:path>
              </a:pathLst>
            </a:custGeom>
            <a:solidFill>
              <a:srgbClr val="ff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38960" y="3895560"/>
              <a:ext cx="527040" cy="541440"/>
            </a:xfrm>
            <a:custGeom>
              <a:avLst/>
              <a:gdLst/>
              <a:ahLst/>
              <a:rect l="l" t="t" r="r" b="b"/>
              <a:pathLst>
                <a:path w="3144" h="5457">
                  <a:moveTo>
                    <a:pt x="0" y="1934"/>
                  </a:moveTo>
                  <a:lnTo>
                    <a:pt x="265" y="4989"/>
                  </a:lnTo>
                  <a:lnTo>
                    <a:pt x="3135" y="5457"/>
                  </a:lnTo>
                  <a:lnTo>
                    <a:pt x="3144" y="604"/>
                  </a:lnTo>
                  <a:lnTo>
                    <a:pt x="3135" y="587"/>
                  </a:lnTo>
                  <a:lnTo>
                    <a:pt x="3099" y="562"/>
                  </a:lnTo>
                  <a:lnTo>
                    <a:pt x="3068" y="536"/>
                  </a:lnTo>
                  <a:lnTo>
                    <a:pt x="3027" y="519"/>
                  </a:lnTo>
                  <a:lnTo>
                    <a:pt x="2983" y="510"/>
                  </a:lnTo>
                  <a:lnTo>
                    <a:pt x="2901" y="494"/>
                  </a:lnTo>
                  <a:lnTo>
                    <a:pt x="2775" y="468"/>
                  </a:lnTo>
                  <a:lnTo>
                    <a:pt x="2607" y="433"/>
                  </a:lnTo>
                  <a:lnTo>
                    <a:pt x="2426" y="400"/>
                  </a:lnTo>
                  <a:lnTo>
                    <a:pt x="2218" y="356"/>
                  </a:lnTo>
                  <a:lnTo>
                    <a:pt x="1994" y="307"/>
                  </a:lnTo>
                  <a:lnTo>
                    <a:pt x="1759" y="254"/>
                  </a:lnTo>
                  <a:lnTo>
                    <a:pt x="1535" y="213"/>
                  </a:lnTo>
                  <a:lnTo>
                    <a:pt x="1307" y="162"/>
                  </a:lnTo>
                  <a:lnTo>
                    <a:pt x="1109" y="119"/>
                  </a:lnTo>
                  <a:lnTo>
                    <a:pt x="925" y="83"/>
                  </a:lnTo>
                  <a:lnTo>
                    <a:pt x="768" y="48"/>
                  </a:lnTo>
                  <a:lnTo>
                    <a:pt x="651" y="23"/>
                  </a:lnTo>
                  <a:lnTo>
                    <a:pt x="565" y="6"/>
                  </a:lnTo>
                  <a:lnTo>
                    <a:pt x="540" y="0"/>
                  </a:lnTo>
                  <a:lnTo>
                    <a:pt x="517" y="0"/>
                  </a:lnTo>
                  <a:lnTo>
                    <a:pt x="448" y="0"/>
                  </a:lnTo>
                  <a:lnTo>
                    <a:pt x="366" y="16"/>
                  </a:lnTo>
                  <a:lnTo>
                    <a:pt x="299" y="32"/>
                  </a:lnTo>
                  <a:lnTo>
                    <a:pt x="290" y="32"/>
                  </a:lnTo>
                  <a:lnTo>
                    <a:pt x="265" y="48"/>
                  </a:lnTo>
                  <a:lnTo>
                    <a:pt x="240" y="94"/>
                  </a:lnTo>
                  <a:lnTo>
                    <a:pt x="233" y="151"/>
                  </a:lnTo>
                  <a:lnTo>
                    <a:pt x="0" y="1934"/>
                  </a:lnTo>
                  <a:close/>
                </a:path>
              </a:pathLst>
            </a:custGeom>
            <a:solidFill>
              <a:srgbClr val="ffe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50120" y="3895560"/>
              <a:ext cx="459720" cy="536760"/>
            </a:xfrm>
            <a:custGeom>
              <a:avLst/>
              <a:gdLst/>
              <a:ahLst/>
              <a:rect l="l" t="t" r="r" b="b"/>
              <a:pathLst>
                <a:path w="2744" h="5399">
                  <a:moveTo>
                    <a:pt x="0" y="1596"/>
                  </a:moveTo>
                  <a:lnTo>
                    <a:pt x="218" y="4983"/>
                  </a:lnTo>
                  <a:lnTo>
                    <a:pt x="2735" y="5399"/>
                  </a:lnTo>
                  <a:lnTo>
                    <a:pt x="2744" y="521"/>
                  </a:lnTo>
                  <a:lnTo>
                    <a:pt x="2735" y="513"/>
                  </a:lnTo>
                  <a:lnTo>
                    <a:pt x="2710" y="488"/>
                  </a:lnTo>
                  <a:lnTo>
                    <a:pt x="2677" y="462"/>
                  </a:lnTo>
                  <a:lnTo>
                    <a:pt x="2643" y="453"/>
                  </a:lnTo>
                  <a:lnTo>
                    <a:pt x="2612" y="446"/>
                  </a:lnTo>
                  <a:lnTo>
                    <a:pt x="2542" y="436"/>
                  </a:lnTo>
                  <a:lnTo>
                    <a:pt x="2434" y="410"/>
                  </a:lnTo>
                  <a:lnTo>
                    <a:pt x="2295" y="385"/>
                  </a:lnTo>
                  <a:lnTo>
                    <a:pt x="2137" y="350"/>
                  </a:lnTo>
                  <a:lnTo>
                    <a:pt x="1964" y="307"/>
                  </a:lnTo>
                  <a:lnTo>
                    <a:pt x="1770" y="265"/>
                  </a:lnTo>
                  <a:lnTo>
                    <a:pt x="1568" y="223"/>
                  </a:lnTo>
                  <a:lnTo>
                    <a:pt x="1370" y="188"/>
                  </a:lnTo>
                  <a:lnTo>
                    <a:pt x="1186" y="145"/>
                  </a:lnTo>
                  <a:lnTo>
                    <a:pt x="1002" y="103"/>
                  </a:lnTo>
                  <a:lnTo>
                    <a:pt x="845" y="68"/>
                  </a:lnTo>
                  <a:lnTo>
                    <a:pt x="709" y="42"/>
                  </a:lnTo>
                  <a:lnTo>
                    <a:pt x="611" y="17"/>
                  </a:lnTo>
                  <a:lnTo>
                    <a:pt x="544" y="1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33" y="0"/>
                  </a:lnTo>
                  <a:lnTo>
                    <a:pt x="358" y="10"/>
                  </a:lnTo>
                  <a:lnTo>
                    <a:pt x="310" y="26"/>
                  </a:lnTo>
                  <a:lnTo>
                    <a:pt x="301" y="26"/>
                  </a:lnTo>
                  <a:lnTo>
                    <a:pt x="285" y="42"/>
                  </a:lnTo>
                  <a:lnTo>
                    <a:pt x="260" y="77"/>
                  </a:lnTo>
                  <a:lnTo>
                    <a:pt x="251" y="130"/>
                  </a:lnTo>
                  <a:lnTo>
                    <a:pt x="0" y="1596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8040" y="3897360"/>
              <a:ext cx="400680" cy="530280"/>
            </a:xfrm>
            <a:custGeom>
              <a:avLst/>
              <a:gdLst/>
              <a:ahLst/>
              <a:rect l="l" t="t" r="r" b="b"/>
              <a:pathLst>
                <a:path w="2370" h="5337">
                  <a:moveTo>
                    <a:pt x="0" y="1262"/>
                  </a:moveTo>
                  <a:lnTo>
                    <a:pt x="176" y="4979"/>
                  </a:lnTo>
                  <a:lnTo>
                    <a:pt x="2354" y="5337"/>
                  </a:lnTo>
                  <a:lnTo>
                    <a:pt x="2370" y="426"/>
                  </a:lnTo>
                  <a:lnTo>
                    <a:pt x="2364" y="417"/>
                  </a:lnTo>
                  <a:lnTo>
                    <a:pt x="2348" y="400"/>
                  </a:lnTo>
                  <a:lnTo>
                    <a:pt x="2313" y="384"/>
                  </a:lnTo>
                  <a:lnTo>
                    <a:pt x="2288" y="375"/>
                  </a:lnTo>
                  <a:lnTo>
                    <a:pt x="2263" y="375"/>
                  </a:lnTo>
                  <a:lnTo>
                    <a:pt x="2206" y="358"/>
                  </a:lnTo>
                  <a:lnTo>
                    <a:pt x="2114" y="340"/>
                  </a:lnTo>
                  <a:lnTo>
                    <a:pt x="1997" y="317"/>
                  </a:lnTo>
                  <a:lnTo>
                    <a:pt x="1854" y="291"/>
                  </a:lnTo>
                  <a:lnTo>
                    <a:pt x="1703" y="255"/>
                  </a:lnTo>
                  <a:lnTo>
                    <a:pt x="1545" y="223"/>
                  </a:lnTo>
                  <a:lnTo>
                    <a:pt x="1377" y="187"/>
                  </a:lnTo>
                  <a:lnTo>
                    <a:pt x="1210" y="152"/>
                  </a:lnTo>
                  <a:lnTo>
                    <a:pt x="1052" y="120"/>
                  </a:lnTo>
                  <a:lnTo>
                    <a:pt x="904" y="84"/>
                  </a:lnTo>
                  <a:lnTo>
                    <a:pt x="768" y="58"/>
                  </a:lnTo>
                  <a:lnTo>
                    <a:pt x="651" y="32"/>
                  </a:lnTo>
                  <a:lnTo>
                    <a:pt x="569" y="16"/>
                  </a:lnTo>
                  <a:lnTo>
                    <a:pt x="511" y="0"/>
                  </a:lnTo>
                  <a:lnTo>
                    <a:pt x="492" y="0"/>
                  </a:lnTo>
                  <a:lnTo>
                    <a:pt x="477" y="0"/>
                  </a:lnTo>
                  <a:lnTo>
                    <a:pt x="427" y="0"/>
                  </a:lnTo>
                  <a:lnTo>
                    <a:pt x="369" y="7"/>
                  </a:lnTo>
                  <a:lnTo>
                    <a:pt x="325" y="26"/>
                  </a:lnTo>
                  <a:lnTo>
                    <a:pt x="319" y="26"/>
                  </a:lnTo>
                  <a:lnTo>
                    <a:pt x="300" y="32"/>
                  </a:lnTo>
                  <a:lnTo>
                    <a:pt x="284" y="58"/>
                  </a:lnTo>
                  <a:lnTo>
                    <a:pt x="277" y="103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ff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71360" y="3897360"/>
              <a:ext cx="330480" cy="523800"/>
            </a:xfrm>
            <a:custGeom>
              <a:avLst/>
              <a:gdLst/>
              <a:ahLst/>
              <a:rect l="l" t="t" r="r" b="b"/>
              <a:pathLst>
                <a:path w="1969" h="5285">
                  <a:moveTo>
                    <a:pt x="0" y="930"/>
                  </a:moveTo>
                  <a:lnTo>
                    <a:pt x="133" y="4979"/>
                  </a:lnTo>
                  <a:lnTo>
                    <a:pt x="1953" y="5285"/>
                  </a:lnTo>
                  <a:lnTo>
                    <a:pt x="1969" y="349"/>
                  </a:lnTo>
                  <a:lnTo>
                    <a:pt x="1960" y="340"/>
                  </a:lnTo>
                  <a:lnTo>
                    <a:pt x="1953" y="323"/>
                  </a:lnTo>
                  <a:lnTo>
                    <a:pt x="1928" y="317"/>
                  </a:lnTo>
                  <a:lnTo>
                    <a:pt x="1910" y="307"/>
                  </a:lnTo>
                  <a:lnTo>
                    <a:pt x="1893" y="307"/>
                  </a:lnTo>
                  <a:lnTo>
                    <a:pt x="1843" y="291"/>
                  </a:lnTo>
                  <a:lnTo>
                    <a:pt x="1767" y="281"/>
                  </a:lnTo>
                  <a:lnTo>
                    <a:pt x="1675" y="255"/>
                  </a:lnTo>
                  <a:lnTo>
                    <a:pt x="1558" y="238"/>
                  </a:lnTo>
                  <a:lnTo>
                    <a:pt x="1441" y="213"/>
                  </a:lnTo>
                  <a:lnTo>
                    <a:pt x="1308" y="178"/>
                  </a:lnTo>
                  <a:lnTo>
                    <a:pt x="1176" y="152"/>
                  </a:lnTo>
                  <a:lnTo>
                    <a:pt x="1043" y="126"/>
                  </a:lnTo>
                  <a:lnTo>
                    <a:pt x="908" y="93"/>
                  </a:lnTo>
                  <a:lnTo>
                    <a:pt x="791" y="67"/>
                  </a:lnTo>
                  <a:lnTo>
                    <a:pt x="683" y="52"/>
                  </a:lnTo>
                  <a:lnTo>
                    <a:pt x="591" y="26"/>
                  </a:lnTo>
                  <a:lnTo>
                    <a:pt x="515" y="16"/>
                  </a:lnTo>
                  <a:lnTo>
                    <a:pt x="475" y="0"/>
                  </a:lnTo>
                  <a:lnTo>
                    <a:pt x="459" y="0"/>
                  </a:lnTo>
                  <a:lnTo>
                    <a:pt x="442" y="0"/>
                  </a:lnTo>
                  <a:lnTo>
                    <a:pt x="408" y="0"/>
                  </a:lnTo>
                  <a:lnTo>
                    <a:pt x="367" y="7"/>
                  </a:lnTo>
                  <a:lnTo>
                    <a:pt x="332" y="26"/>
                  </a:lnTo>
                  <a:lnTo>
                    <a:pt x="325" y="26"/>
                  </a:lnTo>
                  <a:lnTo>
                    <a:pt x="316" y="32"/>
                  </a:lnTo>
                  <a:lnTo>
                    <a:pt x="300" y="52"/>
                  </a:lnTo>
                  <a:lnTo>
                    <a:pt x="291" y="84"/>
                  </a:lnTo>
                  <a:lnTo>
                    <a:pt x="0" y="930"/>
                  </a:lnTo>
                  <a:close/>
                </a:path>
              </a:pathLst>
            </a:custGeom>
            <a:solidFill>
              <a:srgbClr val="ffe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79280" y="3897360"/>
              <a:ext cx="266400" cy="519120"/>
            </a:xfrm>
            <a:custGeom>
              <a:avLst/>
              <a:gdLst/>
              <a:ahLst/>
              <a:rect l="l" t="t" r="r" b="b"/>
              <a:pathLst>
                <a:path w="1577" h="5230">
                  <a:moveTo>
                    <a:pt x="0" y="596"/>
                  </a:moveTo>
                  <a:lnTo>
                    <a:pt x="92" y="4972"/>
                  </a:lnTo>
                  <a:lnTo>
                    <a:pt x="1571" y="5230"/>
                  </a:lnTo>
                  <a:lnTo>
                    <a:pt x="1577" y="264"/>
                  </a:lnTo>
                  <a:lnTo>
                    <a:pt x="1577" y="257"/>
                  </a:lnTo>
                  <a:lnTo>
                    <a:pt x="1571" y="248"/>
                  </a:lnTo>
                  <a:lnTo>
                    <a:pt x="1552" y="239"/>
                  </a:lnTo>
                  <a:lnTo>
                    <a:pt x="1536" y="231"/>
                  </a:lnTo>
                  <a:lnTo>
                    <a:pt x="1485" y="222"/>
                  </a:lnTo>
                  <a:lnTo>
                    <a:pt x="1362" y="196"/>
                  </a:lnTo>
                  <a:lnTo>
                    <a:pt x="1175" y="154"/>
                  </a:lnTo>
                  <a:lnTo>
                    <a:pt x="977" y="113"/>
                  </a:lnTo>
                  <a:lnTo>
                    <a:pt x="778" y="77"/>
                  </a:lnTo>
                  <a:lnTo>
                    <a:pt x="600" y="35"/>
                  </a:lnTo>
                  <a:lnTo>
                    <a:pt x="483" y="9"/>
                  </a:lnTo>
                  <a:lnTo>
                    <a:pt x="433" y="0"/>
                  </a:lnTo>
                  <a:lnTo>
                    <a:pt x="427" y="0"/>
                  </a:lnTo>
                  <a:lnTo>
                    <a:pt x="402" y="0"/>
                  </a:lnTo>
                  <a:lnTo>
                    <a:pt x="366" y="9"/>
                  </a:lnTo>
                  <a:lnTo>
                    <a:pt x="341" y="19"/>
                  </a:lnTo>
                  <a:lnTo>
                    <a:pt x="335" y="19"/>
                  </a:lnTo>
                  <a:lnTo>
                    <a:pt x="316" y="35"/>
                  </a:lnTo>
                  <a:lnTo>
                    <a:pt x="316" y="51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f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90440" y="3898800"/>
              <a:ext cx="198720" cy="513000"/>
            </a:xfrm>
            <a:custGeom>
              <a:avLst/>
              <a:gdLst/>
              <a:ahLst/>
              <a:rect l="l" t="t" r="r" b="b"/>
              <a:pathLst>
                <a:path w="1184" h="5169">
                  <a:moveTo>
                    <a:pt x="0" y="265"/>
                  </a:moveTo>
                  <a:lnTo>
                    <a:pt x="41" y="4972"/>
                  </a:lnTo>
                  <a:lnTo>
                    <a:pt x="1169" y="5169"/>
                  </a:lnTo>
                  <a:lnTo>
                    <a:pt x="1184" y="171"/>
                  </a:lnTo>
                  <a:lnTo>
                    <a:pt x="1178" y="162"/>
                  </a:lnTo>
                  <a:lnTo>
                    <a:pt x="1169" y="162"/>
                  </a:lnTo>
                  <a:lnTo>
                    <a:pt x="1159" y="162"/>
                  </a:lnTo>
                  <a:lnTo>
                    <a:pt x="1128" y="155"/>
                  </a:lnTo>
                  <a:lnTo>
                    <a:pt x="1042" y="136"/>
                  </a:lnTo>
                  <a:lnTo>
                    <a:pt x="919" y="110"/>
                  </a:lnTo>
                  <a:lnTo>
                    <a:pt x="784" y="77"/>
                  </a:lnTo>
                  <a:lnTo>
                    <a:pt x="644" y="51"/>
                  </a:lnTo>
                  <a:lnTo>
                    <a:pt x="527" y="26"/>
                  </a:lnTo>
                  <a:lnTo>
                    <a:pt x="442" y="10"/>
                  </a:lnTo>
                  <a:lnTo>
                    <a:pt x="410" y="0"/>
                  </a:lnTo>
                  <a:lnTo>
                    <a:pt x="401" y="0"/>
                  </a:lnTo>
                  <a:lnTo>
                    <a:pt x="385" y="0"/>
                  </a:lnTo>
                  <a:lnTo>
                    <a:pt x="366" y="0"/>
                  </a:lnTo>
                  <a:lnTo>
                    <a:pt x="351" y="10"/>
                  </a:lnTo>
                  <a:lnTo>
                    <a:pt x="341" y="10"/>
                  </a:lnTo>
                  <a:lnTo>
                    <a:pt x="335" y="16"/>
                  </a:lnTo>
                  <a:lnTo>
                    <a:pt x="335" y="26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f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0520" y="3892680"/>
              <a:ext cx="134640" cy="514080"/>
            </a:xfrm>
            <a:custGeom>
              <a:avLst/>
              <a:gdLst/>
              <a:ahLst/>
              <a:rect l="l" t="t" r="r" b="b"/>
              <a:pathLst>
                <a:path w="794" h="5185">
                  <a:moveTo>
                    <a:pt x="0" y="0"/>
                  </a:moveTo>
                  <a:lnTo>
                    <a:pt x="0" y="5039"/>
                  </a:lnTo>
                  <a:lnTo>
                    <a:pt x="775" y="5185"/>
                  </a:lnTo>
                  <a:lnTo>
                    <a:pt x="794" y="1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36720" y="3886200"/>
              <a:ext cx="110160" cy="523800"/>
            </a:xfrm>
            <a:custGeom>
              <a:avLst/>
              <a:gdLst/>
              <a:ahLst/>
              <a:rect l="l" t="t" r="r" b="b"/>
              <a:pathLst>
                <a:path w="667" h="5279">
                  <a:moveTo>
                    <a:pt x="9" y="239"/>
                  </a:moveTo>
                  <a:lnTo>
                    <a:pt x="26" y="233"/>
                  </a:lnTo>
                  <a:lnTo>
                    <a:pt x="57" y="197"/>
                  </a:lnTo>
                  <a:lnTo>
                    <a:pt x="126" y="155"/>
                  </a:lnTo>
                  <a:lnTo>
                    <a:pt x="209" y="113"/>
                  </a:lnTo>
                  <a:lnTo>
                    <a:pt x="310" y="71"/>
                  </a:lnTo>
                  <a:lnTo>
                    <a:pt x="418" y="26"/>
                  </a:lnTo>
                  <a:lnTo>
                    <a:pt x="544" y="0"/>
                  </a:lnTo>
                  <a:lnTo>
                    <a:pt x="667" y="0"/>
                  </a:lnTo>
                  <a:lnTo>
                    <a:pt x="667" y="5033"/>
                  </a:lnTo>
                  <a:lnTo>
                    <a:pt x="0" y="5279"/>
                  </a:lnTo>
                  <a:lnTo>
                    <a:pt x="9" y="239"/>
                  </a:lnTo>
                  <a:close/>
                </a:path>
              </a:pathLst>
            </a:custGeom>
            <a:solidFill>
              <a:srgbClr val="e0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3120" y="3889440"/>
              <a:ext cx="23760" cy="496800"/>
            </a:xfrm>
            <a:custGeom>
              <a:avLst/>
              <a:gdLst/>
              <a:ahLst/>
              <a:rect l="l" t="t" r="r" b="b"/>
              <a:pathLst>
                <a:path w="142" h="4998">
                  <a:moveTo>
                    <a:pt x="0" y="78"/>
                  </a:moveTo>
                  <a:lnTo>
                    <a:pt x="0" y="4998"/>
                  </a:lnTo>
                  <a:lnTo>
                    <a:pt x="19" y="4989"/>
                  </a:lnTo>
                  <a:lnTo>
                    <a:pt x="70" y="4963"/>
                  </a:lnTo>
                  <a:lnTo>
                    <a:pt x="117" y="4957"/>
                  </a:lnTo>
                  <a:lnTo>
                    <a:pt x="142" y="4983"/>
                  </a:lnTo>
                  <a:lnTo>
                    <a:pt x="142" y="94"/>
                  </a:lnTo>
                  <a:lnTo>
                    <a:pt x="136" y="62"/>
                  </a:lnTo>
                  <a:lnTo>
                    <a:pt x="111" y="10"/>
                  </a:lnTo>
                  <a:lnTo>
                    <a:pt x="61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5137200"/>
              <a:ext cx="1194480" cy="260280"/>
            </a:xfrm>
            <a:custGeom>
              <a:avLst/>
              <a:gdLst/>
              <a:ahLst/>
              <a:rect l="l" t="t" r="r" b="b"/>
              <a:pathLst>
                <a:path w="7108" h="2629">
                  <a:moveTo>
                    <a:pt x="0" y="546"/>
                  </a:moveTo>
                  <a:lnTo>
                    <a:pt x="0" y="2447"/>
                  </a:lnTo>
                  <a:lnTo>
                    <a:pt x="535" y="2629"/>
                  </a:lnTo>
                  <a:lnTo>
                    <a:pt x="560" y="2629"/>
                  </a:lnTo>
                  <a:lnTo>
                    <a:pt x="610" y="2618"/>
                  </a:lnTo>
                  <a:lnTo>
                    <a:pt x="702" y="2618"/>
                  </a:lnTo>
                  <a:lnTo>
                    <a:pt x="800" y="2602"/>
                  </a:lnTo>
                  <a:lnTo>
                    <a:pt x="901" y="2593"/>
                  </a:lnTo>
                  <a:lnTo>
                    <a:pt x="1009" y="2586"/>
                  </a:lnTo>
                  <a:lnTo>
                    <a:pt x="1100" y="2567"/>
                  </a:lnTo>
                  <a:lnTo>
                    <a:pt x="1169" y="2561"/>
                  </a:lnTo>
                  <a:lnTo>
                    <a:pt x="6899" y="1698"/>
                  </a:lnTo>
                  <a:lnTo>
                    <a:pt x="6925" y="1672"/>
                  </a:lnTo>
                  <a:lnTo>
                    <a:pt x="6991" y="1614"/>
                  </a:lnTo>
                  <a:lnTo>
                    <a:pt x="7058" y="1495"/>
                  </a:lnTo>
                  <a:lnTo>
                    <a:pt x="7108" y="1330"/>
                  </a:lnTo>
                  <a:lnTo>
                    <a:pt x="7108" y="0"/>
                  </a:lnTo>
                  <a:lnTo>
                    <a:pt x="819" y="685"/>
                  </a:lnTo>
                  <a:lnTo>
                    <a:pt x="800" y="685"/>
                  </a:lnTo>
                  <a:lnTo>
                    <a:pt x="743" y="691"/>
                  </a:lnTo>
                  <a:lnTo>
                    <a:pt x="658" y="700"/>
                  </a:lnTo>
                  <a:lnTo>
                    <a:pt x="560" y="691"/>
                  </a:lnTo>
                  <a:lnTo>
                    <a:pt x="433" y="685"/>
                  </a:lnTo>
                  <a:lnTo>
                    <a:pt x="291" y="659"/>
                  </a:lnTo>
                  <a:lnTo>
                    <a:pt x="149" y="61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ff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39600" y="5140440"/>
              <a:ext cx="1127520" cy="250560"/>
            </a:xfrm>
            <a:custGeom>
              <a:avLst/>
              <a:gdLst/>
              <a:ahLst/>
              <a:rect l="l" t="t" r="r" b="b"/>
              <a:pathLst>
                <a:path w="6710" h="2532">
                  <a:moveTo>
                    <a:pt x="493" y="2474"/>
                  </a:moveTo>
                  <a:lnTo>
                    <a:pt x="509" y="2474"/>
                  </a:lnTo>
                  <a:lnTo>
                    <a:pt x="570" y="2483"/>
                  </a:lnTo>
                  <a:lnTo>
                    <a:pt x="651" y="2500"/>
                  </a:lnTo>
                  <a:lnTo>
                    <a:pt x="743" y="2506"/>
                  </a:lnTo>
                  <a:lnTo>
                    <a:pt x="844" y="2526"/>
                  </a:lnTo>
                  <a:lnTo>
                    <a:pt x="945" y="2532"/>
                  </a:lnTo>
                  <a:lnTo>
                    <a:pt x="1028" y="2532"/>
                  </a:lnTo>
                  <a:lnTo>
                    <a:pt x="1093" y="2526"/>
                  </a:lnTo>
                  <a:lnTo>
                    <a:pt x="6508" y="1705"/>
                  </a:lnTo>
                  <a:lnTo>
                    <a:pt x="6533" y="1673"/>
                  </a:lnTo>
                  <a:lnTo>
                    <a:pt x="6599" y="1570"/>
                  </a:lnTo>
                  <a:lnTo>
                    <a:pt x="6669" y="1425"/>
                  </a:lnTo>
                  <a:lnTo>
                    <a:pt x="6710" y="1254"/>
                  </a:lnTo>
                  <a:lnTo>
                    <a:pt x="6700" y="0"/>
                  </a:lnTo>
                  <a:lnTo>
                    <a:pt x="768" y="650"/>
                  </a:lnTo>
                  <a:lnTo>
                    <a:pt x="752" y="650"/>
                  </a:lnTo>
                  <a:lnTo>
                    <a:pt x="702" y="656"/>
                  </a:lnTo>
                  <a:lnTo>
                    <a:pt x="626" y="656"/>
                  </a:lnTo>
                  <a:lnTo>
                    <a:pt x="528" y="656"/>
                  </a:lnTo>
                  <a:lnTo>
                    <a:pt x="411" y="650"/>
                  </a:lnTo>
                  <a:lnTo>
                    <a:pt x="285" y="624"/>
                  </a:lnTo>
                  <a:lnTo>
                    <a:pt x="152" y="582"/>
                  </a:lnTo>
                  <a:lnTo>
                    <a:pt x="10" y="511"/>
                  </a:lnTo>
                  <a:lnTo>
                    <a:pt x="0" y="2303"/>
                  </a:lnTo>
                  <a:lnTo>
                    <a:pt x="493" y="2474"/>
                  </a:lnTo>
                  <a:close/>
                </a:path>
              </a:pathLst>
            </a:custGeom>
            <a:solidFill>
              <a:srgbClr val="ffd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47520" y="5143680"/>
              <a:ext cx="1059480" cy="247320"/>
            </a:xfrm>
            <a:custGeom>
              <a:avLst/>
              <a:gdLst/>
              <a:ahLst/>
              <a:rect l="l" t="t" r="r" b="b"/>
              <a:pathLst>
                <a:path w="6299" h="2489">
                  <a:moveTo>
                    <a:pt x="458" y="2312"/>
                  </a:moveTo>
                  <a:lnTo>
                    <a:pt x="474" y="2321"/>
                  </a:lnTo>
                  <a:lnTo>
                    <a:pt x="525" y="2344"/>
                  </a:lnTo>
                  <a:lnTo>
                    <a:pt x="600" y="2369"/>
                  </a:lnTo>
                  <a:lnTo>
                    <a:pt x="692" y="2415"/>
                  </a:lnTo>
                  <a:lnTo>
                    <a:pt x="784" y="2447"/>
                  </a:lnTo>
                  <a:lnTo>
                    <a:pt x="876" y="2472"/>
                  </a:lnTo>
                  <a:lnTo>
                    <a:pt x="958" y="2489"/>
                  </a:lnTo>
                  <a:lnTo>
                    <a:pt x="1018" y="2489"/>
                  </a:lnTo>
                  <a:lnTo>
                    <a:pt x="6116" y="1714"/>
                  </a:lnTo>
                  <a:lnTo>
                    <a:pt x="6141" y="1656"/>
                  </a:lnTo>
                  <a:lnTo>
                    <a:pt x="6198" y="1517"/>
                  </a:lnTo>
                  <a:lnTo>
                    <a:pt x="6258" y="1340"/>
                  </a:lnTo>
                  <a:lnTo>
                    <a:pt x="6299" y="1158"/>
                  </a:lnTo>
                  <a:lnTo>
                    <a:pt x="6299" y="0"/>
                  </a:lnTo>
                  <a:lnTo>
                    <a:pt x="727" y="607"/>
                  </a:lnTo>
                  <a:lnTo>
                    <a:pt x="708" y="607"/>
                  </a:lnTo>
                  <a:lnTo>
                    <a:pt x="658" y="613"/>
                  </a:lnTo>
                  <a:lnTo>
                    <a:pt x="591" y="613"/>
                  </a:lnTo>
                  <a:lnTo>
                    <a:pt x="499" y="613"/>
                  </a:lnTo>
                  <a:lnTo>
                    <a:pt x="392" y="596"/>
                  </a:lnTo>
                  <a:lnTo>
                    <a:pt x="275" y="581"/>
                  </a:lnTo>
                  <a:lnTo>
                    <a:pt x="142" y="539"/>
                  </a:lnTo>
                  <a:lnTo>
                    <a:pt x="16" y="478"/>
                  </a:lnTo>
                  <a:lnTo>
                    <a:pt x="0" y="2150"/>
                  </a:lnTo>
                  <a:lnTo>
                    <a:pt x="458" y="2312"/>
                  </a:lnTo>
                  <a:close/>
                </a:path>
              </a:pathLst>
            </a:custGeom>
            <a:solidFill>
              <a:srgbClr val="ff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8680" y="5148360"/>
              <a:ext cx="989640" cy="242640"/>
            </a:xfrm>
            <a:custGeom>
              <a:avLst/>
              <a:gdLst/>
              <a:ahLst/>
              <a:rect l="l" t="t" r="r" b="b"/>
              <a:pathLst>
                <a:path w="5890" h="2454">
                  <a:moveTo>
                    <a:pt x="425" y="2157"/>
                  </a:moveTo>
                  <a:lnTo>
                    <a:pt x="441" y="2172"/>
                  </a:lnTo>
                  <a:lnTo>
                    <a:pt x="492" y="2209"/>
                  </a:lnTo>
                  <a:lnTo>
                    <a:pt x="558" y="2260"/>
                  </a:lnTo>
                  <a:lnTo>
                    <a:pt x="644" y="2318"/>
                  </a:lnTo>
                  <a:lnTo>
                    <a:pt x="726" y="2370"/>
                  </a:lnTo>
                  <a:lnTo>
                    <a:pt x="808" y="2422"/>
                  </a:lnTo>
                  <a:lnTo>
                    <a:pt x="884" y="2448"/>
                  </a:lnTo>
                  <a:lnTo>
                    <a:pt x="944" y="2454"/>
                  </a:lnTo>
                  <a:lnTo>
                    <a:pt x="5723" y="1730"/>
                  </a:lnTo>
                  <a:lnTo>
                    <a:pt x="5748" y="1653"/>
                  </a:lnTo>
                  <a:lnTo>
                    <a:pt x="5798" y="1482"/>
                  </a:lnTo>
                  <a:lnTo>
                    <a:pt x="5856" y="1268"/>
                  </a:lnTo>
                  <a:lnTo>
                    <a:pt x="5890" y="1082"/>
                  </a:lnTo>
                  <a:lnTo>
                    <a:pt x="5890" y="0"/>
                  </a:lnTo>
                  <a:lnTo>
                    <a:pt x="685" y="572"/>
                  </a:lnTo>
                  <a:lnTo>
                    <a:pt x="669" y="572"/>
                  </a:lnTo>
                  <a:lnTo>
                    <a:pt x="625" y="578"/>
                  </a:lnTo>
                  <a:lnTo>
                    <a:pt x="558" y="578"/>
                  </a:lnTo>
                  <a:lnTo>
                    <a:pt x="467" y="578"/>
                  </a:lnTo>
                  <a:lnTo>
                    <a:pt x="366" y="572"/>
                  </a:lnTo>
                  <a:lnTo>
                    <a:pt x="258" y="546"/>
                  </a:lnTo>
                  <a:lnTo>
                    <a:pt x="142" y="510"/>
                  </a:lnTo>
                  <a:lnTo>
                    <a:pt x="25" y="452"/>
                  </a:lnTo>
                  <a:lnTo>
                    <a:pt x="0" y="2001"/>
                  </a:lnTo>
                  <a:lnTo>
                    <a:pt x="425" y="2157"/>
                  </a:lnTo>
                  <a:close/>
                </a:path>
              </a:pathLst>
            </a:custGeom>
            <a:solidFill>
              <a:srgbClr val="ff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8760" y="5151600"/>
              <a:ext cx="923040" cy="239400"/>
            </a:xfrm>
            <a:custGeom>
              <a:avLst/>
              <a:gdLst/>
              <a:ahLst/>
              <a:rect l="l" t="t" r="r" b="b"/>
              <a:pathLst>
                <a:path w="5490" h="2421">
                  <a:moveTo>
                    <a:pt x="393" y="1995"/>
                  </a:moveTo>
                  <a:lnTo>
                    <a:pt x="408" y="2014"/>
                  </a:lnTo>
                  <a:lnTo>
                    <a:pt x="449" y="2062"/>
                  </a:lnTo>
                  <a:lnTo>
                    <a:pt x="516" y="2139"/>
                  </a:lnTo>
                  <a:lnTo>
                    <a:pt x="591" y="2218"/>
                  </a:lnTo>
                  <a:lnTo>
                    <a:pt x="667" y="2295"/>
                  </a:lnTo>
                  <a:lnTo>
                    <a:pt x="749" y="2363"/>
                  </a:lnTo>
                  <a:lnTo>
                    <a:pt x="818" y="2415"/>
                  </a:lnTo>
                  <a:lnTo>
                    <a:pt x="866" y="2421"/>
                  </a:lnTo>
                  <a:lnTo>
                    <a:pt x="5329" y="1749"/>
                  </a:lnTo>
                  <a:lnTo>
                    <a:pt x="5348" y="1656"/>
                  </a:lnTo>
                  <a:lnTo>
                    <a:pt x="5398" y="1443"/>
                  </a:lnTo>
                  <a:lnTo>
                    <a:pt x="5446" y="1194"/>
                  </a:lnTo>
                  <a:lnTo>
                    <a:pt x="5490" y="997"/>
                  </a:lnTo>
                  <a:lnTo>
                    <a:pt x="5481" y="0"/>
                  </a:lnTo>
                  <a:lnTo>
                    <a:pt x="642" y="528"/>
                  </a:lnTo>
                  <a:lnTo>
                    <a:pt x="626" y="528"/>
                  </a:lnTo>
                  <a:lnTo>
                    <a:pt x="585" y="539"/>
                  </a:lnTo>
                  <a:lnTo>
                    <a:pt x="525" y="539"/>
                  </a:lnTo>
                  <a:lnTo>
                    <a:pt x="443" y="539"/>
                  </a:lnTo>
                  <a:lnTo>
                    <a:pt x="351" y="528"/>
                  </a:lnTo>
                  <a:lnTo>
                    <a:pt x="240" y="513"/>
                  </a:lnTo>
                  <a:lnTo>
                    <a:pt x="133" y="477"/>
                  </a:lnTo>
                  <a:lnTo>
                    <a:pt x="25" y="425"/>
                  </a:lnTo>
                  <a:lnTo>
                    <a:pt x="0" y="1859"/>
                  </a:lnTo>
                  <a:lnTo>
                    <a:pt x="393" y="1995"/>
                  </a:lnTo>
                  <a:close/>
                </a:path>
              </a:pathLst>
            </a:custGeom>
            <a:solidFill>
              <a:srgbClr val="ff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7400" y="5154480"/>
              <a:ext cx="855360" cy="238320"/>
            </a:xfrm>
            <a:custGeom>
              <a:avLst/>
              <a:gdLst/>
              <a:ahLst/>
              <a:rect l="l" t="t" r="r" b="b"/>
              <a:pathLst>
                <a:path w="5089" h="2395">
                  <a:moveTo>
                    <a:pt x="358" y="1841"/>
                  </a:moveTo>
                  <a:lnTo>
                    <a:pt x="374" y="1866"/>
                  </a:lnTo>
                  <a:lnTo>
                    <a:pt x="418" y="1933"/>
                  </a:lnTo>
                  <a:lnTo>
                    <a:pt x="475" y="2021"/>
                  </a:lnTo>
                  <a:lnTo>
                    <a:pt x="541" y="2131"/>
                  </a:lnTo>
                  <a:lnTo>
                    <a:pt x="617" y="2234"/>
                  </a:lnTo>
                  <a:lnTo>
                    <a:pt x="684" y="2318"/>
                  </a:lnTo>
                  <a:lnTo>
                    <a:pt x="750" y="2380"/>
                  </a:lnTo>
                  <a:lnTo>
                    <a:pt x="791" y="2395"/>
                  </a:lnTo>
                  <a:lnTo>
                    <a:pt x="4947" y="1756"/>
                  </a:lnTo>
                  <a:lnTo>
                    <a:pt x="4963" y="1647"/>
                  </a:lnTo>
                  <a:lnTo>
                    <a:pt x="5004" y="1398"/>
                  </a:lnTo>
                  <a:lnTo>
                    <a:pt x="5055" y="1117"/>
                  </a:lnTo>
                  <a:lnTo>
                    <a:pt x="5089" y="911"/>
                  </a:lnTo>
                  <a:lnTo>
                    <a:pt x="5080" y="0"/>
                  </a:lnTo>
                  <a:lnTo>
                    <a:pt x="608" y="493"/>
                  </a:lnTo>
                  <a:lnTo>
                    <a:pt x="592" y="493"/>
                  </a:lnTo>
                  <a:lnTo>
                    <a:pt x="560" y="504"/>
                  </a:lnTo>
                  <a:lnTo>
                    <a:pt x="500" y="504"/>
                  </a:lnTo>
                  <a:lnTo>
                    <a:pt x="424" y="504"/>
                  </a:lnTo>
                  <a:lnTo>
                    <a:pt x="343" y="493"/>
                  </a:lnTo>
                  <a:lnTo>
                    <a:pt x="241" y="478"/>
                  </a:lnTo>
                  <a:lnTo>
                    <a:pt x="140" y="442"/>
                  </a:lnTo>
                  <a:lnTo>
                    <a:pt x="42" y="401"/>
                  </a:lnTo>
                  <a:lnTo>
                    <a:pt x="0" y="1714"/>
                  </a:lnTo>
                  <a:lnTo>
                    <a:pt x="358" y="1841"/>
                  </a:lnTo>
                  <a:close/>
                </a:path>
              </a:pathLst>
            </a:custGeom>
            <a:solidFill>
              <a:srgbClr val="ff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85320" y="5157720"/>
              <a:ext cx="788040" cy="235080"/>
            </a:xfrm>
            <a:custGeom>
              <a:avLst/>
              <a:gdLst/>
              <a:ahLst/>
              <a:rect l="l" t="t" r="r" b="b"/>
              <a:pathLst>
                <a:path w="4681" h="2363">
                  <a:moveTo>
                    <a:pt x="325" y="1689"/>
                  </a:moveTo>
                  <a:lnTo>
                    <a:pt x="341" y="1724"/>
                  </a:lnTo>
                  <a:lnTo>
                    <a:pt x="375" y="1801"/>
                  </a:lnTo>
                  <a:lnTo>
                    <a:pt x="426" y="1912"/>
                  </a:lnTo>
                  <a:lnTo>
                    <a:pt x="492" y="2041"/>
                  </a:lnTo>
                  <a:lnTo>
                    <a:pt x="559" y="2160"/>
                  </a:lnTo>
                  <a:lnTo>
                    <a:pt x="620" y="2270"/>
                  </a:lnTo>
                  <a:lnTo>
                    <a:pt x="676" y="2337"/>
                  </a:lnTo>
                  <a:lnTo>
                    <a:pt x="717" y="2363"/>
                  </a:lnTo>
                  <a:lnTo>
                    <a:pt x="4554" y="1776"/>
                  </a:lnTo>
                  <a:lnTo>
                    <a:pt x="4570" y="1647"/>
                  </a:lnTo>
                  <a:lnTo>
                    <a:pt x="4614" y="1366"/>
                  </a:lnTo>
                  <a:lnTo>
                    <a:pt x="4656" y="1050"/>
                  </a:lnTo>
                  <a:lnTo>
                    <a:pt x="4681" y="837"/>
                  </a:lnTo>
                  <a:lnTo>
                    <a:pt x="4671" y="0"/>
                  </a:lnTo>
                  <a:lnTo>
                    <a:pt x="568" y="461"/>
                  </a:lnTo>
                  <a:lnTo>
                    <a:pt x="559" y="461"/>
                  </a:lnTo>
                  <a:lnTo>
                    <a:pt x="518" y="472"/>
                  </a:lnTo>
                  <a:lnTo>
                    <a:pt x="467" y="472"/>
                  </a:lnTo>
                  <a:lnTo>
                    <a:pt x="401" y="472"/>
                  </a:lnTo>
                  <a:lnTo>
                    <a:pt x="316" y="461"/>
                  </a:lnTo>
                  <a:lnTo>
                    <a:pt x="233" y="446"/>
                  </a:lnTo>
                  <a:lnTo>
                    <a:pt x="142" y="420"/>
                  </a:lnTo>
                  <a:lnTo>
                    <a:pt x="50" y="378"/>
                  </a:lnTo>
                  <a:lnTo>
                    <a:pt x="0" y="1569"/>
                  </a:lnTo>
                  <a:lnTo>
                    <a:pt x="325" y="1689"/>
                  </a:lnTo>
                  <a:close/>
                </a:path>
              </a:pathLst>
            </a:custGeom>
            <a:solidFill>
              <a:srgbClr val="ff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95760" y="5162400"/>
              <a:ext cx="718560" cy="230400"/>
            </a:xfrm>
            <a:custGeom>
              <a:avLst/>
              <a:gdLst/>
              <a:ahLst/>
              <a:rect l="l" t="t" r="r" b="b"/>
              <a:pathLst>
                <a:path w="4276" h="2318">
                  <a:moveTo>
                    <a:pt x="290" y="1518"/>
                  </a:moveTo>
                  <a:lnTo>
                    <a:pt x="300" y="1550"/>
                  </a:lnTo>
                  <a:lnTo>
                    <a:pt x="331" y="1644"/>
                  </a:lnTo>
                  <a:lnTo>
                    <a:pt x="382" y="1782"/>
                  </a:lnTo>
                  <a:lnTo>
                    <a:pt x="442" y="1927"/>
                  </a:lnTo>
                  <a:lnTo>
                    <a:pt x="499" y="2080"/>
                  </a:lnTo>
                  <a:lnTo>
                    <a:pt x="560" y="2209"/>
                  </a:lnTo>
                  <a:lnTo>
                    <a:pt x="607" y="2292"/>
                  </a:lnTo>
                  <a:lnTo>
                    <a:pt x="641" y="2318"/>
                  </a:lnTo>
                  <a:lnTo>
                    <a:pt x="4159" y="1782"/>
                  </a:lnTo>
                  <a:lnTo>
                    <a:pt x="4178" y="1637"/>
                  </a:lnTo>
                  <a:lnTo>
                    <a:pt x="4209" y="1311"/>
                  </a:lnTo>
                  <a:lnTo>
                    <a:pt x="4253" y="963"/>
                  </a:lnTo>
                  <a:lnTo>
                    <a:pt x="4276" y="740"/>
                  </a:lnTo>
                  <a:lnTo>
                    <a:pt x="4261" y="0"/>
                  </a:lnTo>
                  <a:lnTo>
                    <a:pt x="524" y="416"/>
                  </a:lnTo>
                  <a:lnTo>
                    <a:pt x="515" y="416"/>
                  </a:lnTo>
                  <a:lnTo>
                    <a:pt x="483" y="427"/>
                  </a:lnTo>
                  <a:lnTo>
                    <a:pt x="432" y="427"/>
                  </a:lnTo>
                  <a:lnTo>
                    <a:pt x="373" y="427"/>
                  </a:lnTo>
                  <a:lnTo>
                    <a:pt x="300" y="416"/>
                  </a:lnTo>
                  <a:lnTo>
                    <a:pt x="225" y="401"/>
                  </a:lnTo>
                  <a:lnTo>
                    <a:pt x="139" y="375"/>
                  </a:lnTo>
                  <a:lnTo>
                    <a:pt x="57" y="333"/>
                  </a:lnTo>
                  <a:lnTo>
                    <a:pt x="0" y="1414"/>
                  </a:lnTo>
                  <a:lnTo>
                    <a:pt x="290" y="1518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6560" y="5165640"/>
              <a:ext cx="650880" cy="227160"/>
            </a:xfrm>
            <a:custGeom>
              <a:avLst/>
              <a:gdLst/>
              <a:ahLst/>
              <a:rect l="l" t="t" r="r" b="b"/>
              <a:pathLst>
                <a:path w="3872" h="2295">
                  <a:moveTo>
                    <a:pt x="249" y="1366"/>
                  </a:moveTo>
                  <a:lnTo>
                    <a:pt x="258" y="1407"/>
                  </a:lnTo>
                  <a:lnTo>
                    <a:pt x="291" y="1511"/>
                  </a:lnTo>
                  <a:lnTo>
                    <a:pt x="335" y="1663"/>
                  </a:lnTo>
                  <a:lnTo>
                    <a:pt x="385" y="1834"/>
                  </a:lnTo>
                  <a:lnTo>
                    <a:pt x="433" y="2005"/>
                  </a:lnTo>
                  <a:lnTo>
                    <a:pt x="492" y="2156"/>
                  </a:lnTo>
                  <a:lnTo>
                    <a:pt x="534" y="2259"/>
                  </a:lnTo>
                  <a:lnTo>
                    <a:pt x="568" y="2295"/>
                  </a:lnTo>
                  <a:lnTo>
                    <a:pt x="3770" y="1798"/>
                  </a:lnTo>
                  <a:lnTo>
                    <a:pt x="3786" y="1637"/>
                  </a:lnTo>
                  <a:lnTo>
                    <a:pt x="3811" y="1278"/>
                  </a:lnTo>
                  <a:lnTo>
                    <a:pt x="3846" y="897"/>
                  </a:lnTo>
                  <a:lnTo>
                    <a:pt x="3872" y="665"/>
                  </a:lnTo>
                  <a:lnTo>
                    <a:pt x="3861" y="0"/>
                  </a:lnTo>
                  <a:lnTo>
                    <a:pt x="483" y="374"/>
                  </a:lnTo>
                  <a:lnTo>
                    <a:pt x="476" y="374"/>
                  </a:lnTo>
                  <a:lnTo>
                    <a:pt x="442" y="383"/>
                  </a:lnTo>
                  <a:lnTo>
                    <a:pt x="401" y="383"/>
                  </a:lnTo>
                  <a:lnTo>
                    <a:pt x="350" y="383"/>
                  </a:lnTo>
                  <a:lnTo>
                    <a:pt x="284" y="374"/>
                  </a:lnTo>
                  <a:lnTo>
                    <a:pt x="208" y="368"/>
                  </a:lnTo>
                  <a:lnTo>
                    <a:pt x="132" y="342"/>
                  </a:lnTo>
                  <a:lnTo>
                    <a:pt x="60" y="306"/>
                  </a:lnTo>
                  <a:lnTo>
                    <a:pt x="0" y="1272"/>
                  </a:lnTo>
                  <a:lnTo>
                    <a:pt x="249" y="1366"/>
                  </a:lnTo>
                  <a:close/>
                </a:path>
              </a:pathLst>
            </a:custGeom>
            <a:solidFill>
              <a:srgbClr val="ff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14480" y="5168880"/>
              <a:ext cx="583560" cy="223920"/>
            </a:xfrm>
            <a:custGeom>
              <a:avLst/>
              <a:gdLst/>
              <a:ahLst/>
              <a:rect l="l" t="t" r="r" b="b"/>
              <a:pathLst>
                <a:path w="3466" h="2260">
                  <a:moveTo>
                    <a:pt x="214" y="1211"/>
                  </a:moveTo>
                  <a:lnTo>
                    <a:pt x="224" y="1253"/>
                  </a:lnTo>
                  <a:lnTo>
                    <a:pt x="249" y="1372"/>
                  </a:lnTo>
                  <a:lnTo>
                    <a:pt x="290" y="1543"/>
                  </a:lnTo>
                  <a:lnTo>
                    <a:pt x="332" y="1740"/>
                  </a:lnTo>
                  <a:lnTo>
                    <a:pt x="373" y="1934"/>
                  </a:lnTo>
                  <a:lnTo>
                    <a:pt x="423" y="2105"/>
                  </a:lnTo>
                  <a:lnTo>
                    <a:pt x="464" y="2215"/>
                  </a:lnTo>
                  <a:lnTo>
                    <a:pt x="490" y="2260"/>
                  </a:lnTo>
                  <a:lnTo>
                    <a:pt x="3369" y="1808"/>
                  </a:lnTo>
                  <a:lnTo>
                    <a:pt x="3385" y="1628"/>
                  </a:lnTo>
                  <a:lnTo>
                    <a:pt x="3410" y="1237"/>
                  </a:lnTo>
                  <a:lnTo>
                    <a:pt x="3441" y="817"/>
                  </a:lnTo>
                  <a:lnTo>
                    <a:pt x="3466" y="578"/>
                  </a:lnTo>
                  <a:lnTo>
                    <a:pt x="3451" y="0"/>
                  </a:lnTo>
                  <a:lnTo>
                    <a:pt x="432" y="339"/>
                  </a:lnTo>
                  <a:lnTo>
                    <a:pt x="423" y="339"/>
                  </a:lnTo>
                  <a:lnTo>
                    <a:pt x="398" y="339"/>
                  </a:lnTo>
                  <a:lnTo>
                    <a:pt x="357" y="348"/>
                  </a:lnTo>
                  <a:lnTo>
                    <a:pt x="315" y="348"/>
                  </a:lnTo>
                  <a:lnTo>
                    <a:pt x="256" y="339"/>
                  </a:lnTo>
                  <a:lnTo>
                    <a:pt x="189" y="333"/>
                  </a:lnTo>
                  <a:lnTo>
                    <a:pt x="133" y="307"/>
                  </a:lnTo>
                  <a:lnTo>
                    <a:pt x="66" y="281"/>
                  </a:lnTo>
                  <a:lnTo>
                    <a:pt x="0" y="1124"/>
                  </a:lnTo>
                  <a:lnTo>
                    <a:pt x="214" y="1211"/>
                  </a:lnTo>
                  <a:close/>
                </a:path>
              </a:pathLst>
            </a:custGeom>
            <a:solidFill>
              <a:srgbClr val="ff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23120" y="5172120"/>
              <a:ext cx="515880" cy="220680"/>
            </a:xfrm>
            <a:custGeom>
              <a:avLst/>
              <a:gdLst/>
              <a:ahLst/>
              <a:rect l="l" t="t" r="r" b="b"/>
              <a:pathLst>
                <a:path w="3069" h="2228">
                  <a:moveTo>
                    <a:pt x="193" y="1049"/>
                  </a:moveTo>
                  <a:lnTo>
                    <a:pt x="228" y="1237"/>
                  </a:lnTo>
                  <a:lnTo>
                    <a:pt x="294" y="1647"/>
                  </a:lnTo>
                  <a:lnTo>
                    <a:pt x="369" y="2047"/>
                  </a:lnTo>
                  <a:lnTo>
                    <a:pt x="427" y="2228"/>
                  </a:lnTo>
                  <a:lnTo>
                    <a:pt x="2987" y="1827"/>
                  </a:lnTo>
                  <a:lnTo>
                    <a:pt x="2996" y="1631"/>
                  </a:lnTo>
                  <a:lnTo>
                    <a:pt x="3018" y="1195"/>
                  </a:lnTo>
                  <a:lnTo>
                    <a:pt x="3053" y="743"/>
                  </a:lnTo>
                  <a:lnTo>
                    <a:pt x="3069" y="495"/>
                  </a:lnTo>
                  <a:lnTo>
                    <a:pt x="3053" y="0"/>
                  </a:lnTo>
                  <a:lnTo>
                    <a:pt x="402" y="307"/>
                  </a:lnTo>
                  <a:lnTo>
                    <a:pt x="396" y="307"/>
                  </a:lnTo>
                  <a:lnTo>
                    <a:pt x="369" y="307"/>
                  </a:lnTo>
                  <a:lnTo>
                    <a:pt x="335" y="307"/>
                  </a:lnTo>
                  <a:lnTo>
                    <a:pt x="294" y="307"/>
                  </a:lnTo>
                  <a:lnTo>
                    <a:pt x="243" y="307"/>
                  </a:lnTo>
                  <a:lnTo>
                    <a:pt x="193" y="301"/>
                  </a:lnTo>
                  <a:lnTo>
                    <a:pt x="142" y="281"/>
                  </a:lnTo>
                  <a:lnTo>
                    <a:pt x="86" y="259"/>
                  </a:lnTo>
                  <a:lnTo>
                    <a:pt x="0" y="982"/>
                  </a:lnTo>
                  <a:lnTo>
                    <a:pt x="193" y="1049"/>
                  </a:lnTo>
                  <a:close/>
                </a:path>
              </a:pathLst>
            </a:custGeom>
            <a:solidFill>
              <a:srgbClr val="ffe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3560" y="5175360"/>
              <a:ext cx="449640" cy="218880"/>
            </a:xfrm>
            <a:custGeom>
              <a:avLst/>
              <a:gdLst/>
              <a:ahLst/>
              <a:rect l="l" t="t" r="r" b="b"/>
              <a:pathLst>
                <a:path w="2666" h="2199">
                  <a:moveTo>
                    <a:pt x="148" y="895"/>
                  </a:moveTo>
                  <a:lnTo>
                    <a:pt x="173" y="1101"/>
                  </a:lnTo>
                  <a:lnTo>
                    <a:pt x="233" y="1553"/>
                  </a:lnTo>
                  <a:lnTo>
                    <a:pt x="299" y="2005"/>
                  </a:lnTo>
                  <a:lnTo>
                    <a:pt x="350" y="2199"/>
                  </a:lnTo>
                  <a:lnTo>
                    <a:pt x="2600" y="1840"/>
                  </a:lnTo>
                  <a:lnTo>
                    <a:pt x="2610" y="1628"/>
                  </a:lnTo>
                  <a:lnTo>
                    <a:pt x="2632" y="1159"/>
                  </a:lnTo>
                  <a:lnTo>
                    <a:pt x="2651" y="675"/>
                  </a:lnTo>
                  <a:lnTo>
                    <a:pt x="2666" y="416"/>
                  </a:lnTo>
                  <a:lnTo>
                    <a:pt x="2651" y="0"/>
                  </a:lnTo>
                  <a:lnTo>
                    <a:pt x="356" y="271"/>
                  </a:lnTo>
                  <a:lnTo>
                    <a:pt x="350" y="271"/>
                  </a:lnTo>
                  <a:lnTo>
                    <a:pt x="335" y="271"/>
                  </a:lnTo>
                  <a:lnTo>
                    <a:pt x="308" y="280"/>
                  </a:lnTo>
                  <a:lnTo>
                    <a:pt x="265" y="271"/>
                  </a:lnTo>
                  <a:lnTo>
                    <a:pt x="224" y="271"/>
                  </a:lnTo>
                  <a:lnTo>
                    <a:pt x="182" y="265"/>
                  </a:lnTo>
                  <a:lnTo>
                    <a:pt x="132" y="255"/>
                  </a:lnTo>
                  <a:lnTo>
                    <a:pt x="90" y="229"/>
                  </a:lnTo>
                  <a:lnTo>
                    <a:pt x="0" y="836"/>
                  </a:lnTo>
                  <a:lnTo>
                    <a:pt x="148" y="895"/>
                  </a:lnTo>
                  <a:close/>
                </a:path>
              </a:pathLst>
            </a:custGeom>
            <a:solidFill>
              <a:srgbClr val="f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44720" y="5180040"/>
              <a:ext cx="381600" cy="214200"/>
            </a:xfrm>
            <a:custGeom>
              <a:avLst/>
              <a:gdLst/>
              <a:ahLst/>
              <a:rect l="l" t="t" r="r" b="b"/>
              <a:pathLst>
                <a:path w="2272" h="2157">
                  <a:moveTo>
                    <a:pt x="117" y="733"/>
                  </a:moveTo>
                  <a:lnTo>
                    <a:pt x="136" y="956"/>
                  </a:lnTo>
                  <a:lnTo>
                    <a:pt x="184" y="1450"/>
                  </a:lnTo>
                  <a:lnTo>
                    <a:pt x="234" y="1937"/>
                  </a:lnTo>
                  <a:lnTo>
                    <a:pt x="279" y="2157"/>
                  </a:lnTo>
                  <a:lnTo>
                    <a:pt x="2213" y="1849"/>
                  </a:lnTo>
                  <a:lnTo>
                    <a:pt x="2222" y="1621"/>
                  </a:lnTo>
                  <a:lnTo>
                    <a:pt x="2238" y="1107"/>
                  </a:lnTo>
                  <a:lnTo>
                    <a:pt x="2253" y="588"/>
                  </a:lnTo>
                  <a:lnTo>
                    <a:pt x="2272" y="323"/>
                  </a:lnTo>
                  <a:lnTo>
                    <a:pt x="2247" y="0"/>
                  </a:lnTo>
                  <a:lnTo>
                    <a:pt x="319" y="223"/>
                  </a:lnTo>
                  <a:lnTo>
                    <a:pt x="294" y="223"/>
                  </a:lnTo>
                  <a:lnTo>
                    <a:pt x="243" y="229"/>
                  </a:lnTo>
                  <a:lnTo>
                    <a:pt x="168" y="223"/>
                  </a:lnTo>
                  <a:lnTo>
                    <a:pt x="92" y="187"/>
                  </a:lnTo>
                  <a:lnTo>
                    <a:pt x="0" y="682"/>
                  </a:lnTo>
                  <a:lnTo>
                    <a:pt x="117" y="733"/>
                  </a:lnTo>
                  <a:close/>
                </a:path>
              </a:pathLst>
            </a:custGeom>
            <a:solidFill>
              <a:srgbClr val="ffe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52640" y="5183280"/>
              <a:ext cx="314640" cy="210960"/>
            </a:xfrm>
            <a:custGeom>
              <a:avLst/>
              <a:gdLst/>
              <a:ahLst/>
              <a:rect l="l" t="t" r="r" b="b"/>
              <a:pathLst>
                <a:path w="1861" h="2122">
                  <a:moveTo>
                    <a:pt x="82" y="572"/>
                  </a:moveTo>
                  <a:lnTo>
                    <a:pt x="101" y="818"/>
                  </a:lnTo>
                  <a:lnTo>
                    <a:pt x="133" y="1347"/>
                  </a:lnTo>
                  <a:lnTo>
                    <a:pt x="174" y="1883"/>
                  </a:lnTo>
                  <a:lnTo>
                    <a:pt x="199" y="2122"/>
                  </a:lnTo>
                  <a:lnTo>
                    <a:pt x="1821" y="1857"/>
                  </a:lnTo>
                  <a:lnTo>
                    <a:pt x="1827" y="1611"/>
                  </a:lnTo>
                  <a:lnTo>
                    <a:pt x="1836" y="1066"/>
                  </a:lnTo>
                  <a:lnTo>
                    <a:pt x="1852" y="520"/>
                  </a:lnTo>
                  <a:lnTo>
                    <a:pt x="1861" y="246"/>
                  </a:lnTo>
                  <a:lnTo>
                    <a:pt x="1836" y="0"/>
                  </a:lnTo>
                  <a:lnTo>
                    <a:pt x="275" y="188"/>
                  </a:lnTo>
                  <a:lnTo>
                    <a:pt x="259" y="188"/>
                  </a:lnTo>
                  <a:lnTo>
                    <a:pt x="219" y="188"/>
                  </a:lnTo>
                  <a:lnTo>
                    <a:pt x="158" y="188"/>
                  </a:lnTo>
                  <a:lnTo>
                    <a:pt x="101" y="162"/>
                  </a:lnTo>
                  <a:lnTo>
                    <a:pt x="0" y="536"/>
                  </a:lnTo>
                  <a:lnTo>
                    <a:pt x="82" y="572"/>
                  </a:lnTo>
                  <a:close/>
                </a:path>
              </a:pathLst>
            </a:custGeom>
            <a:solidFill>
              <a:srgbClr val="ffed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63440" y="5186520"/>
              <a:ext cx="244440" cy="207720"/>
            </a:xfrm>
            <a:custGeom>
              <a:avLst/>
              <a:gdLst/>
              <a:ahLst/>
              <a:rect l="l" t="t" r="r" b="b"/>
              <a:pathLst>
                <a:path w="1454" h="2099">
                  <a:moveTo>
                    <a:pt x="51" y="421"/>
                  </a:moveTo>
                  <a:lnTo>
                    <a:pt x="60" y="685"/>
                  </a:lnTo>
                  <a:lnTo>
                    <a:pt x="85" y="1254"/>
                  </a:lnTo>
                  <a:lnTo>
                    <a:pt x="110" y="1835"/>
                  </a:lnTo>
                  <a:lnTo>
                    <a:pt x="126" y="2099"/>
                  </a:lnTo>
                  <a:lnTo>
                    <a:pt x="1429" y="1876"/>
                  </a:lnTo>
                  <a:lnTo>
                    <a:pt x="1429" y="1611"/>
                  </a:lnTo>
                  <a:lnTo>
                    <a:pt x="1444" y="1034"/>
                  </a:lnTo>
                  <a:lnTo>
                    <a:pt x="1454" y="447"/>
                  </a:lnTo>
                  <a:lnTo>
                    <a:pt x="1454" y="162"/>
                  </a:lnTo>
                  <a:lnTo>
                    <a:pt x="1438" y="0"/>
                  </a:lnTo>
                  <a:lnTo>
                    <a:pt x="234" y="156"/>
                  </a:lnTo>
                  <a:lnTo>
                    <a:pt x="227" y="156"/>
                  </a:lnTo>
                  <a:lnTo>
                    <a:pt x="193" y="156"/>
                  </a:lnTo>
                  <a:lnTo>
                    <a:pt x="151" y="156"/>
                  </a:lnTo>
                  <a:lnTo>
                    <a:pt x="110" y="136"/>
                  </a:lnTo>
                  <a:lnTo>
                    <a:pt x="0" y="395"/>
                  </a:lnTo>
                  <a:lnTo>
                    <a:pt x="51" y="421"/>
                  </a:lnTo>
                  <a:close/>
                </a:path>
              </a:pathLst>
            </a:custGeom>
            <a:solidFill>
              <a:srgbClr val="f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3880" y="5189400"/>
              <a:ext cx="174960" cy="204840"/>
            </a:xfrm>
            <a:custGeom>
              <a:avLst/>
              <a:gdLst/>
              <a:ahLst/>
              <a:rect l="l" t="t" r="r" b="b"/>
              <a:pathLst>
                <a:path w="1052" h="2063">
                  <a:moveTo>
                    <a:pt x="7" y="265"/>
                  </a:moveTo>
                  <a:lnTo>
                    <a:pt x="16" y="546"/>
                  </a:lnTo>
                  <a:lnTo>
                    <a:pt x="25" y="1159"/>
                  </a:lnTo>
                  <a:lnTo>
                    <a:pt x="41" y="1783"/>
                  </a:lnTo>
                  <a:lnTo>
                    <a:pt x="50" y="2063"/>
                  </a:lnTo>
                  <a:lnTo>
                    <a:pt x="1034" y="1892"/>
                  </a:lnTo>
                  <a:lnTo>
                    <a:pt x="1034" y="1611"/>
                  </a:lnTo>
                  <a:lnTo>
                    <a:pt x="1043" y="988"/>
                  </a:lnTo>
                  <a:lnTo>
                    <a:pt x="1052" y="365"/>
                  </a:lnTo>
                  <a:lnTo>
                    <a:pt x="1052" y="78"/>
                  </a:lnTo>
                  <a:lnTo>
                    <a:pt x="1027" y="0"/>
                  </a:lnTo>
                  <a:lnTo>
                    <a:pt x="192" y="110"/>
                  </a:lnTo>
                  <a:lnTo>
                    <a:pt x="183" y="110"/>
                  </a:lnTo>
                  <a:lnTo>
                    <a:pt x="158" y="110"/>
                  </a:lnTo>
                  <a:lnTo>
                    <a:pt x="133" y="110"/>
                  </a:lnTo>
                  <a:lnTo>
                    <a:pt x="117" y="110"/>
                  </a:lnTo>
                  <a:lnTo>
                    <a:pt x="0" y="246"/>
                  </a:lnTo>
                  <a:lnTo>
                    <a:pt x="7" y="265"/>
                  </a:lnTo>
                  <a:close/>
                </a:path>
              </a:pathLst>
            </a:custGeom>
            <a:solidFill>
              <a:srgbClr val="fff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280" y="5192640"/>
              <a:ext cx="112680" cy="201600"/>
            </a:xfrm>
            <a:custGeom>
              <a:avLst/>
              <a:gdLst/>
              <a:ahLst/>
              <a:rect l="l" t="t" r="r" b="b"/>
              <a:pathLst>
                <a:path w="670" h="2031">
                  <a:moveTo>
                    <a:pt x="0" y="103"/>
                  </a:moveTo>
                  <a:lnTo>
                    <a:pt x="0" y="2031"/>
                  </a:lnTo>
                  <a:lnTo>
                    <a:pt x="670" y="1912"/>
                  </a:lnTo>
                  <a:lnTo>
                    <a:pt x="670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31680" y="5189400"/>
              <a:ext cx="112680" cy="209520"/>
            </a:xfrm>
            <a:custGeom>
              <a:avLst/>
              <a:gdLst/>
              <a:ahLst/>
              <a:rect l="l" t="t" r="r" b="b"/>
              <a:pathLst>
                <a:path w="667" h="2105">
                  <a:moveTo>
                    <a:pt x="0" y="0"/>
                  </a:moveTo>
                  <a:lnTo>
                    <a:pt x="16" y="0"/>
                  </a:lnTo>
                  <a:lnTo>
                    <a:pt x="76" y="17"/>
                  </a:lnTo>
                  <a:lnTo>
                    <a:pt x="159" y="26"/>
                  </a:lnTo>
                  <a:lnTo>
                    <a:pt x="259" y="43"/>
                  </a:lnTo>
                  <a:lnTo>
                    <a:pt x="366" y="68"/>
                  </a:lnTo>
                  <a:lnTo>
                    <a:pt x="477" y="78"/>
                  </a:lnTo>
                  <a:lnTo>
                    <a:pt x="584" y="94"/>
                  </a:lnTo>
                  <a:lnTo>
                    <a:pt x="667" y="94"/>
                  </a:lnTo>
                  <a:lnTo>
                    <a:pt x="626" y="2105"/>
                  </a:lnTo>
                  <a:lnTo>
                    <a:pt x="0" y="19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28160" y="5200560"/>
              <a:ext cx="21960" cy="195480"/>
            </a:xfrm>
            <a:custGeom>
              <a:avLst/>
              <a:gdLst/>
              <a:ahLst/>
              <a:rect l="l" t="t" r="r" b="b"/>
              <a:pathLst>
                <a:path w="142" h="1973">
                  <a:moveTo>
                    <a:pt x="0" y="0"/>
                  </a:moveTo>
                  <a:lnTo>
                    <a:pt x="0" y="1947"/>
                  </a:lnTo>
                  <a:lnTo>
                    <a:pt x="15" y="1954"/>
                  </a:lnTo>
                  <a:lnTo>
                    <a:pt x="51" y="1973"/>
                  </a:lnTo>
                  <a:lnTo>
                    <a:pt x="92" y="1973"/>
                  </a:lnTo>
                  <a:lnTo>
                    <a:pt x="142" y="1928"/>
                  </a:lnTo>
                  <a:lnTo>
                    <a:pt x="14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60560" y="5153040"/>
              <a:ext cx="1041480" cy="230040"/>
            </a:xfrm>
            <a:custGeom>
              <a:avLst/>
              <a:gdLst/>
              <a:ahLst/>
              <a:rect l="l" t="t" r="r" b="b"/>
              <a:pathLst>
                <a:path w="6198" h="2322">
                  <a:moveTo>
                    <a:pt x="0" y="674"/>
                  </a:moveTo>
                  <a:lnTo>
                    <a:pt x="0" y="2251"/>
                  </a:lnTo>
                  <a:lnTo>
                    <a:pt x="10" y="2260"/>
                  </a:lnTo>
                  <a:lnTo>
                    <a:pt x="25" y="2287"/>
                  </a:lnTo>
                  <a:lnTo>
                    <a:pt x="60" y="2312"/>
                  </a:lnTo>
                  <a:lnTo>
                    <a:pt x="117" y="2322"/>
                  </a:lnTo>
                  <a:lnTo>
                    <a:pt x="6065" y="1408"/>
                  </a:lnTo>
                  <a:lnTo>
                    <a:pt x="6081" y="1398"/>
                  </a:lnTo>
                  <a:lnTo>
                    <a:pt x="6132" y="1366"/>
                  </a:lnTo>
                  <a:lnTo>
                    <a:pt x="6176" y="1315"/>
                  </a:lnTo>
                  <a:lnTo>
                    <a:pt x="6198" y="1263"/>
                  </a:lnTo>
                  <a:lnTo>
                    <a:pt x="6198" y="42"/>
                  </a:lnTo>
                  <a:lnTo>
                    <a:pt x="6198" y="35"/>
                  </a:lnTo>
                  <a:lnTo>
                    <a:pt x="6182" y="16"/>
                  </a:lnTo>
                  <a:lnTo>
                    <a:pt x="6141" y="0"/>
                  </a:lnTo>
                  <a:lnTo>
                    <a:pt x="6065" y="0"/>
                  </a:lnTo>
                  <a:lnTo>
                    <a:pt x="92" y="633"/>
                  </a:lnTo>
                  <a:lnTo>
                    <a:pt x="83" y="633"/>
                  </a:lnTo>
                  <a:lnTo>
                    <a:pt x="50" y="639"/>
                  </a:lnTo>
                  <a:lnTo>
                    <a:pt x="25" y="659"/>
                  </a:lnTo>
                  <a:lnTo>
                    <a:pt x="0" y="674"/>
                  </a:lnTo>
                  <a:close/>
                </a:path>
              </a:pathLst>
            </a:custGeom>
            <a:solidFill>
              <a:srgbClr val="ba8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28800" y="5127480"/>
              <a:ext cx="1197360" cy="76320"/>
            </a:xfrm>
            <a:custGeom>
              <a:avLst/>
              <a:gdLst/>
              <a:ahLst/>
              <a:rect l="l" t="t" r="r" b="b"/>
              <a:pathLst>
                <a:path w="7110" h="768">
                  <a:moveTo>
                    <a:pt x="0" y="633"/>
                  </a:moveTo>
                  <a:lnTo>
                    <a:pt x="6633" y="0"/>
                  </a:lnTo>
                  <a:lnTo>
                    <a:pt x="7110" y="87"/>
                  </a:lnTo>
                  <a:lnTo>
                    <a:pt x="660" y="76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ba8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1360" y="5157720"/>
              <a:ext cx="1027440" cy="220680"/>
            </a:xfrm>
            <a:custGeom>
              <a:avLst/>
              <a:gdLst/>
              <a:ahLst/>
              <a:rect l="l" t="t" r="r" b="b"/>
              <a:pathLst>
                <a:path w="6109" h="2218">
                  <a:moveTo>
                    <a:pt x="0" y="649"/>
                  </a:moveTo>
                  <a:lnTo>
                    <a:pt x="0" y="2160"/>
                  </a:lnTo>
                  <a:lnTo>
                    <a:pt x="9" y="2166"/>
                  </a:lnTo>
                  <a:lnTo>
                    <a:pt x="25" y="2186"/>
                  </a:lnTo>
                  <a:lnTo>
                    <a:pt x="59" y="2209"/>
                  </a:lnTo>
                  <a:lnTo>
                    <a:pt x="117" y="2218"/>
                  </a:lnTo>
                  <a:lnTo>
                    <a:pt x="5973" y="1350"/>
                  </a:lnTo>
                  <a:lnTo>
                    <a:pt x="5992" y="1340"/>
                  </a:lnTo>
                  <a:lnTo>
                    <a:pt x="6039" y="1308"/>
                  </a:lnTo>
                  <a:lnTo>
                    <a:pt x="6084" y="1262"/>
                  </a:lnTo>
                  <a:lnTo>
                    <a:pt x="6109" y="1211"/>
                  </a:lnTo>
                  <a:lnTo>
                    <a:pt x="6109" y="45"/>
                  </a:lnTo>
                  <a:lnTo>
                    <a:pt x="6109" y="36"/>
                  </a:lnTo>
                  <a:lnTo>
                    <a:pt x="6090" y="19"/>
                  </a:lnTo>
                  <a:lnTo>
                    <a:pt x="6048" y="0"/>
                  </a:lnTo>
                  <a:lnTo>
                    <a:pt x="5973" y="0"/>
                  </a:lnTo>
                  <a:lnTo>
                    <a:pt x="91" y="607"/>
                  </a:lnTo>
                  <a:lnTo>
                    <a:pt x="84" y="607"/>
                  </a:lnTo>
                  <a:lnTo>
                    <a:pt x="50" y="617"/>
                  </a:lnTo>
                  <a:lnTo>
                    <a:pt x="25" y="63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ff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76760" y="5160960"/>
              <a:ext cx="965520" cy="217440"/>
            </a:xfrm>
            <a:custGeom>
              <a:avLst/>
              <a:gdLst/>
              <a:ahLst/>
              <a:rect l="l" t="t" r="r" b="b"/>
              <a:pathLst>
                <a:path w="5749" h="2182">
                  <a:moveTo>
                    <a:pt x="0" y="2030"/>
                  </a:moveTo>
                  <a:lnTo>
                    <a:pt x="9" y="2056"/>
                  </a:lnTo>
                  <a:lnTo>
                    <a:pt x="25" y="2105"/>
                  </a:lnTo>
                  <a:lnTo>
                    <a:pt x="59" y="2156"/>
                  </a:lnTo>
                  <a:lnTo>
                    <a:pt x="107" y="2182"/>
                  </a:lnTo>
                  <a:lnTo>
                    <a:pt x="5622" y="1365"/>
                  </a:lnTo>
                  <a:lnTo>
                    <a:pt x="5641" y="1340"/>
                  </a:lnTo>
                  <a:lnTo>
                    <a:pt x="5682" y="1272"/>
                  </a:lnTo>
                  <a:lnTo>
                    <a:pt x="5724" y="1201"/>
                  </a:lnTo>
                  <a:lnTo>
                    <a:pt x="5749" y="1132"/>
                  </a:lnTo>
                  <a:lnTo>
                    <a:pt x="5749" y="35"/>
                  </a:lnTo>
                  <a:lnTo>
                    <a:pt x="5749" y="25"/>
                  </a:lnTo>
                  <a:lnTo>
                    <a:pt x="5733" y="16"/>
                  </a:lnTo>
                  <a:lnTo>
                    <a:pt x="5689" y="0"/>
                  </a:lnTo>
                  <a:lnTo>
                    <a:pt x="5622" y="0"/>
                  </a:lnTo>
                  <a:lnTo>
                    <a:pt x="92" y="571"/>
                  </a:lnTo>
                  <a:lnTo>
                    <a:pt x="86" y="571"/>
                  </a:lnTo>
                  <a:lnTo>
                    <a:pt x="50" y="581"/>
                  </a:lnTo>
                  <a:lnTo>
                    <a:pt x="25" y="596"/>
                  </a:lnTo>
                  <a:lnTo>
                    <a:pt x="0" y="613"/>
                  </a:lnTo>
                  <a:lnTo>
                    <a:pt x="0" y="2030"/>
                  </a:lnTo>
                  <a:close/>
                </a:path>
              </a:pathLst>
            </a:custGeom>
            <a:solidFill>
              <a:srgbClr val="ff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79280" y="5164200"/>
              <a:ext cx="906480" cy="214200"/>
            </a:xfrm>
            <a:custGeom>
              <a:avLst/>
              <a:gdLst/>
              <a:ahLst/>
              <a:rect l="l" t="t" r="r" b="b"/>
              <a:pathLst>
                <a:path w="5382" h="2147">
                  <a:moveTo>
                    <a:pt x="0" y="1892"/>
                  </a:moveTo>
                  <a:lnTo>
                    <a:pt x="0" y="1934"/>
                  </a:lnTo>
                  <a:lnTo>
                    <a:pt x="16" y="2021"/>
                  </a:lnTo>
                  <a:lnTo>
                    <a:pt x="50" y="2106"/>
                  </a:lnTo>
                  <a:lnTo>
                    <a:pt x="101" y="2147"/>
                  </a:lnTo>
                  <a:lnTo>
                    <a:pt x="5272" y="1373"/>
                  </a:lnTo>
                  <a:lnTo>
                    <a:pt x="5291" y="1330"/>
                  </a:lnTo>
                  <a:lnTo>
                    <a:pt x="5322" y="1237"/>
                  </a:lnTo>
                  <a:lnTo>
                    <a:pt x="5364" y="1134"/>
                  </a:lnTo>
                  <a:lnTo>
                    <a:pt x="5382" y="1056"/>
                  </a:lnTo>
                  <a:lnTo>
                    <a:pt x="5382" y="33"/>
                  </a:lnTo>
                  <a:lnTo>
                    <a:pt x="5382" y="22"/>
                  </a:lnTo>
                  <a:lnTo>
                    <a:pt x="5364" y="16"/>
                  </a:lnTo>
                  <a:lnTo>
                    <a:pt x="5332" y="0"/>
                  </a:lnTo>
                  <a:lnTo>
                    <a:pt x="5266" y="0"/>
                  </a:lnTo>
                  <a:lnTo>
                    <a:pt x="82" y="536"/>
                  </a:lnTo>
                  <a:lnTo>
                    <a:pt x="76" y="536"/>
                  </a:lnTo>
                  <a:lnTo>
                    <a:pt x="50" y="546"/>
                  </a:lnTo>
                  <a:lnTo>
                    <a:pt x="16" y="552"/>
                  </a:lnTo>
                  <a:lnTo>
                    <a:pt x="0" y="569"/>
                  </a:lnTo>
                  <a:lnTo>
                    <a:pt x="0" y="1892"/>
                  </a:lnTo>
                  <a:close/>
                </a:path>
              </a:pathLst>
            </a:custGeom>
            <a:solidFill>
              <a:srgbClr val="ff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4680" y="5167440"/>
              <a:ext cx="844920" cy="209520"/>
            </a:xfrm>
            <a:custGeom>
              <a:avLst/>
              <a:gdLst/>
              <a:ahLst/>
              <a:rect l="l" t="t" r="r" b="b"/>
              <a:pathLst>
                <a:path w="5022" h="2105">
                  <a:moveTo>
                    <a:pt x="0" y="1756"/>
                  </a:moveTo>
                  <a:lnTo>
                    <a:pt x="0" y="1808"/>
                  </a:lnTo>
                  <a:lnTo>
                    <a:pt x="16" y="1927"/>
                  </a:lnTo>
                  <a:lnTo>
                    <a:pt x="42" y="2056"/>
                  </a:lnTo>
                  <a:lnTo>
                    <a:pt x="92" y="2105"/>
                  </a:lnTo>
                  <a:lnTo>
                    <a:pt x="4915" y="1391"/>
                  </a:lnTo>
                  <a:lnTo>
                    <a:pt x="4931" y="1329"/>
                  </a:lnTo>
                  <a:lnTo>
                    <a:pt x="4962" y="1210"/>
                  </a:lnTo>
                  <a:lnTo>
                    <a:pt x="5007" y="1064"/>
                  </a:lnTo>
                  <a:lnTo>
                    <a:pt x="5022" y="981"/>
                  </a:lnTo>
                  <a:lnTo>
                    <a:pt x="5022" y="35"/>
                  </a:lnTo>
                  <a:lnTo>
                    <a:pt x="5022" y="25"/>
                  </a:lnTo>
                  <a:lnTo>
                    <a:pt x="5007" y="15"/>
                  </a:lnTo>
                  <a:lnTo>
                    <a:pt x="4982" y="0"/>
                  </a:lnTo>
                  <a:lnTo>
                    <a:pt x="4915" y="0"/>
                  </a:lnTo>
                  <a:lnTo>
                    <a:pt x="83" y="493"/>
                  </a:lnTo>
                  <a:lnTo>
                    <a:pt x="76" y="493"/>
                  </a:lnTo>
                  <a:lnTo>
                    <a:pt x="51" y="503"/>
                  </a:lnTo>
                  <a:lnTo>
                    <a:pt x="16" y="513"/>
                  </a:lnTo>
                  <a:lnTo>
                    <a:pt x="0" y="528"/>
                  </a:lnTo>
                  <a:lnTo>
                    <a:pt x="0" y="1756"/>
                  </a:lnTo>
                  <a:close/>
                </a:path>
              </a:pathLst>
            </a:custGeom>
            <a:solidFill>
              <a:srgbClr val="ff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7200" y="5172120"/>
              <a:ext cx="785520" cy="204840"/>
            </a:xfrm>
            <a:custGeom>
              <a:avLst/>
              <a:gdLst/>
              <a:ahLst/>
              <a:rect l="l" t="t" r="r" b="b"/>
              <a:pathLst>
                <a:path w="4671" h="2070">
                  <a:moveTo>
                    <a:pt x="0" y="1627"/>
                  </a:moveTo>
                  <a:lnTo>
                    <a:pt x="9" y="1695"/>
                  </a:lnTo>
                  <a:lnTo>
                    <a:pt x="26" y="1850"/>
                  </a:lnTo>
                  <a:lnTo>
                    <a:pt x="51" y="2002"/>
                  </a:lnTo>
                  <a:lnTo>
                    <a:pt x="92" y="2070"/>
                  </a:lnTo>
                  <a:lnTo>
                    <a:pt x="4573" y="1399"/>
                  </a:lnTo>
                  <a:lnTo>
                    <a:pt x="4589" y="1330"/>
                  </a:lnTo>
                  <a:lnTo>
                    <a:pt x="4621" y="1169"/>
                  </a:lnTo>
                  <a:lnTo>
                    <a:pt x="4656" y="1004"/>
                  </a:lnTo>
                  <a:lnTo>
                    <a:pt x="4671" y="904"/>
                  </a:lnTo>
                  <a:lnTo>
                    <a:pt x="4665" y="26"/>
                  </a:lnTo>
                  <a:lnTo>
                    <a:pt x="4665" y="16"/>
                  </a:lnTo>
                  <a:lnTo>
                    <a:pt x="4656" y="6"/>
                  </a:lnTo>
                  <a:lnTo>
                    <a:pt x="4621" y="0"/>
                  </a:lnTo>
                  <a:lnTo>
                    <a:pt x="4573" y="0"/>
                  </a:lnTo>
                  <a:lnTo>
                    <a:pt x="85" y="458"/>
                  </a:lnTo>
                  <a:lnTo>
                    <a:pt x="76" y="458"/>
                  </a:lnTo>
                  <a:lnTo>
                    <a:pt x="51" y="468"/>
                  </a:lnTo>
                  <a:lnTo>
                    <a:pt x="35" y="478"/>
                  </a:lnTo>
                  <a:lnTo>
                    <a:pt x="20" y="493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ffe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90440" y="5175360"/>
              <a:ext cx="725760" cy="201600"/>
            </a:xfrm>
            <a:custGeom>
              <a:avLst/>
              <a:gdLst/>
              <a:ahLst/>
              <a:rect l="l" t="t" r="r" b="b"/>
              <a:pathLst>
                <a:path w="4313" h="2037">
                  <a:moveTo>
                    <a:pt x="0" y="1491"/>
                  </a:moveTo>
                  <a:lnTo>
                    <a:pt x="9" y="1578"/>
                  </a:lnTo>
                  <a:lnTo>
                    <a:pt x="15" y="1765"/>
                  </a:lnTo>
                  <a:lnTo>
                    <a:pt x="41" y="1953"/>
                  </a:lnTo>
                  <a:lnTo>
                    <a:pt x="84" y="2037"/>
                  </a:lnTo>
                  <a:lnTo>
                    <a:pt x="4222" y="1417"/>
                  </a:lnTo>
                  <a:lnTo>
                    <a:pt x="4237" y="1329"/>
                  </a:lnTo>
                  <a:lnTo>
                    <a:pt x="4263" y="1142"/>
                  </a:lnTo>
                  <a:lnTo>
                    <a:pt x="4295" y="939"/>
                  </a:lnTo>
                  <a:lnTo>
                    <a:pt x="4313" y="825"/>
                  </a:lnTo>
                  <a:lnTo>
                    <a:pt x="4304" y="26"/>
                  </a:lnTo>
                  <a:lnTo>
                    <a:pt x="4304" y="15"/>
                  </a:lnTo>
                  <a:lnTo>
                    <a:pt x="4295" y="9"/>
                  </a:lnTo>
                  <a:lnTo>
                    <a:pt x="4263" y="0"/>
                  </a:lnTo>
                  <a:lnTo>
                    <a:pt x="4212" y="0"/>
                  </a:lnTo>
                  <a:lnTo>
                    <a:pt x="84" y="425"/>
                  </a:lnTo>
                  <a:lnTo>
                    <a:pt x="75" y="425"/>
                  </a:lnTo>
                  <a:lnTo>
                    <a:pt x="50" y="435"/>
                  </a:lnTo>
                  <a:lnTo>
                    <a:pt x="34" y="445"/>
                  </a:lnTo>
                  <a:lnTo>
                    <a:pt x="15" y="451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ff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95840" y="5178600"/>
              <a:ext cx="661320" cy="198360"/>
            </a:xfrm>
            <a:custGeom>
              <a:avLst/>
              <a:gdLst/>
              <a:ahLst/>
              <a:rect l="l" t="t" r="r" b="b"/>
              <a:pathLst>
                <a:path w="3944" h="1995">
                  <a:moveTo>
                    <a:pt x="0" y="1356"/>
                  </a:moveTo>
                  <a:lnTo>
                    <a:pt x="0" y="1456"/>
                  </a:lnTo>
                  <a:lnTo>
                    <a:pt x="16" y="1669"/>
                  </a:lnTo>
                  <a:lnTo>
                    <a:pt x="41" y="1892"/>
                  </a:lnTo>
                  <a:lnTo>
                    <a:pt x="75" y="1995"/>
                  </a:lnTo>
                  <a:lnTo>
                    <a:pt x="3871" y="1423"/>
                  </a:lnTo>
                  <a:lnTo>
                    <a:pt x="3877" y="1320"/>
                  </a:lnTo>
                  <a:lnTo>
                    <a:pt x="3913" y="1101"/>
                  </a:lnTo>
                  <a:lnTo>
                    <a:pt x="3938" y="869"/>
                  </a:lnTo>
                  <a:lnTo>
                    <a:pt x="3944" y="749"/>
                  </a:lnTo>
                  <a:lnTo>
                    <a:pt x="3944" y="16"/>
                  </a:lnTo>
                  <a:lnTo>
                    <a:pt x="3938" y="6"/>
                  </a:lnTo>
                  <a:lnTo>
                    <a:pt x="3913" y="0"/>
                  </a:lnTo>
                  <a:lnTo>
                    <a:pt x="3862" y="0"/>
                  </a:lnTo>
                  <a:lnTo>
                    <a:pt x="75" y="390"/>
                  </a:lnTo>
                  <a:lnTo>
                    <a:pt x="66" y="390"/>
                  </a:lnTo>
                  <a:lnTo>
                    <a:pt x="50" y="390"/>
                  </a:lnTo>
                  <a:lnTo>
                    <a:pt x="34" y="400"/>
                  </a:lnTo>
                  <a:lnTo>
                    <a:pt x="16" y="416"/>
                  </a:lnTo>
                  <a:lnTo>
                    <a:pt x="0" y="1356"/>
                  </a:lnTo>
                  <a:close/>
                </a:path>
              </a:pathLst>
            </a:custGeom>
            <a:solidFill>
              <a:srgbClr val="ff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00520" y="5181480"/>
              <a:ext cx="602640" cy="195480"/>
            </a:xfrm>
            <a:custGeom>
              <a:avLst/>
              <a:gdLst/>
              <a:ahLst/>
              <a:rect l="l" t="t" r="r" b="b"/>
              <a:pathLst>
                <a:path w="3587" h="1963">
                  <a:moveTo>
                    <a:pt x="0" y="1230"/>
                  </a:moveTo>
                  <a:lnTo>
                    <a:pt x="0" y="1340"/>
                  </a:lnTo>
                  <a:lnTo>
                    <a:pt x="16" y="1595"/>
                  </a:lnTo>
                  <a:lnTo>
                    <a:pt x="34" y="1853"/>
                  </a:lnTo>
                  <a:lnTo>
                    <a:pt x="67" y="1963"/>
                  </a:lnTo>
                  <a:lnTo>
                    <a:pt x="3511" y="1443"/>
                  </a:lnTo>
                  <a:lnTo>
                    <a:pt x="3520" y="1330"/>
                  </a:lnTo>
                  <a:lnTo>
                    <a:pt x="3543" y="1075"/>
                  </a:lnTo>
                  <a:lnTo>
                    <a:pt x="3568" y="811"/>
                  </a:lnTo>
                  <a:lnTo>
                    <a:pt x="3587" y="675"/>
                  </a:lnTo>
                  <a:lnTo>
                    <a:pt x="3578" y="19"/>
                  </a:lnTo>
                  <a:lnTo>
                    <a:pt x="3568" y="10"/>
                  </a:lnTo>
                  <a:lnTo>
                    <a:pt x="3543" y="0"/>
                  </a:lnTo>
                  <a:lnTo>
                    <a:pt x="3502" y="0"/>
                  </a:lnTo>
                  <a:lnTo>
                    <a:pt x="76" y="352"/>
                  </a:lnTo>
                  <a:lnTo>
                    <a:pt x="67" y="352"/>
                  </a:lnTo>
                  <a:lnTo>
                    <a:pt x="50" y="358"/>
                  </a:lnTo>
                  <a:lnTo>
                    <a:pt x="34" y="368"/>
                  </a:lnTo>
                  <a:lnTo>
                    <a:pt x="16" y="378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03760" y="5184720"/>
              <a:ext cx="543600" cy="192240"/>
            </a:xfrm>
            <a:custGeom>
              <a:avLst/>
              <a:gdLst/>
              <a:ahLst/>
              <a:rect l="l" t="t" r="r" b="b"/>
              <a:pathLst>
                <a:path w="3227" h="1927">
                  <a:moveTo>
                    <a:pt x="0" y="1091"/>
                  </a:moveTo>
                  <a:lnTo>
                    <a:pt x="0" y="1220"/>
                  </a:lnTo>
                  <a:lnTo>
                    <a:pt x="16" y="1508"/>
                  </a:lnTo>
                  <a:lnTo>
                    <a:pt x="32" y="1797"/>
                  </a:lnTo>
                  <a:lnTo>
                    <a:pt x="57" y="1927"/>
                  </a:lnTo>
                  <a:lnTo>
                    <a:pt x="3160" y="1449"/>
                  </a:lnTo>
                  <a:lnTo>
                    <a:pt x="3171" y="1320"/>
                  </a:lnTo>
                  <a:lnTo>
                    <a:pt x="3193" y="1033"/>
                  </a:lnTo>
                  <a:lnTo>
                    <a:pt x="3211" y="742"/>
                  </a:lnTo>
                  <a:lnTo>
                    <a:pt x="3227" y="597"/>
                  </a:lnTo>
                  <a:lnTo>
                    <a:pt x="3218" y="15"/>
                  </a:lnTo>
                  <a:lnTo>
                    <a:pt x="3211" y="9"/>
                  </a:lnTo>
                  <a:lnTo>
                    <a:pt x="3193" y="0"/>
                  </a:lnTo>
                  <a:lnTo>
                    <a:pt x="3151" y="0"/>
                  </a:lnTo>
                  <a:lnTo>
                    <a:pt x="67" y="316"/>
                  </a:lnTo>
                  <a:lnTo>
                    <a:pt x="57" y="316"/>
                  </a:lnTo>
                  <a:lnTo>
                    <a:pt x="42" y="316"/>
                  </a:lnTo>
                  <a:lnTo>
                    <a:pt x="25" y="322"/>
                  </a:lnTo>
                  <a:lnTo>
                    <a:pt x="16" y="332"/>
                  </a:lnTo>
                  <a:lnTo>
                    <a:pt x="0" y="1091"/>
                  </a:lnTo>
                  <a:close/>
                </a:path>
              </a:pathLst>
            </a:custGeom>
            <a:solidFill>
              <a:srgbClr val="ffe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09160" y="5187960"/>
              <a:ext cx="481320" cy="187200"/>
            </a:xfrm>
            <a:custGeom>
              <a:avLst/>
              <a:gdLst/>
              <a:ahLst/>
              <a:rect l="l" t="t" r="r" b="b"/>
              <a:pathLst>
                <a:path w="2867" h="1885">
                  <a:moveTo>
                    <a:pt x="0" y="966"/>
                  </a:moveTo>
                  <a:lnTo>
                    <a:pt x="0" y="1111"/>
                  </a:lnTo>
                  <a:lnTo>
                    <a:pt x="7" y="1427"/>
                  </a:lnTo>
                  <a:lnTo>
                    <a:pt x="26" y="1740"/>
                  </a:lnTo>
                  <a:lnTo>
                    <a:pt x="51" y="1885"/>
                  </a:lnTo>
                  <a:lnTo>
                    <a:pt x="2811" y="1469"/>
                  </a:lnTo>
                  <a:lnTo>
                    <a:pt x="2820" y="1323"/>
                  </a:lnTo>
                  <a:lnTo>
                    <a:pt x="2836" y="1007"/>
                  </a:lnTo>
                  <a:lnTo>
                    <a:pt x="2851" y="684"/>
                  </a:lnTo>
                  <a:lnTo>
                    <a:pt x="2867" y="523"/>
                  </a:lnTo>
                  <a:lnTo>
                    <a:pt x="2851" y="9"/>
                  </a:lnTo>
                  <a:lnTo>
                    <a:pt x="2842" y="0"/>
                  </a:lnTo>
                  <a:lnTo>
                    <a:pt x="2826" y="0"/>
                  </a:lnTo>
                  <a:lnTo>
                    <a:pt x="2800" y="0"/>
                  </a:lnTo>
                  <a:lnTo>
                    <a:pt x="67" y="284"/>
                  </a:lnTo>
                  <a:lnTo>
                    <a:pt x="57" y="284"/>
                  </a:lnTo>
                  <a:lnTo>
                    <a:pt x="51" y="284"/>
                  </a:lnTo>
                  <a:lnTo>
                    <a:pt x="32" y="290"/>
                  </a:lnTo>
                  <a:lnTo>
                    <a:pt x="26" y="300"/>
                  </a:lnTo>
                  <a:lnTo>
                    <a:pt x="0" y="966"/>
                  </a:lnTo>
                  <a:close/>
                </a:path>
              </a:pathLst>
            </a:custGeom>
            <a:solidFill>
              <a:srgbClr val="ffe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1680" y="5191200"/>
              <a:ext cx="421920" cy="183960"/>
            </a:xfrm>
            <a:custGeom>
              <a:avLst/>
              <a:gdLst/>
              <a:ahLst/>
              <a:rect l="l" t="t" r="r" b="b"/>
              <a:pathLst>
                <a:path w="2500" h="1849">
                  <a:moveTo>
                    <a:pt x="0" y="825"/>
                  </a:moveTo>
                  <a:lnTo>
                    <a:pt x="0" y="987"/>
                  </a:lnTo>
                  <a:lnTo>
                    <a:pt x="6" y="1339"/>
                  </a:lnTo>
                  <a:lnTo>
                    <a:pt x="25" y="1688"/>
                  </a:lnTo>
                  <a:lnTo>
                    <a:pt x="41" y="1849"/>
                  </a:lnTo>
                  <a:lnTo>
                    <a:pt x="2450" y="1475"/>
                  </a:lnTo>
                  <a:lnTo>
                    <a:pt x="2459" y="1320"/>
                  </a:lnTo>
                  <a:lnTo>
                    <a:pt x="2475" y="971"/>
                  </a:lnTo>
                  <a:lnTo>
                    <a:pt x="2490" y="622"/>
                  </a:lnTo>
                  <a:lnTo>
                    <a:pt x="2500" y="451"/>
                  </a:lnTo>
                  <a:lnTo>
                    <a:pt x="2490" y="9"/>
                  </a:lnTo>
                  <a:lnTo>
                    <a:pt x="2484" y="0"/>
                  </a:lnTo>
                  <a:lnTo>
                    <a:pt x="2468" y="0"/>
                  </a:lnTo>
                  <a:lnTo>
                    <a:pt x="2442" y="0"/>
                  </a:lnTo>
                  <a:lnTo>
                    <a:pt x="56" y="238"/>
                  </a:lnTo>
                  <a:lnTo>
                    <a:pt x="41" y="248"/>
                  </a:lnTo>
                  <a:lnTo>
                    <a:pt x="31" y="248"/>
                  </a:lnTo>
                  <a:lnTo>
                    <a:pt x="25" y="254"/>
                  </a:lnTo>
                  <a:lnTo>
                    <a:pt x="0" y="825"/>
                  </a:lnTo>
                  <a:close/>
                </a:path>
              </a:pathLst>
            </a:custGeom>
            <a:solidFill>
              <a:srgbClr val="ff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7080" y="5195880"/>
              <a:ext cx="360360" cy="179280"/>
            </a:xfrm>
            <a:custGeom>
              <a:avLst/>
              <a:gdLst/>
              <a:ahLst/>
              <a:rect l="l" t="t" r="r" b="b"/>
              <a:pathLst>
                <a:path w="2149" h="1814">
                  <a:moveTo>
                    <a:pt x="0" y="691"/>
                  </a:moveTo>
                  <a:lnTo>
                    <a:pt x="0" y="869"/>
                  </a:lnTo>
                  <a:lnTo>
                    <a:pt x="6" y="1252"/>
                  </a:lnTo>
                  <a:lnTo>
                    <a:pt x="16" y="1637"/>
                  </a:lnTo>
                  <a:lnTo>
                    <a:pt x="31" y="1814"/>
                  </a:lnTo>
                  <a:lnTo>
                    <a:pt x="2108" y="1491"/>
                  </a:lnTo>
                  <a:lnTo>
                    <a:pt x="2118" y="1320"/>
                  </a:lnTo>
                  <a:lnTo>
                    <a:pt x="2133" y="936"/>
                  </a:lnTo>
                  <a:lnTo>
                    <a:pt x="2140" y="552"/>
                  </a:lnTo>
                  <a:lnTo>
                    <a:pt x="2149" y="374"/>
                  </a:lnTo>
                  <a:lnTo>
                    <a:pt x="2140" y="6"/>
                  </a:lnTo>
                  <a:lnTo>
                    <a:pt x="2133" y="0"/>
                  </a:lnTo>
                  <a:lnTo>
                    <a:pt x="2124" y="0"/>
                  </a:lnTo>
                  <a:lnTo>
                    <a:pt x="2099" y="0"/>
                  </a:lnTo>
                  <a:lnTo>
                    <a:pt x="57" y="203"/>
                  </a:lnTo>
                  <a:lnTo>
                    <a:pt x="41" y="203"/>
                  </a:lnTo>
                  <a:lnTo>
                    <a:pt x="31" y="213"/>
                  </a:lnTo>
                  <a:lnTo>
                    <a:pt x="25" y="219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19600" y="5197320"/>
              <a:ext cx="301320" cy="177840"/>
            </a:xfrm>
            <a:custGeom>
              <a:avLst/>
              <a:gdLst/>
              <a:ahLst/>
              <a:rect l="l" t="t" r="r" b="b"/>
              <a:pathLst>
                <a:path w="1792" h="1782">
                  <a:moveTo>
                    <a:pt x="0" y="571"/>
                  </a:moveTo>
                  <a:lnTo>
                    <a:pt x="0" y="758"/>
                  </a:lnTo>
                  <a:lnTo>
                    <a:pt x="6" y="1175"/>
                  </a:lnTo>
                  <a:lnTo>
                    <a:pt x="16" y="1591"/>
                  </a:lnTo>
                  <a:lnTo>
                    <a:pt x="25" y="1782"/>
                  </a:lnTo>
                  <a:lnTo>
                    <a:pt x="1761" y="1508"/>
                  </a:lnTo>
                  <a:lnTo>
                    <a:pt x="1770" y="1320"/>
                  </a:lnTo>
                  <a:lnTo>
                    <a:pt x="1777" y="910"/>
                  </a:lnTo>
                  <a:lnTo>
                    <a:pt x="1786" y="501"/>
                  </a:lnTo>
                  <a:lnTo>
                    <a:pt x="1792" y="307"/>
                  </a:lnTo>
                  <a:lnTo>
                    <a:pt x="1777" y="6"/>
                  </a:lnTo>
                  <a:lnTo>
                    <a:pt x="1777" y="0"/>
                  </a:lnTo>
                  <a:lnTo>
                    <a:pt x="1761" y="0"/>
                  </a:lnTo>
                  <a:lnTo>
                    <a:pt x="1745" y="0"/>
                  </a:lnTo>
                  <a:lnTo>
                    <a:pt x="48" y="177"/>
                  </a:lnTo>
                  <a:lnTo>
                    <a:pt x="42" y="177"/>
                  </a:lnTo>
                  <a:lnTo>
                    <a:pt x="32" y="177"/>
                  </a:lnTo>
                  <a:lnTo>
                    <a:pt x="25" y="187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ff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5000" y="5200560"/>
              <a:ext cx="241920" cy="174600"/>
            </a:xfrm>
            <a:custGeom>
              <a:avLst/>
              <a:gdLst/>
              <a:ahLst/>
              <a:rect l="l" t="t" r="r" b="b"/>
              <a:pathLst>
                <a:path w="1435" h="1750">
                  <a:moveTo>
                    <a:pt x="0" y="436"/>
                  </a:moveTo>
                  <a:lnTo>
                    <a:pt x="0" y="640"/>
                  </a:lnTo>
                  <a:lnTo>
                    <a:pt x="0" y="1091"/>
                  </a:lnTo>
                  <a:lnTo>
                    <a:pt x="7" y="1544"/>
                  </a:lnTo>
                  <a:lnTo>
                    <a:pt x="17" y="1750"/>
                  </a:lnTo>
                  <a:lnTo>
                    <a:pt x="1410" y="1527"/>
                  </a:lnTo>
                  <a:lnTo>
                    <a:pt x="1410" y="1324"/>
                  </a:lnTo>
                  <a:lnTo>
                    <a:pt x="1420" y="878"/>
                  </a:lnTo>
                  <a:lnTo>
                    <a:pt x="1426" y="436"/>
                  </a:lnTo>
                  <a:lnTo>
                    <a:pt x="1435" y="229"/>
                  </a:lnTo>
                  <a:lnTo>
                    <a:pt x="1420" y="10"/>
                  </a:lnTo>
                  <a:lnTo>
                    <a:pt x="1420" y="0"/>
                  </a:lnTo>
                  <a:lnTo>
                    <a:pt x="1410" y="0"/>
                  </a:lnTo>
                  <a:lnTo>
                    <a:pt x="1395" y="0"/>
                  </a:lnTo>
                  <a:lnTo>
                    <a:pt x="48" y="145"/>
                  </a:lnTo>
                  <a:lnTo>
                    <a:pt x="42" y="145"/>
                  </a:lnTo>
                  <a:lnTo>
                    <a:pt x="33" y="145"/>
                  </a:lnTo>
                  <a:lnTo>
                    <a:pt x="23" y="145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ff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28240" y="5203800"/>
              <a:ext cx="179640" cy="171360"/>
            </a:xfrm>
            <a:custGeom>
              <a:avLst/>
              <a:gdLst/>
              <a:ahLst/>
              <a:rect l="l" t="t" r="r" b="b"/>
              <a:pathLst>
                <a:path w="1071" h="1714">
                  <a:moveTo>
                    <a:pt x="0" y="297"/>
                  </a:moveTo>
                  <a:lnTo>
                    <a:pt x="0" y="519"/>
                  </a:lnTo>
                  <a:lnTo>
                    <a:pt x="0" y="1004"/>
                  </a:lnTo>
                  <a:lnTo>
                    <a:pt x="10" y="1491"/>
                  </a:lnTo>
                  <a:lnTo>
                    <a:pt x="19" y="1714"/>
                  </a:lnTo>
                  <a:lnTo>
                    <a:pt x="1052" y="1533"/>
                  </a:lnTo>
                  <a:lnTo>
                    <a:pt x="1052" y="1320"/>
                  </a:lnTo>
                  <a:lnTo>
                    <a:pt x="1062" y="842"/>
                  </a:lnTo>
                  <a:lnTo>
                    <a:pt x="1071" y="374"/>
                  </a:lnTo>
                  <a:lnTo>
                    <a:pt x="1071" y="151"/>
                  </a:lnTo>
                  <a:lnTo>
                    <a:pt x="1062" y="6"/>
                  </a:lnTo>
                  <a:lnTo>
                    <a:pt x="1062" y="0"/>
                  </a:lnTo>
                  <a:lnTo>
                    <a:pt x="1052" y="0"/>
                  </a:lnTo>
                  <a:lnTo>
                    <a:pt x="1046" y="0"/>
                  </a:lnTo>
                  <a:lnTo>
                    <a:pt x="44" y="100"/>
                  </a:lnTo>
                  <a:lnTo>
                    <a:pt x="35" y="100"/>
                  </a:lnTo>
                  <a:lnTo>
                    <a:pt x="35" y="109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ff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32920" y="5207040"/>
              <a:ext cx="118080" cy="166680"/>
            </a:xfrm>
            <a:custGeom>
              <a:avLst/>
              <a:gdLst/>
              <a:ahLst/>
              <a:rect l="l" t="t" r="r" b="b"/>
              <a:pathLst>
                <a:path w="711" h="1673">
                  <a:moveTo>
                    <a:pt x="0" y="171"/>
                  </a:moveTo>
                  <a:lnTo>
                    <a:pt x="0" y="401"/>
                  </a:lnTo>
                  <a:lnTo>
                    <a:pt x="0" y="920"/>
                  </a:lnTo>
                  <a:lnTo>
                    <a:pt x="0" y="1433"/>
                  </a:lnTo>
                  <a:lnTo>
                    <a:pt x="10" y="1673"/>
                  </a:lnTo>
                  <a:lnTo>
                    <a:pt x="702" y="1553"/>
                  </a:lnTo>
                  <a:lnTo>
                    <a:pt x="702" y="1323"/>
                  </a:lnTo>
                  <a:lnTo>
                    <a:pt x="711" y="810"/>
                  </a:lnTo>
                  <a:lnTo>
                    <a:pt x="711" y="307"/>
                  </a:lnTo>
                  <a:lnTo>
                    <a:pt x="711" y="77"/>
                  </a:lnTo>
                  <a:lnTo>
                    <a:pt x="695" y="0"/>
                  </a:lnTo>
                  <a:lnTo>
                    <a:pt x="686" y="0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38680" y="5211720"/>
              <a:ext cx="59040" cy="162000"/>
            </a:xfrm>
            <a:custGeom>
              <a:avLst/>
              <a:gdLst/>
              <a:ahLst/>
              <a:rect l="l" t="t" r="r" b="b"/>
              <a:pathLst>
                <a:path w="351" h="1637">
                  <a:moveTo>
                    <a:pt x="0" y="32"/>
                  </a:moveTo>
                  <a:lnTo>
                    <a:pt x="0" y="1637"/>
                  </a:lnTo>
                  <a:lnTo>
                    <a:pt x="351" y="1569"/>
                  </a:lnTo>
                  <a:lnTo>
                    <a:pt x="351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9600" y="4405320"/>
              <a:ext cx="1202400" cy="774720"/>
            </a:xfrm>
            <a:custGeom>
              <a:avLst/>
              <a:gdLst/>
              <a:ahLst/>
              <a:rect l="l" t="t" r="r" b="b"/>
              <a:pathLst>
                <a:path w="7142" h="7801">
                  <a:moveTo>
                    <a:pt x="0" y="249"/>
                  </a:moveTo>
                  <a:lnTo>
                    <a:pt x="0" y="7656"/>
                  </a:lnTo>
                  <a:lnTo>
                    <a:pt x="616" y="7776"/>
                  </a:lnTo>
                  <a:lnTo>
                    <a:pt x="625" y="7776"/>
                  </a:lnTo>
                  <a:lnTo>
                    <a:pt x="660" y="7776"/>
                  </a:lnTo>
                  <a:lnTo>
                    <a:pt x="701" y="7785"/>
                  </a:lnTo>
                  <a:lnTo>
                    <a:pt x="752" y="7785"/>
                  </a:lnTo>
                  <a:lnTo>
                    <a:pt x="818" y="7791"/>
                  </a:lnTo>
                  <a:lnTo>
                    <a:pt x="884" y="7801"/>
                  </a:lnTo>
                  <a:lnTo>
                    <a:pt x="960" y="7801"/>
                  </a:lnTo>
                  <a:lnTo>
                    <a:pt x="1027" y="7801"/>
                  </a:lnTo>
                  <a:lnTo>
                    <a:pt x="6933" y="7187"/>
                  </a:lnTo>
                  <a:lnTo>
                    <a:pt x="6966" y="7152"/>
                  </a:lnTo>
                  <a:lnTo>
                    <a:pt x="7041" y="7068"/>
                  </a:lnTo>
                  <a:lnTo>
                    <a:pt x="7108" y="6932"/>
                  </a:lnTo>
                  <a:lnTo>
                    <a:pt x="7142" y="6761"/>
                  </a:lnTo>
                  <a:lnTo>
                    <a:pt x="7142" y="1143"/>
                  </a:lnTo>
                  <a:lnTo>
                    <a:pt x="7123" y="1118"/>
                  </a:lnTo>
                  <a:lnTo>
                    <a:pt x="7083" y="1065"/>
                  </a:lnTo>
                  <a:lnTo>
                    <a:pt x="7007" y="1007"/>
                  </a:lnTo>
                  <a:lnTo>
                    <a:pt x="6899" y="965"/>
                  </a:lnTo>
                  <a:lnTo>
                    <a:pt x="6868" y="956"/>
                  </a:lnTo>
                  <a:lnTo>
                    <a:pt x="6798" y="947"/>
                  </a:lnTo>
                  <a:lnTo>
                    <a:pt x="6706" y="939"/>
                  </a:lnTo>
                  <a:lnTo>
                    <a:pt x="6583" y="914"/>
                  </a:lnTo>
                  <a:lnTo>
                    <a:pt x="6441" y="898"/>
                  </a:lnTo>
                  <a:lnTo>
                    <a:pt x="6263" y="862"/>
                  </a:lnTo>
                  <a:lnTo>
                    <a:pt x="6081" y="836"/>
                  </a:lnTo>
                  <a:lnTo>
                    <a:pt x="5872" y="804"/>
                  </a:lnTo>
                  <a:lnTo>
                    <a:pt x="5648" y="768"/>
                  </a:lnTo>
                  <a:lnTo>
                    <a:pt x="5404" y="727"/>
                  </a:lnTo>
                  <a:lnTo>
                    <a:pt x="5155" y="691"/>
                  </a:lnTo>
                  <a:lnTo>
                    <a:pt x="4889" y="649"/>
                  </a:lnTo>
                  <a:lnTo>
                    <a:pt x="4621" y="607"/>
                  </a:lnTo>
                  <a:lnTo>
                    <a:pt x="4345" y="565"/>
                  </a:lnTo>
                  <a:lnTo>
                    <a:pt x="4061" y="520"/>
                  </a:lnTo>
                  <a:lnTo>
                    <a:pt x="3786" y="471"/>
                  </a:lnTo>
                  <a:lnTo>
                    <a:pt x="3502" y="426"/>
                  </a:lnTo>
                  <a:lnTo>
                    <a:pt x="3226" y="385"/>
                  </a:lnTo>
                  <a:lnTo>
                    <a:pt x="2955" y="343"/>
                  </a:lnTo>
                  <a:lnTo>
                    <a:pt x="2687" y="300"/>
                  </a:lnTo>
                  <a:lnTo>
                    <a:pt x="2427" y="258"/>
                  </a:lnTo>
                  <a:lnTo>
                    <a:pt x="2187" y="223"/>
                  </a:lnTo>
                  <a:lnTo>
                    <a:pt x="1953" y="181"/>
                  </a:lnTo>
                  <a:lnTo>
                    <a:pt x="1735" y="146"/>
                  </a:lnTo>
                  <a:lnTo>
                    <a:pt x="1535" y="120"/>
                  </a:lnTo>
                  <a:lnTo>
                    <a:pt x="1353" y="87"/>
                  </a:lnTo>
                  <a:lnTo>
                    <a:pt x="1200" y="61"/>
                  </a:lnTo>
                  <a:lnTo>
                    <a:pt x="1058" y="42"/>
                  </a:lnTo>
                  <a:lnTo>
                    <a:pt x="960" y="26"/>
                  </a:lnTo>
                  <a:lnTo>
                    <a:pt x="875" y="10"/>
                  </a:lnTo>
                  <a:lnTo>
                    <a:pt x="825" y="0"/>
                  </a:lnTo>
                  <a:lnTo>
                    <a:pt x="809" y="0"/>
                  </a:lnTo>
                  <a:lnTo>
                    <a:pt x="793" y="0"/>
                  </a:lnTo>
                  <a:lnTo>
                    <a:pt x="758" y="0"/>
                  </a:lnTo>
                  <a:lnTo>
                    <a:pt x="692" y="0"/>
                  </a:lnTo>
                  <a:lnTo>
                    <a:pt x="600" y="20"/>
                  </a:lnTo>
                  <a:lnTo>
                    <a:pt x="483" y="42"/>
                  </a:lnTo>
                  <a:lnTo>
                    <a:pt x="351" y="94"/>
                  </a:lnTo>
                  <a:lnTo>
                    <a:pt x="183" y="155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ff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0040" y="4406760"/>
              <a:ext cx="1135440" cy="773280"/>
            </a:xfrm>
            <a:custGeom>
              <a:avLst/>
              <a:gdLst/>
              <a:ahLst/>
              <a:rect l="l" t="t" r="r" b="b"/>
              <a:pathLst>
                <a:path w="6751" h="7791">
                  <a:moveTo>
                    <a:pt x="575" y="7281"/>
                  </a:moveTo>
                  <a:lnTo>
                    <a:pt x="584" y="7307"/>
                  </a:lnTo>
                  <a:lnTo>
                    <a:pt x="610" y="7355"/>
                  </a:lnTo>
                  <a:lnTo>
                    <a:pt x="651" y="7442"/>
                  </a:lnTo>
                  <a:lnTo>
                    <a:pt x="711" y="7536"/>
                  </a:lnTo>
                  <a:lnTo>
                    <a:pt x="768" y="7629"/>
                  </a:lnTo>
                  <a:lnTo>
                    <a:pt x="829" y="7713"/>
                  </a:lnTo>
                  <a:lnTo>
                    <a:pt x="894" y="7766"/>
                  </a:lnTo>
                  <a:lnTo>
                    <a:pt x="961" y="7791"/>
                  </a:lnTo>
                  <a:lnTo>
                    <a:pt x="6542" y="7210"/>
                  </a:lnTo>
                  <a:lnTo>
                    <a:pt x="6574" y="7110"/>
                  </a:lnTo>
                  <a:lnTo>
                    <a:pt x="6649" y="6862"/>
                  </a:lnTo>
                  <a:lnTo>
                    <a:pt x="6716" y="6571"/>
                  </a:lnTo>
                  <a:lnTo>
                    <a:pt x="6751" y="6332"/>
                  </a:lnTo>
                  <a:lnTo>
                    <a:pt x="6741" y="1075"/>
                  </a:lnTo>
                  <a:lnTo>
                    <a:pt x="6726" y="1049"/>
                  </a:lnTo>
                  <a:lnTo>
                    <a:pt x="6691" y="1007"/>
                  </a:lnTo>
                  <a:lnTo>
                    <a:pt x="6615" y="946"/>
                  </a:lnTo>
                  <a:lnTo>
                    <a:pt x="6507" y="914"/>
                  </a:lnTo>
                  <a:lnTo>
                    <a:pt x="6476" y="904"/>
                  </a:lnTo>
                  <a:lnTo>
                    <a:pt x="6416" y="894"/>
                  </a:lnTo>
                  <a:lnTo>
                    <a:pt x="6325" y="878"/>
                  </a:lnTo>
                  <a:lnTo>
                    <a:pt x="6217" y="862"/>
                  </a:lnTo>
                  <a:lnTo>
                    <a:pt x="6074" y="843"/>
                  </a:lnTo>
                  <a:lnTo>
                    <a:pt x="5917" y="817"/>
                  </a:lnTo>
                  <a:lnTo>
                    <a:pt x="5739" y="784"/>
                  </a:lnTo>
                  <a:lnTo>
                    <a:pt x="5541" y="758"/>
                  </a:lnTo>
                  <a:lnTo>
                    <a:pt x="5332" y="723"/>
                  </a:lnTo>
                  <a:lnTo>
                    <a:pt x="5105" y="681"/>
                  </a:lnTo>
                  <a:lnTo>
                    <a:pt x="4871" y="649"/>
                  </a:lnTo>
                  <a:lnTo>
                    <a:pt x="4620" y="604"/>
                  </a:lnTo>
                  <a:lnTo>
                    <a:pt x="4371" y="572"/>
                  </a:lnTo>
                  <a:lnTo>
                    <a:pt x="4112" y="529"/>
                  </a:lnTo>
                  <a:lnTo>
                    <a:pt x="3846" y="484"/>
                  </a:lnTo>
                  <a:lnTo>
                    <a:pt x="3587" y="442"/>
                  </a:lnTo>
                  <a:lnTo>
                    <a:pt x="3319" y="401"/>
                  </a:lnTo>
                  <a:lnTo>
                    <a:pt x="3059" y="358"/>
                  </a:lnTo>
                  <a:lnTo>
                    <a:pt x="2803" y="316"/>
                  </a:lnTo>
                  <a:lnTo>
                    <a:pt x="2554" y="281"/>
                  </a:lnTo>
                  <a:lnTo>
                    <a:pt x="2314" y="239"/>
                  </a:lnTo>
                  <a:lnTo>
                    <a:pt x="2080" y="203"/>
                  </a:lnTo>
                  <a:lnTo>
                    <a:pt x="1862" y="171"/>
                  </a:lnTo>
                  <a:lnTo>
                    <a:pt x="1653" y="136"/>
                  </a:lnTo>
                  <a:lnTo>
                    <a:pt x="1469" y="110"/>
                  </a:lnTo>
                  <a:lnTo>
                    <a:pt x="1302" y="84"/>
                  </a:lnTo>
                  <a:lnTo>
                    <a:pt x="1153" y="58"/>
                  </a:lnTo>
                  <a:lnTo>
                    <a:pt x="1027" y="32"/>
                  </a:lnTo>
                  <a:lnTo>
                    <a:pt x="919" y="25"/>
                  </a:lnTo>
                  <a:lnTo>
                    <a:pt x="844" y="10"/>
                  </a:lnTo>
                  <a:lnTo>
                    <a:pt x="802" y="0"/>
                  </a:lnTo>
                  <a:lnTo>
                    <a:pt x="784" y="0"/>
                  </a:lnTo>
                  <a:lnTo>
                    <a:pt x="777" y="0"/>
                  </a:lnTo>
                  <a:lnTo>
                    <a:pt x="734" y="0"/>
                  </a:lnTo>
                  <a:lnTo>
                    <a:pt x="676" y="0"/>
                  </a:lnTo>
                  <a:lnTo>
                    <a:pt x="594" y="16"/>
                  </a:lnTo>
                  <a:lnTo>
                    <a:pt x="483" y="42"/>
                  </a:lnTo>
                  <a:lnTo>
                    <a:pt x="351" y="84"/>
                  </a:lnTo>
                  <a:lnTo>
                    <a:pt x="199" y="145"/>
                  </a:lnTo>
                  <a:lnTo>
                    <a:pt x="25" y="230"/>
                  </a:lnTo>
                  <a:lnTo>
                    <a:pt x="0" y="7168"/>
                  </a:lnTo>
                  <a:lnTo>
                    <a:pt x="575" y="7281"/>
                  </a:lnTo>
                  <a:close/>
                </a:path>
              </a:pathLst>
            </a:custGeom>
            <a:solidFill>
              <a:srgbClr val="ffd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0840" y="4408560"/>
              <a:ext cx="1068120" cy="771480"/>
            </a:xfrm>
            <a:custGeom>
              <a:avLst/>
              <a:gdLst/>
              <a:ahLst/>
              <a:rect l="l" t="t" r="r" b="b"/>
              <a:pathLst>
                <a:path w="6349" h="7781">
                  <a:moveTo>
                    <a:pt x="533" y="6783"/>
                  </a:moveTo>
                  <a:lnTo>
                    <a:pt x="543" y="6825"/>
                  </a:lnTo>
                  <a:lnTo>
                    <a:pt x="568" y="6938"/>
                  </a:lnTo>
                  <a:lnTo>
                    <a:pt x="609" y="7100"/>
                  </a:lnTo>
                  <a:lnTo>
                    <a:pt x="651" y="7277"/>
                  </a:lnTo>
                  <a:lnTo>
                    <a:pt x="710" y="7465"/>
                  </a:lnTo>
                  <a:lnTo>
                    <a:pt x="768" y="7629"/>
                  </a:lnTo>
                  <a:lnTo>
                    <a:pt x="834" y="7739"/>
                  </a:lnTo>
                  <a:lnTo>
                    <a:pt x="894" y="7781"/>
                  </a:lnTo>
                  <a:lnTo>
                    <a:pt x="6156" y="7226"/>
                  </a:lnTo>
                  <a:lnTo>
                    <a:pt x="6191" y="7058"/>
                  </a:lnTo>
                  <a:lnTo>
                    <a:pt x="6258" y="6654"/>
                  </a:lnTo>
                  <a:lnTo>
                    <a:pt x="6317" y="6211"/>
                  </a:lnTo>
                  <a:lnTo>
                    <a:pt x="6349" y="5915"/>
                  </a:lnTo>
                  <a:lnTo>
                    <a:pt x="6333" y="997"/>
                  </a:lnTo>
                  <a:lnTo>
                    <a:pt x="6317" y="978"/>
                  </a:lnTo>
                  <a:lnTo>
                    <a:pt x="6283" y="936"/>
                  </a:lnTo>
                  <a:lnTo>
                    <a:pt x="6216" y="884"/>
                  </a:lnTo>
                  <a:lnTo>
                    <a:pt x="6115" y="852"/>
                  </a:lnTo>
                  <a:lnTo>
                    <a:pt x="6033" y="833"/>
                  </a:lnTo>
                  <a:lnTo>
                    <a:pt x="5840" y="807"/>
                  </a:lnTo>
                  <a:lnTo>
                    <a:pt x="5565" y="759"/>
                  </a:lnTo>
                  <a:lnTo>
                    <a:pt x="5214" y="707"/>
                  </a:lnTo>
                  <a:lnTo>
                    <a:pt x="4804" y="639"/>
                  </a:lnTo>
                  <a:lnTo>
                    <a:pt x="4355" y="571"/>
                  </a:lnTo>
                  <a:lnTo>
                    <a:pt x="3871" y="494"/>
                  </a:lnTo>
                  <a:lnTo>
                    <a:pt x="3378" y="406"/>
                  </a:lnTo>
                  <a:lnTo>
                    <a:pt x="2888" y="332"/>
                  </a:lnTo>
                  <a:lnTo>
                    <a:pt x="2411" y="261"/>
                  </a:lnTo>
                  <a:lnTo>
                    <a:pt x="1968" y="187"/>
                  </a:lnTo>
                  <a:lnTo>
                    <a:pt x="1577" y="126"/>
                  </a:lnTo>
                  <a:lnTo>
                    <a:pt x="1245" y="74"/>
                  </a:lnTo>
                  <a:lnTo>
                    <a:pt x="986" y="32"/>
                  </a:lnTo>
                  <a:lnTo>
                    <a:pt x="818" y="6"/>
                  </a:lnTo>
                  <a:lnTo>
                    <a:pt x="762" y="0"/>
                  </a:lnTo>
                  <a:lnTo>
                    <a:pt x="751" y="0"/>
                  </a:lnTo>
                  <a:lnTo>
                    <a:pt x="710" y="0"/>
                  </a:lnTo>
                  <a:lnTo>
                    <a:pt x="660" y="0"/>
                  </a:lnTo>
                  <a:lnTo>
                    <a:pt x="575" y="15"/>
                  </a:lnTo>
                  <a:lnTo>
                    <a:pt x="477" y="32"/>
                  </a:lnTo>
                  <a:lnTo>
                    <a:pt x="350" y="74"/>
                  </a:lnTo>
                  <a:lnTo>
                    <a:pt x="208" y="135"/>
                  </a:lnTo>
                  <a:lnTo>
                    <a:pt x="50" y="212"/>
                  </a:lnTo>
                  <a:lnTo>
                    <a:pt x="0" y="6679"/>
                  </a:lnTo>
                  <a:lnTo>
                    <a:pt x="533" y="6783"/>
                  </a:lnTo>
                  <a:close/>
                </a:path>
              </a:pathLst>
            </a:custGeom>
            <a:solidFill>
              <a:srgbClr val="ff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72000" y="4408560"/>
              <a:ext cx="1003680" cy="771480"/>
            </a:xfrm>
            <a:custGeom>
              <a:avLst/>
              <a:gdLst/>
              <a:ahLst/>
              <a:rect l="l" t="t" r="r" b="b"/>
              <a:pathLst>
                <a:path w="5964" h="7781">
                  <a:moveTo>
                    <a:pt x="500" y="6305"/>
                  </a:moveTo>
                  <a:lnTo>
                    <a:pt x="509" y="6367"/>
                  </a:lnTo>
                  <a:lnTo>
                    <a:pt x="535" y="6535"/>
                  </a:lnTo>
                  <a:lnTo>
                    <a:pt x="566" y="6773"/>
                  </a:lnTo>
                  <a:lnTo>
                    <a:pt x="617" y="7038"/>
                  </a:lnTo>
                  <a:lnTo>
                    <a:pt x="667" y="7312"/>
                  </a:lnTo>
                  <a:lnTo>
                    <a:pt x="724" y="7551"/>
                  </a:lnTo>
                  <a:lnTo>
                    <a:pt x="775" y="7723"/>
                  </a:lnTo>
                  <a:lnTo>
                    <a:pt x="835" y="7781"/>
                  </a:lnTo>
                  <a:lnTo>
                    <a:pt x="5772" y="7261"/>
                  </a:lnTo>
                  <a:lnTo>
                    <a:pt x="5806" y="7012"/>
                  </a:lnTo>
                  <a:lnTo>
                    <a:pt x="5873" y="6451"/>
                  </a:lnTo>
                  <a:lnTo>
                    <a:pt x="5933" y="5854"/>
                  </a:lnTo>
                  <a:lnTo>
                    <a:pt x="5964" y="5495"/>
                  </a:lnTo>
                  <a:lnTo>
                    <a:pt x="5933" y="936"/>
                  </a:lnTo>
                  <a:lnTo>
                    <a:pt x="5923" y="919"/>
                  </a:lnTo>
                  <a:lnTo>
                    <a:pt x="5882" y="878"/>
                  </a:lnTo>
                  <a:lnTo>
                    <a:pt x="5822" y="833"/>
                  </a:lnTo>
                  <a:lnTo>
                    <a:pt x="5730" y="800"/>
                  </a:lnTo>
                  <a:lnTo>
                    <a:pt x="5649" y="784"/>
                  </a:lnTo>
                  <a:lnTo>
                    <a:pt x="5471" y="759"/>
                  </a:lnTo>
                  <a:lnTo>
                    <a:pt x="5222" y="713"/>
                  </a:lnTo>
                  <a:lnTo>
                    <a:pt x="4887" y="665"/>
                  </a:lnTo>
                  <a:lnTo>
                    <a:pt x="4514" y="594"/>
                  </a:lnTo>
                  <a:lnTo>
                    <a:pt x="4087" y="526"/>
                  </a:lnTo>
                  <a:lnTo>
                    <a:pt x="3645" y="458"/>
                  </a:lnTo>
                  <a:lnTo>
                    <a:pt x="3187" y="380"/>
                  </a:lnTo>
                  <a:lnTo>
                    <a:pt x="2728" y="312"/>
                  </a:lnTo>
                  <a:lnTo>
                    <a:pt x="2286" y="245"/>
                  </a:lnTo>
                  <a:lnTo>
                    <a:pt x="1868" y="177"/>
                  </a:lnTo>
                  <a:lnTo>
                    <a:pt x="1502" y="118"/>
                  </a:lnTo>
                  <a:lnTo>
                    <a:pt x="1192" y="67"/>
                  </a:lnTo>
                  <a:lnTo>
                    <a:pt x="952" y="32"/>
                  </a:lnTo>
                  <a:lnTo>
                    <a:pt x="800" y="6"/>
                  </a:lnTo>
                  <a:lnTo>
                    <a:pt x="743" y="0"/>
                  </a:lnTo>
                  <a:lnTo>
                    <a:pt x="734" y="0"/>
                  </a:lnTo>
                  <a:lnTo>
                    <a:pt x="703" y="0"/>
                  </a:lnTo>
                  <a:lnTo>
                    <a:pt x="642" y="0"/>
                  </a:lnTo>
                  <a:lnTo>
                    <a:pt x="575" y="15"/>
                  </a:lnTo>
                  <a:lnTo>
                    <a:pt x="474" y="41"/>
                  </a:lnTo>
                  <a:lnTo>
                    <a:pt x="368" y="74"/>
                  </a:lnTo>
                  <a:lnTo>
                    <a:pt x="234" y="126"/>
                  </a:lnTo>
                  <a:lnTo>
                    <a:pt x="83" y="203"/>
                  </a:lnTo>
                  <a:lnTo>
                    <a:pt x="0" y="6202"/>
                  </a:lnTo>
                  <a:lnTo>
                    <a:pt x="500" y="6305"/>
                  </a:lnTo>
                  <a:close/>
                </a:path>
              </a:pathLst>
            </a:custGeom>
            <a:solidFill>
              <a:srgbClr val="ff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2440" y="4408560"/>
              <a:ext cx="936360" cy="771480"/>
            </a:xfrm>
            <a:custGeom>
              <a:avLst/>
              <a:gdLst/>
              <a:ahLst/>
              <a:rect l="l" t="t" r="r" b="b"/>
              <a:pathLst>
                <a:path w="5562" h="7775">
                  <a:moveTo>
                    <a:pt x="458" y="5815"/>
                  </a:moveTo>
                  <a:lnTo>
                    <a:pt x="468" y="5899"/>
                  </a:lnTo>
                  <a:lnTo>
                    <a:pt x="493" y="6122"/>
                  </a:lnTo>
                  <a:lnTo>
                    <a:pt x="518" y="6435"/>
                  </a:lnTo>
                  <a:lnTo>
                    <a:pt x="566" y="6793"/>
                  </a:lnTo>
                  <a:lnTo>
                    <a:pt x="609" y="7152"/>
                  </a:lnTo>
                  <a:lnTo>
                    <a:pt x="657" y="7468"/>
                  </a:lnTo>
                  <a:lnTo>
                    <a:pt x="717" y="7691"/>
                  </a:lnTo>
                  <a:lnTo>
                    <a:pt x="768" y="7775"/>
                  </a:lnTo>
                  <a:lnTo>
                    <a:pt x="5389" y="7291"/>
                  </a:lnTo>
                  <a:lnTo>
                    <a:pt x="5414" y="6974"/>
                  </a:lnTo>
                  <a:lnTo>
                    <a:pt x="5480" y="6257"/>
                  </a:lnTo>
                  <a:lnTo>
                    <a:pt x="5540" y="5506"/>
                  </a:lnTo>
                  <a:lnTo>
                    <a:pt x="5562" y="5079"/>
                  </a:lnTo>
                  <a:lnTo>
                    <a:pt x="5531" y="878"/>
                  </a:lnTo>
                  <a:lnTo>
                    <a:pt x="5521" y="862"/>
                  </a:lnTo>
                  <a:lnTo>
                    <a:pt x="5490" y="820"/>
                  </a:lnTo>
                  <a:lnTo>
                    <a:pt x="5423" y="778"/>
                  </a:lnTo>
                  <a:lnTo>
                    <a:pt x="5337" y="742"/>
                  </a:lnTo>
                  <a:lnTo>
                    <a:pt x="5262" y="733"/>
                  </a:lnTo>
                  <a:lnTo>
                    <a:pt x="5104" y="701"/>
                  </a:lnTo>
                  <a:lnTo>
                    <a:pt x="4864" y="665"/>
                  </a:lnTo>
                  <a:lnTo>
                    <a:pt x="4564" y="613"/>
                  </a:lnTo>
                  <a:lnTo>
                    <a:pt x="4212" y="556"/>
                  </a:lnTo>
                  <a:lnTo>
                    <a:pt x="3818" y="494"/>
                  </a:lnTo>
                  <a:lnTo>
                    <a:pt x="3400" y="426"/>
                  </a:lnTo>
                  <a:lnTo>
                    <a:pt x="2977" y="359"/>
                  </a:lnTo>
                  <a:lnTo>
                    <a:pt x="2554" y="291"/>
                  </a:lnTo>
                  <a:lnTo>
                    <a:pt x="2146" y="232"/>
                  </a:lnTo>
                  <a:lnTo>
                    <a:pt x="1761" y="171"/>
                  </a:lnTo>
                  <a:lnTo>
                    <a:pt x="1419" y="112"/>
                  </a:lnTo>
                  <a:lnTo>
                    <a:pt x="1134" y="68"/>
                  </a:lnTo>
                  <a:lnTo>
                    <a:pt x="910" y="35"/>
                  </a:lnTo>
                  <a:lnTo>
                    <a:pt x="768" y="9"/>
                  </a:lnTo>
                  <a:lnTo>
                    <a:pt x="717" y="0"/>
                  </a:lnTo>
                  <a:lnTo>
                    <a:pt x="708" y="0"/>
                  </a:lnTo>
                  <a:lnTo>
                    <a:pt x="676" y="0"/>
                  </a:lnTo>
                  <a:lnTo>
                    <a:pt x="625" y="0"/>
                  </a:lnTo>
                  <a:lnTo>
                    <a:pt x="559" y="16"/>
                  </a:lnTo>
                  <a:lnTo>
                    <a:pt x="474" y="35"/>
                  </a:lnTo>
                  <a:lnTo>
                    <a:pt x="366" y="68"/>
                  </a:lnTo>
                  <a:lnTo>
                    <a:pt x="249" y="120"/>
                  </a:lnTo>
                  <a:lnTo>
                    <a:pt x="107" y="187"/>
                  </a:lnTo>
                  <a:lnTo>
                    <a:pt x="0" y="5728"/>
                  </a:lnTo>
                  <a:lnTo>
                    <a:pt x="458" y="5815"/>
                  </a:lnTo>
                  <a:close/>
                </a:path>
              </a:pathLst>
            </a:custGeom>
            <a:solidFill>
              <a:srgbClr val="ff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3240" y="4410000"/>
              <a:ext cx="871560" cy="770040"/>
            </a:xfrm>
            <a:custGeom>
              <a:avLst/>
              <a:gdLst/>
              <a:ahLst/>
              <a:rect l="l" t="t" r="r" b="b"/>
              <a:pathLst>
                <a:path w="5171" h="7766">
                  <a:moveTo>
                    <a:pt x="427" y="5318"/>
                  </a:moveTo>
                  <a:lnTo>
                    <a:pt x="433" y="5422"/>
                  </a:lnTo>
                  <a:lnTo>
                    <a:pt x="452" y="5703"/>
                  </a:lnTo>
                  <a:lnTo>
                    <a:pt x="475" y="6093"/>
                  </a:lnTo>
                  <a:lnTo>
                    <a:pt x="518" y="6539"/>
                  </a:lnTo>
                  <a:lnTo>
                    <a:pt x="559" y="6991"/>
                  </a:lnTo>
                  <a:lnTo>
                    <a:pt x="610" y="7382"/>
                  </a:lnTo>
                  <a:lnTo>
                    <a:pt x="651" y="7662"/>
                  </a:lnTo>
                  <a:lnTo>
                    <a:pt x="702" y="7766"/>
                  </a:lnTo>
                  <a:lnTo>
                    <a:pt x="5006" y="7304"/>
                  </a:lnTo>
                  <a:lnTo>
                    <a:pt x="5031" y="6914"/>
                  </a:lnTo>
                  <a:lnTo>
                    <a:pt x="5089" y="6045"/>
                  </a:lnTo>
                  <a:lnTo>
                    <a:pt x="5148" y="5147"/>
                  </a:lnTo>
                  <a:lnTo>
                    <a:pt x="5171" y="4663"/>
                  </a:lnTo>
                  <a:lnTo>
                    <a:pt x="5123" y="801"/>
                  </a:lnTo>
                  <a:lnTo>
                    <a:pt x="5114" y="785"/>
                  </a:lnTo>
                  <a:lnTo>
                    <a:pt x="5079" y="750"/>
                  </a:lnTo>
                  <a:lnTo>
                    <a:pt x="5031" y="708"/>
                  </a:lnTo>
                  <a:lnTo>
                    <a:pt x="4956" y="682"/>
                  </a:lnTo>
                  <a:lnTo>
                    <a:pt x="4889" y="672"/>
                  </a:lnTo>
                  <a:lnTo>
                    <a:pt x="4738" y="650"/>
                  </a:lnTo>
                  <a:lnTo>
                    <a:pt x="4514" y="614"/>
                  </a:lnTo>
                  <a:lnTo>
                    <a:pt x="4238" y="562"/>
                  </a:lnTo>
                  <a:lnTo>
                    <a:pt x="3913" y="511"/>
                  </a:lnTo>
                  <a:lnTo>
                    <a:pt x="3552" y="453"/>
                  </a:lnTo>
                  <a:lnTo>
                    <a:pt x="3170" y="391"/>
                  </a:lnTo>
                  <a:lnTo>
                    <a:pt x="2775" y="333"/>
                  </a:lnTo>
                  <a:lnTo>
                    <a:pt x="2387" y="272"/>
                  </a:lnTo>
                  <a:lnTo>
                    <a:pt x="2010" y="214"/>
                  </a:lnTo>
                  <a:lnTo>
                    <a:pt x="1653" y="152"/>
                  </a:lnTo>
                  <a:lnTo>
                    <a:pt x="1343" y="103"/>
                  </a:lnTo>
                  <a:lnTo>
                    <a:pt x="1078" y="59"/>
                  </a:lnTo>
                  <a:lnTo>
                    <a:pt x="869" y="26"/>
                  </a:lnTo>
                  <a:lnTo>
                    <a:pt x="743" y="7"/>
                  </a:lnTo>
                  <a:lnTo>
                    <a:pt x="693" y="0"/>
                  </a:lnTo>
                  <a:lnTo>
                    <a:pt x="683" y="0"/>
                  </a:lnTo>
                  <a:lnTo>
                    <a:pt x="660" y="0"/>
                  </a:lnTo>
                  <a:lnTo>
                    <a:pt x="610" y="0"/>
                  </a:lnTo>
                  <a:lnTo>
                    <a:pt x="550" y="7"/>
                  </a:lnTo>
                  <a:lnTo>
                    <a:pt x="468" y="33"/>
                  </a:lnTo>
                  <a:lnTo>
                    <a:pt x="376" y="59"/>
                  </a:lnTo>
                  <a:lnTo>
                    <a:pt x="260" y="111"/>
                  </a:lnTo>
                  <a:lnTo>
                    <a:pt x="133" y="172"/>
                  </a:lnTo>
                  <a:lnTo>
                    <a:pt x="0" y="5241"/>
                  </a:lnTo>
                  <a:lnTo>
                    <a:pt x="427" y="5318"/>
                  </a:lnTo>
                  <a:close/>
                </a:path>
              </a:pathLst>
            </a:custGeom>
            <a:solidFill>
              <a:srgbClr val="ffd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6560" y="4410000"/>
              <a:ext cx="801720" cy="770040"/>
            </a:xfrm>
            <a:custGeom>
              <a:avLst/>
              <a:gdLst/>
              <a:ahLst/>
              <a:rect l="l" t="t" r="r" b="b"/>
              <a:pathLst>
                <a:path w="4772" h="7759">
                  <a:moveTo>
                    <a:pt x="385" y="4824"/>
                  </a:moveTo>
                  <a:lnTo>
                    <a:pt x="392" y="4954"/>
                  </a:lnTo>
                  <a:lnTo>
                    <a:pt x="408" y="5285"/>
                  </a:lnTo>
                  <a:lnTo>
                    <a:pt x="433" y="5753"/>
                  </a:lnTo>
                  <a:lnTo>
                    <a:pt x="467" y="6294"/>
                  </a:lnTo>
                  <a:lnTo>
                    <a:pt x="509" y="6830"/>
                  </a:lnTo>
                  <a:lnTo>
                    <a:pt x="550" y="7297"/>
                  </a:lnTo>
                  <a:lnTo>
                    <a:pt x="593" y="7629"/>
                  </a:lnTo>
                  <a:lnTo>
                    <a:pt x="635" y="7759"/>
                  </a:lnTo>
                  <a:lnTo>
                    <a:pt x="4614" y="7333"/>
                  </a:lnTo>
                  <a:lnTo>
                    <a:pt x="4639" y="6871"/>
                  </a:lnTo>
                  <a:lnTo>
                    <a:pt x="4696" y="5847"/>
                  </a:lnTo>
                  <a:lnTo>
                    <a:pt x="4746" y="4792"/>
                  </a:lnTo>
                  <a:lnTo>
                    <a:pt x="4772" y="4236"/>
                  </a:lnTo>
                  <a:lnTo>
                    <a:pt x="4712" y="737"/>
                  </a:lnTo>
                  <a:lnTo>
                    <a:pt x="4706" y="717"/>
                  </a:lnTo>
                  <a:lnTo>
                    <a:pt x="4681" y="685"/>
                  </a:lnTo>
                  <a:lnTo>
                    <a:pt x="4629" y="649"/>
                  </a:lnTo>
                  <a:lnTo>
                    <a:pt x="4564" y="623"/>
                  </a:lnTo>
                  <a:lnTo>
                    <a:pt x="4503" y="617"/>
                  </a:lnTo>
                  <a:lnTo>
                    <a:pt x="4361" y="591"/>
                  </a:lnTo>
                  <a:lnTo>
                    <a:pt x="4162" y="555"/>
                  </a:lnTo>
                  <a:lnTo>
                    <a:pt x="3912" y="514"/>
                  </a:lnTo>
                  <a:lnTo>
                    <a:pt x="3612" y="472"/>
                  </a:lnTo>
                  <a:lnTo>
                    <a:pt x="3286" y="420"/>
                  </a:lnTo>
                  <a:lnTo>
                    <a:pt x="2935" y="358"/>
                  </a:lnTo>
                  <a:lnTo>
                    <a:pt x="2579" y="301"/>
                  </a:lnTo>
                  <a:lnTo>
                    <a:pt x="2222" y="249"/>
                  </a:lnTo>
                  <a:lnTo>
                    <a:pt x="1871" y="190"/>
                  </a:lnTo>
                  <a:lnTo>
                    <a:pt x="1551" y="139"/>
                  </a:lnTo>
                  <a:lnTo>
                    <a:pt x="1260" y="96"/>
                  </a:lnTo>
                  <a:lnTo>
                    <a:pt x="1017" y="52"/>
                  </a:lnTo>
                  <a:lnTo>
                    <a:pt x="833" y="26"/>
                  </a:lnTo>
                  <a:lnTo>
                    <a:pt x="710" y="10"/>
                  </a:lnTo>
                  <a:lnTo>
                    <a:pt x="666" y="0"/>
                  </a:lnTo>
                  <a:lnTo>
                    <a:pt x="660" y="0"/>
                  </a:lnTo>
                  <a:lnTo>
                    <a:pt x="635" y="0"/>
                  </a:lnTo>
                  <a:lnTo>
                    <a:pt x="593" y="0"/>
                  </a:lnTo>
                  <a:lnTo>
                    <a:pt x="534" y="10"/>
                  </a:lnTo>
                  <a:lnTo>
                    <a:pt x="458" y="26"/>
                  </a:lnTo>
                  <a:lnTo>
                    <a:pt x="375" y="52"/>
                  </a:lnTo>
                  <a:lnTo>
                    <a:pt x="274" y="96"/>
                  </a:lnTo>
                  <a:lnTo>
                    <a:pt x="157" y="155"/>
                  </a:lnTo>
                  <a:lnTo>
                    <a:pt x="0" y="4756"/>
                  </a:lnTo>
                  <a:lnTo>
                    <a:pt x="385" y="4824"/>
                  </a:lnTo>
                  <a:close/>
                </a:path>
              </a:pathLst>
            </a:custGeom>
            <a:solidFill>
              <a:srgbClr val="ffd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17720" y="4411800"/>
              <a:ext cx="736920" cy="766800"/>
            </a:xfrm>
            <a:custGeom>
              <a:avLst/>
              <a:gdLst/>
              <a:ahLst/>
              <a:rect l="l" t="t" r="r" b="b"/>
              <a:pathLst>
                <a:path w="4381" h="7739">
                  <a:moveTo>
                    <a:pt x="342" y="4339"/>
                  </a:moveTo>
                  <a:lnTo>
                    <a:pt x="367" y="4865"/>
                  </a:lnTo>
                  <a:lnTo>
                    <a:pt x="417" y="6034"/>
                  </a:lnTo>
                  <a:lnTo>
                    <a:pt x="493" y="7213"/>
                  </a:lnTo>
                  <a:lnTo>
                    <a:pt x="569" y="7739"/>
                  </a:lnTo>
                  <a:lnTo>
                    <a:pt x="4228" y="7359"/>
                  </a:lnTo>
                  <a:lnTo>
                    <a:pt x="4254" y="6829"/>
                  </a:lnTo>
                  <a:lnTo>
                    <a:pt x="4305" y="5643"/>
                  </a:lnTo>
                  <a:lnTo>
                    <a:pt x="4355" y="4433"/>
                  </a:lnTo>
                  <a:lnTo>
                    <a:pt x="4381" y="3816"/>
                  </a:lnTo>
                  <a:lnTo>
                    <a:pt x="4314" y="665"/>
                  </a:lnTo>
                  <a:lnTo>
                    <a:pt x="4305" y="648"/>
                  </a:lnTo>
                  <a:lnTo>
                    <a:pt x="4279" y="622"/>
                  </a:lnTo>
                  <a:lnTo>
                    <a:pt x="4238" y="587"/>
                  </a:lnTo>
                  <a:lnTo>
                    <a:pt x="4172" y="562"/>
                  </a:lnTo>
                  <a:lnTo>
                    <a:pt x="4111" y="555"/>
                  </a:lnTo>
                  <a:lnTo>
                    <a:pt x="3988" y="530"/>
                  </a:lnTo>
                  <a:lnTo>
                    <a:pt x="3812" y="504"/>
                  </a:lnTo>
                  <a:lnTo>
                    <a:pt x="3578" y="462"/>
                  </a:lnTo>
                  <a:lnTo>
                    <a:pt x="3312" y="419"/>
                  </a:lnTo>
                  <a:lnTo>
                    <a:pt x="3011" y="374"/>
                  </a:lnTo>
                  <a:lnTo>
                    <a:pt x="2693" y="323"/>
                  </a:lnTo>
                  <a:lnTo>
                    <a:pt x="2371" y="274"/>
                  </a:lnTo>
                  <a:lnTo>
                    <a:pt x="2045" y="223"/>
                  </a:lnTo>
                  <a:lnTo>
                    <a:pt x="1738" y="171"/>
                  </a:lnTo>
                  <a:lnTo>
                    <a:pt x="1445" y="129"/>
                  </a:lnTo>
                  <a:lnTo>
                    <a:pt x="1179" y="86"/>
                  </a:lnTo>
                  <a:lnTo>
                    <a:pt x="961" y="51"/>
                  </a:lnTo>
                  <a:lnTo>
                    <a:pt x="794" y="26"/>
                  </a:lnTo>
                  <a:lnTo>
                    <a:pt x="686" y="9"/>
                  </a:lnTo>
                  <a:lnTo>
                    <a:pt x="644" y="0"/>
                  </a:lnTo>
                  <a:lnTo>
                    <a:pt x="635" y="0"/>
                  </a:lnTo>
                  <a:lnTo>
                    <a:pt x="610" y="0"/>
                  </a:lnTo>
                  <a:lnTo>
                    <a:pt x="575" y="0"/>
                  </a:lnTo>
                  <a:lnTo>
                    <a:pt x="527" y="9"/>
                  </a:lnTo>
                  <a:lnTo>
                    <a:pt x="458" y="26"/>
                  </a:lnTo>
                  <a:lnTo>
                    <a:pt x="376" y="42"/>
                  </a:lnTo>
                  <a:lnTo>
                    <a:pt x="284" y="86"/>
                  </a:lnTo>
                  <a:lnTo>
                    <a:pt x="183" y="135"/>
                  </a:lnTo>
                  <a:lnTo>
                    <a:pt x="0" y="4268"/>
                  </a:lnTo>
                  <a:lnTo>
                    <a:pt x="342" y="4339"/>
                  </a:lnTo>
                  <a:close/>
                </a:path>
              </a:pathLst>
            </a:custGeom>
            <a:solidFill>
              <a:srgbClr val="ff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28160" y="4411800"/>
              <a:ext cx="669600" cy="766800"/>
            </a:xfrm>
            <a:custGeom>
              <a:avLst/>
              <a:gdLst/>
              <a:ahLst/>
              <a:rect l="l" t="t" r="r" b="b"/>
              <a:pathLst>
                <a:path w="3986" h="7739">
                  <a:moveTo>
                    <a:pt x="307" y="3852"/>
                  </a:moveTo>
                  <a:lnTo>
                    <a:pt x="325" y="4459"/>
                  </a:lnTo>
                  <a:lnTo>
                    <a:pt x="377" y="5796"/>
                  </a:lnTo>
                  <a:lnTo>
                    <a:pt x="442" y="7135"/>
                  </a:lnTo>
                  <a:lnTo>
                    <a:pt x="509" y="7739"/>
                  </a:lnTo>
                  <a:lnTo>
                    <a:pt x="3843" y="7381"/>
                  </a:lnTo>
                  <a:lnTo>
                    <a:pt x="3869" y="6777"/>
                  </a:lnTo>
                  <a:lnTo>
                    <a:pt x="3919" y="5447"/>
                  </a:lnTo>
                  <a:lnTo>
                    <a:pt x="3960" y="4081"/>
                  </a:lnTo>
                  <a:lnTo>
                    <a:pt x="3986" y="3410"/>
                  </a:lnTo>
                  <a:lnTo>
                    <a:pt x="3910" y="597"/>
                  </a:lnTo>
                  <a:lnTo>
                    <a:pt x="3903" y="587"/>
                  </a:lnTo>
                  <a:lnTo>
                    <a:pt x="3884" y="562"/>
                  </a:lnTo>
                  <a:lnTo>
                    <a:pt x="3843" y="530"/>
                  </a:lnTo>
                  <a:lnTo>
                    <a:pt x="3786" y="513"/>
                  </a:lnTo>
                  <a:lnTo>
                    <a:pt x="3735" y="504"/>
                  </a:lnTo>
                  <a:lnTo>
                    <a:pt x="3629" y="487"/>
                  </a:lnTo>
                  <a:lnTo>
                    <a:pt x="3461" y="451"/>
                  </a:lnTo>
                  <a:lnTo>
                    <a:pt x="3258" y="419"/>
                  </a:lnTo>
                  <a:lnTo>
                    <a:pt x="3018" y="384"/>
                  </a:lnTo>
                  <a:lnTo>
                    <a:pt x="2750" y="342"/>
                  </a:lnTo>
                  <a:lnTo>
                    <a:pt x="2468" y="291"/>
                  </a:lnTo>
                  <a:lnTo>
                    <a:pt x="2178" y="248"/>
                  </a:lnTo>
                  <a:lnTo>
                    <a:pt x="1887" y="197"/>
                  </a:lnTo>
                  <a:lnTo>
                    <a:pt x="1602" y="155"/>
                  </a:lnTo>
                  <a:lnTo>
                    <a:pt x="1343" y="109"/>
                  </a:lnTo>
                  <a:lnTo>
                    <a:pt x="1109" y="77"/>
                  </a:lnTo>
                  <a:lnTo>
                    <a:pt x="910" y="42"/>
                  </a:lnTo>
                  <a:lnTo>
                    <a:pt x="759" y="16"/>
                  </a:lnTo>
                  <a:lnTo>
                    <a:pt x="657" y="9"/>
                  </a:lnTo>
                  <a:lnTo>
                    <a:pt x="626" y="0"/>
                  </a:lnTo>
                  <a:lnTo>
                    <a:pt x="617" y="0"/>
                  </a:lnTo>
                  <a:lnTo>
                    <a:pt x="601" y="0"/>
                  </a:lnTo>
                  <a:lnTo>
                    <a:pt x="565" y="0"/>
                  </a:lnTo>
                  <a:lnTo>
                    <a:pt x="515" y="9"/>
                  </a:lnTo>
                  <a:lnTo>
                    <a:pt x="458" y="26"/>
                  </a:lnTo>
                  <a:lnTo>
                    <a:pt x="383" y="42"/>
                  </a:lnTo>
                  <a:lnTo>
                    <a:pt x="300" y="77"/>
                  </a:lnTo>
                  <a:lnTo>
                    <a:pt x="209" y="129"/>
                  </a:lnTo>
                  <a:lnTo>
                    <a:pt x="0" y="3790"/>
                  </a:lnTo>
                  <a:lnTo>
                    <a:pt x="307" y="3852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38960" y="4411800"/>
              <a:ext cx="602640" cy="766800"/>
            </a:xfrm>
            <a:custGeom>
              <a:avLst/>
              <a:gdLst/>
              <a:ahLst/>
              <a:rect l="l" t="t" r="r" b="b"/>
              <a:pathLst>
                <a:path w="3593" h="7730">
                  <a:moveTo>
                    <a:pt x="265" y="3355"/>
                  </a:moveTo>
                  <a:lnTo>
                    <a:pt x="283" y="4040"/>
                  </a:lnTo>
                  <a:lnTo>
                    <a:pt x="325" y="5541"/>
                  </a:lnTo>
                  <a:lnTo>
                    <a:pt x="382" y="7049"/>
                  </a:lnTo>
                  <a:lnTo>
                    <a:pt x="442" y="7730"/>
                  </a:lnTo>
                  <a:lnTo>
                    <a:pt x="3460" y="7407"/>
                  </a:lnTo>
                  <a:lnTo>
                    <a:pt x="3486" y="6732"/>
                  </a:lnTo>
                  <a:lnTo>
                    <a:pt x="3526" y="5234"/>
                  </a:lnTo>
                  <a:lnTo>
                    <a:pt x="3577" y="3723"/>
                  </a:lnTo>
                  <a:lnTo>
                    <a:pt x="3593" y="2980"/>
                  </a:lnTo>
                  <a:lnTo>
                    <a:pt x="3511" y="530"/>
                  </a:lnTo>
                  <a:lnTo>
                    <a:pt x="3501" y="521"/>
                  </a:lnTo>
                  <a:lnTo>
                    <a:pt x="3486" y="495"/>
                  </a:lnTo>
                  <a:lnTo>
                    <a:pt x="3451" y="468"/>
                  </a:lnTo>
                  <a:lnTo>
                    <a:pt x="3400" y="453"/>
                  </a:lnTo>
                  <a:lnTo>
                    <a:pt x="3359" y="442"/>
                  </a:lnTo>
                  <a:lnTo>
                    <a:pt x="3258" y="427"/>
                  </a:lnTo>
                  <a:lnTo>
                    <a:pt x="3109" y="401"/>
                  </a:lnTo>
                  <a:lnTo>
                    <a:pt x="2926" y="375"/>
                  </a:lnTo>
                  <a:lnTo>
                    <a:pt x="2717" y="339"/>
                  </a:lnTo>
                  <a:lnTo>
                    <a:pt x="2477" y="297"/>
                  </a:lnTo>
                  <a:lnTo>
                    <a:pt x="2228" y="265"/>
                  </a:lnTo>
                  <a:lnTo>
                    <a:pt x="1968" y="220"/>
                  </a:lnTo>
                  <a:lnTo>
                    <a:pt x="1709" y="179"/>
                  </a:lnTo>
                  <a:lnTo>
                    <a:pt x="1469" y="136"/>
                  </a:lnTo>
                  <a:lnTo>
                    <a:pt x="1235" y="100"/>
                  </a:lnTo>
                  <a:lnTo>
                    <a:pt x="1027" y="68"/>
                  </a:lnTo>
                  <a:lnTo>
                    <a:pt x="849" y="42"/>
                  </a:lnTo>
                  <a:lnTo>
                    <a:pt x="717" y="17"/>
                  </a:lnTo>
                  <a:lnTo>
                    <a:pt x="634" y="7"/>
                  </a:lnTo>
                  <a:lnTo>
                    <a:pt x="600" y="0"/>
                  </a:lnTo>
                  <a:lnTo>
                    <a:pt x="590" y="0"/>
                  </a:lnTo>
                  <a:lnTo>
                    <a:pt x="575" y="0"/>
                  </a:lnTo>
                  <a:lnTo>
                    <a:pt x="540" y="0"/>
                  </a:lnTo>
                  <a:lnTo>
                    <a:pt x="508" y="7"/>
                  </a:lnTo>
                  <a:lnTo>
                    <a:pt x="448" y="17"/>
                  </a:lnTo>
                  <a:lnTo>
                    <a:pt x="391" y="42"/>
                  </a:lnTo>
                  <a:lnTo>
                    <a:pt x="316" y="68"/>
                  </a:lnTo>
                  <a:lnTo>
                    <a:pt x="233" y="110"/>
                  </a:lnTo>
                  <a:lnTo>
                    <a:pt x="0" y="3307"/>
                  </a:lnTo>
                  <a:lnTo>
                    <a:pt x="265" y="3355"/>
                  </a:lnTo>
                  <a:close/>
                </a:path>
              </a:pathLst>
            </a:custGeom>
            <a:solidFill>
              <a:srgbClr val="ff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50120" y="4413240"/>
              <a:ext cx="534960" cy="765360"/>
            </a:xfrm>
            <a:custGeom>
              <a:avLst/>
              <a:gdLst/>
              <a:ahLst/>
              <a:rect l="l" t="t" r="r" b="b"/>
              <a:pathLst>
                <a:path w="3193" h="7723">
                  <a:moveTo>
                    <a:pt x="225" y="2873"/>
                  </a:moveTo>
                  <a:lnTo>
                    <a:pt x="245" y="3632"/>
                  </a:lnTo>
                  <a:lnTo>
                    <a:pt x="276" y="5295"/>
                  </a:lnTo>
                  <a:lnTo>
                    <a:pt x="326" y="6964"/>
                  </a:lnTo>
                  <a:lnTo>
                    <a:pt x="377" y="7723"/>
                  </a:lnTo>
                  <a:lnTo>
                    <a:pt x="3070" y="7426"/>
                  </a:lnTo>
                  <a:lnTo>
                    <a:pt x="3086" y="6677"/>
                  </a:lnTo>
                  <a:lnTo>
                    <a:pt x="3136" y="5031"/>
                  </a:lnTo>
                  <a:lnTo>
                    <a:pt x="3177" y="3368"/>
                  </a:lnTo>
                  <a:lnTo>
                    <a:pt x="3193" y="2567"/>
                  </a:lnTo>
                  <a:lnTo>
                    <a:pt x="3101" y="452"/>
                  </a:lnTo>
                  <a:lnTo>
                    <a:pt x="3095" y="446"/>
                  </a:lnTo>
                  <a:lnTo>
                    <a:pt x="3086" y="426"/>
                  </a:lnTo>
                  <a:lnTo>
                    <a:pt x="3054" y="410"/>
                  </a:lnTo>
                  <a:lnTo>
                    <a:pt x="3009" y="394"/>
                  </a:lnTo>
                  <a:lnTo>
                    <a:pt x="2969" y="384"/>
                  </a:lnTo>
                  <a:lnTo>
                    <a:pt x="2886" y="368"/>
                  </a:lnTo>
                  <a:lnTo>
                    <a:pt x="2760" y="352"/>
                  </a:lnTo>
                  <a:lnTo>
                    <a:pt x="2602" y="326"/>
                  </a:lnTo>
                  <a:lnTo>
                    <a:pt x="2422" y="290"/>
                  </a:lnTo>
                  <a:lnTo>
                    <a:pt x="2213" y="264"/>
                  </a:lnTo>
                  <a:lnTo>
                    <a:pt x="1995" y="223"/>
                  </a:lnTo>
                  <a:lnTo>
                    <a:pt x="1770" y="190"/>
                  </a:lnTo>
                  <a:lnTo>
                    <a:pt x="1546" y="155"/>
                  </a:lnTo>
                  <a:lnTo>
                    <a:pt x="1328" y="119"/>
                  </a:lnTo>
                  <a:lnTo>
                    <a:pt x="1125" y="87"/>
                  </a:lnTo>
                  <a:lnTo>
                    <a:pt x="952" y="61"/>
                  </a:lnTo>
                  <a:lnTo>
                    <a:pt x="794" y="35"/>
                  </a:lnTo>
                  <a:lnTo>
                    <a:pt x="677" y="19"/>
                  </a:lnTo>
                  <a:lnTo>
                    <a:pt x="602" y="0"/>
                  </a:lnTo>
                  <a:lnTo>
                    <a:pt x="575" y="0"/>
                  </a:lnTo>
                  <a:lnTo>
                    <a:pt x="569" y="0"/>
                  </a:lnTo>
                  <a:lnTo>
                    <a:pt x="550" y="0"/>
                  </a:lnTo>
                  <a:lnTo>
                    <a:pt x="525" y="0"/>
                  </a:lnTo>
                  <a:lnTo>
                    <a:pt x="494" y="10"/>
                  </a:lnTo>
                  <a:lnTo>
                    <a:pt x="452" y="19"/>
                  </a:lnTo>
                  <a:lnTo>
                    <a:pt x="393" y="35"/>
                  </a:lnTo>
                  <a:lnTo>
                    <a:pt x="335" y="61"/>
                  </a:lnTo>
                  <a:lnTo>
                    <a:pt x="260" y="93"/>
                  </a:lnTo>
                  <a:lnTo>
                    <a:pt x="0" y="2822"/>
                  </a:lnTo>
                  <a:lnTo>
                    <a:pt x="225" y="2873"/>
                  </a:lnTo>
                  <a:close/>
                </a:path>
              </a:pathLst>
            </a:custGeom>
            <a:solidFill>
              <a:srgbClr val="ffe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0560" y="4413240"/>
              <a:ext cx="470880" cy="765360"/>
            </a:xfrm>
            <a:custGeom>
              <a:avLst/>
              <a:gdLst/>
              <a:ahLst/>
              <a:rect l="l" t="t" r="r" b="b"/>
              <a:pathLst>
                <a:path w="2800" h="7713">
                  <a:moveTo>
                    <a:pt x="184" y="2380"/>
                  </a:moveTo>
                  <a:lnTo>
                    <a:pt x="199" y="3213"/>
                  </a:lnTo>
                  <a:lnTo>
                    <a:pt x="225" y="5046"/>
                  </a:lnTo>
                  <a:lnTo>
                    <a:pt x="268" y="6880"/>
                  </a:lnTo>
                  <a:lnTo>
                    <a:pt x="310" y="7713"/>
                  </a:lnTo>
                  <a:lnTo>
                    <a:pt x="2687" y="7452"/>
                  </a:lnTo>
                  <a:lnTo>
                    <a:pt x="2702" y="6632"/>
                  </a:lnTo>
                  <a:lnTo>
                    <a:pt x="2743" y="4824"/>
                  </a:lnTo>
                  <a:lnTo>
                    <a:pt x="2785" y="3005"/>
                  </a:lnTo>
                  <a:lnTo>
                    <a:pt x="2800" y="2150"/>
                  </a:lnTo>
                  <a:lnTo>
                    <a:pt x="2693" y="384"/>
                  </a:lnTo>
                  <a:lnTo>
                    <a:pt x="2693" y="374"/>
                  </a:lnTo>
                  <a:lnTo>
                    <a:pt x="2677" y="358"/>
                  </a:lnTo>
                  <a:lnTo>
                    <a:pt x="2652" y="342"/>
                  </a:lnTo>
                  <a:lnTo>
                    <a:pt x="2617" y="333"/>
                  </a:lnTo>
                  <a:lnTo>
                    <a:pt x="2585" y="322"/>
                  </a:lnTo>
                  <a:lnTo>
                    <a:pt x="2509" y="316"/>
                  </a:lnTo>
                  <a:lnTo>
                    <a:pt x="2402" y="297"/>
                  </a:lnTo>
                  <a:lnTo>
                    <a:pt x="2269" y="274"/>
                  </a:lnTo>
                  <a:lnTo>
                    <a:pt x="2112" y="248"/>
                  </a:lnTo>
                  <a:lnTo>
                    <a:pt x="1937" y="222"/>
                  </a:lnTo>
                  <a:lnTo>
                    <a:pt x="1755" y="187"/>
                  </a:lnTo>
                  <a:lnTo>
                    <a:pt x="1562" y="162"/>
                  </a:lnTo>
                  <a:lnTo>
                    <a:pt x="1368" y="129"/>
                  </a:lnTo>
                  <a:lnTo>
                    <a:pt x="1186" y="103"/>
                  </a:lnTo>
                  <a:lnTo>
                    <a:pt x="1011" y="77"/>
                  </a:lnTo>
                  <a:lnTo>
                    <a:pt x="860" y="51"/>
                  </a:lnTo>
                  <a:lnTo>
                    <a:pt x="727" y="25"/>
                  </a:lnTo>
                  <a:lnTo>
                    <a:pt x="626" y="16"/>
                  </a:lnTo>
                  <a:lnTo>
                    <a:pt x="569" y="0"/>
                  </a:lnTo>
                  <a:lnTo>
                    <a:pt x="544" y="0"/>
                  </a:lnTo>
                  <a:lnTo>
                    <a:pt x="535" y="0"/>
                  </a:lnTo>
                  <a:lnTo>
                    <a:pt x="525" y="0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43" y="9"/>
                  </a:lnTo>
                  <a:lnTo>
                    <a:pt x="392" y="25"/>
                  </a:lnTo>
                  <a:lnTo>
                    <a:pt x="341" y="42"/>
                  </a:lnTo>
                  <a:lnTo>
                    <a:pt x="284" y="77"/>
                  </a:lnTo>
                  <a:lnTo>
                    <a:pt x="0" y="2344"/>
                  </a:lnTo>
                  <a:lnTo>
                    <a:pt x="184" y="2380"/>
                  </a:lnTo>
                  <a:close/>
                </a:path>
              </a:pathLst>
            </a:custGeom>
            <a:solidFill>
              <a:srgbClr val="ff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71360" y="4414680"/>
              <a:ext cx="406080" cy="763920"/>
            </a:xfrm>
            <a:custGeom>
              <a:avLst/>
              <a:gdLst/>
              <a:ahLst/>
              <a:rect l="l" t="t" r="r" b="b"/>
              <a:pathLst>
                <a:path w="2415" h="7704">
                  <a:moveTo>
                    <a:pt x="149" y="1883"/>
                  </a:moveTo>
                  <a:lnTo>
                    <a:pt x="158" y="2793"/>
                  </a:lnTo>
                  <a:lnTo>
                    <a:pt x="183" y="4789"/>
                  </a:lnTo>
                  <a:lnTo>
                    <a:pt x="215" y="6794"/>
                  </a:lnTo>
                  <a:lnTo>
                    <a:pt x="250" y="7704"/>
                  </a:lnTo>
                  <a:lnTo>
                    <a:pt x="2307" y="7475"/>
                  </a:lnTo>
                  <a:lnTo>
                    <a:pt x="2323" y="6587"/>
                  </a:lnTo>
                  <a:lnTo>
                    <a:pt x="2368" y="4618"/>
                  </a:lnTo>
                  <a:lnTo>
                    <a:pt x="2399" y="2651"/>
                  </a:lnTo>
                  <a:lnTo>
                    <a:pt x="2415" y="1721"/>
                  </a:lnTo>
                  <a:lnTo>
                    <a:pt x="2307" y="313"/>
                  </a:lnTo>
                  <a:lnTo>
                    <a:pt x="2307" y="307"/>
                  </a:lnTo>
                  <a:lnTo>
                    <a:pt x="2295" y="298"/>
                  </a:lnTo>
                  <a:lnTo>
                    <a:pt x="2279" y="281"/>
                  </a:lnTo>
                  <a:lnTo>
                    <a:pt x="2244" y="265"/>
                  </a:lnTo>
                  <a:lnTo>
                    <a:pt x="2219" y="256"/>
                  </a:lnTo>
                  <a:lnTo>
                    <a:pt x="2162" y="245"/>
                  </a:lnTo>
                  <a:lnTo>
                    <a:pt x="2070" y="239"/>
                  </a:lnTo>
                  <a:lnTo>
                    <a:pt x="1960" y="220"/>
                  </a:lnTo>
                  <a:lnTo>
                    <a:pt x="1827" y="194"/>
                  </a:lnTo>
                  <a:lnTo>
                    <a:pt x="1685" y="178"/>
                  </a:lnTo>
                  <a:lnTo>
                    <a:pt x="1527" y="153"/>
                  </a:lnTo>
                  <a:lnTo>
                    <a:pt x="1369" y="126"/>
                  </a:lnTo>
                  <a:lnTo>
                    <a:pt x="1210" y="100"/>
                  </a:lnTo>
                  <a:lnTo>
                    <a:pt x="1059" y="84"/>
                  </a:lnTo>
                  <a:lnTo>
                    <a:pt x="917" y="59"/>
                  </a:lnTo>
                  <a:lnTo>
                    <a:pt x="783" y="42"/>
                  </a:lnTo>
                  <a:lnTo>
                    <a:pt x="683" y="26"/>
                  </a:lnTo>
                  <a:lnTo>
                    <a:pt x="601" y="7"/>
                  </a:lnTo>
                  <a:lnTo>
                    <a:pt x="540" y="0"/>
                  </a:lnTo>
                  <a:lnTo>
                    <a:pt x="525" y="0"/>
                  </a:lnTo>
                  <a:lnTo>
                    <a:pt x="509" y="0"/>
                  </a:lnTo>
                  <a:lnTo>
                    <a:pt x="475" y="0"/>
                  </a:lnTo>
                  <a:lnTo>
                    <a:pt x="408" y="16"/>
                  </a:lnTo>
                  <a:lnTo>
                    <a:pt x="316" y="59"/>
                  </a:lnTo>
                  <a:lnTo>
                    <a:pt x="0" y="1856"/>
                  </a:lnTo>
                  <a:lnTo>
                    <a:pt x="149" y="1883"/>
                  </a:lnTo>
                  <a:close/>
                </a:path>
              </a:pathLst>
            </a:custGeom>
            <a:solidFill>
              <a:srgbClr val="ffe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2520" y="4414680"/>
              <a:ext cx="338400" cy="763920"/>
            </a:xfrm>
            <a:custGeom>
              <a:avLst/>
              <a:gdLst/>
              <a:ahLst/>
              <a:rect l="l" t="t" r="r" b="b"/>
              <a:pathLst>
                <a:path w="2020" h="7704">
                  <a:moveTo>
                    <a:pt x="108" y="1399"/>
                  </a:moveTo>
                  <a:lnTo>
                    <a:pt x="117" y="2386"/>
                  </a:lnTo>
                  <a:lnTo>
                    <a:pt x="133" y="4550"/>
                  </a:lnTo>
                  <a:lnTo>
                    <a:pt x="158" y="6716"/>
                  </a:lnTo>
                  <a:lnTo>
                    <a:pt x="184" y="7704"/>
                  </a:lnTo>
                  <a:lnTo>
                    <a:pt x="1928" y="7501"/>
                  </a:lnTo>
                  <a:lnTo>
                    <a:pt x="1944" y="6538"/>
                  </a:lnTo>
                  <a:lnTo>
                    <a:pt x="1979" y="4424"/>
                  </a:lnTo>
                  <a:lnTo>
                    <a:pt x="2004" y="2303"/>
                  </a:lnTo>
                  <a:lnTo>
                    <a:pt x="2020" y="1311"/>
                  </a:lnTo>
                  <a:lnTo>
                    <a:pt x="1903" y="245"/>
                  </a:lnTo>
                  <a:lnTo>
                    <a:pt x="1894" y="230"/>
                  </a:lnTo>
                  <a:lnTo>
                    <a:pt x="1878" y="220"/>
                  </a:lnTo>
                  <a:lnTo>
                    <a:pt x="1862" y="213"/>
                  </a:lnTo>
                  <a:lnTo>
                    <a:pt x="1844" y="213"/>
                  </a:lnTo>
                  <a:lnTo>
                    <a:pt x="1796" y="204"/>
                  </a:lnTo>
                  <a:lnTo>
                    <a:pt x="1719" y="194"/>
                  </a:lnTo>
                  <a:lnTo>
                    <a:pt x="1635" y="178"/>
                  </a:lnTo>
                  <a:lnTo>
                    <a:pt x="1527" y="162"/>
                  </a:lnTo>
                  <a:lnTo>
                    <a:pt x="1420" y="145"/>
                  </a:lnTo>
                  <a:lnTo>
                    <a:pt x="1294" y="126"/>
                  </a:lnTo>
                  <a:lnTo>
                    <a:pt x="1166" y="100"/>
                  </a:lnTo>
                  <a:lnTo>
                    <a:pt x="1043" y="84"/>
                  </a:lnTo>
                  <a:lnTo>
                    <a:pt x="926" y="68"/>
                  </a:lnTo>
                  <a:lnTo>
                    <a:pt x="809" y="51"/>
                  </a:lnTo>
                  <a:lnTo>
                    <a:pt x="708" y="33"/>
                  </a:lnTo>
                  <a:lnTo>
                    <a:pt x="627" y="16"/>
                  </a:lnTo>
                  <a:lnTo>
                    <a:pt x="560" y="7"/>
                  </a:lnTo>
                  <a:lnTo>
                    <a:pt x="516" y="0"/>
                  </a:lnTo>
                  <a:lnTo>
                    <a:pt x="500" y="0"/>
                  </a:lnTo>
                  <a:lnTo>
                    <a:pt x="490" y="0"/>
                  </a:lnTo>
                  <a:lnTo>
                    <a:pt x="459" y="0"/>
                  </a:lnTo>
                  <a:lnTo>
                    <a:pt x="409" y="16"/>
                  </a:lnTo>
                  <a:lnTo>
                    <a:pt x="342" y="51"/>
                  </a:lnTo>
                  <a:lnTo>
                    <a:pt x="0" y="1382"/>
                  </a:lnTo>
                  <a:lnTo>
                    <a:pt x="108" y="1399"/>
                  </a:lnTo>
                  <a:close/>
                </a:path>
              </a:pathLst>
            </a:custGeom>
            <a:solidFill>
              <a:srgbClr val="ff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92600" y="4414680"/>
              <a:ext cx="274320" cy="763920"/>
            </a:xfrm>
            <a:custGeom>
              <a:avLst/>
              <a:gdLst/>
              <a:ahLst/>
              <a:rect l="l" t="t" r="r" b="b"/>
              <a:pathLst>
                <a:path w="1627" h="7697">
                  <a:moveTo>
                    <a:pt x="66" y="913"/>
                  </a:moveTo>
                  <a:lnTo>
                    <a:pt x="75" y="1969"/>
                  </a:lnTo>
                  <a:lnTo>
                    <a:pt x="82" y="4304"/>
                  </a:lnTo>
                  <a:lnTo>
                    <a:pt x="108" y="6641"/>
                  </a:lnTo>
                  <a:lnTo>
                    <a:pt x="123" y="7697"/>
                  </a:lnTo>
                  <a:lnTo>
                    <a:pt x="1536" y="7529"/>
                  </a:lnTo>
                  <a:lnTo>
                    <a:pt x="1552" y="6496"/>
                  </a:lnTo>
                  <a:lnTo>
                    <a:pt x="1587" y="4220"/>
                  </a:lnTo>
                  <a:lnTo>
                    <a:pt x="1612" y="1946"/>
                  </a:lnTo>
                  <a:lnTo>
                    <a:pt x="1627" y="897"/>
                  </a:lnTo>
                  <a:lnTo>
                    <a:pt x="1501" y="181"/>
                  </a:lnTo>
                  <a:lnTo>
                    <a:pt x="1495" y="171"/>
                  </a:lnTo>
                  <a:lnTo>
                    <a:pt x="1476" y="164"/>
                  </a:lnTo>
                  <a:lnTo>
                    <a:pt x="1470" y="155"/>
                  </a:lnTo>
                  <a:lnTo>
                    <a:pt x="1419" y="146"/>
                  </a:lnTo>
                  <a:lnTo>
                    <a:pt x="1302" y="129"/>
                  </a:lnTo>
                  <a:lnTo>
                    <a:pt x="1144" y="103"/>
                  </a:lnTo>
                  <a:lnTo>
                    <a:pt x="960" y="77"/>
                  </a:lnTo>
                  <a:lnTo>
                    <a:pt x="784" y="52"/>
                  </a:lnTo>
                  <a:lnTo>
                    <a:pt x="625" y="26"/>
                  </a:lnTo>
                  <a:lnTo>
                    <a:pt x="518" y="9"/>
                  </a:lnTo>
                  <a:lnTo>
                    <a:pt x="474" y="0"/>
                  </a:lnTo>
                  <a:lnTo>
                    <a:pt x="468" y="0"/>
                  </a:lnTo>
                  <a:lnTo>
                    <a:pt x="449" y="0"/>
                  </a:lnTo>
                  <a:lnTo>
                    <a:pt x="407" y="9"/>
                  </a:lnTo>
                  <a:lnTo>
                    <a:pt x="367" y="35"/>
                  </a:lnTo>
                  <a:lnTo>
                    <a:pt x="0" y="897"/>
                  </a:lnTo>
                  <a:lnTo>
                    <a:pt x="66" y="913"/>
                  </a:lnTo>
                  <a:close/>
                </a:path>
              </a:pathLst>
            </a:custGeom>
            <a:solidFill>
              <a:srgbClr val="ff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3760" y="4416480"/>
              <a:ext cx="206640" cy="762120"/>
            </a:xfrm>
            <a:custGeom>
              <a:avLst/>
              <a:gdLst/>
              <a:ahLst/>
              <a:rect l="l" t="t" r="r" b="b"/>
              <a:pathLst>
                <a:path w="1226" h="7688">
                  <a:moveTo>
                    <a:pt x="32" y="426"/>
                  </a:moveTo>
                  <a:lnTo>
                    <a:pt x="32" y="1560"/>
                  </a:lnTo>
                  <a:lnTo>
                    <a:pt x="42" y="4056"/>
                  </a:lnTo>
                  <a:lnTo>
                    <a:pt x="51" y="6555"/>
                  </a:lnTo>
                  <a:lnTo>
                    <a:pt x="57" y="7688"/>
                  </a:lnTo>
                  <a:lnTo>
                    <a:pt x="1151" y="7553"/>
                  </a:lnTo>
                  <a:lnTo>
                    <a:pt x="1161" y="6452"/>
                  </a:lnTo>
                  <a:lnTo>
                    <a:pt x="1195" y="4024"/>
                  </a:lnTo>
                  <a:lnTo>
                    <a:pt x="1220" y="1595"/>
                  </a:lnTo>
                  <a:lnTo>
                    <a:pt x="1226" y="479"/>
                  </a:lnTo>
                  <a:lnTo>
                    <a:pt x="1094" y="110"/>
                  </a:lnTo>
                  <a:lnTo>
                    <a:pt x="1084" y="104"/>
                  </a:lnTo>
                  <a:lnTo>
                    <a:pt x="1078" y="94"/>
                  </a:lnTo>
                  <a:lnTo>
                    <a:pt x="1044" y="94"/>
                  </a:lnTo>
                  <a:lnTo>
                    <a:pt x="977" y="78"/>
                  </a:lnTo>
                  <a:lnTo>
                    <a:pt x="876" y="68"/>
                  </a:lnTo>
                  <a:lnTo>
                    <a:pt x="759" y="43"/>
                  </a:lnTo>
                  <a:lnTo>
                    <a:pt x="642" y="26"/>
                  </a:lnTo>
                  <a:lnTo>
                    <a:pt x="550" y="17"/>
                  </a:lnTo>
                  <a:lnTo>
                    <a:pt x="474" y="0"/>
                  </a:lnTo>
                  <a:lnTo>
                    <a:pt x="452" y="0"/>
                  </a:lnTo>
                  <a:lnTo>
                    <a:pt x="443" y="0"/>
                  </a:lnTo>
                  <a:lnTo>
                    <a:pt x="433" y="0"/>
                  </a:lnTo>
                  <a:lnTo>
                    <a:pt x="417" y="10"/>
                  </a:lnTo>
                  <a:lnTo>
                    <a:pt x="392" y="17"/>
                  </a:lnTo>
                  <a:lnTo>
                    <a:pt x="0" y="417"/>
                  </a:lnTo>
                  <a:lnTo>
                    <a:pt x="32" y="426"/>
                  </a:lnTo>
                  <a:close/>
                </a:path>
              </a:pathLst>
            </a:custGeom>
            <a:solidFill>
              <a:srgbClr val="ffe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14200" y="4410000"/>
              <a:ext cx="140040" cy="768600"/>
            </a:xfrm>
            <a:custGeom>
              <a:avLst/>
              <a:gdLst/>
              <a:ahLst/>
              <a:rect l="l" t="t" r="r" b="b"/>
              <a:pathLst>
                <a:path w="844" h="7749">
                  <a:moveTo>
                    <a:pt x="0" y="0"/>
                  </a:moveTo>
                  <a:lnTo>
                    <a:pt x="0" y="7749"/>
                  </a:lnTo>
                  <a:lnTo>
                    <a:pt x="778" y="7640"/>
                  </a:lnTo>
                  <a:lnTo>
                    <a:pt x="844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36720" y="4408560"/>
              <a:ext cx="115920" cy="774720"/>
            </a:xfrm>
            <a:custGeom>
              <a:avLst/>
              <a:gdLst/>
              <a:ahLst/>
              <a:rect l="l" t="t" r="r" b="b"/>
              <a:pathLst>
                <a:path w="692" h="7816">
                  <a:moveTo>
                    <a:pt x="0" y="280"/>
                  </a:moveTo>
                  <a:lnTo>
                    <a:pt x="26" y="261"/>
                  </a:lnTo>
                  <a:lnTo>
                    <a:pt x="92" y="238"/>
                  </a:lnTo>
                  <a:lnTo>
                    <a:pt x="193" y="187"/>
                  </a:lnTo>
                  <a:lnTo>
                    <a:pt x="301" y="135"/>
                  </a:lnTo>
                  <a:lnTo>
                    <a:pt x="427" y="83"/>
                  </a:lnTo>
                  <a:lnTo>
                    <a:pt x="534" y="32"/>
                  </a:lnTo>
                  <a:lnTo>
                    <a:pt x="626" y="6"/>
                  </a:lnTo>
                  <a:lnTo>
                    <a:pt x="692" y="0"/>
                  </a:lnTo>
                  <a:lnTo>
                    <a:pt x="692" y="7816"/>
                  </a:lnTo>
                  <a:lnTo>
                    <a:pt x="0" y="767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e0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6440" y="4408560"/>
              <a:ext cx="23760" cy="774720"/>
            </a:xfrm>
            <a:custGeom>
              <a:avLst/>
              <a:gdLst/>
              <a:ahLst/>
              <a:rect l="l" t="t" r="r" b="b"/>
              <a:pathLst>
                <a:path w="142" h="7817">
                  <a:moveTo>
                    <a:pt x="0" y="112"/>
                  </a:moveTo>
                  <a:lnTo>
                    <a:pt x="0" y="7791"/>
                  </a:lnTo>
                  <a:lnTo>
                    <a:pt x="10" y="7801"/>
                  </a:lnTo>
                  <a:lnTo>
                    <a:pt x="41" y="7810"/>
                  </a:lnTo>
                  <a:lnTo>
                    <a:pt x="91" y="7817"/>
                  </a:lnTo>
                  <a:lnTo>
                    <a:pt x="142" y="7801"/>
                  </a:lnTo>
                  <a:lnTo>
                    <a:pt x="142" y="112"/>
                  </a:lnTo>
                  <a:lnTo>
                    <a:pt x="142" y="77"/>
                  </a:lnTo>
                  <a:lnTo>
                    <a:pt x="133" y="16"/>
                  </a:lnTo>
                  <a:lnTo>
                    <a:pt x="91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e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26280" y="4417920"/>
              <a:ext cx="1221480" cy="117720"/>
            </a:xfrm>
            <a:custGeom>
              <a:avLst/>
              <a:gdLst/>
              <a:ahLst/>
              <a:rect l="l" t="t" r="r" b="b"/>
              <a:pathLst>
                <a:path w="7260" h="1184">
                  <a:moveTo>
                    <a:pt x="66" y="265"/>
                  </a:moveTo>
                  <a:lnTo>
                    <a:pt x="752" y="0"/>
                  </a:lnTo>
                  <a:lnTo>
                    <a:pt x="7209" y="1033"/>
                  </a:lnTo>
                  <a:lnTo>
                    <a:pt x="7218" y="1039"/>
                  </a:lnTo>
                  <a:lnTo>
                    <a:pt x="7234" y="1049"/>
                  </a:lnTo>
                  <a:lnTo>
                    <a:pt x="7251" y="1075"/>
                  </a:lnTo>
                  <a:lnTo>
                    <a:pt x="7260" y="1116"/>
                  </a:lnTo>
                  <a:lnTo>
                    <a:pt x="7243" y="1152"/>
                  </a:lnTo>
                  <a:lnTo>
                    <a:pt x="7224" y="1178"/>
                  </a:lnTo>
                  <a:lnTo>
                    <a:pt x="7209" y="1184"/>
                  </a:lnTo>
                  <a:lnTo>
                    <a:pt x="7199" y="1184"/>
                  </a:lnTo>
                  <a:lnTo>
                    <a:pt x="759" y="161"/>
                  </a:lnTo>
                  <a:lnTo>
                    <a:pt x="85" y="419"/>
                  </a:lnTo>
                  <a:lnTo>
                    <a:pt x="66" y="419"/>
                  </a:lnTo>
                  <a:lnTo>
                    <a:pt x="34" y="409"/>
                  </a:lnTo>
                  <a:lnTo>
                    <a:pt x="9" y="394"/>
                  </a:lnTo>
                  <a:lnTo>
                    <a:pt x="0" y="358"/>
                  </a:lnTo>
                  <a:lnTo>
                    <a:pt x="16" y="316"/>
                  </a:lnTo>
                  <a:lnTo>
                    <a:pt x="34" y="291"/>
                  </a:lnTo>
                  <a:lnTo>
                    <a:pt x="59" y="274"/>
                  </a:lnTo>
                  <a:lnTo>
                    <a:pt x="66" y="265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72400" y="4591080"/>
              <a:ext cx="18720" cy="27000"/>
            </a:xfrm>
            <a:custGeom>
              <a:avLst/>
              <a:gdLst/>
              <a:ahLst/>
              <a:rect l="l" t="t" r="r" b="b"/>
              <a:pathLst>
                <a:path w="107" h="265">
                  <a:moveTo>
                    <a:pt x="107" y="68"/>
                  </a:moveTo>
                  <a:lnTo>
                    <a:pt x="82" y="68"/>
                  </a:lnTo>
                  <a:lnTo>
                    <a:pt x="82" y="53"/>
                  </a:lnTo>
                  <a:lnTo>
                    <a:pt x="72" y="42"/>
                  </a:lnTo>
                  <a:lnTo>
                    <a:pt x="72" y="33"/>
                  </a:lnTo>
                  <a:lnTo>
                    <a:pt x="66" y="33"/>
                  </a:lnTo>
                  <a:lnTo>
                    <a:pt x="56" y="33"/>
                  </a:lnTo>
                  <a:lnTo>
                    <a:pt x="47" y="33"/>
                  </a:lnTo>
                  <a:lnTo>
                    <a:pt x="47" y="42"/>
                  </a:lnTo>
                  <a:lnTo>
                    <a:pt x="41" y="42"/>
                  </a:lnTo>
                  <a:lnTo>
                    <a:pt x="41" y="53"/>
                  </a:lnTo>
                  <a:lnTo>
                    <a:pt x="41" y="59"/>
                  </a:lnTo>
                  <a:lnTo>
                    <a:pt x="41" y="68"/>
                  </a:lnTo>
                  <a:lnTo>
                    <a:pt x="41" y="74"/>
                  </a:lnTo>
                  <a:lnTo>
                    <a:pt x="47" y="85"/>
                  </a:lnTo>
                  <a:lnTo>
                    <a:pt x="92" y="153"/>
                  </a:lnTo>
                  <a:lnTo>
                    <a:pt x="98" y="162"/>
                  </a:lnTo>
                  <a:lnTo>
                    <a:pt x="98" y="171"/>
                  </a:lnTo>
                  <a:lnTo>
                    <a:pt x="98" y="188"/>
                  </a:lnTo>
                  <a:lnTo>
                    <a:pt x="98" y="194"/>
                  </a:lnTo>
                  <a:lnTo>
                    <a:pt x="98" y="204"/>
                  </a:lnTo>
                  <a:lnTo>
                    <a:pt x="98" y="214"/>
                  </a:lnTo>
                  <a:lnTo>
                    <a:pt x="98" y="230"/>
                  </a:lnTo>
                  <a:lnTo>
                    <a:pt x="98" y="239"/>
                  </a:lnTo>
                  <a:lnTo>
                    <a:pt x="92" y="245"/>
                  </a:lnTo>
                  <a:lnTo>
                    <a:pt x="82" y="256"/>
                  </a:lnTo>
                  <a:lnTo>
                    <a:pt x="72" y="256"/>
                  </a:lnTo>
                  <a:lnTo>
                    <a:pt x="66" y="265"/>
                  </a:lnTo>
                  <a:lnTo>
                    <a:pt x="56" y="265"/>
                  </a:lnTo>
                  <a:lnTo>
                    <a:pt x="41" y="265"/>
                  </a:lnTo>
                  <a:lnTo>
                    <a:pt x="31" y="265"/>
                  </a:lnTo>
                  <a:lnTo>
                    <a:pt x="22" y="256"/>
                  </a:lnTo>
                  <a:lnTo>
                    <a:pt x="15" y="256"/>
                  </a:lnTo>
                  <a:lnTo>
                    <a:pt x="6" y="245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0" y="214"/>
                  </a:lnTo>
                  <a:lnTo>
                    <a:pt x="0" y="204"/>
                  </a:lnTo>
                  <a:lnTo>
                    <a:pt x="15" y="204"/>
                  </a:lnTo>
                  <a:lnTo>
                    <a:pt x="15" y="214"/>
                  </a:lnTo>
                  <a:lnTo>
                    <a:pt x="22" y="214"/>
                  </a:lnTo>
                  <a:lnTo>
                    <a:pt x="22" y="220"/>
                  </a:lnTo>
                  <a:lnTo>
                    <a:pt x="22" y="230"/>
                  </a:lnTo>
                  <a:lnTo>
                    <a:pt x="31" y="230"/>
                  </a:lnTo>
                  <a:lnTo>
                    <a:pt x="41" y="230"/>
                  </a:lnTo>
                  <a:lnTo>
                    <a:pt x="47" y="230"/>
                  </a:lnTo>
                  <a:lnTo>
                    <a:pt x="56" y="230"/>
                  </a:lnTo>
                  <a:lnTo>
                    <a:pt x="56" y="220"/>
                  </a:lnTo>
                  <a:lnTo>
                    <a:pt x="56" y="214"/>
                  </a:lnTo>
                  <a:lnTo>
                    <a:pt x="56" y="204"/>
                  </a:lnTo>
                  <a:lnTo>
                    <a:pt x="56" y="194"/>
                  </a:lnTo>
                  <a:lnTo>
                    <a:pt x="56" y="188"/>
                  </a:lnTo>
                  <a:lnTo>
                    <a:pt x="15" y="110"/>
                  </a:lnTo>
                  <a:lnTo>
                    <a:pt x="6" y="101"/>
                  </a:lnTo>
                  <a:lnTo>
                    <a:pt x="6" y="9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6" y="33"/>
                  </a:lnTo>
                  <a:lnTo>
                    <a:pt x="6" y="26"/>
                  </a:lnTo>
                  <a:lnTo>
                    <a:pt x="15" y="17"/>
                  </a:lnTo>
                  <a:lnTo>
                    <a:pt x="22" y="7"/>
                  </a:lnTo>
                  <a:lnTo>
                    <a:pt x="31" y="7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66" y="7"/>
                  </a:lnTo>
                  <a:lnTo>
                    <a:pt x="82" y="7"/>
                  </a:lnTo>
                  <a:lnTo>
                    <a:pt x="98" y="26"/>
                  </a:lnTo>
                  <a:lnTo>
                    <a:pt x="107" y="42"/>
                  </a:lnTo>
                  <a:lnTo>
                    <a:pt x="107" y="68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63840" y="4595760"/>
              <a:ext cx="18720" cy="23760"/>
            </a:xfrm>
            <a:custGeom>
              <a:avLst/>
              <a:gdLst/>
              <a:ahLst/>
              <a:rect l="l" t="t" r="r" b="b"/>
              <a:pathLst>
                <a:path w="123" h="249">
                  <a:moveTo>
                    <a:pt x="72" y="249"/>
                  </a:moveTo>
                  <a:lnTo>
                    <a:pt x="32" y="240"/>
                  </a:lnTo>
                  <a:lnTo>
                    <a:pt x="41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3" y="11"/>
                  </a:lnTo>
                  <a:lnTo>
                    <a:pt x="123" y="32"/>
                  </a:lnTo>
                  <a:lnTo>
                    <a:pt x="82" y="32"/>
                  </a:lnTo>
                  <a:lnTo>
                    <a:pt x="72" y="2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63200" y="4602240"/>
              <a:ext cx="7920" cy="612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16" y="0"/>
                  </a:moveTo>
                  <a:lnTo>
                    <a:pt x="25" y="0"/>
                  </a:lnTo>
                  <a:lnTo>
                    <a:pt x="32" y="0"/>
                  </a:lnTo>
                  <a:lnTo>
                    <a:pt x="32" y="10"/>
                  </a:lnTo>
                  <a:lnTo>
                    <a:pt x="41" y="10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52"/>
                  </a:lnTo>
                  <a:lnTo>
                    <a:pt x="41" y="61"/>
                  </a:lnTo>
                  <a:lnTo>
                    <a:pt x="32" y="61"/>
                  </a:lnTo>
                  <a:lnTo>
                    <a:pt x="32" y="68"/>
                  </a:lnTo>
                  <a:lnTo>
                    <a:pt x="25" y="68"/>
                  </a:lnTo>
                  <a:lnTo>
                    <a:pt x="16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5280" y="4599000"/>
              <a:ext cx="21240" cy="22320"/>
            </a:xfrm>
            <a:custGeom>
              <a:avLst/>
              <a:gdLst/>
              <a:ahLst/>
              <a:rect l="l" t="t" r="r" b="b"/>
              <a:pathLst>
                <a:path w="134" h="233">
                  <a:moveTo>
                    <a:pt x="51" y="130"/>
                  </a:moveTo>
                  <a:lnTo>
                    <a:pt x="67" y="130"/>
                  </a:lnTo>
                  <a:lnTo>
                    <a:pt x="76" y="130"/>
                  </a:lnTo>
                  <a:lnTo>
                    <a:pt x="76" y="140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92" y="146"/>
                  </a:lnTo>
                  <a:lnTo>
                    <a:pt x="92" y="156"/>
                  </a:lnTo>
                  <a:lnTo>
                    <a:pt x="83" y="233"/>
                  </a:lnTo>
                  <a:lnTo>
                    <a:pt x="128" y="233"/>
                  </a:lnTo>
                  <a:lnTo>
                    <a:pt x="134" y="146"/>
                  </a:lnTo>
                  <a:lnTo>
                    <a:pt x="134" y="140"/>
                  </a:lnTo>
                  <a:lnTo>
                    <a:pt x="128" y="140"/>
                  </a:lnTo>
                  <a:lnTo>
                    <a:pt x="128" y="130"/>
                  </a:lnTo>
                  <a:lnTo>
                    <a:pt x="118" y="120"/>
                  </a:lnTo>
                  <a:lnTo>
                    <a:pt x="108" y="120"/>
                  </a:lnTo>
                  <a:lnTo>
                    <a:pt x="92" y="120"/>
                  </a:lnTo>
                  <a:lnTo>
                    <a:pt x="101" y="120"/>
                  </a:lnTo>
                  <a:lnTo>
                    <a:pt x="108" y="114"/>
                  </a:lnTo>
                  <a:lnTo>
                    <a:pt x="118" y="114"/>
                  </a:lnTo>
                  <a:lnTo>
                    <a:pt x="118" y="104"/>
                  </a:lnTo>
                  <a:lnTo>
                    <a:pt x="128" y="97"/>
                  </a:lnTo>
                  <a:lnTo>
                    <a:pt x="128" y="88"/>
                  </a:lnTo>
                  <a:lnTo>
                    <a:pt x="134" y="88"/>
                  </a:lnTo>
                  <a:lnTo>
                    <a:pt x="134" y="79"/>
                  </a:lnTo>
                  <a:lnTo>
                    <a:pt x="134" y="62"/>
                  </a:lnTo>
                  <a:lnTo>
                    <a:pt x="134" y="53"/>
                  </a:lnTo>
                  <a:lnTo>
                    <a:pt x="128" y="46"/>
                  </a:lnTo>
                  <a:lnTo>
                    <a:pt x="128" y="36"/>
                  </a:lnTo>
                  <a:lnTo>
                    <a:pt x="118" y="27"/>
                  </a:lnTo>
                  <a:lnTo>
                    <a:pt x="108" y="20"/>
                  </a:lnTo>
                  <a:lnTo>
                    <a:pt x="101" y="11"/>
                  </a:lnTo>
                  <a:lnTo>
                    <a:pt x="92" y="11"/>
                  </a:lnTo>
                  <a:lnTo>
                    <a:pt x="11" y="0"/>
                  </a:lnTo>
                  <a:lnTo>
                    <a:pt x="0" y="233"/>
                  </a:lnTo>
                  <a:lnTo>
                    <a:pt x="42" y="233"/>
                  </a:lnTo>
                  <a:lnTo>
                    <a:pt x="51" y="13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4640" y="4603680"/>
              <a:ext cx="10800" cy="19080"/>
            </a:xfrm>
            <a:custGeom>
              <a:avLst/>
              <a:gdLst/>
              <a:ahLst/>
              <a:rect l="l" t="t" r="r" b="b"/>
              <a:pathLst>
                <a:path w="50" h="204">
                  <a:moveTo>
                    <a:pt x="41" y="204"/>
                  </a:moveTo>
                  <a:lnTo>
                    <a:pt x="0" y="204"/>
                  </a:lnTo>
                  <a:lnTo>
                    <a:pt x="10" y="0"/>
                  </a:lnTo>
                  <a:lnTo>
                    <a:pt x="50" y="0"/>
                  </a:lnTo>
                  <a:lnTo>
                    <a:pt x="41" y="20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3920" y="4606920"/>
              <a:ext cx="23760" cy="17640"/>
            </a:xfrm>
            <a:custGeom>
              <a:avLst/>
              <a:gdLst/>
              <a:ahLst/>
              <a:rect l="l" t="t" r="r" b="b"/>
              <a:pathLst>
                <a:path w="149" h="186">
                  <a:moveTo>
                    <a:pt x="42" y="186"/>
                  </a:moveTo>
                  <a:lnTo>
                    <a:pt x="0" y="186"/>
                  </a:lnTo>
                  <a:lnTo>
                    <a:pt x="7" y="0"/>
                  </a:lnTo>
                  <a:lnTo>
                    <a:pt x="51" y="0"/>
                  </a:lnTo>
                  <a:lnTo>
                    <a:pt x="51" y="77"/>
                  </a:lnTo>
                  <a:lnTo>
                    <a:pt x="118" y="9"/>
                  </a:lnTo>
                  <a:lnTo>
                    <a:pt x="149" y="9"/>
                  </a:lnTo>
                  <a:lnTo>
                    <a:pt x="67" y="92"/>
                  </a:lnTo>
                  <a:lnTo>
                    <a:pt x="149" y="186"/>
                  </a:lnTo>
                  <a:lnTo>
                    <a:pt x="108" y="186"/>
                  </a:lnTo>
                  <a:lnTo>
                    <a:pt x="51" y="112"/>
                  </a:lnTo>
                  <a:lnTo>
                    <a:pt x="42" y="186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3280" y="4610160"/>
              <a:ext cx="18720" cy="17280"/>
            </a:xfrm>
            <a:custGeom>
              <a:avLst/>
              <a:gdLst/>
              <a:ahLst/>
              <a:rect l="l" t="t" r="r" b="b"/>
              <a:pathLst>
                <a:path w="108" h="171">
                  <a:moveTo>
                    <a:pt x="108" y="171"/>
                  </a:moveTo>
                  <a:lnTo>
                    <a:pt x="0" y="162"/>
                  </a:lnTo>
                  <a:lnTo>
                    <a:pt x="10" y="0"/>
                  </a:lnTo>
                  <a:lnTo>
                    <a:pt x="108" y="6"/>
                  </a:lnTo>
                  <a:lnTo>
                    <a:pt x="108" y="26"/>
                  </a:lnTo>
                  <a:lnTo>
                    <a:pt x="50" y="16"/>
                  </a:lnTo>
                  <a:lnTo>
                    <a:pt x="50" y="77"/>
                  </a:lnTo>
                  <a:lnTo>
                    <a:pt x="92" y="77"/>
                  </a:lnTo>
                  <a:lnTo>
                    <a:pt x="92" y="94"/>
                  </a:lnTo>
                  <a:lnTo>
                    <a:pt x="50" y="94"/>
                  </a:lnTo>
                  <a:lnTo>
                    <a:pt x="50" y="145"/>
                  </a:lnTo>
                  <a:lnTo>
                    <a:pt x="108" y="151"/>
                  </a:lnTo>
                  <a:lnTo>
                    <a:pt x="108" y="171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48400" y="4614840"/>
              <a:ext cx="4680" cy="468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5" y="0"/>
                  </a:moveTo>
                  <a:lnTo>
                    <a:pt x="25" y="0"/>
                  </a:lnTo>
                  <a:lnTo>
                    <a:pt x="32" y="0"/>
                  </a:lnTo>
                  <a:lnTo>
                    <a:pt x="41" y="6"/>
                  </a:lnTo>
                  <a:lnTo>
                    <a:pt x="41" y="17"/>
                  </a:lnTo>
                  <a:lnTo>
                    <a:pt x="41" y="33"/>
                  </a:lnTo>
                  <a:lnTo>
                    <a:pt x="41" y="43"/>
                  </a:lnTo>
                  <a:lnTo>
                    <a:pt x="32" y="43"/>
                  </a:lnTo>
                  <a:lnTo>
                    <a:pt x="25" y="43"/>
                  </a:lnTo>
                  <a:lnTo>
                    <a:pt x="15" y="43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39760" y="4611600"/>
              <a:ext cx="21960" cy="1584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41" y="84"/>
                  </a:moveTo>
                  <a:lnTo>
                    <a:pt x="56" y="84"/>
                  </a:lnTo>
                  <a:lnTo>
                    <a:pt x="66" y="84"/>
                  </a:lnTo>
                  <a:lnTo>
                    <a:pt x="73" y="84"/>
                  </a:lnTo>
                  <a:lnTo>
                    <a:pt x="73" y="93"/>
                  </a:lnTo>
                  <a:lnTo>
                    <a:pt x="82" y="93"/>
                  </a:lnTo>
                  <a:lnTo>
                    <a:pt x="82" y="100"/>
                  </a:lnTo>
                  <a:lnTo>
                    <a:pt x="82" y="151"/>
                  </a:lnTo>
                  <a:lnTo>
                    <a:pt x="123" y="151"/>
                  </a:lnTo>
                  <a:lnTo>
                    <a:pt x="123" y="93"/>
                  </a:lnTo>
                  <a:lnTo>
                    <a:pt x="123" y="84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98" y="77"/>
                  </a:lnTo>
                  <a:lnTo>
                    <a:pt x="82" y="77"/>
                  </a:lnTo>
                  <a:lnTo>
                    <a:pt x="92" y="77"/>
                  </a:lnTo>
                  <a:lnTo>
                    <a:pt x="98" y="77"/>
                  </a:lnTo>
                  <a:lnTo>
                    <a:pt x="108" y="77"/>
                  </a:lnTo>
                  <a:lnTo>
                    <a:pt x="117" y="68"/>
                  </a:lnTo>
                  <a:lnTo>
                    <a:pt x="123" y="58"/>
                  </a:lnTo>
                  <a:lnTo>
                    <a:pt x="123" y="51"/>
                  </a:lnTo>
                  <a:lnTo>
                    <a:pt x="123" y="42"/>
                  </a:lnTo>
                  <a:lnTo>
                    <a:pt x="123" y="31"/>
                  </a:lnTo>
                  <a:lnTo>
                    <a:pt x="123" y="25"/>
                  </a:lnTo>
                  <a:lnTo>
                    <a:pt x="117" y="25"/>
                  </a:lnTo>
                  <a:lnTo>
                    <a:pt x="117" y="16"/>
                  </a:lnTo>
                  <a:lnTo>
                    <a:pt x="108" y="6"/>
                  </a:lnTo>
                  <a:lnTo>
                    <a:pt x="98" y="6"/>
                  </a:lnTo>
                  <a:lnTo>
                    <a:pt x="92" y="6"/>
                  </a:lnTo>
                  <a:lnTo>
                    <a:pt x="82" y="6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41" y="15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51440" y="4559400"/>
              <a:ext cx="74880" cy="77760"/>
            </a:xfrm>
            <a:custGeom>
              <a:avLst/>
              <a:gdLst/>
              <a:ahLst/>
              <a:rect l="l" t="t" r="r" b="b"/>
              <a:pathLst>
                <a:path w="442" h="775">
                  <a:moveTo>
                    <a:pt x="442" y="775"/>
                  </a:moveTo>
                  <a:lnTo>
                    <a:pt x="442" y="84"/>
                  </a:lnTo>
                  <a:lnTo>
                    <a:pt x="0" y="0"/>
                  </a:lnTo>
                  <a:lnTo>
                    <a:pt x="0" y="775"/>
                  </a:lnTo>
                  <a:lnTo>
                    <a:pt x="442" y="775"/>
                  </a:lnTo>
                  <a:close/>
                </a:path>
              </a:pathLst>
            </a:custGeom>
            <a:solidFill>
              <a:srgbClr val="f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59360" y="4567320"/>
              <a:ext cx="59040" cy="61920"/>
            </a:xfrm>
            <a:custGeom>
              <a:avLst/>
              <a:gdLst/>
              <a:ahLst/>
              <a:rect l="l" t="t" r="r" b="b"/>
              <a:pathLst>
                <a:path w="350" h="623">
                  <a:moveTo>
                    <a:pt x="350" y="623"/>
                  </a:moveTo>
                  <a:lnTo>
                    <a:pt x="350" y="67"/>
                  </a:lnTo>
                  <a:lnTo>
                    <a:pt x="0" y="0"/>
                  </a:lnTo>
                  <a:lnTo>
                    <a:pt x="0" y="623"/>
                  </a:lnTo>
                  <a:lnTo>
                    <a:pt x="350" y="62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64760" y="4584600"/>
              <a:ext cx="45720" cy="34920"/>
            </a:xfrm>
            <a:custGeom>
              <a:avLst/>
              <a:gdLst/>
              <a:ahLst/>
              <a:rect l="l" t="t" r="r" b="b"/>
              <a:pathLst>
                <a:path w="275" h="343">
                  <a:moveTo>
                    <a:pt x="0" y="0"/>
                  </a:moveTo>
                  <a:lnTo>
                    <a:pt x="133" y="343"/>
                  </a:lnTo>
                  <a:lnTo>
                    <a:pt x="275" y="35"/>
                  </a:lnTo>
                  <a:lnTo>
                    <a:pt x="151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53960" y="4251240"/>
              <a:ext cx="74880" cy="85680"/>
            </a:xfrm>
            <a:custGeom>
              <a:avLst/>
              <a:gdLst/>
              <a:ahLst/>
              <a:rect l="l" t="t" r="r" b="b"/>
              <a:pathLst>
                <a:path w="452" h="859">
                  <a:moveTo>
                    <a:pt x="452" y="859"/>
                  </a:moveTo>
                  <a:lnTo>
                    <a:pt x="452" y="168"/>
                  </a:lnTo>
                  <a:lnTo>
                    <a:pt x="0" y="0"/>
                  </a:lnTo>
                  <a:lnTo>
                    <a:pt x="0" y="766"/>
                  </a:lnTo>
                  <a:lnTo>
                    <a:pt x="452" y="859"/>
                  </a:lnTo>
                  <a:close/>
                </a:path>
              </a:pathLst>
            </a:custGeom>
            <a:solidFill>
              <a:srgbClr val="f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61880" y="4259160"/>
              <a:ext cx="59040" cy="68400"/>
            </a:xfrm>
            <a:custGeom>
              <a:avLst/>
              <a:gdLst/>
              <a:ahLst/>
              <a:rect l="l" t="t" r="r" b="b"/>
              <a:pathLst>
                <a:path w="351" h="685">
                  <a:moveTo>
                    <a:pt x="344" y="685"/>
                  </a:moveTo>
                  <a:lnTo>
                    <a:pt x="351" y="12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344" y="685"/>
                  </a:lnTo>
                  <a:close/>
                </a:path>
              </a:pathLst>
            </a:custGeom>
            <a:solidFill>
              <a:srgbClr val="00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67280" y="4276800"/>
              <a:ext cx="45720" cy="33120"/>
            </a:xfrm>
            <a:custGeom>
              <a:avLst/>
              <a:gdLst/>
              <a:ahLst/>
              <a:rect l="l" t="t" r="r" b="b"/>
              <a:pathLst>
                <a:path w="276" h="343">
                  <a:moveTo>
                    <a:pt x="0" y="0"/>
                  </a:moveTo>
                  <a:lnTo>
                    <a:pt x="133" y="343"/>
                  </a:lnTo>
                  <a:lnTo>
                    <a:pt x="276" y="43"/>
                  </a:lnTo>
                  <a:lnTo>
                    <a:pt x="15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49240" y="4414680"/>
              <a:ext cx="10800" cy="12960"/>
            </a:xfrm>
            <a:custGeom>
              <a:avLst/>
              <a:gdLst/>
              <a:ahLst/>
              <a:rect l="l" t="t" r="r" b="b"/>
              <a:pathLst>
                <a:path w="66" h="136">
                  <a:moveTo>
                    <a:pt x="66" y="33"/>
                  </a:moveTo>
                  <a:lnTo>
                    <a:pt x="57" y="33"/>
                  </a:lnTo>
                  <a:lnTo>
                    <a:pt x="57" y="26"/>
                  </a:lnTo>
                  <a:lnTo>
                    <a:pt x="51" y="16"/>
                  </a:lnTo>
                  <a:lnTo>
                    <a:pt x="41" y="16"/>
                  </a:lnTo>
                  <a:lnTo>
                    <a:pt x="32" y="16"/>
                  </a:lnTo>
                  <a:lnTo>
                    <a:pt x="32" y="26"/>
                  </a:lnTo>
                  <a:lnTo>
                    <a:pt x="32" y="33"/>
                  </a:lnTo>
                  <a:lnTo>
                    <a:pt x="32" y="42"/>
                  </a:lnTo>
                  <a:lnTo>
                    <a:pt x="51" y="84"/>
                  </a:lnTo>
                  <a:lnTo>
                    <a:pt x="57" y="84"/>
                  </a:lnTo>
                  <a:lnTo>
                    <a:pt x="57" y="94"/>
                  </a:lnTo>
                  <a:lnTo>
                    <a:pt x="57" y="100"/>
                  </a:lnTo>
                  <a:lnTo>
                    <a:pt x="57" y="110"/>
                  </a:lnTo>
                  <a:lnTo>
                    <a:pt x="51" y="120"/>
                  </a:lnTo>
                  <a:lnTo>
                    <a:pt x="51" y="126"/>
                  </a:lnTo>
                  <a:lnTo>
                    <a:pt x="41" y="136"/>
                  </a:lnTo>
                  <a:lnTo>
                    <a:pt x="32" y="136"/>
                  </a:lnTo>
                  <a:lnTo>
                    <a:pt x="26" y="136"/>
                  </a:lnTo>
                  <a:lnTo>
                    <a:pt x="16" y="136"/>
                  </a:lnTo>
                  <a:lnTo>
                    <a:pt x="10" y="136"/>
                  </a:lnTo>
                  <a:lnTo>
                    <a:pt x="10" y="126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" y="100"/>
                  </a:lnTo>
                  <a:lnTo>
                    <a:pt x="10" y="110"/>
                  </a:lnTo>
                  <a:lnTo>
                    <a:pt x="10" y="120"/>
                  </a:lnTo>
                  <a:lnTo>
                    <a:pt x="16" y="120"/>
                  </a:lnTo>
                  <a:lnTo>
                    <a:pt x="26" y="120"/>
                  </a:lnTo>
                  <a:lnTo>
                    <a:pt x="32" y="120"/>
                  </a:lnTo>
                  <a:lnTo>
                    <a:pt x="32" y="110"/>
                  </a:lnTo>
                  <a:lnTo>
                    <a:pt x="32" y="100"/>
                  </a:lnTo>
                  <a:lnTo>
                    <a:pt x="32" y="94"/>
                  </a:lnTo>
                  <a:lnTo>
                    <a:pt x="16" y="59"/>
                  </a:lnTo>
                  <a:lnTo>
                    <a:pt x="10" y="51"/>
                  </a:lnTo>
                  <a:lnTo>
                    <a:pt x="10" y="42"/>
                  </a:lnTo>
                  <a:lnTo>
                    <a:pt x="10" y="33"/>
                  </a:lnTo>
                  <a:lnTo>
                    <a:pt x="10" y="2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51" y="0"/>
                  </a:lnTo>
                  <a:lnTo>
                    <a:pt x="57" y="7"/>
                  </a:lnTo>
                  <a:lnTo>
                    <a:pt x="57" y="16"/>
                  </a:lnTo>
                  <a:lnTo>
                    <a:pt x="66" y="26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4419720"/>
              <a:ext cx="10800" cy="12600"/>
            </a:xfrm>
            <a:custGeom>
              <a:avLst/>
              <a:gdLst/>
              <a:ahLst/>
              <a:rect l="l" t="t" r="r" b="b"/>
              <a:pathLst>
                <a:path w="67" h="137">
                  <a:moveTo>
                    <a:pt x="25" y="137"/>
                  </a:moveTo>
                  <a:lnTo>
                    <a:pt x="0" y="137"/>
                  </a:lnTo>
                  <a:lnTo>
                    <a:pt x="16" y="2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67" y="17"/>
                  </a:lnTo>
                  <a:lnTo>
                    <a:pt x="58" y="33"/>
                  </a:lnTo>
                  <a:lnTo>
                    <a:pt x="42" y="23"/>
                  </a:lnTo>
                  <a:lnTo>
                    <a:pt x="25" y="13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51840" y="4427640"/>
              <a:ext cx="5400" cy="324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16" y="10"/>
                  </a:moveTo>
                  <a:lnTo>
                    <a:pt x="25" y="10"/>
                  </a:lnTo>
                  <a:lnTo>
                    <a:pt x="25" y="19"/>
                  </a:lnTo>
                  <a:lnTo>
                    <a:pt x="25" y="36"/>
                  </a:lnTo>
                  <a:lnTo>
                    <a:pt x="16" y="45"/>
                  </a:lnTo>
                  <a:lnTo>
                    <a:pt x="6" y="45"/>
                  </a:lnTo>
                  <a:lnTo>
                    <a:pt x="0" y="45"/>
                  </a:lnTo>
                  <a:lnTo>
                    <a:pt x="6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6440" y="4425840"/>
              <a:ext cx="13320" cy="12960"/>
            </a:xfrm>
            <a:custGeom>
              <a:avLst/>
              <a:gdLst/>
              <a:ahLst/>
              <a:rect l="l" t="t" r="r" b="b"/>
              <a:pathLst>
                <a:path w="84" h="135">
                  <a:moveTo>
                    <a:pt x="34" y="78"/>
                  </a:moveTo>
                  <a:lnTo>
                    <a:pt x="40" y="78"/>
                  </a:lnTo>
                  <a:lnTo>
                    <a:pt x="50" y="78"/>
                  </a:lnTo>
                  <a:lnTo>
                    <a:pt x="50" y="84"/>
                  </a:lnTo>
                  <a:lnTo>
                    <a:pt x="50" y="94"/>
                  </a:lnTo>
                  <a:lnTo>
                    <a:pt x="40" y="129"/>
                  </a:lnTo>
                  <a:lnTo>
                    <a:pt x="66" y="135"/>
                  </a:lnTo>
                  <a:lnTo>
                    <a:pt x="75" y="84"/>
                  </a:lnTo>
                  <a:lnTo>
                    <a:pt x="75" y="78"/>
                  </a:lnTo>
                  <a:lnTo>
                    <a:pt x="66" y="78"/>
                  </a:lnTo>
                  <a:lnTo>
                    <a:pt x="66" y="68"/>
                  </a:lnTo>
                  <a:lnTo>
                    <a:pt x="50" y="68"/>
                  </a:lnTo>
                  <a:lnTo>
                    <a:pt x="59" y="68"/>
                  </a:lnTo>
                  <a:lnTo>
                    <a:pt x="66" y="68"/>
                  </a:lnTo>
                  <a:lnTo>
                    <a:pt x="75" y="68"/>
                  </a:lnTo>
                  <a:lnTo>
                    <a:pt x="75" y="61"/>
                  </a:lnTo>
                  <a:lnTo>
                    <a:pt x="75" y="52"/>
                  </a:lnTo>
                  <a:lnTo>
                    <a:pt x="84" y="43"/>
                  </a:lnTo>
                  <a:lnTo>
                    <a:pt x="84" y="35"/>
                  </a:lnTo>
                  <a:lnTo>
                    <a:pt x="84" y="26"/>
                  </a:lnTo>
                  <a:lnTo>
                    <a:pt x="75" y="26"/>
                  </a:lnTo>
                  <a:lnTo>
                    <a:pt x="75" y="16"/>
                  </a:lnTo>
                  <a:lnTo>
                    <a:pt x="66" y="16"/>
                  </a:lnTo>
                  <a:lnTo>
                    <a:pt x="59" y="10"/>
                  </a:lnTo>
                  <a:lnTo>
                    <a:pt x="15" y="0"/>
                  </a:lnTo>
                  <a:lnTo>
                    <a:pt x="0" y="120"/>
                  </a:lnTo>
                  <a:lnTo>
                    <a:pt x="25" y="129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00080" y="4432320"/>
              <a:ext cx="5400" cy="11160"/>
            </a:xfrm>
            <a:custGeom>
              <a:avLst/>
              <a:gdLst/>
              <a:ahLst/>
              <a:rect l="l" t="t" r="r" b="b"/>
              <a:pathLst>
                <a:path w="45" h="110">
                  <a:moveTo>
                    <a:pt x="26" y="110"/>
                  </a:moveTo>
                  <a:lnTo>
                    <a:pt x="0" y="103"/>
                  </a:lnTo>
                  <a:lnTo>
                    <a:pt x="20" y="0"/>
                  </a:lnTo>
                  <a:lnTo>
                    <a:pt x="45" y="0"/>
                  </a:lnTo>
                  <a:lnTo>
                    <a:pt x="26" y="11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5800" y="4437000"/>
              <a:ext cx="16200" cy="11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25" y="103"/>
                  </a:moveTo>
                  <a:lnTo>
                    <a:pt x="0" y="103"/>
                  </a:lnTo>
                  <a:lnTo>
                    <a:pt x="15" y="0"/>
                  </a:lnTo>
                  <a:lnTo>
                    <a:pt x="31" y="9"/>
                  </a:lnTo>
                  <a:lnTo>
                    <a:pt x="31" y="41"/>
                  </a:lnTo>
                  <a:lnTo>
                    <a:pt x="73" y="9"/>
                  </a:lnTo>
                  <a:lnTo>
                    <a:pt x="91" y="15"/>
                  </a:lnTo>
                  <a:lnTo>
                    <a:pt x="40" y="51"/>
                  </a:lnTo>
                  <a:lnTo>
                    <a:pt x="73" y="109"/>
                  </a:lnTo>
                  <a:lnTo>
                    <a:pt x="56" y="109"/>
                  </a:lnTo>
                  <a:lnTo>
                    <a:pt x="25" y="58"/>
                  </a:lnTo>
                  <a:lnTo>
                    <a:pt x="25" y="10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9440" y="4443480"/>
              <a:ext cx="13320" cy="936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56" y="96"/>
                  </a:moveTo>
                  <a:lnTo>
                    <a:pt x="0" y="87"/>
                  </a:lnTo>
                  <a:lnTo>
                    <a:pt x="16" y="0"/>
                  </a:lnTo>
                  <a:lnTo>
                    <a:pt x="75" y="10"/>
                  </a:lnTo>
                  <a:lnTo>
                    <a:pt x="66" y="19"/>
                  </a:lnTo>
                  <a:lnTo>
                    <a:pt x="34" y="19"/>
                  </a:lnTo>
                  <a:lnTo>
                    <a:pt x="34" y="45"/>
                  </a:lnTo>
                  <a:lnTo>
                    <a:pt x="50" y="51"/>
                  </a:lnTo>
                  <a:lnTo>
                    <a:pt x="50" y="61"/>
                  </a:lnTo>
                  <a:lnTo>
                    <a:pt x="34" y="51"/>
                  </a:lnTo>
                  <a:lnTo>
                    <a:pt x="25" y="87"/>
                  </a:lnTo>
                  <a:lnTo>
                    <a:pt x="56" y="87"/>
                  </a:lnTo>
                  <a:lnTo>
                    <a:pt x="56" y="96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53080" y="4449600"/>
              <a:ext cx="5400" cy="324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6" y="0"/>
                  </a:moveTo>
                  <a:lnTo>
                    <a:pt x="26" y="0"/>
                  </a:lnTo>
                  <a:lnTo>
                    <a:pt x="26" y="6"/>
                  </a:lnTo>
                  <a:lnTo>
                    <a:pt x="26" y="16"/>
                  </a:lnTo>
                  <a:lnTo>
                    <a:pt x="26" y="25"/>
                  </a:lnTo>
                  <a:lnTo>
                    <a:pt x="16" y="25"/>
                  </a:lnTo>
                  <a:lnTo>
                    <a:pt x="0" y="25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50560" y="4449600"/>
              <a:ext cx="10800" cy="828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26" y="42"/>
                  </a:moveTo>
                  <a:lnTo>
                    <a:pt x="42" y="42"/>
                  </a:lnTo>
                  <a:lnTo>
                    <a:pt x="42" y="52"/>
                  </a:lnTo>
                  <a:lnTo>
                    <a:pt x="52" y="52"/>
                  </a:lnTo>
                  <a:lnTo>
                    <a:pt x="42" y="78"/>
                  </a:lnTo>
                  <a:lnTo>
                    <a:pt x="67" y="84"/>
                  </a:lnTo>
                  <a:lnTo>
                    <a:pt x="67" y="52"/>
                  </a:lnTo>
                  <a:lnTo>
                    <a:pt x="67" y="42"/>
                  </a:lnTo>
                  <a:lnTo>
                    <a:pt x="61" y="42"/>
                  </a:lnTo>
                  <a:lnTo>
                    <a:pt x="52" y="42"/>
                  </a:lnTo>
                  <a:lnTo>
                    <a:pt x="61" y="42"/>
                  </a:lnTo>
                  <a:lnTo>
                    <a:pt x="67" y="42"/>
                  </a:lnTo>
                  <a:lnTo>
                    <a:pt x="77" y="35"/>
                  </a:lnTo>
                  <a:lnTo>
                    <a:pt x="77" y="26"/>
                  </a:lnTo>
                  <a:lnTo>
                    <a:pt x="77" y="16"/>
                  </a:lnTo>
                  <a:lnTo>
                    <a:pt x="67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10" y="0"/>
                  </a:lnTo>
                  <a:lnTo>
                    <a:pt x="0" y="78"/>
                  </a:lnTo>
                  <a:lnTo>
                    <a:pt x="26" y="78"/>
                  </a:lnTo>
                  <a:lnTo>
                    <a:pt x="26" y="4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70720" y="4479840"/>
              <a:ext cx="145080" cy="282600"/>
            </a:xfrm>
            <a:custGeom>
              <a:avLst/>
              <a:gdLst/>
              <a:ahLst/>
              <a:rect l="l" t="t" r="r" b="b"/>
              <a:pathLst>
                <a:path w="860" h="2844">
                  <a:moveTo>
                    <a:pt x="82" y="0"/>
                  </a:moveTo>
                  <a:lnTo>
                    <a:pt x="117" y="51"/>
                  </a:lnTo>
                  <a:lnTo>
                    <a:pt x="199" y="203"/>
                  </a:lnTo>
                  <a:lnTo>
                    <a:pt x="307" y="451"/>
                  </a:lnTo>
                  <a:lnTo>
                    <a:pt x="397" y="790"/>
                  </a:lnTo>
                  <a:lnTo>
                    <a:pt x="442" y="1201"/>
                  </a:lnTo>
                  <a:lnTo>
                    <a:pt x="417" y="1688"/>
                  </a:lnTo>
                  <a:lnTo>
                    <a:pt x="274" y="2237"/>
                  </a:lnTo>
                  <a:lnTo>
                    <a:pt x="0" y="2844"/>
                  </a:lnTo>
                  <a:lnTo>
                    <a:pt x="591" y="2766"/>
                  </a:lnTo>
                  <a:lnTo>
                    <a:pt x="616" y="2709"/>
                  </a:lnTo>
                  <a:lnTo>
                    <a:pt x="682" y="2527"/>
                  </a:lnTo>
                  <a:lnTo>
                    <a:pt x="759" y="2262"/>
                  </a:lnTo>
                  <a:lnTo>
                    <a:pt x="824" y="1917"/>
                  </a:lnTo>
                  <a:lnTo>
                    <a:pt x="860" y="1507"/>
                  </a:lnTo>
                  <a:lnTo>
                    <a:pt x="824" y="1055"/>
                  </a:lnTo>
                  <a:lnTo>
                    <a:pt x="707" y="571"/>
                  </a:lnTo>
                  <a:lnTo>
                    <a:pt x="483" y="7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70720" y="4479840"/>
              <a:ext cx="75600" cy="282600"/>
            </a:xfrm>
            <a:custGeom>
              <a:avLst/>
              <a:gdLst/>
              <a:ahLst/>
              <a:rect l="l" t="t" r="r" b="b"/>
              <a:pathLst>
                <a:path w="449" h="2844">
                  <a:moveTo>
                    <a:pt x="82" y="0"/>
                  </a:moveTo>
                  <a:lnTo>
                    <a:pt x="82" y="716"/>
                  </a:lnTo>
                  <a:lnTo>
                    <a:pt x="215" y="603"/>
                  </a:lnTo>
                  <a:lnTo>
                    <a:pt x="224" y="629"/>
                  </a:lnTo>
                  <a:lnTo>
                    <a:pt x="249" y="707"/>
                  </a:lnTo>
                  <a:lnTo>
                    <a:pt x="284" y="825"/>
                  </a:lnTo>
                  <a:lnTo>
                    <a:pt x="307" y="1004"/>
                  </a:lnTo>
                  <a:lnTo>
                    <a:pt x="325" y="1226"/>
                  </a:lnTo>
                  <a:lnTo>
                    <a:pt x="316" y="1501"/>
                  </a:lnTo>
                  <a:lnTo>
                    <a:pt x="274" y="1823"/>
                  </a:lnTo>
                  <a:lnTo>
                    <a:pt x="199" y="2195"/>
                  </a:lnTo>
                  <a:lnTo>
                    <a:pt x="0" y="2053"/>
                  </a:lnTo>
                  <a:lnTo>
                    <a:pt x="0" y="2844"/>
                  </a:lnTo>
                  <a:lnTo>
                    <a:pt x="41" y="2776"/>
                  </a:lnTo>
                  <a:lnTo>
                    <a:pt x="142" y="2579"/>
                  </a:lnTo>
                  <a:lnTo>
                    <a:pt x="265" y="2288"/>
                  </a:lnTo>
                  <a:lnTo>
                    <a:pt x="382" y="1908"/>
                  </a:lnTo>
                  <a:lnTo>
                    <a:pt x="449" y="1475"/>
                  </a:lnTo>
                  <a:lnTo>
                    <a:pt x="449" y="998"/>
                  </a:lnTo>
                  <a:lnTo>
                    <a:pt x="341" y="49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70720" y="4098960"/>
              <a:ext cx="139680" cy="293760"/>
            </a:xfrm>
            <a:custGeom>
              <a:avLst/>
              <a:gdLst/>
              <a:ahLst/>
              <a:rect l="l" t="t" r="r" b="b"/>
              <a:pathLst>
                <a:path w="834" h="2951">
                  <a:moveTo>
                    <a:pt x="82" y="0"/>
                  </a:moveTo>
                  <a:lnTo>
                    <a:pt x="117" y="52"/>
                  </a:lnTo>
                  <a:lnTo>
                    <a:pt x="199" y="204"/>
                  </a:lnTo>
                  <a:lnTo>
                    <a:pt x="307" y="462"/>
                  </a:lnTo>
                  <a:lnTo>
                    <a:pt x="391" y="795"/>
                  </a:lnTo>
                  <a:lnTo>
                    <a:pt x="442" y="1211"/>
                  </a:lnTo>
                  <a:lnTo>
                    <a:pt x="407" y="1699"/>
                  </a:lnTo>
                  <a:lnTo>
                    <a:pt x="274" y="2244"/>
                  </a:lnTo>
                  <a:lnTo>
                    <a:pt x="0" y="2848"/>
                  </a:lnTo>
                  <a:lnTo>
                    <a:pt x="514" y="2951"/>
                  </a:lnTo>
                  <a:lnTo>
                    <a:pt x="550" y="2883"/>
                  </a:lnTo>
                  <a:lnTo>
                    <a:pt x="616" y="2703"/>
                  </a:lnTo>
                  <a:lnTo>
                    <a:pt x="707" y="2421"/>
                  </a:lnTo>
                  <a:lnTo>
                    <a:pt x="793" y="2064"/>
                  </a:lnTo>
                  <a:lnTo>
                    <a:pt x="834" y="1647"/>
                  </a:lnTo>
                  <a:lnTo>
                    <a:pt x="818" y="1179"/>
                  </a:lnTo>
                  <a:lnTo>
                    <a:pt x="707" y="682"/>
                  </a:lnTo>
                  <a:lnTo>
                    <a:pt x="483" y="18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70720" y="4100400"/>
              <a:ext cx="75600" cy="281160"/>
            </a:xfrm>
            <a:custGeom>
              <a:avLst/>
              <a:gdLst/>
              <a:ahLst/>
              <a:rect l="l" t="t" r="r" b="b"/>
              <a:pathLst>
                <a:path w="442" h="2831">
                  <a:moveTo>
                    <a:pt x="82" y="0"/>
                  </a:moveTo>
                  <a:lnTo>
                    <a:pt x="82" y="726"/>
                  </a:lnTo>
                  <a:lnTo>
                    <a:pt x="215" y="607"/>
                  </a:lnTo>
                  <a:lnTo>
                    <a:pt x="224" y="633"/>
                  </a:lnTo>
                  <a:lnTo>
                    <a:pt x="249" y="710"/>
                  </a:lnTo>
                  <a:lnTo>
                    <a:pt x="274" y="836"/>
                  </a:lnTo>
                  <a:lnTo>
                    <a:pt x="307" y="1007"/>
                  </a:lnTo>
                  <a:lnTo>
                    <a:pt x="316" y="1237"/>
                  </a:lnTo>
                  <a:lnTo>
                    <a:pt x="307" y="1511"/>
                  </a:lnTo>
                  <a:lnTo>
                    <a:pt x="265" y="1833"/>
                  </a:lnTo>
                  <a:lnTo>
                    <a:pt x="190" y="2208"/>
                  </a:lnTo>
                  <a:lnTo>
                    <a:pt x="25" y="2041"/>
                  </a:lnTo>
                  <a:lnTo>
                    <a:pt x="0" y="2831"/>
                  </a:lnTo>
                  <a:lnTo>
                    <a:pt x="41" y="2763"/>
                  </a:lnTo>
                  <a:lnTo>
                    <a:pt x="132" y="2566"/>
                  </a:lnTo>
                  <a:lnTo>
                    <a:pt x="259" y="2279"/>
                  </a:lnTo>
                  <a:lnTo>
                    <a:pt x="376" y="1901"/>
                  </a:lnTo>
                  <a:lnTo>
                    <a:pt x="442" y="1459"/>
                  </a:lnTo>
                  <a:lnTo>
                    <a:pt x="442" y="990"/>
                  </a:lnTo>
                  <a:lnTo>
                    <a:pt x="332" y="49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14280" y="4118040"/>
              <a:ext cx="72360" cy="66600"/>
            </a:xfrm>
            <a:custGeom>
              <a:avLst/>
              <a:gdLst/>
              <a:ahLst/>
              <a:rect l="l" t="t" r="r" b="b"/>
              <a:pathLst>
                <a:path w="433" h="675">
                  <a:moveTo>
                    <a:pt x="0" y="0"/>
                  </a:moveTo>
                  <a:lnTo>
                    <a:pt x="234" y="103"/>
                  </a:lnTo>
                  <a:lnTo>
                    <a:pt x="265" y="161"/>
                  </a:lnTo>
                  <a:lnTo>
                    <a:pt x="335" y="300"/>
                  </a:lnTo>
                  <a:lnTo>
                    <a:pt x="402" y="487"/>
                  </a:lnTo>
                  <a:lnTo>
                    <a:pt x="433" y="675"/>
                  </a:lnTo>
                  <a:lnTo>
                    <a:pt x="225" y="597"/>
                  </a:lnTo>
                  <a:lnTo>
                    <a:pt x="218" y="545"/>
                  </a:lnTo>
                  <a:lnTo>
                    <a:pt x="184" y="410"/>
                  </a:lnTo>
                  <a:lnTo>
                    <a:pt x="117" y="2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11040" y="4491000"/>
              <a:ext cx="77760" cy="65160"/>
            </a:xfrm>
            <a:custGeom>
              <a:avLst/>
              <a:gdLst/>
              <a:ahLst/>
              <a:rect l="l" t="t" r="r" b="b"/>
              <a:pathLst>
                <a:path w="473" h="656">
                  <a:moveTo>
                    <a:pt x="0" y="0"/>
                  </a:moveTo>
                  <a:lnTo>
                    <a:pt x="40" y="77"/>
                  </a:lnTo>
                  <a:lnTo>
                    <a:pt x="116" y="256"/>
                  </a:lnTo>
                  <a:lnTo>
                    <a:pt x="199" y="462"/>
                  </a:lnTo>
                  <a:lnTo>
                    <a:pt x="233" y="613"/>
                  </a:lnTo>
                  <a:lnTo>
                    <a:pt x="473" y="656"/>
                  </a:lnTo>
                  <a:lnTo>
                    <a:pt x="458" y="588"/>
                  </a:lnTo>
                  <a:lnTo>
                    <a:pt x="417" y="436"/>
                  </a:lnTo>
                  <a:lnTo>
                    <a:pt x="341" y="239"/>
                  </a:lnTo>
                  <a:lnTo>
                    <a:pt x="249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20:23:46Z</dcterms:created>
  <dc:creator>a</dc:creator>
  <dc:description/>
  <dc:language>en-US</dc:language>
  <cp:lastModifiedBy>Free User</cp:lastModifiedBy>
  <dcterms:modified xsi:type="dcterms:W3CDTF">2007-03-15T18:45:41Z</dcterms:modified>
  <cp:revision>24</cp:revision>
  <dc:subject/>
  <dc:title>عرض تقديمي من PowerPoint</dc:title>
</cp:coreProperties>
</file>