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1C8-9287-404B-9F45-C82D0570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F61-407F-4ED6-91B4-71E9D0A3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F8D-0DDB-4F81-BA94-1E015778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43F-A1CE-405B-B55D-4FFE1966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5CF-D96C-459E-8E98-BB36EC94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5D8-D375-41D8-AC20-511FD80A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4DF-1A1B-4663-8293-3FA7856E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F15-0635-4158-986F-8D497A47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9E9-A92A-412E-917C-2EC85721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B8A-CE8E-4150-A978-234796B7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013-9F5F-4F12-854A-2941B375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821-46FC-4013-AB99-F0A9E96D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C620-F19F-4CEB-B3AA-9B63D950AAF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29200" y="373392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73392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438280" cy="16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638680" y="53020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 (Arabic)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 (Arabic)"/>
              </a:rPr>
              <a:t>ي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3746520"/>
            <a:ext cx="2895840" cy="1816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530208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 (Arabic)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 (Arabic)"/>
              </a:rPr>
              <a:t>ولفي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62120" y="0"/>
            <a:ext cx="2361960" cy="1676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67652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 (Arabic)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 (Arabic)"/>
              </a:rPr>
              <a:t>بوس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410080" y="228600"/>
            <a:ext cx="3124440" cy="1295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62720" y="1720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 (Arabic)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 (Arabic)"/>
              </a:rPr>
              <a:t>باب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29200" y="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373392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73392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2082600" cy="1828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86400" y="144792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"/>
              </a:rPr>
              <a:t>رهم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52388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"/>
              </a:rPr>
              <a:t>ها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2666880" cy="1676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530208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 (Arabic)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 (Arabic)"/>
              </a:rPr>
              <a:t>جاج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2209680" cy="1488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62720" y="53020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 (Arabic)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 (Arabic)"/>
              </a:rPr>
              <a:t>ب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019920" y="228600"/>
            <a:ext cx="1933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73392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73392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90720" y="73080"/>
            <a:ext cx="2108160" cy="1679400"/>
            <a:chOff x="990720" y="73080"/>
            <a:chExt cx="2108160" cy="1679400"/>
          </a:xfrm>
        </p:grpSpPr>
        <p:sp>
          <p:nvSpPr>
            <p:cNvPr id="70" name=""/>
            <p:cNvSpPr/>
            <p:nvPr/>
          </p:nvSpPr>
          <p:spPr>
            <a:xfrm>
              <a:off x="990720" y="73080"/>
              <a:ext cx="1054080" cy="1679400"/>
            </a:xfrm>
            <a:prstGeom prst="rect">
              <a:avLst/>
            </a:prstGeom>
            <a:solidFill>
              <a:srgbClr val="99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47600" y="108000"/>
              <a:ext cx="938520" cy="1308240"/>
            </a:xfrm>
            <a:prstGeom prst="rect">
              <a:avLst/>
            </a:prstGeom>
            <a:solidFill>
              <a:srgbClr val="99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89280" y="416160"/>
              <a:ext cx="14040" cy="331560"/>
            </a:xfrm>
            <a:prstGeom prst="rect">
              <a:avLst/>
            </a:prstGeom>
            <a:solidFill>
              <a:srgbClr val="99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4800" y="73080"/>
              <a:ext cx="1054080" cy="1679400"/>
            </a:xfrm>
            <a:prstGeom prst="rect">
              <a:avLst/>
            </a:prstGeom>
            <a:solidFill>
              <a:srgbClr val="99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01680" y="108000"/>
              <a:ext cx="938520" cy="1308240"/>
            </a:xfrm>
            <a:prstGeom prst="rect">
              <a:avLst/>
            </a:prstGeom>
            <a:solidFill>
              <a:srgbClr val="99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85920" y="416160"/>
              <a:ext cx="14400" cy="331560"/>
            </a:xfrm>
            <a:prstGeom prst="rect">
              <a:avLst/>
            </a:prstGeom>
            <a:solidFill>
              <a:srgbClr val="99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47600" y="1451160"/>
              <a:ext cx="938520" cy="266400"/>
            </a:xfrm>
            <a:prstGeom prst="rect">
              <a:avLst/>
            </a:prstGeom>
            <a:solidFill>
              <a:srgbClr val="99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81080" y="1468440"/>
              <a:ext cx="873000" cy="231840"/>
            </a:xfrm>
            <a:prstGeom prst="rect">
              <a:avLst/>
            </a:prstGeom>
            <a:solidFill>
              <a:srgbClr val="99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81080" y="1657440"/>
              <a:ext cx="871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080720" y="1616040"/>
              <a:ext cx="871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81080" y="1575000"/>
              <a:ext cx="871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1080720" y="1533600"/>
              <a:ext cx="871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81080" y="1486080"/>
              <a:ext cx="871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03480" y="1451160"/>
              <a:ext cx="939600" cy="266400"/>
            </a:xfrm>
            <a:prstGeom prst="rect">
              <a:avLst/>
            </a:prstGeom>
            <a:solidFill>
              <a:srgbClr val="99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6600" y="1468440"/>
              <a:ext cx="873360" cy="231840"/>
            </a:xfrm>
            <a:prstGeom prst="rect">
              <a:avLst/>
            </a:prstGeom>
            <a:solidFill>
              <a:srgbClr val="99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36600" y="1657440"/>
              <a:ext cx="87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136600" y="1616040"/>
              <a:ext cx="873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6600" y="1575000"/>
              <a:ext cx="87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136600" y="1533600"/>
              <a:ext cx="87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36600" y="1486080"/>
              <a:ext cx="87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72200" y="76320"/>
            <a:ext cx="145908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48520" y="3809880"/>
            <a:ext cx="1677960" cy="1600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167652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"/>
              </a:rPr>
              <a:t>ولاب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17971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"/>
              </a:rPr>
              <a:t>ل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3020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"/>
              </a:rPr>
              <a:t>واء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2133720" cy="1371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53020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"/>
              </a:rPr>
              <a:t>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29200" y="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73392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73392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43600" y="380880"/>
            <a:ext cx="2092320" cy="1295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72200" y="388620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09480" y="3809880"/>
            <a:ext cx="2590920" cy="175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167652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"/>
              </a:rPr>
              <a:t>بوس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152388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"/>
              </a:rPr>
              <a:t>باس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53020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"/>
              </a:rPr>
              <a:t>لو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3020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"/>
              </a:rPr>
              <a:t>رج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029200" y="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73392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04920"/>
            <a:ext cx="1600200" cy="1523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048120" cy="1043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32004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16765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"/>
              </a:rPr>
              <a:t>ود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172080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"/>
              </a:rPr>
              <a:t>ائر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530208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0000"/>
                </a:solidFill>
                <a:latin typeface="Times New Roman"/>
              </a:rPr>
              <a:t>د</a:t>
            </a:r>
            <a:r>
              <a:rPr b="1" lang="hi-IN" sz="9600" spc="-1" strike="noStrike">
                <a:solidFill>
                  <a:srgbClr val="000000"/>
                </a:solidFill>
                <a:latin typeface="Times New Roman"/>
              </a:rPr>
              <a:t>راج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760920"/>
            <a:ext cx="41148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638680" y="3848040"/>
            <a:ext cx="2651400" cy="1665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486400" y="5665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د</a:t>
            </a: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ناصو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9T17:50:08Z</dcterms:created>
  <dc:creator>a</dc:creator>
  <dc:description/>
  <dc:language>en-US</dc:language>
  <cp:lastModifiedBy>Free User</cp:lastModifiedBy>
  <dcterms:modified xsi:type="dcterms:W3CDTF">2007-03-15T19:08:28Z</dcterms:modified>
  <cp:revision>41</cp:revision>
  <dc:subject/>
  <dc:title>عرض تقديمي من PowerPoint</dc:title>
</cp:coreProperties>
</file>