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laser.wav" ContentType="audio/x-wav"/>
  <Override PartName="/ppt/media/camer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57FB-9917-46A0-BC59-75982AD15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6D43-FDAC-4EED-8E3C-4F55B6ED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FDA6-A7C8-4A2F-BA7E-E21B0CC7D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9155-AE5A-4CEA-BBF6-4E4953EEC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DDDA-29F4-413C-9BC4-588368789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E26C-3335-4EA6-8CF2-9128A407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3EA1-38AD-41FB-B44A-61D82468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393D-6CC3-4231-81B5-DE18EB19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2B1E4-F4CD-47E6-A023-99487C23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AFD91-51CD-4C4E-9C10-52971A7B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A2A87-8DF8-4870-B731-3F116D04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35F8-EF42-4395-BBCC-BB56F784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48DCD-F3AE-4C45-A3EC-AA67F783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54CF-33C0-41A7-807D-F67B04D6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1E0F-D17C-4E15-8429-ADA7553A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69876-CFC0-4258-BC17-EDB596E37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66AF-952E-4292-B405-9F101C05A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643B-6391-44A8-9462-CE11E13C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DE43-6474-4DDA-B8BA-C05F3748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059E-1551-4567-9554-618F901D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B5E3-C8F4-45B2-93AA-B0574050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B1F8-F633-4D19-BF01-39039BA7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E725-CC7C-4A68-B3F1-38441DCB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6F30-7180-443D-A6CD-CCEF5506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BF63-388E-4E4B-9F6E-8B8F524FFE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5A75-3925-436A-9392-5D3BC54BE34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camera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390840" y="2755800"/>
            <a:ext cx="4038840" cy="3683160"/>
          </a:xfrm>
          <a:custGeom>
            <a:avLst/>
            <a:gdLst/>
            <a:ahLst/>
            <a:rect l="l" t="t" r="r" b="b"/>
            <a:pathLst>
              <a:path w="2544" h="2320">
                <a:moveTo>
                  <a:pt x="2472" y="40"/>
                </a:moveTo>
                <a:cubicBezTo>
                  <a:pt x="2400" y="0"/>
                  <a:pt x="2120" y="24"/>
                  <a:pt x="1992" y="40"/>
                </a:cubicBezTo>
                <a:cubicBezTo>
                  <a:pt x="1864" y="56"/>
                  <a:pt x="1752" y="96"/>
                  <a:pt x="1704" y="136"/>
                </a:cubicBezTo>
                <a:cubicBezTo>
                  <a:pt x="1656" y="176"/>
                  <a:pt x="1744" y="208"/>
                  <a:pt x="1704" y="280"/>
                </a:cubicBezTo>
                <a:cubicBezTo>
                  <a:pt x="1664" y="352"/>
                  <a:pt x="1552" y="520"/>
                  <a:pt x="1464" y="568"/>
                </a:cubicBezTo>
                <a:cubicBezTo>
                  <a:pt x="1376" y="616"/>
                  <a:pt x="1272" y="576"/>
                  <a:pt x="1176" y="568"/>
                </a:cubicBezTo>
                <a:cubicBezTo>
                  <a:pt x="1080" y="560"/>
                  <a:pt x="984" y="528"/>
                  <a:pt x="888" y="520"/>
                </a:cubicBezTo>
                <a:cubicBezTo>
                  <a:pt x="792" y="512"/>
                  <a:pt x="680" y="512"/>
                  <a:pt x="600" y="520"/>
                </a:cubicBezTo>
                <a:cubicBezTo>
                  <a:pt x="520" y="528"/>
                  <a:pt x="464" y="520"/>
                  <a:pt x="408" y="568"/>
                </a:cubicBezTo>
                <a:cubicBezTo>
                  <a:pt x="352" y="616"/>
                  <a:pt x="312" y="728"/>
                  <a:pt x="264" y="808"/>
                </a:cubicBezTo>
                <a:cubicBezTo>
                  <a:pt x="216" y="888"/>
                  <a:pt x="160" y="968"/>
                  <a:pt x="120" y="1048"/>
                </a:cubicBezTo>
                <a:cubicBezTo>
                  <a:pt x="80" y="1128"/>
                  <a:pt x="0" y="1160"/>
                  <a:pt x="24" y="1288"/>
                </a:cubicBezTo>
                <a:cubicBezTo>
                  <a:pt x="48" y="1416"/>
                  <a:pt x="208" y="1696"/>
                  <a:pt x="264" y="1816"/>
                </a:cubicBezTo>
                <a:cubicBezTo>
                  <a:pt x="320" y="1936"/>
                  <a:pt x="280" y="1952"/>
                  <a:pt x="360" y="2008"/>
                </a:cubicBezTo>
                <a:cubicBezTo>
                  <a:pt x="440" y="2064"/>
                  <a:pt x="616" y="2104"/>
                  <a:pt x="744" y="2152"/>
                </a:cubicBezTo>
                <a:cubicBezTo>
                  <a:pt x="872" y="2200"/>
                  <a:pt x="1008" y="2272"/>
                  <a:pt x="1128" y="2296"/>
                </a:cubicBezTo>
                <a:cubicBezTo>
                  <a:pt x="1248" y="2320"/>
                  <a:pt x="1368" y="2296"/>
                  <a:pt x="1464" y="2296"/>
                </a:cubicBezTo>
                <a:cubicBezTo>
                  <a:pt x="1560" y="2296"/>
                  <a:pt x="1624" y="2304"/>
                  <a:pt x="1704" y="2296"/>
                </a:cubicBezTo>
                <a:cubicBezTo>
                  <a:pt x="1784" y="2288"/>
                  <a:pt x="1864" y="2280"/>
                  <a:pt x="1944" y="2248"/>
                </a:cubicBezTo>
                <a:cubicBezTo>
                  <a:pt x="2024" y="2216"/>
                  <a:pt x="2128" y="2152"/>
                  <a:pt x="2184" y="2104"/>
                </a:cubicBezTo>
                <a:cubicBezTo>
                  <a:pt x="2240" y="2056"/>
                  <a:pt x="2248" y="2024"/>
                  <a:pt x="2280" y="1960"/>
                </a:cubicBezTo>
                <a:cubicBezTo>
                  <a:pt x="2312" y="1896"/>
                  <a:pt x="2368" y="1816"/>
                  <a:pt x="2376" y="1720"/>
                </a:cubicBezTo>
                <a:cubicBezTo>
                  <a:pt x="2384" y="1624"/>
                  <a:pt x="2336" y="1496"/>
                  <a:pt x="2328" y="1384"/>
                </a:cubicBezTo>
                <a:cubicBezTo>
                  <a:pt x="2320" y="1272"/>
                  <a:pt x="2312" y="1168"/>
                  <a:pt x="2328" y="1048"/>
                </a:cubicBezTo>
                <a:cubicBezTo>
                  <a:pt x="2344" y="928"/>
                  <a:pt x="2408" y="792"/>
                  <a:pt x="2424" y="664"/>
                </a:cubicBezTo>
                <a:cubicBezTo>
                  <a:pt x="2440" y="536"/>
                  <a:pt x="2416" y="384"/>
                  <a:pt x="2424" y="280"/>
                </a:cubicBezTo>
                <a:cubicBezTo>
                  <a:pt x="2432" y="176"/>
                  <a:pt x="2544" y="80"/>
                  <a:pt x="2472" y="40"/>
                </a:cubicBezTo>
                <a:close/>
              </a:path>
            </a:pathLst>
          </a:custGeom>
          <a:solidFill>
            <a:srgbClr val="16b23b"/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08560" y="3797280"/>
            <a:ext cx="2044800" cy="2413080"/>
          </a:xfrm>
          <a:custGeom>
            <a:avLst/>
            <a:gdLst/>
            <a:ahLst/>
            <a:rect l="l" t="t" r="r" b="b"/>
            <a:pathLst>
              <a:path w="1288" h="1520">
                <a:moveTo>
                  <a:pt x="1264" y="8"/>
                </a:moveTo>
                <a:cubicBezTo>
                  <a:pt x="1240" y="16"/>
                  <a:pt x="1176" y="96"/>
                  <a:pt x="1120" y="104"/>
                </a:cubicBezTo>
                <a:cubicBezTo>
                  <a:pt x="1064" y="112"/>
                  <a:pt x="968" y="64"/>
                  <a:pt x="928" y="56"/>
                </a:cubicBezTo>
                <a:cubicBezTo>
                  <a:pt x="888" y="48"/>
                  <a:pt x="920" y="48"/>
                  <a:pt x="880" y="56"/>
                </a:cubicBezTo>
                <a:cubicBezTo>
                  <a:pt x="840" y="64"/>
                  <a:pt x="760" y="104"/>
                  <a:pt x="688" y="104"/>
                </a:cubicBezTo>
                <a:cubicBezTo>
                  <a:pt x="616" y="104"/>
                  <a:pt x="512" y="64"/>
                  <a:pt x="448" y="56"/>
                </a:cubicBezTo>
                <a:cubicBezTo>
                  <a:pt x="384" y="48"/>
                  <a:pt x="368" y="56"/>
                  <a:pt x="304" y="56"/>
                </a:cubicBezTo>
                <a:cubicBezTo>
                  <a:pt x="240" y="56"/>
                  <a:pt x="112" y="40"/>
                  <a:pt x="64" y="56"/>
                </a:cubicBezTo>
                <a:cubicBezTo>
                  <a:pt x="16" y="72"/>
                  <a:pt x="24" y="104"/>
                  <a:pt x="16" y="152"/>
                </a:cubicBezTo>
                <a:cubicBezTo>
                  <a:pt x="8" y="200"/>
                  <a:pt x="16" y="288"/>
                  <a:pt x="16" y="344"/>
                </a:cubicBezTo>
                <a:cubicBezTo>
                  <a:pt x="16" y="400"/>
                  <a:pt x="16" y="448"/>
                  <a:pt x="16" y="488"/>
                </a:cubicBezTo>
                <a:cubicBezTo>
                  <a:pt x="16" y="528"/>
                  <a:pt x="16" y="560"/>
                  <a:pt x="16" y="584"/>
                </a:cubicBezTo>
                <a:cubicBezTo>
                  <a:pt x="16" y="608"/>
                  <a:pt x="0" y="608"/>
                  <a:pt x="16" y="632"/>
                </a:cubicBezTo>
                <a:cubicBezTo>
                  <a:pt x="32" y="656"/>
                  <a:pt x="64" y="688"/>
                  <a:pt x="112" y="728"/>
                </a:cubicBezTo>
                <a:cubicBezTo>
                  <a:pt x="160" y="768"/>
                  <a:pt x="272" y="824"/>
                  <a:pt x="304" y="872"/>
                </a:cubicBezTo>
                <a:cubicBezTo>
                  <a:pt x="336" y="920"/>
                  <a:pt x="296" y="960"/>
                  <a:pt x="304" y="1016"/>
                </a:cubicBezTo>
                <a:cubicBezTo>
                  <a:pt x="312" y="1072"/>
                  <a:pt x="304" y="1136"/>
                  <a:pt x="352" y="1208"/>
                </a:cubicBezTo>
                <a:cubicBezTo>
                  <a:pt x="400" y="1280"/>
                  <a:pt x="536" y="1400"/>
                  <a:pt x="592" y="1448"/>
                </a:cubicBezTo>
                <a:cubicBezTo>
                  <a:pt x="648" y="1496"/>
                  <a:pt x="640" y="1488"/>
                  <a:pt x="688" y="1496"/>
                </a:cubicBezTo>
                <a:cubicBezTo>
                  <a:pt x="736" y="1504"/>
                  <a:pt x="832" y="1520"/>
                  <a:pt x="880" y="1496"/>
                </a:cubicBezTo>
                <a:cubicBezTo>
                  <a:pt x="928" y="1472"/>
                  <a:pt x="952" y="1416"/>
                  <a:pt x="976" y="1352"/>
                </a:cubicBezTo>
                <a:cubicBezTo>
                  <a:pt x="1000" y="1288"/>
                  <a:pt x="1008" y="1168"/>
                  <a:pt x="1024" y="1112"/>
                </a:cubicBezTo>
                <a:cubicBezTo>
                  <a:pt x="1040" y="1056"/>
                  <a:pt x="1064" y="1080"/>
                  <a:pt x="1072" y="1016"/>
                </a:cubicBezTo>
                <a:cubicBezTo>
                  <a:pt x="1080" y="952"/>
                  <a:pt x="1064" y="824"/>
                  <a:pt x="1072" y="728"/>
                </a:cubicBezTo>
                <a:cubicBezTo>
                  <a:pt x="1080" y="632"/>
                  <a:pt x="1104" y="520"/>
                  <a:pt x="1120" y="440"/>
                </a:cubicBezTo>
                <a:cubicBezTo>
                  <a:pt x="1136" y="360"/>
                  <a:pt x="1144" y="312"/>
                  <a:pt x="1168" y="248"/>
                </a:cubicBezTo>
                <a:cubicBezTo>
                  <a:pt x="1192" y="184"/>
                  <a:pt x="1248" y="96"/>
                  <a:pt x="1264" y="56"/>
                </a:cubicBezTo>
                <a:cubicBezTo>
                  <a:pt x="1280" y="16"/>
                  <a:pt x="1288" y="0"/>
                  <a:pt x="1264" y="8"/>
                </a:cubicBezTo>
                <a:close/>
              </a:path>
            </a:pathLst>
          </a:custGeom>
          <a:solidFill>
            <a:srgbClr val="f9e18b"/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37040" y="1689120"/>
            <a:ext cx="4317840" cy="2095560"/>
          </a:xfrm>
          <a:custGeom>
            <a:avLst/>
            <a:gdLst/>
            <a:ahLst/>
            <a:rect l="l" t="t" r="r" b="b"/>
            <a:pathLst>
              <a:path w="2720" h="1320">
                <a:moveTo>
                  <a:pt x="2680" y="88"/>
                </a:moveTo>
                <a:cubicBezTo>
                  <a:pt x="2720" y="0"/>
                  <a:pt x="2504" y="88"/>
                  <a:pt x="2152" y="88"/>
                </a:cubicBezTo>
                <a:cubicBezTo>
                  <a:pt x="1800" y="88"/>
                  <a:pt x="920" y="16"/>
                  <a:pt x="568" y="88"/>
                </a:cubicBezTo>
                <a:cubicBezTo>
                  <a:pt x="216" y="160"/>
                  <a:pt x="80" y="328"/>
                  <a:pt x="40" y="520"/>
                </a:cubicBezTo>
                <a:cubicBezTo>
                  <a:pt x="0" y="712"/>
                  <a:pt x="168" y="1160"/>
                  <a:pt x="328" y="1240"/>
                </a:cubicBezTo>
                <a:cubicBezTo>
                  <a:pt x="488" y="1320"/>
                  <a:pt x="784" y="1024"/>
                  <a:pt x="1000" y="1000"/>
                </a:cubicBezTo>
                <a:cubicBezTo>
                  <a:pt x="1216" y="976"/>
                  <a:pt x="1472" y="1160"/>
                  <a:pt x="1624" y="1096"/>
                </a:cubicBezTo>
                <a:cubicBezTo>
                  <a:pt x="1776" y="1032"/>
                  <a:pt x="1736" y="784"/>
                  <a:pt x="1912" y="616"/>
                </a:cubicBezTo>
                <a:cubicBezTo>
                  <a:pt x="2088" y="448"/>
                  <a:pt x="2640" y="176"/>
                  <a:pt x="2680" y="88"/>
                </a:cubicBezTo>
                <a:close/>
              </a:path>
            </a:pathLst>
          </a:custGeom>
          <a:solidFill>
            <a:srgbClr val="e2a2b3"/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971800" y="228600"/>
            <a:ext cx="556272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PT Bold Heading"/>
              </a:rPr>
              <a:t>تصنيف الأشكال الرباعي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89" name=""/>
          <p:cNvSpPr/>
          <p:nvPr/>
        </p:nvSpPr>
        <p:spPr>
          <a:xfrm>
            <a:off x="3429000" y="2362320"/>
            <a:ext cx="990720" cy="990360"/>
          </a:xfrm>
          <a:custGeom>
            <a:avLst/>
            <a:gdLst>
              <a:gd name="textAreaLeft" fmla="*/ 217800 w 990720"/>
              <a:gd name="textAreaRight" fmla="*/ 772920 w 990720"/>
              <a:gd name="textAreaTop" fmla="*/ 217800 h 990360"/>
              <a:gd name="textAreaBottom" fmla="*/ 77256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0db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86400" y="3962520"/>
            <a:ext cx="1295280" cy="838080"/>
          </a:xfrm>
          <a:prstGeom prst="rect">
            <a:avLst/>
          </a:prstGeom>
          <a:solidFill>
            <a:srgbClr val="eef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9920" y="2971800"/>
            <a:ext cx="1066680" cy="838080"/>
          </a:xfrm>
          <a:prstGeom prst="parallelogram">
            <a:avLst>
              <a:gd name="adj" fmla="val 31819"/>
            </a:avLst>
          </a:prstGeom>
          <a:solidFill>
            <a:srgbClr val="e2a2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1981080"/>
            <a:ext cx="838440" cy="533520"/>
          </a:xfrm>
          <a:prstGeom prst="flowChartManualInput">
            <a:avLst/>
          </a:prstGeom>
          <a:solidFill>
            <a:srgbClr val="e2a2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552200">
            <a:off x="4800600" y="2514240"/>
            <a:ext cx="914400" cy="685800"/>
          </a:xfrm>
          <a:prstGeom prst="flowChartManualOperation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1523880"/>
            <a:ext cx="1523880" cy="762120"/>
          </a:xfrm>
          <a:prstGeom prst="flowChartAlternateProcess">
            <a:avLst/>
          </a:prstGeom>
          <a:solidFill>
            <a:srgbClr val="15b9c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4572000"/>
            <a:ext cx="1523880" cy="762120"/>
          </a:xfrm>
          <a:prstGeom prst="flowChartAlternateProcess">
            <a:avLst/>
          </a:prstGeom>
          <a:solidFill>
            <a:srgbClr val="15b9c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391520" y="2590920"/>
            <a:ext cx="1523880" cy="761760"/>
          </a:xfrm>
          <a:prstGeom prst="flowChartAlternateProcess">
            <a:avLst/>
          </a:prstGeom>
          <a:solidFill>
            <a:srgbClr val="15b9c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3581280"/>
            <a:ext cx="1523880" cy="762120"/>
          </a:xfrm>
          <a:prstGeom prst="flowChartAlternateProcess">
            <a:avLst/>
          </a:prstGeom>
          <a:solidFill>
            <a:srgbClr val="15b9c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5562720"/>
            <a:ext cx="1523880" cy="761760"/>
          </a:xfrm>
          <a:prstGeom prst="flowChartAlternateProcess">
            <a:avLst/>
          </a:prstGeom>
          <a:solidFill>
            <a:srgbClr val="15b9c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467480" y="16002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شبه المنحر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91520" y="26668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متوازي الأضلا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467480" y="3657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مستطي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43800" y="4648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مرب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91320" y="4724280"/>
            <a:ext cx="1536480" cy="1524240"/>
          </a:xfrm>
          <a:custGeom>
            <a:avLst/>
            <a:gdLst/>
            <a:ahLst/>
            <a:rect l="l" t="t" r="r" b="b"/>
            <a:pathLst>
              <a:path w="968" h="960">
                <a:moveTo>
                  <a:pt x="968" y="0"/>
                </a:moveTo>
                <a:cubicBezTo>
                  <a:pt x="968" y="0"/>
                  <a:pt x="968" y="32"/>
                  <a:pt x="920" y="48"/>
                </a:cubicBezTo>
                <a:cubicBezTo>
                  <a:pt x="872" y="64"/>
                  <a:pt x="752" y="88"/>
                  <a:pt x="680" y="96"/>
                </a:cubicBezTo>
                <a:cubicBezTo>
                  <a:pt x="608" y="104"/>
                  <a:pt x="568" y="88"/>
                  <a:pt x="488" y="96"/>
                </a:cubicBezTo>
                <a:cubicBezTo>
                  <a:pt x="408" y="104"/>
                  <a:pt x="264" y="112"/>
                  <a:pt x="200" y="144"/>
                </a:cubicBezTo>
                <a:cubicBezTo>
                  <a:pt x="136" y="176"/>
                  <a:pt x="136" y="232"/>
                  <a:pt x="104" y="288"/>
                </a:cubicBezTo>
                <a:cubicBezTo>
                  <a:pt x="72" y="344"/>
                  <a:pt x="16" y="408"/>
                  <a:pt x="8" y="480"/>
                </a:cubicBezTo>
                <a:cubicBezTo>
                  <a:pt x="0" y="552"/>
                  <a:pt x="32" y="648"/>
                  <a:pt x="56" y="720"/>
                </a:cubicBezTo>
                <a:cubicBezTo>
                  <a:pt x="80" y="792"/>
                  <a:pt x="96" y="872"/>
                  <a:pt x="152" y="912"/>
                </a:cubicBezTo>
                <a:cubicBezTo>
                  <a:pt x="208" y="952"/>
                  <a:pt x="328" y="960"/>
                  <a:pt x="392" y="960"/>
                </a:cubicBezTo>
                <a:cubicBezTo>
                  <a:pt x="456" y="960"/>
                  <a:pt x="496" y="928"/>
                  <a:pt x="536" y="912"/>
                </a:cubicBezTo>
                <a:cubicBezTo>
                  <a:pt x="576" y="896"/>
                  <a:pt x="608" y="880"/>
                  <a:pt x="632" y="864"/>
                </a:cubicBezTo>
                <a:cubicBezTo>
                  <a:pt x="656" y="848"/>
                  <a:pt x="664" y="856"/>
                  <a:pt x="680" y="816"/>
                </a:cubicBezTo>
                <a:cubicBezTo>
                  <a:pt x="696" y="776"/>
                  <a:pt x="720" y="664"/>
                  <a:pt x="728" y="624"/>
                </a:cubicBezTo>
                <a:cubicBezTo>
                  <a:pt x="736" y="584"/>
                  <a:pt x="728" y="608"/>
                  <a:pt x="728" y="576"/>
                </a:cubicBezTo>
                <a:cubicBezTo>
                  <a:pt x="728" y="544"/>
                  <a:pt x="712" y="480"/>
                  <a:pt x="728" y="432"/>
                </a:cubicBezTo>
                <a:cubicBezTo>
                  <a:pt x="744" y="384"/>
                  <a:pt x="800" y="336"/>
                  <a:pt x="824" y="288"/>
                </a:cubicBezTo>
                <a:cubicBezTo>
                  <a:pt x="848" y="240"/>
                  <a:pt x="856" y="184"/>
                  <a:pt x="872" y="144"/>
                </a:cubicBezTo>
                <a:cubicBezTo>
                  <a:pt x="888" y="104"/>
                  <a:pt x="904" y="72"/>
                  <a:pt x="920" y="48"/>
                </a:cubicBezTo>
                <a:cubicBezTo>
                  <a:pt x="936" y="24"/>
                  <a:pt x="968" y="0"/>
                  <a:pt x="968" y="0"/>
                </a:cubicBezTo>
                <a:close/>
              </a:path>
            </a:pathLst>
          </a:custGeom>
          <a:solidFill>
            <a:srgbClr val="f915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467480" y="5715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مع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3581280"/>
            <a:ext cx="3784320" cy="2870280"/>
          </a:xfrm>
          <a:custGeom>
            <a:avLst/>
            <a:gdLst/>
            <a:ahLst/>
            <a:rect l="l" t="t" r="r" b="b"/>
            <a:pathLst>
              <a:path w="2384" h="1808">
                <a:moveTo>
                  <a:pt x="2376" y="1416"/>
                </a:moveTo>
                <a:cubicBezTo>
                  <a:pt x="2368" y="1408"/>
                  <a:pt x="2312" y="1408"/>
                  <a:pt x="2280" y="1368"/>
                </a:cubicBezTo>
                <a:cubicBezTo>
                  <a:pt x="2248" y="1328"/>
                  <a:pt x="2216" y="1224"/>
                  <a:pt x="2184" y="1176"/>
                </a:cubicBezTo>
                <a:cubicBezTo>
                  <a:pt x="2152" y="1128"/>
                  <a:pt x="2136" y="1104"/>
                  <a:pt x="2088" y="1080"/>
                </a:cubicBezTo>
                <a:cubicBezTo>
                  <a:pt x="2040" y="1056"/>
                  <a:pt x="1976" y="1048"/>
                  <a:pt x="1896" y="1032"/>
                </a:cubicBezTo>
                <a:cubicBezTo>
                  <a:pt x="1816" y="1016"/>
                  <a:pt x="1712" y="992"/>
                  <a:pt x="1608" y="984"/>
                </a:cubicBezTo>
                <a:cubicBezTo>
                  <a:pt x="1504" y="976"/>
                  <a:pt x="1360" y="992"/>
                  <a:pt x="1272" y="984"/>
                </a:cubicBezTo>
                <a:cubicBezTo>
                  <a:pt x="1184" y="976"/>
                  <a:pt x="1120" y="976"/>
                  <a:pt x="1080" y="936"/>
                </a:cubicBezTo>
                <a:cubicBezTo>
                  <a:pt x="1040" y="896"/>
                  <a:pt x="1048" y="800"/>
                  <a:pt x="1032" y="744"/>
                </a:cubicBezTo>
                <a:cubicBezTo>
                  <a:pt x="1016" y="688"/>
                  <a:pt x="1024" y="688"/>
                  <a:pt x="984" y="600"/>
                </a:cubicBezTo>
                <a:cubicBezTo>
                  <a:pt x="944" y="512"/>
                  <a:pt x="832" y="288"/>
                  <a:pt x="792" y="216"/>
                </a:cubicBezTo>
                <a:cubicBezTo>
                  <a:pt x="752" y="144"/>
                  <a:pt x="808" y="200"/>
                  <a:pt x="744" y="168"/>
                </a:cubicBezTo>
                <a:cubicBezTo>
                  <a:pt x="680" y="136"/>
                  <a:pt x="480" y="48"/>
                  <a:pt x="408" y="24"/>
                </a:cubicBezTo>
                <a:cubicBezTo>
                  <a:pt x="336" y="0"/>
                  <a:pt x="352" y="0"/>
                  <a:pt x="312" y="24"/>
                </a:cubicBezTo>
                <a:cubicBezTo>
                  <a:pt x="272" y="48"/>
                  <a:pt x="216" y="104"/>
                  <a:pt x="168" y="168"/>
                </a:cubicBezTo>
                <a:cubicBezTo>
                  <a:pt x="120" y="232"/>
                  <a:pt x="48" y="320"/>
                  <a:pt x="24" y="408"/>
                </a:cubicBezTo>
                <a:cubicBezTo>
                  <a:pt x="0" y="496"/>
                  <a:pt x="16" y="616"/>
                  <a:pt x="24" y="696"/>
                </a:cubicBezTo>
                <a:cubicBezTo>
                  <a:pt x="32" y="776"/>
                  <a:pt x="40" y="808"/>
                  <a:pt x="72" y="888"/>
                </a:cubicBezTo>
                <a:cubicBezTo>
                  <a:pt x="104" y="968"/>
                  <a:pt x="128" y="1064"/>
                  <a:pt x="216" y="1176"/>
                </a:cubicBezTo>
                <a:cubicBezTo>
                  <a:pt x="304" y="1288"/>
                  <a:pt x="472" y="1464"/>
                  <a:pt x="600" y="1560"/>
                </a:cubicBezTo>
                <a:cubicBezTo>
                  <a:pt x="728" y="1656"/>
                  <a:pt x="864" y="1712"/>
                  <a:pt x="984" y="1752"/>
                </a:cubicBezTo>
                <a:cubicBezTo>
                  <a:pt x="1104" y="1792"/>
                  <a:pt x="1224" y="1792"/>
                  <a:pt x="1320" y="1800"/>
                </a:cubicBezTo>
                <a:cubicBezTo>
                  <a:pt x="1416" y="1808"/>
                  <a:pt x="1464" y="1808"/>
                  <a:pt x="1560" y="1800"/>
                </a:cubicBezTo>
                <a:cubicBezTo>
                  <a:pt x="1656" y="1792"/>
                  <a:pt x="1808" y="1784"/>
                  <a:pt x="1896" y="1752"/>
                </a:cubicBezTo>
                <a:cubicBezTo>
                  <a:pt x="1984" y="1720"/>
                  <a:pt x="2024" y="1648"/>
                  <a:pt x="2088" y="1608"/>
                </a:cubicBezTo>
                <a:cubicBezTo>
                  <a:pt x="2152" y="1568"/>
                  <a:pt x="2240" y="1544"/>
                  <a:pt x="2280" y="1512"/>
                </a:cubicBezTo>
                <a:cubicBezTo>
                  <a:pt x="2320" y="1480"/>
                  <a:pt x="2312" y="1432"/>
                  <a:pt x="2328" y="1416"/>
                </a:cubicBezTo>
                <a:cubicBezTo>
                  <a:pt x="2344" y="1400"/>
                  <a:pt x="2384" y="1424"/>
                  <a:pt x="2376" y="1416"/>
                </a:cubicBezTo>
                <a:close/>
              </a:path>
            </a:pathLst>
          </a:custGeom>
          <a:solidFill>
            <a:srgbClr val="db1163"/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3657600"/>
            <a:ext cx="1066680" cy="1600200"/>
          </a:xfrm>
          <a:prstGeom prst="diamond">
            <a:avLst/>
          </a:prstGeom>
          <a:solidFill>
            <a:srgbClr val="3fd7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5410080"/>
            <a:ext cx="1143000" cy="609840"/>
          </a:xfrm>
          <a:prstGeom prst="flowChartDecision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5257800"/>
            <a:ext cx="685800" cy="68580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543800" y="304920"/>
            <a:ext cx="1295280" cy="581400"/>
          </a:xfrm>
          <a:prstGeom prst="rect">
            <a:avLst/>
          </a:pr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udir MT"/>
              </a:rPr>
              <a:t>مدخ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6781320" y="533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304920"/>
            <a:ext cx="1981440" cy="703800"/>
          </a:xfrm>
          <a:prstGeom prst="rect">
            <a:avLst/>
          </a:prstGeom>
          <a:gradFill rotWithShape="0">
            <a:gsLst>
              <a:gs pos="0">
                <a:srgbClr val="f2e092"/>
              </a:gs>
              <a:gs pos="100000">
                <a:srgbClr val="decd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فكري بشكل رباع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34120" y="1614600"/>
            <a:ext cx="1981080" cy="642600"/>
          </a:xfrm>
          <a:prstGeom prst="rect">
            <a:avLst/>
          </a:prstGeom>
          <a:solidFill>
            <a:srgbClr val="3fd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ل له محور تناظر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0120" y="2362320"/>
            <a:ext cx="1066680" cy="1191240"/>
          </a:xfrm>
          <a:prstGeom prst="rect">
            <a:avLst/>
          </a:prstGeom>
          <a:solidFill>
            <a:srgbClr val="e2a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رباعي بدون محور تناظ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81280" y="2514600"/>
            <a:ext cx="2743200" cy="368280"/>
          </a:xfrm>
          <a:prstGeom prst="rect">
            <a:avLst/>
          </a:prstGeom>
          <a:solidFill>
            <a:srgbClr val="f9e1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ل يمر في رأسين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77120" y="3505320"/>
            <a:ext cx="1143000" cy="1191240"/>
          </a:xfrm>
          <a:prstGeom prst="rect">
            <a:avLst/>
          </a:prstGeom>
          <a:solidFill>
            <a:srgbClr val="92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ل له محور آخر لايمر في الرأسين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3505320"/>
            <a:ext cx="1828800" cy="642600"/>
          </a:xfrm>
          <a:prstGeom prst="rect">
            <a:avLst/>
          </a:prstGeom>
          <a:solidFill>
            <a:srgbClr val="e2a2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ل له محور آخر يمر في الرأسين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4648320"/>
            <a:ext cx="1752480" cy="642600"/>
          </a:xfrm>
          <a:prstGeom prst="rect">
            <a:avLst/>
          </a:prstGeom>
          <a:solidFill>
            <a:srgbClr val="b0d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ل له محوران آخران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24480" y="1295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38880" y="19810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4120" y="1981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281952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876560" y="29718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4114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20120" y="4343400"/>
            <a:ext cx="6858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62920" y="4495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10080" y="4267080"/>
            <a:ext cx="10670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05520" y="533412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1972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772400" y="5638680"/>
            <a:ext cx="914400" cy="990720"/>
          </a:xfrm>
          <a:prstGeom prst="flowChartManualOperation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86600" y="5638680"/>
            <a:ext cx="609480" cy="99072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5791320"/>
            <a:ext cx="914400" cy="838080"/>
          </a:xfrm>
          <a:prstGeom prst="diamond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5791320"/>
            <a:ext cx="838080" cy="761760"/>
          </a:xfrm>
          <a:prstGeom prst="flowChartProcess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21409200">
            <a:off x="6094080" y="5705640"/>
            <a:ext cx="915840" cy="461880"/>
          </a:xfrm>
          <a:prstGeom prst="flowChartExtra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 rot="21409800">
            <a:off x="6093000" y="6163560"/>
            <a:ext cx="915840" cy="463680"/>
          </a:xfrm>
          <a:prstGeom prst="flowChartExtra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29600" y="56386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391520" y="56386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086600" y="6172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5791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6172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57913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962520" y="57913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62520" y="6172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5791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3352680"/>
            <a:ext cx="380880" cy="335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2590920" y="6629400"/>
            <a:ext cx="62481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2590560" y="990360"/>
            <a:ext cx="75960" cy="563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362320" y="380880"/>
            <a:ext cx="99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362320" y="457200"/>
            <a:ext cx="1066680" cy="52056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Mudir MT"/>
              </a:rPr>
              <a:t>نها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238880" y="2057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ل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9528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نع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0" y="3048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ل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14800" y="3200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نع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343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نع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4267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ل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52880" y="5486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ل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57600" y="5486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نع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553080" y="4572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نع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20120" y="42670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ل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7696080" y="304920"/>
            <a:ext cx="1143000" cy="45972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دخ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781320" y="5335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38680" y="228600"/>
            <a:ext cx="1143000" cy="916920"/>
          </a:xfrm>
          <a:prstGeom prst="rect">
            <a:avLst/>
          </a:prstGeom>
          <a:solidFill>
            <a:srgbClr val="f91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فكري بشكل رباع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77120" y="838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1538280"/>
            <a:ext cx="2895840" cy="642600"/>
          </a:xfrm>
          <a:prstGeom prst="rect">
            <a:avLst/>
          </a:prstGeom>
          <a:solidFill>
            <a:srgbClr val="eef8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ل قطراه متقاطعان في منتصفهما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772400" y="1981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1905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304920"/>
            <a:ext cx="1676520" cy="1191240"/>
          </a:xfrm>
          <a:prstGeom prst="rect">
            <a:avLst/>
          </a:prstGeom>
          <a:solidFill>
            <a:srgbClr val="3daf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ل هناك رباعي آخر يتقاطع قطراه في منتصفهما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33720" y="304920"/>
            <a:ext cx="761760" cy="73404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نها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12193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315200" y="2666880"/>
            <a:ext cx="1371600" cy="1059840"/>
          </a:xfrm>
          <a:prstGeom prst="rect">
            <a:avLst/>
          </a:prstGeom>
          <a:solidFill>
            <a:srgbClr val="3daf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شكل لي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038480" y="2666880"/>
            <a:ext cx="2286000" cy="642600"/>
          </a:xfrm>
          <a:prstGeom prst="rect">
            <a:avLst/>
          </a:pr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ل القطران متعامدان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72200" y="30481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266720" y="30481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3809880"/>
            <a:ext cx="1904760" cy="642600"/>
          </a:xfrm>
          <a:prstGeom prst="rect">
            <a:avLst/>
          </a:prstGeom>
          <a:solidFill>
            <a:srgbClr val="96ba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ل القطران متطابقان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352680" y="3809880"/>
            <a:ext cx="1905120" cy="642600"/>
          </a:xfrm>
          <a:prstGeom prst="rect">
            <a:avLst/>
          </a:prstGeom>
          <a:solidFill>
            <a:srgbClr val="96ba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ل القطران متطابقان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534520" y="35053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971800" y="6019920"/>
            <a:ext cx="556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971800" y="236232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971800" y="1295280"/>
            <a:ext cx="8380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895480" y="533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91520" y="419112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24852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2920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4114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086600" y="4876920"/>
            <a:ext cx="1143000" cy="990360"/>
          </a:xfrm>
          <a:prstGeom prst="parallelogram">
            <a:avLst>
              <a:gd name="adj" fmla="val 28853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91320" y="4724280"/>
            <a:ext cx="685800" cy="121932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419720" y="4724280"/>
            <a:ext cx="1143000" cy="1067040"/>
          </a:xfrm>
          <a:prstGeom prst="diamond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4952880"/>
            <a:ext cx="914400" cy="76212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7086240" y="4876920"/>
            <a:ext cx="114300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91520" y="4876920"/>
            <a:ext cx="53316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5790960" y="4724280"/>
            <a:ext cx="6858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91320" y="4724280"/>
            <a:ext cx="6858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4724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276720" y="495288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76720" y="4952880"/>
            <a:ext cx="9903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62520" y="1676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نع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10080" y="2209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نع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848720" y="2209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ل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77120" y="3138480"/>
            <a:ext cx="533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400800" y="3124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ل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32767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نع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467480" y="4343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ل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4852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نع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2920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ل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81280" y="4343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نع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22860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ل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8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77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2" dur="770" fill="hold"/>
                                        <p:tgtEl>
                                          <p:spTgt spid="1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4" dur="77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6" dur="77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4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19:09:04Z</dcterms:created>
  <dc:creator>Administrator</dc:creator>
  <dc:description/>
  <dc:language>en-US</dc:language>
  <cp:lastModifiedBy>Administrator</cp:lastModifiedBy>
  <dcterms:modified xsi:type="dcterms:W3CDTF">2003-03-28T02:15:47Z</dcterms:modified>
  <cp:revision>4</cp:revision>
  <dc:subject/>
  <dc:title>الشريحة 1</dc:title>
</cp:coreProperties>
</file>