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29E-6389-4751-ACCF-0B0F109E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E18-1B15-41C8-9D33-1FD1890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552-79A7-4D9A-B9BF-CAF5135A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BD8-6CA7-46D5-A8AC-113B0190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03D-9164-4406-A8D6-3C30869C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3BC-1CD8-41E6-B3A6-B29CF49D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D47-E9BC-4759-853B-73659A79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20B-BC30-4B1E-930C-960E8AC4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D7C-1D74-4A55-943B-56B58FC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367-D7D0-40CF-844C-8D30FBA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408-3551-4DA1-8240-3C0DA8A9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681-5056-460F-985D-D0DE339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B46F-7402-42B7-A4AE-BDA481FD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بــسم الله الرحمن الرحي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اجسام الغير مر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979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ي الأجسام التي لا تستعيد شكلها بعد زوال المؤث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ثل: الصلصا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تصادم المر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يكون فيه مجموع الطاقه قبل التصادم وبعده ثاب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ن الامثله تصادم جزئيات الغاز في اناء مغلق- وكرات البلياردو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تصادم غير المر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68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كون فيه مجموع الطاقه قبل التصادم وبعده غير ثابت (يحدث هدر للطاقه) مثا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جلة السيا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حولات الطاقه في القوس المشدو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050920" y="2060640"/>
            <a:ext cx="640080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طاقه كامنه في القوس المشدو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 ترك القوس تتحول الطاقه الكامنه الى طاقه حركيه في السهم وعند الاصطدام نسمع صوت اذن يتحول الى طاقه صوتيه وجزء منها يهدر على شكل حراره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6000" y="1196640"/>
            <a:ext cx="65880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فهوم انتقال الطاقه عن طريق الاصطدام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و انتقال الطاقه من جسم الى اخر نتيجة التصادم بين الجسمين</a:t>
            </a:r>
            <a:br>
              <a:rPr sz="3600"/>
            </a:b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ثال : اصطدام السياره في الحجر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تصادم المرن وغير المرن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ثال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رات البلياردو –المسمار والمطرق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95640" y="333360"/>
            <a:ext cx="259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ملخ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39640" y="1915920"/>
            <a:ext cx="6475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ارني بين الاجسام المرنه والاجسام غير المر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4720" y="620640"/>
            <a:ext cx="223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واج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خام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24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نتقال الطاقه بواسطة الاصطدا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فهوم انتقال الطاق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24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هو الربط بين تحولات الطاقه من شكل لآخر وهو وسيلة تحول الطاقة من شكل لآخ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فهوم انتقال الطاقه بواسطة الاصطدا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5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هو انتقال الطاقه من جسم الى اخر نتيجة التصادم بين الجسم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اهو تفسير تحرك التوربي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صطدام الهواء بشرائح التوربي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730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هواء يمتلك طاقه حركيه وعند الاصطدام تنتقل الطاقة الحركية من الهواء الى التوربين فتتحرك الشرائ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عند طرق المسمار بواسطة مطرقه ثم نلمس المسمار ماذا نشعر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35280" y="2276640"/>
            <a:ext cx="64008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ه شي من السخون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بب ذلك ان جزء من الطاقه الحركيه تتحول الى طاقه حراريه نتيجة الاحتكاك (الاصطدام) بين المطرقه والمسمار وهذه الطاقه المهدورة لايستفاد منها في غرز المسمار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هل يعتبر المسمار مثال لانتقال الطاق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95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نع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حيث انتقلت الطاقه الحركيه من المطرقه الى المسم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اجسام المر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7964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و استعادة الجسم لشكله الأساسي بعد زوال القوة المؤثرة علي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ثل: المطاط- النابض الفولاذ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16:54:42Z</dcterms:created>
  <dc:creator>user</dc:creator>
  <dc:description/>
  <dc:language>en-US</dc:language>
  <cp:lastModifiedBy>user</cp:lastModifiedBy>
  <dcterms:modified xsi:type="dcterms:W3CDTF">2010-04-24T17:55:26Z</dcterms:modified>
  <cp:revision>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