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DBF-70E0-436F-8081-8AD6C524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CAF-765B-41DB-BEF6-5E54F14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95F-2FB9-4C93-90AF-3BE87BB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608-095D-4CDC-A9B7-E57C237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CDE-EC67-4C4C-9A55-3CEE96F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009-0909-4B46-817F-4BBB31DE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160-1136-454A-B60D-A35DB3D8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206-25A8-4DEB-93D2-E76441B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818-295C-4CC2-A22F-93A4C8E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9A2-4D92-4815-8436-F1C53AD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A34-292E-44B8-AE37-0FAF2C6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D60-E28E-4622-83DA-96CBF44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518-AF43-4632-B3F1-046271CE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4724280"/>
            <a:ext cx="6769080" cy="1586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85328" dir="69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6308640"/>
            <a:ext cx="576000" cy="476280"/>
          </a:xfrm>
          <a:prstGeom prst="diamond">
            <a:avLst/>
          </a:prstGeom>
          <a:gradFill rotWithShape="0">
            <a:gsLst>
              <a:gs pos="0">
                <a:srgbClr val="9966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26828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دخ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8640" y="1844640"/>
            <a:ext cx="3375000" cy="210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85560" y="69228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أَمُّلاتٌ فِي الطَّبِيعَ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06000" y="1268280"/>
            <a:ext cx="96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الأرضُ قد لَبِستَ رِدَاءً أَخْضَرا                              والطَّلُّ يَنْشُرُ في رُبَاها جَوهَر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834080"/>
            <a:ext cx="653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 حتََّى أُرِيكَ بَدِيعَ صُنْعِ البَ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 لِــرَوَاِئِعِ   الآياتِ   والآثَـ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 أُمُّ الكتابِ علىَ لِسانِ القارِ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40720" y="4149720"/>
            <a:ext cx="86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22424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حمد شو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22100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: من قائل هذا النص؟            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3068640"/>
            <a:ext cx="2016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حفظ النص كامل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) أب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060640"/>
            <a:ext cx="1656000" cy="1079280"/>
          </a:xfrm>
          <a:prstGeom prst="irregularSeal1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ف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268280"/>
            <a:ext cx="8424720" cy="525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00120"/>
            <a:ext cx="788508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cs typeface="SKR HEAD1"/>
              </a:rPr>
              <a:t>جو النَّصّ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في الطَّبيعة سحرٌ خلاَّبٌ يجلبُ الأنظارَ، ويستهوي القلوبَ، ويذكِّر المرءَ بعظمةِ الخالق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قدرته. وقد أنْطَقَتِ الطبيعةُ ألسنةَ الشعراءِ قديماً وحديثاً، فتغنَّوا بجمالِها ومناظِرِهَا الخلا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ا هي الطبيعةُ تستوقف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أحمد شوق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ويدعو للتأمل فيها، فيجولُ في أراضيها وسمائها، ويقفُ مبهوراً أمام مشاهدها فيبدع في وصفها وتصويرها، ومن ذلك هذه القصيدةُ التي نَظَمَهَا في وصفِ الطبيعةِ  أثناءَ عودتِهِ من أوروبا إلى إسطنب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49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و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السندسُ نعيمٌ اختُصَّ به أهلُ الجنة، وقد وردَ ذكرُهُ في القرآن الكريم في أكثرَ من سورة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ستعينُ بأبياتِ النصِّ، ثم أملأ سُلَّمَ الكلماتِ بالمطاليبِ الآتيةِ لأصلَ من خلالِ المربعات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ظلَّلَةِ إلى اسمِ إحدى هذه السو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45080" y="1844640"/>
            <a:ext cx="4572000" cy="2654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الموقعُ الإعرابيُّ لكلمةِ « أثيم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مخاطبُ المثنى من كلمة « حولك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جمعُ الآخرُ لكلمةِ « أنهر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مفردُ من كلمةِ « حصى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كلمةٌ بمعنى « فخرت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فعلُ أمر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700280"/>
            <a:ext cx="4176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41440" y="1844640"/>
          <a:ext cx="3886200" cy="22114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7640"/>
                <a:gridCol w="647640"/>
                <a:gridCol w="648000"/>
                <a:gridCol w="64764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780000" y="1557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9162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2205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85264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1844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2203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716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2205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2494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7828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429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3718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2490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4360" y="2779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3068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3714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4003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378792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313992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342756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37879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789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184464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مفعول 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7800" y="2276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ولك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2637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أنه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068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ص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3429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زه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78936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47640" y="4365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580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سم السو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كه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494172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ذ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4987800"/>
            <a:ext cx="69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ا الغرضُ من استخدامِ الشاعرِ ل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55101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أكيد .                          التهويل .                    التشوي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551664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62160" y="55641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601992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44480" y="606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ياس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760" y="599616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زجر .                          لفت الانتباه.             الأم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51640" y="60944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516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5661000"/>
            <a:ext cx="28764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616428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قال أَحْمَدُ شَوْقِ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مُدَّتْ سَوَاعِدُ مائه وتَأَلَّقَتْ فِيهَا                 الجَوَاهِرُ مِنْ حَصىً وجِمَ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تأمَّلُ البيتَ، ثمَّ أجيب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بِمَ شبهَ الشاعرُ الحصىَ والجِمَا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234792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5440" y="24192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الجواه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38960" y="3141720"/>
            <a:ext cx="65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لماذا اختارَ الشاعرُ هذا التشبيهَ ؟ وأبين  رأيي ف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57336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6720" y="36464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أن الحصى تحت الماء يتلألأ  كالجواهر ، وأرى أنه تشبيه رائع في مكا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076720" y="-531720"/>
            <a:ext cx="4319640" cy="2158920"/>
          </a:xfrm>
          <a:prstGeom prst="flowChartMulti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6699"/>
                </a:solidFill>
                <a:latin typeface="Arial"/>
                <a:cs typeface="SKR HEAD1"/>
              </a:rPr>
              <a:t>عزيزي الطا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2600280" cy="1733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095640" y="3471840"/>
            <a:ext cx="2771640" cy="2333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771640" y="3141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على مشاركتك في هذا ال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5661000"/>
            <a:ext cx="8064360" cy="79236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Arial"/>
                <a:cs typeface="SKR HEAD1"/>
              </a:rPr>
              <a:t>تقبل احترامي وتقديري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SKR HEAD1"/>
              </a:rPr>
              <a:t> ،،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849200">
            <a:off x="52560" y="1050840"/>
            <a:ext cx="3960720" cy="15130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حفظ النص كامل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933200">
            <a:off x="539280" y="764640"/>
            <a:ext cx="2016360" cy="93672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رس القا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6360" y="1041480"/>
            <a:ext cx="844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799164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حتََّى أُرِيكَ بَدِيعَ صُنْعِ البَـ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تأمل الشاعر هذه الطبيعة ويخاطب صاحبه ويدعوه أن يتأمل معه جمال هذ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طبيعة  ليرى البدائع والروائع التي خلقها الله سبحانه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فهو يقول له قف يا صاحبي تأمل هذا الجمال الذي أبدعه الله سبحانه وتعا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لِــرَوَاِئِعِ   الآياتِ   والآثَــ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صور منظراً من مناظر الطبيعة عندما تنزل الأمطار وتهتز الأرض فرحة مسر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بقدومها وما هي إلابضعة أيام حتى يكسو الأرض فراشاً أخضر، تدل على  أعظم وأ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آيات التي تدل على قدرة الله وآثاره الج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أُمُّ الكتابِ علىَ لِسـانِ القار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كل شئ هنا ينطق بالجلال ويسبح بالعظمة الربانية باستمرار ودون فتور أو عجز وقد شبَّ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ذلك بقراءة سورة الفاتحة على لسان القارئ المجيد الذي لا يمكن أن يخطئ أو يبطئ في قراءت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وذلك من كثرة الترديد والحفظ عن ظهر قلب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لأدِلَّةِ    الفُقَـــهَاءِ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هذه الطبيعة والمناظر الساحرة تدل على خالقها سبحانه وتفرده بالملك دون غ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فنحن لا نحتاج إلى أدلة العلماء والفقهاء لإثبات ربوبيته جل في شأنه فقد أغنت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هذه المناظر عنها فهي تمثل العظمة والعزة والقوة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تَمْحُو أَثِيمَ الشَّكِّ والإنْك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ستغرب الشاعر من بعض المشككين الذين لاهمّ لهم إلا محاربة الله ورسو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فهم يزعمون أنّ هذا من صنع الطبيعة ويشككون في قدرة الله فيقول لهم الشاع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إنّ نظرة منكم في ملكوت الله أن تمحو كل شك وإنكار وجح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والنَّبتَ مِـــرآةً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في هذا البيت يأخذنا الشاعر في رحلة ممتعة لمنظر الغدير فهو يصف منظر الأعش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الخضراء التي تلف الغدير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SKR HEAD1"/>
              </a:rPr>
              <a:t>فيُشبِّه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هذا الغدير والأعشاب الخضراء من حوله بمرآ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قد طرزت بإطار فبدأت لامعة بإطار أخضر من شدة جماله وحسن منظر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5328000" cy="307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فِيهَا الجَوَاهِرُ من حصىً و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وما زلنا في هذا الغدير الفاتن فهو ذو جداول صغيرة قد امتدت هاهنا وهناك وقد زين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أنواع من الحصى كبيرة وصغيرة نقية لامعة بلمعان مائ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106960" cy="354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93080" y="3284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جم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4076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صي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052640"/>
            <a:ext cx="3456000" cy="64764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33360"/>
            <a:ext cx="3456000" cy="64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بَّه الحصى والجمار بالجوا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يَنْسَــــــــابُ 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مَنْسُــــوجَةٍ مِن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هذا الغدير يجري بانسيابية وتدفق خلاب على أرض خضراء خصبة مبتلة قد نسج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بأرق لباس وأروع ذهب لم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835280" y="2421000"/>
            <a:ext cx="5111640" cy="354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020000" y="2781360"/>
            <a:ext cx="158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8526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خض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33577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رض خص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4076640"/>
            <a:ext cx="1584360" cy="17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924280"/>
            <a:ext cx="1224000" cy="28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99736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سند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502080"/>
            <a:ext cx="1081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ق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يب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و نو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ن الحر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42908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ض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47959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ذهب خال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مُنْشــــقَّةً من أَنْهُرٍ وَ بِحَـــــار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صف السماء أنها دائمة الهطول مغدقة الأمطار في كل الأوقات في وقت الضح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و وقت المساء أو في الليل فهي هطالة غزيرة مياهها وكأنها أنهار وبح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332000" y="2517840"/>
            <a:ext cx="5976720" cy="32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5976720" cy="33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332000" y="2479680"/>
            <a:ext cx="5976720" cy="332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1846440"/>
            <a:ext cx="871380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77720"/>
            <a:ext cx="2520720" cy="647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شاطات التعل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30320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للطبيعة مظاهر خلابةٌ عديدةٌ، أذكرُ بعضَهَا من 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997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0400" y="308772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صف الغدير وكأنه مرآة قد أحيطت بإطار أخض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3789360"/>
            <a:ext cx="41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-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ا الصورةُ التي رسمها الشاعرُ للسماءِ حينَ نزولِ المط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175280"/>
            <a:ext cx="864072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3840" y="426564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أنها منشقة عن أنهار وبحار من شدة هطول الأمط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620640"/>
            <a:ext cx="1871640" cy="504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هم والاستيع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6360" y="1755720"/>
            <a:ext cx="88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100" spc="-1" strike="noStrike">
                <a:solidFill>
                  <a:srgbClr val="000000"/>
                </a:solidFill>
                <a:latin typeface="Arial"/>
                <a:cs typeface="SKR HEAD1"/>
              </a:rPr>
              <a:t>روعة وجمال الغدير ، والحصى المتناثر على جوانبه  ، والأرض المخضلة الخصبة  ، ونزول المطر بكل وقت مساءً وصباحًا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565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أصفُ الغديرَ كما رآه الشاع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941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ختار الإجابة الصحيح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سبب اهتزازهما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94172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خوفًا ورهبةً من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ظاهرة طبيعية تحدث أحيان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هوًا وطربًا بما فيها من جم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عودةِ الحياة إلي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01336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537372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573408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609444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5805360"/>
            <a:ext cx="287280" cy="14472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8508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76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– (مُدَّت سواعد  مائه ) </a:t>
            </a: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بمعنى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765000"/>
            <a:ext cx="3960720" cy="1656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يدي الشَّاربين الذين يردون الغدي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جرى ماءِ الغديرِ ومَسِي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عونة الآخرين وسدَّ حاجا ت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إحاطة سواعدِه بالخمي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7080" y="90792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7080" y="126828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7080" y="162864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198900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مايأ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- من آثار تأمل الطبيع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58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 – من فضائل أم الكتاب:         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458136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781360"/>
            <a:ext cx="3960720" cy="1511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85264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ُذكِّر بعظمة الخالق سبحانه وتعال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284640"/>
            <a:ext cx="338472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د من إيمان المر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71628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ل الشك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465300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عظم سورة في القرآ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5084640"/>
            <a:ext cx="338436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افية من الأمرا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551664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تقبل الصلاة إلا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33992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94000" y="69228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د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رجُ من النصِّ ما يؤيدُ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 عجيبَ صنعِ الخالقِ في الطبيعةِ يدعوُ إلى التأمُّ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773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789360"/>
            <a:ext cx="8713800" cy="622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5000" y="3068640"/>
            <a:ext cx="54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نسيابُ ماءِ الغديرِ في أرضٍ نديَّةٍ مبلَّ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1844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3860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ثا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370160" y="1844640"/>
            <a:ext cx="104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486440" y="3897360"/>
            <a:ext cx="105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هـ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والأحْبَ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ـــرَةٌ  فِي صُنْعِهِ                              تَمْحُو أَثِيمَ الشَّكِّ والإنْكـــــارِِ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شرح البيتين السابقين بأسلوب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6985080" cy="1008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70160" y="1668600"/>
            <a:ext cx="101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ذه الطبيعة الخلابة تدل على الخالق سبحانه بدون الحاجة إلى أدلة أو إثبات ف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كان في شك من ذلك فلينظر نظرة متأنية وسوف تذهب تلك الشكوك والوساو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277956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لغة والتراكي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8520" y="282744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أ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ما العلاقة بين 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342900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2160" y="34765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400536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87280" y="40766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السماء ، الأ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419640" y="349884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19640" y="407520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342900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01760" y="45561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الفراغات حسب المطلوب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قه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َّ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128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ج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1280" y="5805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ق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ك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08360" y="5589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3044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را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ض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0920" y="620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620640"/>
            <a:ext cx="4105440" cy="504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bbe0e3"/>
              </a:gs>
              <a:gs pos="100000">
                <a:srgbClr val="ffff99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5440" y="622440"/>
            <a:ext cx="1368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اض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7080" y="620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620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أ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11253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7080" y="11239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تمح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1239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5440" y="16304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د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7080" y="1628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5440" y="21351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7080" y="21337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1337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50920" y="2924280"/>
            <a:ext cx="32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ن أسماء الله تعا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0000" y="371628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من أسماءِ الفاتحة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6680" y="4843440"/>
            <a:ext cx="55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دمُ التراكيبَ الآتيةَ في جملٍ مفي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373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87700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78136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852640"/>
            <a:ext cx="288720" cy="216000"/>
          </a:xfrm>
          <a:prstGeom prst="leftArrow">
            <a:avLst>
              <a:gd name="adj1" fmla="val 49454"/>
              <a:gd name="adj2" fmla="val 712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1080" y="321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1080" y="350028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12536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ح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6920" y="112536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مح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163044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مدّ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ُد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13372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و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213372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قف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6920" y="2781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14172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خال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342900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م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93372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4005360"/>
            <a:ext cx="288720" cy="215640"/>
          </a:xfrm>
          <a:prstGeom prst="leftArrow">
            <a:avLst>
              <a:gd name="adj1" fmla="val 49454"/>
              <a:gd name="adj2" fmla="val 713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1080" y="4365720"/>
            <a:ext cx="289080" cy="215640"/>
          </a:xfrm>
          <a:prstGeom prst="leftArrow">
            <a:avLst>
              <a:gd name="adj1" fmla="val 49454"/>
              <a:gd name="adj2" fmla="val 71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1080" y="465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6920" y="3933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م الكت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42940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ش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458136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ك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44500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594828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53006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وائع الآي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58784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ُنْح الدُّج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537372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تفكرت في  روائع الآيات من صنع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587844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خرجت إلى البر في جُنْح الدُّج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5:39:15Z</dcterms:created>
  <dc:creator>user</dc:creator>
  <dc:description/>
  <dc:language>en-US</dc:language>
  <cp:lastModifiedBy>user</cp:lastModifiedBy>
  <dcterms:modified xsi:type="dcterms:W3CDTF">2010-04-25T04:21:03Z</dcterms:modified>
  <cp:revision>39</cp:revision>
  <dc:subject/>
  <dc:title>الشريحة 1</dc:title>
</cp:coreProperties>
</file>