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D68-C880-43B9-BF57-0B6008BD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CF6-8E5E-477F-A4DC-F5937C76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18F-426A-4570-BCFC-AA046744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A77-F9DF-4388-A576-03FC9AC0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A7E-DDA0-42B0-AF6C-9CF95A3F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9C8-5DAB-462C-820C-2656E2B0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084-9300-469B-A858-A40E84D1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E6A-6D9B-4460-AC98-6B8B5E1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2D8-E069-4221-A3D2-028BCAFB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4E8-D95C-4F86-8A06-28A4F90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6ED-6DBB-4040-9728-4B75BA87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8EB-D392-43A0-9D53-17941FD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E283-C2BE-49DB-AA54-C25C820D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4724280"/>
            <a:ext cx="6769080" cy="1586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85328" dir="699390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6308640"/>
            <a:ext cx="576000" cy="476280"/>
          </a:xfrm>
          <a:prstGeom prst="diamond">
            <a:avLst/>
          </a:prstGeom>
          <a:gradFill rotWithShape="0">
            <a:gsLst>
              <a:gs pos="0">
                <a:srgbClr val="9966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67640" y="126828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دخ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68640" y="1844640"/>
            <a:ext cx="3375000" cy="210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85560" y="69228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أَمُّلاتٌ فِي الطَّبِيعَ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06000" y="1268280"/>
            <a:ext cx="96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الأرضُ قد لَبِستَ رِدَاءً أَخْضَرا                              والطَّلُّ يَنْشُرُ في رُبَاها جَوهَرَ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834080"/>
            <a:ext cx="653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 حتََّى أُرِيكَ بَدِيعَ صُنْعِ البَ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 لِــرَوَاِئِعِ   الآياتِ   والآثَــــــ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 أُمُّ الكتابِ علىَ لِسانِ القارِ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40720" y="4149720"/>
            <a:ext cx="86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ن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4224240"/>
            <a:ext cx="30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حمد شو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221000"/>
            <a:ext cx="30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س: من قائل هذا النص؟            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3068640"/>
            <a:ext cx="20160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حفظ النص كامل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) أب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060640"/>
            <a:ext cx="1656000" cy="1079280"/>
          </a:xfrm>
          <a:prstGeom prst="irregularSeal1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حف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268280"/>
            <a:ext cx="8424720" cy="525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500120"/>
            <a:ext cx="788508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66"/>
                </a:solidFill>
                <a:latin typeface="Arial"/>
                <a:cs typeface="SKR HEAD1"/>
              </a:rPr>
              <a:t>جو النَّصِّ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في الطَّبيعة سحرٌ خلاَّبٌ يجلبُ الأنظارَ، ويستهوي القلوبَ، ويذكِّر المرءَ بعظمةِ الخالق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وقدرته. وقد أنْطَقَتِ الطبيعةُ ألسنةَ الشعراءِ قديماً وحديثاً، فتغنَّوا بجمالِها ومناظِرِهَا الخلاب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وها هي الطبيعةُ تستوقف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أحمد شوق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ويدعو للتأمل فيها، فيجولُ في أراضيها وسمائها، ويقفُ مبهوراً أمام مشاهدها فيبدع في وصفها وتصويرها، ومن ذلك هذه القصيدةُ التي نَظَمَهَا في وصفِ الطبيعةِ  أثناءَ عودتِهِ من أوروبا إلى إسطنب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1200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549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Arial"/>
                <a:ea typeface="SKR HEAD1"/>
              </a:rPr>
              <a:t>(و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السندسُ نعيمٌ اختُصَّ به أهلُ الجنة، وقد وردَ ذكرُهُ في القرآن الكريم في أكثرَ من سورة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أستعينُ بأبياتِ النصِّ، ثم أملأ سُلَّمَ الكلماتِ بالمطاليبِ الآتيةِ لأصلَ من خلالِ المربعات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مظلَّلَةِ إلى اسمِ إحدى هذه السور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45080" y="1844640"/>
            <a:ext cx="4572000" cy="26542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الموقعُ الإعرابيُّ لكلمةِ « أثيم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مخاطبُ المثنى من كلمة « حولك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الجمعُ الآخرُ لكلمةِ « أنهر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المفردُ من كلمةِ « حصى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كلمةٌ بمعنى « فخرت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فعلُ أمر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1700280"/>
            <a:ext cx="4176720" cy="26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41440" y="1844640"/>
          <a:ext cx="3886200" cy="22114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  <a:gridCol w="647640"/>
                <a:gridCol w="647640"/>
                <a:gridCol w="648000"/>
                <a:gridCol w="647640"/>
              </a:tblGrid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3780000" y="15573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9162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2205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5280" y="2492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285264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184464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2203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80000" y="2492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27813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3427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3716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22050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24940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27828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314172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4290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37180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249084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84360" y="27795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84360" y="306864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3427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371484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84360" y="40035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5280" y="27813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3429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378792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313992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342756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378792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3429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7893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184464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Arial"/>
                <a:cs typeface="SKR HEAD1"/>
              </a:rPr>
              <a:t>مفعول ب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57800" y="227664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حولك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7640" y="263700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أنه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306864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حص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342900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زه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78936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47640" y="436572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5800" y="44370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سم السور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44370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كه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4941720"/>
            <a:ext cx="1871640" cy="5050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تذ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4987800"/>
            <a:ext cx="69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SKR HEAD1"/>
              </a:rPr>
              <a:t>(أ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ما الغرضُ من استخدامِ الشاعرِ لكلٍّ مِنْ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8000" y="55101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تأكيد .                          التهويل .                    التشوي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551664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62160" y="55641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مُخْضَلَّةٍ ، مُبْتَلَّة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601992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44480" y="6067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Arial"/>
                <a:cs typeface="SKR HEAD1"/>
              </a:rPr>
              <a:t>ياس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760" y="599616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زجر .                          لفت الانتباه.             الأم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51640" y="60944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55166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528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528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092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092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5661000"/>
            <a:ext cx="28764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6164280"/>
            <a:ext cx="28728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69228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قال أَحْمَدُ شَوْقِ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مُدَّتْ سَوَاعِدُ مائه وتَأَلَّقَتْ فِيهَا                 الجَوَاهِرُ مِنْ حَصىً وجِمَ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تأمَّلُ البيتَ، ثمَّ أجيب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بِمَ شبهَ الشاعرُ الحصىَ والجِمَار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2347920"/>
            <a:ext cx="705636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5440" y="24192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الجواه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38960" y="3141720"/>
            <a:ext cx="65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 لماذا اختارَ الشاعرُ هذا التشبيهَ ؟ وأبين  رأيي في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3573360"/>
            <a:ext cx="705636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36720" y="364644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أن الحصى تحت الماء يتلألأ  كالجواهر ، وأرى أنه تشبيه رائع في مكا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076720" y="-531720"/>
            <a:ext cx="4319640" cy="2158920"/>
          </a:xfrm>
          <a:prstGeom prst="flowChartMultidocumen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6699"/>
                </a:solidFill>
                <a:latin typeface="Arial"/>
                <a:cs typeface="SKR HEAD1"/>
              </a:rPr>
              <a:t>عزيزي الطال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3640" y="1341360"/>
            <a:ext cx="2600280" cy="1733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095640" y="3471840"/>
            <a:ext cx="2771640" cy="2333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771640" y="3141720"/>
            <a:ext cx="403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على مشاركتك في هذا الدر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5661000"/>
            <a:ext cx="8064360" cy="79236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Arial"/>
                <a:cs typeface="SKR HEAD1"/>
              </a:rPr>
              <a:t>تقبل احترامي وتقديري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SKR HEAD1"/>
              </a:rPr>
              <a:t> ،،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849200">
            <a:off x="52560" y="1050840"/>
            <a:ext cx="3960720" cy="151308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حفظ النص كامل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9933200">
            <a:off x="539280" y="764640"/>
            <a:ext cx="2016360" cy="93672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درس القا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36360" y="1041480"/>
            <a:ext cx="844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349360"/>
            <a:ext cx="799164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080" y="1041480"/>
            <a:ext cx="844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349360"/>
            <a:ext cx="828036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حتََّى أُرِيكَ بَدِيعَ صُنْعِ البَـ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تأمل الشاعر هذه الطبيعة ويخاطب صاحبه ويدعوه أن يتأمل معه جمال هذ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الطبيعة  ليرى البدائع والروائع التي خلقها الله سبحانه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فهو يقول له قف يا صاحبي تأمل هذا الجمال الذي أبدعه الله سبحانه وتعا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لِــرَوَاِئِعِ   الآياتِ   والآثَـــ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صور منظراً من مناظر الطبيعة عندما تنزل الأمطار وتهتز الأرض فرحة مسرو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بقدومها وما هي إلابضعة أيام حتى يكسو الأرض فراشاً أخضر، تدل على  أعظم وأ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الآيات التي تدل على قدرة الله وآثاره الج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أُمُّ الكتابِ علىَ لِسـانِ القار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كل شئ هنا ينطق بالجلال ويسبح بالعظمة الربانية باستمرار ودون فتور أو عجز وقد شبَّ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ذلك بقراءة سورة الفاتحة على لسان القارئ المجيد الذي لا يمكن أن يخطئ أو يبطئ في قراءت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وذلك من كثرة الترديد والحفظ عن ظهر قلب 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SKR HEAD1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لأدِلَّةِ    الفُقَـــهَاءِ  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هذه الطبيعة والمناظر الساحرة تدل على خالقها سبحانه وتفرده بالملك دون غ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 فنحن لا نحتاج إلى أدلة العلماء والفقهاء لإثبات ربوبيته جل في شأنه فقد أغنت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 هذه المناظر عنها فهي تمثل العظمة والعزة والقوة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تَمْحُو أَثِيمَ الشَّكِّ والإنْك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ستغرب الشاعر من بعض المشككين الذين لاهمّ لهم إلا محاربة الله ورسو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فهم يزعمون أنّ هذا من صنع الطبيعة ويشككون في قدرة الله فيقول لهم الشاع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إنّ نظرة منكم في ملكوت الله أن تمحو كل شك وإنكار وجح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والنَّبتَ مِـــرآةً  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في هذا البيت يأخذنا الشاعر في رحلة ممتعة لمنظر الغدير فهو يصف منظر الأعش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الخضراء التي تلف الغدير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SKR HEAD1"/>
              </a:rPr>
              <a:t>فيُشبِّه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هذا الغدير والأعشاب الخضراء من حوله بمرآ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قد طرزت بإطار فبدأت لامعة بإطار أخضر من شدة جماله وحسن منظره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5328000" cy="307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فِيهَا الجَوَاهِرُ من حصىً و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وما زلنا في هذا الغدير الفاتن فهو ذو جداول صغيرة قد امتدت هاهنا وهناك وقد زين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أنواع من الحصى كبيرة وصغيرة نقية لامعة بلمعان مائ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106960" cy="3541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93080" y="3284640"/>
            <a:ext cx="15825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جم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4076640"/>
            <a:ext cx="15825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حصيات ال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052640"/>
            <a:ext cx="3456000" cy="64764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333360"/>
            <a:ext cx="3456000" cy="647640"/>
          </a:xfrm>
          <a:prstGeom prst="rect">
            <a:avLst/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شبَّه الحصى والجمار بالجوا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-يَنْسَــــــــابُ في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مَنْسُــــوجَةٍ مِن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هذا الغدير يجري بانسيابية وتدفق خلاب على أرض خضراء خصبة مبتلة قد نسج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بأرق لباس وأروع ذهب لما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835280" y="2421000"/>
            <a:ext cx="5111640" cy="354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020000" y="2781360"/>
            <a:ext cx="15843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852640"/>
            <a:ext cx="1439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خض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335772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رض خص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000" y="4076640"/>
            <a:ext cx="1584360" cy="17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924280"/>
            <a:ext cx="1224000" cy="28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99736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سند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502080"/>
            <a:ext cx="1081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ق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ديب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هو نو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ن الحر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4290840"/>
            <a:ext cx="1439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ض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479592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ذهب خال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مُنْشــــقَّةً من أَنْهُرٍ وَ بِحَـــــار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يصف السماء أنها دائمة الهطول مغدقة الأمطار في كل الأوقات في وقت الضح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أو وقت المساء أو في الليل فهي هطالة غزيرة مياهها وكأنها أنهار وبحا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332000" y="2517840"/>
            <a:ext cx="5976720" cy="32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332000" y="2492280"/>
            <a:ext cx="5976720" cy="331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332000" y="2479680"/>
            <a:ext cx="5976720" cy="332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080" y="1041480"/>
            <a:ext cx="844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349360"/>
            <a:ext cx="828036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1846440"/>
            <a:ext cx="871380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77720"/>
            <a:ext cx="2520720" cy="64764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cc66"/>
            </a:solidFill>
            <a:miter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نشاطات التعل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303200"/>
            <a:ext cx="79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SKR HEAD1"/>
              </a:rPr>
              <a:t>(أ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للطبيعة مظاهر خلابةٌ عديدةٌ، أذكرُ بعضَهَا من الن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997360"/>
            <a:ext cx="871380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0400" y="308772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صف الغدير وكأنه مرآة قد أحيطت بإطار أخض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3789360"/>
            <a:ext cx="41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-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ا الصورةُ التي رسمها الشاعرُ للسماءِ حينَ نزولِ المطر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175280"/>
            <a:ext cx="864072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83840" y="426564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كأنها منشقة عن أنهار وبحار من شدة هطول الأمط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620640"/>
            <a:ext cx="1871640" cy="504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فهم والاستيع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6360" y="1755720"/>
            <a:ext cx="889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100" spc="-1" strike="noStrike">
                <a:solidFill>
                  <a:srgbClr val="000000"/>
                </a:solidFill>
                <a:latin typeface="Arial"/>
                <a:cs typeface="SKR HEAD1"/>
              </a:rPr>
              <a:t>روعة وجمال الغدير ، والحصى المتناثر على جوانبه  ، والأرض المخضلة الخصبة  ، ونزول المطر بكل وقت مساءً وصباحًا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5653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أصفُ الغديرَ كما رآه الشاعر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941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ب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ختار الإجابة الصحيح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سبب اهتزازهما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4941720"/>
            <a:ext cx="3960720" cy="151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خوفًا ورهبةً من ال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ظاهرة طبيعية تحدث أحيانً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زهوًا وطربًا بما فيها من جم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عودةِ الحياة إلي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501336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537372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573408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609444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5805360"/>
            <a:ext cx="287280" cy="14472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8508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1640" y="76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– (مُدَّت سواعد  مائه ) </a:t>
            </a: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بمعنى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765000"/>
            <a:ext cx="3960720" cy="1656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يدي الشَّاربين الذين يردون الغدي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جرى ماءِ الغديرِ ومَسِي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عونة الآخرين وسدَّ حاجا ت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إحاطة سواعدِه بالخمي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7080" y="90792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7080" y="126828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7080" y="162864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7080" y="198900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70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أكمل مايأت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66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339966"/>
                </a:solidFill>
                <a:latin typeface="Arial"/>
                <a:ea typeface="SKR HEAD1"/>
              </a:rPr>
              <a:t>- من آثار تأمل الطبيع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58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  <a:ea typeface="SKR HEAD1"/>
              </a:rPr>
              <a:t> – من فضائل أم الكتاب:         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4581360"/>
            <a:ext cx="3960720" cy="151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2781360"/>
            <a:ext cx="3960720" cy="15112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2852640"/>
            <a:ext cx="3384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ُذكِّر بعظمة الخالق سبحانه وتعال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3284640"/>
            <a:ext cx="338472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زيد من إيمان المر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3716280"/>
            <a:ext cx="3384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زيل الشك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4653000"/>
            <a:ext cx="3384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عظم سورة في القرآ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5084640"/>
            <a:ext cx="338436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شافية من الأمرا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5516640"/>
            <a:ext cx="3384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لاتقبل الصلاة إلا ب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1339920"/>
            <a:ext cx="28728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94000" y="69228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د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ستخرجُ من النصِّ ما يؤيدُ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 عجيبَ صنعِ الخالقِ في الطبيعةِ يدعوُ إلى التأمُّ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773360"/>
            <a:ext cx="871380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3789360"/>
            <a:ext cx="8713800" cy="622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5000" y="3068640"/>
            <a:ext cx="54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نسيابُ ماءِ الغديرِ في أرضٍ نديَّةٍ مبلَّل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1844640"/>
            <a:ext cx="158400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يت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6000" y="3860640"/>
            <a:ext cx="158400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يت الثا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370160" y="1844640"/>
            <a:ext cx="104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486440" y="3897360"/>
            <a:ext cx="105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1200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62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هـ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والأحْبَـــــ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ـــرَةٌ  فِي صُنْعِهِ                              تَمْحُو أَثِيمَ الشَّكِّ والإنْكـــــارِِ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شرح البيتين السابقين بأسلوب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6985080" cy="1008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70160" y="1668600"/>
            <a:ext cx="101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ذه الطبيعة الخلابة تدل على الخالق سبحانه بدون الحاجة إلى أدلة أو إثبات ف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كان في شك من ذلك فلينظر نظرة متأنية وسوف تذهب تلك الشكوك والوساو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2779560"/>
            <a:ext cx="1871640" cy="5050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لغة والتراكي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78520" y="282744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 أ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ما العلاقة بين كلٍّ مِنْ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342900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62160" y="34765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مُخْضَلَّةٍ ، مُبْتَلَّة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400536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87280" y="40766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السماء ، الأر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419640" y="3498840"/>
            <a:ext cx="2232000" cy="361800"/>
          </a:xfrm>
          <a:custGeom>
            <a:avLst/>
            <a:gdLst>
              <a:gd name="textAreaLeft" fmla="*/ 348840 w 2232000"/>
              <a:gd name="textAreaRight" fmla="*/ 2044080 w 223200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954" y="5399"/>
                </a:lnTo>
                <a:lnTo>
                  <a:pt x="17954" y="0"/>
                </a:lnTo>
                <a:lnTo>
                  <a:pt x="21600" y="10800"/>
                </a:lnTo>
                <a:lnTo>
                  <a:pt x="17954" y="21600"/>
                </a:lnTo>
                <a:lnTo>
                  <a:pt x="17954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19640" y="4075200"/>
            <a:ext cx="2232000" cy="361800"/>
          </a:xfrm>
          <a:custGeom>
            <a:avLst/>
            <a:gdLst>
              <a:gd name="textAreaLeft" fmla="*/ 348840 w 2232000"/>
              <a:gd name="textAreaRight" fmla="*/ 2044080 w 223200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954" y="5399"/>
                </a:lnTo>
                <a:lnTo>
                  <a:pt x="17954" y="0"/>
                </a:lnTo>
                <a:lnTo>
                  <a:pt x="21600" y="10800"/>
                </a:lnTo>
                <a:lnTo>
                  <a:pt x="17954" y="21600"/>
                </a:lnTo>
                <a:lnTo>
                  <a:pt x="17954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342900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400536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01760" y="45561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 ب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كمل الفراغات حسب المطلوب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فقه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شَّ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ن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91280" y="5013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الج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1280" y="5805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الم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5013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ق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شك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516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5516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708360" y="5589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3044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راد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00536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ض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0920" y="6206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620640"/>
            <a:ext cx="4105440" cy="504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bbe0e3"/>
              </a:gs>
              <a:gs pos="100000">
                <a:srgbClr val="ffff99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5440" y="622440"/>
            <a:ext cx="1368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ماض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7080" y="6206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مضار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62064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أ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5440" y="112536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7080" y="112392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تمح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112392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5440" y="16304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مد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7080" y="16286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162864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5440" y="213516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7080" y="213372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213372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50920" y="2924280"/>
            <a:ext cx="32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من أسماء الله تعا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0000" y="371628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من أسماءِ الفاتحةِ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66680" y="4843440"/>
            <a:ext cx="55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ستخدمُ التراكيبَ الآتيةَ في جملٍ مفي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537372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87700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781360"/>
            <a:ext cx="3816360" cy="1008000"/>
          </a:xfrm>
          <a:prstGeom prst="parallelogram">
            <a:avLst>
              <a:gd name="adj" fmla="val 9465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852640"/>
            <a:ext cx="288720" cy="216000"/>
          </a:xfrm>
          <a:prstGeom prst="leftArrow">
            <a:avLst>
              <a:gd name="adj1" fmla="val 49454"/>
              <a:gd name="adj2" fmla="val 712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1080" y="321300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21080" y="350028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112536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مح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6920" y="112536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مح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163044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يمدّ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1628640"/>
            <a:ext cx="1368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مُد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2133720"/>
            <a:ext cx="1368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و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213372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يقف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6920" y="2781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314172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خال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342900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م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3933720"/>
            <a:ext cx="3816360" cy="1008000"/>
          </a:xfrm>
          <a:prstGeom prst="parallelogram">
            <a:avLst>
              <a:gd name="adj" fmla="val 9465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4005360"/>
            <a:ext cx="288720" cy="215640"/>
          </a:xfrm>
          <a:prstGeom prst="leftArrow">
            <a:avLst>
              <a:gd name="adj1" fmla="val 49454"/>
              <a:gd name="adj2" fmla="val 713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1080" y="4365720"/>
            <a:ext cx="289080" cy="215640"/>
          </a:xfrm>
          <a:prstGeom prst="leftArrow">
            <a:avLst>
              <a:gd name="adj1" fmla="val 49454"/>
              <a:gd name="adj2" fmla="val 71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1080" y="465300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66920" y="3933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م الكت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429408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شا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458136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كا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445000"/>
            <a:ext cx="360360" cy="289080"/>
          </a:xfrm>
          <a:custGeom>
            <a:avLst/>
            <a:gdLst>
              <a:gd name="textAreaLeft" fmla="*/ 127080 w 360360"/>
              <a:gd name="textAreaRight" fmla="*/ 233280 w 360360"/>
              <a:gd name="textAreaTop" fmla="*/ 101880 h 289080"/>
              <a:gd name="textAreaBottom" fmla="*/ 1872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7" y="7617"/>
                </a:lnTo>
                <a:lnTo>
                  <a:pt x="10800" y="0"/>
                </a:lnTo>
                <a:lnTo>
                  <a:pt x="13983" y="7617"/>
                </a:lnTo>
                <a:lnTo>
                  <a:pt x="21600" y="10800"/>
                </a:lnTo>
                <a:lnTo>
                  <a:pt x="13983" y="13983"/>
                </a:lnTo>
                <a:lnTo>
                  <a:pt x="10800" y="21600"/>
                </a:lnTo>
                <a:lnTo>
                  <a:pt x="7617" y="13983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5948280"/>
            <a:ext cx="360360" cy="289080"/>
          </a:xfrm>
          <a:custGeom>
            <a:avLst/>
            <a:gdLst>
              <a:gd name="textAreaLeft" fmla="*/ 127080 w 360360"/>
              <a:gd name="textAreaRight" fmla="*/ 233280 w 360360"/>
              <a:gd name="textAreaTop" fmla="*/ 101880 h 289080"/>
              <a:gd name="textAreaBottom" fmla="*/ 1872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7" y="7617"/>
                </a:lnTo>
                <a:lnTo>
                  <a:pt x="10800" y="0"/>
                </a:lnTo>
                <a:lnTo>
                  <a:pt x="13983" y="7617"/>
                </a:lnTo>
                <a:lnTo>
                  <a:pt x="21600" y="10800"/>
                </a:lnTo>
                <a:lnTo>
                  <a:pt x="13983" y="13983"/>
                </a:lnTo>
                <a:lnTo>
                  <a:pt x="10800" y="21600"/>
                </a:lnTo>
                <a:lnTo>
                  <a:pt x="7617" y="13983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5300640"/>
            <a:ext cx="13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وائع الآيا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4720" y="5878440"/>
            <a:ext cx="13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جُنْح الدُّج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537372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تفكرت في  روائع الآيات من صنع ال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587844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خرجت إلى البر في جُنْح الدُّجى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5:39:15Z</dcterms:created>
  <dc:creator>user</dc:creator>
  <dc:description/>
  <dc:language>en-US</dc:language>
  <cp:lastModifiedBy>user</cp:lastModifiedBy>
  <dcterms:modified xsi:type="dcterms:W3CDTF">2010-04-25T04:21:03Z</dcterms:modified>
  <cp:revision>39</cp:revision>
  <dc:subject/>
  <dc:title>الشريحة 1</dc:title>
</cp:coreProperties>
</file>