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C67-2F57-4DEE-969F-81EE1E3E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D3D-68DB-486F-A270-735425E6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A6E-C1E8-4202-A8E1-9EF6A767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639-9252-466C-A800-BC7F91FC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CB3D-B587-4279-99D9-7C5C4A65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0DFE-04E3-4A62-B6AC-08B7F9BE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089A-BA10-45C1-A1F1-C176D758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39E4-9916-4D26-AD3F-5DC817AC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D2F9-A00E-4604-B067-A0693831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C31C-93D2-4942-A35A-F8FCA703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71E9-9BEB-4A09-9E54-34F59EBB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A54-6628-44B4-9C97-444E1FEC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0358-2DC8-4739-8EFF-F9834118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245E-D032-4953-9E14-19EE671F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BA1C-D818-4A76-B8C3-5DF6313D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FA44-FD4D-4665-B1BA-08F746C5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429-6BF6-4417-BBB2-0D8E5852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920-1CA7-4089-A040-58E3B3C7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67F-5502-4FA2-8FEE-F6CCC4B2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3F9-EF3A-4388-A59C-923E1C70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248-6424-453C-8195-83B997FE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3F0-FCA9-434C-B809-322DFB28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9BA-C8F7-4F40-BD80-07F8A90D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684-AA65-4657-8A85-57F1DAF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 algn="r" rtl="1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 algn="r" rtl="1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 algn="r" rtl="1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 algn="r" rtl="1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DBAD-D3FB-4CBF-AF6D-327D97A282C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337E-2DEC-4D34-9531-F42D325527A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إشراف المعلم"/>
          <p:cNvPicPr/>
          <p:nvPr/>
        </p:nvPicPr>
        <p:blipFill>
          <a:blip r:embed="rId1"/>
          <a:stretch/>
        </p:blipFill>
        <p:spPr>
          <a:xfrm>
            <a:off x="3276720" y="374760"/>
            <a:ext cx="253368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63720" y="642960"/>
            <a:ext cx="144756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780000" y="1455840"/>
            <a:ext cx="1368360" cy="1468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332000" y="2852640"/>
            <a:ext cx="635616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42920" y="552600"/>
            <a:ext cx="7274160" cy="70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قوي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55736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س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: ما نسب الخليفة علي بن أبي طالب ـ</a:t>
            </a:r>
            <a:r>
              <a:rPr b="1" lang="en-US" sz="28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؟ وأين ومتى ولد ؟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252360" y="1707120"/>
            <a:ext cx="9201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929"/>
                </a:solidFill>
                <a:latin typeface="Arial"/>
                <a:cs typeface="Traditional Arabic"/>
              </a:rPr>
              <a:t>نسب الخليفة الرابع من الخلفاء الراشدين علي بن أبي طالب ـ</a:t>
            </a:r>
            <a:r>
              <a:rPr b="1" lang="en-US" sz="28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هو :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علي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بن </a:t>
            </a:r>
            <a:r>
              <a:rPr b="1" lang="ar-SA" sz="2800" spc="-1" strike="noStrike">
                <a:solidFill>
                  <a:srgbClr val="006600"/>
                </a:solidFill>
                <a:latin typeface="Arial"/>
                <a:cs typeface="Traditional Arabic"/>
              </a:rPr>
              <a:t>أبي طالب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بن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  <a:cs typeface="Traditional Arabic"/>
              </a:rPr>
              <a:t>عبد المطلب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9900"/>
                </a:solidFill>
                <a:latin typeface="Arial"/>
                <a:cs typeface="Traditional Arabic"/>
              </a:rPr>
              <a:t>الهاشمي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cs typeface="Traditional Arabic"/>
              </a:rPr>
              <a:t>القرشي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.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929"/>
                </a:solidFill>
                <a:latin typeface="Arial"/>
                <a:cs typeface="Traditional Arabic"/>
              </a:rPr>
              <a:t>كنيته أبو الحسن وأبو تراب 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929"/>
                </a:solidFill>
                <a:latin typeface="Arial"/>
                <a:cs typeface="Traditional Arabic"/>
              </a:rPr>
              <a:t>ولد في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Traditional Arabic"/>
              </a:rPr>
              <a:t>مكة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قبل </a:t>
            </a:r>
            <a:r>
              <a:rPr b="1" lang="ar-SA" sz="2800" spc="-1" strike="noStrike">
                <a:solidFill>
                  <a:srgbClr val="33cc33"/>
                </a:solidFill>
                <a:latin typeface="Arial"/>
                <a:cs typeface="Traditional Arabic"/>
              </a:rPr>
              <a:t>البعثة النبوية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cs typeface="Traditional Arabic"/>
              </a:rPr>
              <a:t>بعشر سنوات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42920" y="476280"/>
            <a:ext cx="7274160" cy="72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قوي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154152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س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: تحدث عن نشأت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  <a:cs typeface="Traditional Arabic"/>
              </a:rPr>
              <a:t>علي بن أبي طالب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ـ</a:t>
            </a:r>
            <a:r>
              <a:rPr b="1" lang="en-US" sz="28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وفضله ؟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60640"/>
            <a:ext cx="8891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hi-IN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ابن عم النبي ـ </a:t>
            </a:r>
            <a:r>
              <a:rPr b="1" lang="en-US" sz="28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، وتربى على يده ، ونهل من أخلاقه الفاضلة 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hi-IN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هو أول من آمن برسالة النبي ـ </a:t>
            </a:r>
            <a:r>
              <a:rPr b="1" lang="en-US" sz="28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من الصبيان 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hi-IN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نصر النبي ـ </a:t>
            </a:r>
            <a:r>
              <a:rPr b="1" lang="en-US" sz="28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وآزره في نشر الدعوة الإسلامية ولازمه طوال حياته 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hi-IN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نفّذ أمره ـ </a:t>
            </a:r>
            <a:r>
              <a:rPr b="1" lang="en-US" sz="28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بالمبيت في فراشه .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hi-IN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تزوج من ابنة النبي ـ </a:t>
            </a:r>
            <a:r>
              <a:rPr b="1" lang="en-US" sz="28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فاطمة رضي الله عنها فولدت له الحسن والحسين وزينب وأم كلثوم رضي الله عنهم 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hi-IN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شارك في جميع الغزوات ما عدا غزوة تبوك .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hi-IN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قال عنه النبي ـ </a:t>
            </a:r>
            <a:r>
              <a:rPr b="1" lang="en-US" sz="28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( من كنت مولاه فعلي مولاه ) . وقال ( أنت مني وأنا منك ) أي في النسب والصهر والسابقة 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hi-IN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هو أحد كُتَّاب الوحي، وأحد العشرة المبشرين بالجنة .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58920" y="14698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س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: كيف تولى الخليفة علي بن أبي طالب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ـ</a:t>
            </a:r>
            <a:r>
              <a:rPr b="1" lang="en-US" sz="28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الخلافة ؟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552600"/>
            <a:ext cx="7274160" cy="70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قوي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198900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ial"/>
                <a:cs typeface="Traditional Arabic"/>
              </a:rPr>
              <a:t>عندما استشهد عثمان ـ</a:t>
            </a:r>
            <a:r>
              <a:rPr b="1" lang="en-US" sz="28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أقبل الناس إلى علي ـ</a:t>
            </a:r>
            <a:r>
              <a:rPr b="1" lang="en-US" sz="28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بصفته الرجل الثاني - بعد عثمان - الذي كانت الخلافة انحصرت فيهما بعد اجتماع الستة الباقين المبشرين بالجنة ، فقال : ليس ذلك لكم ، إنما ذلك لأهل بدر . أين طلحة والزبير وسعد ؟ فأقبلوا وبايعوه ، ثم قام المهاجرون والأنصار بمبايعته ، ثم بايعه الناس 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00000" y="14698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س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: عدد أهم الأحداث التي حدثت في عهد علي بن أبي طالب ـ</a:t>
            </a:r>
            <a:r>
              <a:rPr b="1" lang="en-US" sz="28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؟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552600"/>
            <a:ext cx="7274160" cy="70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قوي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71280" y="2035080"/>
            <a:ext cx="89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1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  <a:ea typeface="Traditional Arabic"/>
              </a:rPr>
              <a:t>) نقل مركز الخلافة : وقد نقله من المدينة إلى الكوفة .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  <a:ea typeface="Traditional Arabic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  <a:ea typeface="Traditional Arabic"/>
              </a:rPr>
              <a:t>) ظهور فرقة الخوارج : كانوا في جيش علي ـ</a:t>
            </a:r>
            <a:r>
              <a:rPr b="1" lang="en-US" sz="32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ثم خرجوا عليه وحاربوه ، وسموا بالخوارج لأنهم خرجوا على علي ـ</a:t>
            </a:r>
            <a:r>
              <a:rPr b="1" lang="en-US" sz="3200" spc="-1" strike="noStrike">
                <a:solidFill>
                  <a:srgbClr val="0000cc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  <a:ea typeface="Traditional Arabic"/>
              </a:rPr>
              <a:t> ـ وسموا بالحرورية لأنهم رفضوا دخول الكوفة ، ومكثوا في حروراء قرب الكوفة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6146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س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5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: تحدث عن استشهاد الخليفة </a:t>
            </a:r>
            <a:r>
              <a:rPr b="1" lang="hi-IN" sz="3200" spc="-1" strike="noStrike">
                <a:solidFill>
                  <a:srgbClr val="003300"/>
                </a:solidFill>
                <a:latin typeface="Arial"/>
                <a:cs typeface="Traditional Arabic"/>
              </a:rPr>
              <a:t>علي بن أبي طالب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hi-IN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ـ </a:t>
            </a:r>
            <a:r>
              <a:rPr b="1" lang="en-US" sz="28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؟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552600"/>
            <a:ext cx="7274160" cy="70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قوي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21472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929"/>
                </a:solidFill>
                <a:latin typeface="Arial"/>
                <a:cs typeface="Traditional Arabic"/>
              </a:rPr>
              <a:t>دبّر ثلاثة من الخوارج مؤامرة لقتل علي ومعاوية وعمرو بن العاص رضي الله عنهم في وقت واحد ؛ وقد تمكن عبد الرحمن بن مُلْجِم من قتل علي بن أبي طالب ـ</a:t>
            </a:r>
            <a:r>
              <a:rPr b="1" lang="en-US" sz="28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بينما أخفق صاحباه في مهمتهما 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929"/>
                </a:solidFill>
                <a:latin typeface="Arial"/>
                <a:cs typeface="Traditional Arabic"/>
              </a:rPr>
              <a:t>وكان استشهاده ـ</a:t>
            </a:r>
            <a:r>
              <a:rPr b="1" lang="en-US" sz="28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سنة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40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 هـ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بعد أن أمضى قرابة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cs typeface="Traditional Arabic"/>
              </a:rPr>
              <a:t>خمس سنوات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في الخلافة ، وعمره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63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 سنة</a:t>
            </a:r>
            <a:r>
              <a:rPr b="1" lang="ar-SA" sz="2800" spc="-1" strike="noStrike">
                <a:solidFill>
                  <a:srgbClr val="292929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549360"/>
            <a:ext cx="7274160" cy="70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hi-IN" sz="4200" spc="-1" strike="noStrike">
                <a:solidFill>
                  <a:srgbClr val="ff0066"/>
                </a:solidFill>
                <a:latin typeface="Arial"/>
                <a:cs typeface="Traditional Arabic"/>
              </a:rPr>
              <a:t>الواج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360" y="1541520"/>
            <a:ext cx="90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السؤال [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1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]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صفحة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125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2720" y="328464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إعداد المعلم : محمد خضر الحارثي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193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06800" y="1206360"/>
            <a:ext cx="4057920" cy="85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81080" y="2115360"/>
            <a:ext cx="92012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8256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نسب الخليفة الرابع من الخلفاء الراشدين علي بن أبي طالب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هو 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8256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  <a:cs typeface="Traditional Arabic"/>
              </a:rPr>
              <a:t>علي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بن </a:t>
            </a:r>
            <a:r>
              <a:rPr b="1" lang="ar-SA" sz="3200" spc="-1" strike="noStrike">
                <a:solidFill>
                  <a:srgbClr val="006600"/>
                </a:solidFill>
                <a:latin typeface="Arial"/>
                <a:cs typeface="Traditional Arabic"/>
              </a:rPr>
              <a:t>أبي طالب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بن </a:t>
            </a:r>
            <a:r>
              <a:rPr b="1" lang="ar-SA" sz="3200" spc="-1" strike="noStrike">
                <a:solidFill>
                  <a:srgbClr val="cc3300"/>
                </a:solidFill>
                <a:latin typeface="Arial"/>
                <a:cs typeface="Traditional Arabic"/>
              </a:rPr>
              <a:t>عبد المطلب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9900"/>
                </a:solidFill>
                <a:latin typeface="Arial"/>
                <a:cs typeface="Traditional Arabic"/>
              </a:rPr>
              <a:t>الهاشمي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Traditional Arabic"/>
              </a:rPr>
              <a:t>القرشي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.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8256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Traditional Arabic"/>
              </a:rPr>
              <a:t>( انظر شجرة نسب الخلفاء الراشدين )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8256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( ما صلة القرابة بين علي ـ</a:t>
            </a:r>
            <a:r>
              <a:rPr b="1" lang="en-US" sz="2800" spc="-1" strike="noStrike">
                <a:solidFill>
                  <a:srgbClr val="ff3300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 ـ والرسول ـ </a:t>
            </a:r>
            <a:r>
              <a:rPr b="1" lang="ar-SA" sz="2800" spc="-1" strike="noStrike">
                <a:solidFill>
                  <a:srgbClr val="ff3300"/>
                </a:solidFill>
                <a:latin typeface="AGA Arabesque"/>
                <a:ea typeface="AGA Arabesque"/>
              </a:rPr>
              <a:t>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 ـ ؟ ) .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8256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كنيته أبو الحسن وأبو تراب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8256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8256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8256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ولد في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Traditional Arabic"/>
              </a:rPr>
              <a:t>مكة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قبل </a:t>
            </a:r>
            <a:r>
              <a:rPr b="1" lang="ar-SA" sz="3200" spc="-1" strike="noStrike">
                <a:solidFill>
                  <a:srgbClr val="33cc33"/>
                </a:solidFill>
                <a:latin typeface="Arial"/>
                <a:cs typeface="Traditional Arabic"/>
              </a:rPr>
              <a:t>البعثة النبوية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Traditional Arabic"/>
              </a:rPr>
              <a:t>بعشر سنوات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8256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(كم الفرق في العُمْر بينه وبين النبي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Traditional Arabic"/>
              </a:rPr>
              <a:t>ـ </a:t>
            </a:r>
            <a:r>
              <a:rPr b="1" lang="ar-SA" sz="3200" spc="-1" strike="noStrike">
                <a:solidFill>
                  <a:srgbClr val="ff3300"/>
                </a:solidFill>
                <a:latin typeface="AGA Arabesque"/>
                <a:ea typeface="AGA Arabesque"/>
              </a:rPr>
              <a:t>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Traditional Arabic"/>
              </a:rPr>
              <a:t> ـ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cs typeface="Traditional Arabic"/>
              </a:rPr>
              <a:t>؟ ) .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43640" y="1989000"/>
            <a:ext cx="252720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857240"/>
            <a:ext cx="61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  <a:cs typeface="Traditional Arabic"/>
              </a:rPr>
              <a:t>ما نسب الخليفة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علي بن أبي طالب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  <a:cs typeface="Traditional Arabic"/>
              </a:rPr>
              <a:t>؟      وأين ومتى ولد ؟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1640" y="4941720"/>
            <a:ext cx="1297080" cy="719280"/>
          </a:xfrm>
          <a:prstGeom prst="leftArrow">
            <a:avLst>
              <a:gd name="adj1" fmla="val 50000"/>
              <a:gd name="adj2" fmla="val 450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5013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علي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4941720"/>
            <a:ext cx="1297080" cy="719280"/>
          </a:xfrm>
          <a:prstGeom prst="leftArrow">
            <a:avLst>
              <a:gd name="adj1" fmla="val 50000"/>
              <a:gd name="adj2" fmla="val 450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501336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أبي طالب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4941720"/>
            <a:ext cx="1297080" cy="719280"/>
          </a:xfrm>
          <a:prstGeom prst="leftArrow">
            <a:avLst>
              <a:gd name="adj1" fmla="val 50000"/>
              <a:gd name="adj2" fmla="val 450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5013360"/>
            <a:ext cx="15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عبد المطلب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4941720"/>
            <a:ext cx="1297080" cy="719280"/>
          </a:xfrm>
          <a:prstGeom prst="leftArrow">
            <a:avLst>
              <a:gd name="adj1" fmla="val 50000"/>
              <a:gd name="adj2" fmla="val 450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5010120"/>
            <a:ext cx="11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الهاشمي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4941720"/>
            <a:ext cx="1297080" cy="719280"/>
          </a:xfrm>
          <a:prstGeom prst="leftArrow">
            <a:avLst>
              <a:gd name="adj1" fmla="val 50000"/>
              <a:gd name="adj2" fmla="val 450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01012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القرشي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04880" y="27000"/>
            <a:ext cx="606276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332000" y="1440"/>
            <a:ext cx="635616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2517840" cy="72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333360"/>
            <a:ext cx="57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  <a:cs typeface="Traditional Arabic"/>
              </a:rPr>
              <a:t>تحدث عن نشأت علي بن أبي طالب ـ</a:t>
            </a:r>
            <a:r>
              <a:rPr b="1" lang="en-US" sz="32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وفضله ؟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82760"/>
            <a:ext cx="8891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ابن عم النبي ـ 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، وتربى على يده ، ونهل من أخلاقه الفاضلة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هو أول من آمن برسالة النبي ـ 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من </a:t>
            </a:r>
            <a:r>
              <a:rPr b="0" lang="en-US" sz="800" spc="-1" strike="noStrike">
                <a:solidFill>
                  <a:srgbClr val="292929"/>
                </a:solidFill>
                <a:latin typeface="Arial"/>
                <a:ea typeface="Traditional Arabic"/>
              </a:rPr>
              <a:t>...................................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( كم كان عمره عندما أسلم ؟ )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نصر النبي ـ 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وآزره في نشر الدعوة الإسلامية ولازمه طوال حياته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نفّذ أمره ـ 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بالمبيت في فراشه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( متى كان ذلك ؟ )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.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تزوج من ابنة النبي ـ 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فاطمة رضي الله عنها فولدت له الحسن والحسين وزينب وأم كلثوم رضي الله عنهم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شارك في جميع الغزوات ما عدا غزوة تبوك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(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1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 )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.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89720"/>
            <a:ext cx="88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292929"/>
                </a:solidFill>
                <a:latin typeface="Arial"/>
                <a:cs typeface="Traditional Arabic"/>
              </a:rPr>
              <a:t>ــــــــــــ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(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1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) لأن النبي ـ </a:t>
            </a:r>
            <a:r>
              <a:rPr b="1" lang="en-US" sz="20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خَلَّفَهُ في المدينة على أهله . 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1916280"/>
            <a:ext cx="14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  <a:cs typeface="Traditional Arabic"/>
              </a:rPr>
              <a:t>الصبيان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2517840" cy="72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1663560"/>
            <a:ext cx="89647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قال عنه النبي ـ </a:t>
            </a:r>
            <a:r>
              <a:rPr b="1" lang="ar-SA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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( من كنت مولاه فعلي مولاه ) </a:t>
            </a:r>
            <a:r>
              <a:rPr b="1" lang="ar-SA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( </a:t>
            </a:r>
            <a:r>
              <a:rPr b="1" lang="ar-SA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1</a:t>
            </a:r>
            <a:r>
              <a:rPr b="1" lang="ar-SA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 )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         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وقال ( أنت مني وأنا منك ) </a:t>
            </a:r>
            <a:r>
              <a:rPr b="1" lang="ar-SA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( </a:t>
            </a:r>
            <a:r>
              <a:rPr b="1" lang="ar-SA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2</a:t>
            </a:r>
            <a:r>
              <a:rPr b="1" lang="ar-SA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 )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أي في النسب والصهر والسابقة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Traditional Arabic"/>
              </a:rPr>
              <a:t>▲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هو أحد كُتَّاب الوحي، وأحد العشرة المبشرين بالجنة .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( اذكر مواقف أخرى تدل على فضل علي بن أبي طالب ـ</a:t>
            </a:r>
            <a:r>
              <a:rPr b="1" lang="en-US" sz="2800" spc="-1" strike="noStrike">
                <a:solidFill>
                  <a:srgbClr val="ff3300"/>
                </a:solidFill>
                <a:latin typeface="AGA Arabesque"/>
                <a:ea typeface="AGA Arabesque"/>
              </a:rPr>
              <a:t>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 ـ مما درست سابقاً ) .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4724280"/>
            <a:ext cx="336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292929"/>
                </a:solidFill>
                <a:latin typeface="Arial"/>
                <a:cs typeface="Traditional Arabic"/>
              </a:rPr>
              <a:t>ــــــــــــ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(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1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 ) رواه الترمذي .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193680" y="4724280"/>
            <a:ext cx="901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92929"/>
                </a:solidFill>
                <a:latin typeface="Arial"/>
                <a:cs typeface="Traditional Arabic"/>
              </a:rPr>
              <a:t>ــــــــــــ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( </a:t>
            </a:r>
            <a:r>
              <a:rPr b="1" lang="ar-SA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2</a:t>
            </a:r>
            <a:r>
              <a:rPr b="1" lang="ar-SA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 ) رواه البخاري ، كتاب فضائل الصحابة ، باب مناقب علي بن أبي طالب ـ</a:t>
            </a:r>
            <a:r>
              <a:rPr b="1" lang="en-US" sz="20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.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72360" y="1508040"/>
            <a:ext cx="2520720" cy="768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252360" y="16257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  <a:cs typeface="Traditional Arabic"/>
              </a:rPr>
              <a:t>كيف تولى الخليفة علي بن أبي طالب ـ</a:t>
            </a:r>
            <a:r>
              <a:rPr b="1" lang="en-US" sz="32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الخلافة ؟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41308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عندما استشهد عثمان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أقبل الناس إلى علي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بصفته الرجل الثاني - بعد عثمان - الذي كانت الخلافة انحصرت فيهما بعد اجتماع الستة الباقين المبشرين بالجنة ، فقال : ليس ذلك لكم ، إنما ذلك لأهل بدر . أين طلحة والزبير وسعد ؟ فأقبلوا وبايعوه ، ثم قام المهاجرون والأنصار بمبايعته ، ثم بايعه الناس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048200" y="404640"/>
            <a:ext cx="4268880" cy="7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55640" y="404640"/>
            <a:ext cx="49309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  <a:cs typeface="Traditional Arabic"/>
              </a:rPr>
              <a:t>عدد أهم الأحداث التي حدثت في عهد علي بن أبي طالب ـ</a:t>
            </a:r>
            <a:r>
              <a:rPr b="1" lang="en-US" sz="32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؟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2589480" cy="720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181080" y="1557360"/>
            <a:ext cx="91458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Monotype Koufi"/>
              </a:rPr>
              <a:t>1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Monotype Koufi"/>
              </a:rPr>
              <a:t>) نقل مركز الخلافة :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وقد نقله من المدينة إلى الكوفة ؛ رغبة منه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في توسيط عاصمة الدولة الإسلامية بين الولايات لسرعة الاتصال بها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Monotype Koufi"/>
              </a:rPr>
              <a:t>2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Monotype Koufi"/>
              </a:rPr>
              <a:t>) ظهور فرقة الخوارج :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كانوا في جيش علي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ثم خرجوا عليه وحاربوه ، وسموا بالخوارج لأنهم خرجوا على علي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وسموا بالحرورية لأنهم رفضوا دخول الكوفة ، ومكثوا في حروراء قرب الكوفة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وقد حاول علي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اقناعهم ، فاقتنع فريق منهم ، لكن فريق آخر استمر على موقفه ، فاضطر علي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إلى مقاتلتهم لغلوهم ، وقتلهم العُزَّل من المسلمين ، ودرات بينهم معركة في مكان يقال له 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  <a:cs typeface="Traditional Arabic"/>
              </a:rPr>
              <a:t>النهروان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Traditional Arabic"/>
              </a:rPr>
              <a:t>( انظر خريطة بلاد العراق )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, وانتصر عليهم سنة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Traditional Arabic"/>
              </a:rPr>
              <a:t>38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Traditional Arabic"/>
              </a:rPr>
              <a:t> هـ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76944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3745080" cy="865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43640" y="1413000"/>
            <a:ext cx="2522520" cy="72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413000"/>
            <a:ext cx="6372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  <a:cs typeface="Traditional Arabic"/>
              </a:rPr>
              <a:t>عدد أهم أخلاق وصفات الخليفة علي بن أبي طالب ـ</a:t>
            </a:r>
            <a:r>
              <a:rPr b="1" lang="en-US" sz="32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؟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0500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تربى في بيت رسول الله ـ 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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فتأدب بآدابه العالية ، وتخلَّق بصفاته الكريمة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اشتهر بالشجاعة فكان من أول المبارزين في غزوة بدر , كما بارز أشجع فرسان المشركين في غزوة الخندق وقتله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كما اشتهر بالتضحية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( فيم يتمثل ذلك ؟ )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والمروءة والوفاء والزهد والورع واحترام العهود والحرص على أموال المسلمين ، كان مضرب الأمثال في الخطابة والفصاحة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2517840" cy="71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3440" y="404640"/>
            <a:ext cx="52909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  <a:cs typeface="Traditional Arabic"/>
              </a:rPr>
              <a:t>تحدث عن استشهاد الخليفة علي بن أبي طالب ـ</a:t>
            </a:r>
            <a:r>
              <a:rPr b="1" lang="en-US" sz="3200" spc="-1" strike="noStrike">
                <a:solidFill>
                  <a:srgbClr val="003300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  <a:ea typeface="Traditional Arabic"/>
              </a:rPr>
              <a:t> ـ ؟ ومتى حدث ذلك ؟ 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7360"/>
            <a:ext cx="8713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دبّر ثلاثة من الخوارج </a:t>
            </a:r>
            <a:r>
              <a:rPr b="1" lang="ar-SA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( </a:t>
            </a:r>
            <a:r>
              <a:rPr b="1" lang="ar-SA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1</a:t>
            </a:r>
            <a:r>
              <a:rPr b="1" lang="ar-SA" sz="1800" spc="-1" strike="noStrike">
                <a:solidFill>
                  <a:srgbClr val="292929"/>
                </a:solidFill>
                <a:latin typeface="Arial"/>
                <a:ea typeface="Traditional Arabic"/>
              </a:rPr>
              <a:t> )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مؤامرة لقتل علي ومعاوية وعمرو بن العاص رضي الله عنهم في وقت واحد ؛ وقد تمكن عبد الرحمن بن مُلْجِم من قتل علي بن أبي طالب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بينما أخفق صاحباه في مهمتهما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وكان استشهاده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سنة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Traditional Arabic"/>
              </a:rPr>
              <a:t>40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Traditional Arabic"/>
              </a:rPr>
              <a:t> هـ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بعد أن أمضى قرابة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Traditional Arabic"/>
              </a:rPr>
              <a:t>خمس سنوات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في الخلافة ، وعمره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Traditional Arabic"/>
              </a:rPr>
              <a:t>63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Traditional Arabic"/>
              </a:rPr>
              <a:t> سنة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.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92929"/>
                </a:solidFill>
                <a:latin typeface="Arial"/>
                <a:cs typeface="Traditional Arabic"/>
              </a:rPr>
              <a:t>وباستشهاده ـ</a:t>
            </a:r>
            <a:r>
              <a:rPr b="1" lang="en-US" sz="3200" spc="-1" strike="noStrike">
                <a:solidFill>
                  <a:srgbClr val="292929"/>
                </a:solidFill>
                <a:latin typeface="AGA Arabesque"/>
                <a:ea typeface="AGA Arabesque"/>
              </a:rPr>
              <a:t>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ـ انتهى عصر الخلفاء الراشدين .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( من الخلفاء الذين توفوا وأعمارهم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63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Traditional Arabic"/>
              </a:rPr>
              <a:t> سنةً  ؟ )</a:t>
            </a:r>
            <a:r>
              <a:rPr b="1" lang="ar-SA" sz="3200" spc="-1" strike="noStrike">
                <a:solidFill>
                  <a:srgbClr val="292929"/>
                </a:solidFill>
                <a:latin typeface="Arial"/>
                <a:ea typeface="Traditional Arabic"/>
              </a:rPr>
              <a:t> .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680" y="5103720"/>
            <a:ext cx="854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292929"/>
                </a:solidFill>
                <a:latin typeface="Arial"/>
                <a:cs typeface="Traditional Arabic"/>
              </a:rPr>
              <a:t>ــــــــــــ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(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1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  <a:ea typeface="Traditional Arabic"/>
              </a:rPr>
              <a:t> ) هم : عبد الرحمن بن ملجم ، والبرك بن عبد الله ،ّ وعمرو بن بكير .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6:49:45Z</dcterms:created>
  <dc:creator/>
  <dc:description/>
  <dc:language>en-US</dc:language>
  <cp:lastModifiedBy/>
  <dcterms:modified xsi:type="dcterms:W3CDTF">2010-04-26T16:52:11Z</dcterms:modified>
  <cp:revision>1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