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6BE-46E2-4285-8221-C2B03C7E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3E4-A6A1-4CD9-85D3-8D24F6A3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7D8-0DA1-4161-B2B1-2BAAE175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D29-EF50-46DF-931A-4A88F5DF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58F-4E65-4C9D-A259-619ADF8F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8E3-9BD8-4E94-818E-69E8DD9D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96A-C4FD-40B7-AF18-E55FC3B6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DC3-A259-48F1-8811-4C5242DD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A6C-854F-44E9-BD51-F9F60FFD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E31-F96F-4EC5-806D-EA8C24C7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8EB-86EC-46B9-B541-FBD324E5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1B5-130B-4E89-BF8E-BAA1218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4B83-B864-428E-A75D-254AC195C7E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سحابة 3"/>
          <p:cNvSpPr/>
          <p:nvPr/>
        </p:nvSpPr>
        <p:spPr>
          <a:xfrm rot="19842600">
            <a:off x="534960" y="603000"/>
            <a:ext cx="1911240" cy="1225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Calibri"/>
                <a:cs typeface="Simplified Arabic"/>
              </a:rPr>
              <a:t>مراج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مستطيل مستدير الزوايا 4" descr=""/>
          <p:cNvPicPr/>
          <p:nvPr/>
        </p:nvPicPr>
        <p:blipFill>
          <a:blip r:embed="rId2"/>
          <a:stretch/>
        </p:blipFill>
        <p:spPr>
          <a:xfrm>
            <a:off x="1762200" y="1841400"/>
            <a:ext cx="5838840" cy="463680"/>
          </a:xfrm>
          <a:prstGeom prst="rect">
            <a:avLst/>
          </a:prstGeom>
          <a:ln w="0">
            <a:noFill/>
          </a:ln>
        </p:spPr>
      </p:pic>
      <p:sp>
        <p:nvSpPr>
          <p:cNvPr id="43" name="مستطيل مستدير الزوايا 5"/>
          <p:cNvSpPr/>
          <p:nvPr/>
        </p:nvSpPr>
        <p:spPr>
          <a:xfrm>
            <a:off x="4714920" y="2357280"/>
            <a:ext cx="3500280" cy="1357560"/>
          </a:xfrm>
          <a:prstGeom prst="roundRect">
            <a:avLst>
              <a:gd name="adj" fmla="val 0"/>
            </a:avLst>
          </a:prstGeom>
          <a:solidFill>
            <a:srgbClr val="dbeef4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3300"/>
                </a:solidFill>
                <a:uFillTx/>
                <a:latin typeface="Arial"/>
                <a:cs typeface="SKR HEAD1"/>
              </a:rPr>
              <a:t>جهاز الإرسال ( الميكروفون ) للتحدث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ويتركب من غلاف معدني رقيق يحتوي على حبيبات الكربون الدقيق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8"/>
          <p:cNvSpPr/>
          <p:nvPr/>
        </p:nvSpPr>
        <p:spPr>
          <a:xfrm>
            <a:off x="1285920" y="2357280"/>
            <a:ext cx="3357360" cy="1357560"/>
          </a:xfrm>
          <a:prstGeom prst="roundRect">
            <a:avLst>
              <a:gd name="adj" fmla="val 0"/>
            </a:avLst>
          </a:prstGeom>
          <a:solidFill>
            <a:srgbClr val="dbeef4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3300"/>
                </a:solidFill>
                <a:uFillTx/>
                <a:latin typeface="Arial"/>
                <a:cs typeface="SKR HEAD1"/>
              </a:rPr>
              <a:t>جهاز الاستقبال ( السماعة 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ويتركب من مغناطيس كهربائي وقرص معدني رقي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مستطيل مستدير الزوايا 9" descr=""/>
          <p:cNvPicPr/>
          <p:nvPr/>
        </p:nvPicPr>
        <p:blipFill>
          <a:blip r:embed="rId3"/>
          <a:stretch/>
        </p:blipFill>
        <p:spPr>
          <a:xfrm>
            <a:off x="1695600" y="4017960"/>
            <a:ext cx="5821200" cy="431640"/>
          </a:xfrm>
          <a:prstGeom prst="rect">
            <a:avLst/>
          </a:prstGeom>
          <a:ln w="0">
            <a:noFill/>
          </a:ln>
        </p:spPr>
      </p:pic>
      <p:sp>
        <p:nvSpPr>
          <p:cNvPr id="46" name="مستطيل مستدير الزوايا 10"/>
          <p:cNvSpPr/>
          <p:nvPr/>
        </p:nvSpPr>
        <p:spPr>
          <a:xfrm>
            <a:off x="1214280" y="4500720"/>
            <a:ext cx="6929640" cy="1357200"/>
          </a:xfrm>
          <a:prstGeom prst="roundRect">
            <a:avLst>
              <a:gd name="adj" fmla="val 0"/>
            </a:avLst>
          </a:prstGeom>
          <a:solidFill>
            <a:srgbClr val="dbeef4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  <a:cs typeface="SKR HEAD1"/>
              </a:rPr>
              <a:t>تحويل الذبذبات الصوتية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  <a:ea typeface="SKR HEAD1"/>
              </a:rPr>
              <a:t>( في الميكروفون )</a:t>
            </a:r>
            <a:r>
              <a:rPr b="1" lang="ar-SA" sz="2400" spc="-1" strike="noStrike">
                <a:solidFill>
                  <a:srgbClr val="0d0d0d"/>
                </a:solidFill>
                <a:latin typeface="Calibri"/>
                <a:ea typeface="SKR HEAD1"/>
              </a:rPr>
              <a:t> إلى نبضات كهربائية مت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76092"/>
                </a:solidFill>
                <a:latin typeface="Calibri"/>
                <a:ea typeface="SKR HEAD1"/>
              </a:rPr>
              <a:t> تنقل عبر الأسلاك إلى السماع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  <a:cs typeface="SKR HEAD1"/>
              </a:rPr>
              <a:t>ومن ثم تحويل النبضات الكهربائية إلى ذبذبات صوتية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  <a:ea typeface="SKR HEAD1"/>
              </a:rPr>
              <a:t>( في السماع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مستطيل 1" descr=""/>
          <p:cNvPicPr/>
          <p:nvPr/>
        </p:nvPicPr>
        <p:blipFill>
          <a:blip r:embed="rId1"/>
          <a:stretch/>
        </p:blipFill>
        <p:spPr>
          <a:xfrm>
            <a:off x="3949560" y="1170000"/>
            <a:ext cx="4956480" cy="5584680"/>
          </a:xfrm>
          <a:prstGeom prst="rect">
            <a:avLst/>
          </a:prstGeom>
          <a:ln w="0">
            <a:noFill/>
          </a:ln>
        </p:spPr>
      </p:pic>
      <p:pic>
        <p:nvPicPr>
          <p:cNvPr id="48" name="صورة 2" descr="n95_2_b.jpg"/>
          <p:cNvPicPr/>
          <p:nvPr/>
        </p:nvPicPr>
        <p:blipFill>
          <a:blip r:embed="rId2"/>
          <a:stretch/>
        </p:blipFill>
        <p:spPr>
          <a:xfrm>
            <a:off x="785880" y="1714680"/>
            <a:ext cx="31431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4729320" y="1352520"/>
            <a:ext cx="2971800" cy="609480"/>
          </a:xfrm>
          <a:prstGeom prst="rect">
            <a:avLst/>
          </a:prstGeom>
          <a:solidFill>
            <a:srgbClr val="ffdd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alibri"/>
                <a:cs typeface="SKR HEAD1"/>
              </a:rPr>
              <a:t>المبدأ العلمي للهاتف النق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00720" y="2571840"/>
            <a:ext cx="3504960" cy="274320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SKR HEAD1"/>
              </a:rPr>
              <a:t>إرسال واستقبال الإشار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SKR HEAD1"/>
              </a:rPr>
              <a:t>باستخدام موج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SKR HEAD1"/>
              </a:rPr>
              <a:t> راديو عالية الترد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SKR HEAD1"/>
              </a:rPr>
              <a:t>أو موجات ميكرووي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e-k550i-1"/>
          <p:cNvPicPr/>
          <p:nvPr/>
        </p:nvPicPr>
        <p:blipFill>
          <a:blip r:embed="rId1"/>
          <a:stretch/>
        </p:blipFill>
        <p:spPr>
          <a:xfrm>
            <a:off x="309600" y="1123920"/>
            <a:ext cx="3456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مستطيل مستدير الزوايا 1"/>
          <p:cNvSpPr/>
          <p:nvPr/>
        </p:nvSpPr>
        <p:spPr>
          <a:xfrm>
            <a:off x="1428840" y="357120"/>
            <a:ext cx="6143400" cy="642960"/>
          </a:xfrm>
          <a:prstGeom prst="roundRect">
            <a:avLst>
              <a:gd name="adj" fmla="val 0"/>
            </a:avLst>
          </a:prstGeom>
          <a:solidFill>
            <a:srgbClr val="ffbdde"/>
          </a:solidFill>
          <a:ln w="25560">
            <a:solidFill>
              <a:srgbClr val="ffd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Calibri"/>
                <a:ea typeface="SKR HEAD1"/>
              </a:rPr>
              <a:t>** تركيب الهاتف النقال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http://www.hazemsakeek.com/QandA/cell_phone_5/2006-10-13_03-25-58-329.png"/>
          <p:cNvPicPr/>
          <p:nvPr/>
        </p:nvPicPr>
        <p:blipFill>
          <a:blip r:embed="rId1"/>
          <a:stretch/>
        </p:blipFill>
        <p:spPr>
          <a:xfrm>
            <a:off x="285840" y="1509840"/>
            <a:ext cx="4591080" cy="4633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5357880" y="1285920"/>
            <a:ext cx="32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cc0000"/>
                </a:solidFill>
                <a:uFillTx/>
                <a:latin typeface="Arial"/>
                <a:cs typeface="SKR HEAD1"/>
              </a:rPr>
              <a:t>يتكون الهاتف النقال من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مستدير الزوايا 22"/>
          <p:cNvSpPr/>
          <p:nvPr/>
        </p:nvSpPr>
        <p:spPr>
          <a:xfrm>
            <a:off x="5143680" y="2071800"/>
            <a:ext cx="3643200" cy="414324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4143240"/>
              <a:gd name="textAreaBottom" fmla="*/ 4143240 h 4143240"/>
            </a:gdLst>
            <a:ahLst/>
            <a:rect l="textAreaLeft" t="textAreaTop" r="textAreaRight" b="textAreaBottom"/>
            <a:pathLst>
              <a:path w="21600" h="24564">
                <a:moveTo>
                  <a:pt x="0" y="0"/>
                </a:moveTo>
                <a:arcTo wR="0" hR="0" stAng="16200000" swAng="-5400000"/>
                <a:lnTo>
                  <a:pt x="0" y="24564"/>
                </a:lnTo>
                <a:arcTo wR="0" hR="0" stAng="10800000" swAng="-5400000"/>
                <a:lnTo>
                  <a:pt x="21600" y="245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dbeef4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5286240" y="221472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- دائرة إلكترونية تحتوي على رقاقات المعالج والذاك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429680" y="30718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- هوائ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5357880" y="3643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- شاشة عرض كرستال سائ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5715000" y="41432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- لوحة مفاتي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5857920" y="464328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- ميكروفون ( لاقط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6143760" y="514368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- مكبر صوت أو سما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6072120" y="55720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- بطار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مستطيل مستدير الزوايا 1"/>
          <p:cNvSpPr/>
          <p:nvPr/>
        </p:nvSpPr>
        <p:spPr>
          <a:xfrm>
            <a:off x="1428840" y="357120"/>
            <a:ext cx="6143400" cy="500040"/>
          </a:xfrm>
          <a:prstGeom prst="roundRect">
            <a:avLst>
              <a:gd name="adj" fmla="val 0"/>
            </a:avLst>
          </a:prstGeom>
          <a:solidFill>
            <a:srgbClr val="ffbdde"/>
          </a:solidFill>
          <a:ln w="25560">
            <a:solidFill>
              <a:srgbClr val="ffd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Calibri"/>
                <a:ea typeface="SKR HEAD1"/>
              </a:rPr>
              <a:t>** كيف يعمل الهاتف النقال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fda1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114800" y="990720"/>
            <a:ext cx="4648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Simplified Arabic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Simplified Arabic"/>
              </a:rPr>
              <a:t>- تقوم فكرة عمل الجوال على تقسيم المناطق الت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غطيها إلى خلايا صغيرة ولهذا جاء اسم الهاتف الخليو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000680" y="1828800"/>
            <a:ext cx="47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Simplified Arabic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Simplified Arabic"/>
              </a:rPr>
              <a:t>- كل خلية لها مستقبل ومر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286160" y="2209680"/>
            <a:ext cx="4476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Simplified Arabic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Simplified Arabic"/>
              </a:rPr>
              <a:t>- الخلايا المتجاورة تعطي ترددات مختلفة 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والخلايا المتباعدة يمكن إعطاؤها نفس التر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929040" y="3048120"/>
            <a:ext cx="4834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Simplified Arabic"/>
              </a:rPr>
              <a:t>4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Simplified Arabic"/>
              </a:rPr>
              <a:t>- إشارات الهاتف قوية كافية لتغطية الخلايا القريبة 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لا يمكن لهذه الإشارات أن تقطع مسافة بعيدة وهذا يسم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لهواتف كثيرة في مناطق مختلفة استخدام نفس التردد ف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نفس الوقت بدون تداخل وهذا ما يعرف بإعادة استخدام التر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4000680" y="4724280"/>
            <a:ext cx="476244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Simplified Arabic"/>
              </a:rPr>
              <a:t>- إذا انتقل مستخدم الهاتف النقال من خلية إلى أخر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نقل الإشارة من هذه الخلية إلى خلية أخرى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SKR HEA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357280" y="5638680"/>
            <a:ext cx="6405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Simplified Arabic"/>
              </a:rPr>
              <a:t>6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Simplified Arabic"/>
              </a:rPr>
              <a:t>- حينما تنتقل خارج نطاق عمل شركة هاتف معين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كون الشركات في المناطق الأخرى مسؤولة عن نقل الإشارة في نطاق عملها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SKR HEAD1"/>
              </a:rPr>
              <a:t> 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380880" y="3733920"/>
          <a:ext cx="35053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733920"/>
                    <a:ext cx="35053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14" descr="http://www.hazemsakeek.com/QandA/cell_phone_1/2006-09-28_05-33-35-167.png"/>
          <p:cNvPicPr/>
          <p:nvPr/>
        </p:nvPicPr>
        <p:blipFill>
          <a:blip r:embed="rId3"/>
          <a:stretch/>
        </p:blipFill>
        <p:spPr>
          <a:xfrm>
            <a:off x="380880" y="1066680"/>
            <a:ext cx="35053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428920" y="357120"/>
            <a:ext cx="4343400" cy="609840"/>
          </a:xfrm>
          <a:prstGeom prst="rect">
            <a:avLst/>
          </a:prstGeom>
          <a:solidFill>
            <a:srgbClr val="ffdd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Arial"/>
                <a:cs typeface="SKR HEAD1"/>
              </a:rPr>
              <a:t>ما الفرق بين الهاتف النقال وهاتف السي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33520" y="1066680"/>
            <a:ext cx="8153280" cy="205740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الهاتف السيار له برج واحد فقط مركزي ويستخدم كهوائي في المدي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ويتوفر ل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2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قناة تقريباً، وهذا يحتاج إلى مرسل قوي له القدرة عل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الإرسال إ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7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كم ، لذلك لا يوجد عدد كبير يستخدم الهاتف السيا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لأن القنوات المتاحة محدد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http://www.hazemsakeek.com/QandA/cell_phone_1/2006-09-28_05-34-33-661.png"/>
          <p:cNvPicPr/>
          <p:nvPr/>
        </p:nvPicPr>
        <p:blipFill>
          <a:blip r:embed="rId1"/>
          <a:stretch/>
        </p:blipFill>
        <p:spPr>
          <a:xfrm>
            <a:off x="4419720" y="3429000"/>
            <a:ext cx="4038480" cy="280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412p"/>
          <p:cNvPicPr/>
          <p:nvPr/>
        </p:nvPicPr>
        <p:blipFill>
          <a:blip r:embed="rId2"/>
          <a:stretch/>
        </p:blipFill>
        <p:spPr>
          <a:xfrm>
            <a:off x="609480" y="3352680"/>
            <a:ext cx="3581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مستطيل 1" descr=""/>
          <p:cNvPicPr/>
          <p:nvPr/>
        </p:nvPicPr>
        <p:blipFill>
          <a:blip r:embed="rId1"/>
          <a:stretch/>
        </p:blipFill>
        <p:spPr>
          <a:xfrm>
            <a:off x="1852560" y="530280"/>
            <a:ext cx="5091120" cy="1805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1720800" y="2000160"/>
            <a:ext cx="5450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143160" y="642960"/>
            <a:ext cx="831960" cy="1103400"/>
          </a:xfrm>
          <a:prstGeom prst="rect">
            <a:avLst/>
          </a:prstGeom>
          <a:ln w="0">
            <a:noFill/>
          </a:ln>
        </p:spPr>
      </p:pic>
      <p:grpSp>
        <p:nvGrpSpPr>
          <p:cNvPr id="81" name="وسيلة شرح على شكل سحابة 2"/>
          <p:cNvGrpSpPr/>
          <p:nvPr/>
        </p:nvGrpSpPr>
        <p:grpSpPr>
          <a:xfrm>
            <a:off x="3992400" y="469800"/>
            <a:ext cx="2189160" cy="1571760"/>
            <a:chOff x="3992400" y="469800"/>
            <a:chExt cx="2189160" cy="1571760"/>
          </a:xfrm>
        </p:grpSpPr>
        <p:pic>
          <p:nvPicPr>
            <p:cNvPr id="82" name="وسيلة شرح على شكل سحابة 2" descr=""/>
            <p:cNvPicPr/>
            <p:nvPr/>
          </p:nvPicPr>
          <p:blipFill>
            <a:blip r:embed="rId2"/>
            <a:stretch/>
          </p:blipFill>
          <p:spPr>
            <a:xfrm>
              <a:off x="3992400" y="469800"/>
              <a:ext cx="218916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881600" y="876240"/>
              <a:ext cx="7938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e_Cortoba"/>
                  <a:cs typeface="Simplified Arabic"/>
                </a:rPr>
                <a:t>تطبي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مستطيل 3"/>
          <p:cNvSpPr/>
          <p:nvPr/>
        </p:nvSpPr>
        <p:spPr>
          <a:xfrm>
            <a:off x="500040" y="2143080"/>
            <a:ext cx="8072640" cy="4144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3300"/>
                </a:solidFill>
                <a:latin typeface="Calibri"/>
                <a:ea typeface="DecoType Naskh"/>
              </a:rPr>
              <a:t>**  قال تعالى : ( وَمَا أُوتِيتُمْ مِنَ الْعِلْمِ إِلَّا قَلِيلاً) </a:t>
            </a:r>
            <a:r>
              <a:rPr b="1" lang="ar-SA" sz="2800" spc="-1" strike="noStrike" baseline="-25000">
                <a:solidFill>
                  <a:srgbClr val="663300"/>
                </a:solidFill>
                <a:latin typeface="Calibri"/>
                <a:ea typeface="DecoType Naskh"/>
              </a:rPr>
              <a:t>(الاسراء: من الآية</a:t>
            </a:r>
            <a:r>
              <a:rPr b="1" lang="ar-SA" sz="2800" spc="-1" strike="noStrike" baseline="-25000">
                <a:solidFill>
                  <a:srgbClr val="663300"/>
                </a:solidFill>
                <a:latin typeface="Calibri"/>
                <a:ea typeface="DecoType Naskh"/>
              </a:rPr>
              <a:t>85</a:t>
            </a:r>
            <a:r>
              <a:rPr b="1" lang="ar-SA" sz="2800" spc="-1" strike="noStrike" baseline="-25000">
                <a:solidFill>
                  <a:srgbClr val="663300"/>
                </a:solidFill>
                <a:latin typeface="Calibri"/>
                <a:ea typeface="DecoType Naskh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ea typeface="DecoType Naskh"/>
              </a:rPr>
              <a:t>** عزيزتي التلميذة آمل منك أن تجيبي على السؤال التالي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3300"/>
                </a:solidFill>
                <a:latin typeface="Calibri"/>
                <a:ea typeface="DecoType Naskh"/>
              </a:rPr>
              <a:t>* أكملي الفراغ فيما يأت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SKR HEAD1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SKR HEAD1"/>
              </a:rPr>
              <a:t>- يتركب الهاتف الجوال من : أ- دائرة إلكترونية  ب-............ ج- 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SKR HEAD1"/>
              </a:rPr>
              <a:t>د- شاشة عرض . هـ- ............ و- لاقط    ز- ........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مستطيل 4" descr=""/>
          <p:cNvPicPr/>
          <p:nvPr/>
        </p:nvPicPr>
        <p:blipFill>
          <a:blip r:embed="rId3"/>
          <a:stretch/>
        </p:blipFill>
        <p:spPr>
          <a:xfrm>
            <a:off x="487440" y="4870440"/>
            <a:ext cx="809604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7:43:32Z</dcterms:created>
  <dc:creator>winter_flower</dc:creator>
  <dc:description/>
  <dc:language>en-US</dc:language>
  <cp:lastModifiedBy>winter_flower</cp:lastModifiedBy>
  <dcterms:modified xsi:type="dcterms:W3CDTF">2009-05-23T19:15:45Z</dcterms:modified>
  <cp:revision>6</cp:revision>
  <dc:subject/>
  <dc:title>الشريحة 1</dc:title>
</cp:coreProperties>
</file>