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D3B1-F6EF-4A84-A45A-FA8825D030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FF8D-FC8B-47FC-9C1D-7601BC2AC6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643-AE16-4308-9606-545B0CAA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B73-EB8B-41D8-ACB1-D4EBF986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CB9-5C8E-4FF7-9622-6B94A4C9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D4B-0A5A-46C3-9D18-00AA58C8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F44-EEA3-45EA-BAF2-96B915A0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BDF-DC02-4D0F-97F2-94BA8ABF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BA8-AB22-4D99-8FAF-0E180C97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8E9-9F2A-428A-9747-E5AB756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8BD-4327-4677-81FB-2918BE8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C99-EF51-4EFC-B8E6-2B7AFC8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239-74DB-4B0A-8592-C8BB81D9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85F-23B6-434F-B702-AA852D5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BED0-8B1E-4185-A3ED-9CC3F3A6A9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كاثر :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عريفه :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إنتاج أفراد جديدة من الكائنات الحية تهدف إلى حفظ النوع من الانقرا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76360" y="48301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نواع :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 تكاثر اللاجنسي .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 تكاثر جنس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تطعيم و التركيب :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طعيم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قل جزء من ساق نبات مرغوب تكاثره (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طع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 ويلصق بساق نبات آخر (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ص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 .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ركيب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ركيب جزء صغير من فرع لا يتجاوز عمر العام يسمى بالقلم و وضعة على ساق الأصل أو عقلة من جذور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"/>
          <p:cNvPicPr/>
          <p:nvPr/>
        </p:nvPicPr>
        <p:blipFill>
          <a:blip r:embed="rId1"/>
          <a:stretch/>
        </p:blipFill>
        <p:spPr>
          <a:xfrm>
            <a:off x="6084720" y="2421000"/>
            <a:ext cx="2880000" cy="3403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large_1137403847"/>
          <p:cNvPicPr/>
          <p:nvPr/>
        </p:nvPicPr>
        <p:blipFill>
          <a:blip r:embed="rId2"/>
          <a:stretch/>
        </p:blipFill>
        <p:spPr>
          <a:xfrm>
            <a:off x="3276720" y="2492280"/>
            <a:ext cx="2879640" cy="309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SC_0097"/>
          <p:cNvPicPr/>
          <p:nvPr/>
        </p:nvPicPr>
        <p:blipFill>
          <a:blip r:embed="rId3"/>
          <a:stretch/>
        </p:blipFill>
        <p:spPr>
          <a:xfrm>
            <a:off x="0" y="2421000"/>
            <a:ext cx="3378240" cy="3619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50920" y="6237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طعيم                                                                                       الترك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جهيز القلم والأص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عنصر نائب للمحتوى 3" descr="تجهيز القلم والأصيل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طعي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عنصر نائب للمحتوى 3" descr="التطعيم 1.jpg"/>
          <p:cNvPicPr/>
          <p:nvPr/>
        </p:nvPicPr>
        <p:blipFill>
          <a:blip r:embed="rId1"/>
          <a:stretch/>
        </p:blipFill>
        <p:spPr>
          <a:xfrm>
            <a:off x="285840" y="1500120"/>
            <a:ext cx="4910040" cy="5143680"/>
          </a:xfrm>
          <a:prstGeom prst="rect">
            <a:avLst/>
          </a:prstGeom>
          <a:ln w="0">
            <a:noFill/>
          </a:ln>
        </p:spPr>
      </p:pic>
      <p:pic>
        <p:nvPicPr>
          <p:cNvPr id="84" name="صورة 5" descr="التطعيم 5.jpg"/>
          <p:cNvPicPr/>
          <p:nvPr/>
        </p:nvPicPr>
        <p:blipFill>
          <a:blip r:embed="rId2"/>
          <a:stretch/>
        </p:blipFill>
        <p:spPr>
          <a:xfrm>
            <a:off x="5286240" y="500040"/>
            <a:ext cx="3357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طعي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عنصر نائب للمحتوى 3" descr="التطعيم 3.jpg"/>
          <p:cNvPicPr/>
          <p:nvPr/>
        </p:nvPicPr>
        <p:blipFill>
          <a:blip r:embed="rId1"/>
          <a:stretch/>
        </p:blipFill>
        <p:spPr>
          <a:xfrm>
            <a:off x="0" y="1500120"/>
            <a:ext cx="5210280" cy="5357880"/>
          </a:xfrm>
          <a:prstGeom prst="rect">
            <a:avLst/>
          </a:prstGeom>
          <a:ln w="0">
            <a:noFill/>
          </a:ln>
        </p:spPr>
      </p:pic>
      <p:pic>
        <p:nvPicPr>
          <p:cNvPr id="87" name="صورة 4" descr="التطعيم 4.jpg"/>
          <p:cNvPicPr/>
          <p:nvPr/>
        </p:nvPicPr>
        <p:blipFill>
          <a:blip r:embed="rId2"/>
          <a:stretch/>
        </p:blipFill>
        <p:spPr>
          <a:xfrm>
            <a:off x="5286240" y="1500120"/>
            <a:ext cx="3429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ركي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عنصر نائب للمحتوى 3" descr="1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عنصر نائب للمحتوى 3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عنصر نائب للمحتوى 3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عنصر نائب للمحتوى 3" descr="4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عنصر نائب للمحتوى 3" descr="5.jpg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عنصر نائب للمحتوى 3" descr="6.jpg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كاثر اللاجنسي :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عريفه 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تاج أفراد جديدة يكون لها نفس خواص الأصل يقوم بها أحد الأبوين ومن دون تكوين خلايا جنس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نواعه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ولاً : التكاثر بالانشطار الثنائ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تنقسم ( تنشطر ) الخل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إلى خليتين ويحدث في الكائنا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حيدة الخل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كتيري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 عرضي ) ، ومثل الأوليا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البراميسيو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 عرضي ) و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يوجلين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 طولي 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940360" y="429264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inaryfission"/>
          <p:cNvPicPr/>
          <p:nvPr/>
        </p:nvPicPr>
        <p:blipFill>
          <a:blip r:embed="rId1"/>
          <a:stretch/>
        </p:blipFill>
        <p:spPr>
          <a:xfrm>
            <a:off x="5940360" y="4365720"/>
            <a:ext cx="2598840" cy="206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kama"/>
          <p:cNvPicPr/>
          <p:nvPr/>
        </p:nvPicPr>
        <p:blipFill>
          <a:blip r:embed="rId2"/>
          <a:stretch/>
        </p:blipFill>
        <p:spPr>
          <a:xfrm>
            <a:off x="2340000" y="4149720"/>
            <a:ext cx="25909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عنصر نائب للمحتوى 3" descr="7.jpg"/>
          <p:cNvPicPr/>
          <p:nvPr/>
        </p:nvPicPr>
        <p:blipFill>
          <a:blip r:embed="rId1"/>
          <a:stretch/>
        </p:blipFill>
        <p:spPr>
          <a:xfrm>
            <a:off x="-285840" y="0"/>
            <a:ext cx="964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عنصر نائب للمحتوى 3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عنصر نائب للمحتوى 3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عنصر نائب للمحتوى 3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بعد تطعيمها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عنصر نائب للمحتوى 3" descr="التركيب والتطعيم.jpg"/>
          <p:cNvPicPr/>
          <p:nvPr/>
        </p:nvPicPr>
        <p:blipFill>
          <a:blip r:embed="rId1"/>
          <a:stretch/>
        </p:blipFill>
        <p:spPr>
          <a:xfrm>
            <a:off x="285840" y="1143000"/>
            <a:ext cx="86439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التكاثر بالترقيد :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يتم فيه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ثني أحد فروع النب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حتى يلامس الأرض ، فيكون هذا الفرع جذورا عرضية ، وتكوّن براعمه أفرعاً هوائية ثم يفصل النبات 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ل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نب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ياسمين الأبيض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الترقيد"/>
          <p:cNvPicPr/>
          <p:nvPr/>
        </p:nvPicPr>
        <p:blipFill>
          <a:blip r:embed="rId1"/>
          <a:stretch/>
        </p:blipFill>
        <p:spPr>
          <a:xfrm>
            <a:off x="2124000" y="2205000"/>
            <a:ext cx="5112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عنصر نائب للمحتوى 3" descr="الترقيد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عنصر نائب للمحتوى 3" descr="الترقيد الطرفي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0268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الفسائل : 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ي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نمو جانبي قصي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خرج من النبات الأصلي قريبا من سطح التربة وبه 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جذور مستقل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, مثل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خي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و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ـ الأمور التي يجب مراعاتها عند فصل الفسائل عن أمهاتها : 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جنب كثرة الجروح أثناء الفصل لأنها تزيد من احتمال إصابتها بالأمراض 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أن يكون لها مجموع جذري 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أن تكون خالية من الأمراض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102594457"/>
          <p:cNvPicPr/>
          <p:nvPr/>
        </p:nvPicPr>
        <p:blipFill>
          <a:blip r:embed="rId1"/>
          <a:stretch/>
        </p:blipFill>
        <p:spPr>
          <a:xfrm>
            <a:off x="0" y="2928960"/>
            <a:ext cx="9144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عنصر نائب للمحتوى 3" descr="كيف نزع الفسائل وتثبيتها.jpg"/>
          <p:cNvPicPr/>
          <p:nvPr/>
        </p:nvPicPr>
        <p:blipFill>
          <a:blip r:embed="rId1"/>
          <a:stretch/>
        </p:blipFill>
        <p:spPr>
          <a:xfrm>
            <a:off x="-2500200" y="0"/>
            <a:ext cx="13358880" cy="72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ثانياً :  التكاثر بالتبرعم :</a:t>
            </a:r>
            <a:br>
              <a:rPr sz="2400"/>
            </a:b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ظهور برعم ( نتوء ) جانب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لى الجدار الخلوي ينمو تدريجياً .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دث في بعض الفطريات ( الخميرة ) وبعض الجوفمعويات ( الهيدرا 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003"/>
          <p:cNvPicPr/>
          <p:nvPr/>
        </p:nvPicPr>
        <p:blipFill>
          <a:blip r:embed="rId1"/>
          <a:stretch/>
        </p:blipFill>
        <p:spPr>
          <a:xfrm>
            <a:off x="-142920" y="1500120"/>
            <a:ext cx="92869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عنصر نائب للمحتوى 3" descr="الفسائل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التكاثر عن طريق بعض الأجزاء النباتية النامية تحت سطح التربة :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 ) الأبصال الحقيقية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صلة هي عبارة ع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ساق قرص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أرضية تحمل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برعما طرفي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تحيط به قواعد الأوراق اللحمية العصارية المملوء بغذاء مخزن  , مث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بصل و النرجس </a:t>
            </a:r>
            <a:br>
              <a:rPr sz="24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 ) الدرنات و الجذور المتدرنة 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درنات عبارة عن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ساق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أرضية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متحولة لأجل اختزان الغذاء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, مثل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بطاطس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ج ) الريزومات 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عبارة عن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ساق مدادة أو زاحف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نمو تحت سطح التربة و مقسمة إلى عقل و سلاميات , مث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عناع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هي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86868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الابصال"/>
          <p:cNvPicPr/>
          <p:nvPr/>
        </p:nvPicPr>
        <p:blipFill>
          <a:blip r:embed="rId1"/>
          <a:stretch/>
        </p:blipFill>
        <p:spPr>
          <a:xfrm>
            <a:off x="6357960" y="3714840"/>
            <a:ext cx="2076480" cy="2641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rhizome"/>
          <p:cNvPicPr/>
          <p:nvPr/>
        </p:nvPicPr>
        <p:blipFill>
          <a:blip r:embed="rId2"/>
          <a:stretch/>
        </p:blipFill>
        <p:spPr>
          <a:xfrm>
            <a:off x="3059280" y="3645000"/>
            <a:ext cx="3168360" cy="2819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T13"/>
          <p:cNvPicPr/>
          <p:nvPr/>
        </p:nvPicPr>
        <p:blipFill>
          <a:blip r:embed="rId3"/>
          <a:stretch/>
        </p:blipFill>
        <p:spPr>
          <a:xfrm>
            <a:off x="179280" y="4149720"/>
            <a:ext cx="28767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وراق ابصال حقيق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عنصر نائب للمحتوى 3" descr="بصلة حقيقية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درنات البطاط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عنصر نائب للمحتوى 3" descr="الدرنات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سيقان الهوائية في الدر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عنصر نائب للمحتوى 3" descr="السيقان الهوائية في الدرنات.jpg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سيقان ريزوم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عنصر نائب للمحتوى 3" descr="الريزومة من أعلى.jpg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متداد الريزو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عنصر نائب للمحتوى 3" descr="إمتداد الريزومة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زنجب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عنصر نائب للمحتوى 3" descr="الزنجبيل ريزومة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وراق حرشفية للريزو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عنصر نائب للمحتوى 3" descr="أوراق حرشفية للريزومة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التكاثر عن طريق تقسيم أو تجزئة النبات :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يقصد به تقطيع الأجزاء النباتية المتحورة خاصة السيقان و الجذور و التي تنمو تحت سطح التربة و التي لها القدرة إذا انقسمت إلى أجزاء أن تعيد كل جزء من دورة حياة النبات كام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صورة 5" descr="قطع البراعم الصغيرة ثم تنميتها.jpg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32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الثا ً : التكاثر بتكوين الأبواغ : 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م تكوين خلايا تسمى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أبواغ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وجد داخل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حوافظ بوغ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( ظروف البيئية القاسية ) . 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دث في الحزازيات و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طريات والطحال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  </a:t>
            </a:r>
            <a:br>
              <a:rPr sz="2800"/>
            </a:b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شرح مثال فطر عفن الخبز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تكون الأبواغ داخل حافظات وتحمل الحوافظ على الحوامل ، وعند نضج الأبواغ تضغط على الحوافظ وتخرج ثم تسقط على الأرض ، وعند توفر الظروف البيئية المناسبة تنبت مكونة فطراً جديدا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عفن الخبزQ_47"/>
          <p:cNvPicPr/>
          <p:nvPr/>
        </p:nvPicPr>
        <p:blipFill>
          <a:blip r:embed="rId1"/>
          <a:stretch/>
        </p:blipFill>
        <p:spPr>
          <a:xfrm>
            <a:off x="2724120" y="3645000"/>
            <a:ext cx="407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بعاً : التكاثر بالتجدد :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ي قدرة الكائن الحي على تعويض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أجزاء المفقود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دث ف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وكيات الجلد و الاسفنجي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جم البح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التجديد"/>
          <p:cNvPicPr/>
          <p:nvPr/>
        </p:nvPicPr>
        <p:blipFill>
          <a:blip r:embed="rId1"/>
          <a:stretch/>
        </p:blipFill>
        <p:spPr>
          <a:xfrm>
            <a:off x="285840" y="1643040"/>
            <a:ext cx="64292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خامساً : التكاثر العذري :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قدرة بعض الحيوانات على إنتاج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بويضات غير مخصب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ها القدرة على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م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تكوين فرد جديد بدون إخص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دث ف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شري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بعض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ديدان والحش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نحل العس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حيث تنتج الملكة في النحل بيضاً غير مخصب ينمو لتكوين ذكور النحل بينما ينتج عن البويضات المخصبة الملكات والشغالات حسب الغذ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3"/>
          <p:cNvPicPr/>
          <p:nvPr/>
        </p:nvPicPr>
        <p:blipFill>
          <a:blip r:embed="rId1"/>
          <a:stretch/>
        </p:blipFill>
        <p:spPr>
          <a:xfrm>
            <a:off x="3203640" y="3141720"/>
            <a:ext cx="333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سادساً : التكاثر الخضري :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هو الذي لا يتطلب وجود بذو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همية التكاثر الخض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حافظة على الصفات الوراثية للنباتات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إكثار النباتات التي يصعب تكاثرها بالبذ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إنتاج شتلات كبيرة الحجم و أشجار مثمرة في وقت قصي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التغلب على بعض الأمراض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غلب على بعض الظروف البيئية الغير ملائمة لبعض النباتات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تاج أصول متشابهة في تركيبها الوراثي والمحافظة على الطفرات الجيد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واع التكاثر الخضري :هي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تعقيل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فيه تأخذ أجزاء من السيقان تحتوي على عدة براعم وتزرع في الأرض ، فتنشط الخلايا في أسفل العقلة وتكون جذور عرضية وتنبت البراعم إلى الأعلى لتكون فروعاً هوائية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. مثل الفكس و الدف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3141720"/>
            <a:ext cx="8218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التعقيل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عقيل بالأوراق الساق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عنصر نائب للمحتوى 3" descr="التكاثر بالعقل الساقية.jpg"/>
          <p:cNvPicPr/>
          <p:nvPr/>
        </p:nvPicPr>
        <p:blipFill>
          <a:blip r:embed="rId1"/>
          <a:stretch/>
        </p:blipFill>
        <p:spPr>
          <a:xfrm>
            <a:off x="214200" y="1714680"/>
            <a:ext cx="47768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40:37Z</dcterms:created>
  <dc:creator>WA</dc:creator>
  <dc:description/>
  <dc:language>en-US</dc:language>
  <cp:lastModifiedBy>*-*</cp:lastModifiedBy>
  <dcterms:modified xsi:type="dcterms:W3CDTF">2010-10-07T09:53:35Z</dcterms:modified>
  <cp:revision>8</cp:revision>
  <dc:subject/>
  <dc:title>التكاثر : تعريفه : إنتاج أفراد جديدة من الكائنات الحية تهدف إلى حفظ النوع من الانقراض </dc:title>
</cp:coreProperties>
</file>