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laser.wav" ContentType="audio/x-wav"/>
  <Override PartName="/ppt/media/cashreg.wav" ContentType="audio/x-wav"/>
  <Override PartName="/ppt/media/applause.wav" ContentType="audio/x-wav"/>
  <Override PartName="/ppt/media/drumroll.wav" ContentType="audio/x-wav"/>
  <Override PartName="/ppt/media/wind.wav" ContentType="audio/x-wav"/>
  <Override PartName="/ppt/media/explode.wav" ContentType="audio/x-wav"/>
  <Override PartName="/ppt/media/bomb.wav" ContentType="audio/x-wav"/>
  <Override PartName="/ppt/media/voltage.wav" ContentType="audio/x-wav"/>
  <Override PartName="/ppt/media/push.wav" ContentType="audio/x-wav"/>
  <Override PartName="/ppt/media/type.wav" ContentType="audio/x-wav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6B5-9D06-4302-A861-47393FA6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456-094A-4DF0-9A74-33A8447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1B4-689F-4D2D-82D7-18CE1006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93B-45DC-421F-9D8B-4A04BB20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DFD-7410-4572-93FB-758B8485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65B-2DA4-462C-8BB3-87F4FDB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81E-C2F4-4CF0-9BDB-0DB9C66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46C-7B18-440E-8E81-8D3A1E9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C65-EB60-4403-A329-792C353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0F3-933B-4948-920D-DF8AB68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847-0040-40C0-AA34-E6DB011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767-D7F2-40A8-AA44-D55D65B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CD1-619D-4CEF-989E-E220489803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voltag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shreg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drumroll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reez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applaus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applaus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applaus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applause.wav"/><Relationship Id="rId15" Type="http://schemas.openxmlformats.org/officeDocument/2006/relationships/audio" Target="../media/breeze.wav"/><Relationship Id="rId16" Type="http://schemas.openxmlformats.org/officeDocument/2006/relationships/audio" Target="../media/breeze.wav"/><Relationship Id="rId17" Type="http://schemas.openxmlformats.org/officeDocument/2006/relationships/audio" Target="../media/applause.wav"/><Relationship Id="rId18" Type="http://schemas.openxmlformats.org/officeDocument/2006/relationships/audio" Target="../media/breeze.wav"/><Relationship Id="rId19" Type="http://schemas.openxmlformats.org/officeDocument/2006/relationships/audio" Target="../media/breeze.wav"/><Relationship Id="rId20" Type="http://schemas.openxmlformats.org/officeDocument/2006/relationships/audio" Target="../media/applause.wav"/><Relationship Id="rId21" Type="http://schemas.openxmlformats.org/officeDocument/2006/relationships/audio" Target="../media/breeze.wav"/><Relationship Id="rId22" Type="http://schemas.openxmlformats.org/officeDocument/2006/relationships/audio" Target="../media/breeze.wav"/><Relationship Id="rId23" Type="http://schemas.openxmlformats.org/officeDocument/2006/relationships/audio" Target="../media/applause.wav"/><Relationship Id="rId24" Type="http://schemas.openxmlformats.org/officeDocument/2006/relationships/audio" Target="../media/breeze.wav"/><Relationship Id="rId25" Type="http://schemas.openxmlformats.org/officeDocument/2006/relationships/audio" Target="../media/breeze.wav"/><Relationship Id="rId26" Type="http://schemas.openxmlformats.org/officeDocument/2006/relationships/audio" Target="../media/applause.wav"/><Relationship Id="rId27" Type="http://schemas.openxmlformats.org/officeDocument/2006/relationships/audio" Target="../media/breeze.wav"/><Relationship Id="rId28" Type="http://schemas.openxmlformats.org/officeDocument/2006/relationships/audio" Target="../media/breeze.wav"/><Relationship Id="rId29" Type="http://schemas.openxmlformats.org/officeDocument/2006/relationships/audio" Target="../media/applause.wav"/><Relationship Id="rId30" Type="http://schemas.openxmlformats.org/officeDocument/2006/relationships/audio" Target="../media/breeze.wav"/><Relationship Id="rId31" Type="http://schemas.openxmlformats.org/officeDocument/2006/relationships/audio" Target="../media/breeze.wav"/><Relationship Id="rId32" Type="http://schemas.openxmlformats.org/officeDocument/2006/relationships/audio" Target="../media/applause.wav"/><Relationship Id="rId33" Type="http://schemas.openxmlformats.org/officeDocument/2006/relationships/audio" Target="../media/breeze.wav"/><Relationship Id="rId34" Type="http://schemas.openxmlformats.org/officeDocument/2006/relationships/audio" Target="../media/breeze.wav"/><Relationship Id="rId35" Type="http://schemas.openxmlformats.org/officeDocument/2006/relationships/audio" Target="../media/applause.wav"/><Relationship Id="rId36" Type="http://schemas.openxmlformats.org/officeDocument/2006/relationships/audio" Target="../media/breeze.wav"/><Relationship Id="rId3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42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Arial"/>
              </a:rPr>
              <a:t>UNIT 1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FIRE FIGHTING</a:t>
            </a:r>
            <a:br>
              <a:rPr sz="5400"/>
            </a:b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محاربة (إطفاء) الحرائ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9680" y="163440"/>
            <a:ext cx="8653320" cy="682560"/>
          </a:xfrm>
          <a:prstGeom prst="rect">
            <a:avLst/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Do as shown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920" y="1168560"/>
            <a:ext cx="8943840" cy="45972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What _______ this word mean ? ( comp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112392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120" y="1918080"/>
            <a:ext cx="8805960" cy="45972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How do you __________ this in Arabic ? ( compl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240" y="1816200"/>
            <a:ext cx="9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7520" y="2853360"/>
            <a:ext cx="844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993366"/>
                </a:solidFill>
                <a:uFillTx/>
                <a:latin typeface="Arial"/>
              </a:rPr>
              <a:t>Match the following ;</a:t>
            </a:r>
            <a:r>
              <a:rPr b="0" i="1" lang="en-US" sz="2800" spc="-1" strike="noStrike" u="sng">
                <a:solidFill>
                  <a:srgbClr val="993366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a- extinguish              (          )  come out accid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b- tour                         (          ) 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c- in addition               (         ) 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d – spill                       (          )  put 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e- rank                        (          )  to 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f- experiment              (          )  a person’s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n the Polic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07320" y="3259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26040" y="3697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07320" y="413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87880" y="4535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87880" y="49737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06960" y="543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3000" y="243720"/>
            <a:ext cx="551160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Choose the correct w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4840" y="941400"/>
          <a:ext cx="8789760" cy="852480"/>
        </p:xfrm>
        <a:graphic>
          <a:graphicData uri="http://schemas.openxmlformats.org/drawingml/2006/table">
            <a:tbl>
              <a:tblPr/>
              <a:tblGrid>
                <a:gridCol w="87897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ut out     2- tour   3- deal with  4- spill   5- rank  6- preposition   7- minimum    8- on the job     9-  extremely    10 – operator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7360" y="2013840"/>
            <a:ext cx="8909280" cy="4636800"/>
          </a:xfrm>
          <a:prstGeom prst="rect">
            <a:avLst/>
          </a:prstGeom>
          <a:solidFill>
            <a:srgbClr val="dfffd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books  ………………… many interesting subject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his …………………….. in the army  ?  He’s a majo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remen usually ……………………. fires with wat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Next  holiday, we are going to ……………. all the cities of Saudi Arab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…………………. age for joining  the army is 17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questions took an …………………… long time to answer i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k the …………….. to connect you to the number which you w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……..     milk on the carpet, you should clea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remen have training at the Civil Defense Institute and ……………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…………………………. in the sentence is the word  i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78360" y="1940040"/>
            <a:ext cx="137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al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1000" y="2271600"/>
            <a:ext cx="77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31320" y="2824200"/>
            <a:ext cx="112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ut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1160" y="3129120"/>
            <a:ext cx="72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2000" y="3738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ini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7480" y="40244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xtrem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36560" y="4633920"/>
            <a:ext cx="13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pe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6240" y="49957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p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63720" y="5565600"/>
            <a:ext cx="151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n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5960" y="5869080"/>
            <a:ext cx="170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re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424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Arial"/>
              </a:rPr>
              <a:t>UNIT 2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IDENTS IN THE HOME</a:t>
            </a:r>
            <a:br>
              <a:rPr sz="4800"/>
            </a:b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الحوادث في المنز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43000" y="243720"/>
            <a:ext cx="551160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Choose the correct w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9440" y="941400"/>
          <a:ext cx="8789760" cy="852480"/>
        </p:xfrm>
        <a:graphic>
          <a:graphicData uri="http://schemas.openxmlformats.org/drawingml/2006/table">
            <a:tbl>
              <a:tblPr/>
              <a:tblGrid>
                <a:gridCol w="87897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-appliances      2-  develop    3- look like   4- shock    5- smoke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- scald     7- young   8- simple   9- sharp      10- ac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17360" y="1998360"/>
            <a:ext cx="8813880" cy="4667760"/>
          </a:xfrm>
          <a:prstGeom prst="rect">
            <a:avLst/>
          </a:prstGeom>
          <a:solidFill>
            <a:srgbClr val="dfffd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hmad and Ali  …………….. brothers but they are no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should protect yourself against electric ……………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factory makes …………………. for washing cloth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easy to  ………………….. colds in wint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……………………  yourself with boiling wat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i is only  ten  . He is too………………… for secondary school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you  …………………., you will damage your lung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tool is very  ……………………… . Be careful that you do not cut your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ren are more ………………….. than old peop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est was very …………………. . Everybody pa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27400" y="1959120"/>
            <a:ext cx="15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ok 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27120" y="2271600"/>
            <a:ext cx="9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5520" y="2805120"/>
            <a:ext cx="162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ppli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0480" y="3129120"/>
            <a:ext cx="15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velo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53120" y="3700440"/>
            <a:ext cx="89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a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7600" y="40053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o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1440" y="434808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mo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5160" y="4919760"/>
            <a:ext cx="133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ha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4520" y="5516640"/>
            <a:ext cx="9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48160" y="586908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3920" y="159480"/>
            <a:ext cx="87706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Match the words with their correct mean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8080" y="738000"/>
            <a:ext cx="8823240" cy="2654280"/>
          </a:xfrm>
          <a:prstGeom prst="rect">
            <a:avLst/>
          </a:prstGeom>
          <a:solidFill>
            <a:srgbClr val="dfffd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1- appliance        (     ) the ability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2- develop           (     ) healthy and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3- difficult            (     ) the opposite of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4- fit                     (     ) easy, no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5- sight                (     ) a machine used in h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6- simple             (     )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7-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65520" y="66600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4200" y="109620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09800" y="1434240"/>
            <a:ext cx="4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7960" y="177732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7960" y="219636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7960" y="261540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920" y="3798720"/>
            <a:ext cx="8913960" cy="2989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Arial"/>
              </a:rPr>
              <a:t>Choose the correc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9160" y="4232520"/>
            <a:ext cx="90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1- ( smoking- suffocation ) can cause canc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2- ( poisoning- burns - scalds) come from boiling wat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3- ( Mothers - fathers - children) have the greatest dangers in the kit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4- ( Teachers - Doctors - Firemen ) put out f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5- ( Death- fire - accident) is the end of lif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6 - (Sweet -Smoke-Appliances) are equipment used in hom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2600" y="4572000"/>
            <a:ext cx="949320" cy="3747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1800" y="5159520"/>
            <a:ext cx="1082880" cy="3744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4880" y="5430960"/>
            <a:ext cx="1224000" cy="3744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120" y="6062760"/>
            <a:ext cx="861840" cy="3744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6357960"/>
            <a:ext cx="1547640" cy="3747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1800" y="4254480"/>
            <a:ext cx="1131840" cy="3747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50920" y="114480"/>
            <a:ext cx="8642160" cy="93816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Making and Replying to suggestion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عرض الإقتراحات والرد علي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" y="1424520"/>
            <a:ext cx="1855800" cy="1434240"/>
          </a:xfrm>
          <a:custGeom>
            <a:avLst/>
            <a:gdLst>
              <a:gd name="textAreaLeft" fmla="*/ 0 w 1855800"/>
              <a:gd name="textAreaRight" fmla="*/ 1856160 w 1855800"/>
              <a:gd name="textAreaTop" fmla="*/ 0 h 1434240"/>
              <a:gd name="textAreaBottom" fmla="*/ 1434600 h 143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عرض إقتر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760" y="2830320"/>
            <a:ext cx="1932120" cy="825840"/>
          </a:xfrm>
          <a:custGeom>
            <a:avLst/>
            <a:gdLst>
              <a:gd name="textAreaLeft" fmla="*/ 0 w 1932120"/>
              <a:gd name="textAreaRight" fmla="*/ 1932480 w 1932120"/>
              <a:gd name="textAreaTop" fmla="*/ 0 h 825840"/>
              <a:gd name="textAreaBottom" fmla="*/ 826200 h 8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Arial"/>
              </a:rPr>
              <a:t>القب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Acce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9400" y="4029120"/>
            <a:ext cx="1714320" cy="76500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الرف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f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1916280"/>
            <a:ext cx="5173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n’t you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go shopping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25600" y="2951280"/>
            <a:ext cx="5173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hat’s a good idea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03480" y="4176720"/>
            <a:ext cx="51735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’m afraid I can’t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1844640"/>
            <a:ext cx="2556000" cy="450720"/>
          </a:xfrm>
          <a:prstGeom prst="wedgeRoundRectCallout">
            <a:avLst>
              <a:gd name="adj1" fmla="val -59439"/>
              <a:gd name="adj2" fmla="val 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لماذا لا تذهب لل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57960" y="2871720"/>
            <a:ext cx="2531880" cy="451080"/>
          </a:xfrm>
          <a:prstGeom prst="wedgeRoundRectCallout">
            <a:avLst>
              <a:gd name="adj1" fmla="val -79907"/>
              <a:gd name="adj2" fmla="val 2324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Arial"/>
              </a:rPr>
              <a:t>تلك فكرة ج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084640"/>
            <a:ext cx="8353440" cy="559080"/>
          </a:xfrm>
          <a:prstGeom prst="wedgeRoundRectCallout">
            <a:avLst>
              <a:gd name="adj1" fmla="val -5606"/>
              <a:gd name="adj2" fmla="val -138069"/>
              <a:gd name="adj3" fmla="val 16667"/>
            </a:avLst>
          </a:prstGeom>
          <a:solidFill>
            <a:srgbClr val="ffe8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Arial"/>
              </a:rPr>
              <a:t>أخشى (أظن) أنني لا أستطيع  ..(وتذكر السبب مثل إنشغالك أو مرضك إلخ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862600"/>
            <a:ext cx="67690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’m afraid I can’t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bus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1160" y="245160"/>
            <a:ext cx="85201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Make and Reply to Sugg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95760" y="851040"/>
            <a:ext cx="4237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n’t you see a do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680" y="1247760"/>
            <a:ext cx="236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a do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70240" y="1112760"/>
            <a:ext cx="35856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70240" y="154476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1328760"/>
            <a:ext cx="373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at’s a good idea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92520" y="896760"/>
            <a:ext cx="166536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عرض إقتراح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54360" y="1333440"/>
            <a:ext cx="75564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4600" y="2478240"/>
            <a:ext cx="88930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70240" y="1760400"/>
            <a:ext cx="28728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22680" y="1895400"/>
            <a:ext cx="83340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رف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54280" y="1886040"/>
            <a:ext cx="2481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’m afraid I can’t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3640" y="1892160"/>
            <a:ext cx="36417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 don’t have enough money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07120" y="2705040"/>
            <a:ext cx="4236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n’t you go shopp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0" y="3121200"/>
            <a:ext cx="2362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shopp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376360" y="2985840"/>
            <a:ext cx="358920" cy="21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76360" y="3417840"/>
            <a:ext cx="358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3201840"/>
            <a:ext cx="3738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at’s a good idea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98640" y="2709720"/>
            <a:ext cx="24796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sug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60840" y="3206880"/>
            <a:ext cx="159516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1080" y="4351320"/>
            <a:ext cx="88930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76360" y="3633840"/>
            <a:ext cx="28764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28800" y="3716280"/>
            <a:ext cx="126684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79800" y="3759120"/>
            <a:ext cx="2481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’m afraid I can’t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69160" y="3765600"/>
            <a:ext cx="3603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 have to stay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08640" y="4654440"/>
            <a:ext cx="4236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don’t you play footb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3320" y="5070600"/>
            <a:ext cx="236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.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 footb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78240" y="4935600"/>
            <a:ext cx="35856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78240" y="536724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37160" y="5151600"/>
            <a:ext cx="373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That’s a good idea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00520" y="4659480"/>
            <a:ext cx="247968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sug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62360" y="5156280"/>
            <a:ext cx="10620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2600" y="6300720"/>
            <a:ext cx="88930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78240" y="5583240"/>
            <a:ext cx="28728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30680" y="5665680"/>
            <a:ext cx="107136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81320" y="5708520"/>
            <a:ext cx="2481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’m afraid I can’t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70680" y="5715000"/>
            <a:ext cx="24620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’m sick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1800" y="104040"/>
            <a:ext cx="8280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66cc"/>
                </a:solidFill>
                <a:latin typeface="Arial"/>
              </a:rPr>
              <a:t>VERB + ing  AS A 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1309680"/>
            <a:ext cx="33847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قر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9960" y="1290600"/>
            <a:ext cx="178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79640" y="1311120"/>
            <a:ext cx="3384360" cy="432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قر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85960" y="1292400"/>
            <a:ext cx="21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71960" y="1933560"/>
            <a:ext cx="33847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سم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78280" y="1914480"/>
            <a:ext cx="178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7600" y="1935000"/>
            <a:ext cx="3384720" cy="432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تسم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3920" y="1916280"/>
            <a:ext cx="2470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son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71960" y="2478240"/>
            <a:ext cx="33847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سق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78280" y="2459160"/>
            <a:ext cx="178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7600" y="2479680"/>
            <a:ext cx="33847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سقو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53920" y="2460600"/>
            <a:ext cx="2470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89600" y="3052800"/>
            <a:ext cx="338436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دخ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5920" y="3033720"/>
            <a:ext cx="178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5240" y="3054240"/>
            <a:ext cx="3384360" cy="432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تدخ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1560" y="3035160"/>
            <a:ext cx="2469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k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2200" y="3598920"/>
            <a:ext cx="33847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أ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08520" y="3579840"/>
            <a:ext cx="178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77840" y="3600360"/>
            <a:ext cx="3384720" cy="432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أ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4160" y="3581280"/>
            <a:ext cx="21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44800" y="728640"/>
            <a:ext cx="56088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يمكن تحويل الفعل إلى اسم بإضاف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إلى الفعل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360" y="4215240"/>
            <a:ext cx="8977320" cy="429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Arial"/>
              </a:rPr>
              <a:t>Use these words at the beginning and at the end of sente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86520" y="4756320"/>
            <a:ext cx="4236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tenn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go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5172120"/>
            <a:ext cx="25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t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408400" y="5037120"/>
            <a:ext cx="35856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08400" y="546876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38640" y="5253120"/>
            <a:ext cx="373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like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ing t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30680" y="4840200"/>
            <a:ext cx="20080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ي بداية الج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92520" y="5257800"/>
            <a:ext cx="206676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ي نهاية الج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6440" y="5792760"/>
            <a:ext cx="889344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83120" y="5848200"/>
            <a:ext cx="423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gli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import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08080" y="6149880"/>
            <a:ext cx="2781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509920" y="6110280"/>
            <a:ext cx="206280" cy="177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509920" y="6475320"/>
            <a:ext cx="258840" cy="28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49720" y="6326280"/>
            <a:ext cx="373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like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Engli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7720" y="5877000"/>
            <a:ext cx="2144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t the begin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4040" y="6292800"/>
            <a:ext cx="21114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7960" y="6827760"/>
            <a:ext cx="889344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78000" y="260280"/>
            <a:ext cx="7904160" cy="566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0" y="915840"/>
            <a:ext cx="2657520" cy="147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ost verbs just ad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9440" y="2703600"/>
            <a:ext cx="1044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a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13040" y="898560"/>
            <a:ext cx="3035160" cy="145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Remove silent e, ad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(عدا ماكان منطوقا مثل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e, see, free,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21280" y="898560"/>
            <a:ext cx="3148200" cy="14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36000" bIns="46800" anchor="t">
            <a:normAutofit fontScale="99000"/>
          </a:bodyPr>
          <a:p>
            <a:pPr marL="339480" indent="-3394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Double the last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انتهى الفعل بحرف ساكن وسبقه متحرك و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9840" y="2703600"/>
            <a:ext cx="14749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aug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9440" y="3290760"/>
            <a:ext cx="1044720" cy="481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39840" y="3290760"/>
            <a:ext cx="1474920" cy="481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9440" y="3936960"/>
            <a:ext cx="1044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39840" y="3936960"/>
            <a:ext cx="14749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32200" y="2703600"/>
            <a:ext cx="132084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ak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65720" y="2703600"/>
            <a:ext cx="164916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3290760"/>
            <a:ext cx="1320840" cy="481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ang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65720" y="3290760"/>
            <a:ext cx="1649160" cy="481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2200" y="3936960"/>
            <a:ext cx="132084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s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65720" y="3936960"/>
            <a:ext cx="164916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56360" y="2732040"/>
            <a:ext cx="101916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46800" y="2712960"/>
            <a:ext cx="1706760" cy="51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it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56360" y="3319560"/>
            <a:ext cx="101916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w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46800" y="3300480"/>
            <a:ext cx="1706760" cy="512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wim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6360" y="3965400"/>
            <a:ext cx="1019160" cy="481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46800" y="3946680"/>
            <a:ext cx="1706760" cy="512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top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9680" y="163440"/>
            <a:ext cx="8653320" cy="68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Change These Sentences. Use Verb + ing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0320" y="1052640"/>
            <a:ext cx="8943840" cy="10810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It is fun to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162864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ercising is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3840" y="2276640"/>
            <a:ext cx="8943840" cy="108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It does you good to play s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0160" y="277956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ying sports does you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0320" y="3521160"/>
            <a:ext cx="8943840" cy="1089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It can be quite difficult to keep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6280" y="4024440"/>
            <a:ext cx="81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eeping fit can be quite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9400" y="4740120"/>
            <a:ext cx="8943840" cy="108936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3366"/>
                </a:solidFill>
                <a:latin typeface="Arial"/>
              </a:rPr>
              <a:t>It is a good idea to turn off the TV before you go to b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5360" y="5243400"/>
            <a:ext cx="891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urning off the TV before you go to bed is a good id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86240" y="3295800"/>
            <a:ext cx="2087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520" y="957240"/>
            <a:ext cx="87901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نما نريد أن نعطي تعليمات </a:t>
            </a:r>
            <a:r>
              <a:rPr b="1" lang="ar-SA" sz="2400" spc="-1" strike="noStrike">
                <a:solidFill>
                  <a:srgbClr val="00a800"/>
                </a:solidFill>
                <a:latin typeface="Arial"/>
              </a:rPr>
              <a:t>بالأم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ي اللغة الإنجليزية فإننا نبدأ بالفعل مباشرةً مث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880" y="114480"/>
            <a:ext cx="8231400" cy="71748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ing 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إعطاء التعلي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636560"/>
            <a:ext cx="295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ستمع إلى المعلم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280" y="1655640"/>
            <a:ext cx="45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to the teac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2405160"/>
            <a:ext cx="40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ساعد أبا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6600" y="2405160"/>
            <a:ext cx="361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your f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98960" y="3173400"/>
            <a:ext cx="40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أرسل سيارة إطفاء بسرعة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3154320"/>
            <a:ext cx="482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 a fire engine quick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080" y="3916440"/>
            <a:ext cx="87897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حينما نريد أن نعطي  تعليمات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بالنهي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فإننا نبدأ ب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4595760"/>
            <a:ext cx="33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لا تدخن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7840" y="4595760"/>
            <a:ext cx="55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smo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84840" y="5364000"/>
            <a:ext cx="40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لا تضيع أي وقت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4320" y="5345280"/>
            <a:ext cx="55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waste any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3880" y="57240"/>
            <a:ext cx="8231400" cy="66672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osi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30760" y="144360"/>
            <a:ext cx="3411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ff"/>
                </a:solidFill>
                <a:latin typeface="Arial"/>
              </a:rPr>
              <a:t>حروف الج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24000" y="928800"/>
            <a:ext cx="166212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5680" y="919080"/>
            <a:ext cx="1936800" cy="446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30480" y="893880"/>
            <a:ext cx="4969080" cy="469800"/>
          </a:xfrm>
          <a:prstGeom prst="rect">
            <a:avLst/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USE IN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43080" y="147168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في / إ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760" y="1465200"/>
            <a:ext cx="1936800" cy="45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49560" y="1446120"/>
            <a:ext cx="496908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3366ff"/>
                </a:solidFill>
                <a:latin typeface="Arial"/>
              </a:rPr>
              <a:t>The man is putting his hand into the TV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62160" y="200484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3840" y="1998720"/>
            <a:ext cx="1936800" cy="45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68640" y="1979640"/>
            <a:ext cx="496908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ff"/>
                </a:solidFill>
                <a:latin typeface="Arial"/>
              </a:rPr>
              <a:t>The water is spilling onto the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8640" y="254484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في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0320" y="2538360"/>
            <a:ext cx="1936440" cy="45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5120" y="2519280"/>
            <a:ext cx="4968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tablets are in the bo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87720" y="307800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9400" y="3071880"/>
            <a:ext cx="1936440" cy="45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4200" y="3052800"/>
            <a:ext cx="4968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food is on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43080" y="362412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من/ من 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760" y="3618000"/>
            <a:ext cx="1936800" cy="45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/ out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49560" y="3598920"/>
            <a:ext cx="496908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man is falling off the la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49560" y="4164120"/>
            <a:ext cx="1662120" cy="4442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بالقرب 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240" y="4157640"/>
            <a:ext cx="1936800" cy="45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7480" y="4138560"/>
            <a:ext cx="4967280" cy="5018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child is near the co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49560" y="473544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ع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1240" y="4729320"/>
            <a:ext cx="1936800" cy="45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6040" y="4710240"/>
            <a:ext cx="4968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e carpenter is cutting across the 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9560" y="5268960"/>
            <a:ext cx="1662120" cy="44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في/ ع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240" y="5262480"/>
            <a:ext cx="1936800" cy="45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56040" y="5243400"/>
            <a:ext cx="4968720" cy="4809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boy is at the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6600" y="5783400"/>
            <a:ext cx="1656000" cy="900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cc"/>
                </a:solidFill>
                <a:latin typeface="Arial"/>
              </a:rPr>
              <a:t>فوق (ملامس أو غير ملام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0080" y="5776920"/>
            <a:ext cx="1928880" cy="92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/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6040" y="5757840"/>
            <a:ext cx="4950000" cy="9730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lamp is over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lamp is above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8" dur="indefinite" restart="never" nodeType="tmRoot">
          <p:childTnLst>
            <p:seq>
              <p:cTn id="2119" dur="indefinite" nodeType="mainSeq">
                <p:childTnLst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2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3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9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0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1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192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7" dur="192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9" dur="192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1" dur="192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7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8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143080" y="90360"/>
            <a:ext cx="1662120" cy="435240"/>
          </a:xfrm>
          <a:prstGeom prst="rect">
            <a:avLst/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760" y="81000"/>
            <a:ext cx="1936800" cy="446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49560" y="55440"/>
            <a:ext cx="4969080" cy="470160"/>
          </a:xfrm>
          <a:prstGeom prst="rect">
            <a:avLst/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USE IN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74760" y="665280"/>
            <a:ext cx="1662120" cy="428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تحت/ أسف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6440" y="658800"/>
            <a:ext cx="1936800" cy="439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/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1600" y="639720"/>
            <a:ext cx="4968720" cy="4636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re is a fire under/below the st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8640" y="1211400"/>
            <a:ext cx="1662120" cy="428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خل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0320" y="1204920"/>
            <a:ext cx="193644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75120" y="1185840"/>
            <a:ext cx="4968720" cy="4636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A stone is coming through th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74760" y="175104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ح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6440" y="1744560"/>
            <a:ext cx="1936800" cy="439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83040" y="1725480"/>
            <a:ext cx="4967280" cy="482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car is turning round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62160" y="229068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أم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3840" y="228456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68640" y="2265480"/>
            <a:ext cx="4969080" cy="463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boy is in front of the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55680" y="283680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خ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7360" y="283068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811600"/>
            <a:ext cx="4968720" cy="463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boy is behind the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62160" y="337644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على (ملام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3840" y="337032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op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70440" y="3351240"/>
            <a:ext cx="4967280" cy="482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ff"/>
                </a:solidFill>
                <a:latin typeface="Arial"/>
              </a:rPr>
              <a:t>There are sweets on top of the cup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68640" y="399240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بجان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0320" y="3986280"/>
            <a:ext cx="193644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sid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75120" y="3967200"/>
            <a:ext cx="4968720" cy="4636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garage is at the side of th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62160" y="4538520"/>
            <a:ext cx="1662120" cy="4287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cc"/>
                </a:solidFill>
                <a:latin typeface="Arial"/>
              </a:rPr>
              <a:t>على طول/ بإمتد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3840" y="453240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68640" y="4513320"/>
            <a:ext cx="4969080" cy="4633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A man is waking along the str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68640" y="5059440"/>
            <a:ext cx="1662120" cy="566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ب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0320" y="5052960"/>
            <a:ext cx="1936440" cy="581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76560" y="5033880"/>
            <a:ext cx="5043600" cy="6350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The fire-extinguisher is between the salt and sugar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4760" y="5732640"/>
            <a:ext cx="1662120" cy="428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مقا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6440" y="572616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81600" y="5707080"/>
            <a:ext cx="4968720" cy="4636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Cleaner's shop is opposite the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00320" y="6329520"/>
            <a:ext cx="1662120" cy="428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cc"/>
                </a:solidFill>
                <a:latin typeface="Arial"/>
              </a:rPr>
              <a:t>بج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2000" y="6323040"/>
            <a:ext cx="1936800" cy="43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06800" y="6303960"/>
            <a:ext cx="4969080" cy="4636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ff"/>
                </a:solidFill>
                <a:latin typeface="Arial"/>
              </a:rPr>
              <a:t>The Baker’s is next to the 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9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1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2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6" dur="192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7" dur="192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9" dur="192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1" dur="192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8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9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9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0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1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1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192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7" dur="192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9" dur="192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1" dur="192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2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3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6" dur="192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7" dur="192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9" dur="192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1" dur="192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9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1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43000" y="243720"/>
            <a:ext cx="656100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Choose the correct pre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204840" y="941400"/>
          <a:ext cx="8789760" cy="471600"/>
        </p:xfrm>
        <a:graphic>
          <a:graphicData uri="http://schemas.openxmlformats.org/drawingml/2006/table">
            <a:tbl>
              <a:tblPr/>
              <a:tblGrid>
                <a:gridCol w="8789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or - off - about - with -  of - on - by – out o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212760" y="1785960"/>
            <a:ext cx="8607240" cy="4483080"/>
          </a:xfrm>
          <a:prstGeom prst="rect">
            <a:avLst/>
          </a:prstGeom>
          <a:solidFill>
            <a:srgbClr val="dfffd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- Falling ……………… the ladder is a danger when you clean window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- Thank you ……………… your le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- I will tell you ………………… the fire servi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- She went ………….. the house and into the gard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- Never try to put out oil fires ……………… wate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 - Read the exercise …………….. this pag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- A lot …………… accidents happen in the hom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- Some boys go to school ………………. bik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23520" y="1744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82880" y="23814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33720" y="27813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195640" y="3573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u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60880" y="3924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29160" y="503388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79400" y="53895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57880" y="5788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delay="indefinite"/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86240" y="3295800"/>
            <a:ext cx="2087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520" y="957240"/>
            <a:ext cx="8790120" cy="113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حينما نريد أن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نقو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التعليمات بالأمر فإننا نضي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way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3880" y="114480"/>
            <a:ext cx="8231400" cy="71748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ing 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إعطاء التعلي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5320" y="1636560"/>
            <a:ext cx="3743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دائما استمع إلى المعلم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74720"/>
            <a:ext cx="54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sten to the teac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92840" y="2386080"/>
            <a:ext cx="40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دائما ساعد أبا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2386080"/>
            <a:ext cx="459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lp your f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7120" y="3154320"/>
            <a:ext cx="40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دائما أرسل سيارة إطفاء بسرعة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1160" y="3116160"/>
            <a:ext cx="52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nd a fire engine quick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080" y="3916440"/>
            <a:ext cx="8789760" cy="1130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حينما نريد أن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نقوي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التعليمات</a:t>
            </a:r>
            <a:r>
              <a:rPr b="0" lang="en-GB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بالنهي  فإننا نبدأ بـ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4595760"/>
            <a:ext cx="33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لا تدخن أبدا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4595760"/>
            <a:ext cx="55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k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84840" y="5364000"/>
            <a:ext cx="40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لا تضيع أي وقت أبدا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4320" y="5345280"/>
            <a:ext cx="55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te any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1200" y="200160"/>
            <a:ext cx="8639280" cy="522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ke the following instructions stronge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5760" y="1822320"/>
            <a:ext cx="3770280" cy="8002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on’t let children play with match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84640" y="1830240"/>
            <a:ext cx="4859280" cy="743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ver let children play with match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4840" y="2711520"/>
            <a:ext cx="3719520" cy="7905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eep a fire-extinguisher in the kitch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78160" y="2719440"/>
            <a:ext cx="4870440" cy="77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keep a fire-extinguisher in the kitc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160" y="3586320"/>
            <a:ext cx="37321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ey you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2560" y="3594240"/>
            <a:ext cx="469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bey your fat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360" y="4145040"/>
            <a:ext cx="3732120" cy="4316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’t c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8120" y="4152960"/>
            <a:ext cx="469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che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907920"/>
            <a:ext cx="1728720" cy="449280"/>
          </a:xfrm>
          <a:prstGeom prst="wedgeRoundRectCallout">
            <a:avLst>
              <a:gd name="adj1" fmla="val -21259"/>
              <a:gd name="adj2" fmla="val -118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تعلي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53040" y="895320"/>
            <a:ext cx="1728720" cy="449280"/>
          </a:xfrm>
          <a:prstGeom prst="wedgeRoundRectCallout">
            <a:avLst>
              <a:gd name="adj1" fmla="val -21259"/>
              <a:gd name="adj2" fmla="val -11890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ق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05320" y="4076640"/>
            <a:ext cx="208728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0160" y="728640"/>
            <a:ext cx="5608440" cy="886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الشرطية لها عدة إستخدامات وسنأخذ اثنين منها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3880" y="38160"/>
            <a:ext cx="8231400" cy="61920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لو الشرط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000" y="1273320"/>
            <a:ext cx="8789760" cy="1742760"/>
          </a:xfrm>
          <a:prstGeom prst="rect">
            <a:avLst/>
          </a:prstGeom>
          <a:solidFill>
            <a:srgbClr val="cc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الإستخدام الأول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الجزء الأول من الجملة الشرطية 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والجزء الثاني (جواب الشرط ) يكون شيء مستقبلي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f  + Present,  …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38680" y="2557440"/>
            <a:ext cx="4268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لو تأكل كثيرا ستصبح سمين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1520" y="2576520"/>
            <a:ext cx="617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 much, you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ll become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5960" y="2419200"/>
            <a:ext cx="15840" cy="1857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43160" y="2430360"/>
            <a:ext cx="41040" cy="24624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868560" y="2366640"/>
            <a:ext cx="198720" cy="2379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8240" y="3112920"/>
            <a:ext cx="8866080" cy="1900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الإستخدام الثاني: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الجزء الأول 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والثاني يكون تعليم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f  + Present,  …  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560" y="4545000"/>
            <a:ext cx="3503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ذا كانت الإشارة حمراء, لا تعبر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840" y="4545000"/>
            <a:ext cx="617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traffic ligh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d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’t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8600" y="4212720"/>
            <a:ext cx="82440" cy="29556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287080" y="4336920"/>
            <a:ext cx="289080" cy="27144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080960" y="4246200"/>
            <a:ext cx="104760" cy="3985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4280" y="1657440"/>
            <a:ext cx="1081080" cy="350640"/>
          </a:xfrm>
          <a:prstGeom prst="wedgeRoundRectCallout">
            <a:avLst>
              <a:gd name="adj1" fmla="val -1689"/>
              <a:gd name="adj2" fmla="val 75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53000" y="2071800"/>
            <a:ext cx="1407960" cy="350640"/>
          </a:xfrm>
          <a:prstGeom prst="wedgeRoundRectCallout">
            <a:avLst>
              <a:gd name="adj1" fmla="val -65898"/>
              <a:gd name="adj2" fmla="val 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 مست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3201840"/>
            <a:ext cx="1081080" cy="432000"/>
          </a:xfrm>
          <a:prstGeom prst="wedgeRoundRectCallout">
            <a:avLst>
              <a:gd name="adj1" fmla="val -26356"/>
              <a:gd name="adj2" fmla="val 1588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3206880"/>
            <a:ext cx="1338120" cy="506160"/>
          </a:xfrm>
          <a:prstGeom prst="wedgeRoundRectCallout">
            <a:avLst>
              <a:gd name="adj1" fmla="val 20106"/>
              <a:gd name="adj2" fmla="val 117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99"/>
                </a:solidFill>
                <a:latin typeface="Arial"/>
              </a:rPr>
              <a:t>تعلي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360" y="5216400"/>
            <a:ext cx="8866440" cy="132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الإستخدام الثاني بترتيب مختلف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struction +  If  +  Pres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42040" y="6037200"/>
            <a:ext cx="3503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لا تعبر إذا كانت الإشارة حمراء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037200"/>
            <a:ext cx="617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 not go 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ffic ligh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92280" y="5705640"/>
            <a:ext cx="82440" cy="29520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27080" y="5576760"/>
            <a:ext cx="719280" cy="50328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87440" y="5776560"/>
            <a:ext cx="104760" cy="3985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480" y="138240"/>
            <a:ext cx="8653320" cy="682560"/>
          </a:xfrm>
          <a:prstGeom prst="rect">
            <a:avLst/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omplete the following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000" y="1143360"/>
            <a:ext cx="85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If you are under 17 , …………………………….. .  ( dr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36840" y="984240"/>
            <a:ext cx="30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 not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4840" y="1708560"/>
            <a:ext cx="85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If you need a fire engine , …………………………… (  call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8120" y="158112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ll 99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9680" y="2278080"/>
            <a:ext cx="8653320" cy="682560"/>
          </a:xfrm>
          <a:prstGeom prst="rect">
            <a:avLst/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Write the following in ano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8200" y="3283560"/>
            <a:ext cx="85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If you see a fire , don’t waste any tim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95480" y="373392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n’t waste any time if you see a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1000" y="4661280"/>
            <a:ext cx="85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Call the Police if you have an acciden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6520" y="522612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f you have an accident call the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9680" y="163440"/>
            <a:ext cx="8653320" cy="682560"/>
          </a:xfrm>
          <a:prstGeom prst="rect">
            <a:avLst/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Do as shown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1168560"/>
            <a:ext cx="8943840" cy="45972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If you study, you will pass the exam. ( change the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5480" y="161928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will pass the exam if you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1120" y="2375280"/>
            <a:ext cx="8805960" cy="45972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Call the Police if you have an accident .   (begin with 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294012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f you have an accident, call the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0" y="3506760"/>
            <a:ext cx="8948520" cy="82548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If you want the news, read newspapers   ( change the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                                                                         </a:t>
            </a:r>
            <a:r>
              <a:rPr b="1" lang="en-GB" sz="2400" spc="-1" strike="noStrike">
                <a:solidFill>
                  <a:srgbClr val="993366"/>
                </a:solidFill>
                <a:latin typeface="Arial"/>
              </a:rPr>
              <a:t>of instruction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06560" y="4483080"/>
            <a:ext cx="81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ad newspapers if you want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2520" y="957240"/>
            <a:ext cx="879012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سأل السؤال الصحيح لتحصل على المعلومات التي تريدها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880" y="114480"/>
            <a:ext cx="8231400" cy="717480"/>
          </a:xfrm>
          <a:prstGeom prst="roundRect">
            <a:avLst>
              <a:gd name="adj" fmla="val 16667"/>
            </a:avLst>
          </a:prstGeom>
          <a:solidFill>
            <a:srgbClr val="ffe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ing Ques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5920" y="1560960"/>
            <a:ext cx="894384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at question do you ask if you want to know the meaning of a word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120" y="2057400"/>
            <a:ext cx="75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What does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………………………………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1360" y="1968480"/>
            <a:ext cx="31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66"/>
                </a:solidFill>
                <a:latin typeface="Arial"/>
              </a:rPr>
              <a:t>تضع الكلمة التي تسأل عن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279072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- How do you say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…………….….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n Arabic?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0" y="2719440"/>
            <a:ext cx="19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9440" y="3326400"/>
            <a:ext cx="8902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at question do you ask if you want to know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the spelling of a 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3803760"/>
            <a:ext cx="57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do you spell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……….…….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60880" y="372420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60" y="4369320"/>
            <a:ext cx="889956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at question do you ask if you want to know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the pronunciation of a w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360" y="51055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How do you pronounce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……………….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44920" y="5027760"/>
            <a:ext cx="15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Arial"/>
              </a:rPr>
              <a:t>polic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0" y="5653440"/>
            <a:ext cx="888372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at question do you ask if you want to know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ich word the teacher is expl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160" y="6369120"/>
            <a:ext cx="450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Which word are you explain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3160" y="235440"/>
            <a:ext cx="8848440" cy="3834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3366"/>
                </a:solidFill>
                <a:latin typeface="Arial"/>
              </a:rPr>
              <a:t>What question do you ask if you want to know which line the teacher is 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360" y="78120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line are you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360" y="1352880"/>
            <a:ext cx="8964720" cy="3834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993366"/>
                </a:solidFill>
                <a:latin typeface="Arial"/>
              </a:rPr>
              <a:t>What question do you ask if you want to know</a:t>
            </a:r>
            <a:r>
              <a:rPr b="0" lang="en-GB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993366"/>
                </a:solidFill>
                <a:latin typeface="Arial"/>
              </a:rPr>
              <a:t>which page the teacher is 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5760" y="1911240"/>
            <a:ext cx="45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page are you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5920" y="2627640"/>
            <a:ext cx="884232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at question do you ask if you want to know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66"/>
                </a:solidFill>
                <a:latin typeface="Arial"/>
              </a:rPr>
              <a:t>which paragraph the teacher i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3505320"/>
            <a:ext cx="45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paragraph are you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9240" y="4745160"/>
            <a:ext cx="7209000" cy="79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ملاحظ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إذا أردت أن تسأل سؤالا غير متوقع أو أردت أن  تلفت نظر المعلم بأدب فإنك تقول :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xcuse m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!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لو سمحت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56120" y="5999040"/>
            <a:ext cx="53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ich line are you 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5979960"/>
            <a:ext cx="33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use me,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02:07:17Z</dcterms:created>
  <dc:creator>MY PC</dc:creator>
  <dc:description/>
  <dc:language>en-US</dc:language>
  <cp:lastModifiedBy>User</cp:lastModifiedBy>
  <dcterms:modified xsi:type="dcterms:W3CDTF">2005-09-18T18:19:28Z</dcterms:modified>
  <cp:revision>1015</cp:revision>
  <dc:subject/>
  <dc:title>الشريحة 1</dc:title>
</cp:coreProperties>
</file>