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8.gif" ContentType="image/gif"/>
  <Override PartName="/ppt/media/image19.wmf" ContentType="image/x-wmf"/>
  <Override PartName="/ppt/media/image7.gif" ContentType="image/gif"/>
  <Override PartName="/ppt/media/image6.gif" ContentType="image/gif"/>
  <Override PartName="/ppt/media/image9.png" ContentType="image/png"/>
  <Override PartName="/ppt/media/image10.gif" ContentType="image/gif"/>
  <Override PartName="/ppt/media/image12.jpeg" ContentType="image/jpeg"/>
  <Override PartName="/ppt/media/image5.gif" ContentType="image/gif"/>
  <Override PartName="/ppt/media/image4.gif" ContentType="image/gif"/>
  <Override PartName="/ppt/media/image1.jpeg" ContentType="image/jpeg"/>
  <Override PartName="/ppt/media/image24.gif" ContentType="image/gif"/>
  <Override PartName="/ppt/media/image23.jpeg" ContentType="image/jpeg"/>
  <Override PartName="/ppt/media/image22.gif" ContentType="image/gif"/>
  <Override PartName="/ppt/media/image17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4.wmf" ContentType="image/x-wmf"/>
  <Override PartName="/ppt/media/image25.gif" ContentType="image/gif"/>
  <Override PartName="/ppt/media/image2.gif" ContentType="image/gif"/>
  <Override PartName="/ppt/media/image11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2A5-C412-4105-8EA6-DE7EB556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F031-2F41-44DE-8963-007C8470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D1F-F3F8-46CD-A2BB-EC862E19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473-3D3C-4859-AB42-7D2AE06F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4F21-5B9D-440D-9656-2AA22102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F31-AFF6-4780-A3D2-F8870289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B80-6C42-403C-86E0-B983A5A6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A11-F1AB-44BD-97D6-EE466EBE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963-FE35-400E-9AFF-ED76E0F3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4671-4DB0-4CAF-95C0-C465A1D4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505-9E4A-46ED-82B0-A331F9E8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3B7-CF0C-4EB2-AEE5-9AE52CC2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369E-055B-40F0-838F-9DBE3A8D9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" Target="slide2.xml"/><Relationship Id="rId9" Type="http://schemas.openxmlformats.org/officeDocument/2006/relationships/image" Target="../media/image3.jpeg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8.pn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1640" cy="7126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755640" y="2133720"/>
            <a:ext cx="784872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4428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MCS Hijon S_I normal."/>
              </a:rPr>
              <a:t>    </a:t>
            </a:r>
            <a:r>
              <a:rPr b="0" lang="hi-IN" sz="1800" spc="1" strike="noStrike">
                <a:ln w="4428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MCS Hijon S_I normal."/>
              </a:rPr>
              <a:t>المبني من</a:t>
            </a:r>
            <a:r>
              <a:rPr b="1" i="1" lang="en-US" sz="1800" spc="1" strike="noStrike">
                <a:ln w="4428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MCS Hijon S_I normal."/>
              </a:rPr>
              <a:t> </a:t>
            </a:r>
            <a:endParaRPr b="1" i="1" lang="en-US" sz="1800" spc="1" strike="noStrike">
              <a:ln w="4428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MCS Hijon S_I normal."/>
              <a:ea typeface="MCS Hijon S_I normal.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44280">
                  <a:solidFill>
                    <a:srgbClr val="ffff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MCS Hijon S_I normal."/>
              </a:rPr>
              <a:t>الأسماء والحروف </a:t>
            </a:r>
            <a:endParaRPr b="1" i="1" lang="en-US" sz="1800" spc="1" strike="noStrike">
              <a:ln w="44280">
                <a:solidFill>
                  <a:srgbClr val="ffffff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MCS Hijon S_I normal."/>
              <a:ea typeface="MCS Hijon S_I normal.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5157720"/>
            <a:ext cx="82296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333399"/>
                </a:solidFill>
                <a:latin typeface="Arial"/>
                <a:ea typeface="Diwani Bent"/>
              </a:rPr>
              <a:t>  النرجسة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8" action="ppaction://hlinksldjump"/>
          </p:cNvPr>
          <p:cNvSpPr/>
          <p:nvPr/>
        </p:nvSpPr>
        <p:spPr>
          <a:xfrm>
            <a:off x="73080" y="6381720"/>
            <a:ext cx="1619280" cy="47628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Andalus"/>
              </a:rPr>
              <a:t>العرض الرئيس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907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99"/>
                </a:solidFill>
                <a:latin typeface="Arial"/>
                <a:cs typeface="Traditional Arabic"/>
              </a:rPr>
              <a:t>المملكة العربية السعودية </a:t>
            </a:r>
            <a:r>
              <a:rPr b="0" lang="ar-SA" sz="2400" spc="-1" strike="noStrike">
                <a:solidFill>
                  <a:srgbClr val="333399"/>
                </a:solidFill>
                <a:latin typeface="Arial"/>
                <a:ea typeface="Traditional Arabic"/>
              </a:rPr>
              <a:t>	</a:t>
            </a:r>
            <a:br>
              <a:rPr sz="2400"/>
            </a:br>
            <a:r>
              <a:rPr b="0" lang="ar-SA" sz="2400" spc="-1" strike="noStrike">
                <a:solidFill>
                  <a:srgbClr val="333399"/>
                </a:solidFill>
                <a:latin typeface="Arial"/>
                <a:cs typeface="Traditional Arabic"/>
              </a:rPr>
              <a:t>وزارة التربية والتعليم</a:t>
            </a:r>
            <a:br>
              <a:rPr sz="2400"/>
            </a:br>
            <a:r>
              <a:rPr b="0" lang="ar-SA" sz="2400" spc="-1" strike="noStrike">
                <a:solidFill>
                  <a:srgbClr val="333399"/>
                </a:solidFill>
                <a:latin typeface="Arial"/>
                <a:cs typeface="Traditional Arabic"/>
              </a:rPr>
              <a:t>إدارة التربية والتعليم  مندوبية بحر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99"/>
                </a:solidFill>
                <a:latin typeface="Arial"/>
                <a:cs typeface="Traditional Arabic"/>
              </a:rPr>
              <a:t>متوسطةبحرة الأول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0"/>
          <a:stretch/>
        </p:blipFill>
        <p:spPr>
          <a:xfrm>
            <a:off x="6443640" y="1844640"/>
            <a:ext cx="2160720" cy="254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1"/>
          <a:stretch/>
        </p:blipFill>
        <p:spPr>
          <a:xfrm>
            <a:off x="2627280" y="620640"/>
            <a:ext cx="319104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2"/>
          <a:stretch/>
        </p:blipFill>
        <p:spPr>
          <a:xfrm>
            <a:off x="6227640" y="3068640"/>
            <a:ext cx="819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6300720" y="0"/>
            <a:ext cx="2664000" cy="620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de0202"/>
                </a:solidFill>
                <a:latin typeface="Arial"/>
                <a:cs typeface="MCS Taybah S_U normal."/>
              </a:rPr>
              <a:t>تابع الأمث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260280"/>
            <a:ext cx="45622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(د) 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/  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ما </a:t>
            </a:r>
            <a:r>
              <a:rPr b="1" lang="hi-IN" sz="1800" spc="-1" strike="noStrike">
                <a:solidFill>
                  <a:srgbClr val="990000"/>
                </a:solidFill>
                <a:latin typeface="Arial"/>
              </a:rPr>
              <a:t>الذي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صححه ابن الهيثم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  سمع مدير المدرسة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التي 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كنا فيها بذلك 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8000" y="620640"/>
            <a:ext cx="66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( ج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)  منْ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يقرأ يستمتع ويتعلَّم .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39640" y="1844640"/>
          <a:ext cx="8085240" cy="4670640"/>
        </p:xfrm>
        <a:graphic>
          <a:graphicData uri="http://schemas.openxmlformats.org/drawingml/2006/table">
            <a:tbl>
              <a:tblPr/>
              <a:tblGrid>
                <a:gridCol w="2446200"/>
                <a:gridCol w="1163520"/>
                <a:gridCol w="909720"/>
                <a:gridCol w="1038240"/>
                <a:gridCol w="216000"/>
                <a:gridCol w="2311560"/>
              </a:tblGrid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028640" y="227664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ج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61760" y="227664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الاس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8320" y="227664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نوع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2276640"/>
            <a:ext cx="154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علامة إعراب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41400" y="2421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90520" y="2421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00720" y="3500280"/>
            <a:ext cx="2322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ج)  </a:t>
            </a:r>
            <a:r>
              <a:rPr b="1" lang="hi-IN" sz="1800" spc="-1" strike="noStrike">
                <a:solidFill>
                  <a:srgbClr val="990000"/>
                </a:solidFill>
                <a:latin typeface="Arial"/>
              </a:rPr>
              <a:t>منْ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يقرأ يستمتع ويتعلَّم .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من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3429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12640" y="350028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السك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3357720"/>
            <a:ext cx="24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اسم شرط  مبني على السكون في محل رفع مبتد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342900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0360" y="4437000"/>
            <a:ext cx="26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د)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ما </a:t>
            </a:r>
            <a:r>
              <a:rPr b="1" lang="hi-IN" sz="1800" spc="-1" strike="noStrike">
                <a:solidFill>
                  <a:srgbClr val="990000"/>
                </a:solidFill>
                <a:latin typeface="Arial"/>
              </a:rPr>
              <a:t>الذي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صححه  اب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هيثم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13800" y="450864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الذ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65040" y="4437000"/>
            <a:ext cx="139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اس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موص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7640" y="4508640"/>
            <a:ext cx="114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السك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4437000"/>
            <a:ext cx="23508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سم  موصول  مبني على السكون في محل رفع خبر المبتد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443700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5516640"/>
            <a:ext cx="244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سمع مدير المدرسة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التي 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كنا فيها بذلك 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76800" y="57340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الت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40920" y="5516640"/>
            <a:ext cx="139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اس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موص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87640" y="5589720"/>
            <a:ext cx="127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السك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5589720"/>
            <a:ext cx="2519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سم موصول مبني على السكون  في محل نصب مفعول ب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566100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64480" y="3357720"/>
            <a:ext cx="92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6600"/>
                </a:solidFill>
                <a:latin typeface="Arial"/>
              </a:rPr>
              <a:t>اس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شر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41920" y="63972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227664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إعراب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6300720" y="0"/>
            <a:ext cx="2664000" cy="620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de0202"/>
                </a:solidFill>
                <a:latin typeface="Arial"/>
                <a:cs typeface="MCS Taybah S_U normal."/>
              </a:rPr>
              <a:t>تابع الأمث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324000" y="404640"/>
            <a:ext cx="456264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( و) 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عجَزنا عن إجابة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أحدَ عشرَ 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سؤالا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08000" y="620640"/>
            <a:ext cx="665172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(  هـ </a:t>
            </a:r>
            <a:r>
              <a:rPr b="1" lang="ar-SA" sz="2400" spc="-1" strike="noStrike">
                <a:solidFill>
                  <a:srgbClr val="990000"/>
                </a:solidFill>
                <a:latin typeface="Arial"/>
              </a:rPr>
              <a:t>) </a:t>
            </a:r>
            <a:r>
              <a:rPr b="1" lang="ar-SA" sz="24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990000"/>
                </a:solidFill>
                <a:latin typeface="Arial"/>
              </a:rPr>
              <a:t>/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نذ </a:t>
            </a:r>
            <a:r>
              <a:rPr b="1" lang="ar-SA" sz="1800" spc="-1" strike="noStrike">
                <a:solidFill>
                  <a:srgbClr val="990000"/>
                </a:solidFill>
                <a:latin typeface="Arial"/>
              </a:rPr>
              <a:t>ذلك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الحين أدركت أنَّ عليَّ أنْ أقرأ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/  ما</a:t>
            </a:r>
            <a:r>
              <a:rPr b="1" lang="ar-SA" sz="1800" spc="-1" strike="noStrike">
                <a:solidFill>
                  <a:srgbClr val="990000"/>
                </a:solidFill>
                <a:latin typeface="Arial"/>
              </a:rPr>
              <a:t>هذا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أتعجزون عن </a:t>
            </a:r>
            <a:r>
              <a:rPr b="1" lang="ar-SA" sz="1800" spc="-1" strike="noStrike">
                <a:solidFill>
                  <a:srgbClr val="990000"/>
                </a:solidFill>
                <a:latin typeface="Arial"/>
              </a:rPr>
              <a:t>هذه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الأسئلة ؟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39640" y="1844640"/>
          <a:ext cx="8085240" cy="4670640"/>
        </p:xfrm>
        <a:graphic>
          <a:graphicData uri="http://schemas.openxmlformats.org/drawingml/2006/table">
            <a:tbl>
              <a:tblPr/>
              <a:tblGrid>
                <a:gridCol w="2446200"/>
                <a:gridCol w="1163520"/>
                <a:gridCol w="909720"/>
                <a:gridCol w="1038240"/>
                <a:gridCol w="216000"/>
                <a:gridCol w="2311560"/>
              </a:tblGrid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7028640" y="227664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ج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61760" y="227664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الاس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88320" y="227664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نوع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71640" y="2276640"/>
            <a:ext cx="154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علامة إعراب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41400" y="2421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90520" y="2421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00720" y="3500280"/>
            <a:ext cx="2322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( هـ منذ </a:t>
            </a:r>
            <a:r>
              <a:rPr b="1" lang="ar-SA" sz="1800" spc="-1" strike="noStrike">
                <a:solidFill>
                  <a:srgbClr val="990000"/>
                </a:solidFill>
                <a:latin typeface="Arial"/>
              </a:rPr>
              <a:t>ذلك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الحين أدركت أنَّ عليَّ أنْ أقرأ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54920" y="342900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ذل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0360" y="3429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12640" y="350028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السك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3357720"/>
            <a:ext cx="24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اسم اشارة  مبني على السكون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5280" y="342900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40360" y="4437000"/>
            <a:ext cx="26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(   و) 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/ ما</a:t>
            </a:r>
            <a:r>
              <a:rPr b="1" lang="ar-SA" sz="1800" spc="-1" strike="noStrike">
                <a:solidFill>
                  <a:srgbClr val="990000"/>
                </a:solidFill>
                <a:latin typeface="Arial"/>
              </a:rPr>
              <a:t>هذا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أتعجزو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عن </a:t>
            </a:r>
            <a:r>
              <a:rPr b="1" lang="ar-SA" sz="1800" spc="-1" strike="noStrike">
                <a:solidFill>
                  <a:srgbClr val="990000"/>
                </a:solidFill>
                <a:latin typeface="Arial"/>
              </a:rPr>
              <a:t>هذه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الأسئلة ؟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60320" y="450864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هذ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9900"/>
                </a:solidFill>
                <a:latin typeface="Arial"/>
              </a:rPr>
              <a:t>هذ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15520" y="4437000"/>
            <a:ext cx="12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اس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اشا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4508640"/>
            <a:ext cx="11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الفت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8360" y="4076640"/>
            <a:ext cx="25668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اسم اشارة مبني على الفتح في محل رفع خ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سم  اشارة  مبني على الكسر في محل جر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443700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516640"/>
            <a:ext cx="244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( و) 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عجَزنا عن إجابة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cc3300"/>
                </a:solidFill>
                <a:latin typeface="Arial"/>
              </a:rPr>
              <a:t>أحدَ عشرَ 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سؤالا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75840" y="566100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أحد عش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95640" y="551664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عد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9900"/>
                </a:solidFill>
                <a:latin typeface="Arial"/>
              </a:rPr>
              <a:t>مرك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87640" y="5589720"/>
            <a:ext cx="127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الفت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5589720"/>
            <a:ext cx="2448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عدد مركب مبني على فتح الجزأين   وعشر لامحل له من الإعرا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8360" y="566100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30920" y="3357720"/>
            <a:ext cx="105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6600"/>
                </a:solidFill>
                <a:latin typeface="Arial"/>
              </a:rPr>
              <a:t>اس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اشا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03280" y="220500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إعراب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6156360" y="0"/>
            <a:ext cx="2663640" cy="907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de0202"/>
                </a:solidFill>
                <a:latin typeface="Arial"/>
                <a:cs typeface="MCS Taybah S_U normal."/>
              </a:rPr>
              <a:t>الأمث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59280" y="1197000"/>
            <a:ext cx="33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 (ز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/ </a:t>
            </a: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لم </a:t>
            </a: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يُجِب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836640"/>
            <a:ext cx="38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/ </a:t>
            </a: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ث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سألنا المقدَّم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3640" y="1700280"/>
            <a:ext cx="367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/</a:t>
            </a: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فأجاب زميلي </a:t>
            </a: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ع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السؤا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95280" y="1986120"/>
          <a:ext cx="8445600" cy="4545000"/>
        </p:xfrm>
        <a:graphic>
          <a:graphicData uri="http://schemas.openxmlformats.org/drawingml/2006/table">
            <a:tbl>
              <a:tblPr/>
              <a:tblGrid>
                <a:gridCol w="2924640"/>
                <a:gridCol w="1157400"/>
                <a:gridCol w="884880"/>
                <a:gridCol w="1008000"/>
                <a:gridCol w="216000"/>
                <a:gridCol w="225468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7093800" y="24670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ج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31160" y="234936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الحر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5960" y="23493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نوع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32000" y="2349360"/>
            <a:ext cx="154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علامة إعراب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09680" y="234936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إعراب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8880" y="2421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2000" y="3573360"/>
            <a:ext cx="26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لم </a:t>
            </a: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يُجِ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ث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سألنا المقدَّ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01520" y="3427560"/>
            <a:ext cx="6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202"/>
                </a:solidFill>
                <a:latin typeface="Arial"/>
              </a:rPr>
              <a:t> ل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00720" y="3429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202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48000" y="350028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السك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3500280"/>
            <a:ext cx="29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حرف جزم مبني على السكون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5280" y="350028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80000" y="4437000"/>
            <a:ext cx="29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98280" y="4363920"/>
            <a:ext cx="7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ث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27640" y="4365720"/>
            <a:ext cx="93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02"/>
                </a:solidFill>
                <a:latin typeface="Arial"/>
              </a:rPr>
              <a:t>  حرف عط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75800" y="443700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الفت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465300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04000" y="5661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/</a:t>
            </a:r>
            <a:r>
              <a:rPr b="1" lang="hi-IN" sz="1800" spc="-1" strike="noStrike">
                <a:solidFill>
                  <a:srgbClr val="990000"/>
                </a:solidFill>
                <a:latin typeface="Arial"/>
              </a:rPr>
              <a:t>ف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أجاب زميلي </a:t>
            </a:r>
            <a:r>
              <a:rPr b="1" lang="hi-IN" sz="1800" spc="-1" strike="noStrike">
                <a:solidFill>
                  <a:srgbClr val="990000"/>
                </a:solidFill>
                <a:latin typeface="Arial"/>
              </a:rPr>
              <a:t>عن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السؤال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de020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14760" y="5589720"/>
            <a:ext cx="8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202"/>
                </a:solidFill>
                <a:latin typeface="Arial"/>
              </a:rPr>
              <a:t>  الف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de0202"/>
                </a:solidFill>
                <a:latin typeface="Arial"/>
              </a:rPr>
              <a:t>ع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5516640"/>
            <a:ext cx="122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0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e0202"/>
                </a:solidFill>
                <a:latin typeface="Arial"/>
              </a:rPr>
              <a:t> حرف عط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de0202"/>
                </a:solidFill>
                <a:latin typeface="Arial"/>
              </a:rPr>
              <a:t>حرف ج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10480" y="5589720"/>
            <a:ext cx="13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 الفت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cc00"/>
                </a:solidFill>
                <a:latin typeface="Arial"/>
              </a:rPr>
              <a:t>السك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5589720"/>
            <a:ext cx="256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حرف عطف مبني على الفتح.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573408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8360" y="45086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حرف عطف مبني على الفتح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6165720"/>
            <a:ext cx="28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حرف جر مبني على السكو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41320" y="3357720"/>
            <a:ext cx="9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حر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جز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 rot="20687400">
            <a:off x="395280" y="4508640"/>
            <a:ext cx="3094200" cy="16700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816360" cy="2089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3203640" y="2637000"/>
            <a:ext cx="3313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حروف كلهامبنية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 rot="20687400">
            <a:off x="10800" y="789120"/>
            <a:ext cx="3554280" cy="14540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 rot="20687400">
            <a:off x="5364000" y="475920"/>
            <a:ext cx="3564000" cy="14540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 rot="20687400">
            <a:off x="6316200" y="3438360"/>
            <a:ext cx="2843280" cy="16416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3564000" y="5229360"/>
            <a:ext cx="2808360" cy="1454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 rot="20526600">
            <a:off x="6141240" y="1188000"/>
            <a:ext cx="200844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hi-IN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إن الشرط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20526600">
            <a:off x="1028160" y="1474920"/>
            <a:ext cx="18777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hi-IN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روف العط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21270600">
            <a:off x="4169160" y="5875560"/>
            <a:ext cx="1500120" cy="1313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hi-IN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روف جزم الفعل المضار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20387400">
            <a:off x="1151640" y="5305320"/>
            <a:ext cx="1779480" cy="10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hi-IN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روف نصب  الفعل المضار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20224200">
            <a:off x="6936840" y="4064400"/>
            <a:ext cx="1800360" cy="10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hi-IN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رفي الاستفها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هل والهمز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 rot="20687400">
            <a:off x="-180720" y="2565360"/>
            <a:ext cx="3094200" cy="16700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 rot="20101800">
            <a:off x="547560" y="3423960"/>
            <a:ext cx="186228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hi-IN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إنَّ وأخوات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 rot="20687400">
            <a:off x="395280" y="4508640"/>
            <a:ext cx="3094200" cy="16700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2843280" y="2492280"/>
            <a:ext cx="3816360" cy="2089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3419640" y="2997360"/>
            <a:ext cx="30985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أسماء المبنية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 rot="20687400">
            <a:off x="178920" y="475920"/>
            <a:ext cx="3554640" cy="14540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 rot="20687400">
            <a:off x="5998680" y="390240"/>
            <a:ext cx="2916360" cy="14540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 rot="20687400">
            <a:off x="3635280" y="333000"/>
            <a:ext cx="2309760" cy="14540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6"/>
          <a:stretch/>
        </p:blipFill>
        <p:spPr>
          <a:xfrm>
            <a:off x="3635280" y="4653000"/>
            <a:ext cx="2808360" cy="1454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 rot="20193000">
            <a:off x="6758280" y="1115640"/>
            <a:ext cx="14526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ضمائ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20193000">
            <a:off x="1116000" y="1109880"/>
            <a:ext cx="187812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hi-IN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سماء الاستفه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1270600">
            <a:off x="4229280" y="5372640"/>
            <a:ext cx="150012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سماءالإشا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20387400">
            <a:off x="1099080" y="5315040"/>
            <a:ext cx="177948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أعدادالمركب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20224200">
            <a:off x="4067640" y="1052640"/>
            <a:ext cx="151272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hi-IN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أسماء الموصو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7"/>
          <a:stretch/>
        </p:blipFill>
        <p:spPr>
          <a:xfrm rot="20687400">
            <a:off x="-180720" y="2565360"/>
            <a:ext cx="3094200" cy="16700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 rot="20101800">
            <a:off x="547560" y="3423960"/>
            <a:ext cx="186228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سماءالشر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0920" y="3500280"/>
            <a:ext cx="555840" cy="698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4149720"/>
            <a:ext cx="555480" cy="698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ت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68360" y="1484280"/>
            <a:ext cx="555840" cy="698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16000" y="3933720"/>
            <a:ext cx="555480" cy="698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0049600">
            <a:off x="2201400" y="5621040"/>
            <a:ext cx="1060560" cy="698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211640" y="5950080"/>
            <a:ext cx="700200" cy="698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ؤ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35640" y="5734080"/>
            <a:ext cx="700200" cy="698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ذ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88000" y="5661000"/>
            <a:ext cx="699840" cy="698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ذ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20488800">
            <a:off x="1402920" y="6021000"/>
            <a:ext cx="936720" cy="698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ل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76720" y="1557360"/>
            <a:ext cx="555840" cy="698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508720" y="1268280"/>
            <a:ext cx="684000" cy="698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ذ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1700280"/>
            <a:ext cx="555480" cy="698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ذ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24360" y="1773360"/>
            <a:ext cx="718920" cy="698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لات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71640" y="1268280"/>
            <a:ext cx="555840" cy="698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19280" y="3789360"/>
            <a:ext cx="555480" cy="698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763640" y="1628640"/>
            <a:ext cx="555840" cy="698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ت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58920" y="1844640"/>
            <a:ext cx="555480" cy="698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627280" y="1844640"/>
            <a:ext cx="555480" cy="698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ي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124000" y="1989000"/>
            <a:ext cx="555840" cy="698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20049600">
            <a:off x="7596000" y="1413000"/>
            <a:ext cx="1060200" cy="698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فصل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20049600">
            <a:off x="6659280" y="1844640"/>
            <a:ext cx="1060200" cy="698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تصل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24720" y="2205000"/>
            <a:ext cx="792360" cy="79236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اونح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متكل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278920" y="1773360"/>
            <a:ext cx="865080" cy="1081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ت-أنتِ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تما-أنت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مخاط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88000" y="2565360"/>
            <a:ext cx="1081080" cy="9349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-هي-هما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-ه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غائ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20398800">
            <a:off x="7439040" y="2852280"/>
            <a:ext cx="1692360" cy="1008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مائر الرف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i-IN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نفصل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88360" y="3716280"/>
            <a:ext cx="555480" cy="698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ي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667640" y="4365720"/>
            <a:ext cx="555480" cy="698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ياه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380360" y="3860640"/>
            <a:ext cx="555480" cy="698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يا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77080" y="3860640"/>
            <a:ext cx="555480" cy="698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يا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244000" y="4292640"/>
            <a:ext cx="555480" cy="698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ياك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885080" y="3789360"/>
            <a:ext cx="555480" cy="698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يا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93080" y="4437000"/>
            <a:ext cx="555480" cy="698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ياك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20398800">
            <a:off x="7451640" y="4652640"/>
            <a:ext cx="1692360" cy="1008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مائر الرف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i-IN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تصل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588520" y="5373720"/>
            <a:ext cx="555480" cy="6984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اع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028000" y="5589720"/>
            <a:ext cx="555480" cy="6984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اع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04000" y="5950080"/>
            <a:ext cx="700200" cy="6984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جما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093080" y="5373720"/>
            <a:ext cx="699840" cy="6984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ل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ثن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43640" y="5445000"/>
            <a:ext cx="700200" cy="69876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i-IN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اطب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443800" y="5950080"/>
            <a:ext cx="700200" cy="6984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hi-IN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سو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24720" y="6159600"/>
            <a:ext cx="700200" cy="6984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  ه هـ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556000" y="1484280"/>
            <a:ext cx="4968720" cy="331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68360" y="3500280"/>
            <a:ext cx="1008360" cy="86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916360" y="4292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س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16720" y="1341360"/>
            <a:ext cx="17272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ما يظه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آخر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95640" y="458136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ت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292720" y="4508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ك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59640" y="400536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ض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24360" y="3789360"/>
            <a:ext cx="2232000" cy="836640"/>
          </a:xfrm>
          <a:custGeom>
            <a:avLst/>
            <a:gdLst>
              <a:gd name="textAreaLeft" fmla="*/ 524520 w 2232000"/>
              <a:gd name="textAreaRight" fmla="*/ 1706040 w 2232000"/>
              <a:gd name="textAreaTop" fmla="*/ 98280 h 836640"/>
              <a:gd name="textAreaBottom" fmla="*/ 524880 h 836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6920" y="404640"/>
            <a:ext cx="1225800" cy="9860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348000" y="1628640"/>
            <a:ext cx="3456000" cy="18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42699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يبنى الاسم أوالحر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042920" y="549360"/>
          <a:ext cx="808200" cy="69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549360"/>
                    <a:ext cx="8082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 txBox="1"/>
          <p:nvPr/>
        </p:nvSpPr>
        <p:spPr>
          <a:xfrm>
            <a:off x="611280" y="5516640"/>
            <a:ext cx="187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hi-IN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إنجاز المعلمة</a:t>
            </a:r>
            <a:endParaRPr b="1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زهور أزهر</a:t>
            </a:r>
            <a:endParaRPr b="1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716360" y="3789360"/>
            <a:ext cx="7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على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7" name=""/>
          <p:cNvSpPr/>
          <p:nvPr/>
        </p:nvSpPr>
        <p:spPr>
          <a:xfrm rot="10800000">
            <a:off x="3419640" y="6021360"/>
            <a:ext cx="2232000" cy="836640"/>
          </a:xfrm>
          <a:custGeom>
            <a:avLst/>
            <a:gdLst>
              <a:gd name="textAreaLeft" fmla="*/ 524520 w 2232000"/>
              <a:gd name="textAreaRight" fmla="*/ 1706040 w 2232000"/>
              <a:gd name="textAreaTop" fmla="*/ 98280 h 836640"/>
              <a:gd name="textAreaBottom" fmla="*/ 524880 h 836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>
            <a:lum bright="24000"/>
          </a:blip>
          <a:stretch/>
        </p:blipFill>
        <p:spPr>
          <a:xfrm rot="19148400">
            <a:off x="5773320" y="-479520"/>
            <a:ext cx="3575160" cy="5029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 rot="20619000">
            <a:off x="-334800" y="1937880"/>
            <a:ext cx="8840520" cy="387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      </a:t>
            </a:r>
            <a:r>
              <a:rPr b="0" lang="hi-IN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والآن مع اوراق العمل</a:t>
            </a: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                                                                                      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    </a:t>
            </a:r>
            <a:r>
              <a:rPr b="0" lang="hi-IN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تي عززت بها هذا الدرس</a:t>
            </a: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2658960" cy="4114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 rot="21294600">
            <a:off x="468360" y="4724280"/>
            <a:ext cx="2448000" cy="1222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هادة تقدي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حت الطالبة شهادة تقدير لتفوقها في اللغة العرب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765000"/>
            <a:ext cx="3772080" cy="1371600"/>
          </a:xfrm>
          <a:prstGeom prst="cloudCallout">
            <a:avLst>
              <a:gd name="adj1" fmla="val -79421"/>
              <a:gd name="adj2" fmla="val 102662"/>
            </a:avLst>
          </a:prstGeom>
          <a:gradFill rotWithShape="0">
            <a:gsLst>
              <a:gs pos="0">
                <a:srgbClr val="ff99cc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قد اعطتني المعلمة هذه الشهادة لأني متفوقة هل تريدين الحصول على شهادة مثلي ؟ إذاً حلى هذا الاختبار البسيط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661480" y="18792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 u="sng">
                <a:solidFill>
                  <a:srgbClr val="ff0000"/>
                </a:solidFill>
                <a:uFillTx/>
                <a:latin typeface="Times New Roman"/>
                <a:cs typeface="Times New Roman"/>
              </a:rPr>
              <a:t>ورقة 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205360" y="2343240"/>
            <a:ext cx="5895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90000"/>
                </a:solidFill>
                <a:latin typeface="Arial"/>
              </a:rPr>
              <a:t>الأسماء المبنية ه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.....................و.......................و........................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.........................و..........................و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...................و..........................و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21960" y="4167360"/>
            <a:ext cx="604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Arial"/>
              </a:rPr>
              <a:t>أي من  الأسماء يستفهم به عن المكان 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..................................................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1547640" y="1125360"/>
            <a:ext cx="7143840" cy="45118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2843280" y="2133720"/>
            <a:ext cx="3600360" cy="1923480"/>
          </a:xfrm>
          <a:prstGeom prst="rect">
            <a:avLst/>
          </a:prstGeom>
          <a:solidFill>
            <a:srgbClr val="caea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de02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de0202"/>
                </a:solidFill>
                <a:latin typeface="Arial"/>
              </a:rPr>
              <a:t>مثلي في جملة مفيد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de02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02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de0202"/>
                </a:solidFill>
                <a:latin typeface="Arial"/>
              </a:rPr>
              <a:t>/لحرف مبني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de02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02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de0202"/>
                </a:solidFill>
                <a:latin typeface="Arial"/>
              </a:rPr>
              <a:t>/ اسم مبني من أسماء الاستفها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de02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9703400">
            <a:off x="1139400" y="522000"/>
            <a:ext cx="1440000" cy="1191240"/>
          </a:xfrm>
          <a:prstGeom prst="rect">
            <a:avLst/>
          </a:prstGeom>
          <a:solidFill>
            <a:srgbClr val="caea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ورقة 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-1332000" y="220500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CS Jeddah S_U normal.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MCS Jeddah S_U normal.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4572000" y="3429000"/>
            <a:ext cx="2952720" cy="19227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de0202"/>
                </a:solidFill>
                <a:latin typeface="Arial"/>
              </a:rPr>
              <a:t>الواج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3399"/>
                </a:solidFill>
                <a:latin typeface="Arial"/>
              </a:rPr>
              <a:t>التدريب الثان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3399"/>
                </a:solidFill>
                <a:latin typeface="Arial"/>
              </a:rPr>
              <a:t>التدريب الثال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3399"/>
                </a:solidFill>
                <a:latin typeface="Arial"/>
              </a:rPr>
              <a:t>التدريب الراب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3399"/>
                </a:solidFill>
                <a:latin typeface="Arial"/>
              </a:rPr>
              <a:t>التدريب الخام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7180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94960" y="357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المب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484360" y="2421000"/>
            <a:ext cx="144000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1680" y="35002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المب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81600" y="34480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لمعرب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274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476360" y="692280"/>
            <a:ext cx="8064360" cy="45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      </a:t>
            </a: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أقسام  الكلمة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T Bold Stars"/>
              <a:ea typeface="PT Bold Star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  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T Bold Stars"/>
              <a:ea typeface="PT Bold Stars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58920" y="3933720"/>
            <a:ext cx="335268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المبنية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3280" y="3357720"/>
            <a:ext cx="33530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المعربة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>
            <a:hlinkClick r:id="" action="ppaction://hlinkshowjump?jump=endshow"/>
          </p:cNvPr>
          <p:cNvSpPr/>
          <p:nvPr/>
        </p:nvSpPr>
        <p:spPr>
          <a:xfrm>
            <a:off x="7308720" y="5805360"/>
            <a:ext cx="1440000" cy="792360"/>
          </a:xfrm>
          <a:prstGeom prst="noSmoking">
            <a:avLst>
              <a:gd name="adj" fmla="val 15625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Times New Roman"/>
                <a:cs typeface="MCS Taybah S_U normal."/>
              </a:rPr>
              <a:t>خرو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>
            <a:lum bright="24000"/>
          </a:blip>
          <a:stretch/>
        </p:blipFill>
        <p:spPr>
          <a:xfrm rot="19148400">
            <a:off x="5773320" y="-479520"/>
            <a:ext cx="3575160" cy="50292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 rot="20619000">
            <a:off x="0" y="549360"/>
            <a:ext cx="671976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      </a:t>
            </a:r>
            <a:r>
              <a:rPr b="0" lang="hi-I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والآن مع اوراق العمل</a:t>
            </a:r>
            <a:r>
              <a:rPr b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                   </a:t>
            </a:r>
            <a:r>
              <a:rPr b="0" lang="hi-I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تي</a:t>
            </a:r>
            <a:endParaRPr b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عززت بها هذا الدرس </a:t>
            </a:r>
            <a:endParaRPr b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endParaRPr b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250920" y="-747720"/>
            <a:ext cx="9144000" cy="79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1640" cy="71262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4140360" y="765000"/>
            <a:ext cx="3887640" cy="34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694960" y="357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المب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627280" y="907920"/>
            <a:ext cx="626436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      </a:t>
            </a: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معلمتي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T Bold Stars"/>
              <a:ea typeface="PT Bold Star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ماذا نعني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T Bold Stars"/>
              <a:ea typeface="PT Bold Star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بالمعرب والمبني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T Bold Stars"/>
              <a:ea typeface="PT Bold Star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  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T Bold Stars"/>
              <a:ea typeface="PT Bold Stars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484360" y="2421000"/>
            <a:ext cx="144000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71680" y="35002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المب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81600" y="34480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لمعرب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2158920" cy="5575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24000" y="2565360"/>
            <a:ext cx="328428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694960" y="357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المب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19280" y="907920"/>
            <a:ext cx="752472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       </a:t>
            </a: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هندُ تنظم غرفتها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T Bold Stars"/>
              <a:ea typeface="PT Bold Star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      </a:t>
            </a: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فَهِمت هندُ الدرس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.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T Bold Stars"/>
              <a:ea typeface="PT Bold Star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      </a:t>
            </a: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سلمتُ على هند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T Bold Stars"/>
              <a:ea typeface="PT Bold Star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      </a:t>
            </a: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كافأت المعلمة هند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T Bold Stars"/>
              <a:ea typeface="PT Bold Star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  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T Bold Stars"/>
              <a:ea typeface="PT Bold Stars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484360" y="2421000"/>
            <a:ext cx="144000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71680" y="35002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المب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81600" y="34480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لمعرب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694960" y="357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المب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19280" y="907920"/>
            <a:ext cx="752472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        </a:t>
            </a: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هذهِ تنظم غرفتها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T Bold Stars"/>
              <a:ea typeface="PT Bold Star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      </a:t>
            </a: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فَهِمت  هذهِ الدرس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.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T Bold Stars"/>
              <a:ea typeface="PT Bold Star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      </a:t>
            </a: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سلمتُ على  هذهِ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T Bold Stars"/>
              <a:ea typeface="PT Bold Star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    </a:t>
            </a: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كافأت المعلمة هذهِ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T Bold Stars"/>
              <a:ea typeface="PT Bold Star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T Bold Stars"/>
              </a:rPr>
              <a:t>  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T Bold Stars"/>
              <a:ea typeface="PT Bold Star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484360" y="2421000"/>
            <a:ext cx="144000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1680" y="35002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المب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81600" y="34480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لمعرب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828360" cy="7316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63920" y="465300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مصادر الأفعال الثلاث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2701800" cy="1052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412680" y="7840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لأمث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236000" y="333360"/>
            <a:ext cx="1726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أمثلة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2133720"/>
            <a:ext cx="385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شعر</a:t>
            </a:r>
            <a:r>
              <a:rPr b="1" lang="hi-IN" sz="2800" spc="-1" strike="noStrike">
                <a:solidFill>
                  <a:srgbClr val="cc3300"/>
                </a:solidFill>
                <a:latin typeface="Arial"/>
              </a:rPr>
              <a:t>نا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بالخج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95440" y="907920"/>
            <a:ext cx="29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hi-IN" sz="2400" spc="-1" strike="noStrike">
                <a:solidFill>
                  <a:srgbClr val="cc3300"/>
                </a:solidFill>
                <a:latin typeface="Arial"/>
              </a:rPr>
              <a:t>أنا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في الصف الثالث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2565360"/>
            <a:ext cx="4248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 عقدت</a:t>
            </a: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ها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مدرست</a:t>
            </a: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321300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  </a:t>
            </a: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منْ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اخترع جهاز الهاتف ؟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3789360"/>
            <a:ext cx="420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ما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الذي صححه العالم المسلم  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57520" y="436572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/   كي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ينتقل الصوت  ؟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8360" y="1052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(أ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32000" y="5013360"/>
            <a:ext cx="44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    ما </a:t>
            </a:r>
            <a:r>
              <a:rPr b="1" lang="hi-IN" sz="2800" spc="-1" strike="noStrike">
                <a:solidFill>
                  <a:srgbClr val="990000"/>
                </a:solidFill>
                <a:latin typeface="Arial"/>
              </a:rPr>
              <a:t>الذي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صححه ابن الهيثم ؟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44000" y="314172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(ب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56720" y="48690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( ج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00280" y="5445000"/>
            <a:ext cx="70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  سمع مدير المدرسة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التي </a:t>
            </a: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كنا فيها بذلك 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828360" cy="731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63920" y="465300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مصادر الأفعال الثلاث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2701800" cy="1052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412680" y="7840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لأمث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236000" y="333360"/>
            <a:ext cx="1726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أمثلة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3716280"/>
            <a:ext cx="385128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hi-IN" sz="3200" spc="-1" strike="noStrike">
                <a:solidFill>
                  <a:srgbClr val="990000"/>
                </a:solidFill>
                <a:latin typeface="Arial"/>
              </a:rPr>
              <a:t>لم </a:t>
            </a: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يُجِب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26800" y="2657520"/>
            <a:ext cx="57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عجَزنا عن إجابة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أحدَ عشرَ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سؤالا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4292640"/>
            <a:ext cx="42480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990000"/>
                </a:solidFill>
                <a:latin typeface="Arial"/>
              </a:rPr>
              <a:t>ث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سألنا المقدَّم .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24360" y="508464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   فأجاب زميلي </a:t>
            </a:r>
            <a:r>
              <a:rPr b="1" lang="hi-IN" sz="3200" spc="-1" strike="noStrike">
                <a:solidFill>
                  <a:srgbClr val="990000"/>
                </a:solidFill>
                <a:latin typeface="Arial"/>
              </a:rPr>
              <a:t>ع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السؤا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459640" y="2565360"/>
            <a:ext cx="9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( و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17080" y="335772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( 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35840" y="1216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68360" y="981000"/>
            <a:ext cx="655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99cc00"/>
                </a:solidFill>
                <a:latin typeface="Arial"/>
              </a:rPr>
              <a:t>( هـ )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نذ </a:t>
            </a:r>
            <a:r>
              <a:rPr b="1" lang="ar-SA" sz="3200" spc="-1" strike="noStrike">
                <a:solidFill>
                  <a:srgbClr val="990000"/>
                </a:solidFill>
                <a:latin typeface="Arial"/>
              </a:rPr>
              <a:t>ذلك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حين أدركت أنَّ عليَّ أنْ أقرأ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/  ما</a:t>
            </a:r>
            <a:r>
              <a:rPr b="1" lang="ar-SA" sz="3200" spc="-1" strike="noStrike">
                <a:solidFill>
                  <a:srgbClr val="990000"/>
                </a:solidFill>
                <a:latin typeface="Arial"/>
              </a:rPr>
              <a:t>هذا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أتعجزون عن </a:t>
            </a:r>
            <a:r>
              <a:rPr b="1" lang="ar-SA" sz="3200" spc="-1" strike="noStrike">
                <a:solidFill>
                  <a:srgbClr val="990000"/>
                </a:solidFill>
                <a:latin typeface="Arial"/>
              </a:rPr>
              <a:t>هذه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أسئلة ؟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6156360" y="0"/>
            <a:ext cx="2663640" cy="907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de0202"/>
                </a:solidFill>
                <a:latin typeface="Arial"/>
                <a:cs typeface="MCS Taybah S_U normal."/>
              </a:rPr>
              <a:t>الأمث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981000"/>
            <a:ext cx="33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/ </a:t>
            </a:r>
            <a:r>
              <a:rPr b="1" lang="hi-IN" sz="1800" spc="-1" strike="noStrike">
                <a:solidFill>
                  <a:srgbClr val="cc3300"/>
                </a:solidFill>
                <a:latin typeface="Arial"/>
              </a:rPr>
              <a:t>أنا 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في الصف الثالث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981000"/>
            <a:ext cx="38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/ 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شعر</a:t>
            </a:r>
            <a:r>
              <a:rPr b="1" lang="hi-IN" sz="1800" spc="-1" strike="noStrike">
                <a:solidFill>
                  <a:srgbClr val="cc3300"/>
                </a:solidFill>
                <a:latin typeface="Arial"/>
              </a:rPr>
              <a:t>نا 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بالخج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3640" y="1628640"/>
            <a:ext cx="367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/</a:t>
            </a: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عقدت</a:t>
            </a:r>
            <a:r>
              <a:rPr b="1" lang="hi-IN" sz="2000" spc="-1" strike="noStrike">
                <a:solidFill>
                  <a:srgbClr val="990000"/>
                </a:solidFill>
                <a:latin typeface="Arial"/>
              </a:rPr>
              <a:t>ها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مدرست</a:t>
            </a:r>
            <a:r>
              <a:rPr b="1" lang="hi-IN" sz="2000" spc="-1" strike="noStrike">
                <a:solidFill>
                  <a:srgbClr val="99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9280" y="1986120"/>
          <a:ext cx="8445600" cy="4871880"/>
        </p:xfrm>
        <a:graphic>
          <a:graphicData uri="http://schemas.openxmlformats.org/drawingml/2006/table">
            <a:tbl>
              <a:tblPr/>
              <a:tblGrid>
                <a:gridCol w="2924640"/>
                <a:gridCol w="1157040"/>
                <a:gridCol w="884880"/>
                <a:gridCol w="1008360"/>
                <a:gridCol w="216000"/>
                <a:gridCol w="2254680"/>
              </a:tblGrid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6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شعر</a:t>
                      </a:r>
                      <a:r>
                        <a:rPr b="1" lang="ar-SA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ا 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الخجل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قدت</a:t>
                      </a:r>
                      <a:r>
                        <a:rPr b="1" lang="ar-SA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ها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مدرست</a:t>
                      </a:r>
                      <a:r>
                        <a:rPr b="1" lang="ar-SA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ي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7093800" y="24670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ج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7480" y="239544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الاس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26840" y="24210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نوع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2421000"/>
            <a:ext cx="154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علامة إعراب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239544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إعراب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18880" y="2421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357336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hi-IN" sz="1800" spc="-1" strike="noStrike">
                <a:solidFill>
                  <a:srgbClr val="cc3300"/>
                </a:solidFill>
                <a:latin typeface="Arial"/>
              </a:rPr>
              <a:t>أنا 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في الصف الثالث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280" y="3521160"/>
            <a:ext cx="4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202"/>
                </a:solidFill>
                <a:latin typeface="Arial"/>
              </a:rPr>
              <a:t> أن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1640" y="3500280"/>
            <a:ext cx="86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202"/>
                </a:solidFill>
                <a:latin typeface="Arial"/>
              </a:rPr>
              <a:t> ضم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de0202"/>
                </a:solidFill>
                <a:latin typeface="Arial"/>
              </a:rPr>
              <a:t>منف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357336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السك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3500280"/>
            <a:ext cx="29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ضمير منفصل مبني في محل رفع                مبتد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350028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80000" y="4437000"/>
            <a:ext cx="29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35320" y="4437000"/>
            <a:ext cx="126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ن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اعلين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4365720"/>
            <a:ext cx="93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02"/>
                </a:solidFill>
                <a:latin typeface="Arial"/>
              </a:rPr>
              <a:t> ضم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de0202"/>
                </a:solidFill>
                <a:latin typeface="Arial"/>
              </a:rPr>
              <a:t>متص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56480" y="446076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الفت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465300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35640" y="5589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   </a:t>
            </a:r>
            <a:r>
              <a:rPr b="1" lang="en-US" sz="1800" spc="-1" strike="noStrike">
                <a:solidFill>
                  <a:srgbClr val="de020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1240" y="5734080"/>
            <a:ext cx="7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202"/>
                </a:solidFill>
                <a:latin typeface="Arial"/>
              </a:rPr>
              <a:t> اله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de0202"/>
                </a:solidFill>
                <a:latin typeface="Arial"/>
              </a:rPr>
              <a:t>الي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05520" y="5734080"/>
            <a:ext cx="86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202"/>
                </a:solidFill>
                <a:latin typeface="Arial"/>
              </a:rPr>
              <a:t> </a:t>
            </a:r>
            <a:r>
              <a:rPr b="1" lang="hi-IN" sz="1800" spc="-1" strike="noStrike">
                <a:solidFill>
                  <a:srgbClr val="de0202"/>
                </a:solidFill>
                <a:latin typeface="Arial"/>
              </a:rPr>
              <a:t>ضمي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de0202"/>
                </a:solidFill>
                <a:latin typeface="Arial"/>
              </a:rPr>
              <a:t>متص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39560" y="57340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الض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589720"/>
            <a:ext cx="3035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ضمير متصل مبني في  نصب مفعول به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573408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465300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ضمير متصل مبني في محل رفع               فاع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165720"/>
            <a:ext cx="28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ضمير متصل مبني في محل              جربالإضا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300720" y="0"/>
            <a:ext cx="2664000" cy="620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de0202"/>
                </a:solidFill>
                <a:latin typeface="Arial"/>
                <a:cs typeface="MCS Taybah S_U normal."/>
              </a:rPr>
              <a:t>تابع الأمث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0360" y="765000"/>
            <a:ext cx="456228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(ب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hi-IN" sz="1800" spc="-1" strike="noStrike">
                <a:solidFill>
                  <a:srgbClr val="990000"/>
                </a:solidFill>
                <a:latin typeface="Arial"/>
              </a:rPr>
              <a:t>منْ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اخترع جهاز الهاتف ؟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hi-IN" sz="1800" spc="-1" strike="noStrike">
                <a:solidFill>
                  <a:srgbClr val="990000"/>
                </a:solidFill>
                <a:latin typeface="Arial"/>
              </a:rPr>
              <a:t>ما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الذي صححه العالم المسلم  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1549440" y="765000"/>
            <a:ext cx="665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/   كي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ينتقل الصوت  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9640" y="1844640"/>
          <a:ext cx="8085240" cy="4670640"/>
        </p:xfrm>
        <a:graphic>
          <a:graphicData uri="http://schemas.openxmlformats.org/drawingml/2006/table">
            <a:tbl>
              <a:tblPr/>
              <a:tblGrid>
                <a:gridCol w="2446200"/>
                <a:gridCol w="1163520"/>
                <a:gridCol w="909720"/>
                <a:gridCol w="1038240"/>
                <a:gridCol w="216000"/>
                <a:gridCol w="2311560"/>
              </a:tblGrid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7028640" y="227664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ج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61760" y="227664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الاس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88320" y="227664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نوع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2276640"/>
            <a:ext cx="154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علامة إعراب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1400" y="2421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90520" y="2421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20400" y="3500280"/>
            <a:ext cx="3483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hi-IN" sz="1800" spc="-1" strike="noStrike">
                <a:solidFill>
                  <a:srgbClr val="990000"/>
                </a:solidFill>
                <a:latin typeface="Arial"/>
              </a:rPr>
              <a:t>منْ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اخترع جهاز الهاتف ؟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من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40360" y="3429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12640" y="350028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السك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3357720"/>
            <a:ext cx="24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اسم استفهام مبني على السكون في محل رفع مبتد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342900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4437000"/>
            <a:ext cx="24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hi-IN" sz="1800" spc="-1" strike="noStrike">
                <a:solidFill>
                  <a:srgbClr val="990000"/>
                </a:solidFill>
                <a:latin typeface="Arial"/>
              </a:rPr>
              <a:t>ما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الذي صححه العال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المسلم  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77040" y="45086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73600" y="443700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اس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9900"/>
                </a:solidFill>
                <a:latin typeface="Arial"/>
              </a:rPr>
              <a:t>استفه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87640" y="4508640"/>
            <a:ext cx="114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السك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4437000"/>
            <a:ext cx="23508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سم استفهام مبني على السكون في محل رفع مبتد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443700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72360" y="5734080"/>
            <a:ext cx="21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hi-IN" sz="1800" spc="-1" strike="noStrike">
                <a:solidFill>
                  <a:srgbClr val="990000"/>
                </a:solidFill>
                <a:latin typeface="Arial"/>
              </a:rPr>
              <a:t>كي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ينتقل الصوت  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05320" y="573408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كي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73240" y="55166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اس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استفه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87640" y="5589720"/>
            <a:ext cx="127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الفت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5589720"/>
            <a:ext cx="2448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سم استفهام مبني على الفتح في محل رفع مبتد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566100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19320" y="3357720"/>
            <a:ext cx="125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6600"/>
                </a:solidFill>
                <a:latin typeface="Arial"/>
              </a:rPr>
              <a:t>اس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6600"/>
                </a:solidFill>
                <a:latin typeface="Arial"/>
              </a:rPr>
              <a:t>استفها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2276640"/>
            <a:ext cx="15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إعراب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23:17:29Z</dcterms:created>
  <dc:creator>User</dc:creator>
  <dc:description/>
  <dc:language>en-US</dc:language>
  <cp:lastModifiedBy>User</cp:lastModifiedBy>
  <dcterms:modified xsi:type="dcterms:W3CDTF">2007-09-20T23:22:18Z</dcterms:modified>
  <cp:revision>3</cp:revision>
  <dc:subject/>
  <dc:title>الشريحة 1</dc:title>
</cp:coreProperties>
</file>