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5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FAC-F4AC-49DF-A2DC-0BDBCB4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C71-46E0-4F7D-9591-6C79F08C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006-6402-4E89-9A92-F220AE3E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B84-FBBF-44AC-9FE1-BE8ED3F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49A-7099-4C9B-B10F-30D9E86E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0ED-F526-4975-BC2F-EB9288EC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A353-BB3B-4456-8A00-A0EACFA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11DA-6202-4B06-A763-A2D5194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DDD2-1773-4713-A0FF-3CCE521A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91DC-41B2-4ABF-91FC-50584606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4C1-CCBD-42C4-BF0E-FAAAE55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28C-48F3-47E0-B4E7-4C404A4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97E-F575-498E-BD08-BAFC9EC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85B-FBD0-4747-AFFD-B02AE02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B70-6E23-49FA-B1D7-B045EC7D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EFC-3B34-425B-BEC7-4B4C4AF0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CC71-6ABA-4FD4-904A-D88114BB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C50-A1AD-4A39-9FFF-3BCF10C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8A7-75C2-47A4-B886-269B2C2E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F18-E6E3-44E9-804A-4116A30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DDD-FF54-448B-9AEB-63E52DC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491-4AFC-4581-9939-380E6DE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860-5572-4143-9BFC-1DEC4BE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B72-E73E-4121-8306-550AC31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E4C7-01E3-47D8-B2F5-D189864A14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295280"/>
            <a:ext cx="60958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29EA-F63A-44E5-A975-E769C2D6886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ALARM1.WAV" TargetMode="External"/><Relationship Id="rId4" Type="http://schemas.microsoft.com/office/2007/relationships/media" Target="file:///tmp/home/.config/libreoffice/4/user/gallery/ALARM1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file:///tmp/home/.config/libreoffice/4/user/gallery/PHONE.WAV" TargetMode="External"/><Relationship Id="rId4" Type="http://schemas.microsoft.com/office/2007/relationships/media" Target="file:///tmp/home/.config/libreoffice/4/user/gallery/PHON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audio" Target="file:///tmp/home/.config/libreoffice/4/user/gallery/PHONE2.WAV" TargetMode="External"/><Relationship Id="rId4" Type="http://schemas.microsoft.com/office/2007/relationships/media" Target="file:///tmp/home/.config/libreoffice/4/user/gallery/PHONE2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CHISEL.WAV" TargetMode="External"/><Relationship Id="rId4" Type="http://schemas.microsoft.com/office/2007/relationships/media" Target="file:///tmp/home/.config/libreoffice/4/user/gallery/CHISEL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PHONEON.WAV" TargetMode="External"/><Relationship Id="rId4" Type="http://schemas.microsoft.com/office/2007/relationships/media" Target="file:///tmp/home/.config/libreoffice/4/user/gallery/PHONEON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file:///tmp/home/.config/libreoffice/4/user/gallery/SUZHORN.WAV" TargetMode="External"/><Relationship Id="rId4" Type="http://schemas.microsoft.com/office/2007/relationships/media" Target="file:///tmp/home/.config/libreoffice/4/user/gallery/SUZHORN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0962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أذكري أنواع المعرفة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000" y="2204640"/>
            <a:ext cx="5861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عرفة أنواع كثيرة م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سم العلم – أحمد – فاطمة – مك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ضمير</a:t>
            </a:r>
            <a:r>
              <a:rPr b="1" lang="ar-QA" sz="4000" spc="-1" strike="noStrike">
                <a:solidFill>
                  <a:srgbClr val="0033cc"/>
                </a:solidFill>
                <a:latin typeface="Arial"/>
                <a:ea typeface="Arial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عرف ب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مضاف إلى معرف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لاسم الموص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سم الإش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376360" cy="262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771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الذي قابلته تشبه طيوري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489600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484280"/>
          <a:ext cx="7956720" cy="2664000"/>
        </p:xfrm>
        <a:graphic>
          <a:graphicData uri="http://schemas.openxmlformats.org/drawingml/2006/table">
            <a:tbl>
              <a:tblPr/>
              <a:tblGrid>
                <a:gridCol w="2652120"/>
                <a:gridCol w="2652120"/>
                <a:gridCol w="265248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ة الذي رأيته سريع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إسم موصو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الذ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5111640" cy="2121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8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أنشطة المصاحبة</a:t>
            </a:r>
            <a:br>
              <a:rPr sz="4000"/>
            </a:br>
            <a:r>
              <a:rPr b="1" lang="ar-QA" sz="4000" spc="-1" strike="noStrike">
                <a:solidFill>
                  <a:srgbClr val="0033cc"/>
                </a:solidFill>
                <a:latin typeface="Arial"/>
                <a:cs typeface="Arial"/>
              </a:rPr>
              <a:t>اجعل الأسماء النكرة معرفة بالإضافة وضعي كلا منها في جملة مفيد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درسة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ق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حديق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عيد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عمل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2520720" cy="18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نا أليفة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372280" cy="453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1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268280"/>
          <a:ext cx="8495640" cy="2619360"/>
        </p:xfrm>
        <a:graphic>
          <a:graphicData uri="http://schemas.openxmlformats.org/drawingml/2006/table">
            <a:tbl>
              <a:tblPr/>
              <a:tblGrid>
                <a:gridCol w="2831400"/>
                <a:gridCol w="2832120"/>
                <a:gridCol w="28321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تنا سريع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ضمي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40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ن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1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قاعد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إذا أضيف اسم نكرة إلى إحدى المعارف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كتسب منها التعريف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وأنواع المعارف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سم علم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رف بال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ضمائر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أسماء الإشار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أسماء الموصولة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المضاف إلى معرف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9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تقويم الختامي</a:t>
            </a:r>
            <a:br>
              <a:rPr sz="4000"/>
            </a:b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ين الأسماء المضافة إلى معرفة </a:t>
            </a:r>
            <a:br>
              <a:rPr sz="4000"/>
            </a:br>
            <a:r>
              <a:rPr b="1" lang="ar-QA" sz="4000" spc="-1" strike="noStrike">
                <a:solidFill>
                  <a:srgbClr val="993300"/>
                </a:solidFill>
                <a:latin typeface="Arial"/>
                <a:cs typeface="Arial"/>
              </a:rPr>
              <a:t>معلم الفصل يخلص في عمله ، وواجب هذا المعلم نحو وطنه أن يتفانى في عمله ، فجزاء الذي يخلص في أداء واجبه الثواب العظيم ، وأما من يتكاسل في أداء عمله فعقابه أليم</a:t>
            </a:r>
            <a:r>
              <a:rPr b="1" lang="ar-QA" sz="40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993300"/>
                </a:solidFill>
                <a:latin typeface="Arial"/>
                <a:ea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0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82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نتهى الدرس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إلى اللقاء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مع تحيات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معلمة اللغة العربية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46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619440" y="765000"/>
            <a:ext cx="368928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25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187280" y="1341360"/>
            <a:ext cx="597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مضاف إلى معرف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5400360" cy="28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000000"/>
                </a:solidFill>
                <a:latin typeface="Arial"/>
                <a:cs typeface="Arial"/>
              </a:rPr>
              <a:t>الأمثلة</a:t>
            </a:r>
            <a:br>
              <a:rPr sz="40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لنسور من طيور الأرض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محمد قوية الأرجل 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هذا مدربة تدريبا جيدا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 الذي قابلته تشبه طيوري</a:t>
            </a:r>
            <a:br>
              <a:rPr sz="4800"/>
            </a:b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طيورنا أليف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73672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993300"/>
                </a:solidFill>
                <a:latin typeface="Arial"/>
                <a:cs typeface="Arial"/>
              </a:rPr>
              <a:t>النسور من طيور الأرض</a:t>
            </a:r>
            <a:br>
              <a:rPr sz="40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6408720" cy="4568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20000" y="1341360"/>
            <a:ext cx="1873080" cy="28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628640"/>
          <a:ext cx="8353440" cy="216072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2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بيت الجيران واس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اسم معرف بأ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32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 الأر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464000" cy="25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 محمد قوية الأرجل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8360" y="1523880"/>
            <a:ext cx="5994360" cy="471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7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r>
              <a:rPr b="0" lang="ar-QA" sz="44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1" lang="ar-QA" sz="44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557360"/>
          <a:ext cx="8318160" cy="2592360"/>
        </p:xfrm>
        <a:graphic>
          <a:graphicData uri="http://schemas.openxmlformats.org/drawingml/2006/table">
            <a:tbl>
              <a:tblPr/>
              <a:tblGrid>
                <a:gridCol w="2772720"/>
                <a:gridCol w="2772720"/>
                <a:gridCol w="2772720"/>
              </a:tblGrid>
              <a:tr h="12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سيارة خالد س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عل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محم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3384360" cy="2192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2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993300"/>
                </a:solidFill>
                <a:latin typeface="Arial"/>
                <a:cs typeface="Arial"/>
              </a:rPr>
              <a:t>طيور هذا مدربة تدريبا جيدا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5371920" cy="453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الشرح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557360"/>
          <a:ext cx="8135640" cy="2519280"/>
        </p:xfrm>
        <a:graphic>
          <a:graphicData uri="http://schemas.openxmlformats.org/drawingml/2006/table">
            <a:tbl>
              <a:tblPr/>
              <a:tblGrid>
                <a:gridCol w="2711880"/>
                <a:gridCol w="2711880"/>
                <a:gridCol w="2711880"/>
              </a:tblGrid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أمثل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نوع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993300"/>
                          </a:solidFill>
                          <a:latin typeface="Arial"/>
                          <a:cs typeface="Arial"/>
                        </a:rPr>
                        <a:t>المضاف إلى معرف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كتاب هذا مفي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مضاف إلى إسم إشار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3600" spc="-1" strike="noStrike">
                          <a:solidFill>
                            <a:srgbClr val="0033cc"/>
                          </a:solidFill>
                          <a:latin typeface="Arial"/>
                          <a:cs typeface="Arial"/>
                        </a:rPr>
                        <a:t>طيورهذ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8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6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20:45:47Z</dcterms:created>
  <dc:creator>Administrator</dc:creator>
  <dc:description/>
  <dc:language>en-US</dc:language>
  <cp:lastModifiedBy>win xp</cp:lastModifiedBy>
  <dcterms:modified xsi:type="dcterms:W3CDTF">2006-02-21T07:03:53Z</dcterms:modified>
  <cp:revision>15</cp:revision>
  <dc:subject/>
  <dc:title>Title</dc:title>
</cp:coreProperties>
</file>