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70F-1187-4869-94CC-AA7109AA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281-7677-4680-B1F4-1CCA6730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8FF-0D45-4AE8-A2FD-B86B1AC7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A74-42EA-4019-8297-8195A010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2A59-52DD-46B8-A0E4-A5F13FCF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D18-9C0D-45F3-8E2A-5EEE61D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C97-83B9-4956-BCEC-4D41D662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664-967A-40F2-A12D-A6C2FFA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4FF6-BB78-4DC7-81E9-F0F432D4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78F9-F830-445C-953B-CAA8444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C8F-0666-4894-ABA7-9DC0AB44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658-0B4B-4854-915C-50264382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274E-B7C5-454B-BC34-8CDAEEE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3DE8-5E01-4C2D-A421-DF5EB98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1BAD-6971-4762-975D-C4632F42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F15A-CB8A-4FAA-AA5A-9B4E1952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0604-5E78-406F-9917-1C43849D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481-18F5-4ABE-BA6D-73DE830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F0F-F441-459F-AE61-84C9056F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1BA-F731-4B9A-8B7A-F8F5E16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1CF-90A5-49AE-9149-F4F298A4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533-D4C2-4C32-8A8F-E183A69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4CC-7F71-4882-BA87-DD56F85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FDF-45B8-4EDE-AEC7-3A05F21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517E-D9C7-4103-A799-FBC241858E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1BFC-EC80-402C-9757-2AA0583313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 rtl="1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 rtl="1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 rtl="1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cc99"/>
                </a:solidFill>
                <a:latin typeface="Arial"/>
                <a:cs typeface="Led Italic Font"/>
              </a:rPr>
              <a:t>نصب الفعل المضارع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20438400">
            <a:off x="4294080" y="2990880"/>
            <a:ext cx="4402080" cy="182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9360"/>
            <a:ext cx="8158320" cy="113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أين الفعل المضارع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imple Bold Jut Out"/>
              </a:rPr>
              <a:t>(تريدُ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هل سبق بأحد الحروف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imple Bold Jut Out"/>
              </a:rPr>
              <a:t>(لا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ما الموقع الإعرابي ل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الرف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cc"/>
                </a:solidFill>
                <a:latin typeface="Arial"/>
                <a:cs typeface="Monotype Koufi"/>
              </a:rPr>
              <a:t>أين الفعل المضارع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Monotype Koufi"/>
              </a:rPr>
              <a:t>تتعلم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Monotype Koufi"/>
              </a:rPr>
              <a:t>ما العلامة الإعرابية التي ظهرت على آخره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cc"/>
                </a:solidFill>
                <a:latin typeface="Arial"/>
                <a:cs typeface="Monotype Koufi"/>
              </a:rPr>
              <a:t>الفتح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66"/>
                </a:solidFill>
                <a:latin typeface="Arial"/>
                <a:cs typeface="Monotype Koufi"/>
              </a:rPr>
              <a:t>ما الذي سبق هذا الفعل حتى صار منصوبا بدلا أن يكون مرفوعا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Monotype Koufi"/>
              </a:rPr>
              <a:t>سبق بحرف نصب (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Led Italic Font"/>
              </a:rPr>
              <a:t>أ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Monotype Koufi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أ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Arial"/>
                <a:cs typeface="Monotype Koufi"/>
              </a:rPr>
              <a:t>أين الفعل المضارع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Monotype Koufi"/>
              </a:rPr>
              <a:t>أستسلم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Monotype Koufi"/>
              </a:rPr>
              <a:t>ما العلامة الإعرابية التي ظهرت على آخره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Arial"/>
                <a:cs typeface="Monotype Koufi"/>
              </a:rPr>
              <a:t>الفتح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66"/>
                </a:solidFill>
                <a:latin typeface="Arial"/>
                <a:cs typeface="Monotype Koufi"/>
              </a:rPr>
              <a:t>ما الذي سبق هذا الفعل حتى صار منصوبا بدلا أن يكون مرفوعا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Monotype Koufi"/>
              </a:rPr>
              <a:t>سبق بحرف نصب (</a:t>
            </a:r>
            <a:r>
              <a:rPr b="1" lang="hi-IN" sz="2400" spc="-1" strike="noStrike">
                <a:solidFill>
                  <a:srgbClr val="ff0000"/>
                </a:solidFill>
                <a:latin typeface="Arial"/>
                <a:cs typeface="Led Italic Font"/>
              </a:rPr>
              <a:t>ل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Monotype Koufi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66"/>
                </a:solidFill>
                <a:latin typeface="Arial"/>
                <a:cs typeface="Monotype Koufi"/>
              </a:rPr>
              <a:t>ماذا تفيد (لن)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Arial"/>
                <a:cs typeface="Monotype Koufi"/>
              </a:rPr>
              <a:t>تفيد النف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أين الفعل المضارع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imple Bold Jut Out"/>
              </a:rPr>
              <a:t>(نحبُ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هل سبق بأحد الحروف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imple Bold Jut Out"/>
              </a:rPr>
              <a:t>(لا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ما الموقع الإعرابي له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imple Bold Jut Out"/>
              </a:rPr>
              <a:t>الرف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Arial"/>
                <a:cs typeface="Monotype Koufi"/>
              </a:rPr>
              <a:t>أين الفعل المضارع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Monotype Koufi"/>
              </a:rPr>
              <a:t>نشعر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Monotype Koufi"/>
              </a:rPr>
              <a:t>ما العلامة الإعرابية التي ظهرت على آخره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Arial"/>
                <a:cs typeface="Monotype Koufi"/>
              </a:rPr>
              <a:t>الفتح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66"/>
                </a:solidFill>
                <a:latin typeface="Arial"/>
                <a:cs typeface="Monotype Koufi"/>
              </a:rPr>
              <a:t>ما الذي سبق هذا الفعل حتى صار منصوبا بدلا أن يكون مرفوعا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Monotype Koufi"/>
              </a:rPr>
              <a:t>سبق بحرف نصب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ple Bold Jut Out"/>
              </a:rPr>
              <a:t>(</a:t>
            </a: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imple Bold Jut Out"/>
              </a:rPr>
              <a:t>كي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Simple Bold Jut Out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66"/>
                </a:solidFill>
                <a:latin typeface="Arial"/>
                <a:cs typeface="Monotype Koufi"/>
              </a:rPr>
              <a:t>ماذا تفيد (كي)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Arial"/>
                <a:cs typeface="Monotype Koufi"/>
              </a:rPr>
              <a:t>تفيد التعليل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Arial"/>
                <a:cs typeface="Led Italic Font"/>
              </a:rPr>
              <a:t>القاعدة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925560"/>
            <a:ext cx="7397640" cy="50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كن متميزاً باخلاقك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7:51:38Z</dcterms:created>
  <dc:creator>Root</dc:creator>
  <dc:description/>
  <dc:language>en-US</dc:language>
  <cp:lastModifiedBy>Root</cp:lastModifiedBy>
  <dcterms:modified xsi:type="dcterms:W3CDTF">2007-03-23T10:23:19Z</dcterms:modified>
  <cp:revision>3</cp:revision>
  <dc:subject/>
  <dc:title>نصب الفعل المضارع</dc:title>
</cp:coreProperties>
</file>