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83B-3A7A-4459-8F4E-0648C546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58D-55B3-4696-B993-19E13622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902-9812-44B9-A44A-12ED5AE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E9A-EC1A-418B-A19B-44B68EAF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A2C-0614-4FDE-A12E-1B3F144B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6855-A73B-4C07-B4C6-62DD442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33E5-A6C5-40A1-B74C-767BC6F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B1B9-E894-4D8E-8864-56DBC9B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285-DDE2-4515-8CFA-919BD347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08D1-0C81-4412-A0A5-6B89CE37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F5F-F552-4531-B404-2B77323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C55-81D3-466C-84F3-19F1E32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B46-6DE0-4084-BA69-EC26B62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FBD-FF88-4D69-AFC2-CAC5CFE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ED5-5A14-4A4C-8ADB-D54B855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A43-C70F-4F7D-BFC8-9D3A0456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5637-4127-4A9F-BCAA-54903DBB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A5C-D965-41F5-90DB-94C46A95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45A-3773-4E32-B84C-5893C1B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131-9039-4DE9-B945-D86D6C4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D06-18B9-4285-BA51-BFA8837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687-B3D0-42CB-8B94-B86F20A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D83-A9A8-48BF-AE40-B5B57D7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6ED-0AB4-420D-A76C-B77EB81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9D43-FF1F-48CE-81D1-87E97297E6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1B9A-0F88-4519-8FCD-A7B46C5CB6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41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جزم الفعل المضار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يتعل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السكو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ecff"/>
                </a:solidFill>
                <a:latin typeface="Arial"/>
                <a:cs typeface="Monotype Koufi"/>
              </a:rPr>
              <a:t>ما الذي سبق هذا الفعل حتى صار مجزو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جزم (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Led Italic Font"/>
              </a:rPr>
              <a:t>ل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Monotype Kouf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ماذا يفيد الحرف (لم)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يفيد النف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حترم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السكو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ecff"/>
                </a:solidFill>
                <a:latin typeface="Arial"/>
                <a:cs typeface="Monotype Koufi"/>
              </a:rPr>
              <a:t>ما الذي سبق هذا الفعل حتى صار مجزو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جزم (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Led Italic Font"/>
              </a:rPr>
              <a:t>اللا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Monotype Kouf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ماذا يفيد الحرف السابق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يفيد الأم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867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كذب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السكو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ecff"/>
                </a:solidFill>
                <a:latin typeface="Arial"/>
                <a:cs typeface="Monotype Koufi"/>
              </a:rPr>
              <a:t>ما الذي سبق هذا الفعل حتى صار مجزو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جزم (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Led Italic Font"/>
              </a:rPr>
              <a:t>لا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Monotype Kouf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ماذا يفيد الحرف السابق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Arial"/>
                <a:cs typeface="Monotype Koufi"/>
              </a:rPr>
              <a:t>يفيد النه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79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اذا تسمى الحروف السابقة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512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31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تسمى حروف جازم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  <a:ea typeface="Led Italic Font"/>
              </a:rPr>
              <a:t> القاعد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 rot="20040600">
            <a:off x="1294920" y="1523880"/>
            <a:ext cx="7315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 rot="8521200">
            <a:off x="761400" y="76176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457200" y="228600"/>
            <a:ext cx="9601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8:18:52Z</dcterms:created>
  <dc:creator>ALMLAK</dc:creator>
  <dc:description/>
  <dc:language>en-US</dc:language>
  <cp:lastModifiedBy>pc</cp:lastModifiedBy>
  <dcterms:modified xsi:type="dcterms:W3CDTF">2008-04-03T20:04:44Z</dcterms:modified>
  <cp:revision>4</cp:revision>
  <dc:subject/>
  <dc:title>جزم الفعل المضارع</dc:title>
</cp:coreProperties>
</file>