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C91-E5F5-404D-B675-DBC7343B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C71-F8B7-405B-A1B8-0E6C030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2E-DBA0-432A-9347-CAB8B10E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468-0727-4C02-8F63-C0E5F454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ACA-92BD-470D-B7D8-A669B2F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250-9294-458B-B41E-BC59DD4D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E24-FF17-4DBD-800B-B3E38018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730-88AA-4E73-A12C-37BFC5A8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BBA-CD22-40A6-B525-58985C24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DB5-A90C-49EE-BD19-0FEC3ED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DCB-8C58-42CF-B4C2-76C9FD5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70B-CB61-4398-AA5A-69E6F8B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C581-7432-4F41-A39C-779BBDBB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345440" cy="619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3634920" y="765000"/>
            <a:ext cx="158436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492000" y="1197000"/>
            <a:ext cx="208764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3563640" y="907560"/>
            <a:ext cx="136836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563640" y="3068640"/>
            <a:ext cx="1368360" cy="72072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563640" y="2781000"/>
            <a:ext cx="2087640" cy="718920"/>
          </a:xfrm>
          <a:prstGeom prst="line">
            <a:avLst/>
          </a:prstGeom>
          <a:ln w="38160">
            <a:solidFill>
              <a:srgbClr val="333399"/>
            </a:solidFill>
            <a:prstDash val="lg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564000" y="3357360"/>
            <a:ext cx="122400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634920" y="4941720"/>
            <a:ext cx="79236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63640" y="5373720"/>
            <a:ext cx="1871640" cy="576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564000" y="4941360"/>
            <a:ext cx="1800000" cy="1008360"/>
          </a:xfrm>
          <a:prstGeom prst="line">
            <a:avLst/>
          </a:prstGeom>
          <a:ln w="76320">
            <a:solidFill>
              <a:srgbClr val="ff66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351640" cy="532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36000" y="2276640"/>
            <a:ext cx="1081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نصف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ع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خطئ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716436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رف نص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عل مضارع منصوب بكي وعلامة نصبه الفتحة الظاهرة على آخر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حرف نص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عل مضارع منصوب بأن وعلامة نصبه الفتحة الظاهرة على آخر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حرف ج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م مجرور وعلامة جره الياء لأنه جمع مذكر س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77080" cy="57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4788000" y="29242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565360"/>
            <a:ext cx="3589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6000" y="450864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948000" y="522936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64000" y="5950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80000" y="386064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164360" y="659772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6021360"/>
            <a:ext cx="3589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3933720"/>
            <a:ext cx="43020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3357720"/>
            <a:ext cx="50184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373720"/>
            <a:ext cx="5792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4508640"/>
            <a:ext cx="3589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4720" cy="518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6600"/>
                </a:solidFill>
                <a:latin typeface="Arial"/>
                <a:cs typeface="Simple Bold Jut Out"/>
              </a:rPr>
              <a:t>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3357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35772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6600"/>
                </a:solidFill>
                <a:latin typeface="Arial"/>
                <a:cs typeface="Simple Bold Jut Out"/>
              </a:rPr>
              <a:t>أ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5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6600"/>
                </a:solidFill>
                <a:latin typeface="Arial"/>
                <a:cs typeface="Simple Bold Jut Out"/>
              </a:rPr>
              <a:t>ك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797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6600"/>
                </a:solidFill>
                <a:latin typeface="Arial"/>
                <a:cs typeface="Simple Bold Jut Out"/>
              </a:rPr>
              <a:t>ل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632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7694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8360" cy="597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08720" y="2205000"/>
            <a:ext cx="107964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6600"/>
                </a:solidFill>
                <a:latin typeface="Arial"/>
              </a:rPr>
              <a:t>خ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6600"/>
                </a:solidFill>
                <a:latin typeface="Arial"/>
              </a:rPr>
              <a:t>الم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6600"/>
                </a:solidFill>
                <a:latin typeface="Arial"/>
              </a:rPr>
              <a:t>ثر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6600"/>
                </a:solidFill>
                <a:latin typeface="Arial"/>
              </a:rPr>
              <a:t>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6600"/>
                </a:solidFill>
                <a:latin typeface="Arial"/>
              </a:rPr>
              <a:t>سب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541440" y="2276640"/>
            <a:ext cx="77058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فاعل مرفوع وعلامة رفعه الضمة الظاهرة على آخ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مبتدأ مرفوع وعلامة رفعه الضمة الظاهرة على آخ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خبر مرفوع وعلامة رفعه الضمة الظاهرة على آخ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حرف ج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سم مجرور وعلامة جره الكسرة الظاهرة تحت آخ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0:42:48Z</dcterms:created>
  <dc:creator>Root</dc:creator>
  <dc:description/>
  <dc:language>en-US</dc:language>
  <cp:lastModifiedBy>ALMLAK</cp:lastModifiedBy>
  <dcterms:modified xsi:type="dcterms:W3CDTF">2007-03-31T08:28:24Z</dcterms:modified>
  <cp:revision>4</cp:revision>
  <dc:subject/>
  <dc:title>الشريحة 1</dc:title>
</cp:coreProperties>
</file>