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LMLAK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<Relationship Id="rId8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07-04-06T15:32:17.671000000" idx="1">
    <p:pos x="0" y="-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ADE4-A5E8-471B-BAEB-CA649440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06A8-9613-4DA1-BE38-E6434DD4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7A5-59E2-4818-83C2-E7E78D09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4DE1-7742-4EB0-BC7E-B91796E7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FDB-6EAF-4F8E-8C1A-917C98FA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17CA-17E1-4F91-B81E-42A94067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201-6C89-4BD7-BD86-DD6B62BE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35D8-BA6F-40C7-A699-16713D5F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DBDC-7D78-4C9F-B7FF-0944A336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5C4-E025-41A7-8A43-A990A058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40B-B9BA-4854-9B59-A2DEE209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3B7-9999-406B-B7B2-F2D6EA49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DCC1-09FC-43B5-89C6-1F2668325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55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81680" y="1600200"/>
            <a:ext cx="144792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e1700"/>
                </a:solidFill>
                <a:latin typeface="Arial"/>
              </a:rPr>
              <a:t>تأكل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e1700"/>
                </a:solidFill>
                <a:latin typeface="Arial"/>
              </a:rPr>
              <a:t>تصل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ee1700"/>
                </a:solidFill>
                <a:latin typeface="Arial"/>
              </a:rPr>
              <a:t>نتعاون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ee1700"/>
                </a:solidFill>
                <a:latin typeface="Arial"/>
              </a:rPr>
              <a:t>تقرأ 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ee1700"/>
                </a:solidFill>
                <a:latin typeface="Arial"/>
              </a:rPr>
              <a:t>أنطق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ee1700"/>
                </a:solidFill>
                <a:latin typeface="Arial"/>
              </a:rPr>
              <a:t>تعتمد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3616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9144000" cy="297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33920" y="1219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1447920"/>
            <a:ext cx="3049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9144000" cy="3616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809880" y="1371600"/>
            <a:ext cx="30492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429000" y="1828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858000" y="57913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600200" y="3429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238880" y="66294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66880" y="47242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8305560" y="39625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77320" y="6019920"/>
            <a:ext cx="30456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257800" y="2590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72400" y="4876920"/>
            <a:ext cx="5335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3886200"/>
            <a:ext cx="45720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63120" y="3276720"/>
            <a:ext cx="22860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2666880"/>
            <a:ext cx="152280" cy="60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1981080"/>
            <a:ext cx="228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1219320"/>
            <a:ext cx="38088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198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15000" y="2209680"/>
            <a:ext cx="16765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ee1700"/>
                </a:solidFill>
                <a:latin typeface="Arial"/>
              </a:rPr>
              <a:t>تدخل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ee1700"/>
                </a:solidFill>
                <a:latin typeface="Arial"/>
              </a:rPr>
              <a:t>آخذ 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ee1700"/>
                </a:solidFill>
                <a:latin typeface="Arial"/>
              </a:rPr>
              <a:t>تؤجل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ee1700"/>
                </a:solidFill>
                <a:latin typeface="Arial"/>
              </a:rPr>
              <a:t>تجلس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ee1700"/>
                </a:solidFill>
                <a:latin typeface="Arial"/>
              </a:rPr>
              <a:t>أهمل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88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467480" y="2133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1700"/>
                </a:solidFill>
                <a:latin typeface="Arial"/>
              </a:rPr>
              <a:t>  ل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29718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e1700"/>
                </a:solidFill>
                <a:latin typeface="Arial"/>
              </a:rPr>
              <a:t> لـ                      ل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809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1700"/>
                </a:solidFill>
                <a:latin typeface="Arial"/>
              </a:rPr>
              <a:t> ل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91520" y="47242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1700"/>
                </a:solidFill>
                <a:latin typeface="Arial"/>
              </a:rPr>
              <a:t> ل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91520" y="5486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e1700"/>
                </a:solidFill>
                <a:latin typeface="Arial"/>
              </a:rPr>
              <a:t>  ل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9:55:50Z</dcterms:created>
  <dc:creator>pc</dc:creator>
  <dc:description/>
  <dc:language>en-US</dc:language>
  <cp:lastModifiedBy>pc</cp:lastModifiedBy>
  <dcterms:modified xsi:type="dcterms:W3CDTF">2008-04-03T19:55:50Z</dcterms:modified>
  <cp:revision>1</cp:revision>
  <dc:subject/>
  <dc:title>الشريحة 1</dc:title>
</cp:coreProperties>
</file>