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9E6-031B-4C92-81E8-C4120369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FB1-21B8-4271-BC14-10B7A584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753-2B65-45DF-82A9-D5771D33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C93-677D-4F76-AFDE-E1EED6E9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9DC-0A7E-436B-91D2-67D5CD46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C13-83B9-4814-A4D6-409EF30F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594-7519-4523-9E37-34A0D69B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489-0940-4EF6-A4FC-763DA97B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F25-5877-429C-93D1-8429E5FD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4AD-D051-48AB-AB42-BAC417A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C4B-DF8E-4701-9DD6-85534F9D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DCD-71A6-4BE8-B5B1-BB2699B9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6652-7851-4A19-B618-A6FED3434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748720" cy="568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2708280"/>
            <a:ext cx="129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أن يكون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360" y="3357720"/>
            <a:ext cx="18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</a:rPr>
              <a:t>لن أهمل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4149720"/>
            <a:ext cx="180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كي نستمتع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353440" cy="3240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84360" y="3645000"/>
            <a:ext cx="1150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333399"/>
                </a:solidFill>
                <a:latin typeface="Arial"/>
              </a:rPr>
              <a:t>أن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نفكر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371628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333399"/>
                </a:solidFill>
                <a:latin typeface="Arial"/>
              </a:rPr>
              <a:t>كي </a:t>
            </a:r>
            <a:r>
              <a:rPr b="0" lang="hi-IN" sz="3200" spc="-1" strike="noStrike">
                <a:solidFill>
                  <a:srgbClr val="333399"/>
                </a:solidFill>
                <a:latin typeface="Arial"/>
              </a:rPr>
              <a:t>نخرج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64360" cy="5832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96360" y="2421000"/>
            <a:ext cx="863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لـ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يأك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14640" y="2492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الصي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60200" y="31399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الشب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7600" y="5681520"/>
            <a:ext cx="109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شبك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10320" y="508464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يحا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565360"/>
            <a:ext cx="640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33399"/>
                </a:solidFill>
                <a:latin typeface="Arial"/>
              </a:rPr>
              <a:t>فاعل مرفوع وعلامة رفعه الضمة الظاهرة على آخ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3141720"/>
            <a:ext cx="640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33399"/>
                </a:solidFill>
                <a:latin typeface="Arial"/>
              </a:rPr>
              <a:t>اسم مجرور بإلى وعلامة جره الكسرة الظاهرة تحت آخ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789360"/>
            <a:ext cx="53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اللام حرف أمر وجزم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4508640"/>
            <a:ext cx="64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Arial"/>
              </a:rPr>
              <a:t>فعل مضارع مجزوم باللام وعلامة جزمه السك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084640"/>
            <a:ext cx="64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99"/>
                </a:solidFill>
                <a:latin typeface="Arial"/>
              </a:rPr>
              <a:t>فعل مضارع مرفوع وعلامة رفعه الضمة الظاهرة على آخره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5734080"/>
            <a:ext cx="648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فعول به منصوب وعلامة نصبه الفتحة الظاهرة على آخ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604360" cy="619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3068640"/>
            <a:ext cx="3097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99"/>
                </a:solidFill>
                <a:latin typeface="Arial"/>
              </a:rPr>
              <a:t>لا تكتبْ على الجد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99"/>
                </a:solidFill>
                <a:latin typeface="Arial"/>
              </a:rPr>
              <a:t>لتلتزمْ بالصلاة مع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99"/>
                </a:solidFill>
                <a:latin typeface="Arial"/>
              </a:rPr>
              <a:t>لا تغشْ في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99"/>
                </a:solidFill>
                <a:latin typeface="Arial"/>
              </a:rPr>
              <a:t>لتضعْ النفايات في سلة المهم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280360" cy="561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3995280" y="285264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2000" y="357336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58560" y="422100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788000" y="350028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092720" y="609300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000" y="422100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300360" y="486900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308360" y="544500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227664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</a:rPr>
              <a:t>مجزو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3068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مرف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3068640"/>
            <a:ext cx="1152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منص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422100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</a:rPr>
              <a:t>مجزو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36572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مجز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437000"/>
            <a:ext cx="1225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مجزو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4869000"/>
            <a:ext cx="15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</a:rPr>
              <a:t>مرف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551664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منصو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209080" cy="6264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720" y="2133720"/>
            <a:ext cx="187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333399"/>
                </a:solidFill>
                <a:latin typeface="Arial"/>
              </a:rPr>
              <a:t>تقلع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2852640"/>
            <a:ext cx="194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3399"/>
                </a:solidFill>
                <a:latin typeface="Arial"/>
              </a:rPr>
              <a:t>تتسابق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3716280"/>
            <a:ext cx="2158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333399"/>
                </a:solidFill>
                <a:latin typeface="Arial"/>
              </a:rPr>
              <a:t>تحسن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450864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3399"/>
                </a:solidFill>
                <a:latin typeface="Arial"/>
              </a:rPr>
              <a:t>تلطخ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5084640"/>
            <a:ext cx="194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333399"/>
                </a:solidFill>
                <a:latin typeface="Arial"/>
              </a:rPr>
              <a:t>يستفيد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5734080"/>
            <a:ext cx="20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"/>
              </a:rPr>
              <a:t>تتحرك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640720" cy="58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16720" y="213372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لن     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278136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لم      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3500280"/>
            <a:ext cx="151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أن     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422100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</a:rPr>
              <a:t>كي     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4941720"/>
            <a:ext cx="165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</a:rPr>
              <a:t>لـــــــ    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6360" y="5516640"/>
            <a:ext cx="17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  لا     ْ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08720" cy="532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04000" y="1413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148428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429000"/>
            <a:ext cx="676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الجملة الأولى الفعل المضارع مجزوم لأنه سبق ب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5084640"/>
            <a:ext cx="684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4797360"/>
            <a:ext cx="669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9999"/>
                </a:solidFill>
                <a:latin typeface="Arial"/>
              </a:rPr>
              <a:t>الجملة الثانية الفعل المضارع منصوب لأنه سبق بل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75640" cy="496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350028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لم </a:t>
            </a:r>
            <a:r>
              <a:rPr b="0" lang="hi-IN" sz="4400" spc="-1" strike="noStrike">
                <a:solidFill>
                  <a:srgbClr val="333399"/>
                </a:solidFill>
                <a:latin typeface="Arial"/>
              </a:rPr>
              <a:t>تفيد نفي ما حدث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ولن </a:t>
            </a:r>
            <a:r>
              <a:rPr b="0" lang="hi-IN" sz="4400" spc="-1" strike="noStrike">
                <a:solidFill>
                  <a:srgbClr val="333399"/>
                </a:solidFill>
                <a:latin typeface="Arial"/>
              </a:rPr>
              <a:t>تفيد نفي ما سيحد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33560" y="173160"/>
            <a:ext cx="5275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20:35Z</dcterms:created>
  <dc:creator>pc</dc:creator>
  <dc:description/>
  <dc:language>en-US</dc:language>
  <cp:lastModifiedBy>pc</cp:lastModifiedBy>
  <dcterms:modified xsi:type="dcterms:W3CDTF">2008-04-04T19:55:31Z</dcterms:modified>
  <cp:revision>2</cp:revision>
  <dc:subject/>
  <dc:title>الشريحة 1</dc:title>
</cp:coreProperties>
</file>